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C9AF-3B55-43AE-ABB1-E5C5ED6644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667C-1694-49D2-92E2-6BD03C492C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11A4-D13A-430E-86B9-F37F84626289}" type="datetime">
              <a:rPr b="0" lang="en-US" sz="1200" spc="-1" strike="noStrike">
                <a:solidFill>
                  <a:srgbClr val="ffffff"/>
                </a:solidFill>
                <a:latin typeface="Verdana"/>
              </a:rPr>
              <a:t>07/30/26</a:t>
            </a:fld>
            <a:r>
              <a:rPr b="0" lang="en-US" sz="1200" spc="-1" strike="noStrike">
                <a:solidFill>
                  <a:srgbClr val="ffffff"/>
                </a:solidFill>
                <a:latin typeface="Verdana"/>
              </a:rPr>
              <a:t> </a:t>
            </a:r>
            <a:fld id="{39A32536-0254-4CB9-9E4F-F1DA426767EA}"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5D4-377F-4977-BB8F-A187CC5514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08B8-CF75-48F4-910D-5F659283FEA3}" type="datetime">
              <a:rPr b="0" lang="en-US" sz="1200" spc="-1" strike="noStrike">
                <a:solidFill>
                  <a:srgbClr val="ffffff"/>
                </a:solidFill>
                <a:latin typeface="Verdana"/>
              </a:rPr>
              <a:t>07/30/26</a:t>
            </a:fld>
            <a:r>
              <a:rPr b="0" lang="en-US" sz="1200" spc="-1" strike="noStrike">
                <a:solidFill>
                  <a:srgbClr val="ffffff"/>
                </a:solidFill>
                <a:latin typeface="Verdana"/>
              </a:rPr>
              <a:t> </a:t>
            </a:r>
            <a:fld id="{1F8BA439-FDA6-4127-BF33-7742CDD99310}"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61CE-EF8F-415F-8063-F6B59816CD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5872-C27D-4EA2-AB33-4FC1A39731A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96E0-A26E-463C-97E5-17BD4EE085FA}" type="datetime">
              <a:rPr b="0" lang="en-US" sz="1200" spc="-1" strike="noStrike">
                <a:solidFill>
                  <a:srgbClr val="ffffff"/>
                </a:solidFill>
                <a:latin typeface="Verdana"/>
              </a:rPr>
              <a:t>07/30/26</a:t>
            </a:fld>
            <a:r>
              <a:rPr b="0" lang="en-US" sz="1200" spc="-1" strike="noStrike">
                <a:solidFill>
                  <a:srgbClr val="ffffff"/>
                </a:solidFill>
                <a:latin typeface="Verdana"/>
              </a:rPr>
              <a:t> </a:t>
            </a:r>
            <a:fld id="{1F35A0A7-9A67-427B-BC5E-1DE753DB1262}"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27D2-8F1C-461E-AA53-CD74246E16D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F2A7-B68E-4D60-8E60-D3F9E6067CBB}" type="datetime">
              <a:rPr b="0" lang="en-US" sz="1200" spc="-1" strike="noStrike">
                <a:solidFill>
                  <a:srgbClr val="ffffff"/>
                </a:solidFill>
                <a:latin typeface="Verdana"/>
              </a:rPr>
              <a:t>07/30/26</a:t>
            </a:fld>
            <a:r>
              <a:rPr b="0" lang="en-US" sz="1200" spc="-1" strike="noStrike">
                <a:solidFill>
                  <a:srgbClr val="ffffff"/>
                </a:solidFill>
                <a:latin typeface="Verdana"/>
              </a:rPr>
              <a:t> </a:t>
            </a:r>
            <a:fld id="{4DDA5F0B-921F-44D1-A078-025BF4785F07}"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9125-B8C1-43C7-BE5A-19BFB1DDA6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9973-8192-42F4-B8DC-43525C38D3EB}" type="datetime">
              <a:rPr b="0" lang="en-US" sz="1200" spc="-1" strike="noStrike">
                <a:solidFill>
                  <a:srgbClr val="ffffff"/>
                </a:solidFill>
                <a:latin typeface="Verdana"/>
              </a:rPr>
              <a:t>07/30/26</a:t>
            </a:fld>
            <a:r>
              <a:rPr b="0" lang="en-US" sz="1200" spc="-1" strike="noStrike">
                <a:solidFill>
                  <a:srgbClr val="ffffff"/>
                </a:solidFill>
                <a:latin typeface="Verdana"/>
              </a:rPr>
              <a:t> </a:t>
            </a:r>
            <a:fld id="{F89C2514-AFF0-4B20-AFC5-491403E2C056}"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2B67-527D-4D36-AF30-9B6C4AA0A4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9774-A44B-4DF8-BA84-19C8E8EACD86}" type="datetime">
              <a:rPr b="0" lang="en-US" sz="1200" spc="-1" strike="noStrike">
                <a:solidFill>
                  <a:srgbClr val="ffffff"/>
                </a:solidFill>
                <a:latin typeface="Verdana"/>
              </a:rPr>
              <a:t>07/30/26</a:t>
            </a:fld>
            <a:r>
              <a:rPr b="0" lang="en-US" sz="1200" spc="-1" strike="noStrike">
                <a:solidFill>
                  <a:srgbClr val="ffffff"/>
                </a:solidFill>
                <a:latin typeface="Verdana"/>
              </a:rPr>
              <a:t> </a:t>
            </a:r>
            <a:fld id="{E7488438-0071-45F5-99B2-F50CE27B5CEE}"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FD4D-A7DF-475F-9248-E0C5C09CD6D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670D-5955-4EB2-8C02-4F895DE878C1}" type="datetime">
              <a:rPr b="0" lang="en-US" sz="1200" spc="-1" strike="noStrike">
                <a:solidFill>
                  <a:srgbClr val="ffffff"/>
                </a:solidFill>
                <a:latin typeface="Verdana"/>
              </a:rPr>
              <a:t>07/30/26</a:t>
            </a:fld>
            <a:r>
              <a:rPr b="0" lang="en-US" sz="1200" spc="-1" strike="noStrike">
                <a:solidFill>
                  <a:srgbClr val="ffffff"/>
                </a:solidFill>
                <a:latin typeface="Verdana"/>
              </a:rPr>
              <a:t> </a:t>
            </a:r>
            <a:fld id="{C03A6173-E3F3-4DDA-A184-A7F6C0DADDE4}"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C7A7-CA43-43B8-9609-406D8FB85C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7ADA-08A7-4664-B089-C39363473A09}" type="datetime">
              <a:rPr b="0" lang="en-US" sz="1200" spc="-1" strike="noStrike">
                <a:solidFill>
                  <a:srgbClr val="ffffff"/>
                </a:solidFill>
                <a:latin typeface="Verdana"/>
              </a:rPr>
              <a:t>07/30/26</a:t>
            </a:fld>
            <a:r>
              <a:rPr b="0" lang="en-US" sz="1200" spc="-1" strike="noStrike">
                <a:solidFill>
                  <a:srgbClr val="ffffff"/>
                </a:solidFill>
                <a:latin typeface="Verdana"/>
              </a:rPr>
              <a:t> </a:t>
            </a:r>
            <a:fld id="{2C3BB5D4-8B95-4DB3-B9C6-E586190510A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61BB-3A21-4EB9-A6A1-BCCE512FA4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FC13-DE33-4C2B-9763-6C4633A4E1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A64B-8922-4134-8CAB-1EE6CCFB55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3C31-8DD5-47D8-97B6-B2A49EFCA8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46A2-22ED-4377-AFF2-78987E7DB4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E0F8-328D-4B5A-A915-7F953F12CBC0}" type="datetime">
              <a:rPr b="0" lang="en-US" sz="1200" spc="-1" strike="noStrike">
                <a:solidFill>
                  <a:srgbClr val="ffffff"/>
                </a:solidFill>
                <a:latin typeface="Verdana"/>
              </a:rPr>
              <a:t>07/30/26</a:t>
            </a:fld>
            <a:r>
              <a:rPr b="0" lang="en-US" sz="1200" spc="-1" strike="noStrike">
                <a:solidFill>
                  <a:srgbClr val="ffffff"/>
                </a:solidFill>
                <a:latin typeface="Verdana"/>
              </a:rPr>
              <a:t> </a:t>
            </a:r>
            <a:fld id="{C8E72434-B5DF-4704-B878-9402EF6FCC89}"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865F-88B0-475A-8090-550053115F8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41D8-EA26-4D71-BD5E-B3CF1285A99A}" type="datetime">
              <a:rPr b="0" lang="en-US" sz="1200" spc="-1" strike="noStrike">
                <a:solidFill>
                  <a:srgbClr val="ffffff"/>
                </a:solidFill>
                <a:latin typeface="Verdana"/>
              </a:rPr>
              <a:t>07/30/26</a:t>
            </a:fld>
            <a:r>
              <a:rPr b="0" lang="en-US" sz="1200" spc="-1" strike="noStrike">
                <a:solidFill>
                  <a:srgbClr val="ffffff"/>
                </a:solidFill>
                <a:latin typeface="Verdana"/>
              </a:rPr>
              <a:t> </a:t>
            </a:r>
            <a:fld id="{6D38AE43-39B3-4AF6-B215-D6F34901000A}"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78C6-C4CC-4CF2-A237-2A453801AA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968A-3C6C-49CE-BB0E-676853014B5F}" type="datetime">
              <a:rPr b="0" lang="en-US" sz="1200" spc="-1" strike="noStrike">
                <a:solidFill>
                  <a:srgbClr val="ffffff"/>
                </a:solidFill>
                <a:latin typeface="Verdana"/>
              </a:rPr>
              <a:t>07/30/26</a:t>
            </a:fld>
            <a:r>
              <a:rPr b="0" lang="en-US" sz="1200" spc="-1" strike="noStrike">
                <a:solidFill>
                  <a:srgbClr val="ffffff"/>
                </a:solidFill>
                <a:latin typeface="Verdana"/>
              </a:rPr>
              <a:t> </a:t>
            </a:r>
            <a:fld id="{23DBADE0-8710-47D2-8C45-04DFE041FC0B}"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A407-4CDB-44E7-B03E-3834AD88EA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FB678-2B92-4E40-AFF9-9E7BD4BB1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4E4E-B4F3-401F-BAA9-67A8DDAF8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352FC-BAA3-4132-867C-DB491404B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1C052-BD63-483A-9E22-CC391C5E0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BC38D-0252-413F-AF72-57BE1C45F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77D46-8CAF-428B-B0C0-38ABA080A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D67C8-D66E-4309-A3EF-07FC47F07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AEB2-8FDD-43BB-9717-F487C09CC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66AF3-5A0B-49B4-9371-68A43BD64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ADADD-A00F-4557-BA55-CB29071C3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81605-AAAE-4A00-BE8D-8D038611E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01F7-1E48-4456-9341-4DA23B96D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16547-A89A-414A-B5F3-A2E6E41E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50F4A-C720-4693-9BF0-D707B5C0B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6F9BF-AC52-498A-A643-8CF95C650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AE071-0BB3-4962-A9B6-2BBCDD8C4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A5D6A-8B68-4F22-BD09-2DDEBE971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29DE-3112-43E2-821B-99B8A2789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7A93-52D8-40E1-B96F-6E4EF966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38DB-4BAA-458F-8BCE-4220C025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9476-D695-4D46-A6D4-18074046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21CA-C581-4088-8733-BFE53213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9C3D-6A70-4902-A252-0D2C3760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EE91-4987-412D-A5D8-4275104D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8F01-69EF-4B2F-9588-474A634BC96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C974-0004-4B5C-BB44-6FFDBF7CFF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021F-80A7-4385-902A-43CE2199DB9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