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32040" y="739440"/>
            <a:ext cx="4937040" cy="37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lick to move the slide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B88C3-85B0-44FA-ACA8-AFC3DAB8787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AFA57-410D-45AB-8EEB-3612A316FCC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5583D-245E-4C6E-A521-E59572ED7FD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B9E6C-D675-4D99-9F1D-CF1F6D62AF6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5F861E-CCD7-40EF-A0DC-2AF71AB87BB8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0760" y="4689000"/>
            <a:ext cx="54356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E9E7A8AF-857F-40A9-9FF3-968EEFA3DBD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755BF-7F1A-4102-8903-718249D6B29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38D438-BF9F-4F89-B81E-F238F7BF605C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0760" y="4689000"/>
            <a:ext cx="54356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C05D5206-F17A-4C76-BF28-B450AD84C01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44802-F0FE-4808-ABC6-F7A3DFDE645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AFCC5A-D4FF-4A42-9B7E-2903BA61FA44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EAAE5-0C1A-4E91-BEAC-CCDE4DE22E9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23557C-5704-419B-8EB1-9410A7442867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5A034-6101-405A-AB32-84ECA01A65F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27E2DF-B688-4317-96B6-32BEBC85D31A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EF2E0-96FF-4CB9-99C7-7226285E755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7E4F7C-781F-4908-8E3F-9CD703B78309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33A55-3958-48EB-BA8D-9A441B4BADF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B52C48-8B51-4FF9-BBE6-72243CA29C50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76000" y="333000"/>
            <a:ext cx="7381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772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77720" indent="-477720">
              <a:spcBef>
                <a:spcPts val="799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477720" indent="-477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477720" indent="-4777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477720" indent="-4777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477720" indent="-4777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477720" indent="-4777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79280" y="6381360"/>
            <a:ext cx="432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" name=""/>
          <p:cNvGraphicFramePr/>
          <p:nvPr/>
        </p:nvGraphicFramePr>
        <p:xfrm>
          <a:off x="179280" y="189000"/>
          <a:ext cx="1079640" cy="717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189000"/>
                    <a:ext cx="107964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" name=""/>
          <p:cNvGraphicFramePr/>
          <p:nvPr/>
        </p:nvGraphicFramePr>
        <p:xfrm>
          <a:off x="179280" y="189000"/>
          <a:ext cx="1079640" cy="717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9280" y="189000"/>
                    <a:ext cx="107964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55680" y="2048040"/>
            <a:ext cx="6400800" cy="33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cc"/>
                </a:solidFill>
                <a:latin typeface="Times New Roman"/>
              </a:rPr>
              <a:t>ENGAGING STRATEGICALLY </a:t>
            </a:r>
            <a:br>
              <a:rPr sz="2900"/>
            </a:br>
            <a:r>
              <a:rPr b="0" lang="en-US" sz="2900" spc="-1" strike="noStrike">
                <a:solidFill>
                  <a:srgbClr val="3333cc"/>
                </a:solidFill>
                <a:latin typeface="Times New Roman"/>
              </a:rPr>
              <a:t>WITH </a:t>
            </a:r>
            <a:br>
              <a:rPr sz="2900"/>
            </a:br>
            <a:r>
              <a:rPr b="0" lang="en-US" sz="2900" spc="-1" strike="noStrike">
                <a:solidFill>
                  <a:srgbClr val="3333cc"/>
                </a:solidFill>
                <a:latin typeface="Times New Roman"/>
              </a:rPr>
              <a:t>NON-STATE ACTORS IN NEW AID MODALITIES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7th July 201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EVCO-Europeaid – D2 civil Socie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 obstacles in partner countries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2" name="Oval 3"/>
          <p:cNvSpPr/>
          <p:nvPr/>
        </p:nvSpPr>
        <p:spPr>
          <a:xfrm>
            <a:off x="3336840" y="2619360"/>
            <a:ext cx="2691000" cy="2249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Oval 4"/>
          <p:cNvSpPr/>
          <p:nvPr/>
        </p:nvSpPr>
        <p:spPr>
          <a:xfrm>
            <a:off x="3492360" y="2851200"/>
            <a:ext cx="2374920" cy="1949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3132000" y="1143000"/>
            <a:ext cx="3024360" cy="12193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litical commitment  behind pro-poor policies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0" y="3933720"/>
            <a:ext cx="2978280" cy="15526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 civil society have the capacities/interest to engage with the state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124000" y="5589720"/>
            <a:ext cx="5329440" cy="934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there an enabling environment for Non-State Actors to participate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6300720" y="2349360"/>
            <a:ext cx="2592360" cy="15368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the budget transparent? Does it reflect priorities? Is it credib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9"/>
          <p:cNvSpPr/>
          <p:nvPr/>
        </p:nvSpPr>
        <p:spPr>
          <a:xfrm>
            <a:off x="4451400" y="4941720"/>
            <a:ext cx="457200" cy="216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10"/>
          <p:cNvSpPr/>
          <p:nvPr/>
        </p:nvSpPr>
        <p:spPr>
          <a:xfrm rot="14772000">
            <a:off x="5746680" y="2947680"/>
            <a:ext cx="457200" cy="216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11"/>
          <p:cNvSpPr/>
          <p:nvPr/>
        </p:nvSpPr>
        <p:spPr>
          <a:xfrm rot="10800000">
            <a:off x="4475160" y="2276280"/>
            <a:ext cx="457200" cy="215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12"/>
          <p:cNvSpPr/>
          <p:nvPr/>
        </p:nvSpPr>
        <p:spPr>
          <a:xfrm rot="5400000">
            <a:off x="2937960" y="4125960"/>
            <a:ext cx="457200" cy="215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6300720" y="4114800"/>
            <a:ext cx="2521080" cy="13716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there an open and transparent dialogue with NSAs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4"/>
          <p:cNvSpPr/>
          <p:nvPr/>
        </p:nvSpPr>
        <p:spPr>
          <a:xfrm rot="17398800">
            <a:off x="5677560" y="4626720"/>
            <a:ext cx="457200" cy="22068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15"/>
          <p:cNvSpPr/>
          <p:nvPr/>
        </p:nvSpPr>
        <p:spPr>
          <a:xfrm>
            <a:off x="0" y="2276640"/>
            <a:ext cx="2916360" cy="12477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e there incentives to involve NSA in BS and SPSP ?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 rot="6651000">
            <a:off x="2937960" y="2901960"/>
            <a:ext cx="457200" cy="215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hallenges for DEL/NSA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7" name="Oval 3"/>
          <p:cNvSpPr/>
          <p:nvPr/>
        </p:nvSpPr>
        <p:spPr>
          <a:xfrm>
            <a:off x="3336840" y="2619360"/>
            <a:ext cx="2691000" cy="2249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Oval 4"/>
          <p:cNvSpPr/>
          <p:nvPr/>
        </p:nvSpPr>
        <p:spPr>
          <a:xfrm>
            <a:off x="3492360" y="2851200"/>
            <a:ext cx="2374920" cy="1949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3132000" y="1143000"/>
            <a:ext cx="3024360" cy="12193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ong political commitment  behind declaratio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154080" y="3886200"/>
            <a:ext cx="2977920" cy="15526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the civil society enabled to engage with the state through the PCM 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46120" y="5661000"/>
            <a:ext cx="5329440" cy="934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there an enabling environment for Non-State Actors to participate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6300720" y="2349360"/>
            <a:ext cx="2592360" cy="15368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ordination and Harmonisation amongst donor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9"/>
          <p:cNvSpPr/>
          <p:nvPr/>
        </p:nvSpPr>
        <p:spPr>
          <a:xfrm>
            <a:off x="4451400" y="4941720"/>
            <a:ext cx="457200" cy="216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10"/>
          <p:cNvSpPr/>
          <p:nvPr/>
        </p:nvSpPr>
        <p:spPr>
          <a:xfrm rot="14772000">
            <a:off x="5746680" y="2947680"/>
            <a:ext cx="457200" cy="216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11"/>
          <p:cNvSpPr/>
          <p:nvPr/>
        </p:nvSpPr>
        <p:spPr>
          <a:xfrm rot="10800000">
            <a:off x="4475160" y="2276280"/>
            <a:ext cx="457200" cy="215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12"/>
          <p:cNvSpPr/>
          <p:nvPr/>
        </p:nvSpPr>
        <p:spPr>
          <a:xfrm rot="5400000">
            <a:off x="2937960" y="4125960"/>
            <a:ext cx="457200" cy="215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6300720" y="4114800"/>
            <a:ext cx="2521080" cy="13716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eper and objective knowledge of NSA/CSO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14"/>
          <p:cNvSpPr/>
          <p:nvPr/>
        </p:nvSpPr>
        <p:spPr>
          <a:xfrm rot="17398800">
            <a:off x="5677560" y="4626720"/>
            <a:ext cx="457200" cy="22068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15"/>
          <p:cNvSpPr/>
          <p:nvPr/>
        </p:nvSpPr>
        <p:spPr>
          <a:xfrm>
            <a:off x="0" y="2276640"/>
            <a:ext cx="2916360" cy="12477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pared to play a facilitation rol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16"/>
          <p:cNvSpPr/>
          <p:nvPr/>
        </p:nvSpPr>
        <p:spPr>
          <a:xfrm rot="6651000">
            <a:off x="2937960" y="2901960"/>
            <a:ext cx="457200" cy="215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undamentals of this “new” approach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64960" y="1028880"/>
            <a:ext cx="8879040" cy="55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Down Arrow 6"/>
          <p:cNvSpPr/>
          <p:nvPr/>
        </p:nvSpPr>
        <p:spPr>
          <a:xfrm>
            <a:off x="3057480" y="2108160"/>
            <a:ext cx="731880" cy="1166760"/>
          </a:xfrm>
          <a:prstGeom prst="downArrow">
            <a:avLst>
              <a:gd name="adj1" fmla="val 50000"/>
              <a:gd name="adj2" fmla="val 52527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Down Arrow 8"/>
          <p:cNvSpPr/>
          <p:nvPr/>
        </p:nvSpPr>
        <p:spPr>
          <a:xfrm>
            <a:off x="5319720" y="2108160"/>
            <a:ext cx="804960" cy="1301760"/>
          </a:xfrm>
          <a:prstGeom prst="downArrow">
            <a:avLst>
              <a:gd name="adj1" fmla="val 50000"/>
              <a:gd name="adj2" fmla="val 43319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Oval 9"/>
          <p:cNvSpPr/>
          <p:nvPr/>
        </p:nvSpPr>
        <p:spPr>
          <a:xfrm>
            <a:off x="0" y="3646440"/>
            <a:ext cx="2274840" cy="128268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SAs are full fledge a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Oval 10"/>
          <p:cNvSpPr/>
          <p:nvPr/>
        </p:nvSpPr>
        <p:spPr>
          <a:xfrm>
            <a:off x="2146320" y="3605040"/>
            <a:ext cx="2435040" cy="146052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alyze state-society relations systematic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Oval 11"/>
          <p:cNvSpPr/>
          <p:nvPr/>
        </p:nvSpPr>
        <p:spPr>
          <a:xfrm>
            <a:off x="4710240" y="3646440"/>
            <a:ext cx="2243160" cy="128268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xplore full potential within and beyond N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Down Arrow 12"/>
          <p:cNvSpPr/>
          <p:nvPr/>
        </p:nvSpPr>
        <p:spPr>
          <a:xfrm>
            <a:off x="7488360" y="2108160"/>
            <a:ext cx="804600" cy="1166760"/>
          </a:xfrm>
          <a:prstGeom prst="downArrow">
            <a:avLst>
              <a:gd name="adj1" fmla="val 50000"/>
              <a:gd name="adj2" fmla="val 38844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Oval 13"/>
          <p:cNvSpPr/>
          <p:nvPr/>
        </p:nvSpPr>
        <p:spPr>
          <a:xfrm>
            <a:off x="6900840" y="3646440"/>
            <a:ext cx="2243160" cy="128268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C Prepared to play new ro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Down Arrow 14"/>
          <p:cNvSpPr/>
          <p:nvPr/>
        </p:nvSpPr>
        <p:spPr>
          <a:xfrm>
            <a:off x="641520" y="1925640"/>
            <a:ext cx="731520" cy="1166760"/>
          </a:xfrm>
          <a:prstGeom prst="downArrow">
            <a:avLst>
              <a:gd name="adj1" fmla="val 50000"/>
              <a:gd name="adj2" fmla="val 52553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Alternate Process 3"/>
          <p:cNvSpPr/>
          <p:nvPr/>
        </p:nvSpPr>
        <p:spPr>
          <a:xfrm>
            <a:off x="1604880" y="3411360"/>
            <a:ext cx="4830840" cy="1528920"/>
          </a:xfrm>
          <a:prstGeom prst="flowChartAlternateProcess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Introduce systematically “political economy” and “governance” analys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lternate Process 5"/>
          <p:cNvSpPr/>
          <p:nvPr/>
        </p:nvSpPr>
        <p:spPr>
          <a:xfrm>
            <a:off x="1604880" y="1050840"/>
            <a:ext cx="4830840" cy="955800"/>
          </a:xfrm>
          <a:prstGeom prst="flowChartAlternateProcess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Use several analytical tools to know the CSOs (mapping, sectoral studie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ounded Rectangle 8"/>
          <p:cNvSpPr/>
          <p:nvPr/>
        </p:nvSpPr>
        <p:spPr>
          <a:xfrm>
            <a:off x="957240" y="1274760"/>
            <a:ext cx="432000" cy="731880"/>
          </a:xfrm>
          <a:custGeom>
            <a:avLst/>
            <a:gdLst>
              <a:gd name="textAreaLeft" fmla="*/ 12600 w 432000"/>
              <a:gd name="textAreaRight" fmla="*/ 419400 w 432000"/>
              <a:gd name="textAreaTop" fmla="*/ 12600 h 731880"/>
              <a:gd name="textAreaBottom" fmla="*/ 719280 h 731880"/>
            </a:gdLst>
            <a:ahLst/>
            <a:rect l="textAreaLeft" t="textAreaTop" r="textAreaRight" b="textAreaBottom"/>
            <a:pathLst>
              <a:path w="21600" h="36582">
                <a:moveTo>
                  <a:pt x="2160" y="0"/>
                </a:moveTo>
                <a:arcTo wR="2160" hR="2160" stAng="16200000" swAng="-5400000"/>
                <a:lnTo>
                  <a:pt x="0" y="34422"/>
                </a:lnTo>
                <a:arcTo wR="2160" hR="2160" stAng="10800000" swAng="-5400000"/>
                <a:lnTo>
                  <a:pt x="19440" y="36582"/>
                </a:lnTo>
                <a:arcTo wR="2160" hR="2160" stAng="5400000" swAng="-5400000"/>
                <a:lnTo>
                  <a:pt x="21600" y="2160"/>
                </a:lnTo>
                <a:arcTo wR="2160" hR="216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ounded Rectangle 9"/>
          <p:cNvSpPr/>
          <p:nvPr/>
        </p:nvSpPr>
        <p:spPr>
          <a:xfrm>
            <a:off x="957240" y="4041720"/>
            <a:ext cx="432000" cy="490680"/>
          </a:xfrm>
          <a:custGeom>
            <a:avLst/>
            <a:gdLst>
              <a:gd name="textAreaLeft" fmla="*/ 12600 w 432000"/>
              <a:gd name="textAreaRight" fmla="*/ 419400 w 432000"/>
              <a:gd name="textAreaTop" fmla="*/ 12600 h 490680"/>
              <a:gd name="textAreaBottom" fmla="*/ 478080 h 490680"/>
            </a:gdLst>
            <a:ahLst/>
            <a:rect l="textAreaLeft" t="textAreaTop" r="textAreaRight" b="textAreaBottom"/>
            <a:pathLst>
              <a:path w="21600" h="24532">
                <a:moveTo>
                  <a:pt x="2160" y="0"/>
                </a:moveTo>
                <a:arcTo wR="2160" hR="2160" stAng="16200000" swAng="-5400000"/>
                <a:lnTo>
                  <a:pt x="0" y="22372"/>
                </a:lnTo>
                <a:arcTo wR="2160" hR="2160" stAng="10800000" swAng="-5400000"/>
                <a:lnTo>
                  <a:pt x="19440" y="24532"/>
                </a:lnTo>
                <a:arcTo wR="2160" hR="2160" stAng="5400000" swAng="-5400000"/>
                <a:lnTo>
                  <a:pt x="21600" y="2160"/>
                </a:lnTo>
                <a:arcTo wR="2160" hR="216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Box 11"/>
          <p:cNvSpPr/>
          <p:nvPr/>
        </p:nvSpPr>
        <p:spPr>
          <a:xfrm>
            <a:off x="6858000" y="1299600"/>
            <a:ext cx="204624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Arial"/>
                <a:ea typeface="ＭＳ Ｐゴシック"/>
              </a:rPr>
              <a:t>Analyze state-society relations systematic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318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ossible entry points for analysis of   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ate-society relations</a:t>
            </a:r>
            <a:r>
              <a:rPr b="1" lang="en-US" sz="3600" spc="-1" strike="noStrike">
                <a:solidFill>
                  <a:srgbClr val="33ccff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-360" y="1523880"/>
            <a:ext cx="87850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hat affects the opportunities for NSAs to participat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hat are the relations between state and societ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ho holds power over whom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ho exerts pressure on whom? Who influences whom? With what me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hat are the resources, and how are these distribute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hat are incentives? Why is it difficult for citizens to work collectively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hat is the history? The history of struggle? The history of social or other movements? The history of repressi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000" spc="-1" strike="noStrike">
                <a:solidFill>
                  <a:srgbClr val="00a6c8"/>
                </a:solidFill>
                <a:latin typeface="Verdana"/>
                <a:ea typeface="ＭＳ Ｐゴシック"/>
              </a:rPr>
              <a:t>Page </a:t>
            </a:r>
            <a:fld id="{9F2B0624-19C5-4191-BFEB-5DF45DCAA12E}" type="slidenum">
              <a:rPr b="0" lang="nl-BE" sz="1000" spc="-1" strike="noStrike">
                <a:solidFill>
                  <a:srgbClr val="00a6c8"/>
                </a:solidFill>
                <a:latin typeface="Verdana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Alternate Process 2"/>
          <p:cNvSpPr/>
          <p:nvPr/>
        </p:nvSpPr>
        <p:spPr>
          <a:xfrm>
            <a:off x="1547640" y="3933720"/>
            <a:ext cx="4830840" cy="935280"/>
          </a:xfrm>
          <a:prstGeom prst="flowChartAlternateProcess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Prepared  for playing new roles and being creative within the existing procedu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.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lternate Process 3"/>
          <p:cNvSpPr/>
          <p:nvPr/>
        </p:nvSpPr>
        <p:spPr>
          <a:xfrm>
            <a:off x="1547640" y="2565360"/>
            <a:ext cx="4830840" cy="693720"/>
          </a:xfrm>
          <a:prstGeom prst="flowChartAlternateProcess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Systematically apply a ‘political economy’ sys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lternate Process 5"/>
          <p:cNvSpPr/>
          <p:nvPr/>
        </p:nvSpPr>
        <p:spPr>
          <a:xfrm>
            <a:off x="1547640" y="1052640"/>
            <a:ext cx="4830840" cy="955440"/>
          </a:xfrm>
          <a:prstGeom prst="flowChartAlternateProcess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Avoid a ‘technocratic’ approach to aid effectivenes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ounded Rectangle 15"/>
          <p:cNvSpPr/>
          <p:nvPr/>
        </p:nvSpPr>
        <p:spPr>
          <a:xfrm>
            <a:off x="900000" y="1413000"/>
            <a:ext cx="446040" cy="299880"/>
          </a:xfrm>
          <a:prstGeom prst="roundRect">
            <a:avLst>
              <a:gd name="adj" fmla="val 10000"/>
            </a:avLst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ounded Rectangle 16"/>
          <p:cNvSpPr/>
          <p:nvPr/>
        </p:nvSpPr>
        <p:spPr>
          <a:xfrm>
            <a:off x="900000" y="2852640"/>
            <a:ext cx="432000" cy="312840"/>
          </a:xfrm>
          <a:prstGeom prst="roundRect">
            <a:avLst>
              <a:gd name="adj" fmla="val 10000"/>
            </a:avLst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ounded Rectangle 17"/>
          <p:cNvSpPr/>
          <p:nvPr/>
        </p:nvSpPr>
        <p:spPr>
          <a:xfrm>
            <a:off x="900000" y="4292640"/>
            <a:ext cx="432000" cy="274680"/>
          </a:xfrm>
          <a:prstGeom prst="roundRect">
            <a:avLst>
              <a:gd name="adj" fmla="val 10000"/>
            </a:avLst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Box 20"/>
          <p:cNvSpPr/>
          <p:nvPr/>
        </p:nvSpPr>
        <p:spPr>
          <a:xfrm>
            <a:off x="6858000" y="1851120"/>
            <a:ext cx="1866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Arial"/>
                <a:ea typeface="ＭＳ Ｐゴシック"/>
              </a:rPr>
              <a:t>New roles for EC/D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 u="sng">
                <a:solidFill>
                  <a:srgbClr val="3333cc"/>
                </a:solidFill>
                <a:uFillTx/>
                <a:latin typeface="Times New Roman"/>
              </a:rPr>
              <a:t>Questions for the discussion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Do DEL welcome the idea of NSAs playing an active role in BS and SPSP ? Relevance and added value ? Risks ? Problems (time and resource consuming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Do the DEL consider that this approach should be pushed forward in the follow up of the structured dialogue with civil society and in the forthcoming communication on NSA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What is required from the NSAs AND from the Commission to push such process (enabling environment, capacity development, specific role of “Northern” NSAs) ?  Is it feasible  ? Do we have the means 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Times New Roman"/>
              </a:rPr>
              <a:t>Thank you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Times New Roman"/>
              </a:rPr>
              <a:t>for your attention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opic of the session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50920" indent="0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ow can the E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9890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engage strategically and operation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9890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with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both the state and non-state a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9890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on various development related iss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9890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amely when it provides “budget suppor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9890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or engages in “sector policy support programme”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989000" indent="0">
              <a:spcBef>
                <a:spcPts val="451"/>
              </a:spcBef>
              <a:spcAft>
                <a:spcPts val="601"/>
              </a:spcAft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(So called “New Aid Modalities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Countries engaged with NSA in BS and SPSP</a:t>
            </a:r>
            <a:br>
              <a:rPr sz="2400"/>
            </a:b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09480" y="1752480"/>
          <a:ext cx="7772400" cy="4114800"/>
        </p:xfrm>
        <a:graphic>
          <a:graphicData uri="http://schemas.openxmlformats.org/drawingml/2006/table">
            <a:tbl>
              <a:tblPr/>
              <a:tblGrid>
                <a:gridCol w="3492720"/>
                <a:gridCol w="4279680"/>
              </a:tblGrid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MA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UN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ducation-literacy Poli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rocco/Ecuad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rvice delive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hiop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neral Budget Supp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h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al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st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uth Afr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tural resources and environ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h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hana (1)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General Budget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ancial mechanism:  multi donor fu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rove national Pla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ea of accounting for public expendi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ussed and agreed with the Gover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eseen in Country Strategic Pap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oles for NSA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licy dialogue, advoc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cuador (1)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ctoral Budget Support to Ecuadorian national Education pl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unding: E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bjectiv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n the short term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inforce Country M&amp;E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inforce Constitution implementation: Citizens participation in national polic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And in the long ru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stablish relationship between public and private sector based on tru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mote result oriented and domestic account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cuador (2)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KEY FE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Mapping of actors and roles </a:t>
            </a:r>
            <a:r>
              <a:rPr b="1" lang="en-US" sz="20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Added-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C negotiated with the State the involvement of NSAs at early st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lated indicators to performance of both Govt &amp; N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gotiated to put aside part of SBS to support N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 for proposals (restricted/targeted) managed by DEL but transparent with Gov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-250920" y="762480"/>
            <a:ext cx="770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Verdana"/>
                <a:ea typeface="Times New Roman"/>
              </a:rPr>
              <a:t>Overview of functions and roles of NSAs in the ca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06280" y="1052640"/>
          <a:ext cx="8732880" cy="4311360"/>
        </p:xfrm>
        <a:graphic>
          <a:graphicData uri="http://schemas.openxmlformats.org/drawingml/2006/table">
            <a:tbl>
              <a:tblPr/>
              <a:tblGrid>
                <a:gridCol w="1603440"/>
                <a:gridCol w="828720"/>
                <a:gridCol w="955800"/>
                <a:gridCol w="1025280"/>
                <a:gridCol w="757440"/>
                <a:gridCol w="890640"/>
                <a:gridCol w="961920"/>
                <a:gridCol w="819000"/>
                <a:gridCol w="89064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oi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bl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duc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countabilit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rvices provis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cial Capita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acity developm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novation/ pilot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veraging effor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as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: Moroc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ducation – literacy polic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ase 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Ethiop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Basic Servic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33ccff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ase 3: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Gha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33ccff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ase 4: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Ghana 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Natural resources and environmen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33ccff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ase 5: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ndia (Education and Health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33ccff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ase 6: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outh Africa (Justic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ase 7: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Ecuador (Educatio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33ccff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208080" y="5371200"/>
            <a:ext cx="18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C/EU policies/agendas concerned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66" name="Content Placeholder 5" descr=""/>
          <p:cNvPicPr/>
          <p:nvPr/>
        </p:nvPicPr>
        <p:blipFill>
          <a:blip r:embed="rId2"/>
          <a:stretch/>
        </p:blipFill>
        <p:spPr>
          <a:xfrm>
            <a:off x="1163520" y="1752480"/>
            <a:ext cx="6662880" cy="41148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Oval 3"/>
          <p:cNvSpPr/>
          <p:nvPr/>
        </p:nvSpPr>
        <p:spPr>
          <a:xfrm>
            <a:off x="3165480" y="3017880"/>
            <a:ext cx="2835360" cy="1325520"/>
          </a:xfrm>
          <a:prstGeom prst="ellipse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rticipa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208080" y="2023920"/>
            <a:ext cx="2552760" cy="993960"/>
          </a:xfrm>
          <a:prstGeom prst="rect">
            <a:avLst/>
          </a:prstGeom>
          <a:solidFill>
            <a:srgbClr val="dce6f2"/>
          </a:solidFill>
          <a:ln w="9360">
            <a:solidFill>
              <a:srgbClr val="558ed5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velopment assistance includes support to and through NS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6276960" y="2023920"/>
            <a:ext cx="2554200" cy="993960"/>
          </a:xfrm>
          <a:prstGeom prst="rect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nvolving NSA contributes to  strengthen domestic account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10"/>
          <p:cNvSpPr/>
          <p:nvPr/>
        </p:nvSpPr>
        <p:spPr>
          <a:xfrm>
            <a:off x="2971800" y="1371600"/>
            <a:ext cx="3029040" cy="1143000"/>
          </a:xfrm>
          <a:prstGeom prst="rect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velopment is a multi-stakeholder/multi actor process where the central state is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n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of the 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04920" y="4495680"/>
            <a:ext cx="2552760" cy="1454400"/>
          </a:xfrm>
          <a:prstGeom prst="rect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SAs are not only implementing agencies but also promoters of democracy, justice and human righ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12"/>
          <p:cNvSpPr/>
          <p:nvPr/>
        </p:nvSpPr>
        <p:spPr>
          <a:xfrm>
            <a:off x="3165480" y="4932360"/>
            <a:ext cx="2835360" cy="1704960"/>
          </a:xfrm>
          <a:prstGeom prst="rect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U is committed to support NSAs to fully participate in political, economic and social dialogue processes (mainstreaming of NSA particip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13"/>
          <p:cNvSpPr/>
          <p:nvPr/>
        </p:nvSpPr>
        <p:spPr>
          <a:xfrm>
            <a:off x="6276960" y="4711680"/>
            <a:ext cx="2554200" cy="993960"/>
          </a:xfrm>
          <a:prstGeom prst="rect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ivil Society is recognized in all its diversity (concept of non state acto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Down Arrow 14"/>
          <p:cNvSpPr/>
          <p:nvPr/>
        </p:nvSpPr>
        <p:spPr>
          <a:xfrm>
            <a:off x="4381560" y="2392200"/>
            <a:ext cx="404640" cy="368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76092"/>
          </a:solidFill>
          <a:ln w="9360">
            <a:solidFill>
              <a:srgbClr val="00cc99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Down Arrow 15" descr=""/>
          <p:cNvPicPr/>
          <p:nvPr/>
        </p:nvPicPr>
        <p:blipFill>
          <a:blip r:embed="rId2"/>
          <a:stretch/>
        </p:blipFill>
        <p:spPr>
          <a:xfrm>
            <a:off x="4316400" y="4443480"/>
            <a:ext cx="523800" cy="488880"/>
          </a:xfrm>
          <a:prstGeom prst="rect">
            <a:avLst/>
          </a:prstGeom>
          <a:ln w="0">
            <a:noFill/>
          </a:ln>
        </p:spPr>
      </p:pic>
      <p:pic>
        <p:nvPicPr>
          <p:cNvPr id="76" name="Down Arrow 16" descr=""/>
          <p:cNvPicPr/>
          <p:nvPr/>
        </p:nvPicPr>
        <p:blipFill>
          <a:blip r:embed="rId3"/>
          <a:stretch/>
        </p:blipFill>
        <p:spPr>
          <a:xfrm>
            <a:off x="2627280" y="2865600"/>
            <a:ext cx="701640" cy="699840"/>
          </a:xfrm>
          <a:prstGeom prst="rect">
            <a:avLst/>
          </a:prstGeom>
          <a:ln w="0">
            <a:noFill/>
          </a:ln>
        </p:spPr>
      </p:pic>
      <p:pic>
        <p:nvPicPr>
          <p:cNvPr id="77" name="Down Arrow 17" descr=""/>
          <p:cNvPicPr/>
          <p:nvPr/>
        </p:nvPicPr>
        <p:blipFill>
          <a:blip r:embed="rId4"/>
          <a:stretch/>
        </p:blipFill>
        <p:spPr>
          <a:xfrm>
            <a:off x="2627280" y="3975120"/>
            <a:ext cx="701640" cy="700200"/>
          </a:xfrm>
          <a:prstGeom prst="rect">
            <a:avLst/>
          </a:prstGeom>
          <a:ln w="0">
            <a:noFill/>
          </a:ln>
        </p:spPr>
      </p:pic>
      <p:pic>
        <p:nvPicPr>
          <p:cNvPr id="78" name="Down Arrow 18" descr=""/>
          <p:cNvPicPr/>
          <p:nvPr/>
        </p:nvPicPr>
        <p:blipFill>
          <a:blip r:embed="rId5"/>
          <a:stretch/>
        </p:blipFill>
        <p:spPr>
          <a:xfrm>
            <a:off x="5632560" y="4164120"/>
            <a:ext cx="689040" cy="693720"/>
          </a:xfrm>
          <a:prstGeom prst="rect">
            <a:avLst/>
          </a:prstGeom>
          <a:ln w="0">
            <a:noFill/>
          </a:ln>
        </p:spPr>
      </p:pic>
      <p:pic>
        <p:nvPicPr>
          <p:cNvPr id="79" name="Down Arrow 19" descr=""/>
          <p:cNvPicPr/>
          <p:nvPr/>
        </p:nvPicPr>
        <p:blipFill>
          <a:blip r:embed="rId6"/>
          <a:stretch/>
        </p:blipFill>
        <p:spPr>
          <a:xfrm>
            <a:off x="5711760" y="2871720"/>
            <a:ext cx="695520" cy="68904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87080" y="-360"/>
            <a:ext cx="77864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articipatory development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p:transition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2T16:42:01Z</dcterms:created>
  <dc:creator>JON</dc:creator>
  <dc:description/>
  <dc:language>en-US</dc:language>
  <cp:lastModifiedBy>catherine de borchgrave</cp:lastModifiedBy>
  <dcterms:modified xsi:type="dcterms:W3CDTF">2011-07-04T09:35:16Z</dcterms:modified>
  <cp:revision>4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