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8DB9-B6C9-4373-9DD8-00EAB81B9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C205-F7CD-4652-8784-3D1ED5AED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D138-0D28-4550-880A-B1B488A1D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4FE0-5F54-4314-BD3C-EC5B7BCE2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7E4F7-9D7A-4010-BBF4-ACD9671C9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F579B-F7FF-41AE-9F64-95A39FFE0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A6D98-1E9A-4464-B272-AD532BA7E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335CE-E8A2-47FC-B2A5-B76E9245B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5FE33-1D77-42F2-A697-CAA2C309C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E4D7A-EE61-4506-B722-4AB7CFA4A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3F7FB-6846-466A-AF17-07E7A324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3A51-FD03-490E-8A0A-0C1CB9E15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7C5AF-0E16-4D4D-957C-0D35DFBB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44065-B19E-49B7-B864-3D30F549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BD92B-A26A-466A-92AD-C8AA9E66E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55A76-B24B-44EE-A538-57B666181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189A8-347C-430D-ACDF-DCB5C4886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9ED19-3A3C-4C5B-8EF3-170B7831E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6EDA5-B986-4908-9184-05A096786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DD487-BCB1-4145-8BB4-8B1859E2B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E44E6-132B-4041-9FC7-5F3E11809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898F0-0F66-488A-8F3D-EF5CA6A2B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D7E6-FB35-4AD5-84F7-01E363D13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BD7EC-A24A-46DB-A646-FCE84A24D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2DBAA-A8B2-47B8-AB45-A746AF76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0652F-E4EB-4CF4-80A8-F852AC77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17D45-0EA6-4618-B9DF-0BFDA231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DD275-67CE-4963-AEC2-5306486CE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847D1-1F48-4D45-ADBF-E689FE00C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495D7-899D-415C-86CE-164733808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D3627-D362-4B95-B216-DA5120E14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48977-E6C6-4772-898F-691949A6A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E7059-B886-4BFF-A6C8-0AE68CB23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55E1-FDDE-4E04-9A22-9F431CA4B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9CB33-9134-4CCB-8C78-EEF857A68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DC9CD-C3FB-4803-92A5-0033DF65D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A1ADD-E537-4648-805A-9AB695345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E72A6-C788-4645-B2B9-C3F1F3D4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A6A21-F534-4794-B316-471A9E0B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2CAC8-A34B-4B77-8E1F-14A05B1C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5CBF4-C0E7-42A1-921D-A271BEF06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B5205-7D5E-46BA-A870-08488A354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65C71-4B1F-4654-8E57-31D971014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4AC6-BB31-4D39-A8F7-6A68FF689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CFEE-3450-4968-A454-09D6684FF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E841-B784-4F41-9832-2C6F0AEF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31D9-6EE1-41E9-9959-C8830C70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1AD0-ABFC-43B0-B096-A35A5294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5982C-CF47-47AB-9658-84B00AF0AB3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7BCCF-168A-4D39-BF7D-A51C5C1F2FA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98012-6906-462F-9E9C-B2ECE04F603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A288A-425B-4F9E-8E91-863FD1ADCD3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701640"/>
            <a:ext cx="7832520" cy="25052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03280" y="3142800"/>
            <a:ext cx="6383520" cy="2143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Presentation at the Workshop Held  on  the 07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onstantia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April 2011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Lisema Lekhooana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PAF OBJECTIV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serve as a tool to measure sector performance on selected indicators which represents key sector performance are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provide evidence that investments are actually achieving the intended development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influence Government and donors in deciding on priority areas for suppor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STRATEGIC PRIORITY AREAS FOR 2010-2012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rban Domestic Wa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ural Water Supp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mestic Sanit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stitutional and Capacity Develop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SECTOR PERFOMANCE INDICATOR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RURAL WATER SUPPLY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: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portion of the rural households using piped water and public boreholes as their main source of drinking wa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URBAN WATER SUPPLY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   Proportion of the urban households using piped water as their main source of drinking wa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SECTOR PERFOMANCE INDICATORS (cont.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RURAL SANITATION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: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Proportion of the rural households using in their place of residence a sewage system, septic tank, own VIP or own latrin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URBAN SANITATION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: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Proportion of the rural households using in their place of residence a sewage system, septic tank, own VIP or own latrin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BASELINE AND TARGE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571680" y="1785960"/>
            <a:ext cx="833256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INFORMATION FLOW CHAR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8" name="Content Placeholder 3" descr=""/>
          <p:cNvPicPr/>
          <p:nvPr/>
        </p:nvPicPr>
        <p:blipFill>
          <a:blip r:embed="rId1"/>
          <a:stretch/>
        </p:blipFill>
        <p:spPr>
          <a:xfrm>
            <a:off x="728640" y="2082960"/>
            <a:ext cx="768672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CHALLENGES and POTENTIAL CONSTRAINT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armonization of Sector Information and analy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akeholder Capacity for Monitoring and Evaluation especially key sector departments and agenci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akeholder information flow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nor Coordination and agreement to common approach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Rectangle 2" descr=""/>
          <p:cNvPicPr/>
          <p:nvPr/>
        </p:nvPicPr>
        <p:blipFill>
          <a:blip r:embed="rId1"/>
          <a:stretch/>
        </p:blipFill>
        <p:spPr>
          <a:xfrm>
            <a:off x="420840" y="414360"/>
            <a:ext cx="83214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0:04:22Z</dcterms:created>
  <dc:creator> </dc:creator>
  <dc:description/>
  <dc:language>en-US</dc:language>
  <cp:lastModifiedBy>user</cp:lastModifiedBy>
  <dcterms:modified xsi:type="dcterms:W3CDTF">2011-04-06T14:05:57Z</dcterms:modified>
  <cp:revision>110</cp:revision>
  <dc:subject/>
  <dc:title>MONITORING AND EVALUATION</dc:title>
</cp:coreProperties>
</file>