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0AAD-405E-4372-91D6-DDFD37AC9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0f51"/>
                </a:solidFill>
                <a:latin typeface="Tahoma"/>
              </a:rPr>
              <a:t>WIEGOand Senior Research AssociateSchool of Development StudiesUniversity of KwaZulu-Natal4041 D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social security system remains fragmented, institutionally weak and unevenly regulated; there exist considerable disparities in social security coverage– by location (urban/rural), gender and employment status; coverage is particularly low among women workers and those in the rural a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Mapping and Analysis - legislation, national/local govt domain, who controls the physical environment where informal workers are active, training institutions and curricula, platforms/forums for involvement of informal workers in discussions of work conditions and work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stat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of the workforce is in the informal sector - they exist everywhere, in every sector and in every profession - for some it is their primary earning, for others informal work supplements their earnings from their formal job. Micro-traders are the largest group of informal oper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1 – this new expanded definition of the “informal economy” or “informal employment” has been endorsed by the 2002 International Labour Conference and the 2003 International Conference of Labour Statist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2 – the international definition of the “informal sector” that was adopted by the 1993 International Conference of Labour Statisticians included only those who work in informal enterprises (shown in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minantly women &amp; youth : high poverty risk, low earnings - base of the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86B4-E23C-4BF3-90A6-B066B853A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engaged in the informal econo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cky entrepreneurs” – to borrow Hernando de Soto’s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poor – as depicted i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working Ghanaians &gt;15 yrs, ….% of working Tanzanians over 15 yrs are employed infor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forms should be done through dialogues and nego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ps = large and growing share of self-employment, especially own accou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5EC-2214-4C33-9E99-10C27342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937-B522-42DA-ACF1-70DC5FFD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E608-4A12-4455-A34D-FC5BA2DE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BB2E-5C9E-47A3-8FBA-9127D6EA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A260-2433-45E7-846D-AEE9294D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98E9-F66E-499F-B233-7845BACB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9EFE-ABF5-4C15-85DB-3ED7936D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8DAD-C1A0-4FEE-AB79-69FC42BA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91AB-317C-4F08-8F8C-8C8538EE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7561-1F5C-42AD-9F2A-73C1C1F6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9D9F-9B67-4AE4-BF7D-A0359539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FEBD-DA29-4438-9B82-1D53D5F0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8AAA-87BC-4E91-B123-F72EC046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92CB-B31A-4112-A818-D2A158A9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786D-EDA8-4D2F-967E-96B89B7E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2E54-EB32-4553-BD52-493EAE8E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ED2B-A2B4-4103-834A-4827BE8C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14FB-420C-434B-8F04-CCDFD0B4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3F95-4ACB-4714-8E5D-FD01A3C5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072-FC14-4E6A-8522-34599439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4CD3-EA90-45A0-8ABD-01ED077C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1226-97A4-4619-81C6-198AC38C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3F8E-A06C-445F-85CA-2EA88C3E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B06-1D8D-4CFD-A1E7-D6A642AD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B1D0-5533-4677-BAE2-9C52F588A61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FB12-7B91-48B0-9FB7-2FEF086D5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ego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9EEF-8F83-46B2-8F41-C27F653FC2D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Protection in Af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Experiences on the Informal Econom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&amp; AU Commission Capacity Building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1 March 2011, Nairobi, Keny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uma Mamdani, Senior Researcher, Ifakara Health Institute, Tanz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e Lund, WIEGO (SP-OHS Programme Director) and Senior Research Associate, Univ. of KwaZulu, Durban, 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usiness_card"/>
          <p:cNvPicPr/>
          <p:nvPr/>
        </p:nvPicPr>
        <p:blipFill>
          <a:blip r:embed="rId1"/>
          <a:stretch/>
        </p:blipFill>
        <p:spPr>
          <a:xfrm>
            <a:off x="3603600" y="274680"/>
            <a:ext cx="19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cial Protection: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poor who work inform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rious &amp; high risk exp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no social security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tect against short term risks or life-tim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fford private insurance, 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little access to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er people </a:t>
            </a:r>
            <a:r>
              <a:rPr b="1" lang="en-US" sz="2200" spc="-1" strike="noStrike">
                <a:solidFill>
                  <a:srgbClr val="ce2450"/>
                </a:solidFill>
                <a:latin typeface="Arial"/>
              </a:rPr>
              <a:t>live and work in poor commun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 it is hard to insure agains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veloping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insurance do not target informal workers, wage employed or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assistance for poorer and vulnerable people do not target able bodied people of working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Domestic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ial for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tegrating into existing labour policy and legi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ine with ‘extend social protection’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858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Street and marke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ational government)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service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risk AND increase productivity AND protect both informal worker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Industrial out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employer/ owner-of-capital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lude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ocial protection for informal workers in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trade agreements/ cod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450"/>
                </a:solidFill>
                <a:latin typeface="Arial"/>
              </a:rPr>
              <a:t>Waste-pick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 with municipalities/private sector for provision of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safety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duction of hazards at the plac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ccess for workers 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/private sector social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ealth services and health insurance, training courses, educational burs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-think OHS as a mo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clusive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different types of informal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titutional re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necessary – at national and local government level - to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eac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l workers be 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lusive and sustainable platforms for negotiation and policy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, Tan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medabad and P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Ameri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group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cat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bas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recycling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eed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Understanding th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l economy i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mapping and analysis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Participatory research on risks and hazards with 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discussions, mobility mapping, time and motion studies, household/ enterprise interviews, photography, health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94A7-C669-4825-94DC-E33C9FB95A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ZANIA MAINLAND: DATA ON OCCUPA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data - hugely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der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workers covered by the system - those largely working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ound a tenth of workplaces are regist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Environmental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ide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especially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majority of the work force is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 - ofte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H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main vulnerable to occupational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: OPPORTUNITIES FOR IMPROVED STATISTICS ON OCCUPATIONAL INJURY AND DISEASE FOR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ening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 routine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district/counci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(and nested) questions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eriodic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BS, LFS, DHS, census) at nationa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going data collection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rengthening the r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Municipalities or Counc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ocal Government (LG)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anagement and implementation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mproved statistics =&gt; improved understanding of OHS complexity =&gt;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 SOCIAL PROTE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tective laws, policies, programmes &amp;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ing multiple state and non-state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ttered, ill-coordinated and the general impact of these has been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t is therefore not just about building new systems and new programmes. It is also about assessing the effectiveness or rather weaknesses of existing systems and program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: POOR OPERATORS LACK INCENTIVE TO MAINTAIN CLEAN WORK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Caterers Association, Accra: survey of 20 chop bars (informal eating establish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operators on average spent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around US$ 1,142 ann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ater, refuse removal, use of toilets, cleaning equipment, employee health certificates &amp; fire figh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ow to make OHS more affordable for informal 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global research and advocacy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ing in some 40 countries, promoting and advancing the interests of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er informal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pecially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work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member-based organisations (MBOs),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orks with, builds &amp; strengt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s of informal worker organisations (MB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MBOs and informal worker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visibility, voice, and validity 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19C4-E92F-4527-A2C4-6993222B5D9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 &amp; TANZAN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PROBLEMS OF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horizontal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ocal government departments that have jurisdiction over various aspects of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 enough fit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LG and national gov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institutionalised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G and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 dissemination of public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aws, policies, regulations, by-law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ufficient reg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ivati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TIONS: PREVENTION OF RISKS, IMPROVING WORK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ealth scree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orbidity an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ototypes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rov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/ modifi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Exchanging good prac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untries; and between national, regional and international organisations &amp; networks of inform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 in Informal Employ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ing and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2428920"/>
            <a:ext cx="830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eg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OHS micr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clusivecitie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85EB-BEE1-4DF5-8F9D-0670012A75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ocial Protection, Urban Policies, Global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 conten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atistics Pr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damental to greater visibility and recognition, changed the way labour force data is collected in many countries, inc. 14 Af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Organization &amp;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vocacy wing in direct contact with ‘worker org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&amp;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shops, policy dialogue, regional meetings, papers, articles, development and dissemination of accessible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ED DEFINI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FORMAL ECONOMY (IE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 - the diversified set of economic activities, enterprises, and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worker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at are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not</a:t>
            </a:r>
            <a:r>
              <a:rPr b="0" lang="en-GB" sz="1600" spc="-1" strike="noStrike">
                <a:solidFill>
                  <a:srgbClr val="ce245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ulated or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protec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y the st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 (or informal employment) includ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e2450"/>
                </a:solidFill>
                <a:latin typeface="Times New Roman"/>
              </a:rPr>
              <a:t>Self-employment in informal enterpris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 account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paid contributing family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ce2450"/>
                </a:solidFill>
                <a:latin typeface="Times New Roman"/>
              </a:rPr>
              <a:t>Wage employment in informal job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in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sual or day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dustrial outworkers (also called homework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Italic"/>
              </a:rPr>
              <a:t>IE</a:t>
            </a:r>
            <a:r>
              <a:rPr b="1" lang="en-US" sz="2000" spc="-1" strike="noStrike">
                <a:solidFill>
                  <a:srgbClr val="ce2450"/>
                </a:solidFill>
                <a:latin typeface="Arial Italic"/>
              </a:rPr>
              <a:t>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inside</a:t>
            </a:r>
            <a:r>
              <a:rPr b="0" i="1" lang="en-US" sz="2000" spc="-1" strike="noStrike">
                <a:solidFill>
                  <a:srgbClr val="000000"/>
                </a:solidFill>
                <a:latin typeface="Arial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and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 informal enterprises (whether carried out for formal sector enterprises or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EGO promoted this expanded definition in collaboration with the ILO and the International Expert Group on Informal Sector Statistics (the Delhi Group): it was endorsed by the International Conference of Labour Statisticians (ICLS) in 200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ED LABOR MARKETS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we mean by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exist which prevent individuals from moving into better employment opportunities (or improving the quality of existing em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causes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, social norms, unequal wealth/assets, unpaid care responsibilities, lack of credit, lack of public goods/servic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‘segmentation’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s existing patterns of poverty and soci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equity: gender, racial, caste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basic rights and the choices available t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245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2450"/>
                </a:solidFill>
                <a:latin typeface="Times New Roman"/>
              </a:rPr>
              <a:t>In summary: a social justi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14400" y="22860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ATION OF THE INFORMAL ECONOMY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Y SEX, AVERAGE EARNINGS, AND POVERTY RISK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POOR IN THE INFORMA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6172200" y="1143000"/>
          <a:ext cx="25146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143000"/>
                    <a:ext cx="25146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457200" y="5105520"/>
          <a:ext cx="2514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05520"/>
                    <a:ext cx="2514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4"/>
          <p:cNvGraphicFramePr/>
          <p:nvPr/>
        </p:nvGraphicFramePr>
        <p:xfrm>
          <a:off x="6172200" y="3276720"/>
          <a:ext cx="25909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2767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3200400" y="121932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Unregulated Factories: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Small Worksho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ap metal recyclers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v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 and 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-bag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Streets or In Open Spa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ee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sh-car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bage collect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ide barb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uction wor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Fields, Pastures, and Fores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arm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icultural labou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pher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st gath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wor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ma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ans or craft produc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ers of electronic part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457200" y="3200400"/>
          <a:ext cx="243828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200400"/>
                    <a:ext cx="24382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457200" y="1219320"/>
          <a:ext cx="2438280" cy="18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219320"/>
                    <a:ext cx="2438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6172200" y="5181480"/>
          <a:ext cx="266688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181480"/>
                    <a:ext cx="26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MENT, INFORMALITY, POVERTY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- the most important way in which the benefits of growth can be sh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world’s poor – especially in developing countries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ather than formal employment is on the 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the working poor – those who earn less than US$ 1 per day - earn their living in the informal economy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earnings are 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ar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Poverty reduction is not possible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formal employment opportun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the assets and earning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reducing the risks of those who work in the informal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AND INSTITUTIONAL REFORM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THROUGH DIALOGUE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artite dialogue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volving multiple relevant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e.g.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Fair Trade and Ethical T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Global Comp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refor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Times New Roman"/>
              </a:rPr>
              <a:t>Process should involve all relevant key 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overnment (national &amp; local), private sector, civil society (trade unions + MBOs of working poor + NGOs working on labor and employment issues, employer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03:53Z</dcterms:created>
  <dc:creator>user</dc:creator>
  <dc:description/>
  <dc:language>en-US</dc:language>
  <cp:lastModifiedBy>user</cp:lastModifiedBy>
  <dcterms:modified xsi:type="dcterms:W3CDTF">2011-03-09T12:18:44Z</dcterms:modified>
  <cp:revision>26</cp:revision>
  <dc:subject/>
  <dc:title>PowerPoint Presentation</dc:title>
</cp:coreProperties>
</file>