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3B96-793F-40FD-AA3C-75A4B60308D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72C0-7C41-4F16-92C2-ACD660A7251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BFC5-5588-403F-B779-8FC27F4EC96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6828-5FB5-42D0-AD6F-6328933555E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7450-C1C8-491E-AC78-548831B2ED8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D51B-5ED3-48C4-9706-0118381AC34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4CAE-C775-416F-BC66-1663A2143E4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0513-4EB7-4CDB-8C7F-7D09D39B998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0A10-1CF5-43D9-AB5E-282A87F8B00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6E8A-AE59-477C-9339-542DA22CD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9442-838B-4171-B714-5D4499B8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4A26-CD6A-4532-8182-C578DFF15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F244-9127-45EC-A095-A15D5D0F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9122-9EE5-4568-9A5C-BFFBAAC45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B231-A53D-4B66-8068-F3E9EA82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5B91-B4B3-4D62-AE7D-2DB2899B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3E1D-D53A-42E0-B175-D1509369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082E-C635-41C6-82CC-0C5DF1C5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5BDF-8432-4737-AF56-ED26568A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8FE0-6BC9-4868-97BD-0F061955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602A-8068-40D4-919E-3282CCE0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E5ED-8A8A-47BD-A35A-408786B9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F083-5293-4FF9-89E5-C9AAAEB8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F552-E43D-4939-9196-C4BB9B93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EE317-A8D2-441A-A56D-5C3D2FB76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2E79-B542-406F-AC96-6EB4F5D6D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DA0D-DB3B-42B8-B189-10A8277C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1042-4A9D-4781-8977-B3E7933A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1390-52A3-4393-9F86-A1E9B9FC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2B2C-4328-4017-8CD0-1F10A889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7117-0EBB-47ED-957A-4B301505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3CAA-1A77-4FF8-BF33-180D43E2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82E6-5BF2-4995-8EAC-3163BACE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DFD6-2CA0-4F19-AE52-EA2C36A2AA9A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1D9D-7642-46A9-86BC-98A9872329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995D-E45E-4F9D-9F7D-A276408A18E3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74E2-776D-4BDC-A55C-5824F486854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frica-eu-partnership.org/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AC59-D66C-4F68-B6AA-901FA9CB13C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EMPLOYMENT, SOCIAL PROTECTION AND DECENT WORK </a:t>
            </a:r>
            <a:br>
              <a:rPr sz="1800"/>
            </a:br>
            <a:r>
              <a:rPr b="0" i="1" lang="en-IE" sz="1800" spc="-1" strike="noStrike">
                <a:solidFill>
                  <a:srgbClr val="ffff00"/>
                </a:solidFill>
                <a:latin typeface="Tahoma"/>
              </a:rPr>
              <a:t>Outcomes from Workshop in Dakar</a:t>
            </a: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1800"/>
            </a:b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30 June-2 July 2011</a:t>
            </a:r>
            <a:br>
              <a:rPr sz="1800"/>
            </a:br>
            <a:br>
              <a:rPr sz="2400"/>
            </a:br>
            <a:r>
              <a:rPr b="0" lang="en-IE" sz="2400" spc="-1" strike="noStrike">
                <a:solidFill>
                  <a:srgbClr val="b2b2b2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962160" y="3124080"/>
            <a:ext cx="4800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D’Agostino Ogend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European Commiss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DG EuropeAid</a:t>
            </a: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Brussel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These recommendations/conclusions  were used as important inputs for the 3 activities identified in 2nd action plan of the joint Africa-EU Strategy - adopted in 3rd Africa-EU Summit in November 2010.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A7BA-CAA1-4137-9B38-751E046C90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200E-DAA6-41FA-A7A5-9CAB8645EC5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 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gy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 i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www.africa-eu-partnership.or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883D-79A6-4301-A4A6-30921B97A59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Purpose of the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Sharing experience and knowledge in the field of employment, social protection and decent work in African and European countries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Stimulate debate and discussion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and creation of networks/working groups in areas of common interest between interested EU and African countries and stakeholders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A74D-E2DF-47AF-89C3-AA9217FBAAB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Overall conclusions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The fundamental role of employment, social protection and social dialogue in achieving sustainable and balanced economic growth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ortance and potential of the informal economy in the development of African countrie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cessary involvement of governments, non-state actors and, in particular, of social partners, as well as of international organisation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D0C4-D99C-4A71-BA1C-B49F0728222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Overall conclusions </a:t>
            </a: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continue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7760" y="2209320"/>
            <a:ext cx="5715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oted the existence of a satisfactory framework both political as well as sectoral policies which will serve as the framework for action (EU-Africa Strategy, AU SPF etc...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ed to improve the strategic framework for  mobilizing  resources for sustainable reforms at  local, public and private level, as well as predictable and long-term external resource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AA4D-6B4C-4354-8CFC-072FC7B8D1B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Specific conclusions from working group on social protec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took note of the AU Social Policy Framework and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supported its </a:t>
            </a: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“comprehensive social policy vision”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 and the need of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lementing it at regional, sub-regional and national level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The working group (on SP) will support the development of national Social Protection </a:t>
            </a:r>
            <a:r>
              <a:rPr b="0" lang="fi-FI" sz="2000" spc="-1" strike="noStrike" u="sng">
                <a:solidFill>
                  <a:srgbClr val="ffff00"/>
                </a:solidFill>
                <a:uFillTx/>
                <a:latin typeface="Tahoma"/>
              </a:rPr>
              <a:t>systems</a:t>
            </a: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 as one of the important elements of AU-SPF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CA31-DECC-457F-80B5-DEE313583FC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The strengthening of national social protection systems should start by analyzing and improving existing social protection arrangements, and complementing them with new ones to reach those not covered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9C74-FCE0-4D3F-B14E-77C7B6DE62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Knowledge management and analytic capacity within the government on SP are key in building national SP-systems, and should therefore be supported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9352-6269-4951-A1B7-C637AE56C6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7760" y="1676520"/>
            <a:ext cx="5715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The  need to support capacity building of relevant ministries, authorities such as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Ministries of Finance, National Planning Commissions, Social Affairs, Labour, and other ministries and local authorities involved in the implementation of social protection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and other relevant stakeholders, including social partners and civil society.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5D8D-433C-4BA8-8801-2FE79225E1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V 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the (informal) working group on social protection should continue as part of the Informal Joint Expert Group within MME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social protection should be prioritized within the Africa-EU cooperation, in particular within the framework of the Joint Africa-EU Strate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07:59:50Z</dcterms:modified>
  <cp:revision>46</cp:revision>
  <dc:subject/>
  <dc:title>PowerPoint Presentation</dc:title>
</cp:coreProperties>
</file>