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0F074-3657-46B1-8E2C-05A79B664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79E7C-C2F9-42FB-93E5-D18CB7110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69787-C897-4861-8111-0E0EE39DF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2899B-FD25-4B36-8E28-7AD01BF07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50BA60-82DA-4A09-BC1F-5922E18EB17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66E9D5-FF20-4C6A-9EE5-AC9425BE7C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48EAA4-3DD8-4716-8F16-C822DA1237F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BF8D17-9BAC-4D87-A823-189A19BABF2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2C735D-0FDD-4565-A953-C3736AD3E01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878C10-BE8F-42AA-8D49-8222530E69E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31959-7EEE-4B44-BB7C-DE6E5E8498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FE8F2-3D7B-4283-BE03-93EEB3188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3820D7-8286-40D6-8917-88E96A67BB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819247-FCB8-405A-B37E-8A67953E8C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C86F1A-5E5E-4CA3-9959-F45E881166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F5DC1C-08DA-4F29-942F-B746AF0E8C2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7C6BBF-10A1-44DD-8245-9C7A7671128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C77DF-66D9-46F0-A8D0-C0C8F00E3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F24DE-F53A-4C16-B8DF-6510A6094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190D4-2891-48F3-A370-15B55422B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E1EFE-9412-445C-BB46-85366C855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4A8D1-56C3-4DE3-9DF9-92CF349FA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204DA-4B57-4DDD-BC9A-D537857B8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4C0FE-4B3C-4350-8FF6-DCAD072A9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0EADF1F0-A8B4-4328-A662-3CC4A5221665}" type="datetime11">
              <a:rPr b="0" lang="en-US" sz="1400" spc="-1" strike="noStrike">
                <a:solidFill>
                  <a:srgbClr val="ffffff"/>
                </a:solidFill>
                <a:latin typeface="Times New Roman"/>
              </a:rPr>
              <a:t>18:02:0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9AB7-6F6F-4924-ADC0-4ECBD4A7E5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F8AC-F522-467D-B921-FABC8F477C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92FDE5CE-4840-47E2-8E0B-2046AE3D5D30}" type="datetime11">
              <a:rPr b="0" lang="en-US" sz="1400" spc="-1" strike="noStrike">
                <a:solidFill>
                  <a:srgbClr val="ffffff"/>
                </a:solidFill>
                <a:latin typeface="Times New Roman"/>
              </a:rPr>
              <a:t>18:02:00</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762293A-0CC5-470E-8DC4-84FD2DE975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C01C704-321A-4089-9135-BE3066DCAB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6E0E235-0191-450F-9C38-E9CF69903F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24C162F-EC11-43CB-B957-233451E934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E4A686F3-2EFF-4712-94AC-ED1219CFDE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2967445-25DF-4679-9421-A8AAF03193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ADEA7A4-D89D-43E0-BF5B-13F0678D91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CF959C3-75C3-47DF-8EB3-435EAD0F86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EF38FAF0-8A1F-45DC-A820-E49ADAD189A5}"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927BB31-5B98-4F0E-BDAB-BA6054AEF5F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92F2048-0A8D-498D-B795-99B78200D9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5A49886-7D9F-40C0-B766-03E7C49627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9E5975E-5844-4A08-916E-23D6509B5D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100889F-9EB8-4806-AE49-1FC2609A78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A0D2AF9-17F4-4036-9CAA-007ACBF656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C214A18-1E8E-4FBF-81D5-9C04BED960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21940D9-22B1-46E9-A799-00485DBBA2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