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90ED-E5C9-4AA1-995C-024BA51FBA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C9BF0-0F10-43B2-9789-D47B97416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53E1B-AED5-4364-9C0D-5EB74B05B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B8835-F6CE-4409-B7F8-2A45A3972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8540D-31E2-429A-BF58-99543E88F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86B8D-E8EF-4772-84F4-495B1D676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86D6F-13F4-4A48-A963-3F6BEF642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72B96-364E-4712-AB4E-4876BD09C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9791E-E6F1-49DB-A608-C80174BA7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32570-803B-4372-A7B5-6C70495F4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38FF9-71FE-4408-B5D3-3BB6CC9BD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A91A1-239C-4029-97AB-967DB24DE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94AB1-C996-463B-AA63-66087EF90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66C18-2359-49EB-9B29-C0E8D670F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9C992-25AA-4E82-B7D2-09F1200DA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66F45-28B5-4AE2-A014-CAEFECDE1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2DD7C-60D2-4DF3-B31A-7C85A6877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0234B-E196-4E0F-BF0A-C7C3C5B8B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CF37A-F35E-4599-B3D7-BF52E14F6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15069-C42F-47D3-A662-A89C6B9C0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63381-ECFC-4596-993A-5D77222C4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9DC4A-6D9D-4720-8A29-06BBC91F6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008BD-7EEF-4BE2-909C-A6F682EED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B321A-A4E8-4384-94DE-80A84178F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3ABBE-B249-4FC4-9B53-BDA34E1B9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29BB-DF7D-431C-A2AF-5BE1EF37490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E895-DFFA-470E-842E-101DB0155CD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456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0-10-16T15:48:30Z</dcterms:modified>
  <cp:revision>284</cp:revision>
  <dc:subject/>
  <dc:title>Slide 1</dc:title>
</cp:coreProperties>
</file>