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2C5B-2669-4655-8237-A2BCEB21CD1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2030-0538-41C0-899C-1A5DCBAB9D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AD19-A0D0-4CBF-834F-3C3FC1DF4666}" type="datetime">
              <a:rPr b="0" lang="en-US" sz="1200" spc="-1" strike="noStrike">
                <a:solidFill>
                  <a:srgbClr val="ffffff"/>
                </a:solidFill>
                <a:latin typeface="Verdana"/>
              </a:rPr>
              <a:t>07/29/26</a:t>
            </a:fld>
            <a:r>
              <a:rPr b="0" lang="en-US" sz="1200" spc="-1" strike="noStrike">
                <a:solidFill>
                  <a:srgbClr val="ffffff"/>
                </a:solidFill>
                <a:latin typeface="Verdana"/>
              </a:rPr>
              <a:t> </a:t>
            </a:r>
            <a:fld id="{98C71A66-3D70-4BA1-8C56-C6A729B945D0}"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6A99-BE29-49FE-96E4-5C0943F72CA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4342-F0F9-497E-947A-069D389ED72C}" type="datetime">
              <a:rPr b="0" lang="en-US" sz="1200" spc="-1" strike="noStrike">
                <a:solidFill>
                  <a:srgbClr val="ffffff"/>
                </a:solidFill>
                <a:latin typeface="Verdana"/>
              </a:rPr>
              <a:t>07/29/26</a:t>
            </a:fld>
            <a:r>
              <a:rPr b="0" lang="en-US" sz="1200" spc="-1" strike="noStrike">
                <a:solidFill>
                  <a:srgbClr val="ffffff"/>
                </a:solidFill>
                <a:latin typeface="Verdana"/>
              </a:rPr>
              <a:t> </a:t>
            </a:r>
            <a:fld id="{3B9E3861-86E0-4706-8786-3922182226EE}"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98FA-9D1A-48C8-930C-22BAAF7ECEB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707F-2FBD-4992-B52D-DF5266AA462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7B56-099F-499A-92E5-9D4092997284}" type="datetime">
              <a:rPr b="0" lang="en-US" sz="1200" spc="-1" strike="noStrike">
                <a:solidFill>
                  <a:srgbClr val="ffffff"/>
                </a:solidFill>
                <a:latin typeface="Verdana"/>
              </a:rPr>
              <a:t>07/29/26</a:t>
            </a:fld>
            <a:r>
              <a:rPr b="0" lang="en-US" sz="1200" spc="-1" strike="noStrike">
                <a:solidFill>
                  <a:srgbClr val="ffffff"/>
                </a:solidFill>
                <a:latin typeface="Verdana"/>
              </a:rPr>
              <a:t> </a:t>
            </a:r>
            <a:fld id="{C61E5E25-58EA-4AE8-AA53-526668A9977B}"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5448-2C3E-4E3B-81AC-623D4EC6A72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7793-57D8-4E55-B705-73FBE43579B9}" type="datetime">
              <a:rPr b="0" lang="en-US" sz="1200" spc="-1" strike="noStrike">
                <a:solidFill>
                  <a:srgbClr val="ffffff"/>
                </a:solidFill>
                <a:latin typeface="Verdana"/>
              </a:rPr>
              <a:t>07/29/26</a:t>
            </a:fld>
            <a:r>
              <a:rPr b="0" lang="en-US" sz="1200" spc="-1" strike="noStrike">
                <a:solidFill>
                  <a:srgbClr val="ffffff"/>
                </a:solidFill>
                <a:latin typeface="Verdana"/>
              </a:rPr>
              <a:t> </a:t>
            </a:r>
            <a:fld id="{2F0F8CE0-230E-496B-8E37-50E4EC73C807}"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4B29-F731-4D23-B21E-33D21849ABF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3B6C-4322-479E-975D-467C2DA61A70}" type="datetime">
              <a:rPr b="0" lang="en-US" sz="1200" spc="-1" strike="noStrike">
                <a:solidFill>
                  <a:srgbClr val="ffffff"/>
                </a:solidFill>
                <a:latin typeface="Verdana"/>
              </a:rPr>
              <a:t>07/29/26</a:t>
            </a:fld>
            <a:r>
              <a:rPr b="0" lang="en-US" sz="1200" spc="-1" strike="noStrike">
                <a:solidFill>
                  <a:srgbClr val="ffffff"/>
                </a:solidFill>
                <a:latin typeface="Verdana"/>
              </a:rPr>
              <a:t> </a:t>
            </a:r>
            <a:fld id="{16ABBFBE-ECB9-4883-A584-1165429C99D6}"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B0B7-C99C-463A-BCBF-A207A0C8B9E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682D-2010-4A59-AE8A-9984534619A0}" type="datetime">
              <a:rPr b="0" lang="en-US" sz="1200" spc="-1" strike="noStrike">
                <a:solidFill>
                  <a:srgbClr val="ffffff"/>
                </a:solidFill>
                <a:latin typeface="Verdana"/>
              </a:rPr>
              <a:t>07/29/26</a:t>
            </a:fld>
            <a:r>
              <a:rPr b="0" lang="en-US" sz="1200" spc="-1" strike="noStrike">
                <a:solidFill>
                  <a:srgbClr val="ffffff"/>
                </a:solidFill>
                <a:latin typeface="Verdana"/>
              </a:rPr>
              <a:t> </a:t>
            </a:r>
            <a:fld id="{0205B565-DED5-4681-A5FC-64060E63E17A}"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85EB-5176-46AB-A005-F391AC749E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5D6C-288E-4958-A381-C92F138B6A93}" type="datetime">
              <a:rPr b="0" lang="en-US" sz="1200" spc="-1" strike="noStrike">
                <a:solidFill>
                  <a:srgbClr val="ffffff"/>
                </a:solidFill>
                <a:latin typeface="Verdana"/>
              </a:rPr>
              <a:t>07/29/26</a:t>
            </a:fld>
            <a:r>
              <a:rPr b="0" lang="en-US" sz="1200" spc="-1" strike="noStrike">
                <a:solidFill>
                  <a:srgbClr val="ffffff"/>
                </a:solidFill>
                <a:latin typeface="Verdana"/>
              </a:rPr>
              <a:t> </a:t>
            </a:r>
            <a:fld id="{17D4F06C-391E-47B6-ACEE-0764DC3DF016}"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03DE-2EAC-4583-AEC4-98464DB4772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513D-7972-46BB-9903-D638208ADB57}" type="datetime">
              <a:rPr b="0" lang="en-US" sz="1200" spc="-1" strike="noStrike">
                <a:solidFill>
                  <a:srgbClr val="ffffff"/>
                </a:solidFill>
                <a:latin typeface="Verdana"/>
              </a:rPr>
              <a:t>07/29/26</a:t>
            </a:fld>
            <a:r>
              <a:rPr b="0" lang="en-US" sz="1200" spc="-1" strike="noStrike">
                <a:solidFill>
                  <a:srgbClr val="ffffff"/>
                </a:solidFill>
                <a:latin typeface="Verdana"/>
              </a:rPr>
              <a:t> </a:t>
            </a:r>
            <a:fld id="{4043ECD8-C66A-4A62-8A75-C874CB360AA3}"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F4F8-7EE7-4B1D-A613-454E5435C5D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2D6B-81DB-492D-A375-B3F15FFFA25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FBAD-229F-4AE5-9361-674398BC3C1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9396-B6E6-4F32-B7E7-2F46952E871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58AB-08C4-4717-817F-DB3B24EAC8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9901-7D33-4601-9884-8FA2D2FC168A}" type="datetime">
              <a:rPr b="0" lang="en-US" sz="1200" spc="-1" strike="noStrike">
                <a:solidFill>
                  <a:srgbClr val="ffffff"/>
                </a:solidFill>
                <a:latin typeface="Verdana"/>
              </a:rPr>
              <a:t>07/29/26</a:t>
            </a:fld>
            <a:r>
              <a:rPr b="0" lang="en-US" sz="1200" spc="-1" strike="noStrike">
                <a:solidFill>
                  <a:srgbClr val="ffffff"/>
                </a:solidFill>
                <a:latin typeface="Verdana"/>
              </a:rPr>
              <a:t> </a:t>
            </a:r>
            <a:fld id="{BEFAC77D-A0C6-4057-BDA1-BAED8BD649A7}"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EB3A-CB60-450D-8226-8FF8D77435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96F6-2266-4735-B3A2-2EE6DC9E295D}" type="datetime">
              <a:rPr b="0" lang="en-US" sz="1200" spc="-1" strike="noStrike">
                <a:solidFill>
                  <a:srgbClr val="ffffff"/>
                </a:solidFill>
                <a:latin typeface="Verdana"/>
              </a:rPr>
              <a:t>07/29/26</a:t>
            </a:fld>
            <a:r>
              <a:rPr b="0" lang="en-US" sz="1200" spc="-1" strike="noStrike">
                <a:solidFill>
                  <a:srgbClr val="ffffff"/>
                </a:solidFill>
                <a:latin typeface="Verdana"/>
              </a:rPr>
              <a:t> </a:t>
            </a:r>
            <a:fld id="{2CD887B9-433B-4D2A-8C16-8690DE5AAD6C}"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199A-2A72-4A91-BCBF-2881A5AAB3D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1455-F10D-4434-BFFC-2E3AA0B29826}" type="datetime">
              <a:rPr b="0" lang="en-US" sz="1200" spc="-1" strike="noStrike">
                <a:solidFill>
                  <a:srgbClr val="ffffff"/>
                </a:solidFill>
                <a:latin typeface="Verdana"/>
              </a:rPr>
              <a:t>07/29/26</a:t>
            </a:fld>
            <a:r>
              <a:rPr b="0" lang="en-US" sz="1200" spc="-1" strike="noStrike">
                <a:solidFill>
                  <a:srgbClr val="ffffff"/>
                </a:solidFill>
                <a:latin typeface="Verdana"/>
              </a:rPr>
              <a:t> </a:t>
            </a:r>
            <a:fld id="{7C60627F-9095-4C2C-BEC6-1AE82AF2831C}" type="datetime10">
              <a:rPr b="0" lang="en-US" sz="1200" spc="-1" strike="noStrike">
                <a:solidFill>
                  <a:srgbClr val="ffffff"/>
                </a:solidFill>
                <a:latin typeface="Verdana"/>
              </a:rPr>
              <a:t>17:55</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7896-B435-480C-89CF-D947A9F806C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370C8-FF97-4B6C-8A7F-BAC6AF40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5ADA-FD70-43E9-B2F5-0CA4A651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57FAE-BB0D-4187-B17C-C73B44280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57214-DC59-45DE-B008-5DE3CC8E2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7ED25-9660-47AC-92AC-6D8A7649F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0CC7E-144A-4D00-A5F8-28FB09782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9B178-E650-4308-A59D-6DB794945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48665-3172-44DA-8D48-991474F53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6A92C-A02A-4000-8A34-9D9AC10F7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3C255-2279-474A-9D1E-C4090AB72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6A309-F5BC-4F3D-B33A-E93D45FCC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64F88-26A3-4CCC-9716-201E1C3CF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37D1A-9AE3-471D-9E53-D2F0ED197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4FA7C-B7A4-4A03-8DED-0D3F438AD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26A16-B3A2-47C7-BBCA-AB2160796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7173B-FE87-42A3-B910-957492A47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AF76E-66CC-473A-B834-BFD8F2B94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F72D1-562B-4428-99DC-9FD8CB6D7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ED206-BC37-4F27-A5CC-10DA54647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01BA-DB96-48E9-8BBF-E7F4CC85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96547-180D-4380-9C9F-7310BE97F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C4C9-A17F-45AB-A38A-84F5868E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4D78-EE1A-4799-A39B-37F898B1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D43F-EE5D-4B7E-9177-EB88DF78C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B13A-D611-46C2-920D-F1E1956A6F1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4F50-82C2-4C8B-BDEA-9A1CD894FF3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6055-441A-4EF4-A9C9-C321B3650641}"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