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39E6-0B45-4DEB-B916-D6D9CE861D6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9442-C1D0-4ADA-BA38-0FFCEDF3189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78A1-0980-46B9-9591-B0F750A83547}" type="datetime">
              <a:rPr b="0" lang="en-US" sz="1200" spc="-1" strike="noStrike">
                <a:solidFill>
                  <a:srgbClr val="ffffff"/>
                </a:solidFill>
                <a:latin typeface="Verdana"/>
              </a:rPr>
              <a:t>07/30/26</a:t>
            </a:fld>
            <a:r>
              <a:rPr b="0" lang="en-US" sz="1200" spc="-1" strike="noStrike">
                <a:solidFill>
                  <a:srgbClr val="ffffff"/>
                </a:solidFill>
                <a:latin typeface="Verdana"/>
              </a:rPr>
              <a:t> </a:t>
            </a:r>
            <a:fld id="{CCFDA2C6-A418-45B2-8FDB-ED2E6930095A}"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59BB-F0D6-40F7-A0D3-1ED2ABB5C21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12347-FF6E-402A-9E53-3BB82F35B2B4}" type="datetime">
              <a:rPr b="0" lang="en-US" sz="1200" spc="-1" strike="noStrike">
                <a:solidFill>
                  <a:srgbClr val="ffffff"/>
                </a:solidFill>
                <a:latin typeface="Verdana"/>
              </a:rPr>
              <a:t>07/30/26</a:t>
            </a:fld>
            <a:r>
              <a:rPr b="0" lang="en-US" sz="1200" spc="-1" strike="noStrike">
                <a:solidFill>
                  <a:srgbClr val="ffffff"/>
                </a:solidFill>
                <a:latin typeface="Verdana"/>
              </a:rPr>
              <a:t> </a:t>
            </a:r>
            <a:fld id="{0459C380-0C53-4E36-87F6-FA6E2C2B94DF}"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5E2F-F901-4A14-A7AA-6D00E7FCD2C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E44EB-9763-456B-8344-18C21AA476D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56AB-3F2A-4843-A1AE-AA0F72A5498F}" type="datetime">
              <a:rPr b="0" lang="en-US" sz="1200" spc="-1" strike="noStrike">
                <a:solidFill>
                  <a:srgbClr val="ffffff"/>
                </a:solidFill>
                <a:latin typeface="Verdana"/>
              </a:rPr>
              <a:t>07/30/26</a:t>
            </a:fld>
            <a:r>
              <a:rPr b="0" lang="en-US" sz="1200" spc="-1" strike="noStrike">
                <a:solidFill>
                  <a:srgbClr val="ffffff"/>
                </a:solidFill>
                <a:latin typeface="Verdana"/>
              </a:rPr>
              <a:t> </a:t>
            </a:r>
            <a:fld id="{50D1262F-4C00-471B-84B8-A4A111CDC1D0}"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BAAE-0DAA-4418-B154-4873039BC8D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7B247-855D-4D1F-8AC3-2A0D917C7AC4}" type="datetime">
              <a:rPr b="0" lang="en-US" sz="1200" spc="-1" strike="noStrike">
                <a:solidFill>
                  <a:srgbClr val="ffffff"/>
                </a:solidFill>
                <a:latin typeface="Verdana"/>
              </a:rPr>
              <a:t>07/30/26</a:t>
            </a:fld>
            <a:r>
              <a:rPr b="0" lang="en-US" sz="1200" spc="-1" strike="noStrike">
                <a:solidFill>
                  <a:srgbClr val="ffffff"/>
                </a:solidFill>
                <a:latin typeface="Verdana"/>
              </a:rPr>
              <a:t> </a:t>
            </a:r>
            <a:fld id="{1CB33F1E-2560-4157-B502-29C4E7FE2B32}"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623D-A20D-4BD7-A20A-D0076155D26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53F60-1024-48F1-957D-A0BBF6DC71DE}" type="datetime">
              <a:rPr b="0" lang="en-US" sz="1200" spc="-1" strike="noStrike">
                <a:solidFill>
                  <a:srgbClr val="ffffff"/>
                </a:solidFill>
                <a:latin typeface="Verdana"/>
              </a:rPr>
              <a:t>07/30/26</a:t>
            </a:fld>
            <a:r>
              <a:rPr b="0" lang="en-US" sz="1200" spc="-1" strike="noStrike">
                <a:solidFill>
                  <a:srgbClr val="ffffff"/>
                </a:solidFill>
                <a:latin typeface="Verdana"/>
              </a:rPr>
              <a:t> </a:t>
            </a:r>
            <a:fld id="{33CF99A1-29B2-450A-9638-6FC40BDBF7C3}"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B742-9B02-4DBC-8828-C407EEB5169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817B-5A4D-4EEE-9FE2-471862877520}" type="datetime">
              <a:rPr b="0" lang="en-US" sz="1200" spc="-1" strike="noStrike">
                <a:solidFill>
                  <a:srgbClr val="ffffff"/>
                </a:solidFill>
                <a:latin typeface="Verdana"/>
              </a:rPr>
              <a:t>07/30/26</a:t>
            </a:fld>
            <a:r>
              <a:rPr b="0" lang="en-US" sz="1200" spc="-1" strike="noStrike">
                <a:solidFill>
                  <a:srgbClr val="ffffff"/>
                </a:solidFill>
                <a:latin typeface="Verdana"/>
              </a:rPr>
              <a:t> </a:t>
            </a:r>
            <a:fld id="{7532CDCC-F9F6-48EC-825C-FE4072EF4B93}"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2215-8051-4FAB-821E-763EBF11698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BA702-1C0C-4D9E-ACAB-B2C472F0D4F3}" type="datetime">
              <a:rPr b="0" lang="en-US" sz="1200" spc="-1" strike="noStrike">
                <a:solidFill>
                  <a:srgbClr val="ffffff"/>
                </a:solidFill>
                <a:latin typeface="Verdana"/>
              </a:rPr>
              <a:t>07/30/26</a:t>
            </a:fld>
            <a:r>
              <a:rPr b="0" lang="en-US" sz="1200" spc="-1" strike="noStrike">
                <a:solidFill>
                  <a:srgbClr val="ffffff"/>
                </a:solidFill>
                <a:latin typeface="Verdana"/>
              </a:rPr>
              <a:t> </a:t>
            </a:r>
            <a:fld id="{0E871CD0-F521-4ECF-A899-323596D46F26}"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9840-1FBD-4D05-91EC-E20B04CA527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FE81-6386-47A0-9B20-022817210FB0}" type="datetime">
              <a:rPr b="0" lang="en-US" sz="1200" spc="-1" strike="noStrike">
                <a:solidFill>
                  <a:srgbClr val="ffffff"/>
                </a:solidFill>
                <a:latin typeface="Verdana"/>
              </a:rPr>
              <a:t>07/30/26</a:t>
            </a:fld>
            <a:r>
              <a:rPr b="0" lang="en-US" sz="1200" spc="-1" strike="noStrike">
                <a:solidFill>
                  <a:srgbClr val="ffffff"/>
                </a:solidFill>
                <a:latin typeface="Verdana"/>
              </a:rPr>
              <a:t> </a:t>
            </a:r>
            <a:fld id="{2EA91F7F-A726-4CBA-AC67-72550001D005}"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2492-C642-42F4-8F2C-EF9D305BAE2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1B7A-94D2-43AC-8716-8D7DFC2751B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6362-CA03-427F-B163-10574FD8C96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74E1-C121-46BE-8AA9-A9D64177F12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3DA20-1742-4C28-9880-BC28C072E48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71D0F-470C-4559-92D4-BA058EB3B362}" type="datetime">
              <a:rPr b="0" lang="en-US" sz="1200" spc="-1" strike="noStrike">
                <a:solidFill>
                  <a:srgbClr val="ffffff"/>
                </a:solidFill>
                <a:latin typeface="Verdana"/>
              </a:rPr>
              <a:t>07/30/26</a:t>
            </a:fld>
            <a:r>
              <a:rPr b="0" lang="en-US" sz="1200" spc="-1" strike="noStrike">
                <a:solidFill>
                  <a:srgbClr val="ffffff"/>
                </a:solidFill>
                <a:latin typeface="Verdana"/>
              </a:rPr>
              <a:t> </a:t>
            </a:r>
            <a:fld id="{A752401A-481D-4B90-9872-3490D6492581}"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3BC7D-782A-44CE-BF1A-84C6657284B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8667-2815-4F9B-95D1-4776686D664C}" type="datetime">
              <a:rPr b="0" lang="en-US" sz="1200" spc="-1" strike="noStrike">
                <a:solidFill>
                  <a:srgbClr val="ffffff"/>
                </a:solidFill>
                <a:latin typeface="Verdana"/>
              </a:rPr>
              <a:t>07/30/26</a:t>
            </a:fld>
            <a:r>
              <a:rPr b="0" lang="en-US" sz="1200" spc="-1" strike="noStrike">
                <a:solidFill>
                  <a:srgbClr val="ffffff"/>
                </a:solidFill>
                <a:latin typeface="Verdana"/>
              </a:rPr>
              <a:t> </a:t>
            </a:r>
            <a:fld id="{24762D5F-26B4-497F-84BF-608F37818C77}"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4205-C763-4224-A6CA-009BE52441B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6629-E5C5-44DE-9A02-176199876B1E}" type="datetime">
              <a:rPr b="0" lang="en-US" sz="1200" spc="-1" strike="noStrike">
                <a:solidFill>
                  <a:srgbClr val="ffffff"/>
                </a:solidFill>
                <a:latin typeface="Verdana"/>
              </a:rPr>
              <a:t>07/30/26</a:t>
            </a:fld>
            <a:r>
              <a:rPr b="0" lang="en-US" sz="1200" spc="-1" strike="noStrike">
                <a:solidFill>
                  <a:srgbClr val="ffffff"/>
                </a:solidFill>
                <a:latin typeface="Verdana"/>
              </a:rPr>
              <a:t> </a:t>
            </a:r>
            <a:fld id="{53F711B1-2950-47CD-8A4D-C6545E8119D3}"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DAB6-BDAD-4EC9-BE77-8EB5004B201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A83F6-FA2A-4104-AA06-BD0DAEC8B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0CA9C-E6F6-4ECC-92E1-D77D8F5A5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C6A28-4146-46B6-BF1C-5B2C08B0A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13DAB-9665-435B-B409-0C0521183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2514D6-4446-4379-BDD4-E2CB247B72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BD40D-F502-4D49-B4F3-7072E2BE0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62FFC-862B-4DC5-91A4-F47600481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67B2B-2445-4C70-8E7C-C81E06B69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80E48-1533-4F47-A667-EAED2F72D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BDEE9-247E-4AF3-9871-05EB38EB9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0A4AF-3D5A-424E-9296-F077BE70B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7CDE2-71E6-405C-8967-20A9D8208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03817-184F-42EF-A4F0-943CF9461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B0749-013D-44A4-A0E0-CE532CF01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9B3CF-852E-4774-9028-88C21E478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64668-A22C-4FBB-A420-282007093C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EDF90A-FC64-465C-A5CE-B9EEC21C6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29262-FA8A-44AF-B21E-49F1C26A8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36942-559A-4B57-82F8-40B37EC4E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81CBD-9C51-4E29-ADC1-9114BF485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902E9-6A3A-4BFC-970C-09CCC67A2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443C1-FF2F-4CA6-96DE-76CF3B1BB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EB6DF-3C94-4B3F-8DB4-1FD1021C4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75457-5CE3-4AB1-BB16-EBF72E93E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9C64-C36F-4D31-913A-87BAD964CE3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176B-E843-43FA-B225-E5753CA00AD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C65E3-4DA1-4AD6-9C48-E353151407DB}"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