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A1EE4-8047-4AB4-8322-59AFAEFB5E04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8E563CB-DE74-405A-BEE2-46DCDAB97E43}" type="datetime10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7:4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98040" y="741240"/>
            <a:ext cx="534852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3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4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7CD87-9E0B-40FB-A5AF-68E102C2B03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D5844-43F5-4BE3-BA41-88D8FF8A28E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7A194-29D6-42E0-AD0C-1137E2CFB69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73E2C-652F-49A5-AB90-575442EDB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42607-5F23-44A9-B6A6-403D4DE2A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ADABC-46FF-48E3-A9E5-5767AF5C3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B1151-72C8-47EE-AE03-52E93A50A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645F9-8176-43C0-A87E-7AB5C04C0D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A6A08-E121-41DB-819B-F1BD8947E2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FA294-F340-4A68-8B9C-F38992149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E94CF-979E-4ECE-920B-97CB5E712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95398-BD00-4F1A-B417-2A8378ED0A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BEE19-6905-403B-9C41-EB519053D6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4E2EA-1DA3-4B33-A983-C02CEDD5B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595BF-58FB-4913-B978-A164BB81F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75720" y="6008760"/>
            <a:ext cx="49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2D93-F5B4-46A1-A4DA-B8BFD9B2D827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C9D8-2E9A-4FB1-91CD-252F7E65F961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19" descr="GDC Logo"/>
          <p:cNvPicPr/>
          <p:nvPr/>
        </p:nvPicPr>
        <p:blipFill>
          <a:blip r:embed="rId6"/>
          <a:stretch/>
        </p:blipFill>
        <p:spPr>
          <a:xfrm>
            <a:off x="8601120" y="33804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7"/>
          <p:cNvSpPr/>
          <p:nvPr/>
        </p:nvSpPr>
        <p:spPr>
          <a:xfrm>
            <a:off x="304920" y="304920"/>
            <a:ext cx="9242280" cy="6208560"/>
          </a:xfrm>
          <a:prstGeom prst="roundRect">
            <a:avLst>
              <a:gd name="adj" fmla="val 338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1981080" y="304812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56080" y="4724280"/>
            <a:ext cx="32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 of Water Sector Re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i House, Ngong Roa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.O.Box 19512-002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8596-7758-47F1-BF4B-3447623EBDC2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3dflagsdotcom_kenya_2fawm"/>
          <p:cNvPicPr/>
          <p:nvPr/>
        </p:nvPicPr>
        <p:blipFill>
          <a:blip r:embed="rId6"/>
          <a:stretch/>
        </p:blipFill>
        <p:spPr>
          <a:xfrm>
            <a:off x="8221680" y="76320"/>
            <a:ext cx="16272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5682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nistry of Water and Irrig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irectorate of Water Sector Re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of sector refor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0</a:t>
            </a:r>
            <a:endParaRPr b="1" lang="en-US" sz="2000" spc="-1" strike="noStrike">
              <a:solidFill>
                <a:srgbClr val="003a67"/>
              </a:solidFill>
              <a:latin typeface="Arial"/>
            </a:endParaRPr>
          </a:p>
        </p:txBody>
      </p:sp>
      <p:pic>
        <p:nvPicPr>
          <p:cNvPr id="149" name="Picture 37" descr="~AUT0000"/>
          <p:cNvPicPr/>
          <p:nvPr/>
        </p:nvPicPr>
        <p:blipFill>
          <a:blip r:embed="rId1"/>
          <a:stretch/>
        </p:blipFill>
        <p:spPr>
          <a:xfrm>
            <a:off x="3598920" y="457200"/>
            <a:ext cx="2192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The current situation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04920" y="1600200"/>
            <a:ext cx="93726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reforms that commenced in 2004 based on the Water Act 2002 are progressing well creating the intended impacts that included increased access/coverage, professionalizing sector management, stakeholder participation and pro poor orientation both in rural and urba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various sector institutions are progressively taking charge of their respective mandates and carrying their roles effectively albeit with challeng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players are embracing and appreciating the new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WI is increasingly concentrating on policy formulation, sector coordination, oversight and resource mobilization; WRMA on water resources management, WASREB on regulation of WSS, WSTF on pro poor funding in rural, urban and peri urban settings; WSBs on investment planning and development; WSPs on provision of W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transfer plan has since been revised, approved and awaits circulation. Key outstanding issues addressed in the revised transfer plan include transfer of assets and liabilities; complete de-linking of human resources to the respective sector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Progress during the last one year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304920" y="1600200"/>
            <a:ext cx="92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S assets from all WSBs have now been documented and valued, Cabinet memorandum prepared and ready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Is Pension Scheme registered and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adline for HR delinking set for Jun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confidence in sector reform confirmed by increased financial commitments by development (i.e ADB, KfW) and government (sector budget now over Kshs. 30 bill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velopment of secondary legislation including water rules, governance guidelin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focus on human right to water eg continued formalization of service provision in urban and peri urban set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Impact report on the water services sector performanc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formation briefs published and issued by the WSRS to clarify and elaborate critic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powerment of right holders eg W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920" y="1676520"/>
            <a:ext cx="929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-aligning the Water Act 2002 to the provisions of the New Con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stainability/viability of several sector institutions at national, regional and local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munication within and outside the sector still inadequ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Governance challenge has given the sector negative publicity eg appointment of board members, misuse of fund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institutional capacities eg. laboratories at treatment, sustainable metering management capacity,  financial management at WSBs and WSPs levels, customer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skills and competencies in the sector eg. chemists, plant mechanics, customer care, finance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ng fencing of sector revenues (lease fees, DWO allocations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ligning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nalize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funding of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Next step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676520"/>
            <a:ext cx="944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sk force in place preparing amendments to the Water Act 2002 to complete by Dec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luster WSPs based on viability criteria and county gover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organization of WRMA to separate regulation and implementation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to progressively sustain enforcement of governance guidelines and public reporting by al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 communication promote reporting to public, stakeholder forums, pro active media briefing, publicize the gains/successes of reforms, issue communication brief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rry out capacity needs assessment, both institutional, for the sector (incl WSIs) and propose ac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plete asset re-assignment and gradually outlaw lease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 with Treasury to realign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plement recommendations on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 funding for the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0:10:19Z</dcterms:created>
  <dc:creator>ralf.wegener</dc:creator>
  <dc:description/>
  <dc:language>en-US</dc:language>
  <cp:lastModifiedBy>Administrator</cp:lastModifiedBy>
  <cp:lastPrinted>2000-11-03T14:33:29Z</cp:lastPrinted>
  <dcterms:modified xsi:type="dcterms:W3CDTF">2010-10-19T05:40:23Z</dcterms:modified>
  <cp:revision>220</cp:revision>
  <dc:subject/>
  <dc:title> Study </dc:title>
</cp:coreProperties>
</file>