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0255-DCCF-4D8B-8406-47D87F3797DE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8D6C-7D20-4B3C-BA1D-6C0B2FB4AF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6D04-233E-4DF5-9F92-70F99F3BB7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2E56-D4A6-4444-908B-BB9ED348AD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5EB8-9455-4D53-BBB9-9A87FC17E5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66CF-69B0-44AD-AA4C-4C3433E2F3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2F1C-F3CF-4093-8390-A2BA7AC6E5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FC44-8838-439D-898B-5447EA47B6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8859-9AB8-4801-A9CC-434873281B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AE61-5F12-40D6-9FF9-DC186DC821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4497-E175-4B7A-8FE1-027C3A6925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C301-ACF7-4957-BABB-E12DCD405F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ica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a unit of measurement, used to describe a situation, monitor the evolution of a situation or measure achievements against an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measurement may be based on quantitative or qualitativ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ar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performance standard to be reached; the concrete translation of an objective, expressed by means of an indicator (possibly expressed against a baseline) associated with a point in time (by which the target is expected to be reach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key step in the process of developing or implementing a policy, programme o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adoption of a policy, law or regulation, establishment of a coordination structure, restructuring of an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lisation/completion of a milestone is a way of measuring progress towards an objective but it is not a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9CBC-6208-4F2D-B6C7-258EA1A168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3E46-88E3-457E-9572-F49216B82D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09D9-C75A-40E9-8F17-3FE5700567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5CC0-05DE-4510-A83B-232F1AE7ED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2267-47BD-471C-AC17-3701009824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7BDF-5957-4DA1-8D15-EE9199DFDD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F9A5-BDF7-450C-803F-070E1EF286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8D88-16F5-4551-9A7E-84A9E10F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E330-1DD5-4E64-8F46-D852EC31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CDB-AF85-4492-A250-688BCEC2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406F-4980-4CAF-A7E3-D5EEB71B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1177-3646-458B-BD06-5ABFE8A8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94AC-0764-4DC4-B8C3-EA01ABAA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7DC9-6D20-4876-B945-A4F42F27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01B5-9748-401C-B2DF-71DD1879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0214-1537-4882-95CE-5AA83F93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291F-F7F4-4679-B3C8-06A728B8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5D83-F0D8-447B-8AD9-0B78572D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4D8-DF6D-493E-BA57-898A726D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AD1F-DA2B-45D1-A5E9-787B753C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BF1C-D597-4DB2-818E-D6B1BEBD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29CB-8644-48B9-92BF-BEF1C001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C233-FB1E-476B-B944-329568D5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A6C0-490E-445F-B3AD-02D9BE43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FA8-1A14-4686-9D57-413DBBA9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5582-37EB-4230-9BD1-4C14C06F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2D8-CCDC-4381-877B-FF396378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1E47-8B35-421D-BC60-0564E04B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6DA-CE70-473D-9EE6-2B62C4C8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64A-A36E-42A0-8B48-048800D4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F8DD-B5A0-4815-AF06-5F339450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266C-9410-40B0-916C-9B2369B89B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1F76-EC71-4B58-97B1-C6BFCA2CA99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856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8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country 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nitoring system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24BF-3EFC-4CD1-8006-58ABB8C59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419640" y="3141720"/>
            <a:ext cx="2232000" cy="33732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Rounded Rectangular Callout 5"/>
          <p:cNvSpPr/>
          <p:nvPr/>
        </p:nvSpPr>
        <p:spPr>
          <a:xfrm>
            <a:off x="755640" y="1700280"/>
            <a:ext cx="1981080" cy="83988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cy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Rounded Rectangular Callout 6"/>
          <p:cNvSpPr/>
          <p:nvPr/>
        </p:nvSpPr>
        <p:spPr>
          <a:xfrm>
            <a:off x="6300720" y="170028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itutional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le 11"/>
          <p:cNvSpPr/>
          <p:nvPr/>
        </p:nvSpPr>
        <p:spPr>
          <a:xfrm>
            <a:off x="152280" y="2708280"/>
            <a:ext cx="3081600" cy="3692520"/>
          </a:xfrm>
          <a:custGeom>
            <a:avLst/>
            <a:gdLst>
              <a:gd name="textAreaLeft" fmla="*/ 150120 w 3081600"/>
              <a:gd name="textAreaRight" fmla="*/ 2931480 w 3081600"/>
              <a:gd name="textAreaTop" fmla="*/ 150120 h 3692520"/>
              <a:gd name="textAreaBottom" fmla="*/ 3542400 h 3692520"/>
            </a:gdLst>
            <a:ahLst/>
            <a:rect l="textAreaLeft" t="textAreaTop" r="textAreaRight" b="textAreaBottom"/>
            <a:pathLst>
              <a:path w="21600" h="25882">
                <a:moveTo>
                  <a:pt x="3600" y="0"/>
                </a:moveTo>
                <a:arcTo wR="3600" hR="3600" stAng="16200000" swAng="-5400000"/>
                <a:lnTo>
                  <a:pt x="0" y="22282"/>
                </a:lnTo>
                <a:arcTo wR="3600" hR="3600" stAng="10800000" swAng="-5400000"/>
                <a:lnTo>
                  <a:pt x="18000" y="258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tegration of environment/climate change considerations in national &amp; sector policies/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adaptation- &amp; mitigation-oriented policies &amp; plans (e.g. DRR, REDD </a:t>
            </a: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ateg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environment-specific policies &amp; plans (e.g. IWRM, biodiversit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le 12"/>
          <p:cNvSpPr/>
          <p:nvPr/>
        </p:nvSpPr>
        <p:spPr>
          <a:xfrm>
            <a:off x="5867280" y="2781360"/>
            <a:ext cx="2971800" cy="367344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673440"/>
              <a:gd name="textAreaBottom" fmla="*/ 3528360 h 3673440"/>
            </a:gdLst>
            <a:ahLst/>
            <a:rect l="textAreaLeft" t="textAreaTop" r="textAreaRight" b="textAreaBottom"/>
            <a:pathLst>
              <a:path w="21600" h="26699">
                <a:moveTo>
                  <a:pt x="3600" y="0"/>
                </a:moveTo>
                <a:arcTo wR="3600" hR="3600" stAng="16200000" swAng="-5400000"/>
                <a:lnTo>
                  <a:pt x="0" y="23099"/>
                </a:lnTo>
                <a:arcTo wR="3600" hR="3600" stAng="10800000" swAng="-5400000"/>
                <a:lnTo>
                  <a:pt x="18000" y="26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olitical leadership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stitutional commit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oordination &amp; participatory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ced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apacity building program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Cloud Callout 8"/>
          <p:cNvSpPr/>
          <p:nvPr/>
        </p:nvSpPr>
        <p:spPr>
          <a:xfrm>
            <a:off x="2705040" y="5257800"/>
            <a:ext cx="3733920" cy="1511280"/>
          </a:xfrm>
          <a:prstGeom prst="cloudCallout">
            <a:avLst>
              <a:gd name="adj1" fmla="val 3097"/>
              <a:gd name="adj2" fmla="val -124351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mainstreaming getting institutionalised at all levels?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95C4-1BC6-432C-B60B-C95DE3E9B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492360" y="3860640"/>
            <a:ext cx="230364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5"/>
          <p:cNvSpPr/>
          <p:nvPr/>
        </p:nvSpPr>
        <p:spPr>
          <a:xfrm>
            <a:off x="539640" y="2205000"/>
            <a:ext cx="2133720" cy="838080"/>
          </a:xfrm>
          <a:prstGeom prst="wedgeRoundRectCallout">
            <a:avLst>
              <a:gd name="adj1" fmla="val 116305"/>
              <a:gd name="adj2" fmla="val 126027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mplementation (inputs, outputs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6"/>
          <p:cNvSpPr/>
          <p:nvPr/>
        </p:nvSpPr>
        <p:spPr>
          <a:xfrm>
            <a:off x="5940360" y="1916280"/>
            <a:ext cx="1979640" cy="838080"/>
          </a:xfrm>
          <a:prstGeom prst="wedgeRoundRectCallout">
            <a:avLst>
              <a:gd name="adj1" fmla="val -75393"/>
              <a:gd name="adj2" fmla="val 15375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utcomes, impa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le 11"/>
          <p:cNvSpPr/>
          <p:nvPr/>
        </p:nvSpPr>
        <p:spPr>
          <a:xfrm>
            <a:off x="533520" y="3213000"/>
            <a:ext cx="2700360" cy="334008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3340080"/>
              <a:gd name="textAreaBottom" fmla="*/ 3208320 h 3340080"/>
            </a:gdLst>
            <a:ahLst/>
            <a:rect l="textAreaLeft" t="textAreaTop" r="textAreaRight" b="textAreaBottom"/>
            <a:pathLst>
              <a:path w="21600" h="26716">
                <a:moveTo>
                  <a:pt x="3600" y="0"/>
                </a:moveTo>
                <a:arcTo wR="3600" hR="3600" stAng="16200000" swAng="-5400000"/>
                <a:lnTo>
                  <a:pt x="0" y="23116"/>
                </a:lnTo>
                <a:arcTo wR="3600" hR="3600" stAng="10800000" swAng="-5400000"/>
                <a:lnTo>
                  <a:pt x="18000" y="26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allocation of resour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(Inclusion of) environment/climate change (measures in) programmes/proje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mplementation &amp; enforcement of environment/climate change measures &amp; regula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le 12"/>
          <p:cNvSpPr/>
          <p:nvPr/>
        </p:nvSpPr>
        <p:spPr>
          <a:xfrm>
            <a:off x="5943600" y="2852640"/>
            <a:ext cx="3124080" cy="370044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3700440"/>
              <a:gd name="textAreaBottom" fmla="*/ 3548160 h 3700440"/>
            </a:gdLst>
            <a:ahLst/>
            <a:rect l="textAreaLeft" t="textAreaTop" r="textAreaRight" b="textAreaBottom"/>
            <a:pathLst>
              <a:path w="21600" h="25585">
                <a:moveTo>
                  <a:pt x="3600" y="0"/>
                </a:moveTo>
                <a:arcTo wR="3600" hR="3600" stAng="16200000" swAng="-5400000"/>
                <a:lnTo>
                  <a:pt x="0" y="21985"/>
                </a:lnTo>
                <a:arcTo wR="3600" hR="3600" stAng="10800000" swAng="-5400000"/>
                <a:lnTo>
                  <a:pt x="18000" y="25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Reduced environmental degradation and its incidence on poverty/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vulnerable groups (women, children, farmers, coastal communities, ...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key secto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growth, </a:t>
            </a:r>
            <a:br>
              <a:rPr sz="1400"/>
            </a:b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job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Environmentally sustainable, climate-resilient, low-emission 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Cloud Callout 8"/>
          <p:cNvSpPr/>
          <p:nvPr/>
        </p:nvSpPr>
        <p:spPr>
          <a:xfrm>
            <a:off x="2666880" y="5162400"/>
            <a:ext cx="3810240" cy="1619280"/>
          </a:xfrm>
          <a:prstGeom prst="cloudCallout">
            <a:avLst>
              <a:gd name="adj1" fmla="val 4458"/>
              <a:gd name="adj2" fmla="val -7815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Does the mainstreaming process produce results and impacts?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4000" y="256500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assessment frameworks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d budget suppor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E72B-62CF-4744-B276-981BFE710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f5494"/>
                </a:solidFill>
                <a:latin typeface="Verdana"/>
              </a:rPr>
              <a:t>Role of PAFs in relation to budget support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4920" y="2349000"/>
            <a:ext cx="83818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gress measured against the PAF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 criteria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 targets provides opportunities for policy dialogue in the context of budget supp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reasingly, the PAF associated with development and poverty reduction strategies is likely to include indicators and targets associated with environmental sustainability, climate change adaptation, disaster risk reduction, energy efficiency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the case of EC budget support, performance against a chosen sub-set of criteria and targets also determines the final amount of disburs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FE87-9908-4D86-8596-3D16246C8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4920" y="2491920"/>
            <a:ext cx="8534520" cy="2057400"/>
          </a:xfrm>
          <a:prstGeom prst="rect">
            <a:avLst/>
          </a:prstGeom>
          <a:solidFill>
            <a:srgbClr val="f8fbfc"/>
          </a:solidFill>
          <a:ln w="25560">
            <a:solidFill>
              <a:srgbClr val="0f5494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Discussion and action plan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B98B-A05C-4D61-8449-43158C962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DBFF-4C6F-408A-AFB3-07CAD803A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ed Rectangle 4"/>
          <p:cNvSpPr/>
          <p:nvPr/>
        </p:nvSpPr>
        <p:spPr>
          <a:xfrm>
            <a:off x="1908000" y="4292640"/>
            <a:ext cx="5410440" cy="194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hat can be done and what are the institutional and capacity needs in your country/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1844280"/>
            <a:ext cx="8713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monitoring, and monitoring of responses for environmental sustainability and climate change, should be integrated into existing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is is a key aspect of the mainstreaming proces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ultiple aspects can be subject to monitor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state of environmental variables closely linked to poverty and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limate variability and change and their impa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hanges in policies and institu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mplementation and outcomes of adaptation and mitigation measur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519C-46C5-43A1-BE1F-FDC8827A0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World Bank report 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ainstreaming Adaptation to Climate Change in Agriculture and Natural Resources Management Projec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climatechange.worldbank.org/content/mainstreaming-adaptation-climate-change-agriculture-and-natural-resources-management-projec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opean Commission Guidance on the Integration of Environment and Climate Change in Development Cooper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europeaid/infopoint/publications/europeaid/172a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DE79-4D24-47A4-8BA6-4F5CC99AE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133360"/>
            <a:ext cx="7924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4) Project Cycle Management Guidelines. Aid Delivery Methods series, Volume 1. European Commission, Brussel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ec.europa.eu/europeaid/infopoint/publications/europeaid/documents/49a_adm_pcm_guidelines_2004_en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9) Guidance on Integration of the Environment and Climate Change in Development Cooperation. EuropeAid Tools and Methods Series Guidelines No. 4, Brussels. Available from: http://ec.europa.eu/europeaid/infopoint/publications/europeaid/172a_en.htm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ECD (2002) Glossary of Key Terms in Evaluation and Results Based Management. OECD Publishing, Pari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www.oecd.org/dataoecd/29/21/2754804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47F0-6F2F-4E9A-A979-3EF9D3A95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measurement and monitoring: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Key concept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474F-9FC7-4CAB-AE8B-92E70CB97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bjectives and related indicators/mileston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58920" y="1773360"/>
            <a:ext cx="297180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Hierarchy of objectiv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292720" y="1773360"/>
            <a:ext cx="2971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Progress measur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295280" y="257976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all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95280" y="349416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Specific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295280" y="4405320"/>
            <a:ext cx="2971800" cy="39888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termediate resul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295280" y="5319720"/>
            <a:ext cx="2971800" cy="39888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257800" y="257652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ac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257800" y="349092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come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257800" y="4253040"/>
            <a:ext cx="2971800" cy="70380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257800" y="5167440"/>
            <a:ext cx="2971800" cy="70380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3"/>
          <p:cNvCxnSpPr>
            <a:stCxn id="105" idx="0"/>
            <a:endCxn id="104" idx="2"/>
          </p:cNvCxnSpPr>
          <p:nvPr/>
        </p:nvCxnSpPr>
        <p:spPr>
          <a:xfrm flipV="1">
            <a:off x="2778480" y="480456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1" name="Straight Arrow Connector 17"/>
          <p:cNvCxnSpPr>
            <a:stCxn id="104" idx="0"/>
            <a:endCxn id="103" idx="2"/>
          </p:cNvCxnSpPr>
          <p:nvPr/>
        </p:nvCxnSpPr>
        <p:spPr>
          <a:xfrm flipV="1">
            <a:off x="2778480" y="3893760"/>
            <a:ext cx="3960" cy="5119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2" name="Straight Arrow Connector 19"/>
          <p:cNvCxnSpPr>
            <a:stCxn id="103" idx="0"/>
            <a:endCxn id="102" idx="2"/>
          </p:cNvCxnSpPr>
          <p:nvPr/>
        </p:nvCxnSpPr>
        <p:spPr>
          <a:xfrm flipV="1">
            <a:off x="2778480" y="297900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3" name="Straight Arrow Connector 21"/>
          <p:cNvCxnSpPr>
            <a:stCxn id="109" idx="1"/>
            <a:endCxn id="105" idx="3"/>
          </p:cNvCxnSpPr>
          <p:nvPr/>
        </p:nvCxnSpPr>
        <p:spPr>
          <a:xfrm flipH="1" flipV="1">
            <a:off x="4266720" y="55195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4" name="Straight Arrow Connector 25"/>
          <p:cNvCxnSpPr>
            <a:stCxn id="108" idx="1"/>
            <a:endCxn id="104" idx="3"/>
          </p:cNvCxnSpPr>
          <p:nvPr/>
        </p:nvCxnSpPr>
        <p:spPr>
          <a:xfrm flipH="1" flipV="1">
            <a:off x="4266720" y="46051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5" name="Straight Arrow Connector 27"/>
          <p:cNvCxnSpPr>
            <a:stCxn id="107" idx="1"/>
            <a:endCxn id="103" idx="3"/>
          </p:cNvCxnSpPr>
          <p:nvPr/>
        </p:nvCxnSpPr>
        <p:spPr>
          <a:xfrm flipH="1">
            <a:off x="4266720" y="36910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6" name="Straight Arrow Connector 29"/>
          <p:cNvCxnSpPr>
            <a:stCxn id="106" idx="1"/>
            <a:endCxn id="102" idx="3"/>
          </p:cNvCxnSpPr>
          <p:nvPr/>
        </p:nvCxnSpPr>
        <p:spPr>
          <a:xfrm flipH="1">
            <a:off x="4266720" y="27766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17" name="Left Brace 30"/>
          <p:cNvSpPr/>
          <p:nvPr/>
        </p:nvSpPr>
        <p:spPr>
          <a:xfrm>
            <a:off x="884160" y="4275000"/>
            <a:ext cx="335160" cy="1600200"/>
          </a:xfrm>
          <a:custGeom>
            <a:avLst/>
            <a:gdLst>
              <a:gd name="textAreaLeft" fmla="*/ 214200 w 335160"/>
              <a:gd name="textAreaRight" fmla="*/ 335520 w 335160"/>
              <a:gd name="textAreaTop" fmla="*/ 8640 h 1600200"/>
              <a:gd name="textAreaBottom" fmla="*/ 15915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"/>
                  <a:pt x="10800" y="377"/>
                </a:cubicBezTo>
                <a:lnTo>
                  <a:pt x="10800" y="10423"/>
                </a:lnTo>
                <a:cubicBezTo>
                  <a:pt x="10800" y="10612"/>
                  <a:pt x="5400" y="10800"/>
                  <a:pt x="0" y="10800"/>
                </a:cubicBezTo>
                <a:cubicBezTo>
                  <a:pt x="5400" y="10800"/>
                  <a:pt x="10800" y="10989"/>
                  <a:pt x="10800" y="11177"/>
                </a:cubicBezTo>
                <a:lnTo>
                  <a:pt x="10800" y="21223"/>
                </a:lnTo>
                <a:cubicBezTo>
                  <a:pt x="10800" y="2141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Left Brace 31"/>
          <p:cNvSpPr/>
          <p:nvPr/>
        </p:nvSpPr>
        <p:spPr>
          <a:xfrm>
            <a:off x="914400" y="2425680"/>
            <a:ext cx="287280" cy="16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620720"/>
              <a:gd name="textAreaBottom" fmla="*/ 1613520 h 16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0"/>
                  <a:pt x="10800" y="319"/>
                </a:cubicBezTo>
                <a:lnTo>
                  <a:pt x="10800" y="10481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60"/>
                  <a:pt x="10800" y="11119"/>
                </a:cubicBezTo>
                <a:lnTo>
                  <a:pt x="10800" y="21281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457200" y="1989000"/>
            <a:ext cx="304920" cy="2040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Outco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457200" y="4273560"/>
            <a:ext cx="304920" cy="17974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0" y="6550200"/>
            <a:ext cx="42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EC (2004), OECD (2002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858000" y="654516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1937-F0A7-4164-9C54-C09C5E00B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MART indicators and targe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F9F8-4A71-426C-8E03-9FF6EA376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304920" y="2060640"/>
            <a:ext cx="86868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ors and targets should be: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S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pecific to the related objectiv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surable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vailable at a reasonable cos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evant to information needs of decision maker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T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ime-bound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495680" y="647712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EC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2492280"/>
            <a:ext cx="8534160" cy="1981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 environment and climate change in monitoring systems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549F-1AFD-488A-9226-70B74A24F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What should be monitored, and why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1451-F3E2-49AA-8552-954B0B0E1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989000"/>
          <a:ext cx="8686800" cy="4638960"/>
        </p:xfrm>
        <a:graphic>
          <a:graphicData uri="http://schemas.openxmlformats.org/drawingml/2006/table">
            <a:tbl>
              <a:tblPr/>
              <a:tblGrid>
                <a:gridCol w="4038480"/>
                <a:gridCol w="4648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pect to monit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tionale for monitor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s in environmental parameters that influence poverty/development in a significant mann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-informed as possible to take opportunities to enhance effects on poverty reduction and revert adverse trend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mate variability and change, impacts and vulnera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 informed as poss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adaptive manage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and institutional chan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e the institutionalisation of environmental and climate change mainstream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 transparency and accountability of the mainstreaming proces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/Strategy implementation and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ngthen commitment to the objectives set in policies and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mulate the achievement of tangible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nvironment and climate change in the national development monitoring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708280"/>
            <a:ext cx="85341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change monitoring should be integrated into wider national and specific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Verdana"/>
              </a:rPr>
              <a:t>=&gt;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Strengthen and adapt existing monitoring systems (incl. statistical systems) to integrate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uild on existing institutions and sources of information..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... but adapt statistical systems and data 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2995-9D6C-4AB5-87DA-849C63F61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Levels at which to measure environment- and climate-related performanc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2349360"/>
            <a:ext cx="845028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dicators and milestones related to environment/climate change and the associated response can be included in the PAFs </a:t>
            </a:r>
            <a:r>
              <a:rPr b="0" lang="en-GB" sz="2400" spc="-1" strike="noStrike" baseline="30000">
                <a:solidFill>
                  <a:srgbClr val="0f5494"/>
                </a:solidFill>
                <a:latin typeface="Verdana"/>
              </a:rPr>
              <a:t>(*)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of environmental and climate change strategies and actions plans, but also those of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ational and sectoral development strategies and programm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b-national (e.g. regional, local) development pla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dividual projects (logical framewor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*) Performance assessment framework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Right Brace 3"/>
          <p:cNvSpPr/>
          <p:nvPr/>
        </p:nvSpPr>
        <p:spPr>
          <a:xfrm>
            <a:off x="8153280" y="4025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600200"/>
              <a:gd name="textAreaBottom" fmla="*/ 1592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ounded Rectangular Callout 4"/>
          <p:cNvSpPr/>
          <p:nvPr/>
        </p:nvSpPr>
        <p:spPr>
          <a:xfrm>
            <a:off x="5364000" y="5867280"/>
            <a:ext cx="3065760" cy="990720"/>
          </a:xfrm>
          <a:prstGeom prst="wedgeRoundRectCallout">
            <a:avLst>
              <a:gd name="adj1" fmla="val 41916"/>
              <a:gd name="adj2" fmla="val -129430"/>
              <a:gd name="adj3" fmla="val 16667"/>
            </a:avLst>
          </a:prstGeom>
          <a:solidFill>
            <a:srgbClr val="0f549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ltimate objective of mainstreaming!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54FE-3A92-4C91-92E5-7E5A1E933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environment &amp;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3D2F-6668-4E35-B1FC-0316F42EC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492360" y="3573360"/>
            <a:ext cx="223200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Rounded Rectangular Callout 5"/>
          <p:cNvSpPr/>
          <p:nvPr/>
        </p:nvSpPr>
        <p:spPr>
          <a:xfrm>
            <a:off x="395280" y="1916280"/>
            <a:ext cx="2438280" cy="114444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teorology, climate variability, environmental parameter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Rounded Rectangular Callout 6"/>
          <p:cNvSpPr/>
          <p:nvPr/>
        </p:nvSpPr>
        <p:spPr>
          <a:xfrm>
            <a:off x="6372360" y="220500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ounded Rectangle 11"/>
          <p:cNvSpPr/>
          <p:nvPr/>
        </p:nvSpPr>
        <p:spPr>
          <a:xfrm>
            <a:off x="324000" y="3284640"/>
            <a:ext cx="27003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ata collection, management and dissemin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engthening of meteorological information &amp; 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Rounded Rectangle 12"/>
          <p:cNvSpPr/>
          <p:nvPr/>
        </p:nvSpPr>
        <p:spPr>
          <a:xfrm>
            <a:off x="6012000" y="3284640"/>
            <a:ext cx="29289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New patter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Emerging trend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jections, scenari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 for assessing impacts, vulnerabilities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&amp; risk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Cloud Callout 8"/>
          <p:cNvSpPr/>
          <p:nvPr/>
        </p:nvSpPr>
        <p:spPr>
          <a:xfrm>
            <a:off x="2681280" y="4876920"/>
            <a:ext cx="3781440" cy="1523880"/>
          </a:xfrm>
          <a:prstGeom prst="cloudCallout">
            <a:avLst>
              <a:gd name="adj1" fmla="val 620"/>
              <a:gd name="adj2" fmla="val -10196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the mainstreaming process based on reliable information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8T15:03:59Z</dcterms:modified>
  <cp:revision>119</cp:revision>
  <dc:subject/>
  <dc:title>Slide 1</dc:title>
</cp:coreProperties>
</file>