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24E-FA64-48E3-A80C-2F847E67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FF7-FA4E-4981-B589-C68DE9B1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A7C0-2A97-423E-9315-A6FD9EE9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62CA-41FD-462C-8FC3-5AC30B6B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4CBA-BA8C-4931-A1B2-7517F7B5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E2E4-F6A7-4DDF-B361-D969871B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0FBC-8397-4F08-A6E1-71263B1C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A8B6-7C20-4635-BB42-1FEF7A3B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1E99-7B45-4A04-A119-A00D50C3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BCD1-10C0-49C6-A27A-9FE60B68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2334-61A7-41E8-99B4-F8E15E37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5B9-CC37-440D-8E57-B78E50E1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2D38-7F1A-430A-AFF4-B083C9B2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ECA5-59AD-48F7-9AAD-FCFD4912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8AD9-BEB4-4341-8760-445C234D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86D9-FA24-43C6-9DAA-B1CA9FE1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BE71-CABE-4FDD-8FD0-D32974EB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8814-2C25-407C-AC36-DF987239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796-B340-46CF-9CD4-FCEA8B09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F80C-BA79-4FE7-A315-F5249EB2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B4F0-857C-40D1-BBF3-EEC947A2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7DFD-B409-454F-A2BE-33703BCC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8ED8-39D4-40A9-90B2-E2B91869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4B9-1A86-4397-A205-E4B6E0A4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D6FD-8036-4F14-83F0-4F3D0E9A64D3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F267-0483-44C2-9513-0D1D47C282F6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水资源用途管制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中国水权的另一个视角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66680" y="342864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报告人：李祎恒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河海大学法学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、制度现状及存在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水资源宏观配置环节的用途管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全国水资源综合规划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流域和区域综合规划、专业规划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江河水量分配方案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水中长期供求规划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年度水量分配方案和调度计划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6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、制度现状及存在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水资源利用环节的用途管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总体要求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区域协调制度（《水法》第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条） 、用水顺序制度（《水法》第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条） 、多种用途、综合利用制度（《水法》第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6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条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具体制度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水总量控制制度、定额管理制度、计划用水制度、水工程规划同意书制度、取水审批制度、各类规划编制中的水资源论证、建设项目水资源论证制度、跨流域调水论证制度、节约用水制度、循环用水制度、水价机制、高污染、高耗水用水控制机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、制度现状及存在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水资源保护环节的用途管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水功能区划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饮用水水源保护区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、《水污染防治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56-6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入河排污口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、《水污染防治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7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6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水质保护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、《水污染防治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水污染防治制度（《水污染防治法》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、制度现状及存在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水资源载体保护环节的用途管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河湖水域岸线管理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9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、《防洪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0-2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止围垦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、《防洪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占用补偿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、《防洪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7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二、新时代水资源用途管制制度发展的需求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从单一的某种自然资源用途管制走向国土空间用途管制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空间资源的合理保护——有效利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空间资源保护、空间要素统筹、空间结构优化、空间效率提升、空间权利公平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自然资源部的组建：打破部门藩篱和整合各部门空间责权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空间规划约束机制：“多规合一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三、水资源用途管制制度的发展路径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管制目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水资源用途管制不能片面强调资源的经济效益，而忽略对生态环境的保护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管制内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山水林田湖是一个生命共同体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管制手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充分发挥市场和政府的作用，实现行政机制与市场机制相协调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四、水资源用途管制的制度设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以规划为核心的水资源用途确认机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水资源分类用途管制机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水资源用途变更监管机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河湖水域及岸线的空间保护机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水资源用途监测与监督机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4T12:27:42Z</dcterms:created>
  <dc:creator>李祎恒</dc:creator>
  <dc:description/>
  <dc:language>en-US</dc:language>
  <cp:lastModifiedBy>李祎恒</cp:lastModifiedBy>
  <dcterms:modified xsi:type="dcterms:W3CDTF">2018-12-14T17:45:3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