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58F-BE8E-4CCE-818D-C94AFF1B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341-EDC3-474B-947C-54FB3360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595-ED8A-45EA-B7E3-8E5B0265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C19-FCA8-41BC-81DC-34E907F4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49A-C828-4BD2-82BE-BA187212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4D99-C574-4253-8E17-27ACCBC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F3B9-4626-41A4-8BC9-21A0159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DEC5-DF39-4AD8-B7D1-A84054A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EBCD-8072-447B-AE5E-256A552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7FE5-7D7F-42E0-A2DB-278BA3C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6E0F-BE44-44BA-8873-D3531C1A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C57-5700-4533-AADE-71E3B80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CF9-9C07-4B3E-BBDC-37B3AF1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DB97-EA45-43D2-8D6A-0045E1B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041B-D596-4D0F-94B7-03F4F5C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D46D-E3D4-42A6-9EDD-E6ABC2A8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74E-8073-491E-A6E0-52692C90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DFA-2354-485D-825E-8F444DCB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3B8-E1BC-4F21-B52B-54467EC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062-BC66-4056-8B9A-87A31F0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1C6-106F-41D9-B1AC-60694FC0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224-3802-4359-A4A1-074CF7B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187-A86E-4799-B05D-6296908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84F-C264-43B3-B05E-A8F02AF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E919-0847-4424-B0F1-1092120A930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B3BD-EF83-43E1-925E-306D9DFF417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水资源用途管制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国水权的另一个视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报告人：李祎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河海大学法学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宏观配置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全国水资源综合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流域和区域综合规划、专业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江河水量分配方案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中长期供求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度水量分配方案和调度计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利用环节的用途管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总体要求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区域协调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用水顺序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多种用途、综合利用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具体制度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水总量控制制度、定额管理制度、计划用水制度、水工程规划同意书制度、取水审批制度、各类规划编制中的水资源论证、建设项目水资源论证制度、跨流域调水论证制度、节约用水制度、循环用水制度、水价机制、高污染、高耗水用水控制机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功能区划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饮用水水源保护区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6-6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入河排污口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质保护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污染防治制度（《水污染防治法》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载体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河湖水域岸线管理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-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止围垦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占用补偿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二、新时代水资源用途管制制度发展的需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从单一的某种自然资源用途管制走向国土空间用途管制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的合理保护——有效利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保护、空间要素统筹、空间结构优化、空间效率提升、空间权利公平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资源部的组建：打破部门藩篱和整合各部门空间责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规划约束机制：“多规合一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水资源用途管制制度的发展路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目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资源用途管制不能片面强调资源的经济效益，而忽略对生态环境的保护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内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山水林田湖是一个生命共同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手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充分发挥市场和政府的作用，实现行政机制与市场机制相协调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水资源用途管制的制度设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以规划为核心的水资源用途确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分类用途管制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变更监管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河湖水域及岸线的空间保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监测与监督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12:27:42Z</dcterms:created>
  <dc:creator>李祎恒</dc:creator>
  <dc:description/>
  <dc:language>en-US</dc:language>
  <cp:lastModifiedBy>李祎恒</cp:lastModifiedBy>
  <dcterms:modified xsi:type="dcterms:W3CDTF">2018-12-14T17:4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