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44D8-EDB4-47DC-B206-D0D3E9932936}"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45AD-F555-4B7E-ACC2-F274E19ADA05}"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CA6B-5181-47BB-95EF-DEEC1AE2300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E789-487C-44A7-ACEA-A41CD59B3DDB}"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5DF7-BBDE-4638-ACDF-56ED6555E057}"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C53C-76B5-42C4-970A-3A6604259CE2}"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7BBD5-C537-4B2F-A830-478997550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63F0-AE3F-4599-82B1-13FDAA81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002F0-83B2-4CBC-81B9-FF6D3C9CD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74427-2885-49AE-B552-ADC4686D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2EAF6-EABE-497B-9EDB-1BDED829B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A9EA5-CC25-403C-BD25-97E5A1C77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C3704-BCB0-4AE8-9BAA-9C4C8DA71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D2A7A-F792-4C7A-9239-21B9E25E0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52D5B-AB09-43AD-9F01-7E93F64FB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AA83F-A306-4FB9-A679-D1637672D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7E13B-7F68-4285-B4B1-67FD90A5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1E5A-32A1-4F93-96D9-F45B0FEA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0E50E-F68D-4765-A2BD-653FFC07E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415F1-BBC9-41A0-B074-69E1179B0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994F7-3284-4C46-87C3-0D1F3EE7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FF2F2-F1F9-45A4-8824-F84207E50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286E8-1D18-4A46-AC85-DC4560354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0AB5D-16AE-4526-B252-4D09BA1A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88556-A2A8-4613-AC80-C153E926C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BC91-4C0D-4F2B-923D-D62209F41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9A49-977E-447F-80E7-B1DFF2814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AB584-57D7-4D52-8788-4F343BA8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76D1-1E0D-454C-835D-5E30EDDE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A572-0707-400B-97DC-6649E30BB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13B2-2788-4847-9D9F-9B3C68F60E91}"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AEB0-2EDD-4DDA-A8EC-56AC0C337A3C}" type="slidenum">
              <a:rPr b="0" lang="en-US"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lIns="90000" rIns="90000" tIns="46800" bIns="46800"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providing a </a:t>
            </a:r>
            <a:r>
              <a:rPr b="1" lang="en-US" sz="2200" spc="-1" strike="noStrike">
                <a:solidFill>
                  <a:srgbClr val="5f5f5f"/>
                </a:solidFill>
                <a:latin typeface="Arial"/>
                <a:ea typeface="Arial"/>
              </a:rPr>
              <a:t>flexible set of responses</a:t>
            </a:r>
            <a:r>
              <a:rPr b="0" lang="en-US"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incorporating sensible </a:t>
            </a:r>
            <a:r>
              <a:rPr b="1" lang="en-US"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ea typeface="Arial"/>
              </a:rPr>
              <a:t> </a:t>
            </a:r>
            <a:r>
              <a:rPr b="0" lang="en-US" sz="2200" spc="-1" strike="noStrike">
                <a:solidFill>
                  <a:srgbClr val="5f5f5f"/>
                </a:solidFill>
                <a:latin typeface="Arial"/>
                <a:ea typeface="Arial"/>
              </a:rPr>
              <a:t>allowing for </a:t>
            </a:r>
            <a:r>
              <a:rPr b="1" lang="en-US" sz="2200" spc="-1" strike="noStrike">
                <a:solidFill>
                  <a:srgbClr val="5f5f5f"/>
                </a:solidFill>
                <a:latin typeface="Arial"/>
                <a:ea typeface="Arial"/>
              </a:rPr>
              <a:t>more strategic</a:t>
            </a:r>
            <a:r>
              <a:rPr b="0" lang="en-US"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Arial"/>
                <a:ea typeface="Arial"/>
              </a:rPr>
              <a:t>   </a:t>
            </a:r>
            <a:r>
              <a:rPr b="0" lang="en-US"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461F-5D83-4F91-8CE4-81ECFB80E241}"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b9cde5"/>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65777-DD79-4F1A-A727-2C093560B35E}" type="slidenum">
              <a:rPr b="0" lang="en-US"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77933c"/>
          </a:solidFill>
          <a:ln w="9360">
            <a:solidFill>
              <a:srgbClr val="d5e8e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f8f8f8"/>
              </a:gs>
              <a:gs pos="100000">
                <a:srgbClr val="bdbdbd"/>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76840"/>
            <a:ext cx="895320" cy="609480"/>
            <a:chOff x="3621240" y="3876840"/>
            <a:chExt cx="895320" cy="609480"/>
          </a:xfrm>
        </p:grpSpPr>
        <p:pic>
          <p:nvPicPr>
            <p:cNvPr id="115" name="13 Flecha abajo" descr=""/>
            <p:cNvPicPr/>
            <p:nvPr/>
          </p:nvPicPr>
          <p:blipFill>
            <a:blip r:embed="rId1"/>
            <a:stretch/>
          </p:blipFill>
          <p:spPr>
            <a:xfrm>
              <a:off x="3621240" y="3876840"/>
              <a:ext cx="895320" cy="60948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4CF7-920B-4F5B-B517-903138801021}"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64000" y="1700280"/>
            <a:ext cx="340380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23D9-2AC4-427D-A9A8-208E7C482AC8}"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2213-C07D-4A60-B814-F0D85BF62B87}" type="slidenum">
              <a:rPr b="0" lang="en-US"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lIns="90000" rIns="90000" tIns="46800" bIns="46800"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aidco-sd-tech2</cp:lastModifiedBy>
  <dcterms:modified xsi:type="dcterms:W3CDTF">2011-06-28T16:10:36Z</dcterms:modified>
  <cp:revision>266</cp:revision>
  <dc:subject/>
  <dc:title>Structured Dialogue 2010</dc:title>
</cp:coreProperties>
</file>