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FBEFC-49EA-4FBF-9125-E901C83A3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A6F0-EE35-46BC-9B2E-186E5461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31E5A-7073-4EB8-86E8-A5B62E04E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A5CB4-16A8-4874-B8E2-3CDE3670F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8CD51-CC4B-405A-8AAA-CA11275A6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5A1CB-A996-4AB8-AB80-64CC5383C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0AE71-A6A4-441D-9A01-2EF18A083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17879-CB28-4BB0-ADD1-067EF2FDE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7A9D1-C5A4-4439-B6DB-6196D1DC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57D41-BF31-4868-B55F-D7B56B0AF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B3F08-95F4-4167-A5FD-60D50756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BD061-DFE1-4930-AD2D-DBD1AFFC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CCD21-3C68-4D86-BD6A-0715C4C5B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58401-6D4F-4693-8CF3-4009FE41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83DAD-92FC-4184-BB92-760E6156D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205E3-ACAE-4565-8595-548D7F788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BDA15-111E-467B-85F5-19661944C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BC225-86EE-4F12-B11B-2B7DBBC5B8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E51AEC-B749-429B-BEE4-DDBABC498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3C169-8F77-4C54-A00B-5B501D7AA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D2F7F-1255-43B9-B773-9764A5FCC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5EA72F-CF18-4B5C-B2B5-663208EE4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9735B-1AA2-4837-B9A5-A5D137A36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0CF1C-653F-4A22-8F7D-B52FA132F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5C7D4-9F2B-4F96-AADB-2A9ABB8F5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A0893-2015-4406-9C16-EA0CF96DF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EA723-1659-497D-B957-8637FCB2B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D6D5C-E7E6-4090-81B9-6D756A0F3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BEF150-D297-4169-BE9C-3170CDC8A2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5B055B-9E44-456C-8A22-8C7DBEBFA2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DEF32-E30D-4CFE-8D0E-E1A6FD12EA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A456D-E5FC-4092-9682-EEC09B291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283C2-8FF6-4048-A5C7-BDBE9672A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A65D-87B2-490E-86EE-8A33B5CD0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88C45-C06A-4A81-9D04-42C3F8231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0E549-2BFF-4D99-9154-88D2BB9F0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29852-5510-419D-B6ED-849EED0397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9CB41-CFD3-4C12-8BA4-C77E5E14D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7B5F2-8347-456E-8B84-1E2D7CB5A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BE7A5-9019-4814-B073-7D490BC8C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1ECB4-26DF-4FFB-9CB0-9D2183F12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2E1600-4947-4980-A127-EFDB5D9410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CA932-0468-4785-9630-58EAC56A7A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1A8D15-02F9-46D5-8B62-3AF9AC84B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FA409-2C5D-4457-81A7-CC0C44DDA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76054-E38E-49BA-8D62-6DE94491F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EC4FD-CAD3-4331-A491-E6D9D0925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12D3B2-2036-4860-A2A6-2276D54F0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CA792-1A2D-445C-92BC-B6FD0C28E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0DE540-3E34-4943-9991-F94356DCA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4CD06-C26F-4E73-86D1-F813CE39B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9B259-F751-4A55-868C-A711C5172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F9970-FF62-4C1D-AB0E-892CBECDA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DCA0E-94F7-4F96-95C3-F6036706D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DB2A9B-CAEE-4460-A28C-D112A3799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0BBF-D172-4E86-8F34-FD1501C40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019E30-D215-448A-AFCB-DD853C2A1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8963-1DF8-40EE-9E03-C9487188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2FDC-863F-44A5-B26B-4FD2818D5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6EB4-1724-4DD9-B2A9-B4E925789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B06C-0D25-467F-810B-5A05585B3D75}"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5F84-6E67-4D64-9C82-4EDCC9E2230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3C53-6D55-4D5C-B535-6007EFB67E77}"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F1AC-D4E2-4796-91D2-EC42A17F6C8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2610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7C2A-D6FB-403A-A392-2960B63DFF31}"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6D86-F908-4A83-ACA3-55A45796876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80716a">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1790-86AB-4AD7-A3FA-E06406460F8D}"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83138"/>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8313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A1BB-04A1-47FF-A0E6-9B2DFAA588FA}" type="slidenum">
              <a:rPr b="0" lang="en-US" sz="1600" spc="-1" strike="noStrike">
                <a:solidFill>
                  <a:srgbClr val="28313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d261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80716a">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d261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F217-B5E7-45AD-987C-2E9549AD105B}" type="datetime3">
              <a:rPr b="0" lang="en-US" sz="1200" spc="-1" strike="noStrike">
                <a:solidFill>
                  <a:srgbClr val="ffffff"/>
                </a:solidFill>
                <a:latin typeface="Times New Roman"/>
              </a:rPr>
              <a:t>July 30, 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5B08-E464-42CA-B51A-0CA7B3182A5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16"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17"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18"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03080" y="1238040"/>
            <a:ext cx="7826040" cy="341460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Agradecimiento</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Comisión Europea (European Commission)</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 </a:t>
            </a:r>
            <a:r>
              <a:rPr b="0" lang="es-ES_tradnl" sz="1400" spc="-1" strike="noStrike">
                <a:solidFill>
                  <a:srgbClr val="000000"/>
                </a:solidFill>
                <a:latin typeface="Century Gothic"/>
                <a:ea typeface="Century Gothic"/>
              </a:rPr>
              <a:t>Agencia Española - Cooperación Española </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entury Gothic"/>
                <a:ea typeface="Century Gothic"/>
              </a:rPr>
              <a:t> </a:t>
            </a:r>
            <a:r>
              <a:rPr b="0" lang="de-DE" sz="1400" spc="-1" strike="noStrike">
                <a:solidFill>
                  <a:srgbClr val="000000"/>
                </a:solidFill>
                <a:latin typeface="Century Gothic"/>
                <a:ea typeface="Century Gothic"/>
              </a:rPr>
              <a:t>Deutsche Gesellschaft für Internationale Zusammenarbeit (GIZ)</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elebrar  presencia</a:t>
            </a:r>
            <a:endParaRPr b="1" lang="en-US" sz="16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ONG y Organizaciones (América Latina y del Caribe)</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FLACMA (30 mil Municipios, 22 Paíse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Autoridades y Representantes de Federaciones, Asociaciones y ligas de Municipios (Por México CONAMM 2,446 Municipio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Mercosur</a:t>
            </a:r>
            <a:endParaRPr b="1" lang="en-US" sz="1400" spc="-1" strike="noStrike">
              <a:solidFill>
                <a:srgbClr val="000000"/>
              </a:solidFill>
              <a:latin typeface="Franklin Gothic Book"/>
            </a:endParaRPr>
          </a:p>
        </p:txBody>
      </p:sp>
      <p:sp>
        <p:nvSpPr>
          <p:cNvPr id="220"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sp>
        <p:nvSpPr>
          <p:cNvPr id="22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pic>
        <p:nvPicPr>
          <p:cNvPr id="222" name="Imagen 12" descr="fenamm.jpg"/>
          <p:cNvPicPr/>
          <p:nvPr/>
        </p:nvPicPr>
        <p:blipFill>
          <a:blip r:embed="rId1"/>
          <a:stretch/>
        </p:blipFill>
        <p:spPr>
          <a:xfrm>
            <a:off x="217440" y="149400"/>
            <a:ext cx="1276560" cy="522000"/>
          </a:xfrm>
          <a:prstGeom prst="rect">
            <a:avLst/>
          </a:prstGeom>
          <a:ln w="0">
            <a:noFill/>
          </a:ln>
        </p:spPr>
      </p:pic>
      <p:pic>
        <p:nvPicPr>
          <p:cNvPr id="223" name="Imagen 13" descr="conamm_logo.png"/>
          <p:cNvPicPr/>
          <p:nvPr/>
        </p:nvPicPr>
        <p:blipFill>
          <a:blip r:embed="rId2"/>
          <a:stretch/>
        </p:blipFill>
        <p:spPr>
          <a:xfrm>
            <a:off x="1482840" y="372960"/>
            <a:ext cx="911160" cy="298440"/>
          </a:xfrm>
          <a:prstGeom prst="rect">
            <a:avLst/>
          </a:prstGeom>
          <a:ln w="0">
            <a:noFill/>
          </a:ln>
        </p:spPr>
      </p:pic>
      <p:pic>
        <p:nvPicPr>
          <p:cNvPr id="224" name="Imagen 14" descr="logo-tepeji1.png"/>
          <p:cNvPicPr/>
          <p:nvPr/>
        </p:nvPicPr>
        <p:blipFill>
          <a:blip r:embed="rId3"/>
          <a:stretch/>
        </p:blipFill>
        <p:spPr>
          <a:xfrm>
            <a:off x="2741760" y="372960"/>
            <a:ext cx="633240" cy="298440"/>
          </a:xfrm>
          <a:prstGeom prst="rect">
            <a:avLst/>
          </a:prstGeom>
          <a:ln w="0">
            <a:noFill/>
          </a:ln>
        </p:spPr>
      </p:pic>
      <p:pic>
        <p:nvPicPr>
          <p:cNvPr id="225" name="Imagen 20" descr="arton3225.gif"/>
          <p:cNvPicPr/>
          <p:nvPr/>
        </p:nvPicPr>
        <p:blipFill>
          <a:blip r:embed="rId4"/>
          <a:stretch/>
        </p:blipFill>
        <p:spPr>
          <a:xfrm>
            <a:off x="3691080" y="372960"/>
            <a:ext cx="942840" cy="304920"/>
          </a:xfrm>
          <a:prstGeom prst="rect">
            <a:avLst/>
          </a:prstGeom>
          <a:ln w="0">
            <a:noFill/>
          </a:ln>
        </p:spPr>
      </p:pic>
      <p:pic>
        <p:nvPicPr>
          <p:cNvPr id="226" name="Imagen 21" descr="foro.png"/>
          <p:cNvPicPr/>
          <p:nvPr/>
        </p:nvPicPr>
        <p:blipFill>
          <a:blip r:embed="rId5"/>
          <a:stretch/>
        </p:blipFill>
        <p:spPr>
          <a:xfrm>
            <a:off x="7948440" y="271440"/>
            <a:ext cx="882720" cy="488880"/>
          </a:xfrm>
          <a:prstGeom prst="rect">
            <a:avLst/>
          </a:prstGeom>
          <a:ln w="0">
            <a:noFill/>
          </a:ln>
        </p:spPr>
      </p:pic>
      <p:pic>
        <p:nvPicPr>
          <p:cNvPr id="227" name="Imagen 1" descr="european comission.png"/>
          <p:cNvPicPr/>
          <p:nvPr/>
        </p:nvPicPr>
        <p:blipFill>
          <a:blip r:embed="rId6"/>
          <a:stretch/>
        </p:blipFill>
        <p:spPr>
          <a:xfrm>
            <a:off x="4951440" y="228600"/>
            <a:ext cx="563400" cy="477720"/>
          </a:xfrm>
          <a:prstGeom prst="rect">
            <a:avLst/>
          </a:prstGeom>
          <a:ln w="0">
            <a:noFill/>
          </a:ln>
        </p:spPr>
      </p:pic>
      <p:pic>
        <p:nvPicPr>
          <p:cNvPr id="228" name="Imagen 2" descr="Cooperacixn_Espaxola_COLOR_0.png"/>
          <p:cNvPicPr/>
          <p:nvPr/>
        </p:nvPicPr>
        <p:blipFill>
          <a:blip r:embed="rId7"/>
          <a:stretch/>
        </p:blipFill>
        <p:spPr>
          <a:xfrm>
            <a:off x="5727600" y="228600"/>
            <a:ext cx="411120" cy="538200"/>
          </a:xfrm>
          <a:prstGeom prst="rect">
            <a:avLst/>
          </a:prstGeom>
          <a:ln w="0">
            <a:noFill/>
          </a:ln>
        </p:spPr>
      </p:pic>
      <p:pic>
        <p:nvPicPr>
          <p:cNvPr id="229" name="Imagen 3"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6640" y="963360"/>
            <a:ext cx="8592840" cy="39178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Century Gothic"/>
              </a:rPr>
              <a:t>Premisas</a:t>
            </a:r>
            <a:endParaRPr b="1" lang="en-US" sz="18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Locales-Municipales somos los receptores de toda la problemática acontecida en nuestro entorno</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inteligentes estamos obligados a poner en el centro de nuestro que hacer al ciudadano</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Los gobiernos y la sociedad somos copartícipes en la solución de éstas problemáticas</a:t>
            </a: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Juntos tenemos el reto principal de eliminar de nuestro diccionario tres conceptos:</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Corrupción</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mpuni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Desigualdad</a:t>
            </a:r>
            <a:endParaRPr b="1" lang="en-US" sz="1400" spc="-1" strike="noStrike">
              <a:solidFill>
                <a:srgbClr val="00000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
        <p:nvSpPr>
          <p:cNvPr id="231"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32"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33" name="Imagen 12" descr="fenamm.jpg"/>
          <p:cNvPicPr/>
          <p:nvPr/>
        </p:nvPicPr>
        <p:blipFill>
          <a:blip r:embed="rId1"/>
          <a:stretch/>
        </p:blipFill>
        <p:spPr>
          <a:xfrm>
            <a:off x="217440" y="149400"/>
            <a:ext cx="1276560" cy="522000"/>
          </a:xfrm>
          <a:prstGeom prst="rect">
            <a:avLst/>
          </a:prstGeom>
          <a:ln w="0">
            <a:noFill/>
          </a:ln>
        </p:spPr>
      </p:pic>
      <p:pic>
        <p:nvPicPr>
          <p:cNvPr id="234" name="Imagen 13" descr="conamm_logo.png"/>
          <p:cNvPicPr/>
          <p:nvPr/>
        </p:nvPicPr>
        <p:blipFill>
          <a:blip r:embed="rId2"/>
          <a:stretch/>
        </p:blipFill>
        <p:spPr>
          <a:xfrm>
            <a:off x="1482840" y="372960"/>
            <a:ext cx="911160" cy="298440"/>
          </a:xfrm>
          <a:prstGeom prst="rect">
            <a:avLst/>
          </a:prstGeom>
          <a:ln w="0">
            <a:noFill/>
          </a:ln>
        </p:spPr>
      </p:pic>
      <p:pic>
        <p:nvPicPr>
          <p:cNvPr id="235" name="Imagen 14" descr="logo-tepeji1.png"/>
          <p:cNvPicPr/>
          <p:nvPr/>
        </p:nvPicPr>
        <p:blipFill>
          <a:blip r:embed="rId3"/>
          <a:stretch/>
        </p:blipFill>
        <p:spPr>
          <a:xfrm>
            <a:off x="2741760" y="372960"/>
            <a:ext cx="633240" cy="298440"/>
          </a:xfrm>
          <a:prstGeom prst="rect">
            <a:avLst/>
          </a:prstGeom>
          <a:ln w="0">
            <a:noFill/>
          </a:ln>
        </p:spPr>
      </p:pic>
      <p:pic>
        <p:nvPicPr>
          <p:cNvPr id="236" name="Imagen 20" descr="arton3225.gif"/>
          <p:cNvPicPr/>
          <p:nvPr/>
        </p:nvPicPr>
        <p:blipFill>
          <a:blip r:embed="rId4"/>
          <a:stretch/>
        </p:blipFill>
        <p:spPr>
          <a:xfrm>
            <a:off x="3691080" y="372960"/>
            <a:ext cx="942840" cy="304920"/>
          </a:xfrm>
          <a:prstGeom prst="rect">
            <a:avLst/>
          </a:prstGeom>
          <a:ln w="0">
            <a:noFill/>
          </a:ln>
        </p:spPr>
      </p:pic>
      <p:pic>
        <p:nvPicPr>
          <p:cNvPr id="237" name="Imagen 21" descr="foro.png"/>
          <p:cNvPicPr/>
          <p:nvPr/>
        </p:nvPicPr>
        <p:blipFill>
          <a:blip r:embed="rId5"/>
          <a:stretch/>
        </p:blipFill>
        <p:spPr>
          <a:xfrm>
            <a:off x="7948440" y="271440"/>
            <a:ext cx="882720" cy="488880"/>
          </a:xfrm>
          <a:prstGeom prst="rect">
            <a:avLst/>
          </a:prstGeom>
          <a:ln w="0">
            <a:noFill/>
          </a:ln>
        </p:spPr>
      </p:pic>
      <p:pic>
        <p:nvPicPr>
          <p:cNvPr id="238" name="Imagen 17" descr="european comission.png"/>
          <p:cNvPicPr/>
          <p:nvPr/>
        </p:nvPicPr>
        <p:blipFill>
          <a:blip r:embed="rId6"/>
          <a:stretch/>
        </p:blipFill>
        <p:spPr>
          <a:xfrm>
            <a:off x="4951440" y="228600"/>
            <a:ext cx="563400" cy="477720"/>
          </a:xfrm>
          <a:prstGeom prst="rect">
            <a:avLst/>
          </a:prstGeom>
          <a:ln w="0">
            <a:noFill/>
          </a:ln>
        </p:spPr>
      </p:pic>
      <p:pic>
        <p:nvPicPr>
          <p:cNvPr id="239" name="Imagen 18" descr="Cooperacixn_Espaxola_COLOR_0.png"/>
          <p:cNvPicPr/>
          <p:nvPr/>
        </p:nvPicPr>
        <p:blipFill>
          <a:blip r:embed="rId7"/>
          <a:stretch/>
        </p:blipFill>
        <p:spPr>
          <a:xfrm>
            <a:off x="5727600" y="228600"/>
            <a:ext cx="411120" cy="538200"/>
          </a:xfrm>
          <a:prstGeom prst="rect">
            <a:avLst/>
          </a:prstGeom>
          <a:ln w="0">
            <a:noFill/>
          </a:ln>
        </p:spPr>
      </p:pic>
      <p:pic>
        <p:nvPicPr>
          <p:cNvPr id="240" name="Imagen 19"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CuadroTexto 1"/>
          <p:cNvSpPr/>
          <p:nvPr/>
        </p:nvSpPr>
        <p:spPr>
          <a:xfrm>
            <a:off x="581040" y="1635120"/>
            <a:ext cx="8040600" cy="23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Un gobierno inteligente está obligado a tener un sistema de gestión gubernamental que garantice como mínimo lo siguiente:</a:t>
            </a:r>
            <a:endParaRPr b="0" lang="en-US" sz="1400" spc="-1" strike="noStrike">
              <a:solidFill>
                <a:srgbClr val="000000"/>
              </a:solidFill>
              <a:latin typeface="Franklin Gothic Book"/>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Democra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Transparencia</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 </a:t>
            </a:r>
            <a:r>
              <a:rPr b="0" lang="es-ES" sz="1400" spc="-1" strike="noStrike">
                <a:solidFill>
                  <a:srgbClr val="000000"/>
                </a:solidFill>
                <a:latin typeface="Century Gothic"/>
                <a:ea typeface="Century Gothic"/>
              </a:rPr>
              <a:t>Inclusión</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Competitiv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eguridad</a:t>
            </a:r>
            <a:endParaRPr b="0" lang="en-US" sz="1400" spc="-1" strike="noStrike">
              <a:solidFill>
                <a:srgbClr val="000000"/>
              </a:solidFill>
              <a:latin typeface="Franklin Gothic Book"/>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ea typeface="Century Gothic"/>
              </a:rPr>
              <a:t>Sustentabilidad</a:t>
            </a:r>
            <a:endParaRPr b="0" lang="en-US" sz="1400" spc="-1" strike="noStrike">
              <a:solidFill>
                <a:srgbClr val="000000"/>
              </a:solidFill>
              <a:latin typeface="Franklin Gothic Book"/>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4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43"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44" name="Imagen 12" descr="fenamm.jpg"/>
          <p:cNvPicPr/>
          <p:nvPr/>
        </p:nvPicPr>
        <p:blipFill>
          <a:blip r:embed="rId1"/>
          <a:stretch/>
        </p:blipFill>
        <p:spPr>
          <a:xfrm>
            <a:off x="217440" y="149400"/>
            <a:ext cx="1276560" cy="522000"/>
          </a:xfrm>
          <a:prstGeom prst="rect">
            <a:avLst/>
          </a:prstGeom>
          <a:ln w="0">
            <a:noFill/>
          </a:ln>
        </p:spPr>
      </p:pic>
      <p:pic>
        <p:nvPicPr>
          <p:cNvPr id="245" name="Imagen 13" descr="conamm_logo.png"/>
          <p:cNvPicPr/>
          <p:nvPr/>
        </p:nvPicPr>
        <p:blipFill>
          <a:blip r:embed="rId2"/>
          <a:stretch/>
        </p:blipFill>
        <p:spPr>
          <a:xfrm>
            <a:off x="1482840" y="372960"/>
            <a:ext cx="911160" cy="298440"/>
          </a:xfrm>
          <a:prstGeom prst="rect">
            <a:avLst/>
          </a:prstGeom>
          <a:ln w="0">
            <a:noFill/>
          </a:ln>
        </p:spPr>
      </p:pic>
      <p:pic>
        <p:nvPicPr>
          <p:cNvPr id="246" name="Imagen 14" descr="logo-tepeji1.png"/>
          <p:cNvPicPr/>
          <p:nvPr/>
        </p:nvPicPr>
        <p:blipFill>
          <a:blip r:embed="rId3"/>
          <a:stretch/>
        </p:blipFill>
        <p:spPr>
          <a:xfrm>
            <a:off x="2741760" y="372960"/>
            <a:ext cx="633240" cy="298440"/>
          </a:xfrm>
          <a:prstGeom prst="rect">
            <a:avLst/>
          </a:prstGeom>
          <a:ln w="0">
            <a:noFill/>
          </a:ln>
        </p:spPr>
      </p:pic>
      <p:pic>
        <p:nvPicPr>
          <p:cNvPr id="247" name="Imagen 20" descr="arton3225.gif"/>
          <p:cNvPicPr/>
          <p:nvPr/>
        </p:nvPicPr>
        <p:blipFill>
          <a:blip r:embed="rId4"/>
          <a:stretch/>
        </p:blipFill>
        <p:spPr>
          <a:xfrm>
            <a:off x="3691080" y="372960"/>
            <a:ext cx="942840" cy="304920"/>
          </a:xfrm>
          <a:prstGeom prst="rect">
            <a:avLst/>
          </a:prstGeom>
          <a:ln w="0">
            <a:noFill/>
          </a:ln>
        </p:spPr>
      </p:pic>
      <p:pic>
        <p:nvPicPr>
          <p:cNvPr id="248" name="Imagen 21" descr="foro.png"/>
          <p:cNvPicPr/>
          <p:nvPr/>
        </p:nvPicPr>
        <p:blipFill>
          <a:blip r:embed="rId5"/>
          <a:stretch/>
        </p:blipFill>
        <p:spPr>
          <a:xfrm>
            <a:off x="7948440" y="271440"/>
            <a:ext cx="882720" cy="488880"/>
          </a:xfrm>
          <a:prstGeom prst="rect">
            <a:avLst/>
          </a:prstGeom>
          <a:ln w="0">
            <a:noFill/>
          </a:ln>
        </p:spPr>
      </p:pic>
      <p:pic>
        <p:nvPicPr>
          <p:cNvPr id="249" name="Imagen 16" descr="european comission.png"/>
          <p:cNvPicPr/>
          <p:nvPr/>
        </p:nvPicPr>
        <p:blipFill>
          <a:blip r:embed="rId6"/>
          <a:stretch/>
        </p:blipFill>
        <p:spPr>
          <a:xfrm>
            <a:off x="4951440" y="228600"/>
            <a:ext cx="563400" cy="477720"/>
          </a:xfrm>
          <a:prstGeom prst="rect">
            <a:avLst/>
          </a:prstGeom>
          <a:ln w="0">
            <a:noFill/>
          </a:ln>
        </p:spPr>
      </p:pic>
      <p:pic>
        <p:nvPicPr>
          <p:cNvPr id="250" name="Imagen 17" descr="Cooperacixn_Espaxola_COLOR_0.png"/>
          <p:cNvPicPr/>
          <p:nvPr/>
        </p:nvPicPr>
        <p:blipFill>
          <a:blip r:embed="rId7"/>
          <a:stretch/>
        </p:blipFill>
        <p:spPr>
          <a:xfrm>
            <a:off x="5727600" y="228600"/>
            <a:ext cx="411120" cy="538200"/>
          </a:xfrm>
          <a:prstGeom prst="rect">
            <a:avLst/>
          </a:prstGeom>
          <a:ln w="0">
            <a:noFill/>
          </a:ln>
        </p:spPr>
      </p:pic>
      <p:pic>
        <p:nvPicPr>
          <p:cNvPr id="251"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uadroTexto 7"/>
          <p:cNvSpPr/>
          <p:nvPr/>
        </p:nvSpPr>
        <p:spPr>
          <a:xfrm>
            <a:off x="570960" y="6524640"/>
            <a:ext cx="227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ea typeface="Arial"/>
              </a:rPr>
              <a:t>FORO POLÍTICO SOBRE EL DESARROLLO </a:t>
            </a:r>
            <a:endParaRPr b="0" lang="en-US" sz="800" spc="-1" strike="noStrike">
              <a:solidFill>
                <a:srgbClr val="000000"/>
              </a:solidFill>
              <a:latin typeface="Franklin Gothic Book"/>
            </a:endParaRPr>
          </a:p>
        </p:txBody>
      </p:sp>
      <p:sp>
        <p:nvSpPr>
          <p:cNvPr id="253" name="Rectángulo 2"/>
          <p:cNvSpPr/>
          <p:nvPr/>
        </p:nvSpPr>
        <p:spPr>
          <a:xfrm>
            <a:off x="461880" y="984240"/>
            <a:ext cx="8309160" cy="371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entury Gothic"/>
                <a:ea typeface="Century Gothic"/>
              </a:rPr>
              <a:t>Conclusión </a:t>
            </a:r>
            <a:endParaRPr b="0" lang="en-US" sz="16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La agenda "20-30" es un acuerdo histórico en favor de la humanidad cuyos objetivos y metas reflejan la voluntad y el compromiso de las naciones para el desarrollo sostenible sin dejar de considerar la transversalidad en las políticas que incluyan la igualdad de género, el empoderamiento de las mujeres, el reconocimiento de los derechos de los migrantes, la inclusión social, la prosperidad compartida, la protección ambiental y en conjunto el respeto de los derechos humanos y la paz universal; Para lo cual no sólo se requiere actitud y voluntad de todos los actores sino también de una participación activa para la concretización de proyectos y resultados que requieren de la asignación de presupuestos de inversión para su ejecución.</a:t>
            </a:r>
            <a:endParaRPr b="0" lang="en-US" sz="14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Century Gothic"/>
              </a:rPr>
              <a:t>Y por ello hoy celebramos qué las ciudades, los municipios y las asociaciones de gobiernos locales de América Latina (FLACMA), como los que conforman la zona Mercosur estemos en este foro para que sentemos un precedente en la relación que nos permita trabajar en conjunto con la comunidad Europea representada aquí por la agencia Española para la Cooperación Internacional para el Desarrollo (AECID) y por la Comisión Europea (European Commission) como ejemplo el diálogo de FLACMA y Mercociudades con Michel Laloge para una alianza de gran visión.</a:t>
            </a:r>
            <a:endParaRPr b="0" lang="en-US" sz="1400" spc="-1" strike="noStrike">
              <a:solidFill>
                <a:srgbClr val="000000"/>
              </a:solidFill>
              <a:latin typeface="Franklin Gothic Book"/>
            </a:endParaRPr>
          </a:p>
        </p:txBody>
      </p:sp>
      <p:sp>
        <p:nvSpPr>
          <p:cNvPr id="254" name="CuadroTexto 5"/>
          <p:cNvSpPr/>
          <p:nvPr/>
        </p:nvSpPr>
        <p:spPr>
          <a:xfrm>
            <a:off x="6854760" y="6248520"/>
            <a:ext cx="1966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Ing. Fernando Miranda Torres</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Alcalde de Tepeji del Río, México. </a:t>
            </a:r>
            <a:endParaRPr b="0" lang="en-US" sz="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anklin Gothic Book"/>
              </a:rPr>
              <a:t>Vicepresidente  FENAMM y CONAMM</a:t>
            </a:r>
            <a:endParaRPr b="0" lang="en-US" sz="800" spc="-1" strike="noStrike">
              <a:solidFill>
                <a:srgbClr val="000000"/>
              </a:solidFill>
              <a:latin typeface="Franklin Gothic Book"/>
            </a:endParaRPr>
          </a:p>
        </p:txBody>
      </p:sp>
      <p:pic>
        <p:nvPicPr>
          <p:cNvPr id="255" name="Imagen 12" descr="fenamm.jpg"/>
          <p:cNvPicPr/>
          <p:nvPr/>
        </p:nvPicPr>
        <p:blipFill>
          <a:blip r:embed="rId1"/>
          <a:stretch/>
        </p:blipFill>
        <p:spPr>
          <a:xfrm>
            <a:off x="217440" y="149400"/>
            <a:ext cx="1276560" cy="522000"/>
          </a:xfrm>
          <a:prstGeom prst="rect">
            <a:avLst/>
          </a:prstGeom>
          <a:ln w="0">
            <a:noFill/>
          </a:ln>
        </p:spPr>
      </p:pic>
      <p:pic>
        <p:nvPicPr>
          <p:cNvPr id="256" name="Imagen 13" descr="conamm_logo.png"/>
          <p:cNvPicPr/>
          <p:nvPr/>
        </p:nvPicPr>
        <p:blipFill>
          <a:blip r:embed="rId2"/>
          <a:stretch/>
        </p:blipFill>
        <p:spPr>
          <a:xfrm>
            <a:off x="1482840" y="372960"/>
            <a:ext cx="911160" cy="298440"/>
          </a:xfrm>
          <a:prstGeom prst="rect">
            <a:avLst/>
          </a:prstGeom>
          <a:ln w="0">
            <a:noFill/>
          </a:ln>
        </p:spPr>
      </p:pic>
      <p:pic>
        <p:nvPicPr>
          <p:cNvPr id="257" name="Imagen 14" descr="logo-tepeji1.png"/>
          <p:cNvPicPr/>
          <p:nvPr/>
        </p:nvPicPr>
        <p:blipFill>
          <a:blip r:embed="rId3"/>
          <a:stretch/>
        </p:blipFill>
        <p:spPr>
          <a:xfrm>
            <a:off x="2741760" y="372960"/>
            <a:ext cx="633240" cy="298440"/>
          </a:xfrm>
          <a:prstGeom prst="rect">
            <a:avLst/>
          </a:prstGeom>
          <a:ln w="0">
            <a:noFill/>
          </a:ln>
        </p:spPr>
      </p:pic>
      <p:pic>
        <p:nvPicPr>
          <p:cNvPr id="258" name="Imagen 20" descr="arton3225.gif"/>
          <p:cNvPicPr/>
          <p:nvPr/>
        </p:nvPicPr>
        <p:blipFill>
          <a:blip r:embed="rId4"/>
          <a:stretch/>
        </p:blipFill>
        <p:spPr>
          <a:xfrm>
            <a:off x="3691080" y="372960"/>
            <a:ext cx="942840" cy="304920"/>
          </a:xfrm>
          <a:prstGeom prst="rect">
            <a:avLst/>
          </a:prstGeom>
          <a:ln w="0">
            <a:noFill/>
          </a:ln>
        </p:spPr>
      </p:pic>
      <p:pic>
        <p:nvPicPr>
          <p:cNvPr id="259" name="Imagen 21" descr="foro.png"/>
          <p:cNvPicPr/>
          <p:nvPr/>
        </p:nvPicPr>
        <p:blipFill>
          <a:blip r:embed="rId5"/>
          <a:stretch/>
        </p:blipFill>
        <p:spPr>
          <a:xfrm>
            <a:off x="7948440" y="271440"/>
            <a:ext cx="882720" cy="488880"/>
          </a:xfrm>
          <a:prstGeom prst="rect">
            <a:avLst/>
          </a:prstGeom>
          <a:ln w="0">
            <a:noFill/>
          </a:ln>
        </p:spPr>
      </p:pic>
      <p:pic>
        <p:nvPicPr>
          <p:cNvPr id="260" name="Imagen 16" descr="european comission.png"/>
          <p:cNvPicPr/>
          <p:nvPr/>
        </p:nvPicPr>
        <p:blipFill>
          <a:blip r:embed="rId6"/>
          <a:stretch/>
        </p:blipFill>
        <p:spPr>
          <a:xfrm>
            <a:off x="4951440" y="228600"/>
            <a:ext cx="563400" cy="477720"/>
          </a:xfrm>
          <a:prstGeom prst="rect">
            <a:avLst/>
          </a:prstGeom>
          <a:ln w="0">
            <a:noFill/>
          </a:ln>
        </p:spPr>
      </p:pic>
      <p:pic>
        <p:nvPicPr>
          <p:cNvPr id="261" name="Imagen 17" descr="Cooperacixn_Espaxola_COLOR_0.png"/>
          <p:cNvPicPr/>
          <p:nvPr/>
        </p:nvPicPr>
        <p:blipFill>
          <a:blip r:embed="rId7"/>
          <a:stretch/>
        </p:blipFill>
        <p:spPr>
          <a:xfrm>
            <a:off x="5727600" y="228600"/>
            <a:ext cx="411120" cy="538200"/>
          </a:xfrm>
          <a:prstGeom prst="rect">
            <a:avLst/>
          </a:prstGeom>
          <a:ln w="0">
            <a:noFill/>
          </a:ln>
        </p:spPr>
      </p:pic>
      <p:pic>
        <p:nvPicPr>
          <p:cNvPr id="262" name="Imagen 18" descr="GIZ_feff675524c3356d9c1d273e87230e0b.jpg"/>
          <p:cNvPicPr/>
          <p:nvPr/>
        </p:nvPicPr>
        <p:blipFill>
          <a:blip r:embed="rId8"/>
          <a:stretch/>
        </p:blipFill>
        <p:spPr>
          <a:xfrm>
            <a:off x="6318360" y="141120"/>
            <a:ext cx="1611360" cy="6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rot="19057200">
            <a:off x="1658160" y="2300040"/>
            <a:ext cx="771372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Medium"/>
              </a:rPr>
              <a:t>Reunión regional multi-actores América Latina</a:t>
            </a:r>
            <a:r>
              <a:rPr b="0" lang="es-ES_tradnl" sz="2500" spc="-1" strike="noStrike">
                <a:solidFill>
                  <a:srgbClr val="ffffff"/>
                </a:solidFill>
                <a:latin typeface="Franklin Gothic Medium"/>
              </a:rPr>
              <a:t> </a:t>
            </a:r>
            <a:endParaRPr b="0" lang="en-US" sz="2500" spc="-1" strike="noStrike">
              <a:solidFill>
                <a:srgbClr val="000000"/>
              </a:solidFill>
              <a:latin typeface="Franklin Gothic Medium"/>
            </a:endParaRPr>
          </a:p>
        </p:txBody>
      </p:sp>
      <p:sp>
        <p:nvSpPr>
          <p:cNvPr id="264" name="PlaceHolder 2"/>
          <p:cNvSpPr>
            <a:spLocks noGrp="1"/>
          </p:cNvSpPr>
          <p:nvPr>
            <p:ph type="subTitle"/>
          </p:nvPr>
        </p:nvSpPr>
        <p:spPr>
          <a:xfrm rot="19059000">
            <a:off x="2426760" y="3683160"/>
            <a:ext cx="7469280" cy="660240"/>
          </a:xfrm>
          <a:prstGeom prst="rect">
            <a:avLst/>
          </a:prstGeom>
          <a:noFill/>
          <a:ln w="0">
            <a:noFill/>
          </a:ln>
        </p:spPr>
        <p:txBody>
          <a:bodyPr tIns="9000" anchor="t">
            <a:noAutofit/>
          </a:bodyPr>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anklin Gothic Book"/>
              </a:rPr>
              <a:t>"Sector Público"</a:t>
            </a:r>
            <a:endParaRPr b="1" lang="en-US" sz="2000" spc="-1" strike="noStrike">
              <a:solidFill>
                <a:srgbClr val="000000"/>
              </a:solidFill>
              <a:latin typeface="Franklin Gothic Book"/>
            </a:endParaRPr>
          </a:p>
          <a:p>
            <a:pPr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endParaRPr b="1" lang="en-US" sz="2000" spc="-1" strike="noStrike">
              <a:solidFill>
                <a:srgbClr val="000000"/>
              </a:solidFill>
              <a:latin typeface="Franklin Gothic Book"/>
            </a:endParaRPr>
          </a:p>
        </p:txBody>
      </p:sp>
      <p:pic>
        <p:nvPicPr>
          <p:cNvPr id="265" name="Imagen 3" descr="FORO POLITICO.png"/>
          <p:cNvPicPr/>
          <p:nvPr/>
        </p:nvPicPr>
        <p:blipFill>
          <a:blip r:embed="rId1"/>
          <a:srcRect l="1775" t="0" r="5196" b="12349"/>
          <a:stretch/>
        </p:blipFill>
        <p:spPr>
          <a:xfrm>
            <a:off x="198360" y="98280"/>
            <a:ext cx="4762440" cy="2183040"/>
          </a:xfrm>
          <a:prstGeom prst="rect">
            <a:avLst/>
          </a:prstGeom>
          <a:ln w="0">
            <a:noFill/>
          </a:ln>
        </p:spPr>
      </p:pic>
      <p:sp>
        <p:nvSpPr>
          <p:cNvPr id="266" name="CuadroTexto 5"/>
          <p:cNvSpPr/>
          <p:nvPr/>
        </p:nvSpPr>
        <p:spPr>
          <a:xfrm>
            <a:off x="5872320" y="6056280"/>
            <a:ext cx="3039840" cy="64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Ing. Fernando Miranda Torres</a:t>
            </a:r>
            <a:endParaRPr b="0" lang="en-US" sz="1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Alcalde de Tepeji del Río, México. </a:t>
            </a:r>
            <a:endParaRPr b="0" lang="en-US" sz="1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anklin Gothic Book"/>
              </a:rPr>
              <a:t>Vicepresidente  FENAMM y CONAMM</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7:33:16Z</dcterms:created>
  <dc:creator>Axel Rodriguez</dc:creator>
  <dc:description/>
  <dc:language>en-US</dc:language>
  <cp:lastModifiedBy>Axel Rodriguez</cp:lastModifiedBy>
  <dcterms:modified xsi:type="dcterms:W3CDTF">2016-07-08T16:57:54Z</dcterms:modified>
  <cp:revision>23</cp:revision>
  <dc:subject/>
  <dc:title>GOBIERNO INTELIGENTE    Smart city</dc:title>
</cp:coreProperties>
</file>