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65D-7CF6-4044-B1D9-98A5A6E4B41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01F-3689-4BF9-A1D3-E6D707FEF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AAB0-9B0F-4726-9B98-0930018EDC6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6E7-12EF-4A2B-B840-9F2FEFD357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2DB-5CBF-41B4-9CCB-D34C2089BD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6091-0A47-4C9E-94BE-3EA559D6A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87C-064B-4442-886C-EA61FDDF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D21-708D-47E2-845E-52D7E72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65A-0BF4-4637-AFEE-B77F694C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22A-5405-42B3-B3D1-43F38B0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145F-29CD-4095-A98D-3AD27A0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E469-754F-4B4C-B6C2-5F9D5B9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C52A-6FFB-4D1C-B374-1B1B2DA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249-C0F1-4BD0-A583-A695AB59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C56E-EEC6-4D2B-A232-CE63C17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654-7F94-4526-ACBA-DBC908FD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EF9B-426C-4F7C-90C4-BF09522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C64-5EA0-436F-8EE1-CFE78CBC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1ED-A220-4637-9E5A-6BC3B0E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E432-5273-4703-A05E-ED0381BB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723D-4D96-44FA-8FED-DADBBE1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BCD-3EBF-4148-A264-7B19A481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F924-C7B0-4F5E-BB25-DA32C7DE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55C-365F-4B64-B7C9-3D1069F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16F-B230-4FEB-9069-5615724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15D-9AF8-46BB-B48D-1CD0A4A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01D-F36F-4E2A-8617-070B3F4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97F-EC7F-4D62-860B-7A15D5F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E5D-6EE4-4ECE-90BF-623DAA0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AB1-0F6A-4C64-AEA0-0ABA359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478F-E95D-4C77-9793-0626DE8993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81C-FC77-45F9-8B3B-A6C2BA91B6A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2.1.  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Définir les points d’entrée pour encourager l’approche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prendre le CONTEXT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171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172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3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4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7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8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9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0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1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2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3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4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7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8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9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0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1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2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3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4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7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8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9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0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1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2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3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5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06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8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09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10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1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8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9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0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6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7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42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43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244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245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1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78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279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280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3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4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5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6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12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13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14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15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8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9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0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1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47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48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349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350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3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4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5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6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82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tle 1"/>
          <p:cNvSpPr/>
          <p:nvPr/>
        </p:nvSpPr>
        <p:spPr>
          <a:xfrm>
            <a:off x="152280" y="1066680"/>
            <a:ext cx="8915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lles incitations pour accélerer la réforme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5" name="Picture 1" descr="2. Carrots.png"/>
          <p:cNvPicPr/>
          <p:nvPr/>
        </p:nvPicPr>
        <p:blipFill>
          <a:blip r:embed="rId1"/>
          <a:stretch/>
        </p:blipFill>
        <p:spPr>
          <a:xfrm>
            <a:off x="1219320" y="2460600"/>
            <a:ext cx="48765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IEUX EVALUER LES RIS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9" name="Picture 2" descr="calculated risk (2).jpeg"/>
          <p:cNvPicPr/>
          <p:nvPr/>
        </p:nvPicPr>
        <p:blipFill>
          <a:blip r:embed="rId1"/>
          <a:stretch/>
        </p:blipFill>
        <p:spPr>
          <a:xfrm>
            <a:off x="601560" y="1844640"/>
            <a:ext cx="78454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6880" y="173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309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Une analyse d’économie politique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offre un outil de navigation (pas une panacée !)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Peut aider à identifier des réformes faisables dans l’espace disponible de réform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alibri"/>
              </a:rPr>
              <a:t>Le quadruple test pour les interventions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1)   Transformer    (= besoin d’une perspective à moyen term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2)   Adapter  (= aller avec le grai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3)   Eviter  (=  appui à des réformes sans tractio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4)  Attendre  (= jusqu’au moment que des conditions meilleures sont en plac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au niveau pays pour évaluer faisabilité TALD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Intérêt du gouvernement pour les inégalités territoriales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Comment le gouvernement voit-il le rôle des AL dans le développement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Quel degré d’autonomie est donné aux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468360" y="2556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Où situer votre pays?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5" name="Image 3" descr=""/>
          <p:cNvPicPr/>
          <p:nvPr/>
        </p:nvPicPr>
        <p:blipFill>
          <a:blip r:embed="rId1"/>
          <a:stretch/>
        </p:blipFill>
        <p:spPr>
          <a:xfrm>
            <a:off x="635040" y="1413000"/>
            <a:ext cx="76089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vis-à-vis U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1)  Où sont les AL dans la politique de coopération de l’UE dans un pays déterminé? Dialogue? Financement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2) Quelle stratégie l’UE poursuit-elle en matière de décentralis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Avec 3 op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centralisation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veloppement local/territorial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Approche indirecte :  décentralisation dans l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cadre d’un appui budgétaire sectorie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Capacités et outi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08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09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1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2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3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4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6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18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19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4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5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29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30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1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5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6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148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0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1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2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3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4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55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 du pays et de la décentralisation:  un préalable pour choisir des points d’entrée pertinents  (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QUATRE RAIS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1) La décentralisation est un processus poussé par des intérêts polit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2) Le rapport de forces (changeant) entre les différentes parties prenantes détermine le sort de la réforme et le champ où des avancées sont possi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du pays de la décentralisation:  un préalable pour choisir des points d’entrée pertinents  (2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3) La décentralisation est “développementale” S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spécificité du développement local est bien compris 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motivation politique de la réforme est compatible et completée par un engagement national pour le développement loc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4) Une fois initiée, la réforme suit sa propre dynamique et peut évoluer au-delà de ce qui était prévu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Implication pour les PT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BESOIN DE “PENSER ET AGIR POLITIQUEMENT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ETHODES POUR PENSER POLITIQUE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(par ex. analyse d’économie poli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AIS PAS EVIDENT D’AGIR POLITIQUEMENT (limitations politiques, institutionnelles, logiques de déboursement…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6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088-A14A-42E9-8618-54542DB703A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Rendre visible le iceberg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9" name="Picture 62" descr="ist1_7870072-tip-of-the-iceberg.jpg"/>
          <p:cNvPicPr/>
          <p:nvPr/>
        </p:nvPicPr>
        <p:blipFill>
          <a:blip r:embed="rId1"/>
          <a:stretch/>
        </p:blipFill>
        <p:spPr>
          <a:xfrm>
            <a:off x="826920" y="2781360"/>
            <a:ext cx="7561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5T08:20:25Z</dcterms:modified>
  <cp:revision>621</cp:revision>
  <dc:subject/>
  <dc:title>Slide 1</dc:title>
</cp:coreProperties>
</file>