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9.png" ContentType="image/png"/>
  <Override PartName="/ppt/media/image7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19.jpeg" ContentType="image/jpeg"/>
  <Override PartName="/ppt/media/image18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1.png" ContentType="image/png"/>
  <Override PartName="/ppt/media/image3.wmf" ContentType="image/x-wmf"/>
  <Override PartName="/ppt/media/image13.jpeg" ContentType="image/jpeg"/>
  <Override PartName="/ppt/media/image2.png" ContentType="image/pn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68183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184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9"/>
          </p:nvPr>
        </p:nvSpPr>
        <p:spPr>
          <a:xfrm>
            <a:off x="3862080" y="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927000" y="744120"/>
            <a:ext cx="496728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10"/>
          </p:nvPr>
        </p:nvSpPr>
        <p:spPr>
          <a:xfrm>
            <a:off x="-36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11"/>
          </p:nvPr>
        </p:nvSpPr>
        <p:spPr>
          <a:xfrm>
            <a:off x="386208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CFBBA-7665-4BE1-BF22-FAAE0FB0F92B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648DE-A279-4A16-955C-9210BA7F7C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01EF8-E8A6-4FF1-AFDD-84498FDB8CE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2560" y="4717800"/>
            <a:ext cx="545472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ho’s wait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Local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aiting for Gado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4AC23-089C-4426-8F01-C5BCB0F38E15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927000" y="7462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hape 48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6E3FC-7A98-4DBA-BD24-F966F45D9A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BFC2A-D2D4-4F0C-AB6A-BBA109090C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Shape 414"/>
          <p:cNvSpPr/>
          <p:nvPr/>
        </p:nvSpPr>
        <p:spPr>
          <a:xfrm>
            <a:off x="3863880" y="9435960"/>
            <a:ext cx="2955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FA804-02AF-4A31-A440-E23FBB30DB4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1160" y="4717800"/>
            <a:ext cx="499752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927000" y="7462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Develop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heir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own policie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mobilize additional resource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involving civil society and private acto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prov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the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local implementatio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entral policie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nd public spending effici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Shape 407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DD9A9-44D3-441D-A17D-398F4C8A1CAB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927000" y="7462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Shape 461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7F16C-DF70-4A55-A76F-345E36DBB9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4554-808E-49F0-B3E7-5E42F81A6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990C-4B9B-4A26-B22E-FD03636C3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50CF-4E38-4843-BACA-A50098FF3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D362-0440-4CBC-B703-B36B0066C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F37AE-0A4E-464E-BD7D-1F778E513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DBBD9-B3A8-43AE-BBE6-A0BC31993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24200-E017-421A-9DE6-EEA18160C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C1DBC-40A6-419C-AF50-7DBCBAD50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9453A-AE1C-48D5-8193-CE8A6E27C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EF02F-B325-4DC4-87C4-EEABAF4E0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D41C6-8596-4A20-9348-4762F396D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B961-8715-4489-ACA5-8E21BF601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DE5BA-AAA7-4681-92CC-F82C3384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2E9EF-BB6D-49A7-BFF7-748EC48CF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1A6A8-A0FA-4C96-BC10-0CB4D50B9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6B4DD-FB06-42B0-885B-FF5B63066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C37BF-AD10-4FA3-BE0D-B6A789682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184968-25CB-4AF9-B5FB-420518BE4D9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E9F82E-ED88-4822-98CB-58DB3952E9B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0378FC-E8C2-4230-8C5C-879A5E684D4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9389CB-ABA3-4AC2-8D48-F9F01994A79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CFBCA1-2BD5-46C4-B7FB-F42B669331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A589-C582-46AE-B376-BAD8B4C69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FE98A8-4ADA-4AFC-AEBE-39B7158F7E4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C60DDC-15FB-4A53-B6EE-4D2F47BFBFE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2D908E-117A-431F-82B8-476715A5B60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986F6C-E45D-474E-A3A0-07BE7EF4B02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C1604E-56C5-48A1-9EB7-D1CEFBA1B71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B6E353-C9E7-4B8E-B9CD-5B17FCB272E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A6A5BF-CBCF-4292-AB44-AF1C1AFD6F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923F-2057-42EC-8C49-10ED700D0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755B-2F1D-4328-A86D-7AC97F570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D1AA-017F-452D-93D9-78ABB65A2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F917-86B9-47F7-9343-49E0427A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8A07-6B60-408D-B47D-076E0A418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CD4B-8651-4412-B208-1017016F3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465FD-3E27-4094-AE47-1D5E9B4D638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6" name="Picture 18" descr="footer_white_transparent_en"/>
          <p:cNvPicPr/>
          <p:nvPr/>
        </p:nvPicPr>
        <p:blipFill>
          <a:blip r:embed="rId2"/>
          <a:stretch/>
        </p:blipFill>
        <p:spPr>
          <a:xfrm>
            <a:off x="4260960" y="6595920"/>
            <a:ext cx="610920" cy="252720"/>
          </a:xfrm>
          <a:prstGeom prst="rect">
            <a:avLst/>
          </a:prstGeom>
          <a:ln w="9360">
            <a:solidFill>
              <a:srgbClr val="bf4b36"/>
            </a:solidFill>
            <a:miter/>
          </a:ln>
        </p:spPr>
      </p:pic>
      <p:sp>
        <p:nvSpPr>
          <p:cNvPr id="7" name="Line 19"/>
          <p:cNvSpPr/>
          <p:nvPr/>
        </p:nvSpPr>
        <p:spPr>
          <a:xfrm>
            <a:off x="4253040" y="1236600"/>
            <a:ext cx="622080" cy="0"/>
          </a:xfrm>
          <a:prstGeom prst="line">
            <a:avLst/>
          </a:prstGeom>
          <a:ln w="38160">
            <a:solidFill>
              <a:srgbClr val="bf4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8" name="Picture 22" descr="Picture2"/>
          <p:cNvPicPr/>
          <p:nvPr/>
        </p:nvPicPr>
        <p:blipFill>
          <a:blip r:embed="rId3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6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7" name="Line 22"/>
          <p:cNvSpPr/>
          <p:nvPr/>
        </p:nvSpPr>
        <p:spPr>
          <a:xfrm>
            <a:off x="4253040" y="1233360"/>
            <a:ext cx="630000" cy="0"/>
          </a:xfrm>
          <a:prstGeom prst="line">
            <a:avLst/>
          </a:prstGeom>
          <a:ln w="38160">
            <a:solidFill>
              <a:srgbClr val="bf4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8" name="Picture 25" descr="footer_white_transparent_en"/>
          <p:cNvPicPr/>
          <p:nvPr/>
        </p:nvPicPr>
        <p:blipFill>
          <a:blip r:embed="rId3"/>
          <a:stretch/>
        </p:blipFill>
        <p:spPr>
          <a:xfrm>
            <a:off x="4260960" y="6595920"/>
            <a:ext cx="610920" cy="252720"/>
          </a:xfrm>
          <a:prstGeom prst="rect">
            <a:avLst/>
          </a:prstGeom>
          <a:ln w="9360">
            <a:solidFill>
              <a:srgbClr val="bf4b36"/>
            </a:solidFill>
            <a:miter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28C0E-F88D-4B94-99D7-0F974C43614D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1" name="Picture 18" descr="footer_white_transparent_en"/>
          <p:cNvPicPr/>
          <p:nvPr/>
        </p:nvPicPr>
        <p:blipFill>
          <a:blip r:embed="rId2"/>
          <a:stretch/>
        </p:blipFill>
        <p:spPr>
          <a:xfrm>
            <a:off x="4260960" y="6595920"/>
            <a:ext cx="610920" cy="252720"/>
          </a:xfrm>
          <a:prstGeom prst="rect">
            <a:avLst/>
          </a:prstGeom>
          <a:ln w="9360">
            <a:solidFill>
              <a:srgbClr val="bf4b36"/>
            </a:solidFill>
            <a:miter/>
          </a:ln>
        </p:spPr>
      </p:pic>
      <p:sp>
        <p:nvSpPr>
          <p:cNvPr id="92" name="Line 19"/>
          <p:cNvSpPr/>
          <p:nvPr/>
        </p:nvSpPr>
        <p:spPr>
          <a:xfrm>
            <a:off x="4253040" y="1236600"/>
            <a:ext cx="622080" cy="0"/>
          </a:xfrm>
          <a:prstGeom prst="line">
            <a:avLst/>
          </a:prstGeom>
          <a:ln w="38160">
            <a:solidFill>
              <a:srgbClr val="bf4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3" name="Picture 22" descr="Picture2"/>
          <p:cNvPicPr/>
          <p:nvPr/>
        </p:nvPicPr>
        <p:blipFill>
          <a:blip r:embed="rId3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94" name="Rechthoek 3"/>
          <p:cNvSpPr/>
          <p:nvPr/>
        </p:nvSpPr>
        <p:spPr>
          <a:xfrm>
            <a:off x="185760" y="6680160"/>
            <a:ext cx="8780400" cy="185760"/>
          </a:xfrm>
          <a:prstGeom prst="rect">
            <a:avLst/>
          </a:prstGeom>
          <a:solidFill>
            <a:srgbClr val="82891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7"/>
          </p:nvPr>
        </p:nvSpPr>
        <p:spPr>
          <a:xfrm>
            <a:off x="178920" y="6237360"/>
            <a:ext cx="1871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ECDP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8"/>
          </p:nvPr>
        </p:nvSpPr>
        <p:spPr>
          <a:xfrm>
            <a:off x="7596000" y="6237360"/>
            <a:ext cx="1368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D3090837-1C3C-4103-A619-B24E87B4B50D}" type="slidenum">
              <a:rPr b="0" lang="nl-B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7640" y="1268280"/>
            <a:ext cx="8862840" cy="46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e7b400"/>
                </a:solidFill>
                <a:latin typeface="Verdana"/>
              </a:rPr>
              <a:t>Résumé</a:t>
            </a:r>
            <a:br>
              <a:rPr sz="3200"/>
            </a:br>
            <a:br>
              <a:rPr sz="3200"/>
            </a:br>
            <a:r>
              <a:rPr b="1" lang="fr-FR" sz="3200" spc="-1" strike="noStrike">
                <a:solidFill>
                  <a:srgbClr val="ffd624"/>
                </a:solidFill>
                <a:latin typeface="Verdana"/>
              </a:rPr>
              <a:t>CONCLUSIONS PRINCIPALES</a:t>
            </a:r>
            <a:br>
              <a:rPr sz="3200"/>
            </a:br>
            <a:r>
              <a:rPr b="1" lang="fr-FR" sz="3200" spc="-1" strike="noStrike">
                <a:solidFill>
                  <a:srgbClr val="ffd624"/>
                </a:solidFill>
                <a:latin typeface="Verdana"/>
              </a:rPr>
              <a:t>ET PISTES D’ACTION POUR LE FUTUR</a:t>
            </a:r>
            <a:br>
              <a:rPr sz="2000"/>
            </a:br>
            <a:br>
              <a:rPr sz="2000"/>
            </a:br>
            <a:r>
              <a:rPr b="1" lang="es-ES_tradnl" sz="2000" spc="-1" strike="noStrike">
                <a:solidFill>
                  <a:srgbClr val="ffd624"/>
                </a:solidFill>
                <a:latin typeface="Verdana"/>
              </a:rPr>
              <a:t>par Jean Bossuyt (ECDPM)</a:t>
            </a:r>
            <a:br>
              <a:rPr sz="2000"/>
            </a:br>
            <a:br>
              <a:rPr sz="2000"/>
            </a:br>
            <a:r>
              <a:rPr b="0" lang="fr-BE" sz="1800" spc="-1" strike="noStrike">
                <a:solidFill>
                  <a:srgbClr val="e7b400"/>
                </a:solidFill>
                <a:latin typeface="Verdana"/>
              </a:rPr>
              <a:t>Séminaire régional approche territoriale du développement local pour les pays d’Afrique Centrale et de l’Ouest</a:t>
            </a:r>
            <a:br>
              <a:rPr sz="1800"/>
            </a:br>
            <a:br>
              <a:rPr sz="1800"/>
            </a:br>
            <a:r>
              <a:rPr b="0" lang="fr-BE" sz="1800" spc="-1" strike="noStrike">
                <a:solidFill>
                  <a:srgbClr val="e7b400"/>
                </a:solidFill>
                <a:latin typeface="Verdana"/>
              </a:rPr>
              <a:t>Cotonou, 24-26 novembre 2015</a:t>
            </a: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610920" y="1474920"/>
            <a:ext cx="80643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Verdana"/>
              </a:rPr>
              <a:t>MESSAGE 2</a:t>
            </a:r>
            <a:endParaRPr b="0" i="1" lang="en-US" sz="32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POTENTIEL REEL POUR LES APPROCHES TERRITORIALES</a:t>
            </a:r>
            <a:endParaRPr b="0" i="1" lang="en-US" sz="32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c892b"/>
              </a:solidFill>
              <a:latin typeface="Verdana"/>
              <a:ea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178920" y="1773360"/>
            <a:ext cx="8496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*   EVEIL DU NIVEAU LOCAL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*   IDENTITES ET DYNAMIQUES LOCALES (“CITOYENS AU NIVEAU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LOCAL SONT EN AVANCE” PAR RAPPORT AU CENTRE…”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*   COLLABORATIONS NOVATRICES AL et SC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*   ECHEC DES APPROCHES POUSSEES D’EN HAUT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*   ENJEUX REELS A PRENDRE EN MAIN PAR LE LOCAL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*  POPULARITE DES APPROCHES TERRITORIALE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468360" y="1052280"/>
            <a:ext cx="6850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ＭＳ Ｐゴシック"/>
              </a:rPr>
              <a:t>RAISONS D’OPTIMISME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539640" y="1474920"/>
            <a:ext cx="813600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Verdana"/>
              </a:rPr>
              <a:t>MESSAGE 3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RISQUES ET ECEUILS POUR UNE DILUTION DE L’APPROCHE TERRITORIALE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c892b"/>
              </a:solidFill>
              <a:latin typeface="Verdana"/>
              <a:ea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826920" y="177336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91600" indent="-2916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*   NOUVELLE “MODE”  PASSAGERE?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91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91600" indent="-2916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*  CONTEXTE AFRIQUE DE L’OUEST 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91600" indent="-2916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(ETATS JEUNES, FRAGILES, BUREAUCRATIQUES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91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91600" indent="-2916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*  LE PHENOMENE DE LA MAIN TENDUE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91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91600" indent="-2916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*  “DESAMENAGEMENT” DE TERRITOIRE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91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91600" indent="-2916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*  NOTION TROP ETROITE DU LOCAL (ECHELLE, TERRITOIRE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LEGAL 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91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91600" indent="-2916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*  PROMOTION TALD AVEC APPROCES CENTRALISEE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91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91600" indent="-2916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*  COMPLEXITE TROP GRANDE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826560" y="836640"/>
            <a:ext cx="78598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c892b"/>
                </a:solidFill>
                <a:latin typeface="Verdana"/>
                <a:ea typeface="ＭＳ Ｐゴシック"/>
              </a:rPr>
              <a:t>EPINES DANS LE PIED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1" descr="Screen Shot 2015-11-26 at 12.26.43.png"/>
          <p:cNvPicPr/>
          <p:nvPr/>
        </p:nvPicPr>
        <p:blipFill>
          <a:blip r:embed="rId1"/>
          <a:stretch/>
        </p:blipFill>
        <p:spPr>
          <a:xfrm>
            <a:off x="1258920" y="2019240"/>
            <a:ext cx="6769080" cy="28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755640" y="1474920"/>
            <a:ext cx="792000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Verdana"/>
              </a:rPr>
              <a:t>MESSAGE 4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Verdana"/>
              </a:rPr>
              <a:t>COMMENT FAIRE AUTREMENT?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c892b"/>
              </a:solidFill>
              <a:latin typeface="Verdana"/>
              <a:ea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Waiting for Democracy Cover Painting  for Power Point"/>
          <p:cNvPicPr/>
          <p:nvPr/>
        </p:nvPicPr>
        <p:blipFill>
          <a:blip r:embed="rId1"/>
          <a:stretch/>
        </p:blipFill>
        <p:spPr>
          <a:xfrm>
            <a:off x="835200" y="-27000"/>
            <a:ext cx="7632360" cy="693432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4"/>
          <p:cNvSpPr/>
          <p:nvPr/>
        </p:nvSpPr>
        <p:spPr>
          <a:xfrm>
            <a:off x="826920" y="4751280"/>
            <a:ext cx="357696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24000" y="1052640"/>
            <a:ext cx="8820000" cy="28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008000"/>
                </a:solidFill>
                <a:latin typeface="Calibri"/>
              </a:rPr>
              <a:t>     </a:t>
            </a:r>
            <a:br>
              <a:rPr sz="4000"/>
            </a:br>
            <a:r>
              <a:rPr b="1" i="1" lang="en-US" sz="2800" spc="-1" strike="noStrike">
                <a:solidFill>
                  <a:srgbClr val="008000"/>
                </a:solidFill>
                <a:latin typeface="Calibri"/>
              </a:rPr>
              <a:t>Analyse d’économie politique=  regarder derrière la façade…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30" name="10. look behind curtain (2).jpg" descr="/Users/JB/Downloads/10. look behind curtain (2).jpg"/>
          <p:cNvPicPr/>
          <p:nvPr/>
        </p:nvPicPr>
        <p:blipFill>
          <a:blip r:embed="rId1"/>
          <a:srcRect l="-40901" t="0" r="-40901" b="0"/>
          <a:stretch/>
        </p:blipFill>
        <p:spPr>
          <a:xfrm>
            <a:off x="468360" y="2421000"/>
            <a:ext cx="82296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Group 209"/>
          <p:cNvGrpSpPr/>
          <p:nvPr/>
        </p:nvGrpSpPr>
        <p:grpSpPr>
          <a:xfrm>
            <a:off x="34920" y="1792440"/>
            <a:ext cx="2855160" cy="1201320"/>
            <a:chOff x="34920" y="1792440"/>
            <a:chExt cx="2855160" cy="1201320"/>
          </a:xfrm>
        </p:grpSpPr>
        <p:grpSp>
          <p:nvGrpSpPr>
            <p:cNvPr id="232" name="Group 101"/>
            <p:cNvGrpSpPr/>
            <p:nvPr/>
          </p:nvGrpSpPr>
          <p:grpSpPr>
            <a:xfrm>
              <a:off x="34920" y="1792440"/>
              <a:ext cx="2855160" cy="1201320"/>
              <a:chOff x="34920" y="1792440"/>
              <a:chExt cx="2855160" cy="1201320"/>
            </a:xfrm>
          </p:grpSpPr>
          <p:sp>
            <p:nvSpPr>
              <p:cNvPr id="233" name="Freeform 102"/>
              <p:cNvSpPr/>
              <p:nvPr/>
            </p:nvSpPr>
            <p:spPr>
              <a:xfrm>
                <a:off x="387360" y="1792440"/>
                <a:ext cx="1521000" cy="121320"/>
              </a:xfrm>
              <a:custGeom>
                <a:avLst/>
                <a:gdLst/>
                <a:ahLst/>
                <a:rect l="l" t="t" r="r" b="b"/>
                <a:pathLst>
                  <a:path w="7154" h="1419">
                    <a:moveTo>
                      <a:pt x="3416" y="0"/>
                    </a:moveTo>
                    <a:lnTo>
                      <a:pt x="3435" y="0"/>
                    </a:lnTo>
                    <a:lnTo>
                      <a:pt x="3435" y="0"/>
                    </a:lnTo>
                    <a:lnTo>
                      <a:pt x="3454" y="0"/>
                    </a:lnTo>
                    <a:lnTo>
                      <a:pt x="3454" y="0"/>
                    </a:lnTo>
                    <a:lnTo>
                      <a:pt x="3473" y="0"/>
                    </a:lnTo>
                    <a:lnTo>
                      <a:pt x="3473" y="0"/>
                    </a:lnTo>
                    <a:lnTo>
                      <a:pt x="3473" y="18"/>
                    </a:lnTo>
                    <a:lnTo>
                      <a:pt x="3492" y="18"/>
                    </a:lnTo>
                    <a:lnTo>
                      <a:pt x="3661" y="719"/>
                    </a:lnTo>
                    <a:lnTo>
                      <a:pt x="4794" y="387"/>
                    </a:lnTo>
                    <a:lnTo>
                      <a:pt x="4889" y="1180"/>
                    </a:lnTo>
                    <a:lnTo>
                      <a:pt x="4549" y="1419"/>
                    </a:lnTo>
                    <a:lnTo>
                      <a:pt x="0" y="1419"/>
                    </a:lnTo>
                    <a:lnTo>
                      <a:pt x="19" y="1382"/>
                    </a:lnTo>
                    <a:lnTo>
                      <a:pt x="57" y="1346"/>
                    </a:lnTo>
                    <a:lnTo>
                      <a:pt x="76" y="1327"/>
                    </a:lnTo>
                    <a:lnTo>
                      <a:pt x="94" y="1309"/>
                    </a:lnTo>
                    <a:lnTo>
                      <a:pt x="131" y="1272"/>
                    </a:lnTo>
                    <a:lnTo>
                      <a:pt x="150" y="1253"/>
                    </a:lnTo>
                    <a:lnTo>
                      <a:pt x="188" y="1216"/>
                    </a:lnTo>
                    <a:lnTo>
                      <a:pt x="207" y="1198"/>
                    </a:lnTo>
                    <a:lnTo>
                      <a:pt x="245" y="1180"/>
                    </a:lnTo>
                    <a:lnTo>
                      <a:pt x="264" y="1143"/>
                    </a:lnTo>
                    <a:lnTo>
                      <a:pt x="302" y="1124"/>
                    </a:lnTo>
                    <a:lnTo>
                      <a:pt x="321" y="1106"/>
                    </a:lnTo>
                    <a:lnTo>
                      <a:pt x="358" y="1087"/>
                    </a:lnTo>
                    <a:lnTo>
                      <a:pt x="396" y="1069"/>
                    </a:lnTo>
                    <a:lnTo>
                      <a:pt x="415" y="1050"/>
                    </a:lnTo>
                    <a:lnTo>
                      <a:pt x="453" y="1014"/>
                    </a:lnTo>
                    <a:lnTo>
                      <a:pt x="453" y="1033"/>
                    </a:lnTo>
                    <a:lnTo>
                      <a:pt x="471" y="1050"/>
                    </a:lnTo>
                    <a:lnTo>
                      <a:pt x="471" y="1050"/>
                    </a:lnTo>
                    <a:lnTo>
                      <a:pt x="490" y="1069"/>
                    </a:lnTo>
                    <a:lnTo>
                      <a:pt x="490" y="1069"/>
                    </a:lnTo>
                    <a:lnTo>
                      <a:pt x="509" y="1087"/>
                    </a:lnTo>
                    <a:lnTo>
                      <a:pt x="509" y="1106"/>
                    </a:lnTo>
                    <a:lnTo>
                      <a:pt x="509" y="1124"/>
                    </a:lnTo>
                    <a:lnTo>
                      <a:pt x="528" y="1143"/>
                    </a:lnTo>
                    <a:lnTo>
                      <a:pt x="528" y="1143"/>
                    </a:lnTo>
                    <a:lnTo>
                      <a:pt x="528" y="1161"/>
                    </a:lnTo>
                    <a:lnTo>
                      <a:pt x="547" y="1180"/>
                    </a:lnTo>
                    <a:lnTo>
                      <a:pt x="547" y="1198"/>
                    </a:lnTo>
                    <a:lnTo>
                      <a:pt x="547" y="1216"/>
                    </a:lnTo>
                    <a:lnTo>
                      <a:pt x="566" y="1216"/>
                    </a:lnTo>
                    <a:lnTo>
                      <a:pt x="566" y="1235"/>
                    </a:lnTo>
                    <a:lnTo>
                      <a:pt x="566" y="1253"/>
                    </a:lnTo>
                    <a:lnTo>
                      <a:pt x="566" y="1272"/>
                    </a:lnTo>
                    <a:lnTo>
                      <a:pt x="566" y="1272"/>
                    </a:lnTo>
                    <a:lnTo>
                      <a:pt x="566" y="1290"/>
                    </a:lnTo>
                    <a:lnTo>
                      <a:pt x="566" y="1309"/>
                    </a:lnTo>
                    <a:lnTo>
                      <a:pt x="566" y="1327"/>
                    </a:lnTo>
                    <a:lnTo>
                      <a:pt x="585" y="1346"/>
                    </a:lnTo>
                    <a:lnTo>
                      <a:pt x="585" y="1364"/>
                    </a:lnTo>
                    <a:lnTo>
                      <a:pt x="3416" y="0"/>
                    </a:lnTo>
                    <a:close/>
                    <a:moveTo>
                      <a:pt x="5115" y="1419"/>
                    </a:moveTo>
                    <a:lnTo>
                      <a:pt x="5134" y="1400"/>
                    </a:lnTo>
                    <a:lnTo>
                      <a:pt x="5172" y="1382"/>
                    </a:lnTo>
                    <a:lnTo>
                      <a:pt x="5209" y="1364"/>
                    </a:lnTo>
                    <a:lnTo>
                      <a:pt x="5247" y="1364"/>
                    </a:lnTo>
                    <a:lnTo>
                      <a:pt x="5266" y="1346"/>
                    </a:lnTo>
                    <a:lnTo>
                      <a:pt x="5304" y="1327"/>
                    </a:lnTo>
                    <a:lnTo>
                      <a:pt x="5342" y="1309"/>
                    </a:lnTo>
                    <a:lnTo>
                      <a:pt x="5361" y="1309"/>
                    </a:lnTo>
                    <a:lnTo>
                      <a:pt x="5399" y="1290"/>
                    </a:lnTo>
                    <a:lnTo>
                      <a:pt x="5436" y="1272"/>
                    </a:lnTo>
                    <a:lnTo>
                      <a:pt x="5473" y="1272"/>
                    </a:lnTo>
                    <a:lnTo>
                      <a:pt x="5492" y="1253"/>
                    </a:lnTo>
                    <a:lnTo>
                      <a:pt x="5530" y="1235"/>
                    </a:lnTo>
                    <a:lnTo>
                      <a:pt x="5568" y="1216"/>
                    </a:lnTo>
                    <a:lnTo>
                      <a:pt x="5587" y="1216"/>
                    </a:lnTo>
                    <a:lnTo>
                      <a:pt x="5625" y="1198"/>
                    </a:lnTo>
                    <a:lnTo>
                      <a:pt x="5663" y="1198"/>
                    </a:lnTo>
                    <a:lnTo>
                      <a:pt x="5701" y="1180"/>
                    </a:lnTo>
                    <a:lnTo>
                      <a:pt x="5720" y="1161"/>
                    </a:lnTo>
                    <a:lnTo>
                      <a:pt x="5757" y="1161"/>
                    </a:lnTo>
                    <a:lnTo>
                      <a:pt x="5794" y="1143"/>
                    </a:lnTo>
                    <a:lnTo>
                      <a:pt x="5813" y="1143"/>
                    </a:lnTo>
                    <a:lnTo>
                      <a:pt x="5851" y="1124"/>
                    </a:lnTo>
                    <a:lnTo>
                      <a:pt x="5889" y="1106"/>
                    </a:lnTo>
                    <a:lnTo>
                      <a:pt x="5908" y="1106"/>
                    </a:lnTo>
                    <a:lnTo>
                      <a:pt x="5946" y="1087"/>
                    </a:lnTo>
                    <a:lnTo>
                      <a:pt x="5984" y="1087"/>
                    </a:lnTo>
                    <a:lnTo>
                      <a:pt x="6002" y="1069"/>
                    </a:lnTo>
                    <a:lnTo>
                      <a:pt x="6040" y="1069"/>
                    </a:lnTo>
                    <a:lnTo>
                      <a:pt x="6078" y="1069"/>
                    </a:lnTo>
                    <a:lnTo>
                      <a:pt x="6097" y="1050"/>
                    </a:lnTo>
                    <a:lnTo>
                      <a:pt x="6134" y="1050"/>
                    </a:lnTo>
                    <a:lnTo>
                      <a:pt x="6172" y="1033"/>
                    </a:lnTo>
                    <a:lnTo>
                      <a:pt x="6210" y="1033"/>
                    </a:lnTo>
                    <a:lnTo>
                      <a:pt x="6229" y="1014"/>
                    </a:lnTo>
                    <a:lnTo>
                      <a:pt x="6266" y="1014"/>
                    </a:lnTo>
                    <a:lnTo>
                      <a:pt x="6304" y="996"/>
                    </a:lnTo>
                    <a:lnTo>
                      <a:pt x="6323" y="996"/>
                    </a:lnTo>
                    <a:lnTo>
                      <a:pt x="6361" y="996"/>
                    </a:lnTo>
                    <a:lnTo>
                      <a:pt x="6399" y="977"/>
                    </a:lnTo>
                    <a:lnTo>
                      <a:pt x="6418" y="977"/>
                    </a:lnTo>
                    <a:lnTo>
                      <a:pt x="6456" y="959"/>
                    </a:lnTo>
                    <a:lnTo>
                      <a:pt x="6493" y="959"/>
                    </a:lnTo>
                    <a:lnTo>
                      <a:pt x="6512" y="940"/>
                    </a:lnTo>
                    <a:lnTo>
                      <a:pt x="6549" y="940"/>
                    </a:lnTo>
                    <a:lnTo>
                      <a:pt x="6587" y="922"/>
                    </a:lnTo>
                    <a:lnTo>
                      <a:pt x="6606" y="922"/>
                    </a:lnTo>
                    <a:lnTo>
                      <a:pt x="6644" y="903"/>
                    </a:lnTo>
                    <a:lnTo>
                      <a:pt x="6663" y="903"/>
                    </a:lnTo>
                    <a:lnTo>
                      <a:pt x="6701" y="885"/>
                    </a:lnTo>
                    <a:lnTo>
                      <a:pt x="6739" y="885"/>
                    </a:lnTo>
                    <a:lnTo>
                      <a:pt x="6758" y="866"/>
                    </a:lnTo>
                    <a:lnTo>
                      <a:pt x="6796" y="866"/>
                    </a:lnTo>
                    <a:lnTo>
                      <a:pt x="6814" y="866"/>
                    </a:lnTo>
                    <a:lnTo>
                      <a:pt x="6851" y="848"/>
                    </a:lnTo>
                    <a:lnTo>
                      <a:pt x="6889" y="848"/>
                    </a:lnTo>
                    <a:lnTo>
                      <a:pt x="6908" y="829"/>
                    </a:lnTo>
                    <a:lnTo>
                      <a:pt x="6946" y="829"/>
                    </a:lnTo>
                    <a:lnTo>
                      <a:pt x="6965" y="811"/>
                    </a:lnTo>
                    <a:lnTo>
                      <a:pt x="7003" y="811"/>
                    </a:lnTo>
                    <a:lnTo>
                      <a:pt x="7022" y="811"/>
                    </a:lnTo>
                    <a:lnTo>
                      <a:pt x="7060" y="792"/>
                    </a:lnTo>
                    <a:lnTo>
                      <a:pt x="7078" y="792"/>
                    </a:lnTo>
                    <a:lnTo>
                      <a:pt x="7116" y="792"/>
                    </a:lnTo>
                    <a:lnTo>
                      <a:pt x="7154" y="1419"/>
                    </a:lnTo>
                    <a:lnTo>
                      <a:pt x="5115" y="14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34" name="Freeform 103"/>
              <p:cNvSpPr/>
              <p:nvPr/>
            </p:nvSpPr>
            <p:spPr>
              <a:xfrm>
                <a:off x="268920" y="1851480"/>
                <a:ext cx="2233800" cy="120960"/>
              </a:xfrm>
              <a:custGeom>
                <a:avLst/>
                <a:gdLst/>
                <a:ahLst/>
                <a:rect l="l" t="t" r="r" b="b"/>
                <a:pathLst>
                  <a:path w="10534" h="1419">
                    <a:moveTo>
                      <a:pt x="4228" y="0"/>
                    </a:moveTo>
                    <a:lnTo>
                      <a:pt x="4228" y="19"/>
                    </a:lnTo>
                    <a:lnTo>
                      <a:pt x="4304" y="0"/>
                    </a:lnTo>
                    <a:lnTo>
                      <a:pt x="5399" y="0"/>
                    </a:lnTo>
                    <a:lnTo>
                      <a:pt x="5456" y="480"/>
                    </a:lnTo>
                    <a:lnTo>
                      <a:pt x="4153" y="1346"/>
                    </a:lnTo>
                    <a:lnTo>
                      <a:pt x="4228" y="1327"/>
                    </a:lnTo>
                    <a:lnTo>
                      <a:pt x="4304" y="1290"/>
                    </a:lnTo>
                    <a:lnTo>
                      <a:pt x="4380" y="1272"/>
                    </a:lnTo>
                    <a:lnTo>
                      <a:pt x="4455" y="1235"/>
                    </a:lnTo>
                    <a:lnTo>
                      <a:pt x="4531" y="1198"/>
                    </a:lnTo>
                    <a:lnTo>
                      <a:pt x="4606" y="1180"/>
                    </a:lnTo>
                    <a:lnTo>
                      <a:pt x="4681" y="1143"/>
                    </a:lnTo>
                    <a:lnTo>
                      <a:pt x="4776" y="1106"/>
                    </a:lnTo>
                    <a:lnTo>
                      <a:pt x="4852" y="1069"/>
                    </a:lnTo>
                    <a:lnTo>
                      <a:pt x="4927" y="1032"/>
                    </a:lnTo>
                    <a:lnTo>
                      <a:pt x="5002" y="1014"/>
                    </a:lnTo>
                    <a:lnTo>
                      <a:pt x="5097" y="977"/>
                    </a:lnTo>
                    <a:lnTo>
                      <a:pt x="5173" y="940"/>
                    </a:lnTo>
                    <a:lnTo>
                      <a:pt x="5248" y="903"/>
                    </a:lnTo>
                    <a:lnTo>
                      <a:pt x="5342" y="867"/>
                    </a:lnTo>
                    <a:lnTo>
                      <a:pt x="5418" y="830"/>
                    </a:lnTo>
                    <a:lnTo>
                      <a:pt x="5493" y="793"/>
                    </a:lnTo>
                    <a:lnTo>
                      <a:pt x="5569" y="756"/>
                    </a:lnTo>
                    <a:lnTo>
                      <a:pt x="5663" y="719"/>
                    </a:lnTo>
                    <a:lnTo>
                      <a:pt x="5739" y="682"/>
                    </a:lnTo>
                    <a:lnTo>
                      <a:pt x="5814" y="646"/>
                    </a:lnTo>
                    <a:lnTo>
                      <a:pt x="5909" y="609"/>
                    </a:lnTo>
                    <a:lnTo>
                      <a:pt x="5984" y="590"/>
                    </a:lnTo>
                    <a:lnTo>
                      <a:pt x="6059" y="553"/>
                    </a:lnTo>
                    <a:lnTo>
                      <a:pt x="6154" y="516"/>
                    </a:lnTo>
                    <a:lnTo>
                      <a:pt x="6230" y="498"/>
                    </a:lnTo>
                    <a:lnTo>
                      <a:pt x="6305" y="461"/>
                    </a:lnTo>
                    <a:lnTo>
                      <a:pt x="6380" y="443"/>
                    </a:lnTo>
                    <a:lnTo>
                      <a:pt x="6475" y="406"/>
                    </a:lnTo>
                    <a:lnTo>
                      <a:pt x="6551" y="387"/>
                    </a:lnTo>
                    <a:lnTo>
                      <a:pt x="6626" y="369"/>
                    </a:lnTo>
                    <a:lnTo>
                      <a:pt x="6701" y="350"/>
                    </a:lnTo>
                    <a:lnTo>
                      <a:pt x="6739" y="333"/>
                    </a:lnTo>
                    <a:lnTo>
                      <a:pt x="6777" y="333"/>
                    </a:lnTo>
                    <a:lnTo>
                      <a:pt x="6796" y="314"/>
                    </a:lnTo>
                    <a:lnTo>
                      <a:pt x="6833" y="314"/>
                    </a:lnTo>
                    <a:lnTo>
                      <a:pt x="6871" y="296"/>
                    </a:lnTo>
                    <a:lnTo>
                      <a:pt x="6890" y="296"/>
                    </a:lnTo>
                    <a:lnTo>
                      <a:pt x="6928" y="296"/>
                    </a:lnTo>
                    <a:lnTo>
                      <a:pt x="6966" y="277"/>
                    </a:lnTo>
                    <a:lnTo>
                      <a:pt x="6985" y="277"/>
                    </a:lnTo>
                    <a:lnTo>
                      <a:pt x="7023" y="259"/>
                    </a:lnTo>
                    <a:lnTo>
                      <a:pt x="7060" y="259"/>
                    </a:lnTo>
                    <a:lnTo>
                      <a:pt x="7079" y="240"/>
                    </a:lnTo>
                    <a:lnTo>
                      <a:pt x="7116" y="240"/>
                    </a:lnTo>
                    <a:lnTo>
                      <a:pt x="7154" y="222"/>
                    </a:lnTo>
                    <a:lnTo>
                      <a:pt x="7173" y="222"/>
                    </a:lnTo>
                    <a:lnTo>
                      <a:pt x="7211" y="203"/>
                    </a:lnTo>
                    <a:lnTo>
                      <a:pt x="7230" y="203"/>
                    </a:lnTo>
                    <a:lnTo>
                      <a:pt x="7268" y="185"/>
                    </a:lnTo>
                    <a:lnTo>
                      <a:pt x="7306" y="185"/>
                    </a:lnTo>
                    <a:lnTo>
                      <a:pt x="7325" y="166"/>
                    </a:lnTo>
                    <a:lnTo>
                      <a:pt x="7363" y="166"/>
                    </a:lnTo>
                    <a:lnTo>
                      <a:pt x="7381" y="166"/>
                    </a:lnTo>
                    <a:lnTo>
                      <a:pt x="7418" y="148"/>
                    </a:lnTo>
                    <a:lnTo>
                      <a:pt x="7456" y="148"/>
                    </a:lnTo>
                    <a:lnTo>
                      <a:pt x="7475" y="129"/>
                    </a:lnTo>
                    <a:lnTo>
                      <a:pt x="7513" y="129"/>
                    </a:lnTo>
                    <a:lnTo>
                      <a:pt x="7532" y="111"/>
                    </a:lnTo>
                    <a:lnTo>
                      <a:pt x="7570" y="111"/>
                    </a:lnTo>
                    <a:lnTo>
                      <a:pt x="7589" y="111"/>
                    </a:lnTo>
                    <a:lnTo>
                      <a:pt x="7627" y="92"/>
                    </a:lnTo>
                    <a:lnTo>
                      <a:pt x="7645" y="92"/>
                    </a:lnTo>
                    <a:lnTo>
                      <a:pt x="7683" y="92"/>
                    </a:lnTo>
                    <a:lnTo>
                      <a:pt x="7740" y="885"/>
                    </a:lnTo>
                    <a:lnTo>
                      <a:pt x="6607" y="1419"/>
                    </a:lnTo>
                    <a:lnTo>
                      <a:pt x="0" y="1419"/>
                    </a:lnTo>
                    <a:lnTo>
                      <a:pt x="38" y="1382"/>
                    </a:lnTo>
                    <a:lnTo>
                      <a:pt x="57" y="1346"/>
                    </a:lnTo>
                    <a:lnTo>
                      <a:pt x="95" y="1309"/>
                    </a:lnTo>
                    <a:lnTo>
                      <a:pt x="113" y="1272"/>
                    </a:lnTo>
                    <a:lnTo>
                      <a:pt x="151" y="1235"/>
                    </a:lnTo>
                    <a:lnTo>
                      <a:pt x="170" y="1198"/>
                    </a:lnTo>
                    <a:lnTo>
                      <a:pt x="208" y="1161"/>
                    </a:lnTo>
                    <a:lnTo>
                      <a:pt x="246" y="1124"/>
                    </a:lnTo>
                    <a:lnTo>
                      <a:pt x="265" y="1087"/>
                    </a:lnTo>
                    <a:lnTo>
                      <a:pt x="303" y="1050"/>
                    </a:lnTo>
                    <a:lnTo>
                      <a:pt x="321" y="1014"/>
                    </a:lnTo>
                    <a:lnTo>
                      <a:pt x="359" y="977"/>
                    </a:lnTo>
                    <a:lnTo>
                      <a:pt x="377" y="940"/>
                    </a:lnTo>
                    <a:lnTo>
                      <a:pt x="415" y="885"/>
                    </a:lnTo>
                    <a:lnTo>
                      <a:pt x="434" y="848"/>
                    </a:lnTo>
                    <a:lnTo>
                      <a:pt x="472" y="811"/>
                    </a:lnTo>
                    <a:lnTo>
                      <a:pt x="510" y="774"/>
                    </a:lnTo>
                    <a:lnTo>
                      <a:pt x="529" y="756"/>
                    </a:lnTo>
                    <a:lnTo>
                      <a:pt x="567" y="719"/>
                    </a:lnTo>
                    <a:lnTo>
                      <a:pt x="605" y="682"/>
                    </a:lnTo>
                    <a:lnTo>
                      <a:pt x="624" y="646"/>
                    </a:lnTo>
                    <a:lnTo>
                      <a:pt x="661" y="609"/>
                    </a:lnTo>
                    <a:lnTo>
                      <a:pt x="698" y="572"/>
                    </a:lnTo>
                    <a:lnTo>
                      <a:pt x="736" y="553"/>
                    </a:lnTo>
                    <a:lnTo>
                      <a:pt x="755" y="516"/>
                    </a:lnTo>
                    <a:lnTo>
                      <a:pt x="793" y="480"/>
                    </a:lnTo>
                    <a:lnTo>
                      <a:pt x="831" y="461"/>
                    </a:lnTo>
                    <a:lnTo>
                      <a:pt x="869" y="424"/>
                    </a:lnTo>
                    <a:lnTo>
                      <a:pt x="907" y="406"/>
                    </a:lnTo>
                    <a:lnTo>
                      <a:pt x="944" y="369"/>
                    </a:lnTo>
                    <a:lnTo>
                      <a:pt x="982" y="350"/>
                    </a:lnTo>
                    <a:lnTo>
                      <a:pt x="1020" y="314"/>
                    </a:lnTo>
                    <a:lnTo>
                      <a:pt x="1020" y="333"/>
                    </a:lnTo>
                    <a:lnTo>
                      <a:pt x="1038" y="350"/>
                    </a:lnTo>
                    <a:lnTo>
                      <a:pt x="1038" y="350"/>
                    </a:lnTo>
                    <a:lnTo>
                      <a:pt x="1057" y="369"/>
                    </a:lnTo>
                    <a:lnTo>
                      <a:pt x="1057" y="369"/>
                    </a:lnTo>
                    <a:lnTo>
                      <a:pt x="1076" y="387"/>
                    </a:lnTo>
                    <a:lnTo>
                      <a:pt x="1076" y="406"/>
                    </a:lnTo>
                    <a:lnTo>
                      <a:pt x="1076" y="424"/>
                    </a:lnTo>
                    <a:lnTo>
                      <a:pt x="1095" y="443"/>
                    </a:lnTo>
                    <a:lnTo>
                      <a:pt x="1095" y="443"/>
                    </a:lnTo>
                    <a:lnTo>
                      <a:pt x="1095" y="461"/>
                    </a:lnTo>
                    <a:lnTo>
                      <a:pt x="1114" y="480"/>
                    </a:lnTo>
                    <a:lnTo>
                      <a:pt x="1114" y="498"/>
                    </a:lnTo>
                    <a:lnTo>
                      <a:pt x="1114" y="516"/>
                    </a:lnTo>
                    <a:lnTo>
                      <a:pt x="1133" y="516"/>
                    </a:lnTo>
                    <a:lnTo>
                      <a:pt x="1133" y="535"/>
                    </a:lnTo>
                    <a:lnTo>
                      <a:pt x="1133" y="553"/>
                    </a:lnTo>
                    <a:lnTo>
                      <a:pt x="1133" y="572"/>
                    </a:lnTo>
                    <a:lnTo>
                      <a:pt x="1133" y="572"/>
                    </a:lnTo>
                    <a:lnTo>
                      <a:pt x="1133" y="590"/>
                    </a:lnTo>
                    <a:lnTo>
                      <a:pt x="1133" y="609"/>
                    </a:lnTo>
                    <a:lnTo>
                      <a:pt x="1133" y="627"/>
                    </a:lnTo>
                    <a:lnTo>
                      <a:pt x="1152" y="646"/>
                    </a:lnTo>
                    <a:lnTo>
                      <a:pt x="1152" y="664"/>
                    </a:lnTo>
                    <a:lnTo>
                      <a:pt x="2529" y="0"/>
                    </a:lnTo>
                    <a:lnTo>
                      <a:pt x="4228" y="0"/>
                    </a:lnTo>
                    <a:close/>
                    <a:moveTo>
                      <a:pt x="7268" y="1419"/>
                    </a:moveTo>
                    <a:lnTo>
                      <a:pt x="7325" y="1400"/>
                    </a:lnTo>
                    <a:lnTo>
                      <a:pt x="7381" y="1382"/>
                    </a:lnTo>
                    <a:lnTo>
                      <a:pt x="7437" y="1364"/>
                    </a:lnTo>
                    <a:lnTo>
                      <a:pt x="7494" y="1346"/>
                    </a:lnTo>
                    <a:lnTo>
                      <a:pt x="7551" y="1327"/>
                    </a:lnTo>
                    <a:lnTo>
                      <a:pt x="7589" y="1309"/>
                    </a:lnTo>
                    <a:lnTo>
                      <a:pt x="7645" y="1309"/>
                    </a:lnTo>
                    <a:lnTo>
                      <a:pt x="7702" y="1290"/>
                    </a:lnTo>
                    <a:lnTo>
                      <a:pt x="7758" y="1272"/>
                    </a:lnTo>
                    <a:lnTo>
                      <a:pt x="7815" y="1254"/>
                    </a:lnTo>
                    <a:lnTo>
                      <a:pt x="7872" y="1235"/>
                    </a:lnTo>
                    <a:lnTo>
                      <a:pt x="7928" y="1217"/>
                    </a:lnTo>
                    <a:lnTo>
                      <a:pt x="7985" y="1198"/>
                    </a:lnTo>
                    <a:lnTo>
                      <a:pt x="8042" y="1198"/>
                    </a:lnTo>
                    <a:lnTo>
                      <a:pt x="8099" y="1180"/>
                    </a:lnTo>
                    <a:lnTo>
                      <a:pt x="8155" y="1161"/>
                    </a:lnTo>
                    <a:lnTo>
                      <a:pt x="8211" y="1143"/>
                    </a:lnTo>
                    <a:lnTo>
                      <a:pt x="8268" y="1143"/>
                    </a:lnTo>
                    <a:lnTo>
                      <a:pt x="8325" y="1124"/>
                    </a:lnTo>
                    <a:lnTo>
                      <a:pt x="8363" y="1106"/>
                    </a:lnTo>
                    <a:lnTo>
                      <a:pt x="8420" y="1106"/>
                    </a:lnTo>
                    <a:lnTo>
                      <a:pt x="8475" y="1087"/>
                    </a:lnTo>
                    <a:lnTo>
                      <a:pt x="8532" y="1087"/>
                    </a:lnTo>
                    <a:lnTo>
                      <a:pt x="8589" y="1069"/>
                    </a:lnTo>
                    <a:lnTo>
                      <a:pt x="8646" y="1050"/>
                    </a:lnTo>
                    <a:lnTo>
                      <a:pt x="8703" y="1050"/>
                    </a:lnTo>
                    <a:lnTo>
                      <a:pt x="8759" y="1032"/>
                    </a:lnTo>
                    <a:lnTo>
                      <a:pt x="8815" y="1032"/>
                    </a:lnTo>
                    <a:lnTo>
                      <a:pt x="8872" y="1032"/>
                    </a:lnTo>
                    <a:lnTo>
                      <a:pt x="8929" y="1014"/>
                    </a:lnTo>
                    <a:lnTo>
                      <a:pt x="8985" y="1014"/>
                    </a:lnTo>
                    <a:lnTo>
                      <a:pt x="9023" y="1014"/>
                    </a:lnTo>
                    <a:lnTo>
                      <a:pt x="9042" y="1032"/>
                    </a:lnTo>
                    <a:lnTo>
                      <a:pt x="9042" y="1050"/>
                    </a:lnTo>
                    <a:lnTo>
                      <a:pt x="9061" y="1069"/>
                    </a:lnTo>
                    <a:lnTo>
                      <a:pt x="9061" y="1106"/>
                    </a:lnTo>
                    <a:lnTo>
                      <a:pt x="9061" y="1124"/>
                    </a:lnTo>
                    <a:lnTo>
                      <a:pt x="9061" y="1143"/>
                    </a:lnTo>
                    <a:lnTo>
                      <a:pt x="9080" y="1180"/>
                    </a:lnTo>
                    <a:lnTo>
                      <a:pt x="9080" y="1198"/>
                    </a:lnTo>
                    <a:lnTo>
                      <a:pt x="9080" y="1235"/>
                    </a:lnTo>
                    <a:lnTo>
                      <a:pt x="9080" y="1254"/>
                    </a:lnTo>
                    <a:lnTo>
                      <a:pt x="9061" y="1290"/>
                    </a:lnTo>
                    <a:lnTo>
                      <a:pt x="9061" y="1309"/>
                    </a:lnTo>
                    <a:lnTo>
                      <a:pt x="9061" y="1346"/>
                    </a:lnTo>
                    <a:lnTo>
                      <a:pt x="9061" y="1364"/>
                    </a:lnTo>
                    <a:lnTo>
                      <a:pt x="9061" y="1400"/>
                    </a:lnTo>
                    <a:lnTo>
                      <a:pt x="9061" y="1419"/>
                    </a:lnTo>
                    <a:lnTo>
                      <a:pt x="7268" y="1419"/>
                    </a:lnTo>
                    <a:close/>
                    <a:moveTo>
                      <a:pt x="9665" y="1419"/>
                    </a:moveTo>
                    <a:lnTo>
                      <a:pt x="10477" y="1309"/>
                    </a:lnTo>
                    <a:lnTo>
                      <a:pt x="10496" y="1309"/>
                    </a:lnTo>
                    <a:lnTo>
                      <a:pt x="10515" y="1327"/>
                    </a:lnTo>
                    <a:lnTo>
                      <a:pt x="10515" y="1327"/>
                    </a:lnTo>
                    <a:lnTo>
                      <a:pt x="10515" y="1346"/>
                    </a:lnTo>
                    <a:lnTo>
                      <a:pt x="10534" y="1364"/>
                    </a:lnTo>
                    <a:lnTo>
                      <a:pt x="10534" y="1382"/>
                    </a:lnTo>
                    <a:lnTo>
                      <a:pt x="10534" y="1400"/>
                    </a:lnTo>
                    <a:lnTo>
                      <a:pt x="10534" y="1419"/>
                    </a:lnTo>
                    <a:lnTo>
                      <a:pt x="9665" y="14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35" name="Freeform 104"/>
              <p:cNvSpPr/>
              <p:nvPr/>
            </p:nvSpPr>
            <p:spPr>
              <a:xfrm>
                <a:off x="200520" y="1913760"/>
                <a:ext cx="2625840" cy="119520"/>
              </a:xfrm>
              <a:custGeom>
                <a:avLst/>
                <a:gdLst/>
                <a:ahLst/>
                <a:rect l="l" t="t" r="r" b="b"/>
                <a:pathLst>
                  <a:path w="12364" h="1418">
                    <a:moveTo>
                      <a:pt x="5437" y="0"/>
                    </a:moveTo>
                    <a:lnTo>
                      <a:pt x="4474" y="627"/>
                    </a:lnTo>
                    <a:lnTo>
                      <a:pt x="4512" y="608"/>
                    </a:lnTo>
                    <a:lnTo>
                      <a:pt x="4568" y="590"/>
                    </a:lnTo>
                    <a:lnTo>
                      <a:pt x="4606" y="590"/>
                    </a:lnTo>
                    <a:lnTo>
                      <a:pt x="4644" y="571"/>
                    </a:lnTo>
                    <a:lnTo>
                      <a:pt x="4701" y="553"/>
                    </a:lnTo>
                    <a:lnTo>
                      <a:pt x="4738" y="535"/>
                    </a:lnTo>
                    <a:lnTo>
                      <a:pt x="4795" y="516"/>
                    </a:lnTo>
                    <a:lnTo>
                      <a:pt x="4833" y="498"/>
                    </a:lnTo>
                    <a:lnTo>
                      <a:pt x="4889" y="479"/>
                    </a:lnTo>
                    <a:lnTo>
                      <a:pt x="4927" y="461"/>
                    </a:lnTo>
                    <a:lnTo>
                      <a:pt x="4984" y="442"/>
                    </a:lnTo>
                    <a:lnTo>
                      <a:pt x="5021" y="424"/>
                    </a:lnTo>
                    <a:lnTo>
                      <a:pt x="5078" y="405"/>
                    </a:lnTo>
                    <a:lnTo>
                      <a:pt x="5116" y="368"/>
                    </a:lnTo>
                    <a:lnTo>
                      <a:pt x="5173" y="350"/>
                    </a:lnTo>
                    <a:lnTo>
                      <a:pt x="5211" y="331"/>
                    </a:lnTo>
                    <a:lnTo>
                      <a:pt x="5266" y="313"/>
                    </a:lnTo>
                    <a:lnTo>
                      <a:pt x="5304" y="295"/>
                    </a:lnTo>
                    <a:lnTo>
                      <a:pt x="5361" y="277"/>
                    </a:lnTo>
                    <a:lnTo>
                      <a:pt x="5418" y="258"/>
                    </a:lnTo>
                    <a:lnTo>
                      <a:pt x="5456" y="221"/>
                    </a:lnTo>
                    <a:lnTo>
                      <a:pt x="5513" y="203"/>
                    </a:lnTo>
                    <a:lnTo>
                      <a:pt x="5550" y="184"/>
                    </a:lnTo>
                    <a:lnTo>
                      <a:pt x="5606" y="166"/>
                    </a:lnTo>
                    <a:lnTo>
                      <a:pt x="5644" y="148"/>
                    </a:lnTo>
                    <a:lnTo>
                      <a:pt x="5701" y="129"/>
                    </a:lnTo>
                    <a:lnTo>
                      <a:pt x="5758" y="92"/>
                    </a:lnTo>
                    <a:lnTo>
                      <a:pt x="5796" y="74"/>
                    </a:lnTo>
                    <a:lnTo>
                      <a:pt x="5852" y="55"/>
                    </a:lnTo>
                    <a:lnTo>
                      <a:pt x="5890" y="37"/>
                    </a:lnTo>
                    <a:lnTo>
                      <a:pt x="5947" y="18"/>
                    </a:lnTo>
                    <a:lnTo>
                      <a:pt x="6003" y="0"/>
                    </a:lnTo>
                    <a:lnTo>
                      <a:pt x="8042" y="0"/>
                    </a:lnTo>
                    <a:lnTo>
                      <a:pt x="8061" y="166"/>
                    </a:lnTo>
                    <a:lnTo>
                      <a:pt x="5418" y="1418"/>
                    </a:lnTo>
                    <a:lnTo>
                      <a:pt x="1057" y="1418"/>
                    </a:lnTo>
                    <a:lnTo>
                      <a:pt x="1416" y="1050"/>
                    </a:lnTo>
                    <a:lnTo>
                      <a:pt x="793" y="1418"/>
                    </a:lnTo>
                    <a:lnTo>
                      <a:pt x="76" y="1418"/>
                    </a:lnTo>
                    <a:lnTo>
                      <a:pt x="0" y="1050"/>
                    </a:lnTo>
                    <a:lnTo>
                      <a:pt x="38" y="1013"/>
                    </a:lnTo>
                    <a:lnTo>
                      <a:pt x="57" y="995"/>
                    </a:lnTo>
                    <a:lnTo>
                      <a:pt x="95" y="958"/>
                    </a:lnTo>
                    <a:lnTo>
                      <a:pt x="114" y="922"/>
                    </a:lnTo>
                    <a:lnTo>
                      <a:pt x="152" y="903"/>
                    </a:lnTo>
                    <a:lnTo>
                      <a:pt x="170" y="866"/>
                    </a:lnTo>
                    <a:lnTo>
                      <a:pt x="208" y="829"/>
                    </a:lnTo>
                    <a:lnTo>
                      <a:pt x="227" y="811"/>
                    </a:lnTo>
                    <a:lnTo>
                      <a:pt x="265" y="774"/>
                    </a:lnTo>
                    <a:lnTo>
                      <a:pt x="284" y="737"/>
                    </a:lnTo>
                    <a:lnTo>
                      <a:pt x="321" y="700"/>
                    </a:lnTo>
                    <a:lnTo>
                      <a:pt x="340" y="681"/>
                    </a:lnTo>
                    <a:lnTo>
                      <a:pt x="378" y="645"/>
                    </a:lnTo>
                    <a:lnTo>
                      <a:pt x="397" y="608"/>
                    </a:lnTo>
                    <a:lnTo>
                      <a:pt x="434" y="571"/>
                    </a:lnTo>
                    <a:lnTo>
                      <a:pt x="453" y="535"/>
                    </a:lnTo>
                    <a:lnTo>
                      <a:pt x="472" y="498"/>
                    </a:lnTo>
                    <a:lnTo>
                      <a:pt x="510" y="461"/>
                    </a:lnTo>
                    <a:lnTo>
                      <a:pt x="529" y="442"/>
                    </a:lnTo>
                    <a:lnTo>
                      <a:pt x="567" y="405"/>
                    </a:lnTo>
                    <a:lnTo>
                      <a:pt x="586" y="368"/>
                    </a:lnTo>
                    <a:lnTo>
                      <a:pt x="605" y="331"/>
                    </a:lnTo>
                    <a:lnTo>
                      <a:pt x="642" y="295"/>
                    </a:lnTo>
                    <a:lnTo>
                      <a:pt x="661" y="258"/>
                    </a:lnTo>
                    <a:lnTo>
                      <a:pt x="698" y="221"/>
                    </a:lnTo>
                    <a:lnTo>
                      <a:pt x="717" y="184"/>
                    </a:lnTo>
                    <a:lnTo>
                      <a:pt x="755" y="148"/>
                    </a:lnTo>
                    <a:lnTo>
                      <a:pt x="774" y="129"/>
                    </a:lnTo>
                    <a:lnTo>
                      <a:pt x="812" y="92"/>
                    </a:lnTo>
                    <a:lnTo>
                      <a:pt x="831" y="55"/>
                    </a:lnTo>
                    <a:lnTo>
                      <a:pt x="850" y="18"/>
                    </a:lnTo>
                    <a:lnTo>
                      <a:pt x="888" y="0"/>
                    </a:lnTo>
                    <a:lnTo>
                      <a:pt x="5437" y="0"/>
                    </a:lnTo>
                    <a:close/>
                    <a:moveTo>
                      <a:pt x="5532" y="1418"/>
                    </a:moveTo>
                    <a:lnTo>
                      <a:pt x="5644" y="1381"/>
                    </a:lnTo>
                    <a:lnTo>
                      <a:pt x="5777" y="1344"/>
                    </a:lnTo>
                    <a:lnTo>
                      <a:pt x="5890" y="1309"/>
                    </a:lnTo>
                    <a:lnTo>
                      <a:pt x="6003" y="1253"/>
                    </a:lnTo>
                    <a:lnTo>
                      <a:pt x="6116" y="1216"/>
                    </a:lnTo>
                    <a:lnTo>
                      <a:pt x="6230" y="1179"/>
                    </a:lnTo>
                    <a:lnTo>
                      <a:pt x="6361" y="1142"/>
                    </a:lnTo>
                    <a:lnTo>
                      <a:pt x="6475" y="1087"/>
                    </a:lnTo>
                    <a:lnTo>
                      <a:pt x="6589" y="1050"/>
                    </a:lnTo>
                    <a:lnTo>
                      <a:pt x="6720" y="1013"/>
                    </a:lnTo>
                    <a:lnTo>
                      <a:pt x="6834" y="958"/>
                    </a:lnTo>
                    <a:lnTo>
                      <a:pt x="6947" y="922"/>
                    </a:lnTo>
                    <a:lnTo>
                      <a:pt x="7079" y="885"/>
                    </a:lnTo>
                    <a:lnTo>
                      <a:pt x="7192" y="829"/>
                    </a:lnTo>
                    <a:lnTo>
                      <a:pt x="7306" y="792"/>
                    </a:lnTo>
                    <a:lnTo>
                      <a:pt x="7437" y="755"/>
                    </a:lnTo>
                    <a:lnTo>
                      <a:pt x="7551" y="718"/>
                    </a:lnTo>
                    <a:lnTo>
                      <a:pt x="7684" y="681"/>
                    </a:lnTo>
                    <a:lnTo>
                      <a:pt x="7796" y="627"/>
                    </a:lnTo>
                    <a:lnTo>
                      <a:pt x="7910" y="590"/>
                    </a:lnTo>
                    <a:lnTo>
                      <a:pt x="8042" y="571"/>
                    </a:lnTo>
                    <a:lnTo>
                      <a:pt x="8155" y="535"/>
                    </a:lnTo>
                    <a:lnTo>
                      <a:pt x="8268" y="498"/>
                    </a:lnTo>
                    <a:lnTo>
                      <a:pt x="8401" y="461"/>
                    </a:lnTo>
                    <a:lnTo>
                      <a:pt x="8513" y="442"/>
                    </a:lnTo>
                    <a:lnTo>
                      <a:pt x="8646" y="405"/>
                    </a:lnTo>
                    <a:lnTo>
                      <a:pt x="8760" y="387"/>
                    </a:lnTo>
                    <a:lnTo>
                      <a:pt x="8872" y="350"/>
                    </a:lnTo>
                    <a:lnTo>
                      <a:pt x="9005" y="331"/>
                    </a:lnTo>
                    <a:lnTo>
                      <a:pt x="9118" y="313"/>
                    </a:lnTo>
                    <a:lnTo>
                      <a:pt x="9231" y="295"/>
                    </a:lnTo>
                    <a:lnTo>
                      <a:pt x="9344" y="295"/>
                    </a:lnTo>
                    <a:lnTo>
                      <a:pt x="9363" y="313"/>
                    </a:lnTo>
                    <a:lnTo>
                      <a:pt x="9382" y="331"/>
                    </a:lnTo>
                    <a:lnTo>
                      <a:pt x="9382" y="368"/>
                    </a:lnTo>
                    <a:lnTo>
                      <a:pt x="9382" y="405"/>
                    </a:lnTo>
                    <a:lnTo>
                      <a:pt x="9382" y="424"/>
                    </a:lnTo>
                    <a:lnTo>
                      <a:pt x="9382" y="461"/>
                    </a:lnTo>
                    <a:lnTo>
                      <a:pt x="9401" y="498"/>
                    </a:lnTo>
                    <a:lnTo>
                      <a:pt x="9401" y="516"/>
                    </a:lnTo>
                    <a:lnTo>
                      <a:pt x="9382" y="553"/>
                    </a:lnTo>
                    <a:lnTo>
                      <a:pt x="9382" y="590"/>
                    </a:lnTo>
                    <a:lnTo>
                      <a:pt x="9382" y="627"/>
                    </a:lnTo>
                    <a:lnTo>
                      <a:pt x="9382" y="663"/>
                    </a:lnTo>
                    <a:lnTo>
                      <a:pt x="9382" y="681"/>
                    </a:lnTo>
                    <a:lnTo>
                      <a:pt x="9382" y="718"/>
                    </a:lnTo>
                    <a:lnTo>
                      <a:pt x="9401" y="755"/>
                    </a:lnTo>
                    <a:lnTo>
                      <a:pt x="9401" y="792"/>
                    </a:lnTo>
                    <a:lnTo>
                      <a:pt x="10798" y="590"/>
                    </a:lnTo>
                    <a:lnTo>
                      <a:pt x="10817" y="590"/>
                    </a:lnTo>
                    <a:lnTo>
                      <a:pt x="10836" y="608"/>
                    </a:lnTo>
                    <a:lnTo>
                      <a:pt x="10836" y="627"/>
                    </a:lnTo>
                    <a:lnTo>
                      <a:pt x="10855" y="645"/>
                    </a:lnTo>
                    <a:lnTo>
                      <a:pt x="10855" y="663"/>
                    </a:lnTo>
                    <a:lnTo>
                      <a:pt x="10855" y="681"/>
                    </a:lnTo>
                    <a:lnTo>
                      <a:pt x="10855" y="700"/>
                    </a:lnTo>
                    <a:lnTo>
                      <a:pt x="10836" y="737"/>
                    </a:lnTo>
                    <a:lnTo>
                      <a:pt x="10836" y="755"/>
                    </a:lnTo>
                    <a:lnTo>
                      <a:pt x="10836" y="792"/>
                    </a:lnTo>
                    <a:lnTo>
                      <a:pt x="10836" y="811"/>
                    </a:lnTo>
                    <a:lnTo>
                      <a:pt x="10836" y="848"/>
                    </a:lnTo>
                    <a:lnTo>
                      <a:pt x="10836" y="866"/>
                    </a:lnTo>
                    <a:lnTo>
                      <a:pt x="10836" y="885"/>
                    </a:lnTo>
                    <a:lnTo>
                      <a:pt x="10836" y="922"/>
                    </a:lnTo>
                    <a:lnTo>
                      <a:pt x="10836" y="940"/>
                    </a:lnTo>
                    <a:lnTo>
                      <a:pt x="10874" y="958"/>
                    </a:lnTo>
                    <a:lnTo>
                      <a:pt x="10929" y="977"/>
                    </a:lnTo>
                    <a:lnTo>
                      <a:pt x="10967" y="995"/>
                    </a:lnTo>
                    <a:lnTo>
                      <a:pt x="11005" y="1013"/>
                    </a:lnTo>
                    <a:lnTo>
                      <a:pt x="11043" y="1013"/>
                    </a:lnTo>
                    <a:lnTo>
                      <a:pt x="11100" y="1013"/>
                    </a:lnTo>
                    <a:lnTo>
                      <a:pt x="11138" y="1031"/>
                    </a:lnTo>
                    <a:lnTo>
                      <a:pt x="11194" y="1031"/>
                    </a:lnTo>
                    <a:lnTo>
                      <a:pt x="11232" y="1031"/>
                    </a:lnTo>
                    <a:lnTo>
                      <a:pt x="11288" y="1031"/>
                    </a:lnTo>
                    <a:lnTo>
                      <a:pt x="11326" y="1013"/>
                    </a:lnTo>
                    <a:lnTo>
                      <a:pt x="11383" y="1013"/>
                    </a:lnTo>
                    <a:lnTo>
                      <a:pt x="11421" y="1013"/>
                    </a:lnTo>
                    <a:lnTo>
                      <a:pt x="11477" y="995"/>
                    </a:lnTo>
                    <a:lnTo>
                      <a:pt x="11534" y="995"/>
                    </a:lnTo>
                    <a:lnTo>
                      <a:pt x="11572" y="977"/>
                    </a:lnTo>
                    <a:lnTo>
                      <a:pt x="11628" y="977"/>
                    </a:lnTo>
                    <a:lnTo>
                      <a:pt x="11666" y="958"/>
                    </a:lnTo>
                    <a:lnTo>
                      <a:pt x="11722" y="958"/>
                    </a:lnTo>
                    <a:lnTo>
                      <a:pt x="11779" y="940"/>
                    </a:lnTo>
                    <a:lnTo>
                      <a:pt x="11817" y="940"/>
                    </a:lnTo>
                    <a:lnTo>
                      <a:pt x="11874" y="940"/>
                    </a:lnTo>
                    <a:lnTo>
                      <a:pt x="11931" y="922"/>
                    </a:lnTo>
                    <a:lnTo>
                      <a:pt x="11968" y="922"/>
                    </a:lnTo>
                    <a:lnTo>
                      <a:pt x="12024" y="903"/>
                    </a:lnTo>
                    <a:lnTo>
                      <a:pt x="12081" y="903"/>
                    </a:lnTo>
                    <a:lnTo>
                      <a:pt x="12119" y="903"/>
                    </a:lnTo>
                    <a:lnTo>
                      <a:pt x="12176" y="903"/>
                    </a:lnTo>
                    <a:lnTo>
                      <a:pt x="12214" y="903"/>
                    </a:lnTo>
                    <a:lnTo>
                      <a:pt x="12270" y="903"/>
                    </a:lnTo>
                    <a:lnTo>
                      <a:pt x="12308" y="922"/>
                    </a:lnTo>
                    <a:lnTo>
                      <a:pt x="12364" y="922"/>
                    </a:lnTo>
                    <a:lnTo>
                      <a:pt x="12345" y="1418"/>
                    </a:lnTo>
                    <a:lnTo>
                      <a:pt x="5532" y="14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36" name="Freeform 105"/>
              <p:cNvSpPr/>
              <p:nvPr/>
            </p:nvSpPr>
            <p:spPr>
              <a:xfrm>
                <a:off x="200520" y="1972800"/>
                <a:ext cx="2689560" cy="119880"/>
              </a:xfrm>
              <a:custGeom>
                <a:avLst/>
                <a:gdLst/>
                <a:ahLst/>
                <a:rect l="l" t="t" r="r" b="b"/>
                <a:pathLst>
                  <a:path w="12667" h="1418">
                    <a:moveTo>
                      <a:pt x="6928" y="0"/>
                    </a:moveTo>
                    <a:lnTo>
                      <a:pt x="5230" y="811"/>
                    </a:lnTo>
                    <a:lnTo>
                      <a:pt x="5304" y="774"/>
                    </a:lnTo>
                    <a:lnTo>
                      <a:pt x="5380" y="755"/>
                    </a:lnTo>
                    <a:lnTo>
                      <a:pt x="5437" y="737"/>
                    </a:lnTo>
                    <a:lnTo>
                      <a:pt x="5513" y="718"/>
                    </a:lnTo>
                    <a:lnTo>
                      <a:pt x="5588" y="700"/>
                    </a:lnTo>
                    <a:lnTo>
                      <a:pt x="5663" y="681"/>
                    </a:lnTo>
                    <a:lnTo>
                      <a:pt x="5739" y="644"/>
                    </a:lnTo>
                    <a:lnTo>
                      <a:pt x="5814" y="627"/>
                    </a:lnTo>
                    <a:lnTo>
                      <a:pt x="5890" y="609"/>
                    </a:lnTo>
                    <a:lnTo>
                      <a:pt x="5947" y="572"/>
                    </a:lnTo>
                    <a:lnTo>
                      <a:pt x="6022" y="553"/>
                    </a:lnTo>
                    <a:lnTo>
                      <a:pt x="6097" y="535"/>
                    </a:lnTo>
                    <a:lnTo>
                      <a:pt x="6173" y="498"/>
                    </a:lnTo>
                    <a:lnTo>
                      <a:pt x="6249" y="479"/>
                    </a:lnTo>
                    <a:lnTo>
                      <a:pt x="6324" y="442"/>
                    </a:lnTo>
                    <a:lnTo>
                      <a:pt x="6399" y="424"/>
                    </a:lnTo>
                    <a:lnTo>
                      <a:pt x="6475" y="387"/>
                    </a:lnTo>
                    <a:lnTo>
                      <a:pt x="6551" y="368"/>
                    </a:lnTo>
                    <a:lnTo>
                      <a:pt x="6626" y="350"/>
                    </a:lnTo>
                    <a:lnTo>
                      <a:pt x="6701" y="313"/>
                    </a:lnTo>
                    <a:lnTo>
                      <a:pt x="6758" y="295"/>
                    </a:lnTo>
                    <a:lnTo>
                      <a:pt x="6834" y="258"/>
                    </a:lnTo>
                    <a:lnTo>
                      <a:pt x="6909" y="240"/>
                    </a:lnTo>
                    <a:lnTo>
                      <a:pt x="6985" y="203"/>
                    </a:lnTo>
                    <a:lnTo>
                      <a:pt x="7060" y="185"/>
                    </a:lnTo>
                    <a:lnTo>
                      <a:pt x="7136" y="148"/>
                    </a:lnTo>
                    <a:lnTo>
                      <a:pt x="7211" y="129"/>
                    </a:lnTo>
                    <a:lnTo>
                      <a:pt x="7287" y="111"/>
                    </a:lnTo>
                    <a:lnTo>
                      <a:pt x="7362" y="74"/>
                    </a:lnTo>
                    <a:lnTo>
                      <a:pt x="7437" y="55"/>
                    </a:lnTo>
                    <a:lnTo>
                      <a:pt x="7513" y="18"/>
                    </a:lnTo>
                    <a:lnTo>
                      <a:pt x="7589" y="0"/>
                    </a:lnTo>
                    <a:lnTo>
                      <a:pt x="9382" y="0"/>
                    </a:lnTo>
                    <a:lnTo>
                      <a:pt x="9382" y="18"/>
                    </a:lnTo>
                    <a:lnTo>
                      <a:pt x="9401" y="18"/>
                    </a:lnTo>
                    <a:lnTo>
                      <a:pt x="9401" y="37"/>
                    </a:lnTo>
                    <a:lnTo>
                      <a:pt x="9401" y="37"/>
                    </a:lnTo>
                    <a:lnTo>
                      <a:pt x="9401" y="55"/>
                    </a:lnTo>
                    <a:lnTo>
                      <a:pt x="9401" y="74"/>
                    </a:lnTo>
                    <a:lnTo>
                      <a:pt x="9401" y="74"/>
                    </a:lnTo>
                    <a:lnTo>
                      <a:pt x="9401" y="92"/>
                    </a:lnTo>
                    <a:lnTo>
                      <a:pt x="9986" y="0"/>
                    </a:lnTo>
                    <a:lnTo>
                      <a:pt x="10855" y="0"/>
                    </a:lnTo>
                    <a:lnTo>
                      <a:pt x="10855" y="18"/>
                    </a:lnTo>
                    <a:lnTo>
                      <a:pt x="10855" y="37"/>
                    </a:lnTo>
                    <a:lnTo>
                      <a:pt x="10836" y="55"/>
                    </a:lnTo>
                    <a:lnTo>
                      <a:pt x="10836" y="55"/>
                    </a:lnTo>
                    <a:lnTo>
                      <a:pt x="10836" y="74"/>
                    </a:lnTo>
                    <a:lnTo>
                      <a:pt x="10836" y="92"/>
                    </a:lnTo>
                    <a:lnTo>
                      <a:pt x="10836" y="111"/>
                    </a:lnTo>
                    <a:lnTo>
                      <a:pt x="10836" y="129"/>
                    </a:lnTo>
                    <a:lnTo>
                      <a:pt x="10836" y="148"/>
                    </a:lnTo>
                    <a:lnTo>
                      <a:pt x="10836" y="148"/>
                    </a:lnTo>
                    <a:lnTo>
                      <a:pt x="10836" y="166"/>
                    </a:lnTo>
                    <a:lnTo>
                      <a:pt x="10836" y="185"/>
                    </a:lnTo>
                    <a:lnTo>
                      <a:pt x="10836" y="203"/>
                    </a:lnTo>
                    <a:lnTo>
                      <a:pt x="10836" y="222"/>
                    </a:lnTo>
                    <a:lnTo>
                      <a:pt x="10836" y="222"/>
                    </a:lnTo>
                    <a:lnTo>
                      <a:pt x="10836" y="240"/>
                    </a:lnTo>
                    <a:lnTo>
                      <a:pt x="10874" y="258"/>
                    </a:lnTo>
                    <a:lnTo>
                      <a:pt x="10929" y="277"/>
                    </a:lnTo>
                    <a:lnTo>
                      <a:pt x="10967" y="295"/>
                    </a:lnTo>
                    <a:lnTo>
                      <a:pt x="11005" y="313"/>
                    </a:lnTo>
                    <a:lnTo>
                      <a:pt x="11043" y="313"/>
                    </a:lnTo>
                    <a:lnTo>
                      <a:pt x="11100" y="313"/>
                    </a:lnTo>
                    <a:lnTo>
                      <a:pt x="11138" y="331"/>
                    </a:lnTo>
                    <a:lnTo>
                      <a:pt x="11194" y="331"/>
                    </a:lnTo>
                    <a:lnTo>
                      <a:pt x="11232" y="331"/>
                    </a:lnTo>
                    <a:lnTo>
                      <a:pt x="11288" y="331"/>
                    </a:lnTo>
                    <a:lnTo>
                      <a:pt x="11326" y="313"/>
                    </a:lnTo>
                    <a:lnTo>
                      <a:pt x="11383" y="313"/>
                    </a:lnTo>
                    <a:lnTo>
                      <a:pt x="11421" y="313"/>
                    </a:lnTo>
                    <a:lnTo>
                      <a:pt x="11477" y="295"/>
                    </a:lnTo>
                    <a:lnTo>
                      <a:pt x="11534" y="295"/>
                    </a:lnTo>
                    <a:lnTo>
                      <a:pt x="11572" y="277"/>
                    </a:lnTo>
                    <a:lnTo>
                      <a:pt x="11628" y="277"/>
                    </a:lnTo>
                    <a:lnTo>
                      <a:pt x="11666" y="258"/>
                    </a:lnTo>
                    <a:lnTo>
                      <a:pt x="11722" y="258"/>
                    </a:lnTo>
                    <a:lnTo>
                      <a:pt x="11779" y="240"/>
                    </a:lnTo>
                    <a:lnTo>
                      <a:pt x="11817" y="240"/>
                    </a:lnTo>
                    <a:lnTo>
                      <a:pt x="11874" y="240"/>
                    </a:lnTo>
                    <a:lnTo>
                      <a:pt x="11931" y="222"/>
                    </a:lnTo>
                    <a:lnTo>
                      <a:pt x="11968" y="222"/>
                    </a:lnTo>
                    <a:lnTo>
                      <a:pt x="12024" y="203"/>
                    </a:lnTo>
                    <a:lnTo>
                      <a:pt x="12081" y="203"/>
                    </a:lnTo>
                    <a:lnTo>
                      <a:pt x="12119" y="203"/>
                    </a:lnTo>
                    <a:lnTo>
                      <a:pt x="12176" y="203"/>
                    </a:lnTo>
                    <a:lnTo>
                      <a:pt x="12214" y="203"/>
                    </a:lnTo>
                    <a:lnTo>
                      <a:pt x="12270" y="203"/>
                    </a:lnTo>
                    <a:lnTo>
                      <a:pt x="12308" y="222"/>
                    </a:lnTo>
                    <a:lnTo>
                      <a:pt x="12364" y="222"/>
                    </a:lnTo>
                    <a:lnTo>
                      <a:pt x="12345" y="959"/>
                    </a:lnTo>
                    <a:lnTo>
                      <a:pt x="12308" y="995"/>
                    </a:lnTo>
                    <a:lnTo>
                      <a:pt x="12289" y="1013"/>
                    </a:lnTo>
                    <a:lnTo>
                      <a:pt x="12270" y="1050"/>
                    </a:lnTo>
                    <a:lnTo>
                      <a:pt x="12233" y="1068"/>
                    </a:lnTo>
                    <a:lnTo>
                      <a:pt x="12195" y="1087"/>
                    </a:lnTo>
                    <a:lnTo>
                      <a:pt x="12176" y="1105"/>
                    </a:lnTo>
                    <a:lnTo>
                      <a:pt x="12138" y="1124"/>
                    </a:lnTo>
                    <a:lnTo>
                      <a:pt x="12100" y="1142"/>
                    </a:lnTo>
                    <a:lnTo>
                      <a:pt x="12062" y="1142"/>
                    </a:lnTo>
                    <a:lnTo>
                      <a:pt x="12043" y="1161"/>
                    </a:lnTo>
                    <a:lnTo>
                      <a:pt x="12005" y="1161"/>
                    </a:lnTo>
                    <a:lnTo>
                      <a:pt x="11968" y="1179"/>
                    </a:lnTo>
                    <a:lnTo>
                      <a:pt x="11931" y="1179"/>
                    </a:lnTo>
                    <a:lnTo>
                      <a:pt x="11893" y="1179"/>
                    </a:lnTo>
                    <a:lnTo>
                      <a:pt x="11855" y="1198"/>
                    </a:lnTo>
                    <a:lnTo>
                      <a:pt x="11817" y="1198"/>
                    </a:lnTo>
                    <a:lnTo>
                      <a:pt x="11760" y="1198"/>
                    </a:lnTo>
                    <a:lnTo>
                      <a:pt x="11722" y="1198"/>
                    </a:lnTo>
                    <a:lnTo>
                      <a:pt x="11685" y="1198"/>
                    </a:lnTo>
                    <a:lnTo>
                      <a:pt x="11647" y="1198"/>
                    </a:lnTo>
                    <a:lnTo>
                      <a:pt x="11609" y="1198"/>
                    </a:lnTo>
                    <a:lnTo>
                      <a:pt x="11572" y="1198"/>
                    </a:lnTo>
                    <a:lnTo>
                      <a:pt x="11534" y="1198"/>
                    </a:lnTo>
                    <a:lnTo>
                      <a:pt x="11496" y="1216"/>
                    </a:lnTo>
                    <a:lnTo>
                      <a:pt x="11458" y="1216"/>
                    </a:lnTo>
                    <a:lnTo>
                      <a:pt x="11421" y="1216"/>
                    </a:lnTo>
                    <a:lnTo>
                      <a:pt x="11364" y="1216"/>
                    </a:lnTo>
                    <a:lnTo>
                      <a:pt x="11326" y="1216"/>
                    </a:lnTo>
                    <a:lnTo>
                      <a:pt x="11288" y="1235"/>
                    </a:lnTo>
                    <a:lnTo>
                      <a:pt x="11269" y="1235"/>
                    </a:lnTo>
                    <a:lnTo>
                      <a:pt x="11232" y="1253"/>
                    </a:lnTo>
                    <a:lnTo>
                      <a:pt x="11194" y="1272"/>
                    </a:lnTo>
                    <a:lnTo>
                      <a:pt x="11176" y="1272"/>
                    </a:lnTo>
                    <a:lnTo>
                      <a:pt x="11157" y="1272"/>
                    </a:lnTo>
                    <a:lnTo>
                      <a:pt x="11157" y="1290"/>
                    </a:lnTo>
                    <a:lnTo>
                      <a:pt x="11138" y="1290"/>
                    </a:lnTo>
                    <a:lnTo>
                      <a:pt x="11138" y="1309"/>
                    </a:lnTo>
                    <a:lnTo>
                      <a:pt x="11138" y="1327"/>
                    </a:lnTo>
                    <a:lnTo>
                      <a:pt x="11138" y="1345"/>
                    </a:lnTo>
                    <a:lnTo>
                      <a:pt x="11138" y="1363"/>
                    </a:lnTo>
                    <a:lnTo>
                      <a:pt x="12591" y="1290"/>
                    </a:lnTo>
                    <a:lnTo>
                      <a:pt x="12610" y="1309"/>
                    </a:lnTo>
                    <a:lnTo>
                      <a:pt x="12629" y="1309"/>
                    </a:lnTo>
                    <a:lnTo>
                      <a:pt x="12629" y="1327"/>
                    </a:lnTo>
                    <a:lnTo>
                      <a:pt x="12648" y="1345"/>
                    </a:lnTo>
                    <a:lnTo>
                      <a:pt x="12648" y="1363"/>
                    </a:lnTo>
                    <a:lnTo>
                      <a:pt x="12648" y="1382"/>
                    </a:lnTo>
                    <a:lnTo>
                      <a:pt x="12648" y="1400"/>
                    </a:lnTo>
                    <a:lnTo>
                      <a:pt x="12667" y="1418"/>
                    </a:lnTo>
                    <a:lnTo>
                      <a:pt x="378" y="1418"/>
                    </a:lnTo>
                    <a:lnTo>
                      <a:pt x="1416" y="350"/>
                    </a:lnTo>
                    <a:lnTo>
                      <a:pt x="189" y="1087"/>
                    </a:lnTo>
                    <a:lnTo>
                      <a:pt x="189" y="1068"/>
                    </a:lnTo>
                    <a:lnTo>
                      <a:pt x="170" y="1068"/>
                    </a:lnTo>
                    <a:lnTo>
                      <a:pt x="170" y="1050"/>
                    </a:lnTo>
                    <a:lnTo>
                      <a:pt x="152" y="1050"/>
                    </a:lnTo>
                    <a:lnTo>
                      <a:pt x="152" y="1031"/>
                    </a:lnTo>
                    <a:lnTo>
                      <a:pt x="152" y="1031"/>
                    </a:lnTo>
                    <a:lnTo>
                      <a:pt x="133" y="1013"/>
                    </a:lnTo>
                    <a:lnTo>
                      <a:pt x="133" y="1013"/>
                    </a:lnTo>
                    <a:lnTo>
                      <a:pt x="0" y="350"/>
                    </a:lnTo>
                    <a:lnTo>
                      <a:pt x="19" y="313"/>
                    </a:lnTo>
                    <a:lnTo>
                      <a:pt x="38" y="295"/>
                    </a:lnTo>
                    <a:lnTo>
                      <a:pt x="57" y="277"/>
                    </a:lnTo>
                    <a:lnTo>
                      <a:pt x="76" y="258"/>
                    </a:lnTo>
                    <a:lnTo>
                      <a:pt x="114" y="240"/>
                    </a:lnTo>
                    <a:lnTo>
                      <a:pt x="133" y="222"/>
                    </a:lnTo>
                    <a:lnTo>
                      <a:pt x="152" y="203"/>
                    </a:lnTo>
                    <a:lnTo>
                      <a:pt x="170" y="185"/>
                    </a:lnTo>
                    <a:lnTo>
                      <a:pt x="189" y="166"/>
                    </a:lnTo>
                    <a:lnTo>
                      <a:pt x="208" y="129"/>
                    </a:lnTo>
                    <a:lnTo>
                      <a:pt x="227" y="111"/>
                    </a:lnTo>
                    <a:lnTo>
                      <a:pt x="246" y="92"/>
                    </a:lnTo>
                    <a:lnTo>
                      <a:pt x="265" y="74"/>
                    </a:lnTo>
                    <a:lnTo>
                      <a:pt x="284" y="55"/>
                    </a:lnTo>
                    <a:lnTo>
                      <a:pt x="302" y="18"/>
                    </a:lnTo>
                    <a:lnTo>
                      <a:pt x="321" y="0"/>
                    </a:lnTo>
                    <a:lnTo>
                      <a:pt x="692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37" name="Freeform 106"/>
              <p:cNvSpPr/>
              <p:nvPr/>
            </p:nvSpPr>
            <p:spPr>
              <a:xfrm>
                <a:off x="162720" y="2033640"/>
                <a:ext cx="2727000" cy="121320"/>
              </a:xfrm>
              <a:custGeom>
                <a:avLst/>
                <a:gdLst/>
                <a:ahLst/>
                <a:rect l="l" t="t" r="r" b="b"/>
                <a:pathLst>
                  <a:path w="12836" h="1419">
                    <a:moveTo>
                      <a:pt x="5587" y="0"/>
                    </a:moveTo>
                    <a:lnTo>
                      <a:pt x="5399" y="93"/>
                    </a:lnTo>
                    <a:lnTo>
                      <a:pt x="5417" y="74"/>
                    </a:lnTo>
                    <a:lnTo>
                      <a:pt x="5435" y="74"/>
                    </a:lnTo>
                    <a:lnTo>
                      <a:pt x="5454" y="74"/>
                    </a:lnTo>
                    <a:lnTo>
                      <a:pt x="5473" y="56"/>
                    </a:lnTo>
                    <a:lnTo>
                      <a:pt x="5492" y="56"/>
                    </a:lnTo>
                    <a:lnTo>
                      <a:pt x="5511" y="56"/>
                    </a:lnTo>
                    <a:lnTo>
                      <a:pt x="5530" y="56"/>
                    </a:lnTo>
                    <a:lnTo>
                      <a:pt x="5549" y="37"/>
                    </a:lnTo>
                    <a:lnTo>
                      <a:pt x="5568" y="37"/>
                    </a:lnTo>
                    <a:lnTo>
                      <a:pt x="5587" y="37"/>
                    </a:lnTo>
                    <a:lnTo>
                      <a:pt x="5606" y="19"/>
                    </a:lnTo>
                    <a:lnTo>
                      <a:pt x="5625" y="19"/>
                    </a:lnTo>
                    <a:lnTo>
                      <a:pt x="5644" y="19"/>
                    </a:lnTo>
                    <a:lnTo>
                      <a:pt x="5663" y="0"/>
                    </a:lnTo>
                    <a:lnTo>
                      <a:pt x="5682" y="0"/>
                    </a:lnTo>
                    <a:lnTo>
                      <a:pt x="5701" y="0"/>
                    </a:lnTo>
                    <a:lnTo>
                      <a:pt x="12514" y="0"/>
                    </a:lnTo>
                    <a:lnTo>
                      <a:pt x="12514" y="241"/>
                    </a:lnTo>
                    <a:lnTo>
                      <a:pt x="12477" y="277"/>
                    </a:lnTo>
                    <a:lnTo>
                      <a:pt x="12458" y="295"/>
                    </a:lnTo>
                    <a:lnTo>
                      <a:pt x="12439" y="332"/>
                    </a:lnTo>
                    <a:lnTo>
                      <a:pt x="12402" y="350"/>
                    </a:lnTo>
                    <a:lnTo>
                      <a:pt x="12364" y="369"/>
                    </a:lnTo>
                    <a:lnTo>
                      <a:pt x="12345" y="387"/>
                    </a:lnTo>
                    <a:lnTo>
                      <a:pt x="12307" y="406"/>
                    </a:lnTo>
                    <a:lnTo>
                      <a:pt x="12269" y="424"/>
                    </a:lnTo>
                    <a:lnTo>
                      <a:pt x="12231" y="424"/>
                    </a:lnTo>
                    <a:lnTo>
                      <a:pt x="12212" y="443"/>
                    </a:lnTo>
                    <a:lnTo>
                      <a:pt x="12174" y="443"/>
                    </a:lnTo>
                    <a:lnTo>
                      <a:pt x="12137" y="461"/>
                    </a:lnTo>
                    <a:lnTo>
                      <a:pt x="12100" y="461"/>
                    </a:lnTo>
                    <a:lnTo>
                      <a:pt x="12062" y="461"/>
                    </a:lnTo>
                    <a:lnTo>
                      <a:pt x="12024" y="480"/>
                    </a:lnTo>
                    <a:lnTo>
                      <a:pt x="11986" y="480"/>
                    </a:lnTo>
                    <a:lnTo>
                      <a:pt x="11929" y="480"/>
                    </a:lnTo>
                    <a:lnTo>
                      <a:pt x="11891" y="480"/>
                    </a:lnTo>
                    <a:lnTo>
                      <a:pt x="11854" y="480"/>
                    </a:lnTo>
                    <a:lnTo>
                      <a:pt x="11816" y="480"/>
                    </a:lnTo>
                    <a:lnTo>
                      <a:pt x="11778" y="480"/>
                    </a:lnTo>
                    <a:lnTo>
                      <a:pt x="11741" y="480"/>
                    </a:lnTo>
                    <a:lnTo>
                      <a:pt x="11703" y="480"/>
                    </a:lnTo>
                    <a:lnTo>
                      <a:pt x="11665" y="498"/>
                    </a:lnTo>
                    <a:lnTo>
                      <a:pt x="11627" y="498"/>
                    </a:lnTo>
                    <a:lnTo>
                      <a:pt x="11590" y="498"/>
                    </a:lnTo>
                    <a:lnTo>
                      <a:pt x="11533" y="498"/>
                    </a:lnTo>
                    <a:lnTo>
                      <a:pt x="11495" y="498"/>
                    </a:lnTo>
                    <a:lnTo>
                      <a:pt x="11457" y="517"/>
                    </a:lnTo>
                    <a:lnTo>
                      <a:pt x="11438" y="517"/>
                    </a:lnTo>
                    <a:lnTo>
                      <a:pt x="11401" y="535"/>
                    </a:lnTo>
                    <a:lnTo>
                      <a:pt x="11363" y="554"/>
                    </a:lnTo>
                    <a:lnTo>
                      <a:pt x="11345" y="554"/>
                    </a:lnTo>
                    <a:lnTo>
                      <a:pt x="11326" y="554"/>
                    </a:lnTo>
                    <a:lnTo>
                      <a:pt x="11326" y="572"/>
                    </a:lnTo>
                    <a:lnTo>
                      <a:pt x="11307" y="572"/>
                    </a:lnTo>
                    <a:lnTo>
                      <a:pt x="11307" y="591"/>
                    </a:lnTo>
                    <a:lnTo>
                      <a:pt x="11307" y="609"/>
                    </a:lnTo>
                    <a:lnTo>
                      <a:pt x="11307" y="627"/>
                    </a:lnTo>
                    <a:lnTo>
                      <a:pt x="11307" y="645"/>
                    </a:lnTo>
                    <a:lnTo>
                      <a:pt x="12760" y="572"/>
                    </a:lnTo>
                    <a:lnTo>
                      <a:pt x="12779" y="591"/>
                    </a:lnTo>
                    <a:lnTo>
                      <a:pt x="12798" y="609"/>
                    </a:lnTo>
                    <a:lnTo>
                      <a:pt x="12798" y="627"/>
                    </a:lnTo>
                    <a:lnTo>
                      <a:pt x="12817" y="645"/>
                    </a:lnTo>
                    <a:lnTo>
                      <a:pt x="12817" y="664"/>
                    </a:lnTo>
                    <a:lnTo>
                      <a:pt x="12817" y="682"/>
                    </a:lnTo>
                    <a:lnTo>
                      <a:pt x="12836" y="719"/>
                    </a:lnTo>
                    <a:lnTo>
                      <a:pt x="12836" y="737"/>
                    </a:lnTo>
                    <a:lnTo>
                      <a:pt x="12836" y="756"/>
                    </a:lnTo>
                    <a:lnTo>
                      <a:pt x="12836" y="793"/>
                    </a:lnTo>
                    <a:lnTo>
                      <a:pt x="12836" y="811"/>
                    </a:lnTo>
                    <a:lnTo>
                      <a:pt x="12836" y="830"/>
                    </a:lnTo>
                    <a:lnTo>
                      <a:pt x="12836" y="867"/>
                    </a:lnTo>
                    <a:lnTo>
                      <a:pt x="12836" y="885"/>
                    </a:lnTo>
                    <a:lnTo>
                      <a:pt x="12836" y="922"/>
                    </a:lnTo>
                    <a:lnTo>
                      <a:pt x="12836" y="941"/>
                    </a:lnTo>
                    <a:lnTo>
                      <a:pt x="12836" y="977"/>
                    </a:lnTo>
                    <a:lnTo>
                      <a:pt x="12836" y="995"/>
                    </a:lnTo>
                    <a:lnTo>
                      <a:pt x="12817" y="1032"/>
                    </a:lnTo>
                    <a:lnTo>
                      <a:pt x="12817" y="1051"/>
                    </a:lnTo>
                    <a:lnTo>
                      <a:pt x="12817" y="1088"/>
                    </a:lnTo>
                    <a:lnTo>
                      <a:pt x="12817" y="1106"/>
                    </a:lnTo>
                    <a:lnTo>
                      <a:pt x="12817" y="1143"/>
                    </a:lnTo>
                    <a:lnTo>
                      <a:pt x="12798" y="1161"/>
                    </a:lnTo>
                    <a:lnTo>
                      <a:pt x="12798" y="1198"/>
                    </a:lnTo>
                    <a:lnTo>
                      <a:pt x="12798" y="1217"/>
                    </a:lnTo>
                    <a:lnTo>
                      <a:pt x="12798" y="1254"/>
                    </a:lnTo>
                    <a:lnTo>
                      <a:pt x="12779" y="1272"/>
                    </a:lnTo>
                    <a:lnTo>
                      <a:pt x="12779" y="1291"/>
                    </a:lnTo>
                    <a:lnTo>
                      <a:pt x="12779" y="1327"/>
                    </a:lnTo>
                    <a:lnTo>
                      <a:pt x="12779" y="1345"/>
                    </a:lnTo>
                    <a:lnTo>
                      <a:pt x="12760" y="1364"/>
                    </a:lnTo>
                    <a:lnTo>
                      <a:pt x="12495" y="1419"/>
                    </a:lnTo>
                    <a:lnTo>
                      <a:pt x="75" y="1419"/>
                    </a:lnTo>
                    <a:lnTo>
                      <a:pt x="0" y="1254"/>
                    </a:lnTo>
                    <a:lnTo>
                      <a:pt x="1226" y="0"/>
                    </a:lnTo>
                    <a:lnTo>
                      <a:pt x="5587" y="0"/>
                    </a:lnTo>
                    <a:close/>
                    <a:moveTo>
                      <a:pt x="962" y="0"/>
                    </a:moveTo>
                    <a:lnTo>
                      <a:pt x="358" y="369"/>
                    </a:lnTo>
                    <a:lnTo>
                      <a:pt x="358" y="350"/>
                    </a:lnTo>
                    <a:lnTo>
                      <a:pt x="339" y="350"/>
                    </a:lnTo>
                    <a:lnTo>
                      <a:pt x="339" y="332"/>
                    </a:lnTo>
                    <a:lnTo>
                      <a:pt x="321" y="332"/>
                    </a:lnTo>
                    <a:lnTo>
                      <a:pt x="321" y="313"/>
                    </a:lnTo>
                    <a:lnTo>
                      <a:pt x="321" y="313"/>
                    </a:lnTo>
                    <a:lnTo>
                      <a:pt x="302" y="295"/>
                    </a:lnTo>
                    <a:lnTo>
                      <a:pt x="302" y="295"/>
                    </a:lnTo>
                    <a:lnTo>
                      <a:pt x="245" y="0"/>
                    </a:lnTo>
                    <a:lnTo>
                      <a:pt x="96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38" name="Freeform 107"/>
              <p:cNvSpPr/>
              <p:nvPr/>
            </p:nvSpPr>
            <p:spPr>
              <a:xfrm>
                <a:off x="162720" y="2092680"/>
                <a:ext cx="2727000" cy="121320"/>
              </a:xfrm>
              <a:custGeom>
                <a:avLst/>
                <a:gdLst/>
                <a:ahLst/>
                <a:rect l="l" t="t" r="r" b="b"/>
                <a:pathLst>
                  <a:path w="12836" h="1418">
                    <a:moveTo>
                      <a:pt x="12836" y="0"/>
                    </a:moveTo>
                    <a:lnTo>
                      <a:pt x="12836" y="37"/>
                    </a:lnTo>
                    <a:lnTo>
                      <a:pt x="12836" y="74"/>
                    </a:lnTo>
                    <a:lnTo>
                      <a:pt x="12836" y="130"/>
                    </a:lnTo>
                    <a:lnTo>
                      <a:pt x="12836" y="167"/>
                    </a:lnTo>
                    <a:lnTo>
                      <a:pt x="12836" y="204"/>
                    </a:lnTo>
                    <a:lnTo>
                      <a:pt x="12836" y="259"/>
                    </a:lnTo>
                    <a:lnTo>
                      <a:pt x="12836" y="295"/>
                    </a:lnTo>
                    <a:lnTo>
                      <a:pt x="12817" y="332"/>
                    </a:lnTo>
                    <a:lnTo>
                      <a:pt x="12817" y="388"/>
                    </a:lnTo>
                    <a:lnTo>
                      <a:pt x="12817" y="424"/>
                    </a:lnTo>
                    <a:lnTo>
                      <a:pt x="12798" y="480"/>
                    </a:lnTo>
                    <a:lnTo>
                      <a:pt x="12798" y="517"/>
                    </a:lnTo>
                    <a:lnTo>
                      <a:pt x="12779" y="554"/>
                    </a:lnTo>
                    <a:lnTo>
                      <a:pt x="12779" y="591"/>
                    </a:lnTo>
                    <a:lnTo>
                      <a:pt x="12779" y="627"/>
                    </a:lnTo>
                    <a:lnTo>
                      <a:pt x="12760" y="664"/>
                    </a:lnTo>
                    <a:lnTo>
                      <a:pt x="11005" y="977"/>
                    </a:lnTo>
                    <a:lnTo>
                      <a:pt x="10986" y="977"/>
                    </a:lnTo>
                    <a:lnTo>
                      <a:pt x="10986" y="977"/>
                    </a:lnTo>
                    <a:lnTo>
                      <a:pt x="10967" y="995"/>
                    </a:lnTo>
                    <a:lnTo>
                      <a:pt x="10967" y="995"/>
                    </a:lnTo>
                    <a:lnTo>
                      <a:pt x="10967" y="1014"/>
                    </a:lnTo>
                    <a:lnTo>
                      <a:pt x="10967" y="1032"/>
                    </a:lnTo>
                    <a:lnTo>
                      <a:pt x="10967" y="1032"/>
                    </a:lnTo>
                    <a:lnTo>
                      <a:pt x="10967" y="1051"/>
                    </a:lnTo>
                    <a:lnTo>
                      <a:pt x="11741" y="1069"/>
                    </a:lnTo>
                    <a:lnTo>
                      <a:pt x="11722" y="1418"/>
                    </a:lnTo>
                    <a:lnTo>
                      <a:pt x="19" y="1418"/>
                    </a:lnTo>
                    <a:lnTo>
                      <a:pt x="38" y="1418"/>
                    </a:lnTo>
                    <a:lnTo>
                      <a:pt x="57" y="1400"/>
                    </a:lnTo>
                    <a:lnTo>
                      <a:pt x="75" y="1381"/>
                    </a:lnTo>
                    <a:lnTo>
                      <a:pt x="94" y="1363"/>
                    </a:lnTo>
                    <a:lnTo>
                      <a:pt x="94" y="1344"/>
                    </a:lnTo>
                    <a:lnTo>
                      <a:pt x="112" y="1344"/>
                    </a:lnTo>
                    <a:lnTo>
                      <a:pt x="131" y="1326"/>
                    </a:lnTo>
                    <a:lnTo>
                      <a:pt x="150" y="1307"/>
                    </a:lnTo>
                    <a:lnTo>
                      <a:pt x="150" y="1290"/>
                    </a:lnTo>
                    <a:lnTo>
                      <a:pt x="169" y="1272"/>
                    </a:lnTo>
                    <a:lnTo>
                      <a:pt x="188" y="1254"/>
                    </a:lnTo>
                    <a:lnTo>
                      <a:pt x="188" y="1235"/>
                    </a:lnTo>
                    <a:lnTo>
                      <a:pt x="207" y="1198"/>
                    </a:lnTo>
                    <a:lnTo>
                      <a:pt x="207" y="1180"/>
                    </a:lnTo>
                    <a:lnTo>
                      <a:pt x="226" y="1162"/>
                    </a:lnTo>
                    <a:lnTo>
                      <a:pt x="226" y="1125"/>
                    </a:lnTo>
                    <a:lnTo>
                      <a:pt x="0" y="554"/>
                    </a:lnTo>
                    <a:lnTo>
                      <a:pt x="547" y="0"/>
                    </a:lnTo>
                    <a:lnTo>
                      <a:pt x="128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39" name="Freeform 108"/>
              <p:cNvSpPr/>
              <p:nvPr/>
            </p:nvSpPr>
            <p:spPr>
              <a:xfrm>
                <a:off x="145440" y="2155320"/>
                <a:ext cx="2671920" cy="119880"/>
              </a:xfrm>
              <a:custGeom>
                <a:avLst/>
                <a:gdLst/>
                <a:ahLst/>
                <a:rect l="l" t="t" r="r" b="b"/>
                <a:pathLst>
                  <a:path w="12571" h="1418">
                    <a:moveTo>
                      <a:pt x="12571" y="0"/>
                    </a:moveTo>
                    <a:lnTo>
                      <a:pt x="11081" y="258"/>
                    </a:lnTo>
                    <a:lnTo>
                      <a:pt x="11062" y="258"/>
                    </a:lnTo>
                    <a:lnTo>
                      <a:pt x="11062" y="258"/>
                    </a:lnTo>
                    <a:lnTo>
                      <a:pt x="11043" y="276"/>
                    </a:lnTo>
                    <a:lnTo>
                      <a:pt x="11043" y="276"/>
                    </a:lnTo>
                    <a:lnTo>
                      <a:pt x="11043" y="295"/>
                    </a:lnTo>
                    <a:lnTo>
                      <a:pt x="11043" y="313"/>
                    </a:lnTo>
                    <a:lnTo>
                      <a:pt x="11043" y="313"/>
                    </a:lnTo>
                    <a:lnTo>
                      <a:pt x="11043" y="332"/>
                    </a:lnTo>
                    <a:lnTo>
                      <a:pt x="11817" y="350"/>
                    </a:lnTo>
                    <a:lnTo>
                      <a:pt x="11760" y="1179"/>
                    </a:lnTo>
                    <a:lnTo>
                      <a:pt x="11760" y="1197"/>
                    </a:lnTo>
                    <a:lnTo>
                      <a:pt x="11741" y="1197"/>
                    </a:lnTo>
                    <a:lnTo>
                      <a:pt x="11741" y="1216"/>
                    </a:lnTo>
                    <a:lnTo>
                      <a:pt x="11722" y="1216"/>
                    </a:lnTo>
                    <a:lnTo>
                      <a:pt x="11722" y="1216"/>
                    </a:lnTo>
                    <a:lnTo>
                      <a:pt x="11703" y="1234"/>
                    </a:lnTo>
                    <a:lnTo>
                      <a:pt x="11685" y="1234"/>
                    </a:lnTo>
                    <a:lnTo>
                      <a:pt x="11685" y="1234"/>
                    </a:lnTo>
                    <a:lnTo>
                      <a:pt x="11666" y="1234"/>
                    </a:lnTo>
                    <a:lnTo>
                      <a:pt x="11647" y="1234"/>
                    </a:lnTo>
                    <a:lnTo>
                      <a:pt x="11628" y="1234"/>
                    </a:lnTo>
                    <a:lnTo>
                      <a:pt x="11628" y="1234"/>
                    </a:lnTo>
                    <a:lnTo>
                      <a:pt x="11609" y="1234"/>
                    </a:lnTo>
                    <a:lnTo>
                      <a:pt x="11590" y="1234"/>
                    </a:lnTo>
                    <a:lnTo>
                      <a:pt x="11590" y="1234"/>
                    </a:lnTo>
                    <a:lnTo>
                      <a:pt x="11571" y="1234"/>
                    </a:lnTo>
                    <a:lnTo>
                      <a:pt x="11552" y="1234"/>
                    </a:lnTo>
                    <a:lnTo>
                      <a:pt x="11533" y="1234"/>
                    </a:lnTo>
                    <a:lnTo>
                      <a:pt x="11533" y="1252"/>
                    </a:lnTo>
                    <a:lnTo>
                      <a:pt x="11533" y="1252"/>
                    </a:lnTo>
                    <a:lnTo>
                      <a:pt x="11514" y="1270"/>
                    </a:lnTo>
                    <a:lnTo>
                      <a:pt x="11514" y="1288"/>
                    </a:lnTo>
                    <a:lnTo>
                      <a:pt x="11533" y="1288"/>
                    </a:lnTo>
                    <a:lnTo>
                      <a:pt x="11533" y="1325"/>
                    </a:lnTo>
                    <a:lnTo>
                      <a:pt x="12213" y="1344"/>
                    </a:lnTo>
                    <a:lnTo>
                      <a:pt x="12213" y="1418"/>
                    </a:lnTo>
                    <a:lnTo>
                      <a:pt x="114" y="1418"/>
                    </a:lnTo>
                    <a:lnTo>
                      <a:pt x="0" y="829"/>
                    </a:lnTo>
                    <a:lnTo>
                      <a:pt x="19" y="810"/>
                    </a:lnTo>
                    <a:lnTo>
                      <a:pt x="38" y="773"/>
                    </a:lnTo>
                    <a:lnTo>
                      <a:pt x="57" y="755"/>
                    </a:lnTo>
                    <a:lnTo>
                      <a:pt x="76" y="736"/>
                    </a:lnTo>
                    <a:lnTo>
                      <a:pt x="95" y="718"/>
                    </a:lnTo>
                    <a:lnTo>
                      <a:pt x="114" y="699"/>
                    </a:lnTo>
                    <a:lnTo>
                      <a:pt x="133" y="681"/>
                    </a:lnTo>
                    <a:lnTo>
                      <a:pt x="151" y="644"/>
                    </a:lnTo>
                    <a:lnTo>
                      <a:pt x="188" y="625"/>
                    </a:lnTo>
                    <a:lnTo>
                      <a:pt x="207" y="607"/>
                    </a:lnTo>
                    <a:lnTo>
                      <a:pt x="226" y="571"/>
                    </a:lnTo>
                    <a:lnTo>
                      <a:pt x="245" y="553"/>
                    </a:lnTo>
                    <a:lnTo>
                      <a:pt x="264" y="516"/>
                    </a:lnTo>
                    <a:lnTo>
                      <a:pt x="283" y="479"/>
                    </a:lnTo>
                    <a:lnTo>
                      <a:pt x="283" y="443"/>
                    </a:lnTo>
                    <a:lnTo>
                      <a:pt x="302" y="406"/>
                    </a:lnTo>
                    <a:lnTo>
                      <a:pt x="151" y="0"/>
                    </a:lnTo>
                    <a:lnTo>
                      <a:pt x="1257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40" name="Freeform 109"/>
              <p:cNvSpPr/>
              <p:nvPr/>
            </p:nvSpPr>
            <p:spPr>
              <a:xfrm>
                <a:off x="39600" y="2214360"/>
                <a:ext cx="2701080" cy="119520"/>
              </a:xfrm>
              <a:custGeom>
                <a:avLst/>
                <a:gdLst/>
                <a:ahLst/>
                <a:rect l="l" t="t" r="r" b="b"/>
                <a:pathLst>
                  <a:path w="12723" h="1437">
                    <a:moveTo>
                      <a:pt x="12308" y="0"/>
                    </a:moveTo>
                    <a:lnTo>
                      <a:pt x="12270" y="480"/>
                    </a:lnTo>
                    <a:lnTo>
                      <a:pt x="12270" y="498"/>
                    </a:lnTo>
                    <a:lnTo>
                      <a:pt x="12251" y="498"/>
                    </a:lnTo>
                    <a:lnTo>
                      <a:pt x="12251" y="517"/>
                    </a:lnTo>
                    <a:lnTo>
                      <a:pt x="12232" y="517"/>
                    </a:lnTo>
                    <a:lnTo>
                      <a:pt x="12232" y="517"/>
                    </a:lnTo>
                    <a:lnTo>
                      <a:pt x="12213" y="535"/>
                    </a:lnTo>
                    <a:lnTo>
                      <a:pt x="12195" y="535"/>
                    </a:lnTo>
                    <a:lnTo>
                      <a:pt x="12195" y="535"/>
                    </a:lnTo>
                    <a:lnTo>
                      <a:pt x="12176" y="535"/>
                    </a:lnTo>
                    <a:lnTo>
                      <a:pt x="12157" y="535"/>
                    </a:lnTo>
                    <a:lnTo>
                      <a:pt x="12138" y="535"/>
                    </a:lnTo>
                    <a:lnTo>
                      <a:pt x="12138" y="535"/>
                    </a:lnTo>
                    <a:lnTo>
                      <a:pt x="12119" y="535"/>
                    </a:lnTo>
                    <a:lnTo>
                      <a:pt x="12100" y="535"/>
                    </a:lnTo>
                    <a:lnTo>
                      <a:pt x="12100" y="535"/>
                    </a:lnTo>
                    <a:lnTo>
                      <a:pt x="12081" y="535"/>
                    </a:lnTo>
                    <a:lnTo>
                      <a:pt x="12062" y="535"/>
                    </a:lnTo>
                    <a:lnTo>
                      <a:pt x="12043" y="535"/>
                    </a:lnTo>
                    <a:lnTo>
                      <a:pt x="12043" y="553"/>
                    </a:lnTo>
                    <a:lnTo>
                      <a:pt x="12043" y="553"/>
                    </a:lnTo>
                    <a:lnTo>
                      <a:pt x="12024" y="571"/>
                    </a:lnTo>
                    <a:lnTo>
                      <a:pt x="12024" y="589"/>
                    </a:lnTo>
                    <a:lnTo>
                      <a:pt x="12043" y="589"/>
                    </a:lnTo>
                    <a:lnTo>
                      <a:pt x="12043" y="626"/>
                    </a:lnTo>
                    <a:lnTo>
                      <a:pt x="12723" y="645"/>
                    </a:lnTo>
                    <a:lnTo>
                      <a:pt x="12648" y="1400"/>
                    </a:lnTo>
                    <a:lnTo>
                      <a:pt x="12515" y="1437"/>
                    </a:lnTo>
                    <a:lnTo>
                      <a:pt x="0" y="1437"/>
                    </a:lnTo>
                    <a:lnTo>
                      <a:pt x="643" y="737"/>
                    </a:lnTo>
                    <a:lnTo>
                      <a:pt x="510" y="130"/>
                    </a:lnTo>
                    <a:lnTo>
                      <a:pt x="510" y="111"/>
                    </a:lnTo>
                    <a:lnTo>
                      <a:pt x="529" y="93"/>
                    </a:lnTo>
                    <a:lnTo>
                      <a:pt x="548" y="74"/>
                    </a:lnTo>
                    <a:lnTo>
                      <a:pt x="548" y="56"/>
                    </a:lnTo>
                    <a:lnTo>
                      <a:pt x="567" y="56"/>
                    </a:lnTo>
                    <a:lnTo>
                      <a:pt x="586" y="37"/>
                    </a:lnTo>
                    <a:lnTo>
                      <a:pt x="605" y="19"/>
                    </a:lnTo>
                    <a:lnTo>
                      <a:pt x="605" y="0"/>
                    </a:lnTo>
                    <a:lnTo>
                      <a:pt x="1230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41" name="Freeform 110"/>
              <p:cNvSpPr/>
              <p:nvPr/>
            </p:nvSpPr>
            <p:spPr>
              <a:xfrm>
                <a:off x="34920" y="2275200"/>
                <a:ext cx="2710440" cy="120960"/>
              </a:xfrm>
              <a:custGeom>
                <a:avLst/>
                <a:gdLst/>
                <a:ahLst/>
                <a:rect l="l" t="t" r="r" b="b"/>
                <a:pathLst>
                  <a:path w="12759" h="1418">
                    <a:moveTo>
                      <a:pt x="12741" y="0"/>
                    </a:moveTo>
                    <a:lnTo>
                      <a:pt x="12666" y="681"/>
                    </a:lnTo>
                    <a:lnTo>
                      <a:pt x="12194" y="774"/>
                    </a:lnTo>
                    <a:lnTo>
                      <a:pt x="12175" y="792"/>
                    </a:lnTo>
                    <a:lnTo>
                      <a:pt x="12175" y="811"/>
                    </a:lnTo>
                    <a:lnTo>
                      <a:pt x="12156" y="811"/>
                    </a:lnTo>
                    <a:lnTo>
                      <a:pt x="12137" y="829"/>
                    </a:lnTo>
                    <a:lnTo>
                      <a:pt x="12137" y="866"/>
                    </a:lnTo>
                    <a:lnTo>
                      <a:pt x="12118" y="885"/>
                    </a:lnTo>
                    <a:lnTo>
                      <a:pt x="12118" y="902"/>
                    </a:lnTo>
                    <a:lnTo>
                      <a:pt x="12118" y="939"/>
                    </a:lnTo>
                    <a:lnTo>
                      <a:pt x="12099" y="976"/>
                    </a:lnTo>
                    <a:lnTo>
                      <a:pt x="12099" y="994"/>
                    </a:lnTo>
                    <a:lnTo>
                      <a:pt x="12099" y="1031"/>
                    </a:lnTo>
                    <a:lnTo>
                      <a:pt x="12099" y="1068"/>
                    </a:lnTo>
                    <a:lnTo>
                      <a:pt x="12099" y="1105"/>
                    </a:lnTo>
                    <a:lnTo>
                      <a:pt x="12099" y="1142"/>
                    </a:lnTo>
                    <a:lnTo>
                      <a:pt x="12099" y="1161"/>
                    </a:lnTo>
                    <a:lnTo>
                      <a:pt x="12099" y="1198"/>
                    </a:lnTo>
                    <a:lnTo>
                      <a:pt x="12118" y="1234"/>
                    </a:lnTo>
                    <a:lnTo>
                      <a:pt x="12156" y="1271"/>
                    </a:lnTo>
                    <a:lnTo>
                      <a:pt x="12194" y="1289"/>
                    </a:lnTo>
                    <a:lnTo>
                      <a:pt x="12231" y="1308"/>
                    </a:lnTo>
                    <a:lnTo>
                      <a:pt x="12269" y="1308"/>
                    </a:lnTo>
                    <a:lnTo>
                      <a:pt x="12307" y="1308"/>
                    </a:lnTo>
                    <a:lnTo>
                      <a:pt x="12364" y="1289"/>
                    </a:lnTo>
                    <a:lnTo>
                      <a:pt x="12401" y="1271"/>
                    </a:lnTo>
                    <a:lnTo>
                      <a:pt x="12439" y="1271"/>
                    </a:lnTo>
                    <a:lnTo>
                      <a:pt x="12495" y="1252"/>
                    </a:lnTo>
                    <a:lnTo>
                      <a:pt x="12533" y="1252"/>
                    </a:lnTo>
                    <a:lnTo>
                      <a:pt x="12590" y="1234"/>
                    </a:lnTo>
                    <a:lnTo>
                      <a:pt x="12628" y="1234"/>
                    </a:lnTo>
                    <a:lnTo>
                      <a:pt x="12666" y="1234"/>
                    </a:lnTo>
                    <a:lnTo>
                      <a:pt x="12723" y="1252"/>
                    </a:lnTo>
                    <a:lnTo>
                      <a:pt x="12759" y="1289"/>
                    </a:lnTo>
                    <a:lnTo>
                      <a:pt x="12759" y="1418"/>
                    </a:lnTo>
                    <a:lnTo>
                      <a:pt x="792" y="1418"/>
                    </a:lnTo>
                    <a:lnTo>
                      <a:pt x="925" y="1326"/>
                    </a:lnTo>
                    <a:lnTo>
                      <a:pt x="925" y="1142"/>
                    </a:lnTo>
                    <a:lnTo>
                      <a:pt x="547" y="1418"/>
                    </a:lnTo>
                    <a:lnTo>
                      <a:pt x="150" y="1418"/>
                    </a:lnTo>
                    <a:lnTo>
                      <a:pt x="131" y="1400"/>
                    </a:lnTo>
                    <a:lnTo>
                      <a:pt x="131" y="1381"/>
                    </a:lnTo>
                    <a:lnTo>
                      <a:pt x="113" y="1345"/>
                    </a:lnTo>
                    <a:lnTo>
                      <a:pt x="113" y="1326"/>
                    </a:lnTo>
                    <a:lnTo>
                      <a:pt x="94" y="1308"/>
                    </a:lnTo>
                    <a:lnTo>
                      <a:pt x="94" y="1289"/>
                    </a:lnTo>
                    <a:lnTo>
                      <a:pt x="75" y="1252"/>
                    </a:lnTo>
                    <a:lnTo>
                      <a:pt x="75" y="1234"/>
                    </a:lnTo>
                    <a:lnTo>
                      <a:pt x="75" y="1198"/>
                    </a:lnTo>
                    <a:lnTo>
                      <a:pt x="56" y="1179"/>
                    </a:lnTo>
                    <a:lnTo>
                      <a:pt x="56" y="1161"/>
                    </a:lnTo>
                    <a:lnTo>
                      <a:pt x="37" y="1124"/>
                    </a:lnTo>
                    <a:lnTo>
                      <a:pt x="37" y="1105"/>
                    </a:lnTo>
                    <a:lnTo>
                      <a:pt x="18" y="1087"/>
                    </a:lnTo>
                    <a:lnTo>
                      <a:pt x="18" y="1068"/>
                    </a:lnTo>
                    <a:lnTo>
                      <a:pt x="0" y="1031"/>
                    </a:lnTo>
                    <a:lnTo>
                      <a:pt x="0" y="1013"/>
                    </a:lnTo>
                    <a:lnTo>
                      <a:pt x="0" y="994"/>
                    </a:lnTo>
                    <a:lnTo>
                      <a:pt x="0" y="976"/>
                    </a:lnTo>
                    <a:lnTo>
                      <a:pt x="0" y="958"/>
                    </a:lnTo>
                    <a:lnTo>
                      <a:pt x="0" y="921"/>
                    </a:lnTo>
                    <a:lnTo>
                      <a:pt x="0" y="902"/>
                    </a:lnTo>
                    <a:lnTo>
                      <a:pt x="0" y="885"/>
                    </a:lnTo>
                    <a:lnTo>
                      <a:pt x="0" y="866"/>
                    </a:lnTo>
                    <a:lnTo>
                      <a:pt x="0" y="848"/>
                    </a:lnTo>
                    <a:lnTo>
                      <a:pt x="0" y="829"/>
                    </a:lnTo>
                    <a:lnTo>
                      <a:pt x="0" y="811"/>
                    </a:lnTo>
                    <a:lnTo>
                      <a:pt x="0" y="792"/>
                    </a:lnTo>
                    <a:lnTo>
                      <a:pt x="0" y="774"/>
                    </a:lnTo>
                    <a:lnTo>
                      <a:pt x="0" y="755"/>
                    </a:lnTo>
                    <a:lnTo>
                      <a:pt x="0" y="737"/>
                    </a:lnTo>
                    <a:lnTo>
                      <a:pt x="0" y="737"/>
                    </a:lnTo>
                    <a:lnTo>
                      <a:pt x="661" y="18"/>
                    </a:lnTo>
                    <a:lnTo>
                      <a:pt x="642" y="0"/>
                    </a:lnTo>
                    <a:lnTo>
                      <a:pt x="127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42" name="Freeform 111"/>
              <p:cNvSpPr/>
              <p:nvPr/>
            </p:nvSpPr>
            <p:spPr>
              <a:xfrm>
                <a:off x="34920" y="2336040"/>
                <a:ext cx="2710440" cy="120960"/>
              </a:xfrm>
              <a:custGeom>
                <a:avLst/>
                <a:gdLst/>
                <a:ahLst/>
                <a:rect l="l" t="t" r="r" b="b"/>
                <a:pathLst>
                  <a:path w="12759" h="1419">
                    <a:moveTo>
                      <a:pt x="12533" y="0"/>
                    </a:moveTo>
                    <a:lnTo>
                      <a:pt x="12194" y="56"/>
                    </a:lnTo>
                    <a:lnTo>
                      <a:pt x="12175" y="74"/>
                    </a:lnTo>
                    <a:lnTo>
                      <a:pt x="12175" y="93"/>
                    </a:lnTo>
                    <a:lnTo>
                      <a:pt x="12156" y="93"/>
                    </a:lnTo>
                    <a:lnTo>
                      <a:pt x="12137" y="111"/>
                    </a:lnTo>
                    <a:lnTo>
                      <a:pt x="12137" y="148"/>
                    </a:lnTo>
                    <a:lnTo>
                      <a:pt x="12118" y="167"/>
                    </a:lnTo>
                    <a:lnTo>
                      <a:pt x="12118" y="184"/>
                    </a:lnTo>
                    <a:lnTo>
                      <a:pt x="12118" y="221"/>
                    </a:lnTo>
                    <a:lnTo>
                      <a:pt x="12099" y="258"/>
                    </a:lnTo>
                    <a:lnTo>
                      <a:pt x="12099" y="276"/>
                    </a:lnTo>
                    <a:lnTo>
                      <a:pt x="12099" y="313"/>
                    </a:lnTo>
                    <a:lnTo>
                      <a:pt x="12099" y="350"/>
                    </a:lnTo>
                    <a:lnTo>
                      <a:pt x="12099" y="387"/>
                    </a:lnTo>
                    <a:lnTo>
                      <a:pt x="12099" y="424"/>
                    </a:lnTo>
                    <a:lnTo>
                      <a:pt x="12099" y="443"/>
                    </a:lnTo>
                    <a:lnTo>
                      <a:pt x="12099" y="480"/>
                    </a:lnTo>
                    <a:lnTo>
                      <a:pt x="12118" y="516"/>
                    </a:lnTo>
                    <a:lnTo>
                      <a:pt x="12156" y="553"/>
                    </a:lnTo>
                    <a:lnTo>
                      <a:pt x="12194" y="571"/>
                    </a:lnTo>
                    <a:lnTo>
                      <a:pt x="12231" y="590"/>
                    </a:lnTo>
                    <a:lnTo>
                      <a:pt x="12269" y="590"/>
                    </a:lnTo>
                    <a:lnTo>
                      <a:pt x="12307" y="590"/>
                    </a:lnTo>
                    <a:lnTo>
                      <a:pt x="12364" y="571"/>
                    </a:lnTo>
                    <a:lnTo>
                      <a:pt x="12401" y="553"/>
                    </a:lnTo>
                    <a:lnTo>
                      <a:pt x="12439" y="553"/>
                    </a:lnTo>
                    <a:lnTo>
                      <a:pt x="12495" y="534"/>
                    </a:lnTo>
                    <a:lnTo>
                      <a:pt x="12533" y="534"/>
                    </a:lnTo>
                    <a:lnTo>
                      <a:pt x="12590" y="516"/>
                    </a:lnTo>
                    <a:lnTo>
                      <a:pt x="12628" y="516"/>
                    </a:lnTo>
                    <a:lnTo>
                      <a:pt x="12666" y="516"/>
                    </a:lnTo>
                    <a:lnTo>
                      <a:pt x="12723" y="534"/>
                    </a:lnTo>
                    <a:lnTo>
                      <a:pt x="12759" y="571"/>
                    </a:lnTo>
                    <a:lnTo>
                      <a:pt x="12741" y="1345"/>
                    </a:lnTo>
                    <a:lnTo>
                      <a:pt x="12723" y="1345"/>
                    </a:lnTo>
                    <a:lnTo>
                      <a:pt x="12723" y="1364"/>
                    </a:lnTo>
                    <a:lnTo>
                      <a:pt x="12704" y="1364"/>
                    </a:lnTo>
                    <a:lnTo>
                      <a:pt x="12685" y="1382"/>
                    </a:lnTo>
                    <a:lnTo>
                      <a:pt x="12685" y="1382"/>
                    </a:lnTo>
                    <a:lnTo>
                      <a:pt x="12666" y="1401"/>
                    </a:lnTo>
                    <a:lnTo>
                      <a:pt x="12666" y="1401"/>
                    </a:lnTo>
                    <a:lnTo>
                      <a:pt x="12647" y="1419"/>
                    </a:lnTo>
                    <a:lnTo>
                      <a:pt x="433" y="1419"/>
                    </a:lnTo>
                    <a:lnTo>
                      <a:pt x="340" y="1234"/>
                    </a:lnTo>
                    <a:lnTo>
                      <a:pt x="452" y="958"/>
                    </a:lnTo>
                    <a:lnTo>
                      <a:pt x="925" y="608"/>
                    </a:lnTo>
                    <a:lnTo>
                      <a:pt x="925" y="424"/>
                    </a:lnTo>
                    <a:lnTo>
                      <a:pt x="321" y="884"/>
                    </a:lnTo>
                    <a:lnTo>
                      <a:pt x="283" y="866"/>
                    </a:lnTo>
                    <a:lnTo>
                      <a:pt x="245" y="848"/>
                    </a:lnTo>
                    <a:lnTo>
                      <a:pt x="226" y="830"/>
                    </a:lnTo>
                    <a:lnTo>
                      <a:pt x="207" y="811"/>
                    </a:lnTo>
                    <a:lnTo>
                      <a:pt x="188" y="774"/>
                    </a:lnTo>
                    <a:lnTo>
                      <a:pt x="169" y="756"/>
                    </a:lnTo>
                    <a:lnTo>
                      <a:pt x="150" y="719"/>
                    </a:lnTo>
                    <a:lnTo>
                      <a:pt x="131" y="663"/>
                    </a:lnTo>
                    <a:lnTo>
                      <a:pt x="113" y="627"/>
                    </a:lnTo>
                    <a:lnTo>
                      <a:pt x="94" y="590"/>
                    </a:lnTo>
                    <a:lnTo>
                      <a:pt x="75" y="534"/>
                    </a:lnTo>
                    <a:lnTo>
                      <a:pt x="75" y="498"/>
                    </a:lnTo>
                    <a:lnTo>
                      <a:pt x="56" y="443"/>
                    </a:lnTo>
                    <a:lnTo>
                      <a:pt x="37" y="406"/>
                    </a:lnTo>
                    <a:lnTo>
                      <a:pt x="18" y="369"/>
                    </a:lnTo>
                    <a:lnTo>
                      <a:pt x="0" y="313"/>
                    </a:lnTo>
                    <a:lnTo>
                      <a:pt x="0" y="295"/>
                    </a:lnTo>
                    <a:lnTo>
                      <a:pt x="0" y="276"/>
                    </a:lnTo>
                    <a:lnTo>
                      <a:pt x="0" y="258"/>
                    </a:lnTo>
                    <a:lnTo>
                      <a:pt x="0" y="240"/>
                    </a:lnTo>
                    <a:lnTo>
                      <a:pt x="0" y="203"/>
                    </a:lnTo>
                    <a:lnTo>
                      <a:pt x="0" y="184"/>
                    </a:lnTo>
                    <a:lnTo>
                      <a:pt x="0" y="167"/>
                    </a:lnTo>
                    <a:lnTo>
                      <a:pt x="0" y="148"/>
                    </a:lnTo>
                    <a:lnTo>
                      <a:pt x="0" y="130"/>
                    </a:lnTo>
                    <a:lnTo>
                      <a:pt x="0" y="111"/>
                    </a:lnTo>
                    <a:lnTo>
                      <a:pt x="0" y="93"/>
                    </a:lnTo>
                    <a:lnTo>
                      <a:pt x="0" y="74"/>
                    </a:lnTo>
                    <a:lnTo>
                      <a:pt x="0" y="56"/>
                    </a:lnTo>
                    <a:lnTo>
                      <a:pt x="0" y="37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18" y="0"/>
                    </a:lnTo>
                    <a:lnTo>
                      <a:pt x="125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43" name="Freeform 112"/>
              <p:cNvSpPr/>
              <p:nvPr/>
            </p:nvSpPr>
            <p:spPr>
              <a:xfrm>
                <a:off x="69480" y="2396520"/>
                <a:ext cx="2675880" cy="119880"/>
              </a:xfrm>
              <a:custGeom>
                <a:avLst/>
                <a:gdLst/>
                <a:ahLst/>
                <a:rect l="l" t="t" r="r" b="b"/>
                <a:pathLst>
                  <a:path w="12609" h="1419">
                    <a:moveTo>
                      <a:pt x="12609" y="0"/>
                    </a:moveTo>
                    <a:lnTo>
                      <a:pt x="12591" y="645"/>
                    </a:lnTo>
                    <a:lnTo>
                      <a:pt x="12554" y="664"/>
                    </a:lnTo>
                    <a:lnTo>
                      <a:pt x="12516" y="701"/>
                    </a:lnTo>
                    <a:lnTo>
                      <a:pt x="12478" y="738"/>
                    </a:lnTo>
                    <a:lnTo>
                      <a:pt x="12440" y="756"/>
                    </a:lnTo>
                    <a:lnTo>
                      <a:pt x="12402" y="774"/>
                    </a:lnTo>
                    <a:lnTo>
                      <a:pt x="12364" y="811"/>
                    </a:lnTo>
                    <a:lnTo>
                      <a:pt x="12327" y="830"/>
                    </a:lnTo>
                    <a:lnTo>
                      <a:pt x="12289" y="847"/>
                    </a:lnTo>
                    <a:lnTo>
                      <a:pt x="12232" y="866"/>
                    </a:lnTo>
                    <a:lnTo>
                      <a:pt x="12195" y="903"/>
                    </a:lnTo>
                    <a:lnTo>
                      <a:pt x="12157" y="921"/>
                    </a:lnTo>
                    <a:lnTo>
                      <a:pt x="12119" y="940"/>
                    </a:lnTo>
                    <a:lnTo>
                      <a:pt x="12063" y="958"/>
                    </a:lnTo>
                    <a:lnTo>
                      <a:pt x="12025" y="977"/>
                    </a:lnTo>
                    <a:lnTo>
                      <a:pt x="11987" y="995"/>
                    </a:lnTo>
                    <a:lnTo>
                      <a:pt x="11930" y="1014"/>
                    </a:lnTo>
                    <a:lnTo>
                      <a:pt x="11892" y="1014"/>
                    </a:lnTo>
                    <a:lnTo>
                      <a:pt x="11855" y="1032"/>
                    </a:lnTo>
                    <a:lnTo>
                      <a:pt x="11799" y="1051"/>
                    </a:lnTo>
                    <a:lnTo>
                      <a:pt x="11761" y="1069"/>
                    </a:lnTo>
                    <a:lnTo>
                      <a:pt x="11723" y="1088"/>
                    </a:lnTo>
                    <a:lnTo>
                      <a:pt x="11666" y="1106"/>
                    </a:lnTo>
                    <a:lnTo>
                      <a:pt x="11628" y="1125"/>
                    </a:lnTo>
                    <a:lnTo>
                      <a:pt x="11571" y="1125"/>
                    </a:lnTo>
                    <a:lnTo>
                      <a:pt x="11533" y="1143"/>
                    </a:lnTo>
                    <a:lnTo>
                      <a:pt x="11478" y="1161"/>
                    </a:lnTo>
                    <a:lnTo>
                      <a:pt x="11440" y="1180"/>
                    </a:lnTo>
                    <a:lnTo>
                      <a:pt x="11402" y="1197"/>
                    </a:lnTo>
                    <a:lnTo>
                      <a:pt x="11345" y="1216"/>
                    </a:lnTo>
                    <a:lnTo>
                      <a:pt x="11307" y="1234"/>
                    </a:lnTo>
                    <a:lnTo>
                      <a:pt x="11269" y="1253"/>
                    </a:lnTo>
                    <a:lnTo>
                      <a:pt x="11213" y="1271"/>
                    </a:lnTo>
                    <a:lnTo>
                      <a:pt x="11213" y="1419"/>
                    </a:lnTo>
                    <a:lnTo>
                      <a:pt x="2908" y="1419"/>
                    </a:lnTo>
                    <a:lnTo>
                      <a:pt x="3455" y="995"/>
                    </a:lnTo>
                    <a:lnTo>
                      <a:pt x="3455" y="995"/>
                    </a:lnTo>
                    <a:lnTo>
                      <a:pt x="3455" y="995"/>
                    </a:lnTo>
                    <a:lnTo>
                      <a:pt x="3455" y="977"/>
                    </a:lnTo>
                    <a:lnTo>
                      <a:pt x="3455" y="977"/>
                    </a:lnTo>
                    <a:lnTo>
                      <a:pt x="3455" y="958"/>
                    </a:lnTo>
                    <a:lnTo>
                      <a:pt x="3455" y="940"/>
                    </a:lnTo>
                    <a:lnTo>
                      <a:pt x="3455" y="921"/>
                    </a:lnTo>
                    <a:lnTo>
                      <a:pt x="3455" y="921"/>
                    </a:lnTo>
                    <a:lnTo>
                      <a:pt x="2492" y="1419"/>
                    </a:lnTo>
                    <a:lnTo>
                      <a:pt x="566" y="1419"/>
                    </a:lnTo>
                    <a:lnTo>
                      <a:pt x="812" y="1143"/>
                    </a:lnTo>
                    <a:lnTo>
                      <a:pt x="812" y="1143"/>
                    </a:lnTo>
                    <a:lnTo>
                      <a:pt x="812" y="1125"/>
                    </a:lnTo>
                    <a:lnTo>
                      <a:pt x="812" y="1106"/>
                    </a:lnTo>
                    <a:lnTo>
                      <a:pt x="812" y="1106"/>
                    </a:lnTo>
                    <a:lnTo>
                      <a:pt x="812" y="1088"/>
                    </a:lnTo>
                    <a:lnTo>
                      <a:pt x="793" y="1088"/>
                    </a:lnTo>
                    <a:lnTo>
                      <a:pt x="793" y="1069"/>
                    </a:lnTo>
                    <a:lnTo>
                      <a:pt x="775" y="1069"/>
                    </a:lnTo>
                    <a:lnTo>
                      <a:pt x="585" y="1253"/>
                    </a:lnTo>
                    <a:lnTo>
                      <a:pt x="566" y="1253"/>
                    </a:lnTo>
                    <a:lnTo>
                      <a:pt x="566" y="1253"/>
                    </a:lnTo>
                    <a:lnTo>
                      <a:pt x="548" y="1253"/>
                    </a:lnTo>
                    <a:lnTo>
                      <a:pt x="548" y="1234"/>
                    </a:lnTo>
                    <a:lnTo>
                      <a:pt x="529" y="1234"/>
                    </a:lnTo>
                    <a:lnTo>
                      <a:pt x="529" y="1234"/>
                    </a:lnTo>
                    <a:lnTo>
                      <a:pt x="511" y="1234"/>
                    </a:lnTo>
                    <a:lnTo>
                      <a:pt x="511" y="1216"/>
                    </a:lnTo>
                    <a:lnTo>
                      <a:pt x="190" y="534"/>
                    </a:lnTo>
                    <a:lnTo>
                      <a:pt x="302" y="258"/>
                    </a:lnTo>
                    <a:lnTo>
                      <a:pt x="642" y="0"/>
                    </a:lnTo>
                    <a:lnTo>
                      <a:pt x="12609" y="0"/>
                    </a:lnTo>
                    <a:close/>
                    <a:moveTo>
                      <a:pt x="397" y="0"/>
                    </a:moveTo>
                    <a:lnTo>
                      <a:pt x="171" y="184"/>
                    </a:lnTo>
                    <a:lnTo>
                      <a:pt x="152" y="184"/>
                    </a:lnTo>
                    <a:lnTo>
                      <a:pt x="133" y="166"/>
                    </a:lnTo>
                    <a:lnTo>
                      <a:pt x="114" y="166"/>
                    </a:lnTo>
                    <a:lnTo>
                      <a:pt x="114" y="166"/>
                    </a:lnTo>
                    <a:lnTo>
                      <a:pt x="95" y="148"/>
                    </a:lnTo>
                    <a:lnTo>
                      <a:pt x="76" y="148"/>
                    </a:lnTo>
                    <a:lnTo>
                      <a:pt x="76" y="130"/>
                    </a:lnTo>
                    <a:lnTo>
                      <a:pt x="57" y="130"/>
                    </a:lnTo>
                    <a:lnTo>
                      <a:pt x="57" y="111"/>
                    </a:lnTo>
                    <a:lnTo>
                      <a:pt x="38" y="93"/>
                    </a:lnTo>
                    <a:lnTo>
                      <a:pt x="38" y="74"/>
                    </a:lnTo>
                    <a:lnTo>
                      <a:pt x="19" y="74"/>
                    </a:lnTo>
                    <a:lnTo>
                      <a:pt x="19" y="56"/>
                    </a:lnTo>
                    <a:lnTo>
                      <a:pt x="0" y="37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39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44" name="Freeform 113"/>
              <p:cNvSpPr/>
              <p:nvPr/>
            </p:nvSpPr>
            <p:spPr>
              <a:xfrm>
                <a:off x="69480" y="2457360"/>
                <a:ext cx="2649960" cy="121320"/>
              </a:xfrm>
              <a:custGeom>
                <a:avLst/>
                <a:gdLst/>
                <a:ahLst/>
                <a:rect l="l" t="t" r="r" b="b"/>
                <a:pathLst>
                  <a:path w="12478" h="1419">
                    <a:moveTo>
                      <a:pt x="12478" y="0"/>
                    </a:moveTo>
                    <a:lnTo>
                      <a:pt x="12440" y="19"/>
                    </a:lnTo>
                    <a:lnTo>
                      <a:pt x="12402" y="37"/>
                    </a:lnTo>
                    <a:lnTo>
                      <a:pt x="12383" y="74"/>
                    </a:lnTo>
                    <a:lnTo>
                      <a:pt x="12345" y="92"/>
                    </a:lnTo>
                    <a:lnTo>
                      <a:pt x="12308" y="111"/>
                    </a:lnTo>
                    <a:lnTo>
                      <a:pt x="12270" y="128"/>
                    </a:lnTo>
                    <a:lnTo>
                      <a:pt x="12232" y="147"/>
                    </a:lnTo>
                    <a:lnTo>
                      <a:pt x="12195" y="165"/>
                    </a:lnTo>
                    <a:lnTo>
                      <a:pt x="12157" y="184"/>
                    </a:lnTo>
                    <a:lnTo>
                      <a:pt x="12119" y="202"/>
                    </a:lnTo>
                    <a:lnTo>
                      <a:pt x="12062" y="221"/>
                    </a:lnTo>
                    <a:lnTo>
                      <a:pt x="12025" y="239"/>
                    </a:lnTo>
                    <a:lnTo>
                      <a:pt x="11987" y="258"/>
                    </a:lnTo>
                    <a:lnTo>
                      <a:pt x="11949" y="276"/>
                    </a:lnTo>
                    <a:lnTo>
                      <a:pt x="11911" y="295"/>
                    </a:lnTo>
                    <a:lnTo>
                      <a:pt x="11873" y="313"/>
                    </a:lnTo>
                    <a:lnTo>
                      <a:pt x="11817" y="313"/>
                    </a:lnTo>
                    <a:lnTo>
                      <a:pt x="11780" y="332"/>
                    </a:lnTo>
                    <a:lnTo>
                      <a:pt x="11742" y="350"/>
                    </a:lnTo>
                    <a:lnTo>
                      <a:pt x="11704" y="369"/>
                    </a:lnTo>
                    <a:lnTo>
                      <a:pt x="11666" y="387"/>
                    </a:lnTo>
                    <a:lnTo>
                      <a:pt x="11609" y="387"/>
                    </a:lnTo>
                    <a:lnTo>
                      <a:pt x="11571" y="406"/>
                    </a:lnTo>
                    <a:lnTo>
                      <a:pt x="11533" y="424"/>
                    </a:lnTo>
                    <a:lnTo>
                      <a:pt x="11497" y="442"/>
                    </a:lnTo>
                    <a:lnTo>
                      <a:pt x="11440" y="461"/>
                    </a:lnTo>
                    <a:lnTo>
                      <a:pt x="11402" y="461"/>
                    </a:lnTo>
                    <a:lnTo>
                      <a:pt x="11364" y="478"/>
                    </a:lnTo>
                    <a:lnTo>
                      <a:pt x="11326" y="497"/>
                    </a:lnTo>
                    <a:lnTo>
                      <a:pt x="11288" y="515"/>
                    </a:lnTo>
                    <a:lnTo>
                      <a:pt x="11250" y="534"/>
                    </a:lnTo>
                    <a:lnTo>
                      <a:pt x="11194" y="552"/>
                    </a:lnTo>
                    <a:lnTo>
                      <a:pt x="11194" y="1363"/>
                    </a:lnTo>
                    <a:lnTo>
                      <a:pt x="11194" y="1363"/>
                    </a:lnTo>
                    <a:lnTo>
                      <a:pt x="11175" y="1382"/>
                    </a:lnTo>
                    <a:lnTo>
                      <a:pt x="11175" y="1382"/>
                    </a:lnTo>
                    <a:lnTo>
                      <a:pt x="11156" y="1382"/>
                    </a:lnTo>
                    <a:lnTo>
                      <a:pt x="11156" y="1400"/>
                    </a:lnTo>
                    <a:lnTo>
                      <a:pt x="11138" y="1400"/>
                    </a:lnTo>
                    <a:lnTo>
                      <a:pt x="11138" y="1400"/>
                    </a:lnTo>
                    <a:lnTo>
                      <a:pt x="11119" y="1419"/>
                    </a:lnTo>
                    <a:lnTo>
                      <a:pt x="7286" y="1419"/>
                    </a:lnTo>
                    <a:lnTo>
                      <a:pt x="7834" y="1050"/>
                    </a:lnTo>
                    <a:lnTo>
                      <a:pt x="7815" y="1032"/>
                    </a:lnTo>
                    <a:lnTo>
                      <a:pt x="7815" y="1013"/>
                    </a:lnTo>
                    <a:lnTo>
                      <a:pt x="7815" y="995"/>
                    </a:lnTo>
                    <a:lnTo>
                      <a:pt x="7815" y="995"/>
                    </a:lnTo>
                    <a:lnTo>
                      <a:pt x="7815" y="1013"/>
                    </a:lnTo>
                    <a:lnTo>
                      <a:pt x="7815" y="1013"/>
                    </a:lnTo>
                    <a:lnTo>
                      <a:pt x="7815" y="1032"/>
                    </a:lnTo>
                    <a:lnTo>
                      <a:pt x="7815" y="1050"/>
                    </a:lnTo>
                    <a:lnTo>
                      <a:pt x="7834" y="1050"/>
                    </a:lnTo>
                    <a:lnTo>
                      <a:pt x="7834" y="1069"/>
                    </a:lnTo>
                    <a:lnTo>
                      <a:pt x="7834" y="1069"/>
                    </a:lnTo>
                    <a:lnTo>
                      <a:pt x="7834" y="1069"/>
                    </a:lnTo>
                    <a:lnTo>
                      <a:pt x="7815" y="1069"/>
                    </a:lnTo>
                    <a:lnTo>
                      <a:pt x="7815" y="1050"/>
                    </a:lnTo>
                    <a:lnTo>
                      <a:pt x="7796" y="1032"/>
                    </a:lnTo>
                    <a:lnTo>
                      <a:pt x="7777" y="995"/>
                    </a:lnTo>
                    <a:lnTo>
                      <a:pt x="7758" y="1013"/>
                    </a:lnTo>
                    <a:lnTo>
                      <a:pt x="7721" y="1032"/>
                    </a:lnTo>
                    <a:lnTo>
                      <a:pt x="7702" y="1050"/>
                    </a:lnTo>
                    <a:lnTo>
                      <a:pt x="7683" y="1069"/>
                    </a:lnTo>
                    <a:lnTo>
                      <a:pt x="7645" y="1087"/>
                    </a:lnTo>
                    <a:lnTo>
                      <a:pt x="7626" y="1106"/>
                    </a:lnTo>
                    <a:lnTo>
                      <a:pt x="7589" y="1106"/>
                    </a:lnTo>
                    <a:lnTo>
                      <a:pt x="7570" y="1124"/>
                    </a:lnTo>
                    <a:lnTo>
                      <a:pt x="7551" y="1143"/>
                    </a:lnTo>
                    <a:lnTo>
                      <a:pt x="7513" y="1143"/>
                    </a:lnTo>
                    <a:lnTo>
                      <a:pt x="7494" y="1161"/>
                    </a:lnTo>
                    <a:lnTo>
                      <a:pt x="7457" y="1161"/>
                    </a:lnTo>
                    <a:lnTo>
                      <a:pt x="7438" y="1179"/>
                    </a:lnTo>
                    <a:lnTo>
                      <a:pt x="7400" y="1179"/>
                    </a:lnTo>
                    <a:lnTo>
                      <a:pt x="7381" y="1197"/>
                    </a:lnTo>
                    <a:lnTo>
                      <a:pt x="7343" y="1197"/>
                    </a:lnTo>
                    <a:lnTo>
                      <a:pt x="7324" y="1215"/>
                    </a:lnTo>
                    <a:lnTo>
                      <a:pt x="7286" y="1215"/>
                    </a:lnTo>
                    <a:lnTo>
                      <a:pt x="7267" y="1234"/>
                    </a:lnTo>
                    <a:lnTo>
                      <a:pt x="7230" y="1252"/>
                    </a:lnTo>
                    <a:lnTo>
                      <a:pt x="7212" y="1252"/>
                    </a:lnTo>
                    <a:lnTo>
                      <a:pt x="7193" y="1271"/>
                    </a:lnTo>
                    <a:lnTo>
                      <a:pt x="7155" y="1271"/>
                    </a:lnTo>
                    <a:lnTo>
                      <a:pt x="7136" y="1289"/>
                    </a:lnTo>
                    <a:lnTo>
                      <a:pt x="7098" y="1308"/>
                    </a:lnTo>
                    <a:lnTo>
                      <a:pt x="7079" y="1308"/>
                    </a:lnTo>
                    <a:lnTo>
                      <a:pt x="7041" y="1326"/>
                    </a:lnTo>
                    <a:lnTo>
                      <a:pt x="7022" y="1345"/>
                    </a:lnTo>
                    <a:lnTo>
                      <a:pt x="7003" y="1363"/>
                    </a:lnTo>
                    <a:lnTo>
                      <a:pt x="6965" y="1382"/>
                    </a:lnTo>
                    <a:lnTo>
                      <a:pt x="6946" y="1400"/>
                    </a:lnTo>
                    <a:lnTo>
                      <a:pt x="6909" y="1419"/>
                    </a:lnTo>
                    <a:lnTo>
                      <a:pt x="1963" y="1419"/>
                    </a:lnTo>
                    <a:lnTo>
                      <a:pt x="3436" y="276"/>
                    </a:lnTo>
                    <a:lnTo>
                      <a:pt x="3436" y="276"/>
                    </a:lnTo>
                    <a:lnTo>
                      <a:pt x="3436" y="276"/>
                    </a:lnTo>
                    <a:lnTo>
                      <a:pt x="3436" y="258"/>
                    </a:lnTo>
                    <a:lnTo>
                      <a:pt x="3436" y="258"/>
                    </a:lnTo>
                    <a:lnTo>
                      <a:pt x="3436" y="239"/>
                    </a:lnTo>
                    <a:lnTo>
                      <a:pt x="3436" y="221"/>
                    </a:lnTo>
                    <a:lnTo>
                      <a:pt x="3436" y="202"/>
                    </a:lnTo>
                    <a:lnTo>
                      <a:pt x="3436" y="202"/>
                    </a:lnTo>
                    <a:lnTo>
                      <a:pt x="1737" y="1106"/>
                    </a:lnTo>
                    <a:lnTo>
                      <a:pt x="1302" y="1419"/>
                    </a:lnTo>
                    <a:lnTo>
                      <a:pt x="19" y="1419"/>
                    </a:lnTo>
                    <a:lnTo>
                      <a:pt x="0" y="1363"/>
                    </a:lnTo>
                    <a:lnTo>
                      <a:pt x="793" y="424"/>
                    </a:lnTo>
                    <a:lnTo>
                      <a:pt x="793" y="424"/>
                    </a:lnTo>
                    <a:lnTo>
                      <a:pt x="793" y="406"/>
                    </a:lnTo>
                    <a:lnTo>
                      <a:pt x="793" y="387"/>
                    </a:lnTo>
                    <a:lnTo>
                      <a:pt x="793" y="387"/>
                    </a:lnTo>
                    <a:lnTo>
                      <a:pt x="793" y="369"/>
                    </a:lnTo>
                    <a:lnTo>
                      <a:pt x="774" y="369"/>
                    </a:lnTo>
                    <a:lnTo>
                      <a:pt x="774" y="350"/>
                    </a:lnTo>
                    <a:lnTo>
                      <a:pt x="756" y="350"/>
                    </a:lnTo>
                    <a:lnTo>
                      <a:pt x="566" y="534"/>
                    </a:lnTo>
                    <a:lnTo>
                      <a:pt x="547" y="534"/>
                    </a:lnTo>
                    <a:lnTo>
                      <a:pt x="547" y="534"/>
                    </a:lnTo>
                    <a:lnTo>
                      <a:pt x="529" y="534"/>
                    </a:lnTo>
                    <a:lnTo>
                      <a:pt x="529" y="515"/>
                    </a:lnTo>
                    <a:lnTo>
                      <a:pt x="510" y="515"/>
                    </a:lnTo>
                    <a:lnTo>
                      <a:pt x="510" y="515"/>
                    </a:lnTo>
                    <a:lnTo>
                      <a:pt x="492" y="515"/>
                    </a:lnTo>
                    <a:lnTo>
                      <a:pt x="492" y="497"/>
                    </a:lnTo>
                    <a:lnTo>
                      <a:pt x="264" y="0"/>
                    </a:lnTo>
                    <a:lnTo>
                      <a:pt x="1247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45" name="Freeform 114"/>
              <p:cNvSpPr/>
              <p:nvPr/>
            </p:nvSpPr>
            <p:spPr>
              <a:xfrm>
                <a:off x="69480" y="2516400"/>
                <a:ext cx="2514240" cy="121320"/>
              </a:xfrm>
              <a:custGeom>
                <a:avLst/>
                <a:gdLst/>
                <a:ahLst/>
                <a:rect l="l" t="t" r="r" b="b"/>
                <a:pathLst>
                  <a:path w="11836" h="1419">
                    <a:moveTo>
                      <a:pt x="11194" y="0"/>
                    </a:moveTo>
                    <a:lnTo>
                      <a:pt x="11194" y="663"/>
                    </a:lnTo>
                    <a:lnTo>
                      <a:pt x="11175" y="682"/>
                    </a:lnTo>
                    <a:lnTo>
                      <a:pt x="11138" y="719"/>
                    </a:lnTo>
                    <a:lnTo>
                      <a:pt x="11100" y="737"/>
                    </a:lnTo>
                    <a:lnTo>
                      <a:pt x="11062" y="756"/>
                    </a:lnTo>
                    <a:lnTo>
                      <a:pt x="11024" y="793"/>
                    </a:lnTo>
                    <a:lnTo>
                      <a:pt x="10968" y="810"/>
                    </a:lnTo>
                    <a:lnTo>
                      <a:pt x="10930" y="829"/>
                    </a:lnTo>
                    <a:lnTo>
                      <a:pt x="10892" y="847"/>
                    </a:lnTo>
                    <a:lnTo>
                      <a:pt x="10854" y="866"/>
                    </a:lnTo>
                    <a:lnTo>
                      <a:pt x="10816" y="884"/>
                    </a:lnTo>
                    <a:lnTo>
                      <a:pt x="10760" y="921"/>
                    </a:lnTo>
                    <a:lnTo>
                      <a:pt x="10722" y="939"/>
                    </a:lnTo>
                    <a:lnTo>
                      <a:pt x="10666" y="958"/>
                    </a:lnTo>
                    <a:lnTo>
                      <a:pt x="10628" y="976"/>
                    </a:lnTo>
                    <a:lnTo>
                      <a:pt x="10590" y="995"/>
                    </a:lnTo>
                    <a:lnTo>
                      <a:pt x="10533" y="1013"/>
                    </a:lnTo>
                    <a:lnTo>
                      <a:pt x="10495" y="1032"/>
                    </a:lnTo>
                    <a:lnTo>
                      <a:pt x="10440" y="1050"/>
                    </a:lnTo>
                    <a:lnTo>
                      <a:pt x="10402" y="1069"/>
                    </a:lnTo>
                    <a:lnTo>
                      <a:pt x="10345" y="1087"/>
                    </a:lnTo>
                    <a:lnTo>
                      <a:pt x="10307" y="1106"/>
                    </a:lnTo>
                    <a:lnTo>
                      <a:pt x="10269" y="1106"/>
                    </a:lnTo>
                    <a:lnTo>
                      <a:pt x="10212" y="1124"/>
                    </a:lnTo>
                    <a:lnTo>
                      <a:pt x="10174" y="1143"/>
                    </a:lnTo>
                    <a:lnTo>
                      <a:pt x="10118" y="1160"/>
                    </a:lnTo>
                    <a:lnTo>
                      <a:pt x="10081" y="1179"/>
                    </a:lnTo>
                    <a:lnTo>
                      <a:pt x="10043" y="1197"/>
                    </a:lnTo>
                    <a:lnTo>
                      <a:pt x="9986" y="1216"/>
                    </a:lnTo>
                    <a:lnTo>
                      <a:pt x="9948" y="1234"/>
                    </a:lnTo>
                    <a:lnTo>
                      <a:pt x="9910" y="1253"/>
                    </a:lnTo>
                    <a:lnTo>
                      <a:pt x="9854" y="1271"/>
                    </a:lnTo>
                    <a:lnTo>
                      <a:pt x="9816" y="1289"/>
                    </a:lnTo>
                    <a:lnTo>
                      <a:pt x="9797" y="1308"/>
                    </a:lnTo>
                    <a:lnTo>
                      <a:pt x="9778" y="1308"/>
                    </a:lnTo>
                    <a:lnTo>
                      <a:pt x="9759" y="1308"/>
                    </a:lnTo>
                    <a:lnTo>
                      <a:pt x="9759" y="1326"/>
                    </a:lnTo>
                    <a:lnTo>
                      <a:pt x="9740" y="1326"/>
                    </a:lnTo>
                    <a:lnTo>
                      <a:pt x="9740" y="1326"/>
                    </a:lnTo>
                    <a:lnTo>
                      <a:pt x="9722" y="1345"/>
                    </a:lnTo>
                    <a:lnTo>
                      <a:pt x="9722" y="1345"/>
                    </a:lnTo>
                    <a:lnTo>
                      <a:pt x="9722" y="1345"/>
                    </a:lnTo>
                    <a:lnTo>
                      <a:pt x="9722" y="1345"/>
                    </a:lnTo>
                    <a:lnTo>
                      <a:pt x="9722" y="1363"/>
                    </a:lnTo>
                    <a:lnTo>
                      <a:pt x="9722" y="1363"/>
                    </a:lnTo>
                    <a:lnTo>
                      <a:pt x="9722" y="1382"/>
                    </a:lnTo>
                    <a:lnTo>
                      <a:pt x="9722" y="1382"/>
                    </a:lnTo>
                    <a:lnTo>
                      <a:pt x="9722" y="1400"/>
                    </a:lnTo>
                    <a:lnTo>
                      <a:pt x="9722" y="1400"/>
                    </a:lnTo>
                    <a:lnTo>
                      <a:pt x="11817" y="1013"/>
                    </a:lnTo>
                    <a:lnTo>
                      <a:pt x="11836" y="1419"/>
                    </a:lnTo>
                    <a:lnTo>
                      <a:pt x="6267" y="1419"/>
                    </a:lnTo>
                    <a:lnTo>
                      <a:pt x="7834" y="350"/>
                    </a:lnTo>
                    <a:lnTo>
                      <a:pt x="7815" y="332"/>
                    </a:lnTo>
                    <a:lnTo>
                      <a:pt x="7815" y="313"/>
                    </a:lnTo>
                    <a:lnTo>
                      <a:pt x="7815" y="295"/>
                    </a:lnTo>
                    <a:lnTo>
                      <a:pt x="7815" y="295"/>
                    </a:lnTo>
                    <a:lnTo>
                      <a:pt x="7815" y="313"/>
                    </a:lnTo>
                    <a:lnTo>
                      <a:pt x="7815" y="313"/>
                    </a:lnTo>
                    <a:lnTo>
                      <a:pt x="7815" y="332"/>
                    </a:lnTo>
                    <a:lnTo>
                      <a:pt x="7815" y="350"/>
                    </a:lnTo>
                    <a:lnTo>
                      <a:pt x="7834" y="350"/>
                    </a:lnTo>
                    <a:lnTo>
                      <a:pt x="7834" y="369"/>
                    </a:lnTo>
                    <a:lnTo>
                      <a:pt x="7834" y="369"/>
                    </a:lnTo>
                    <a:lnTo>
                      <a:pt x="7834" y="369"/>
                    </a:lnTo>
                    <a:lnTo>
                      <a:pt x="7815" y="369"/>
                    </a:lnTo>
                    <a:lnTo>
                      <a:pt x="7815" y="350"/>
                    </a:lnTo>
                    <a:lnTo>
                      <a:pt x="7796" y="332"/>
                    </a:lnTo>
                    <a:lnTo>
                      <a:pt x="7777" y="295"/>
                    </a:lnTo>
                    <a:lnTo>
                      <a:pt x="7758" y="313"/>
                    </a:lnTo>
                    <a:lnTo>
                      <a:pt x="7721" y="332"/>
                    </a:lnTo>
                    <a:lnTo>
                      <a:pt x="7702" y="350"/>
                    </a:lnTo>
                    <a:lnTo>
                      <a:pt x="7664" y="369"/>
                    </a:lnTo>
                    <a:lnTo>
                      <a:pt x="7645" y="387"/>
                    </a:lnTo>
                    <a:lnTo>
                      <a:pt x="7608" y="406"/>
                    </a:lnTo>
                    <a:lnTo>
                      <a:pt x="7589" y="406"/>
                    </a:lnTo>
                    <a:lnTo>
                      <a:pt x="7551" y="424"/>
                    </a:lnTo>
                    <a:lnTo>
                      <a:pt x="7532" y="443"/>
                    </a:lnTo>
                    <a:lnTo>
                      <a:pt x="7494" y="443"/>
                    </a:lnTo>
                    <a:lnTo>
                      <a:pt x="7476" y="461"/>
                    </a:lnTo>
                    <a:lnTo>
                      <a:pt x="7438" y="479"/>
                    </a:lnTo>
                    <a:lnTo>
                      <a:pt x="7419" y="479"/>
                    </a:lnTo>
                    <a:lnTo>
                      <a:pt x="7381" y="497"/>
                    </a:lnTo>
                    <a:lnTo>
                      <a:pt x="7362" y="497"/>
                    </a:lnTo>
                    <a:lnTo>
                      <a:pt x="7324" y="515"/>
                    </a:lnTo>
                    <a:lnTo>
                      <a:pt x="7305" y="515"/>
                    </a:lnTo>
                    <a:lnTo>
                      <a:pt x="7267" y="534"/>
                    </a:lnTo>
                    <a:lnTo>
                      <a:pt x="7249" y="534"/>
                    </a:lnTo>
                    <a:lnTo>
                      <a:pt x="7212" y="552"/>
                    </a:lnTo>
                    <a:lnTo>
                      <a:pt x="7193" y="571"/>
                    </a:lnTo>
                    <a:lnTo>
                      <a:pt x="7155" y="571"/>
                    </a:lnTo>
                    <a:lnTo>
                      <a:pt x="7136" y="589"/>
                    </a:lnTo>
                    <a:lnTo>
                      <a:pt x="7098" y="608"/>
                    </a:lnTo>
                    <a:lnTo>
                      <a:pt x="7079" y="608"/>
                    </a:lnTo>
                    <a:lnTo>
                      <a:pt x="7041" y="626"/>
                    </a:lnTo>
                    <a:lnTo>
                      <a:pt x="7022" y="645"/>
                    </a:lnTo>
                    <a:lnTo>
                      <a:pt x="6984" y="663"/>
                    </a:lnTo>
                    <a:lnTo>
                      <a:pt x="6965" y="682"/>
                    </a:lnTo>
                    <a:lnTo>
                      <a:pt x="6946" y="700"/>
                    </a:lnTo>
                    <a:lnTo>
                      <a:pt x="6909" y="719"/>
                    </a:lnTo>
                    <a:lnTo>
                      <a:pt x="6891" y="737"/>
                    </a:lnTo>
                    <a:lnTo>
                      <a:pt x="6853" y="756"/>
                    </a:lnTo>
                    <a:lnTo>
                      <a:pt x="6834" y="774"/>
                    </a:lnTo>
                    <a:lnTo>
                      <a:pt x="6796" y="793"/>
                    </a:lnTo>
                    <a:lnTo>
                      <a:pt x="6777" y="793"/>
                    </a:lnTo>
                    <a:lnTo>
                      <a:pt x="6739" y="810"/>
                    </a:lnTo>
                    <a:lnTo>
                      <a:pt x="6720" y="829"/>
                    </a:lnTo>
                    <a:lnTo>
                      <a:pt x="6682" y="847"/>
                    </a:lnTo>
                    <a:lnTo>
                      <a:pt x="6664" y="847"/>
                    </a:lnTo>
                    <a:lnTo>
                      <a:pt x="6645" y="866"/>
                    </a:lnTo>
                    <a:lnTo>
                      <a:pt x="6607" y="866"/>
                    </a:lnTo>
                    <a:lnTo>
                      <a:pt x="6588" y="884"/>
                    </a:lnTo>
                    <a:lnTo>
                      <a:pt x="6551" y="902"/>
                    </a:lnTo>
                    <a:lnTo>
                      <a:pt x="6532" y="902"/>
                    </a:lnTo>
                    <a:lnTo>
                      <a:pt x="6494" y="921"/>
                    </a:lnTo>
                    <a:lnTo>
                      <a:pt x="6475" y="921"/>
                    </a:lnTo>
                    <a:lnTo>
                      <a:pt x="6437" y="939"/>
                    </a:lnTo>
                    <a:lnTo>
                      <a:pt x="6418" y="939"/>
                    </a:lnTo>
                    <a:lnTo>
                      <a:pt x="6381" y="958"/>
                    </a:lnTo>
                    <a:lnTo>
                      <a:pt x="6362" y="958"/>
                    </a:lnTo>
                    <a:lnTo>
                      <a:pt x="6324" y="976"/>
                    </a:lnTo>
                    <a:lnTo>
                      <a:pt x="6286" y="995"/>
                    </a:lnTo>
                    <a:lnTo>
                      <a:pt x="6267" y="995"/>
                    </a:lnTo>
                    <a:lnTo>
                      <a:pt x="6229" y="1013"/>
                    </a:lnTo>
                    <a:lnTo>
                      <a:pt x="6210" y="1013"/>
                    </a:lnTo>
                    <a:lnTo>
                      <a:pt x="6173" y="1032"/>
                    </a:lnTo>
                    <a:lnTo>
                      <a:pt x="6154" y="1050"/>
                    </a:lnTo>
                    <a:lnTo>
                      <a:pt x="6117" y="1050"/>
                    </a:lnTo>
                    <a:lnTo>
                      <a:pt x="6098" y="1069"/>
                    </a:lnTo>
                    <a:lnTo>
                      <a:pt x="6060" y="1087"/>
                    </a:lnTo>
                    <a:lnTo>
                      <a:pt x="6041" y="1106"/>
                    </a:lnTo>
                    <a:lnTo>
                      <a:pt x="6003" y="1106"/>
                    </a:lnTo>
                    <a:lnTo>
                      <a:pt x="5984" y="1124"/>
                    </a:lnTo>
                    <a:lnTo>
                      <a:pt x="5946" y="1143"/>
                    </a:lnTo>
                    <a:lnTo>
                      <a:pt x="5908" y="1160"/>
                    </a:lnTo>
                    <a:lnTo>
                      <a:pt x="5889" y="1179"/>
                    </a:lnTo>
                    <a:lnTo>
                      <a:pt x="5852" y="1197"/>
                    </a:lnTo>
                    <a:lnTo>
                      <a:pt x="5815" y="1216"/>
                    </a:lnTo>
                    <a:lnTo>
                      <a:pt x="5777" y="1234"/>
                    </a:lnTo>
                    <a:lnTo>
                      <a:pt x="5758" y="1253"/>
                    </a:lnTo>
                    <a:lnTo>
                      <a:pt x="5720" y="1271"/>
                    </a:lnTo>
                    <a:lnTo>
                      <a:pt x="5682" y="1289"/>
                    </a:lnTo>
                    <a:lnTo>
                      <a:pt x="5663" y="1308"/>
                    </a:lnTo>
                    <a:lnTo>
                      <a:pt x="5625" y="1326"/>
                    </a:lnTo>
                    <a:lnTo>
                      <a:pt x="5588" y="1345"/>
                    </a:lnTo>
                    <a:lnTo>
                      <a:pt x="5550" y="1363"/>
                    </a:lnTo>
                    <a:lnTo>
                      <a:pt x="5512" y="1382"/>
                    </a:lnTo>
                    <a:lnTo>
                      <a:pt x="5493" y="1400"/>
                    </a:lnTo>
                    <a:lnTo>
                      <a:pt x="5456" y="1419"/>
                    </a:lnTo>
                    <a:lnTo>
                      <a:pt x="1397" y="1419"/>
                    </a:lnTo>
                    <a:lnTo>
                      <a:pt x="1321" y="1197"/>
                    </a:lnTo>
                    <a:lnTo>
                      <a:pt x="2889" y="0"/>
                    </a:lnTo>
                    <a:lnTo>
                      <a:pt x="11194" y="0"/>
                    </a:lnTo>
                    <a:close/>
                    <a:moveTo>
                      <a:pt x="2473" y="0"/>
                    </a:moveTo>
                    <a:lnTo>
                      <a:pt x="1737" y="406"/>
                    </a:lnTo>
                    <a:lnTo>
                      <a:pt x="416" y="1382"/>
                    </a:lnTo>
                    <a:lnTo>
                      <a:pt x="245" y="1289"/>
                    </a:lnTo>
                    <a:lnTo>
                      <a:pt x="0" y="663"/>
                    </a:lnTo>
                    <a:lnTo>
                      <a:pt x="547" y="0"/>
                    </a:lnTo>
                    <a:lnTo>
                      <a:pt x="247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46" name="Freeform 115"/>
              <p:cNvSpPr/>
              <p:nvPr/>
            </p:nvSpPr>
            <p:spPr>
              <a:xfrm>
                <a:off x="73440" y="2579040"/>
                <a:ext cx="2582640" cy="119880"/>
              </a:xfrm>
              <a:custGeom>
                <a:avLst/>
                <a:gdLst/>
                <a:ahLst/>
                <a:rect l="l" t="t" r="r" b="b"/>
                <a:pathLst>
                  <a:path w="12157" h="1418">
                    <a:moveTo>
                      <a:pt x="11100" y="0"/>
                    </a:moveTo>
                    <a:lnTo>
                      <a:pt x="11062" y="18"/>
                    </a:lnTo>
                    <a:lnTo>
                      <a:pt x="11043" y="37"/>
                    </a:lnTo>
                    <a:lnTo>
                      <a:pt x="11005" y="74"/>
                    </a:lnTo>
                    <a:lnTo>
                      <a:pt x="10967" y="91"/>
                    </a:lnTo>
                    <a:lnTo>
                      <a:pt x="10930" y="110"/>
                    </a:lnTo>
                    <a:lnTo>
                      <a:pt x="10892" y="128"/>
                    </a:lnTo>
                    <a:lnTo>
                      <a:pt x="10835" y="147"/>
                    </a:lnTo>
                    <a:lnTo>
                      <a:pt x="10797" y="165"/>
                    </a:lnTo>
                    <a:lnTo>
                      <a:pt x="10760" y="183"/>
                    </a:lnTo>
                    <a:lnTo>
                      <a:pt x="10722" y="202"/>
                    </a:lnTo>
                    <a:lnTo>
                      <a:pt x="10685" y="220"/>
                    </a:lnTo>
                    <a:lnTo>
                      <a:pt x="10647" y="239"/>
                    </a:lnTo>
                    <a:lnTo>
                      <a:pt x="10590" y="257"/>
                    </a:lnTo>
                    <a:lnTo>
                      <a:pt x="10552" y="276"/>
                    </a:lnTo>
                    <a:lnTo>
                      <a:pt x="10514" y="294"/>
                    </a:lnTo>
                    <a:lnTo>
                      <a:pt x="10476" y="313"/>
                    </a:lnTo>
                    <a:lnTo>
                      <a:pt x="10421" y="331"/>
                    </a:lnTo>
                    <a:lnTo>
                      <a:pt x="10383" y="350"/>
                    </a:lnTo>
                    <a:lnTo>
                      <a:pt x="10345" y="350"/>
                    </a:lnTo>
                    <a:lnTo>
                      <a:pt x="10307" y="368"/>
                    </a:lnTo>
                    <a:lnTo>
                      <a:pt x="10250" y="387"/>
                    </a:lnTo>
                    <a:lnTo>
                      <a:pt x="10212" y="405"/>
                    </a:lnTo>
                    <a:lnTo>
                      <a:pt x="10174" y="424"/>
                    </a:lnTo>
                    <a:lnTo>
                      <a:pt x="10118" y="441"/>
                    </a:lnTo>
                    <a:lnTo>
                      <a:pt x="10080" y="460"/>
                    </a:lnTo>
                    <a:lnTo>
                      <a:pt x="10043" y="478"/>
                    </a:lnTo>
                    <a:lnTo>
                      <a:pt x="10005" y="497"/>
                    </a:lnTo>
                    <a:lnTo>
                      <a:pt x="9967" y="515"/>
                    </a:lnTo>
                    <a:lnTo>
                      <a:pt x="9910" y="515"/>
                    </a:lnTo>
                    <a:lnTo>
                      <a:pt x="9873" y="534"/>
                    </a:lnTo>
                    <a:lnTo>
                      <a:pt x="9835" y="552"/>
                    </a:lnTo>
                    <a:lnTo>
                      <a:pt x="9797" y="570"/>
                    </a:lnTo>
                    <a:lnTo>
                      <a:pt x="9778" y="589"/>
                    </a:lnTo>
                    <a:lnTo>
                      <a:pt x="9759" y="589"/>
                    </a:lnTo>
                    <a:lnTo>
                      <a:pt x="9740" y="589"/>
                    </a:lnTo>
                    <a:lnTo>
                      <a:pt x="9740" y="607"/>
                    </a:lnTo>
                    <a:lnTo>
                      <a:pt x="9721" y="607"/>
                    </a:lnTo>
                    <a:lnTo>
                      <a:pt x="9721" y="607"/>
                    </a:lnTo>
                    <a:lnTo>
                      <a:pt x="9703" y="626"/>
                    </a:lnTo>
                    <a:lnTo>
                      <a:pt x="9703" y="626"/>
                    </a:lnTo>
                    <a:lnTo>
                      <a:pt x="9703" y="626"/>
                    </a:lnTo>
                    <a:lnTo>
                      <a:pt x="9703" y="626"/>
                    </a:lnTo>
                    <a:lnTo>
                      <a:pt x="9703" y="644"/>
                    </a:lnTo>
                    <a:lnTo>
                      <a:pt x="9703" y="644"/>
                    </a:lnTo>
                    <a:lnTo>
                      <a:pt x="9703" y="663"/>
                    </a:lnTo>
                    <a:lnTo>
                      <a:pt x="9703" y="663"/>
                    </a:lnTo>
                    <a:lnTo>
                      <a:pt x="9703" y="681"/>
                    </a:lnTo>
                    <a:lnTo>
                      <a:pt x="9703" y="681"/>
                    </a:lnTo>
                    <a:lnTo>
                      <a:pt x="11798" y="294"/>
                    </a:lnTo>
                    <a:lnTo>
                      <a:pt x="11836" y="1068"/>
                    </a:lnTo>
                    <a:lnTo>
                      <a:pt x="11854" y="1087"/>
                    </a:lnTo>
                    <a:lnTo>
                      <a:pt x="11854" y="1124"/>
                    </a:lnTo>
                    <a:lnTo>
                      <a:pt x="11873" y="1141"/>
                    </a:lnTo>
                    <a:lnTo>
                      <a:pt x="11892" y="1141"/>
                    </a:lnTo>
                    <a:lnTo>
                      <a:pt x="11892" y="1160"/>
                    </a:lnTo>
                    <a:lnTo>
                      <a:pt x="11911" y="1160"/>
                    </a:lnTo>
                    <a:lnTo>
                      <a:pt x="11930" y="1141"/>
                    </a:lnTo>
                    <a:lnTo>
                      <a:pt x="11949" y="1141"/>
                    </a:lnTo>
                    <a:lnTo>
                      <a:pt x="11987" y="1141"/>
                    </a:lnTo>
                    <a:lnTo>
                      <a:pt x="12006" y="1124"/>
                    </a:lnTo>
                    <a:lnTo>
                      <a:pt x="12025" y="1124"/>
                    </a:lnTo>
                    <a:lnTo>
                      <a:pt x="12043" y="1105"/>
                    </a:lnTo>
                    <a:lnTo>
                      <a:pt x="12062" y="1105"/>
                    </a:lnTo>
                    <a:lnTo>
                      <a:pt x="12081" y="1105"/>
                    </a:lnTo>
                    <a:lnTo>
                      <a:pt x="12100" y="1105"/>
                    </a:lnTo>
                    <a:lnTo>
                      <a:pt x="12119" y="1124"/>
                    </a:lnTo>
                    <a:lnTo>
                      <a:pt x="12157" y="1418"/>
                    </a:lnTo>
                    <a:lnTo>
                      <a:pt x="5191" y="1418"/>
                    </a:lnTo>
                    <a:lnTo>
                      <a:pt x="6173" y="755"/>
                    </a:lnTo>
                    <a:lnTo>
                      <a:pt x="7267" y="0"/>
                    </a:lnTo>
                    <a:lnTo>
                      <a:pt x="11100" y="0"/>
                    </a:lnTo>
                    <a:close/>
                    <a:moveTo>
                      <a:pt x="6890" y="0"/>
                    </a:moveTo>
                    <a:lnTo>
                      <a:pt x="6890" y="0"/>
                    </a:lnTo>
                    <a:lnTo>
                      <a:pt x="6890" y="0"/>
                    </a:lnTo>
                    <a:lnTo>
                      <a:pt x="6890" y="0"/>
                    </a:lnTo>
                    <a:lnTo>
                      <a:pt x="6890" y="18"/>
                    </a:lnTo>
                    <a:lnTo>
                      <a:pt x="6872" y="18"/>
                    </a:lnTo>
                    <a:lnTo>
                      <a:pt x="6872" y="18"/>
                    </a:lnTo>
                    <a:lnTo>
                      <a:pt x="6872" y="18"/>
                    </a:lnTo>
                    <a:lnTo>
                      <a:pt x="6872" y="18"/>
                    </a:lnTo>
                    <a:lnTo>
                      <a:pt x="6834" y="37"/>
                    </a:lnTo>
                    <a:lnTo>
                      <a:pt x="6815" y="55"/>
                    </a:lnTo>
                    <a:lnTo>
                      <a:pt x="6777" y="74"/>
                    </a:lnTo>
                    <a:lnTo>
                      <a:pt x="6758" y="74"/>
                    </a:lnTo>
                    <a:lnTo>
                      <a:pt x="6720" y="91"/>
                    </a:lnTo>
                    <a:lnTo>
                      <a:pt x="6701" y="110"/>
                    </a:lnTo>
                    <a:lnTo>
                      <a:pt x="6663" y="128"/>
                    </a:lnTo>
                    <a:lnTo>
                      <a:pt x="6645" y="128"/>
                    </a:lnTo>
                    <a:lnTo>
                      <a:pt x="6626" y="147"/>
                    </a:lnTo>
                    <a:lnTo>
                      <a:pt x="6588" y="147"/>
                    </a:lnTo>
                    <a:lnTo>
                      <a:pt x="6569" y="165"/>
                    </a:lnTo>
                    <a:lnTo>
                      <a:pt x="6532" y="183"/>
                    </a:lnTo>
                    <a:lnTo>
                      <a:pt x="6513" y="183"/>
                    </a:lnTo>
                    <a:lnTo>
                      <a:pt x="6475" y="202"/>
                    </a:lnTo>
                    <a:lnTo>
                      <a:pt x="6456" y="202"/>
                    </a:lnTo>
                    <a:lnTo>
                      <a:pt x="6418" y="220"/>
                    </a:lnTo>
                    <a:lnTo>
                      <a:pt x="6399" y="220"/>
                    </a:lnTo>
                    <a:lnTo>
                      <a:pt x="6362" y="239"/>
                    </a:lnTo>
                    <a:lnTo>
                      <a:pt x="6343" y="239"/>
                    </a:lnTo>
                    <a:lnTo>
                      <a:pt x="6305" y="257"/>
                    </a:lnTo>
                    <a:lnTo>
                      <a:pt x="6267" y="276"/>
                    </a:lnTo>
                    <a:lnTo>
                      <a:pt x="6248" y="276"/>
                    </a:lnTo>
                    <a:lnTo>
                      <a:pt x="6210" y="294"/>
                    </a:lnTo>
                    <a:lnTo>
                      <a:pt x="6191" y="294"/>
                    </a:lnTo>
                    <a:lnTo>
                      <a:pt x="6154" y="313"/>
                    </a:lnTo>
                    <a:lnTo>
                      <a:pt x="6135" y="331"/>
                    </a:lnTo>
                    <a:lnTo>
                      <a:pt x="6098" y="331"/>
                    </a:lnTo>
                    <a:lnTo>
                      <a:pt x="6079" y="350"/>
                    </a:lnTo>
                    <a:lnTo>
                      <a:pt x="6041" y="368"/>
                    </a:lnTo>
                    <a:lnTo>
                      <a:pt x="6022" y="387"/>
                    </a:lnTo>
                    <a:lnTo>
                      <a:pt x="5984" y="387"/>
                    </a:lnTo>
                    <a:lnTo>
                      <a:pt x="5965" y="405"/>
                    </a:lnTo>
                    <a:lnTo>
                      <a:pt x="5908" y="441"/>
                    </a:lnTo>
                    <a:lnTo>
                      <a:pt x="5851" y="478"/>
                    </a:lnTo>
                    <a:lnTo>
                      <a:pt x="5796" y="497"/>
                    </a:lnTo>
                    <a:lnTo>
                      <a:pt x="5739" y="534"/>
                    </a:lnTo>
                    <a:lnTo>
                      <a:pt x="5682" y="570"/>
                    </a:lnTo>
                    <a:lnTo>
                      <a:pt x="5644" y="589"/>
                    </a:lnTo>
                    <a:lnTo>
                      <a:pt x="5587" y="626"/>
                    </a:lnTo>
                    <a:lnTo>
                      <a:pt x="5531" y="663"/>
                    </a:lnTo>
                    <a:lnTo>
                      <a:pt x="5474" y="681"/>
                    </a:lnTo>
                    <a:lnTo>
                      <a:pt x="5418" y="718"/>
                    </a:lnTo>
                    <a:lnTo>
                      <a:pt x="5361" y="755"/>
                    </a:lnTo>
                    <a:lnTo>
                      <a:pt x="5305" y="774"/>
                    </a:lnTo>
                    <a:lnTo>
                      <a:pt x="5248" y="810"/>
                    </a:lnTo>
                    <a:lnTo>
                      <a:pt x="5191" y="847"/>
                    </a:lnTo>
                    <a:lnTo>
                      <a:pt x="5134" y="865"/>
                    </a:lnTo>
                    <a:lnTo>
                      <a:pt x="5078" y="902"/>
                    </a:lnTo>
                    <a:lnTo>
                      <a:pt x="5022" y="939"/>
                    </a:lnTo>
                    <a:lnTo>
                      <a:pt x="4965" y="976"/>
                    </a:lnTo>
                    <a:lnTo>
                      <a:pt x="4927" y="994"/>
                    </a:lnTo>
                    <a:lnTo>
                      <a:pt x="4870" y="1031"/>
                    </a:lnTo>
                    <a:lnTo>
                      <a:pt x="4813" y="1068"/>
                    </a:lnTo>
                    <a:lnTo>
                      <a:pt x="4758" y="1087"/>
                    </a:lnTo>
                    <a:lnTo>
                      <a:pt x="4701" y="1124"/>
                    </a:lnTo>
                    <a:lnTo>
                      <a:pt x="4644" y="1160"/>
                    </a:lnTo>
                    <a:lnTo>
                      <a:pt x="4587" y="1197"/>
                    </a:lnTo>
                    <a:lnTo>
                      <a:pt x="4530" y="1215"/>
                    </a:lnTo>
                    <a:lnTo>
                      <a:pt x="4493" y="1252"/>
                    </a:lnTo>
                    <a:lnTo>
                      <a:pt x="4436" y="1289"/>
                    </a:lnTo>
                    <a:lnTo>
                      <a:pt x="4380" y="1326"/>
                    </a:lnTo>
                    <a:lnTo>
                      <a:pt x="4323" y="1345"/>
                    </a:lnTo>
                    <a:lnTo>
                      <a:pt x="4266" y="1381"/>
                    </a:lnTo>
                    <a:lnTo>
                      <a:pt x="4229" y="1418"/>
                    </a:lnTo>
                    <a:lnTo>
                      <a:pt x="3115" y="1418"/>
                    </a:lnTo>
                    <a:lnTo>
                      <a:pt x="3096" y="1363"/>
                    </a:lnTo>
                    <a:lnTo>
                      <a:pt x="3020" y="1418"/>
                    </a:lnTo>
                    <a:lnTo>
                      <a:pt x="1416" y="1418"/>
                    </a:lnTo>
                    <a:lnTo>
                      <a:pt x="1435" y="1400"/>
                    </a:lnTo>
                    <a:lnTo>
                      <a:pt x="1454" y="1400"/>
                    </a:lnTo>
                    <a:lnTo>
                      <a:pt x="1473" y="1381"/>
                    </a:lnTo>
                    <a:lnTo>
                      <a:pt x="1492" y="1363"/>
                    </a:lnTo>
                    <a:lnTo>
                      <a:pt x="1492" y="1363"/>
                    </a:lnTo>
                    <a:lnTo>
                      <a:pt x="1511" y="1345"/>
                    </a:lnTo>
                    <a:lnTo>
                      <a:pt x="1530" y="1326"/>
                    </a:lnTo>
                    <a:lnTo>
                      <a:pt x="1549" y="1308"/>
                    </a:lnTo>
                    <a:lnTo>
                      <a:pt x="1302" y="478"/>
                    </a:lnTo>
                    <a:lnTo>
                      <a:pt x="1944" y="0"/>
                    </a:lnTo>
                    <a:lnTo>
                      <a:pt x="6890" y="0"/>
                    </a:lnTo>
                    <a:close/>
                    <a:moveTo>
                      <a:pt x="1283" y="0"/>
                    </a:moveTo>
                    <a:lnTo>
                      <a:pt x="397" y="663"/>
                    </a:lnTo>
                    <a:lnTo>
                      <a:pt x="226" y="570"/>
                    </a:lnTo>
                    <a:lnTo>
                      <a:pt x="0" y="0"/>
                    </a:lnTo>
                    <a:lnTo>
                      <a:pt x="128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47" name="Freeform 116"/>
              <p:cNvSpPr/>
              <p:nvPr/>
            </p:nvSpPr>
            <p:spPr>
              <a:xfrm>
                <a:off x="332280" y="2638080"/>
                <a:ext cx="2328120" cy="119520"/>
              </a:xfrm>
              <a:custGeom>
                <a:avLst/>
                <a:gdLst/>
                <a:ahLst/>
                <a:rect l="l" t="t" r="r" b="b"/>
                <a:pathLst>
                  <a:path w="10967" h="1419">
                    <a:moveTo>
                      <a:pt x="10608" y="0"/>
                    </a:moveTo>
                    <a:lnTo>
                      <a:pt x="10627" y="368"/>
                    </a:lnTo>
                    <a:lnTo>
                      <a:pt x="10645" y="387"/>
                    </a:lnTo>
                    <a:lnTo>
                      <a:pt x="10645" y="424"/>
                    </a:lnTo>
                    <a:lnTo>
                      <a:pt x="10664" y="441"/>
                    </a:lnTo>
                    <a:lnTo>
                      <a:pt x="10683" y="441"/>
                    </a:lnTo>
                    <a:lnTo>
                      <a:pt x="10683" y="460"/>
                    </a:lnTo>
                    <a:lnTo>
                      <a:pt x="10702" y="460"/>
                    </a:lnTo>
                    <a:lnTo>
                      <a:pt x="10721" y="441"/>
                    </a:lnTo>
                    <a:lnTo>
                      <a:pt x="10740" y="441"/>
                    </a:lnTo>
                    <a:lnTo>
                      <a:pt x="10778" y="441"/>
                    </a:lnTo>
                    <a:lnTo>
                      <a:pt x="10797" y="424"/>
                    </a:lnTo>
                    <a:lnTo>
                      <a:pt x="10816" y="424"/>
                    </a:lnTo>
                    <a:lnTo>
                      <a:pt x="10834" y="405"/>
                    </a:lnTo>
                    <a:lnTo>
                      <a:pt x="10853" y="405"/>
                    </a:lnTo>
                    <a:lnTo>
                      <a:pt x="10872" y="405"/>
                    </a:lnTo>
                    <a:lnTo>
                      <a:pt x="10891" y="405"/>
                    </a:lnTo>
                    <a:lnTo>
                      <a:pt x="10910" y="424"/>
                    </a:lnTo>
                    <a:lnTo>
                      <a:pt x="10967" y="1123"/>
                    </a:lnTo>
                    <a:lnTo>
                      <a:pt x="10608" y="1419"/>
                    </a:lnTo>
                    <a:lnTo>
                      <a:pt x="3359" y="1419"/>
                    </a:lnTo>
                    <a:lnTo>
                      <a:pt x="3359" y="1419"/>
                    </a:lnTo>
                    <a:lnTo>
                      <a:pt x="3359" y="1419"/>
                    </a:lnTo>
                    <a:lnTo>
                      <a:pt x="3359" y="1419"/>
                    </a:lnTo>
                    <a:lnTo>
                      <a:pt x="3359" y="1400"/>
                    </a:lnTo>
                    <a:lnTo>
                      <a:pt x="3359" y="1400"/>
                    </a:lnTo>
                    <a:lnTo>
                      <a:pt x="3359" y="1400"/>
                    </a:lnTo>
                    <a:lnTo>
                      <a:pt x="3359" y="1382"/>
                    </a:lnTo>
                    <a:lnTo>
                      <a:pt x="3359" y="1382"/>
                    </a:lnTo>
                    <a:lnTo>
                      <a:pt x="3246" y="1215"/>
                    </a:lnTo>
                    <a:lnTo>
                      <a:pt x="4964" y="55"/>
                    </a:lnTo>
                    <a:lnTo>
                      <a:pt x="5039" y="0"/>
                    </a:lnTo>
                    <a:lnTo>
                      <a:pt x="10608" y="0"/>
                    </a:lnTo>
                    <a:close/>
                    <a:moveTo>
                      <a:pt x="4228" y="0"/>
                    </a:moveTo>
                    <a:lnTo>
                      <a:pt x="4171" y="37"/>
                    </a:lnTo>
                    <a:lnTo>
                      <a:pt x="4133" y="55"/>
                    </a:lnTo>
                    <a:lnTo>
                      <a:pt x="4077" y="91"/>
                    </a:lnTo>
                    <a:lnTo>
                      <a:pt x="4039" y="110"/>
                    </a:lnTo>
                    <a:lnTo>
                      <a:pt x="3982" y="147"/>
                    </a:lnTo>
                    <a:lnTo>
                      <a:pt x="3944" y="165"/>
                    </a:lnTo>
                    <a:lnTo>
                      <a:pt x="3888" y="202"/>
                    </a:lnTo>
                    <a:lnTo>
                      <a:pt x="3850" y="221"/>
                    </a:lnTo>
                    <a:lnTo>
                      <a:pt x="3794" y="239"/>
                    </a:lnTo>
                    <a:lnTo>
                      <a:pt x="3756" y="276"/>
                    </a:lnTo>
                    <a:lnTo>
                      <a:pt x="3699" y="294"/>
                    </a:lnTo>
                    <a:lnTo>
                      <a:pt x="3661" y="331"/>
                    </a:lnTo>
                    <a:lnTo>
                      <a:pt x="3604" y="350"/>
                    </a:lnTo>
                    <a:lnTo>
                      <a:pt x="3566" y="387"/>
                    </a:lnTo>
                    <a:lnTo>
                      <a:pt x="3511" y="405"/>
                    </a:lnTo>
                    <a:lnTo>
                      <a:pt x="3473" y="441"/>
                    </a:lnTo>
                    <a:lnTo>
                      <a:pt x="3416" y="460"/>
                    </a:lnTo>
                    <a:lnTo>
                      <a:pt x="3378" y="497"/>
                    </a:lnTo>
                    <a:lnTo>
                      <a:pt x="3321" y="515"/>
                    </a:lnTo>
                    <a:lnTo>
                      <a:pt x="3284" y="552"/>
                    </a:lnTo>
                    <a:lnTo>
                      <a:pt x="3246" y="571"/>
                    </a:lnTo>
                    <a:lnTo>
                      <a:pt x="3190" y="608"/>
                    </a:lnTo>
                    <a:lnTo>
                      <a:pt x="3152" y="626"/>
                    </a:lnTo>
                    <a:lnTo>
                      <a:pt x="3095" y="663"/>
                    </a:lnTo>
                    <a:lnTo>
                      <a:pt x="3057" y="681"/>
                    </a:lnTo>
                    <a:lnTo>
                      <a:pt x="3020" y="718"/>
                    </a:lnTo>
                    <a:lnTo>
                      <a:pt x="2963" y="755"/>
                    </a:lnTo>
                    <a:lnTo>
                      <a:pt x="2925" y="773"/>
                    </a:lnTo>
                    <a:lnTo>
                      <a:pt x="2887" y="810"/>
                    </a:lnTo>
                    <a:lnTo>
                      <a:pt x="2831" y="828"/>
                    </a:lnTo>
                    <a:lnTo>
                      <a:pt x="2793" y="865"/>
                    </a:lnTo>
                    <a:lnTo>
                      <a:pt x="2756" y="884"/>
                    </a:lnTo>
                    <a:lnTo>
                      <a:pt x="2737" y="902"/>
                    </a:lnTo>
                    <a:lnTo>
                      <a:pt x="2718" y="921"/>
                    </a:lnTo>
                    <a:lnTo>
                      <a:pt x="2718" y="921"/>
                    </a:lnTo>
                    <a:lnTo>
                      <a:pt x="2699" y="939"/>
                    </a:lnTo>
                    <a:lnTo>
                      <a:pt x="2699" y="939"/>
                    </a:lnTo>
                    <a:lnTo>
                      <a:pt x="2680" y="958"/>
                    </a:lnTo>
                    <a:lnTo>
                      <a:pt x="2680" y="958"/>
                    </a:lnTo>
                    <a:lnTo>
                      <a:pt x="2661" y="976"/>
                    </a:lnTo>
                    <a:lnTo>
                      <a:pt x="2661" y="976"/>
                    </a:lnTo>
                    <a:lnTo>
                      <a:pt x="2642" y="995"/>
                    </a:lnTo>
                    <a:lnTo>
                      <a:pt x="2642" y="995"/>
                    </a:lnTo>
                    <a:lnTo>
                      <a:pt x="2623" y="995"/>
                    </a:lnTo>
                    <a:lnTo>
                      <a:pt x="2623" y="1013"/>
                    </a:lnTo>
                    <a:lnTo>
                      <a:pt x="2604" y="1013"/>
                    </a:lnTo>
                    <a:lnTo>
                      <a:pt x="2585" y="1032"/>
                    </a:lnTo>
                    <a:lnTo>
                      <a:pt x="2585" y="1032"/>
                    </a:lnTo>
                    <a:lnTo>
                      <a:pt x="2566" y="1032"/>
                    </a:lnTo>
                    <a:lnTo>
                      <a:pt x="2566" y="1032"/>
                    </a:lnTo>
                    <a:lnTo>
                      <a:pt x="2547" y="1032"/>
                    </a:lnTo>
                    <a:lnTo>
                      <a:pt x="2528" y="1032"/>
                    </a:lnTo>
                    <a:lnTo>
                      <a:pt x="2509" y="1032"/>
                    </a:lnTo>
                    <a:lnTo>
                      <a:pt x="2509" y="1013"/>
                    </a:lnTo>
                    <a:lnTo>
                      <a:pt x="2492" y="1013"/>
                    </a:lnTo>
                    <a:lnTo>
                      <a:pt x="2473" y="1013"/>
                    </a:lnTo>
                    <a:lnTo>
                      <a:pt x="2095" y="1234"/>
                    </a:lnTo>
                    <a:lnTo>
                      <a:pt x="1887" y="663"/>
                    </a:lnTo>
                    <a:lnTo>
                      <a:pt x="641" y="1419"/>
                    </a:lnTo>
                    <a:lnTo>
                      <a:pt x="150" y="1419"/>
                    </a:lnTo>
                    <a:lnTo>
                      <a:pt x="150" y="1400"/>
                    </a:lnTo>
                    <a:lnTo>
                      <a:pt x="131" y="1382"/>
                    </a:lnTo>
                    <a:lnTo>
                      <a:pt x="131" y="1363"/>
                    </a:lnTo>
                    <a:lnTo>
                      <a:pt x="131" y="1326"/>
                    </a:lnTo>
                    <a:lnTo>
                      <a:pt x="112" y="1308"/>
                    </a:lnTo>
                    <a:lnTo>
                      <a:pt x="112" y="1289"/>
                    </a:lnTo>
                    <a:lnTo>
                      <a:pt x="112" y="1252"/>
                    </a:lnTo>
                    <a:lnTo>
                      <a:pt x="112" y="1234"/>
                    </a:lnTo>
                    <a:lnTo>
                      <a:pt x="93" y="1215"/>
                    </a:lnTo>
                    <a:lnTo>
                      <a:pt x="93" y="1178"/>
                    </a:lnTo>
                    <a:lnTo>
                      <a:pt x="93" y="1160"/>
                    </a:lnTo>
                    <a:lnTo>
                      <a:pt x="93" y="1123"/>
                    </a:lnTo>
                    <a:lnTo>
                      <a:pt x="93" y="1105"/>
                    </a:lnTo>
                    <a:lnTo>
                      <a:pt x="93" y="1087"/>
                    </a:lnTo>
                    <a:lnTo>
                      <a:pt x="74" y="1050"/>
                    </a:lnTo>
                    <a:lnTo>
                      <a:pt x="74" y="1032"/>
                    </a:lnTo>
                    <a:lnTo>
                      <a:pt x="74" y="1013"/>
                    </a:lnTo>
                    <a:lnTo>
                      <a:pt x="74" y="1013"/>
                    </a:lnTo>
                    <a:lnTo>
                      <a:pt x="56" y="995"/>
                    </a:lnTo>
                    <a:lnTo>
                      <a:pt x="56" y="995"/>
                    </a:lnTo>
                    <a:lnTo>
                      <a:pt x="37" y="976"/>
                    </a:lnTo>
                    <a:lnTo>
                      <a:pt x="18" y="958"/>
                    </a:lnTo>
                    <a:lnTo>
                      <a:pt x="18" y="958"/>
                    </a:lnTo>
                    <a:lnTo>
                      <a:pt x="0" y="939"/>
                    </a:lnTo>
                    <a:lnTo>
                      <a:pt x="18" y="902"/>
                    </a:lnTo>
                    <a:lnTo>
                      <a:pt x="37" y="884"/>
                    </a:lnTo>
                    <a:lnTo>
                      <a:pt x="56" y="865"/>
                    </a:lnTo>
                    <a:lnTo>
                      <a:pt x="74" y="828"/>
                    </a:lnTo>
                    <a:lnTo>
                      <a:pt x="93" y="810"/>
                    </a:lnTo>
                    <a:lnTo>
                      <a:pt x="112" y="791"/>
                    </a:lnTo>
                    <a:lnTo>
                      <a:pt x="131" y="773"/>
                    </a:lnTo>
                    <a:lnTo>
                      <a:pt x="150" y="773"/>
                    </a:lnTo>
                    <a:lnTo>
                      <a:pt x="169" y="755"/>
                    </a:lnTo>
                    <a:lnTo>
                      <a:pt x="207" y="737"/>
                    </a:lnTo>
                    <a:lnTo>
                      <a:pt x="226" y="718"/>
                    </a:lnTo>
                    <a:lnTo>
                      <a:pt x="245" y="700"/>
                    </a:lnTo>
                    <a:lnTo>
                      <a:pt x="264" y="681"/>
                    </a:lnTo>
                    <a:lnTo>
                      <a:pt x="283" y="663"/>
                    </a:lnTo>
                    <a:lnTo>
                      <a:pt x="302" y="645"/>
                    </a:lnTo>
                    <a:lnTo>
                      <a:pt x="340" y="608"/>
                    </a:lnTo>
                    <a:lnTo>
                      <a:pt x="169" y="0"/>
                    </a:lnTo>
                    <a:lnTo>
                      <a:pt x="422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48" name="Freeform 117"/>
              <p:cNvSpPr/>
              <p:nvPr/>
            </p:nvSpPr>
            <p:spPr>
              <a:xfrm>
                <a:off x="332280" y="2698920"/>
                <a:ext cx="2471760" cy="121320"/>
              </a:xfrm>
              <a:custGeom>
                <a:avLst/>
                <a:gdLst/>
                <a:ahLst/>
                <a:rect l="l" t="t" r="r" b="b"/>
                <a:pathLst>
                  <a:path w="11646" h="1419">
                    <a:moveTo>
                      <a:pt x="10948" y="0"/>
                    </a:moveTo>
                    <a:lnTo>
                      <a:pt x="10967" y="405"/>
                    </a:lnTo>
                    <a:lnTo>
                      <a:pt x="10419" y="866"/>
                    </a:lnTo>
                    <a:lnTo>
                      <a:pt x="10212" y="995"/>
                    </a:lnTo>
                    <a:lnTo>
                      <a:pt x="10212" y="995"/>
                    </a:lnTo>
                    <a:lnTo>
                      <a:pt x="10212" y="1014"/>
                    </a:lnTo>
                    <a:lnTo>
                      <a:pt x="10212" y="1014"/>
                    </a:lnTo>
                    <a:lnTo>
                      <a:pt x="10212" y="1032"/>
                    </a:lnTo>
                    <a:lnTo>
                      <a:pt x="10212" y="1032"/>
                    </a:lnTo>
                    <a:lnTo>
                      <a:pt x="10212" y="1032"/>
                    </a:lnTo>
                    <a:lnTo>
                      <a:pt x="10212" y="1051"/>
                    </a:lnTo>
                    <a:lnTo>
                      <a:pt x="10212" y="1069"/>
                    </a:lnTo>
                    <a:lnTo>
                      <a:pt x="10250" y="1069"/>
                    </a:lnTo>
                    <a:lnTo>
                      <a:pt x="10286" y="1069"/>
                    </a:lnTo>
                    <a:lnTo>
                      <a:pt x="10305" y="1069"/>
                    </a:lnTo>
                    <a:lnTo>
                      <a:pt x="10343" y="1069"/>
                    </a:lnTo>
                    <a:lnTo>
                      <a:pt x="10381" y="1051"/>
                    </a:lnTo>
                    <a:lnTo>
                      <a:pt x="10419" y="1051"/>
                    </a:lnTo>
                    <a:lnTo>
                      <a:pt x="10438" y="1051"/>
                    </a:lnTo>
                    <a:lnTo>
                      <a:pt x="10476" y="1032"/>
                    </a:lnTo>
                    <a:lnTo>
                      <a:pt x="10514" y="1032"/>
                    </a:lnTo>
                    <a:lnTo>
                      <a:pt x="10533" y="1014"/>
                    </a:lnTo>
                    <a:lnTo>
                      <a:pt x="10570" y="1014"/>
                    </a:lnTo>
                    <a:lnTo>
                      <a:pt x="10608" y="995"/>
                    </a:lnTo>
                    <a:lnTo>
                      <a:pt x="10645" y="995"/>
                    </a:lnTo>
                    <a:lnTo>
                      <a:pt x="10664" y="995"/>
                    </a:lnTo>
                    <a:lnTo>
                      <a:pt x="10702" y="977"/>
                    </a:lnTo>
                    <a:lnTo>
                      <a:pt x="10740" y="977"/>
                    </a:lnTo>
                    <a:lnTo>
                      <a:pt x="10759" y="958"/>
                    </a:lnTo>
                    <a:lnTo>
                      <a:pt x="10797" y="958"/>
                    </a:lnTo>
                    <a:lnTo>
                      <a:pt x="10834" y="940"/>
                    </a:lnTo>
                    <a:lnTo>
                      <a:pt x="10853" y="940"/>
                    </a:lnTo>
                    <a:lnTo>
                      <a:pt x="10891" y="940"/>
                    </a:lnTo>
                    <a:lnTo>
                      <a:pt x="10929" y="921"/>
                    </a:lnTo>
                    <a:lnTo>
                      <a:pt x="10967" y="921"/>
                    </a:lnTo>
                    <a:lnTo>
                      <a:pt x="10985" y="921"/>
                    </a:lnTo>
                    <a:lnTo>
                      <a:pt x="11023" y="921"/>
                    </a:lnTo>
                    <a:lnTo>
                      <a:pt x="11061" y="921"/>
                    </a:lnTo>
                    <a:lnTo>
                      <a:pt x="11080" y="921"/>
                    </a:lnTo>
                    <a:lnTo>
                      <a:pt x="11117" y="921"/>
                    </a:lnTo>
                    <a:lnTo>
                      <a:pt x="11155" y="940"/>
                    </a:lnTo>
                    <a:lnTo>
                      <a:pt x="11193" y="940"/>
                    </a:lnTo>
                    <a:lnTo>
                      <a:pt x="11212" y="940"/>
                    </a:lnTo>
                    <a:lnTo>
                      <a:pt x="11250" y="958"/>
                    </a:lnTo>
                    <a:lnTo>
                      <a:pt x="11288" y="958"/>
                    </a:lnTo>
                    <a:lnTo>
                      <a:pt x="11307" y="940"/>
                    </a:lnTo>
                    <a:lnTo>
                      <a:pt x="11326" y="940"/>
                    </a:lnTo>
                    <a:lnTo>
                      <a:pt x="11362" y="940"/>
                    </a:lnTo>
                    <a:lnTo>
                      <a:pt x="11381" y="940"/>
                    </a:lnTo>
                    <a:lnTo>
                      <a:pt x="11400" y="940"/>
                    </a:lnTo>
                    <a:lnTo>
                      <a:pt x="11438" y="940"/>
                    </a:lnTo>
                    <a:lnTo>
                      <a:pt x="11457" y="940"/>
                    </a:lnTo>
                    <a:lnTo>
                      <a:pt x="11476" y="940"/>
                    </a:lnTo>
                    <a:lnTo>
                      <a:pt x="11495" y="958"/>
                    </a:lnTo>
                    <a:lnTo>
                      <a:pt x="11533" y="958"/>
                    </a:lnTo>
                    <a:lnTo>
                      <a:pt x="11552" y="958"/>
                    </a:lnTo>
                    <a:lnTo>
                      <a:pt x="11571" y="958"/>
                    </a:lnTo>
                    <a:lnTo>
                      <a:pt x="11590" y="977"/>
                    </a:lnTo>
                    <a:lnTo>
                      <a:pt x="11628" y="977"/>
                    </a:lnTo>
                    <a:lnTo>
                      <a:pt x="11646" y="977"/>
                    </a:lnTo>
                    <a:lnTo>
                      <a:pt x="11646" y="995"/>
                    </a:lnTo>
                    <a:lnTo>
                      <a:pt x="11646" y="1014"/>
                    </a:lnTo>
                    <a:lnTo>
                      <a:pt x="11646" y="1032"/>
                    </a:lnTo>
                    <a:lnTo>
                      <a:pt x="11646" y="1051"/>
                    </a:lnTo>
                    <a:lnTo>
                      <a:pt x="11628" y="1069"/>
                    </a:lnTo>
                    <a:lnTo>
                      <a:pt x="11628" y="1069"/>
                    </a:lnTo>
                    <a:lnTo>
                      <a:pt x="11628" y="1088"/>
                    </a:lnTo>
                    <a:lnTo>
                      <a:pt x="11628" y="1105"/>
                    </a:lnTo>
                    <a:lnTo>
                      <a:pt x="11609" y="1105"/>
                    </a:lnTo>
                    <a:lnTo>
                      <a:pt x="11609" y="1123"/>
                    </a:lnTo>
                    <a:lnTo>
                      <a:pt x="11609" y="1142"/>
                    </a:lnTo>
                    <a:lnTo>
                      <a:pt x="11590" y="1142"/>
                    </a:lnTo>
                    <a:lnTo>
                      <a:pt x="11590" y="1160"/>
                    </a:lnTo>
                    <a:lnTo>
                      <a:pt x="11590" y="1179"/>
                    </a:lnTo>
                    <a:lnTo>
                      <a:pt x="11571" y="1197"/>
                    </a:lnTo>
                    <a:lnTo>
                      <a:pt x="11571" y="1197"/>
                    </a:lnTo>
                    <a:lnTo>
                      <a:pt x="11344" y="1419"/>
                    </a:lnTo>
                    <a:lnTo>
                      <a:pt x="5832" y="1419"/>
                    </a:lnTo>
                    <a:lnTo>
                      <a:pt x="5946" y="1345"/>
                    </a:lnTo>
                    <a:lnTo>
                      <a:pt x="5775" y="1419"/>
                    </a:lnTo>
                    <a:lnTo>
                      <a:pt x="3680" y="1419"/>
                    </a:lnTo>
                    <a:lnTo>
                      <a:pt x="4378" y="829"/>
                    </a:lnTo>
                    <a:lnTo>
                      <a:pt x="3585" y="1179"/>
                    </a:lnTo>
                    <a:lnTo>
                      <a:pt x="3566" y="1179"/>
                    </a:lnTo>
                    <a:lnTo>
                      <a:pt x="3530" y="1179"/>
                    </a:lnTo>
                    <a:lnTo>
                      <a:pt x="3511" y="1160"/>
                    </a:lnTo>
                    <a:lnTo>
                      <a:pt x="3492" y="1142"/>
                    </a:lnTo>
                    <a:lnTo>
                      <a:pt x="3473" y="1123"/>
                    </a:lnTo>
                    <a:lnTo>
                      <a:pt x="3473" y="1105"/>
                    </a:lnTo>
                    <a:lnTo>
                      <a:pt x="3454" y="1088"/>
                    </a:lnTo>
                    <a:lnTo>
                      <a:pt x="3435" y="1069"/>
                    </a:lnTo>
                    <a:lnTo>
                      <a:pt x="3435" y="1032"/>
                    </a:lnTo>
                    <a:lnTo>
                      <a:pt x="3416" y="1014"/>
                    </a:lnTo>
                    <a:lnTo>
                      <a:pt x="3416" y="977"/>
                    </a:lnTo>
                    <a:lnTo>
                      <a:pt x="3397" y="940"/>
                    </a:lnTo>
                    <a:lnTo>
                      <a:pt x="3378" y="921"/>
                    </a:lnTo>
                    <a:lnTo>
                      <a:pt x="3378" y="884"/>
                    </a:lnTo>
                    <a:lnTo>
                      <a:pt x="3359" y="866"/>
                    </a:lnTo>
                    <a:lnTo>
                      <a:pt x="3340" y="829"/>
                    </a:lnTo>
                    <a:lnTo>
                      <a:pt x="3340" y="810"/>
                    </a:lnTo>
                    <a:lnTo>
                      <a:pt x="3340" y="792"/>
                    </a:lnTo>
                    <a:lnTo>
                      <a:pt x="3340" y="773"/>
                    </a:lnTo>
                    <a:lnTo>
                      <a:pt x="3359" y="755"/>
                    </a:lnTo>
                    <a:lnTo>
                      <a:pt x="3359" y="737"/>
                    </a:lnTo>
                    <a:lnTo>
                      <a:pt x="3359" y="701"/>
                    </a:lnTo>
                    <a:lnTo>
                      <a:pt x="3359" y="682"/>
                    </a:lnTo>
                    <a:lnTo>
                      <a:pt x="3359" y="664"/>
                    </a:lnTo>
                    <a:lnTo>
                      <a:pt x="3246" y="497"/>
                    </a:lnTo>
                    <a:lnTo>
                      <a:pt x="3982" y="0"/>
                    </a:lnTo>
                    <a:lnTo>
                      <a:pt x="10948" y="0"/>
                    </a:lnTo>
                    <a:close/>
                    <a:moveTo>
                      <a:pt x="3020" y="0"/>
                    </a:moveTo>
                    <a:lnTo>
                      <a:pt x="3001" y="19"/>
                    </a:lnTo>
                    <a:lnTo>
                      <a:pt x="2982" y="19"/>
                    </a:lnTo>
                    <a:lnTo>
                      <a:pt x="2963" y="37"/>
                    </a:lnTo>
                    <a:lnTo>
                      <a:pt x="2944" y="37"/>
                    </a:lnTo>
                    <a:lnTo>
                      <a:pt x="2925" y="55"/>
                    </a:lnTo>
                    <a:lnTo>
                      <a:pt x="2906" y="55"/>
                    </a:lnTo>
                    <a:lnTo>
                      <a:pt x="2906" y="73"/>
                    </a:lnTo>
                    <a:lnTo>
                      <a:pt x="2887" y="92"/>
                    </a:lnTo>
                    <a:lnTo>
                      <a:pt x="2868" y="92"/>
                    </a:lnTo>
                    <a:lnTo>
                      <a:pt x="2849" y="110"/>
                    </a:lnTo>
                    <a:lnTo>
                      <a:pt x="2831" y="110"/>
                    </a:lnTo>
                    <a:lnTo>
                      <a:pt x="2812" y="129"/>
                    </a:lnTo>
                    <a:lnTo>
                      <a:pt x="2793" y="147"/>
                    </a:lnTo>
                    <a:lnTo>
                      <a:pt x="2774" y="147"/>
                    </a:lnTo>
                    <a:lnTo>
                      <a:pt x="2774" y="166"/>
                    </a:lnTo>
                    <a:lnTo>
                      <a:pt x="2756" y="166"/>
                    </a:lnTo>
                    <a:lnTo>
                      <a:pt x="2737" y="184"/>
                    </a:lnTo>
                    <a:lnTo>
                      <a:pt x="2718" y="203"/>
                    </a:lnTo>
                    <a:lnTo>
                      <a:pt x="2718" y="203"/>
                    </a:lnTo>
                    <a:lnTo>
                      <a:pt x="2699" y="221"/>
                    </a:lnTo>
                    <a:lnTo>
                      <a:pt x="2699" y="221"/>
                    </a:lnTo>
                    <a:lnTo>
                      <a:pt x="2680" y="240"/>
                    </a:lnTo>
                    <a:lnTo>
                      <a:pt x="2680" y="240"/>
                    </a:lnTo>
                    <a:lnTo>
                      <a:pt x="2661" y="258"/>
                    </a:lnTo>
                    <a:lnTo>
                      <a:pt x="2661" y="258"/>
                    </a:lnTo>
                    <a:lnTo>
                      <a:pt x="2642" y="277"/>
                    </a:lnTo>
                    <a:lnTo>
                      <a:pt x="2642" y="277"/>
                    </a:lnTo>
                    <a:lnTo>
                      <a:pt x="2623" y="277"/>
                    </a:lnTo>
                    <a:lnTo>
                      <a:pt x="2623" y="295"/>
                    </a:lnTo>
                    <a:lnTo>
                      <a:pt x="2604" y="295"/>
                    </a:lnTo>
                    <a:lnTo>
                      <a:pt x="2585" y="314"/>
                    </a:lnTo>
                    <a:lnTo>
                      <a:pt x="2585" y="314"/>
                    </a:lnTo>
                    <a:lnTo>
                      <a:pt x="2566" y="314"/>
                    </a:lnTo>
                    <a:lnTo>
                      <a:pt x="2566" y="314"/>
                    </a:lnTo>
                    <a:lnTo>
                      <a:pt x="2547" y="314"/>
                    </a:lnTo>
                    <a:lnTo>
                      <a:pt x="2528" y="314"/>
                    </a:lnTo>
                    <a:lnTo>
                      <a:pt x="2509" y="314"/>
                    </a:lnTo>
                    <a:lnTo>
                      <a:pt x="2509" y="295"/>
                    </a:lnTo>
                    <a:lnTo>
                      <a:pt x="2492" y="295"/>
                    </a:lnTo>
                    <a:lnTo>
                      <a:pt x="2473" y="295"/>
                    </a:lnTo>
                    <a:lnTo>
                      <a:pt x="2095" y="516"/>
                    </a:lnTo>
                    <a:lnTo>
                      <a:pt x="1906" y="0"/>
                    </a:lnTo>
                    <a:lnTo>
                      <a:pt x="3020" y="0"/>
                    </a:lnTo>
                    <a:close/>
                    <a:moveTo>
                      <a:pt x="1811" y="0"/>
                    </a:moveTo>
                    <a:lnTo>
                      <a:pt x="302" y="921"/>
                    </a:lnTo>
                    <a:lnTo>
                      <a:pt x="264" y="921"/>
                    </a:lnTo>
                    <a:lnTo>
                      <a:pt x="245" y="884"/>
                    </a:lnTo>
                    <a:lnTo>
                      <a:pt x="226" y="866"/>
                    </a:lnTo>
                    <a:lnTo>
                      <a:pt x="207" y="829"/>
                    </a:lnTo>
                    <a:lnTo>
                      <a:pt x="188" y="792"/>
                    </a:lnTo>
                    <a:lnTo>
                      <a:pt x="169" y="755"/>
                    </a:lnTo>
                    <a:lnTo>
                      <a:pt x="150" y="719"/>
                    </a:lnTo>
                    <a:lnTo>
                      <a:pt x="131" y="682"/>
                    </a:lnTo>
                    <a:lnTo>
                      <a:pt x="131" y="645"/>
                    </a:lnTo>
                    <a:lnTo>
                      <a:pt x="112" y="590"/>
                    </a:lnTo>
                    <a:lnTo>
                      <a:pt x="112" y="553"/>
                    </a:lnTo>
                    <a:lnTo>
                      <a:pt x="112" y="497"/>
                    </a:lnTo>
                    <a:lnTo>
                      <a:pt x="93" y="460"/>
                    </a:lnTo>
                    <a:lnTo>
                      <a:pt x="93" y="405"/>
                    </a:lnTo>
                    <a:lnTo>
                      <a:pt x="93" y="350"/>
                    </a:lnTo>
                    <a:lnTo>
                      <a:pt x="74" y="314"/>
                    </a:lnTo>
                    <a:lnTo>
                      <a:pt x="74" y="295"/>
                    </a:lnTo>
                    <a:lnTo>
                      <a:pt x="74" y="295"/>
                    </a:lnTo>
                    <a:lnTo>
                      <a:pt x="56" y="277"/>
                    </a:lnTo>
                    <a:lnTo>
                      <a:pt x="56" y="277"/>
                    </a:lnTo>
                    <a:lnTo>
                      <a:pt x="37" y="258"/>
                    </a:lnTo>
                    <a:lnTo>
                      <a:pt x="18" y="240"/>
                    </a:lnTo>
                    <a:lnTo>
                      <a:pt x="18" y="240"/>
                    </a:lnTo>
                    <a:lnTo>
                      <a:pt x="0" y="221"/>
                    </a:lnTo>
                    <a:lnTo>
                      <a:pt x="18" y="203"/>
                    </a:lnTo>
                    <a:lnTo>
                      <a:pt x="37" y="184"/>
                    </a:lnTo>
                    <a:lnTo>
                      <a:pt x="37" y="166"/>
                    </a:lnTo>
                    <a:lnTo>
                      <a:pt x="56" y="147"/>
                    </a:lnTo>
                    <a:lnTo>
                      <a:pt x="56" y="129"/>
                    </a:lnTo>
                    <a:lnTo>
                      <a:pt x="74" y="110"/>
                    </a:lnTo>
                    <a:lnTo>
                      <a:pt x="93" y="110"/>
                    </a:lnTo>
                    <a:lnTo>
                      <a:pt x="93" y="92"/>
                    </a:lnTo>
                    <a:lnTo>
                      <a:pt x="112" y="73"/>
                    </a:lnTo>
                    <a:lnTo>
                      <a:pt x="131" y="73"/>
                    </a:lnTo>
                    <a:lnTo>
                      <a:pt x="150" y="55"/>
                    </a:lnTo>
                    <a:lnTo>
                      <a:pt x="150" y="37"/>
                    </a:lnTo>
                    <a:lnTo>
                      <a:pt x="169" y="37"/>
                    </a:lnTo>
                    <a:lnTo>
                      <a:pt x="188" y="19"/>
                    </a:lnTo>
                    <a:lnTo>
                      <a:pt x="207" y="19"/>
                    </a:lnTo>
                    <a:lnTo>
                      <a:pt x="207" y="0"/>
                    </a:lnTo>
                    <a:lnTo>
                      <a:pt x="181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49" name="Freeform 118"/>
              <p:cNvSpPr/>
              <p:nvPr/>
            </p:nvSpPr>
            <p:spPr>
              <a:xfrm>
                <a:off x="362160" y="2757960"/>
                <a:ext cx="2441880" cy="123480"/>
              </a:xfrm>
              <a:custGeom>
                <a:avLst/>
                <a:gdLst/>
                <a:ahLst/>
                <a:rect l="l" t="t" r="r" b="b"/>
                <a:pathLst>
                  <a:path w="11496" h="1436">
                    <a:moveTo>
                      <a:pt x="10458" y="0"/>
                    </a:moveTo>
                    <a:lnTo>
                      <a:pt x="10269" y="165"/>
                    </a:lnTo>
                    <a:lnTo>
                      <a:pt x="10062" y="294"/>
                    </a:lnTo>
                    <a:lnTo>
                      <a:pt x="10062" y="294"/>
                    </a:lnTo>
                    <a:lnTo>
                      <a:pt x="10062" y="313"/>
                    </a:lnTo>
                    <a:lnTo>
                      <a:pt x="10062" y="313"/>
                    </a:lnTo>
                    <a:lnTo>
                      <a:pt x="10062" y="331"/>
                    </a:lnTo>
                    <a:lnTo>
                      <a:pt x="10062" y="331"/>
                    </a:lnTo>
                    <a:lnTo>
                      <a:pt x="10062" y="331"/>
                    </a:lnTo>
                    <a:lnTo>
                      <a:pt x="10062" y="350"/>
                    </a:lnTo>
                    <a:lnTo>
                      <a:pt x="10062" y="368"/>
                    </a:lnTo>
                    <a:lnTo>
                      <a:pt x="10100" y="368"/>
                    </a:lnTo>
                    <a:lnTo>
                      <a:pt x="10136" y="368"/>
                    </a:lnTo>
                    <a:lnTo>
                      <a:pt x="10155" y="368"/>
                    </a:lnTo>
                    <a:lnTo>
                      <a:pt x="10193" y="368"/>
                    </a:lnTo>
                    <a:lnTo>
                      <a:pt x="10231" y="350"/>
                    </a:lnTo>
                    <a:lnTo>
                      <a:pt x="10269" y="350"/>
                    </a:lnTo>
                    <a:lnTo>
                      <a:pt x="10288" y="350"/>
                    </a:lnTo>
                    <a:lnTo>
                      <a:pt x="10326" y="331"/>
                    </a:lnTo>
                    <a:lnTo>
                      <a:pt x="10364" y="331"/>
                    </a:lnTo>
                    <a:lnTo>
                      <a:pt x="10383" y="313"/>
                    </a:lnTo>
                    <a:lnTo>
                      <a:pt x="10420" y="313"/>
                    </a:lnTo>
                    <a:lnTo>
                      <a:pt x="10458" y="294"/>
                    </a:lnTo>
                    <a:lnTo>
                      <a:pt x="10495" y="294"/>
                    </a:lnTo>
                    <a:lnTo>
                      <a:pt x="10514" y="294"/>
                    </a:lnTo>
                    <a:lnTo>
                      <a:pt x="10552" y="276"/>
                    </a:lnTo>
                    <a:lnTo>
                      <a:pt x="10590" y="276"/>
                    </a:lnTo>
                    <a:lnTo>
                      <a:pt x="10609" y="257"/>
                    </a:lnTo>
                    <a:lnTo>
                      <a:pt x="10647" y="257"/>
                    </a:lnTo>
                    <a:lnTo>
                      <a:pt x="10684" y="239"/>
                    </a:lnTo>
                    <a:lnTo>
                      <a:pt x="10703" y="239"/>
                    </a:lnTo>
                    <a:lnTo>
                      <a:pt x="10741" y="239"/>
                    </a:lnTo>
                    <a:lnTo>
                      <a:pt x="10779" y="220"/>
                    </a:lnTo>
                    <a:lnTo>
                      <a:pt x="10817" y="220"/>
                    </a:lnTo>
                    <a:lnTo>
                      <a:pt x="10835" y="220"/>
                    </a:lnTo>
                    <a:lnTo>
                      <a:pt x="10873" y="220"/>
                    </a:lnTo>
                    <a:lnTo>
                      <a:pt x="10911" y="220"/>
                    </a:lnTo>
                    <a:lnTo>
                      <a:pt x="10930" y="220"/>
                    </a:lnTo>
                    <a:lnTo>
                      <a:pt x="10967" y="220"/>
                    </a:lnTo>
                    <a:lnTo>
                      <a:pt x="11005" y="239"/>
                    </a:lnTo>
                    <a:lnTo>
                      <a:pt x="11043" y="239"/>
                    </a:lnTo>
                    <a:lnTo>
                      <a:pt x="11062" y="239"/>
                    </a:lnTo>
                    <a:lnTo>
                      <a:pt x="11100" y="257"/>
                    </a:lnTo>
                    <a:lnTo>
                      <a:pt x="11138" y="257"/>
                    </a:lnTo>
                    <a:lnTo>
                      <a:pt x="11157" y="239"/>
                    </a:lnTo>
                    <a:lnTo>
                      <a:pt x="11176" y="239"/>
                    </a:lnTo>
                    <a:lnTo>
                      <a:pt x="11212" y="239"/>
                    </a:lnTo>
                    <a:lnTo>
                      <a:pt x="11231" y="239"/>
                    </a:lnTo>
                    <a:lnTo>
                      <a:pt x="11250" y="239"/>
                    </a:lnTo>
                    <a:lnTo>
                      <a:pt x="11288" y="239"/>
                    </a:lnTo>
                    <a:lnTo>
                      <a:pt x="11307" y="239"/>
                    </a:lnTo>
                    <a:lnTo>
                      <a:pt x="11326" y="239"/>
                    </a:lnTo>
                    <a:lnTo>
                      <a:pt x="11345" y="257"/>
                    </a:lnTo>
                    <a:lnTo>
                      <a:pt x="11383" y="257"/>
                    </a:lnTo>
                    <a:lnTo>
                      <a:pt x="11402" y="257"/>
                    </a:lnTo>
                    <a:lnTo>
                      <a:pt x="11421" y="257"/>
                    </a:lnTo>
                    <a:lnTo>
                      <a:pt x="11440" y="276"/>
                    </a:lnTo>
                    <a:lnTo>
                      <a:pt x="11478" y="276"/>
                    </a:lnTo>
                    <a:lnTo>
                      <a:pt x="11496" y="276"/>
                    </a:lnTo>
                    <a:lnTo>
                      <a:pt x="11496" y="294"/>
                    </a:lnTo>
                    <a:lnTo>
                      <a:pt x="11496" y="313"/>
                    </a:lnTo>
                    <a:lnTo>
                      <a:pt x="11496" y="331"/>
                    </a:lnTo>
                    <a:lnTo>
                      <a:pt x="11496" y="350"/>
                    </a:lnTo>
                    <a:lnTo>
                      <a:pt x="11478" y="368"/>
                    </a:lnTo>
                    <a:lnTo>
                      <a:pt x="11478" y="368"/>
                    </a:lnTo>
                    <a:lnTo>
                      <a:pt x="11478" y="387"/>
                    </a:lnTo>
                    <a:lnTo>
                      <a:pt x="11478" y="404"/>
                    </a:lnTo>
                    <a:lnTo>
                      <a:pt x="11459" y="404"/>
                    </a:lnTo>
                    <a:lnTo>
                      <a:pt x="11459" y="422"/>
                    </a:lnTo>
                    <a:lnTo>
                      <a:pt x="11459" y="441"/>
                    </a:lnTo>
                    <a:lnTo>
                      <a:pt x="11440" y="441"/>
                    </a:lnTo>
                    <a:lnTo>
                      <a:pt x="11440" y="459"/>
                    </a:lnTo>
                    <a:lnTo>
                      <a:pt x="11440" y="478"/>
                    </a:lnTo>
                    <a:lnTo>
                      <a:pt x="11421" y="496"/>
                    </a:lnTo>
                    <a:lnTo>
                      <a:pt x="11421" y="496"/>
                    </a:lnTo>
                    <a:lnTo>
                      <a:pt x="10986" y="902"/>
                    </a:lnTo>
                    <a:lnTo>
                      <a:pt x="10986" y="920"/>
                    </a:lnTo>
                    <a:lnTo>
                      <a:pt x="10986" y="939"/>
                    </a:lnTo>
                    <a:lnTo>
                      <a:pt x="10986" y="939"/>
                    </a:lnTo>
                    <a:lnTo>
                      <a:pt x="10986" y="957"/>
                    </a:lnTo>
                    <a:lnTo>
                      <a:pt x="10986" y="976"/>
                    </a:lnTo>
                    <a:lnTo>
                      <a:pt x="11005" y="994"/>
                    </a:lnTo>
                    <a:lnTo>
                      <a:pt x="11005" y="1013"/>
                    </a:lnTo>
                    <a:lnTo>
                      <a:pt x="11005" y="1031"/>
                    </a:lnTo>
                    <a:lnTo>
                      <a:pt x="10967" y="1031"/>
                    </a:lnTo>
                    <a:lnTo>
                      <a:pt x="10930" y="1050"/>
                    </a:lnTo>
                    <a:lnTo>
                      <a:pt x="10873" y="1068"/>
                    </a:lnTo>
                    <a:lnTo>
                      <a:pt x="10835" y="1086"/>
                    </a:lnTo>
                    <a:lnTo>
                      <a:pt x="10798" y="1086"/>
                    </a:lnTo>
                    <a:lnTo>
                      <a:pt x="10741" y="1104"/>
                    </a:lnTo>
                    <a:lnTo>
                      <a:pt x="10703" y="1123"/>
                    </a:lnTo>
                    <a:lnTo>
                      <a:pt x="10666" y="1123"/>
                    </a:lnTo>
                    <a:lnTo>
                      <a:pt x="10609" y="1141"/>
                    </a:lnTo>
                    <a:lnTo>
                      <a:pt x="10571" y="1160"/>
                    </a:lnTo>
                    <a:lnTo>
                      <a:pt x="10533" y="1160"/>
                    </a:lnTo>
                    <a:lnTo>
                      <a:pt x="10477" y="1178"/>
                    </a:lnTo>
                    <a:lnTo>
                      <a:pt x="10439" y="1196"/>
                    </a:lnTo>
                    <a:lnTo>
                      <a:pt x="10402" y="1196"/>
                    </a:lnTo>
                    <a:lnTo>
                      <a:pt x="10345" y="1215"/>
                    </a:lnTo>
                    <a:lnTo>
                      <a:pt x="10307" y="1233"/>
                    </a:lnTo>
                    <a:lnTo>
                      <a:pt x="10269" y="1233"/>
                    </a:lnTo>
                    <a:lnTo>
                      <a:pt x="10212" y="1252"/>
                    </a:lnTo>
                    <a:lnTo>
                      <a:pt x="10174" y="1270"/>
                    </a:lnTo>
                    <a:lnTo>
                      <a:pt x="10136" y="1270"/>
                    </a:lnTo>
                    <a:lnTo>
                      <a:pt x="10081" y="1289"/>
                    </a:lnTo>
                    <a:lnTo>
                      <a:pt x="10043" y="1307"/>
                    </a:lnTo>
                    <a:lnTo>
                      <a:pt x="10005" y="1326"/>
                    </a:lnTo>
                    <a:lnTo>
                      <a:pt x="9948" y="1326"/>
                    </a:lnTo>
                    <a:lnTo>
                      <a:pt x="9910" y="1344"/>
                    </a:lnTo>
                    <a:lnTo>
                      <a:pt x="9872" y="1363"/>
                    </a:lnTo>
                    <a:lnTo>
                      <a:pt x="9816" y="1363"/>
                    </a:lnTo>
                    <a:lnTo>
                      <a:pt x="9778" y="1381"/>
                    </a:lnTo>
                    <a:lnTo>
                      <a:pt x="9741" y="1400"/>
                    </a:lnTo>
                    <a:lnTo>
                      <a:pt x="9684" y="1400"/>
                    </a:lnTo>
                    <a:lnTo>
                      <a:pt x="9646" y="1418"/>
                    </a:lnTo>
                    <a:lnTo>
                      <a:pt x="9608" y="1436"/>
                    </a:lnTo>
                    <a:lnTo>
                      <a:pt x="6626" y="1436"/>
                    </a:lnTo>
                    <a:lnTo>
                      <a:pt x="7268" y="994"/>
                    </a:lnTo>
                    <a:lnTo>
                      <a:pt x="7230" y="994"/>
                    </a:lnTo>
                    <a:lnTo>
                      <a:pt x="7211" y="994"/>
                    </a:lnTo>
                    <a:lnTo>
                      <a:pt x="7174" y="1013"/>
                    </a:lnTo>
                    <a:lnTo>
                      <a:pt x="7136" y="1013"/>
                    </a:lnTo>
                    <a:lnTo>
                      <a:pt x="7117" y="1013"/>
                    </a:lnTo>
                    <a:lnTo>
                      <a:pt x="7079" y="1031"/>
                    </a:lnTo>
                    <a:lnTo>
                      <a:pt x="7041" y="1031"/>
                    </a:lnTo>
                    <a:lnTo>
                      <a:pt x="7003" y="1050"/>
                    </a:lnTo>
                    <a:lnTo>
                      <a:pt x="6965" y="1050"/>
                    </a:lnTo>
                    <a:lnTo>
                      <a:pt x="6946" y="1068"/>
                    </a:lnTo>
                    <a:lnTo>
                      <a:pt x="6910" y="1068"/>
                    </a:lnTo>
                    <a:lnTo>
                      <a:pt x="6872" y="1086"/>
                    </a:lnTo>
                    <a:lnTo>
                      <a:pt x="6834" y="1104"/>
                    </a:lnTo>
                    <a:lnTo>
                      <a:pt x="6796" y="1123"/>
                    </a:lnTo>
                    <a:lnTo>
                      <a:pt x="6758" y="1123"/>
                    </a:lnTo>
                    <a:lnTo>
                      <a:pt x="6739" y="1141"/>
                    </a:lnTo>
                    <a:lnTo>
                      <a:pt x="6701" y="1160"/>
                    </a:lnTo>
                    <a:lnTo>
                      <a:pt x="6663" y="1178"/>
                    </a:lnTo>
                    <a:lnTo>
                      <a:pt x="6626" y="1196"/>
                    </a:lnTo>
                    <a:lnTo>
                      <a:pt x="6588" y="1215"/>
                    </a:lnTo>
                    <a:lnTo>
                      <a:pt x="6551" y="1233"/>
                    </a:lnTo>
                    <a:lnTo>
                      <a:pt x="6513" y="1252"/>
                    </a:lnTo>
                    <a:lnTo>
                      <a:pt x="6494" y="1270"/>
                    </a:lnTo>
                    <a:lnTo>
                      <a:pt x="6456" y="1289"/>
                    </a:lnTo>
                    <a:lnTo>
                      <a:pt x="6418" y="1307"/>
                    </a:lnTo>
                    <a:lnTo>
                      <a:pt x="6380" y="1326"/>
                    </a:lnTo>
                    <a:lnTo>
                      <a:pt x="6343" y="1344"/>
                    </a:lnTo>
                    <a:lnTo>
                      <a:pt x="6305" y="1363"/>
                    </a:lnTo>
                    <a:lnTo>
                      <a:pt x="6267" y="1381"/>
                    </a:lnTo>
                    <a:lnTo>
                      <a:pt x="6230" y="1400"/>
                    </a:lnTo>
                    <a:lnTo>
                      <a:pt x="6211" y="1418"/>
                    </a:lnTo>
                    <a:lnTo>
                      <a:pt x="6173" y="1436"/>
                    </a:lnTo>
                    <a:lnTo>
                      <a:pt x="4644" y="1436"/>
                    </a:lnTo>
                    <a:lnTo>
                      <a:pt x="5796" y="644"/>
                    </a:lnTo>
                    <a:lnTo>
                      <a:pt x="4078" y="1436"/>
                    </a:lnTo>
                    <a:lnTo>
                      <a:pt x="3247" y="1436"/>
                    </a:lnTo>
                    <a:lnTo>
                      <a:pt x="3152" y="1141"/>
                    </a:lnTo>
                    <a:lnTo>
                      <a:pt x="3134" y="1141"/>
                    </a:lnTo>
                    <a:lnTo>
                      <a:pt x="3134" y="1141"/>
                    </a:lnTo>
                    <a:lnTo>
                      <a:pt x="3134" y="1141"/>
                    </a:lnTo>
                    <a:lnTo>
                      <a:pt x="3134" y="1123"/>
                    </a:lnTo>
                    <a:lnTo>
                      <a:pt x="3134" y="1123"/>
                    </a:lnTo>
                    <a:lnTo>
                      <a:pt x="3115" y="1104"/>
                    </a:lnTo>
                    <a:lnTo>
                      <a:pt x="3115" y="1086"/>
                    </a:lnTo>
                    <a:lnTo>
                      <a:pt x="3115" y="1086"/>
                    </a:lnTo>
                    <a:lnTo>
                      <a:pt x="4228" y="128"/>
                    </a:lnTo>
                    <a:lnTo>
                      <a:pt x="3435" y="478"/>
                    </a:lnTo>
                    <a:lnTo>
                      <a:pt x="3416" y="478"/>
                    </a:lnTo>
                    <a:lnTo>
                      <a:pt x="3380" y="478"/>
                    </a:lnTo>
                    <a:lnTo>
                      <a:pt x="3361" y="459"/>
                    </a:lnTo>
                    <a:lnTo>
                      <a:pt x="3342" y="441"/>
                    </a:lnTo>
                    <a:lnTo>
                      <a:pt x="3323" y="422"/>
                    </a:lnTo>
                    <a:lnTo>
                      <a:pt x="3323" y="404"/>
                    </a:lnTo>
                    <a:lnTo>
                      <a:pt x="3304" y="387"/>
                    </a:lnTo>
                    <a:lnTo>
                      <a:pt x="3285" y="368"/>
                    </a:lnTo>
                    <a:lnTo>
                      <a:pt x="3285" y="331"/>
                    </a:lnTo>
                    <a:lnTo>
                      <a:pt x="3266" y="313"/>
                    </a:lnTo>
                    <a:lnTo>
                      <a:pt x="3266" y="276"/>
                    </a:lnTo>
                    <a:lnTo>
                      <a:pt x="3247" y="239"/>
                    </a:lnTo>
                    <a:lnTo>
                      <a:pt x="3228" y="220"/>
                    </a:lnTo>
                    <a:lnTo>
                      <a:pt x="3228" y="183"/>
                    </a:lnTo>
                    <a:lnTo>
                      <a:pt x="3209" y="165"/>
                    </a:lnTo>
                    <a:lnTo>
                      <a:pt x="3190" y="128"/>
                    </a:lnTo>
                    <a:lnTo>
                      <a:pt x="3190" y="109"/>
                    </a:lnTo>
                    <a:lnTo>
                      <a:pt x="3190" y="109"/>
                    </a:lnTo>
                    <a:lnTo>
                      <a:pt x="3190" y="91"/>
                    </a:lnTo>
                    <a:lnTo>
                      <a:pt x="3190" y="72"/>
                    </a:lnTo>
                    <a:lnTo>
                      <a:pt x="3209" y="54"/>
                    </a:lnTo>
                    <a:lnTo>
                      <a:pt x="3209" y="36"/>
                    </a:lnTo>
                    <a:lnTo>
                      <a:pt x="3209" y="18"/>
                    </a:lnTo>
                    <a:lnTo>
                      <a:pt x="3209" y="0"/>
                    </a:lnTo>
                    <a:lnTo>
                      <a:pt x="10458" y="0"/>
                    </a:lnTo>
                    <a:close/>
                    <a:moveTo>
                      <a:pt x="491" y="0"/>
                    </a:moveTo>
                    <a:lnTo>
                      <a:pt x="152" y="220"/>
                    </a:lnTo>
                    <a:lnTo>
                      <a:pt x="133" y="220"/>
                    </a:lnTo>
                    <a:lnTo>
                      <a:pt x="114" y="220"/>
                    </a:lnTo>
                    <a:lnTo>
                      <a:pt x="114" y="202"/>
                    </a:lnTo>
                    <a:lnTo>
                      <a:pt x="95" y="202"/>
                    </a:lnTo>
                    <a:lnTo>
                      <a:pt x="76" y="183"/>
                    </a:lnTo>
                    <a:lnTo>
                      <a:pt x="76" y="165"/>
                    </a:lnTo>
                    <a:lnTo>
                      <a:pt x="57" y="165"/>
                    </a:lnTo>
                    <a:lnTo>
                      <a:pt x="57" y="146"/>
                    </a:lnTo>
                    <a:lnTo>
                      <a:pt x="38" y="128"/>
                    </a:lnTo>
                    <a:lnTo>
                      <a:pt x="38" y="109"/>
                    </a:lnTo>
                    <a:lnTo>
                      <a:pt x="38" y="91"/>
                    </a:lnTo>
                    <a:lnTo>
                      <a:pt x="19" y="72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49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50" name="Freeform 119"/>
              <p:cNvSpPr/>
              <p:nvPr/>
            </p:nvSpPr>
            <p:spPr>
              <a:xfrm>
                <a:off x="1024920" y="2820600"/>
                <a:ext cx="1715400" cy="119520"/>
              </a:xfrm>
              <a:custGeom>
                <a:avLst/>
                <a:gdLst/>
                <a:ahLst/>
                <a:rect l="l" t="t" r="r" b="b"/>
                <a:pathLst>
                  <a:path w="8079" h="1418">
                    <a:moveTo>
                      <a:pt x="8079" y="0"/>
                    </a:moveTo>
                    <a:lnTo>
                      <a:pt x="7871" y="184"/>
                    </a:lnTo>
                    <a:lnTo>
                      <a:pt x="7871" y="202"/>
                    </a:lnTo>
                    <a:lnTo>
                      <a:pt x="7871" y="221"/>
                    </a:lnTo>
                    <a:lnTo>
                      <a:pt x="7871" y="221"/>
                    </a:lnTo>
                    <a:lnTo>
                      <a:pt x="7871" y="239"/>
                    </a:lnTo>
                    <a:lnTo>
                      <a:pt x="7871" y="258"/>
                    </a:lnTo>
                    <a:lnTo>
                      <a:pt x="7890" y="276"/>
                    </a:lnTo>
                    <a:lnTo>
                      <a:pt x="7890" y="295"/>
                    </a:lnTo>
                    <a:lnTo>
                      <a:pt x="7890" y="313"/>
                    </a:lnTo>
                    <a:lnTo>
                      <a:pt x="7796" y="332"/>
                    </a:lnTo>
                    <a:lnTo>
                      <a:pt x="7683" y="368"/>
                    </a:lnTo>
                    <a:lnTo>
                      <a:pt x="7569" y="405"/>
                    </a:lnTo>
                    <a:lnTo>
                      <a:pt x="7456" y="442"/>
                    </a:lnTo>
                    <a:lnTo>
                      <a:pt x="7362" y="460"/>
                    </a:lnTo>
                    <a:lnTo>
                      <a:pt x="7249" y="497"/>
                    </a:lnTo>
                    <a:lnTo>
                      <a:pt x="7135" y="534"/>
                    </a:lnTo>
                    <a:lnTo>
                      <a:pt x="7021" y="552"/>
                    </a:lnTo>
                    <a:lnTo>
                      <a:pt x="6928" y="589"/>
                    </a:lnTo>
                    <a:lnTo>
                      <a:pt x="6814" y="626"/>
                    </a:lnTo>
                    <a:lnTo>
                      <a:pt x="6701" y="645"/>
                    </a:lnTo>
                    <a:lnTo>
                      <a:pt x="6588" y="682"/>
                    </a:lnTo>
                    <a:lnTo>
                      <a:pt x="6493" y="718"/>
                    </a:lnTo>
                    <a:lnTo>
                      <a:pt x="6380" y="736"/>
                    </a:lnTo>
                    <a:lnTo>
                      <a:pt x="6267" y="773"/>
                    </a:lnTo>
                    <a:lnTo>
                      <a:pt x="6154" y="810"/>
                    </a:lnTo>
                    <a:lnTo>
                      <a:pt x="6059" y="847"/>
                    </a:lnTo>
                    <a:lnTo>
                      <a:pt x="5947" y="865"/>
                    </a:lnTo>
                    <a:lnTo>
                      <a:pt x="5833" y="902"/>
                    </a:lnTo>
                    <a:lnTo>
                      <a:pt x="5719" y="939"/>
                    </a:lnTo>
                    <a:lnTo>
                      <a:pt x="5625" y="976"/>
                    </a:lnTo>
                    <a:lnTo>
                      <a:pt x="5512" y="1013"/>
                    </a:lnTo>
                    <a:lnTo>
                      <a:pt x="5399" y="1050"/>
                    </a:lnTo>
                    <a:lnTo>
                      <a:pt x="5285" y="1086"/>
                    </a:lnTo>
                    <a:lnTo>
                      <a:pt x="5172" y="1123"/>
                    </a:lnTo>
                    <a:lnTo>
                      <a:pt x="5078" y="1160"/>
                    </a:lnTo>
                    <a:lnTo>
                      <a:pt x="4964" y="1197"/>
                    </a:lnTo>
                    <a:lnTo>
                      <a:pt x="4852" y="1253"/>
                    </a:lnTo>
                    <a:lnTo>
                      <a:pt x="4738" y="1289"/>
                    </a:lnTo>
                    <a:lnTo>
                      <a:pt x="4643" y="1326"/>
                    </a:lnTo>
                    <a:lnTo>
                      <a:pt x="4531" y="1382"/>
                    </a:lnTo>
                    <a:lnTo>
                      <a:pt x="4417" y="1418"/>
                    </a:lnTo>
                    <a:lnTo>
                      <a:pt x="2567" y="1418"/>
                    </a:lnTo>
                    <a:lnTo>
                      <a:pt x="2567" y="1418"/>
                    </a:lnTo>
                    <a:lnTo>
                      <a:pt x="2567" y="1418"/>
                    </a:lnTo>
                    <a:lnTo>
                      <a:pt x="2548" y="1399"/>
                    </a:lnTo>
                    <a:lnTo>
                      <a:pt x="2548" y="1399"/>
                    </a:lnTo>
                    <a:lnTo>
                      <a:pt x="2548" y="1399"/>
                    </a:lnTo>
                    <a:lnTo>
                      <a:pt x="2548" y="1399"/>
                    </a:lnTo>
                    <a:lnTo>
                      <a:pt x="2548" y="1382"/>
                    </a:lnTo>
                    <a:lnTo>
                      <a:pt x="2529" y="1382"/>
                    </a:lnTo>
                    <a:lnTo>
                      <a:pt x="4153" y="276"/>
                    </a:lnTo>
                    <a:lnTo>
                      <a:pt x="4115" y="276"/>
                    </a:lnTo>
                    <a:lnTo>
                      <a:pt x="4059" y="295"/>
                    </a:lnTo>
                    <a:lnTo>
                      <a:pt x="4021" y="295"/>
                    </a:lnTo>
                    <a:lnTo>
                      <a:pt x="3964" y="295"/>
                    </a:lnTo>
                    <a:lnTo>
                      <a:pt x="3926" y="313"/>
                    </a:lnTo>
                    <a:lnTo>
                      <a:pt x="3869" y="332"/>
                    </a:lnTo>
                    <a:lnTo>
                      <a:pt x="3831" y="350"/>
                    </a:lnTo>
                    <a:lnTo>
                      <a:pt x="3776" y="368"/>
                    </a:lnTo>
                    <a:lnTo>
                      <a:pt x="3738" y="386"/>
                    </a:lnTo>
                    <a:lnTo>
                      <a:pt x="3681" y="405"/>
                    </a:lnTo>
                    <a:lnTo>
                      <a:pt x="3624" y="423"/>
                    </a:lnTo>
                    <a:lnTo>
                      <a:pt x="3586" y="442"/>
                    </a:lnTo>
                    <a:lnTo>
                      <a:pt x="3529" y="460"/>
                    </a:lnTo>
                    <a:lnTo>
                      <a:pt x="3473" y="497"/>
                    </a:lnTo>
                    <a:lnTo>
                      <a:pt x="3436" y="515"/>
                    </a:lnTo>
                    <a:lnTo>
                      <a:pt x="3379" y="534"/>
                    </a:lnTo>
                    <a:lnTo>
                      <a:pt x="3341" y="571"/>
                    </a:lnTo>
                    <a:lnTo>
                      <a:pt x="3284" y="589"/>
                    </a:lnTo>
                    <a:lnTo>
                      <a:pt x="3228" y="626"/>
                    </a:lnTo>
                    <a:lnTo>
                      <a:pt x="3190" y="645"/>
                    </a:lnTo>
                    <a:lnTo>
                      <a:pt x="3133" y="663"/>
                    </a:lnTo>
                    <a:lnTo>
                      <a:pt x="3077" y="700"/>
                    </a:lnTo>
                    <a:lnTo>
                      <a:pt x="3039" y="718"/>
                    </a:lnTo>
                    <a:lnTo>
                      <a:pt x="2983" y="755"/>
                    </a:lnTo>
                    <a:lnTo>
                      <a:pt x="2926" y="773"/>
                    </a:lnTo>
                    <a:lnTo>
                      <a:pt x="2888" y="792"/>
                    </a:lnTo>
                    <a:lnTo>
                      <a:pt x="2831" y="810"/>
                    </a:lnTo>
                    <a:lnTo>
                      <a:pt x="2793" y="829"/>
                    </a:lnTo>
                    <a:lnTo>
                      <a:pt x="2737" y="865"/>
                    </a:lnTo>
                    <a:lnTo>
                      <a:pt x="2700" y="884"/>
                    </a:lnTo>
                    <a:lnTo>
                      <a:pt x="2643" y="884"/>
                    </a:lnTo>
                    <a:lnTo>
                      <a:pt x="2605" y="902"/>
                    </a:lnTo>
                    <a:lnTo>
                      <a:pt x="2567" y="921"/>
                    </a:lnTo>
                    <a:lnTo>
                      <a:pt x="2548" y="939"/>
                    </a:lnTo>
                    <a:lnTo>
                      <a:pt x="2529" y="958"/>
                    </a:lnTo>
                    <a:lnTo>
                      <a:pt x="2491" y="976"/>
                    </a:lnTo>
                    <a:lnTo>
                      <a:pt x="2472" y="995"/>
                    </a:lnTo>
                    <a:lnTo>
                      <a:pt x="2453" y="1013"/>
                    </a:lnTo>
                    <a:lnTo>
                      <a:pt x="2435" y="1032"/>
                    </a:lnTo>
                    <a:lnTo>
                      <a:pt x="2398" y="1050"/>
                    </a:lnTo>
                    <a:lnTo>
                      <a:pt x="2379" y="1068"/>
                    </a:lnTo>
                    <a:lnTo>
                      <a:pt x="2360" y="1086"/>
                    </a:lnTo>
                    <a:lnTo>
                      <a:pt x="2322" y="1105"/>
                    </a:lnTo>
                    <a:lnTo>
                      <a:pt x="2303" y="1123"/>
                    </a:lnTo>
                    <a:lnTo>
                      <a:pt x="2284" y="1142"/>
                    </a:lnTo>
                    <a:lnTo>
                      <a:pt x="2246" y="1160"/>
                    </a:lnTo>
                    <a:lnTo>
                      <a:pt x="2227" y="1179"/>
                    </a:lnTo>
                    <a:lnTo>
                      <a:pt x="2208" y="1179"/>
                    </a:lnTo>
                    <a:lnTo>
                      <a:pt x="2171" y="1197"/>
                    </a:lnTo>
                    <a:lnTo>
                      <a:pt x="2152" y="1216"/>
                    </a:lnTo>
                    <a:lnTo>
                      <a:pt x="2133" y="1234"/>
                    </a:lnTo>
                    <a:lnTo>
                      <a:pt x="2095" y="1253"/>
                    </a:lnTo>
                    <a:lnTo>
                      <a:pt x="2076" y="1271"/>
                    </a:lnTo>
                    <a:lnTo>
                      <a:pt x="2058" y="1289"/>
                    </a:lnTo>
                    <a:lnTo>
                      <a:pt x="2020" y="1289"/>
                    </a:lnTo>
                    <a:lnTo>
                      <a:pt x="2001" y="1308"/>
                    </a:lnTo>
                    <a:lnTo>
                      <a:pt x="1982" y="1326"/>
                    </a:lnTo>
                    <a:lnTo>
                      <a:pt x="1944" y="1345"/>
                    </a:lnTo>
                    <a:lnTo>
                      <a:pt x="1925" y="1363"/>
                    </a:lnTo>
                    <a:lnTo>
                      <a:pt x="1888" y="1363"/>
                    </a:lnTo>
                    <a:lnTo>
                      <a:pt x="1869" y="1382"/>
                    </a:lnTo>
                    <a:lnTo>
                      <a:pt x="1850" y="1399"/>
                    </a:lnTo>
                    <a:lnTo>
                      <a:pt x="1812" y="1418"/>
                    </a:lnTo>
                    <a:lnTo>
                      <a:pt x="1793" y="1418"/>
                    </a:lnTo>
                    <a:lnTo>
                      <a:pt x="1680" y="1418"/>
                    </a:lnTo>
                    <a:lnTo>
                      <a:pt x="1529" y="1142"/>
                    </a:lnTo>
                    <a:lnTo>
                      <a:pt x="1529" y="1123"/>
                    </a:lnTo>
                    <a:lnTo>
                      <a:pt x="1529" y="1105"/>
                    </a:lnTo>
                    <a:lnTo>
                      <a:pt x="1529" y="1086"/>
                    </a:lnTo>
                    <a:lnTo>
                      <a:pt x="1529" y="1068"/>
                    </a:lnTo>
                    <a:lnTo>
                      <a:pt x="1510" y="1050"/>
                    </a:lnTo>
                    <a:lnTo>
                      <a:pt x="1510" y="1050"/>
                    </a:lnTo>
                    <a:lnTo>
                      <a:pt x="1491" y="1032"/>
                    </a:lnTo>
                    <a:lnTo>
                      <a:pt x="1491" y="1013"/>
                    </a:lnTo>
                    <a:lnTo>
                      <a:pt x="1491" y="1013"/>
                    </a:lnTo>
                    <a:lnTo>
                      <a:pt x="1472" y="995"/>
                    </a:lnTo>
                    <a:lnTo>
                      <a:pt x="1472" y="976"/>
                    </a:lnTo>
                    <a:lnTo>
                      <a:pt x="1472" y="958"/>
                    </a:lnTo>
                    <a:lnTo>
                      <a:pt x="1453" y="939"/>
                    </a:lnTo>
                    <a:lnTo>
                      <a:pt x="1453" y="939"/>
                    </a:lnTo>
                    <a:lnTo>
                      <a:pt x="1472" y="921"/>
                    </a:lnTo>
                    <a:lnTo>
                      <a:pt x="1472" y="884"/>
                    </a:lnTo>
                    <a:lnTo>
                      <a:pt x="1472" y="884"/>
                    </a:lnTo>
                    <a:lnTo>
                      <a:pt x="1472" y="865"/>
                    </a:lnTo>
                    <a:lnTo>
                      <a:pt x="1453" y="847"/>
                    </a:lnTo>
                    <a:lnTo>
                      <a:pt x="1453" y="847"/>
                    </a:lnTo>
                    <a:lnTo>
                      <a:pt x="1434" y="847"/>
                    </a:lnTo>
                    <a:lnTo>
                      <a:pt x="1434" y="829"/>
                    </a:lnTo>
                    <a:lnTo>
                      <a:pt x="1434" y="810"/>
                    </a:lnTo>
                    <a:lnTo>
                      <a:pt x="1434" y="792"/>
                    </a:lnTo>
                    <a:lnTo>
                      <a:pt x="2567" y="0"/>
                    </a:lnTo>
                    <a:lnTo>
                      <a:pt x="8079" y="0"/>
                    </a:lnTo>
                    <a:close/>
                    <a:moveTo>
                      <a:pt x="2510" y="0"/>
                    </a:moveTo>
                    <a:lnTo>
                      <a:pt x="246" y="1050"/>
                    </a:lnTo>
                    <a:lnTo>
                      <a:pt x="37" y="423"/>
                    </a:lnTo>
                    <a:lnTo>
                      <a:pt x="19" y="423"/>
                    </a:lnTo>
                    <a:lnTo>
                      <a:pt x="19" y="423"/>
                    </a:lnTo>
                    <a:lnTo>
                      <a:pt x="19" y="423"/>
                    </a:lnTo>
                    <a:lnTo>
                      <a:pt x="19" y="405"/>
                    </a:lnTo>
                    <a:lnTo>
                      <a:pt x="19" y="405"/>
                    </a:lnTo>
                    <a:lnTo>
                      <a:pt x="0" y="386"/>
                    </a:lnTo>
                    <a:lnTo>
                      <a:pt x="0" y="368"/>
                    </a:lnTo>
                    <a:lnTo>
                      <a:pt x="0" y="368"/>
                    </a:lnTo>
                    <a:lnTo>
                      <a:pt x="415" y="0"/>
                    </a:lnTo>
                    <a:lnTo>
                      <a:pt x="251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51" name="Freeform 120"/>
              <p:cNvSpPr/>
              <p:nvPr/>
            </p:nvSpPr>
            <p:spPr>
              <a:xfrm>
                <a:off x="1054800" y="2881440"/>
                <a:ext cx="1350360" cy="112320"/>
              </a:xfrm>
              <a:custGeom>
                <a:avLst/>
                <a:gdLst/>
                <a:ahLst/>
                <a:rect l="l" t="t" r="r" b="b"/>
                <a:pathLst>
                  <a:path w="6361" h="1327">
                    <a:moveTo>
                      <a:pt x="6361" y="0"/>
                    </a:moveTo>
                    <a:lnTo>
                      <a:pt x="6267" y="18"/>
                    </a:lnTo>
                    <a:lnTo>
                      <a:pt x="6172" y="37"/>
                    </a:lnTo>
                    <a:lnTo>
                      <a:pt x="6097" y="74"/>
                    </a:lnTo>
                    <a:lnTo>
                      <a:pt x="6003" y="92"/>
                    </a:lnTo>
                    <a:lnTo>
                      <a:pt x="5927" y="129"/>
                    </a:lnTo>
                    <a:lnTo>
                      <a:pt x="5832" y="147"/>
                    </a:lnTo>
                    <a:lnTo>
                      <a:pt x="5739" y="166"/>
                    </a:lnTo>
                    <a:lnTo>
                      <a:pt x="5663" y="203"/>
                    </a:lnTo>
                    <a:lnTo>
                      <a:pt x="5568" y="221"/>
                    </a:lnTo>
                    <a:lnTo>
                      <a:pt x="5493" y="258"/>
                    </a:lnTo>
                    <a:lnTo>
                      <a:pt x="5399" y="295"/>
                    </a:lnTo>
                    <a:lnTo>
                      <a:pt x="5304" y="314"/>
                    </a:lnTo>
                    <a:lnTo>
                      <a:pt x="5229" y="350"/>
                    </a:lnTo>
                    <a:lnTo>
                      <a:pt x="5134" y="368"/>
                    </a:lnTo>
                    <a:lnTo>
                      <a:pt x="5059" y="405"/>
                    </a:lnTo>
                    <a:lnTo>
                      <a:pt x="4965" y="442"/>
                    </a:lnTo>
                    <a:lnTo>
                      <a:pt x="4870" y="461"/>
                    </a:lnTo>
                    <a:lnTo>
                      <a:pt x="4794" y="498"/>
                    </a:lnTo>
                    <a:lnTo>
                      <a:pt x="4701" y="535"/>
                    </a:lnTo>
                    <a:lnTo>
                      <a:pt x="4606" y="571"/>
                    </a:lnTo>
                    <a:lnTo>
                      <a:pt x="4530" y="608"/>
                    </a:lnTo>
                    <a:lnTo>
                      <a:pt x="4436" y="645"/>
                    </a:lnTo>
                    <a:lnTo>
                      <a:pt x="4361" y="681"/>
                    </a:lnTo>
                    <a:lnTo>
                      <a:pt x="4266" y="718"/>
                    </a:lnTo>
                    <a:lnTo>
                      <a:pt x="4172" y="755"/>
                    </a:lnTo>
                    <a:lnTo>
                      <a:pt x="4096" y="792"/>
                    </a:lnTo>
                    <a:lnTo>
                      <a:pt x="4002" y="829"/>
                    </a:lnTo>
                    <a:lnTo>
                      <a:pt x="3908" y="866"/>
                    </a:lnTo>
                    <a:lnTo>
                      <a:pt x="3832" y="903"/>
                    </a:lnTo>
                    <a:lnTo>
                      <a:pt x="3737" y="958"/>
                    </a:lnTo>
                    <a:lnTo>
                      <a:pt x="3644" y="995"/>
                    </a:lnTo>
                    <a:lnTo>
                      <a:pt x="3568" y="1050"/>
                    </a:lnTo>
                    <a:lnTo>
                      <a:pt x="3530" y="1050"/>
                    </a:lnTo>
                    <a:lnTo>
                      <a:pt x="3492" y="1068"/>
                    </a:lnTo>
                    <a:lnTo>
                      <a:pt x="3473" y="1087"/>
                    </a:lnTo>
                    <a:lnTo>
                      <a:pt x="3435" y="1105"/>
                    </a:lnTo>
                    <a:lnTo>
                      <a:pt x="3397" y="1124"/>
                    </a:lnTo>
                    <a:lnTo>
                      <a:pt x="3379" y="1142"/>
                    </a:lnTo>
                    <a:lnTo>
                      <a:pt x="3341" y="1161"/>
                    </a:lnTo>
                    <a:lnTo>
                      <a:pt x="3323" y="1161"/>
                    </a:lnTo>
                    <a:lnTo>
                      <a:pt x="3285" y="1179"/>
                    </a:lnTo>
                    <a:lnTo>
                      <a:pt x="3266" y="1198"/>
                    </a:lnTo>
                    <a:lnTo>
                      <a:pt x="3228" y="1216"/>
                    </a:lnTo>
                    <a:lnTo>
                      <a:pt x="3209" y="1216"/>
                    </a:lnTo>
                    <a:lnTo>
                      <a:pt x="3171" y="1235"/>
                    </a:lnTo>
                    <a:lnTo>
                      <a:pt x="3133" y="1253"/>
                    </a:lnTo>
                    <a:lnTo>
                      <a:pt x="3115" y="1253"/>
                    </a:lnTo>
                    <a:lnTo>
                      <a:pt x="3077" y="1272"/>
                    </a:lnTo>
                    <a:lnTo>
                      <a:pt x="3058" y="1290"/>
                    </a:lnTo>
                    <a:lnTo>
                      <a:pt x="3020" y="1290"/>
                    </a:lnTo>
                    <a:lnTo>
                      <a:pt x="3001" y="1309"/>
                    </a:lnTo>
                    <a:lnTo>
                      <a:pt x="2964" y="1309"/>
                    </a:lnTo>
                    <a:lnTo>
                      <a:pt x="2945" y="1309"/>
                    </a:lnTo>
                    <a:lnTo>
                      <a:pt x="2907" y="1327"/>
                    </a:lnTo>
                    <a:lnTo>
                      <a:pt x="2888" y="1327"/>
                    </a:lnTo>
                    <a:lnTo>
                      <a:pt x="2851" y="1327"/>
                    </a:lnTo>
                    <a:lnTo>
                      <a:pt x="2832" y="1327"/>
                    </a:lnTo>
                    <a:lnTo>
                      <a:pt x="2794" y="1327"/>
                    </a:lnTo>
                    <a:lnTo>
                      <a:pt x="2775" y="1327"/>
                    </a:lnTo>
                    <a:lnTo>
                      <a:pt x="2737" y="1327"/>
                    </a:lnTo>
                    <a:lnTo>
                      <a:pt x="2699" y="1327"/>
                    </a:lnTo>
                    <a:lnTo>
                      <a:pt x="2680" y="1309"/>
                    </a:lnTo>
                    <a:lnTo>
                      <a:pt x="2642" y="1309"/>
                    </a:lnTo>
                    <a:lnTo>
                      <a:pt x="2605" y="1290"/>
                    </a:lnTo>
                    <a:lnTo>
                      <a:pt x="2454" y="737"/>
                    </a:lnTo>
                    <a:lnTo>
                      <a:pt x="2454" y="737"/>
                    </a:lnTo>
                    <a:lnTo>
                      <a:pt x="2435" y="718"/>
                    </a:lnTo>
                    <a:lnTo>
                      <a:pt x="2435" y="718"/>
                    </a:lnTo>
                    <a:lnTo>
                      <a:pt x="2435" y="700"/>
                    </a:lnTo>
                    <a:lnTo>
                      <a:pt x="2435" y="700"/>
                    </a:lnTo>
                    <a:lnTo>
                      <a:pt x="2416" y="681"/>
                    </a:lnTo>
                    <a:lnTo>
                      <a:pt x="2416" y="681"/>
                    </a:lnTo>
                    <a:lnTo>
                      <a:pt x="2397" y="664"/>
                    </a:lnTo>
                    <a:lnTo>
                      <a:pt x="3379" y="0"/>
                    </a:lnTo>
                    <a:lnTo>
                      <a:pt x="6361" y="0"/>
                    </a:lnTo>
                    <a:close/>
                    <a:moveTo>
                      <a:pt x="2926" y="0"/>
                    </a:moveTo>
                    <a:lnTo>
                      <a:pt x="2888" y="0"/>
                    </a:lnTo>
                    <a:lnTo>
                      <a:pt x="2869" y="18"/>
                    </a:lnTo>
                    <a:lnTo>
                      <a:pt x="2832" y="37"/>
                    </a:lnTo>
                    <a:lnTo>
                      <a:pt x="2813" y="55"/>
                    </a:lnTo>
                    <a:lnTo>
                      <a:pt x="2775" y="74"/>
                    </a:lnTo>
                    <a:lnTo>
                      <a:pt x="2756" y="74"/>
                    </a:lnTo>
                    <a:lnTo>
                      <a:pt x="2718" y="92"/>
                    </a:lnTo>
                    <a:lnTo>
                      <a:pt x="2699" y="111"/>
                    </a:lnTo>
                    <a:lnTo>
                      <a:pt x="2661" y="111"/>
                    </a:lnTo>
                    <a:lnTo>
                      <a:pt x="2642" y="129"/>
                    </a:lnTo>
                    <a:lnTo>
                      <a:pt x="2605" y="147"/>
                    </a:lnTo>
                    <a:lnTo>
                      <a:pt x="2568" y="147"/>
                    </a:lnTo>
                    <a:lnTo>
                      <a:pt x="2549" y="166"/>
                    </a:lnTo>
                    <a:lnTo>
                      <a:pt x="2511" y="166"/>
                    </a:lnTo>
                    <a:lnTo>
                      <a:pt x="2492" y="184"/>
                    </a:lnTo>
                    <a:lnTo>
                      <a:pt x="2473" y="184"/>
                    </a:lnTo>
                    <a:lnTo>
                      <a:pt x="2435" y="203"/>
                    </a:lnTo>
                    <a:lnTo>
                      <a:pt x="2416" y="221"/>
                    </a:lnTo>
                    <a:lnTo>
                      <a:pt x="2378" y="240"/>
                    </a:lnTo>
                    <a:lnTo>
                      <a:pt x="2359" y="277"/>
                    </a:lnTo>
                    <a:lnTo>
                      <a:pt x="2321" y="295"/>
                    </a:lnTo>
                    <a:lnTo>
                      <a:pt x="2303" y="314"/>
                    </a:lnTo>
                    <a:lnTo>
                      <a:pt x="2284" y="332"/>
                    </a:lnTo>
                    <a:lnTo>
                      <a:pt x="2247" y="350"/>
                    </a:lnTo>
                    <a:lnTo>
                      <a:pt x="2228" y="368"/>
                    </a:lnTo>
                    <a:lnTo>
                      <a:pt x="2190" y="387"/>
                    </a:lnTo>
                    <a:lnTo>
                      <a:pt x="2171" y="405"/>
                    </a:lnTo>
                    <a:lnTo>
                      <a:pt x="2133" y="424"/>
                    </a:lnTo>
                    <a:lnTo>
                      <a:pt x="2114" y="442"/>
                    </a:lnTo>
                    <a:lnTo>
                      <a:pt x="2076" y="461"/>
                    </a:lnTo>
                    <a:lnTo>
                      <a:pt x="2057" y="479"/>
                    </a:lnTo>
                    <a:lnTo>
                      <a:pt x="2039" y="498"/>
                    </a:lnTo>
                    <a:lnTo>
                      <a:pt x="2001" y="516"/>
                    </a:lnTo>
                    <a:lnTo>
                      <a:pt x="1982" y="535"/>
                    </a:lnTo>
                    <a:lnTo>
                      <a:pt x="1944" y="553"/>
                    </a:lnTo>
                    <a:lnTo>
                      <a:pt x="1926" y="571"/>
                    </a:lnTo>
                    <a:lnTo>
                      <a:pt x="1888" y="590"/>
                    </a:lnTo>
                    <a:lnTo>
                      <a:pt x="1869" y="608"/>
                    </a:lnTo>
                    <a:lnTo>
                      <a:pt x="1831" y="608"/>
                    </a:lnTo>
                    <a:lnTo>
                      <a:pt x="1812" y="627"/>
                    </a:lnTo>
                    <a:lnTo>
                      <a:pt x="1775" y="645"/>
                    </a:lnTo>
                    <a:lnTo>
                      <a:pt x="1737" y="664"/>
                    </a:lnTo>
                    <a:lnTo>
                      <a:pt x="1718" y="681"/>
                    </a:lnTo>
                    <a:lnTo>
                      <a:pt x="1680" y="681"/>
                    </a:lnTo>
                    <a:lnTo>
                      <a:pt x="1661" y="700"/>
                    </a:lnTo>
                    <a:lnTo>
                      <a:pt x="1623" y="718"/>
                    </a:lnTo>
                    <a:lnTo>
                      <a:pt x="1604" y="737"/>
                    </a:lnTo>
                    <a:lnTo>
                      <a:pt x="1567" y="737"/>
                    </a:lnTo>
                    <a:lnTo>
                      <a:pt x="1397" y="424"/>
                    </a:lnTo>
                    <a:lnTo>
                      <a:pt x="1397" y="405"/>
                    </a:lnTo>
                    <a:lnTo>
                      <a:pt x="1397" y="387"/>
                    </a:lnTo>
                    <a:lnTo>
                      <a:pt x="1397" y="368"/>
                    </a:lnTo>
                    <a:lnTo>
                      <a:pt x="1397" y="350"/>
                    </a:lnTo>
                    <a:lnTo>
                      <a:pt x="1378" y="332"/>
                    </a:lnTo>
                    <a:lnTo>
                      <a:pt x="1378" y="332"/>
                    </a:lnTo>
                    <a:lnTo>
                      <a:pt x="1359" y="314"/>
                    </a:lnTo>
                    <a:lnTo>
                      <a:pt x="1359" y="295"/>
                    </a:lnTo>
                    <a:lnTo>
                      <a:pt x="1359" y="295"/>
                    </a:lnTo>
                    <a:lnTo>
                      <a:pt x="1340" y="277"/>
                    </a:lnTo>
                    <a:lnTo>
                      <a:pt x="1340" y="258"/>
                    </a:lnTo>
                    <a:lnTo>
                      <a:pt x="1340" y="240"/>
                    </a:lnTo>
                    <a:lnTo>
                      <a:pt x="1321" y="221"/>
                    </a:lnTo>
                    <a:lnTo>
                      <a:pt x="1321" y="221"/>
                    </a:lnTo>
                    <a:lnTo>
                      <a:pt x="1340" y="203"/>
                    </a:lnTo>
                    <a:lnTo>
                      <a:pt x="1340" y="166"/>
                    </a:lnTo>
                    <a:lnTo>
                      <a:pt x="1340" y="166"/>
                    </a:lnTo>
                    <a:lnTo>
                      <a:pt x="1340" y="147"/>
                    </a:lnTo>
                    <a:lnTo>
                      <a:pt x="1321" y="129"/>
                    </a:lnTo>
                    <a:lnTo>
                      <a:pt x="1321" y="129"/>
                    </a:lnTo>
                    <a:lnTo>
                      <a:pt x="1302" y="129"/>
                    </a:lnTo>
                    <a:lnTo>
                      <a:pt x="1302" y="111"/>
                    </a:lnTo>
                    <a:lnTo>
                      <a:pt x="1302" y="92"/>
                    </a:lnTo>
                    <a:lnTo>
                      <a:pt x="1302" y="74"/>
                    </a:lnTo>
                    <a:lnTo>
                      <a:pt x="1397" y="0"/>
                    </a:lnTo>
                    <a:lnTo>
                      <a:pt x="2926" y="0"/>
                    </a:lnTo>
                    <a:close/>
                    <a:moveTo>
                      <a:pt x="831" y="0"/>
                    </a:moveTo>
                    <a:lnTo>
                      <a:pt x="114" y="332"/>
                    </a:lnTo>
                    <a:lnTo>
                      <a:pt x="0" y="0"/>
                    </a:lnTo>
                    <a:lnTo>
                      <a:pt x="83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52" name="Freeform 121"/>
              <p:cNvSpPr/>
              <p:nvPr/>
            </p:nvSpPr>
            <p:spPr>
              <a:xfrm>
                <a:off x="1381320" y="2940480"/>
                <a:ext cx="581760" cy="53280"/>
              </a:xfrm>
              <a:custGeom>
                <a:avLst/>
                <a:gdLst/>
                <a:ahLst/>
                <a:rect l="l" t="t" r="r" b="b"/>
                <a:pathLst>
                  <a:path w="2737" h="627">
                    <a:moveTo>
                      <a:pt x="2737" y="0"/>
                    </a:moveTo>
                    <a:lnTo>
                      <a:pt x="2718" y="18"/>
                    </a:lnTo>
                    <a:lnTo>
                      <a:pt x="2699" y="18"/>
                    </a:lnTo>
                    <a:lnTo>
                      <a:pt x="2661" y="37"/>
                    </a:lnTo>
                    <a:lnTo>
                      <a:pt x="2643" y="37"/>
                    </a:lnTo>
                    <a:lnTo>
                      <a:pt x="2624" y="55"/>
                    </a:lnTo>
                    <a:lnTo>
                      <a:pt x="2605" y="55"/>
                    </a:lnTo>
                    <a:lnTo>
                      <a:pt x="2586" y="74"/>
                    </a:lnTo>
                    <a:lnTo>
                      <a:pt x="2548" y="74"/>
                    </a:lnTo>
                    <a:lnTo>
                      <a:pt x="2529" y="92"/>
                    </a:lnTo>
                    <a:lnTo>
                      <a:pt x="2510" y="111"/>
                    </a:lnTo>
                    <a:lnTo>
                      <a:pt x="2492" y="111"/>
                    </a:lnTo>
                    <a:lnTo>
                      <a:pt x="2473" y="129"/>
                    </a:lnTo>
                    <a:lnTo>
                      <a:pt x="2435" y="129"/>
                    </a:lnTo>
                    <a:lnTo>
                      <a:pt x="2416" y="148"/>
                    </a:lnTo>
                    <a:lnTo>
                      <a:pt x="2397" y="148"/>
                    </a:lnTo>
                    <a:lnTo>
                      <a:pt x="2379" y="166"/>
                    </a:lnTo>
                    <a:lnTo>
                      <a:pt x="2360" y="185"/>
                    </a:lnTo>
                    <a:lnTo>
                      <a:pt x="2322" y="185"/>
                    </a:lnTo>
                    <a:lnTo>
                      <a:pt x="2303" y="203"/>
                    </a:lnTo>
                    <a:lnTo>
                      <a:pt x="2284" y="203"/>
                    </a:lnTo>
                    <a:lnTo>
                      <a:pt x="2265" y="222"/>
                    </a:lnTo>
                    <a:lnTo>
                      <a:pt x="2246" y="222"/>
                    </a:lnTo>
                    <a:lnTo>
                      <a:pt x="2227" y="240"/>
                    </a:lnTo>
                    <a:lnTo>
                      <a:pt x="2189" y="258"/>
                    </a:lnTo>
                    <a:lnTo>
                      <a:pt x="2170" y="258"/>
                    </a:lnTo>
                    <a:lnTo>
                      <a:pt x="2151" y="277"/>
                    </a:lnTo>
                    <a:lnTo>
                      <a:pt x="2133" y="277"/>
                    </a:lnTo>
                    <a:lnTo>
                      <a:pt x="2096" y="295"/>
                    </a:lnTo>
                    <a:lnTo>
                      <a:pt x="2077" y="314"/>
                    </a:lnTo>
                    <a:lnTo>
                      <a:pt x="2058" y="314"/>
                    </a:lnTo>
                    <a:lnTo>
                      <a:pt x="2039" y="331"/>
                    </a:lnTo>
                    <a:lnTo>
                      <a:pt x="2020" y="350"/>
                    </a:lnTo>
                    <a:lnTo>
                      <a:pt x="1982" y="350"/>
                    </a:lnTo>
                    <a:lnTo>
                      <a:pt x="1944" y="368"/>
                    </a:lnTo>
                    <a:lnTo>
                      <a:pt x="1925" y="387"/>
                    </a:lnTo>
                    <a:lnTo>
                      <a:pt x="1887" y="405"/>
                    </a:lnTo>
                    <a:lnTo>
                      <a:pt x="1849" y="424"/>
                    </a:lnTo>
                    <a:lnTo>
                      <a:pt x="1831" y="442"/>
                    </a:lnTo>
                    <a:lnTo>
                      <a:pt x="1793" y="461"/>
                    </a:lnTo>
                    <a:lnTo>
                      <a:pt x="1775" y="461"/>
                    </a:lnTo>
                    <a:lnTo>
                      <a:pt x="1737" y="479"/>
                    </a:lnTo>
                    <a:lnTo>
                      <a:pt x="1718" y="498"/>
                    </a:lnTo>
                    <a:lnTo>
                      <a:pt x="1680" y="516"/>
                    </a:lnTo>
                    <a:lnTo>
                      <a:pt x="1661" y="516"/>
                    </a:lnTo>
                    <a:lnTo>
                      <a:pt x="1623" y="535"/>
                    </a:lnTo>
                    <a:lnTo>
                      <a:pt x="1585" y="553"/>
                    </a:lnTo>
                    <a:lnTo>
                      <a:pt x="1567" y="553"/>
                    </a:lnTo>
                    <a:lnTo>
                      <a:pt x="1529" y="572"/>
                    </a:lnTo>
                    <a:lnTo>
                      <a:pt x="1510" y="590"/>
                    </a:lnTo>
                    <a:lnTo>
                      <a:pt x="1472" y="590"/>
                    </a:lnTo>
                    <a:lnTo>
                      <a:pt x="1453" y="609"/>
                    </a:lnTo>
                    <a:lnTo>
                      <a:pt x="1416" y="609"/>
                    </a:lnTo>
                    <a:lnTo>
                      <a:pt x="1397" y="609"/>
                    </a:lnTo>
                    <a:lnTo>
                      <a:pt x="1359" y="627"/>
                    </a:lnTo>
                    <a:lnTo>
                      <a:pt x="1340" y="627"/>
                    </a:lnTo>
                    <a:lnTo>
                      <a:pt x="1303" y="627"/>
                    </a:lnTo>
                    <a:lnTo>
                      <a:pt x="1284" y="627"/>
                    </a:lnTo>
                    <a:lnTo>
                      <a:pt x="1246" y="627"/>
                    </a:lnTo>
                    <a:lnTo>
                      <a:pt x="1227" y="627"/>
                    </a:lnTo>
                    <a:lnTo>
                      <a:pt x="1189" y="627"/>
                    </a:lnTo>
                    <a:lnTo>
                      <a:pt x="1151" y="627"/>
                    </a:lnTo>
                    <a:lnTo>
                      <a:pt x="1132" y="609"/>
                    </a:lnTo>
                    <a:lnTo>
                      <a:pt x="1094" y="609"/>
                    </a:lnTo>
                    <a:lnTo>
                      <a:pt x="1057" y="590"/>
                    </a:lnTo>
                    <a:lnTo>
                      <a:pt x="906" y="37"/>
                    </a:lnTo>
                    <a:lnTo>
                      <a:pt x="906" y="37"/>
                    </a:lnTo>
                    <a:lnTo>
                      <a:pt x="906" y="37"/>
                    </a:lnTo>
                    <a:lnTo>
                      <a:pt x="887" y="37"/>
                    </a:lnTo>
                    <a:lnTo>
                      <a:pt x="887" y="18"/>
                    </a:lnTo>
                    <a:lnTo>
                      <a:pt x="887" y="18"/>
                    </a:lnTo>
                    <a:lnTo>
                      <a:pt x="887" y="18"/>
                    </a:lnTo>
                    <a:lnTo>
                      <a:pt x="887" y="0"/>
                    </a:lnTo>
                    <a:lnTo>
                      <a:pt x="887" y="0"/>
                    </a:lnTo>
                    <a:lnTo>
                      <a:pt x="2737" y="0"/>
                    </a:lnTo>
                    <a:close/>
                    <a:moveTo>
                      <a:pt x="113" y="0"/>
                    </a:moveTo>
                    <a:lnTo>
                      <a:pt x="94" y="0"/>
                    </a:lnTo>
                    <a:lnTo>
                      <a:pt x="94" y="18"/>
                    </a:lnTo>
                    <a:lnTo>
                      <a:pt x="75" y="18"/>
                    </a:lnTo>
                    <a:lnTo>
                      <a:pt x="56" y="18"/>
                    </a:lnTo>
                    <a:lnTo>
                      <a:pt x="56" y="37"/>
                    </a:lnTo>
                    <a:lnTo>
                      <a:pt x="37" y="37"/>
                    </a:lnTo>
                    <a:lnTo>
                      <a:pt x="37" y="37"/>
                    </a:lnTo>
                    <a:lnTo>
                      <a:pt x="19" y="37"/>
                    </a:lnTo>
                    <a:lnTo>
                      <a:pt x="0" y="0"/>
                    </a:lnTo>
                    <a:lnTo>
                      <a:pt x="11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53" name="Freeform 122"/>
              <p:cNvSpPr/>
              <p:nvPr/>
            </p:nvSpPr>
            <p:spPr>
              <a:xfrm>
                <a:off x="1802520" y="2529000"/>
                <a:ext cx="8640" cy="1440"/>
              </a:xfrm>
              <a:custGeom>
                <a:avLst/>
                <a:gdLst/>
                <a:ahLst/>
                <a:rect l="l" t="t" r="r" b="b"/>
                <a:pathLst>
                  <a:path w="38" h="1">
                    <a:moveTo>
                      <a:pt x="0" y="0"/>
                    </a:move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38" y="0"/>
                    </a:lnTo>
                    <a:lnTo>
                      <a:pt x="19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54" name="Freeform 123"/>
              <p:cNvSpPr/>
              <p:nvPr/>
            </p:nvSpPr>
            <p:spPr>
              <a:xfrm>
                <a:off x="1797480" y="2529000"/>
                <a:ext cx="13320" cy="144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0"/>
                    </a:move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57" y="0"/>
                    </a:lnTo>
                    <a:lnTo>
                      <a:pt x="19" y="18"/>
                    </a:lnTo>
                    <a:lnTo>
                      <a:pt x="0" y="18"/>
                    </a:lnTo>
                    <a:lnTo>
                      <a:pt x="1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55" name="Freeform 124"/>
              <p:cNvSpPr/>
              <p:nvPr/>
            </p:nvSpPr>
            <p:spPr>
              <a:xfrm>
                <a:off x="1793880" y="2529000"/>
                <a:ext cx="12240" cy="144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18"/>
                    </a:moveTo>
                    <a:lnTo>
                      <a:pt x="57" y="0"/>
                    </a:lnTo>
                    <a:lnTo>
                      <a:pt x="38" y="0"/>
                    </a:lnTo>
                    <a:lnTo>
                      <a:pt x="0" y="18"/>
                    </a:lnTo>
                    <a:lnTo>
                      <a:pt x="19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56" name="Freeform 125"/>
              <p:cNvSpPr/>
              <p:nvPr/>
            </p:nvSpPr>
            <p:spPr>
              <a:xfrm>
                <a:off x="1793880" y="2530800"/>
                <a:ext cx="8640" cy="180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57" name="Freeform 126"/>
              <p:cNvSpPr/>
              <p:nvPr/>
            </p:nvSpPr>
            <p:spPr>
              <a:xfrm>
                <a:off x="1789920" y="2530800"/>
                <a:ext cx="7560" cy="180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58" name="Freeform 127"/>
              <p:cNvSpPr/>
              <p:nvPr/>
            </p:nvSpPr>
            <p:spPr>
              <a:xfrm>
                <a:off x="1785240" y="2532960"/>
                <a:ext cx="12240" cy="144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18"/>
                    </a:moveTo>
                    <a:lnTo>
                      <a:pt x="57" y="0"/>
                    </a:lnTo>
                    <a:lnTo>
                      <a:pt x="38" y="0"/>
                    </a:lnTo>
                    <a:lnTo>
                      <a:pt x="0" y="18"/>
                    </a:lnTo>
                    <a:lnTo>
                      <a:pt x="19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59" name="Freeform 128"/>
              <p:cNvSpPr/>
              <p:nvPr/>
            </p:nvSpPr>
            <p:spPr>
              <a:xfrm>
                <a:off x="1781280" y="2532960"/>
                <a:ext cx="12240" cy="144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18"/>
                    </a:moveTo>
                    <a:lnTo>
                      <a:pt x="57" y="0"/>
                    </a:lnTo>
                    <a:lnTo>
                      <a:pt x="38" y="0"/>
                    </a:lnTo>
                    <a:lnTo>
                      <a:pt x="0" y="18"/>
                    </a:lnTo>
                    <a:lnTo>
                      <a:pt x="19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60" name="Freeform 129"/>
              <p:cNvSpPr/>
              <p:nvPr/>
            </p:nvSpPr>
            <p:spPr>
              <a:xfrm>
                <a:off x="1781280" y="2534400"/>
                <a:ext cx="3600" cy="720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61" name="Freeform 130"/>
              <p:cNvSpPr/>
              <p:nvPr/>
            </p:nvSpPr>
            <p:spPr>
              <a:xfrm>
                <a:off x="1772640" y="2536200"/>
                <a:ext cx="8640" cy="1800"/>
              </a:xfrm>
              <a:custGeom>
                <a:avLst/>
                <a:gdLst/>
                <a:ahLst/>
                <a:rect l="l" t="t" r="r" b="b"/>
                <a:pathLst>
                  <a:path w="56" h="18">
                    <a:moveTo>
                      <a:pt x="18" y="18"/>
                    </a:moveTo>
                    <a:lnTo>
                      <a:pt x="56" y="0"/>
                    </a:lnTo>
                    <a:lnTo>
                      <a:pt x="37" y="0"/>
                    </a:lnTo>
                    <a:lnTo>
                      <a:pt x="0" y="18"/>
                    </a:lnTo>
                    <a:lnTo>
                      <a:pt x="18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62" name="Freeform 131"/>
              <p:cNvSpPr/>
              <p:nvPr/>
            </p:nvSpPr>
            <p:spPr>
              <a:xfrm>
                <a:off x="1764000" y="2538000"/>
                <a:ext cx="8640" cy="144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38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63" name="Freeform 132"/>
              <p:cNvSpPr/>
              <p:nvPr/>
            </p:nvSpPr>
            <p:spPr>
              <a:xfrm>
                <a:off x="1751400" y="2539800"/>
                <a:ext cx="8640" cy="180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38" y="0"/>
                    </a:moveTo>
                    <a:lnTo>
                      <a:pt x="0" y="19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64" name="Freeform 133"/>
              <p:cNvSpPr/>
              <p:nvPr/>
            </p:nvSpPr>
            <p:spPr>
              <a:xfrm>
                <a:off x="1751400" y="2541600"/>
                <a:ext cx="3600" cy="1440"/>
              </a:xfrm>
              <a:custGeom>
                <a:avLst/>
                <a:gdLst/>
                <a:ahLst/>
                <a:rect l="l" t="t" r="r" b="b"/>
                <a:pathLst>
                  <a:path w="19" h="1">
                    <a:moveTo>
                      <a:pt x="19" y="0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</p:grpSp>
        <p:sp>
          <p:nvSpPr>
            <p:cNvPr id="265" name="Rectangle 136"/>
            <p:cNvSpPr/>
            <p:nvPr/>
          </p:nvSpPr>
          <p:spPr>
            <a:xfrm>
              <a:off x="322200" y="2125800"/>
              <a:ext cx="2247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f5494"/>
                  </a:solidFill>
                  <a:latin typeface="Verdana"/>
                </a:rPr>
                <a:t>Pouvoir</a:t>
              </a:r>
              <a:endParaRPr b="0" lang="en-US" sz="20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grpSp>
        <p:nvGrpSpPr>
          <p:cNvPr id="266" name="Group 217"/>
          <p:cNvGrpSpPr/>
          <p:nvPr/>
        </p:nvGrpSpPr>
        <p:grpSpPr>
          <a:xfrm>
            <a:off x="1022040" y="1447920"/>
            <a:ext cx="8769960" cy="5716080"/>
            <a:chOff x="1022040" y="1447920"/>
            <a:chExt cx="8769960" cy="5716080"/>
          </a:xfrm>
        </p:grpSpPr>
        <p:sp>
          <p:nvSpPr>
            <p:cNvPr id="267" name="AutoShape 134"/>
            <p:cNvSpPr/>
            <p:nvPr/>
          </p:nvSpPr>
          <p:spPr>
            <a:xfrm rot="20091000">
              <a:off x="899640" y="3880080"/>
              <a:ext cx="9014040" cy="1436400"/>
            </a:xfrm>
            <a:custGeom>
              <a:avLst/>
              <a:gdLst>
                <a:gd name="textAreaLeft" fmla="*/ 1767240 w 9014040"/>
                <a:gd name="textAreaRight" fmla="*/ 6345360 w 9014040"/>
                <a:gd name="textAreaTop" fmla="*/ 192240 h 1436400"/>
                <a:gd name="textAreaBottom" fmla="*/ 1244160 h 1436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470" hR="21600" stAng="10800000" swAng="-5400000"/>
                  <a:lnTo>
                    <a:pt x="10970" y="21600"/>
                  </a:lnTo>
                  <a:arcTo wR="8470" hR="21600" stAng="5400000" swAng="-2877686"/>
                  <a:lnTo>
                    <a:pt x="21116" y="7200"/>
                  </a:lnTo>
                  <a:lnTo>
                    <a:pt x="18190" y="0"/>
                  </a:lnTo>
                  <a:lnTo>
                    <a:pt x="14296" y="7200"/>
                  </a:lnTo>
                  <a:lnTo>
                    <a:pt x="16456" y="7200"/>
                  </a:lnTo>
                  <a:arcTo wR="8470" hR="21600" stAng="2522314" swAng="2676769"/>
                  <a:lnTo>
                    <a:pt x="9720" y="21363"/>
                  </a:lnTo>
                  <a:arcTo wR="8470" hR="21600" stAng="5600917" swAng="5199083"/>
                  <a:close/>
                </a:path>
                <a:path fill="darkenLess" w="21600" h="21600">
                  <a:moveTo>
                    <a:pt x="0" y="0"/>
                  </a:moveTo>
                  <a:arcTo wR="8470" hR="21600" stAng="10800000" swAng="-5400000"/>
                  <a:lnTo>
                    <a:pt x="10970" y="21600"/>
                  </a:lnTo>
                  <a:arcTo wR="8470" hR="21600" stAng="5400000" swAng="200917"/>
                  <a:lnTo>
                    <a:pt x="9720" y="21363"/>
                  </a:lnTo>
                  <a:arcTo wR="8470" hR="21600" stAng="5600917" swAng="5199083"/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268" name="AutoShape 137"/>
            <p:cNvSpPr/>
            <p:nvPr/>
          </p:nvSpPr>
          <p:spPr>
            <a:xfrm>
              <a:off x="6477120" y="1447920"/>
              <a:ext cx="2666880" cy="1143000"/>
            </a:xfrm>
            <a:prstGeom prst="flowChartPunchedTape">
              <a:avLst/>
            </a:prstGeom>
            <a:solidFill>
              <a:srgbClr val="cc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f5494"/>
                  </a:solidFill>
                  <a:latin typeface="Verdana"/>
                </a:rPr>
                <a:t>La faisabilité des réformes</a:t>
              </a: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grpSp>
        <p:nvGrpSpPr>
          <p:cNvPr id="269" name="Group 210"/>
          <p:cNvGrpSpPr/>
          <p:nvPr/>
        </p:nvGrpSpPr>
        <p:grpSpPr>
          <a:xfrm>
            <a:off x="2843280" y="1483200"/>
            <a:ext cx="3089880" cy="1316880"/>
            <a:chOff x="2843280" y="1483200"/>
            <a:chExt cx="3089880" cy="1316880"/>
          </a:xfrm>
        </p:grpSpPr>
        <p:grpSp>
          <p:nvGrpSpPr>
            <p:cNvPr id="270" name="Group 2"/>
            <p:cNvGrpSpPr/>
            <p:nvPr/>
          </p:nvGrpSpPr>
          <p:grpSpPr>
            <a:xfrm>
              <a:off x="2843280" y="1576440"/>
              <a:ext cx="3089880" cy="1223640"/>
              <a:chOff x="2843280" y="1576440"/>
              <a:chExt cx="3089880" cy="1223640"/>
            </a:xfrm>
          </p:grpSpPr>
          <p:sp>
            <p:nvSpPr>
              <p:cNvPr id="271" name="Freeform 3"/>
              <p:cNvSpPr/>
              <p:nvPr/>
            </p:nvSpPr>
            <p:spPr>
              <a:xfrm>
                <a:off x="3224520" y="1576440"/>
                <a:ext cx="1645920" cy="123840"/>
              </a:xfrm>
              <a:custGeom>
                <a:avLst/>
                <a:gdLst/>
                <a:ahLst/>
                <a:rect l="l" t="t" r="r" b="b"/>
                <a:pathLst>
                  <a:path w="7154" h="1419">
                    <a:moveTo>
                      <a:pt x="3416" y="0"/>
                    </a:moveTo>
                    <a:lnTo>
                      <a:pt x="3435" y="0"/>
                    </a:lnTo>
                    <a:lnTo>
                      <a:pt x="3435" y="0"/>
                    </a:lnTo>
                    <a:lnTo>
                      <a:pt x="3454" y="0"/>
                    </a:lnTo>
                    <a:lnTo>
                      <a:pt x="3454" y="0"/>
                    </a:lnTo>
                    <a:lnTo>
                      <a:pt x="3473" y="0"/>
                    </a:lnTo>
                    <a:lnTo>
                      <a:pt x="3473" y="0"/>
                    </a:lnTo>
                    <a:lnTo>
                      <a:pt x="3473" y="18"/>
                    </a:lnTo>
                    <a:lnTo>
                      <a:pt x="3492" y="18"/>
                    </a:lnTo>
                    <a:lnTo>
                      <a:pt x="3661" y="719"/>
                    </a:lnTo>
                    <a:lnTo>
                      <a:pt x="4794" y="387"/>
                    </a:lnTo>
                    <a:lnTo>
                      <a:pt x="4889" y="1180"/>
                    </a:lnTo>
                    <a:lnTo>
                      <a:pt x="4549" y="1419"/>
                    </a:lnTo>
                    <a:lnTo>
                      <a:pt x="0" y="1419"/>
                    </a:lnTo>
                    <a:lnTo>
                      <a:pt x="19" y="1382"/>
                    </a:lnTo>
                    <a:lnTo>
                      <a:pt x="57" y="1346"/>
                    </a:lnTo>
                    <a:lnTo>
                      <a:pt x="76" y="1327"/>
                    </a:lnTo>
                    <a:lnTo>
                      <a:pt x="94" y="1309"/>
                    </a:lnTo>
                    <a:lnTo>
                      <a:pt x="131" y="1272"/>
                    </a:lnTo>
                    <a:lnTo>
                      <a:pt x="150" y="1253"/>
                    </a:lnTo>
                    <a:lnTo>
                      <a:pt x="188" y="1216"/>
                    </a:lnTo>
                    <a:lnTo>
                      <a:pt x="207" y="1198"/>
                    </a:lnTo>
                    <a:lnTo>
                      <a:pt x="245" y="1180"/>
                    </a:lnTo>
                    <a:lnTo>
                      <a:pt x="264" y="1143"/>
                    </a:lnTo>
                    <a:lnTo>
                      <a:pt x="302" y="1124"/>
                    </a:lnTo>
                    <a:lnTo>
                      <a:pt x="321" y="1106"/>
                    </a:lnTo>
                    <a:lnTo>
                      <a:pt x="358" y="1087"/>
                    </a:lnTo>
                    <a:lnTo>
                      <a:pt x="396" y="1069"/>
                    </a:lnTo>
                    <a:lnTo>
                      <a:pt x="415" y="1050"/>
                    </a:lnTo>
                    <a:lnTo>
                      <a:pt x="453" y="1014"/>
                    </a:lnTo>
                    <a:lnTo>
                      <a:pt x="453" y="1033"/>
                    </a:lnTo>
                    <a:lnTo>
                      <a:pt x="471" y="1050"/>
                    </a:lnTo>
                    <a:lnTo>
                      <a:pt x="471" y="1050"/>
                    </a:lnTo>
                    <a:lnTo>
                      <a:pt x="490" y="1069"/>
                    </a:lnTo>
                    <a:lnTo>
                      <a:pt x="490" y="1069"/>
                    </a:lnTo>
                    <a:lnTo>
                      <a:pt x="509" y="1087"/>
                    </a:lnTo>
                    <a:lnTo>
                      <a:pt x="509" y="1106"/>
                    </a:lnTo>
                    <a:lnTo>
                      <a:pt x="509" y="1124"/>
                    </a:lnTo>
                    <a:lnTo>
                      <a:pt x="528" y="1143"/>
                    </a:lnTo>
                    <a:lnTo>
                      <a:pt x="528" y="1143"/>
                    </a:lnTo>
                    <a:lnTo>
                      <a:pt x="528" y="1161"/>
                    </a:lnTo>
                    <a:lnTo>
                      <a:pt x="547" y="1180"/>
                    </a:lnTo>
                    <a:lnTo>
                      <a:pt x="547" y="1198"/>
                    </a:lnTo>
                    <a:lnTo>
                      <a:pt x="547" y="1216"/>
                    </a:lnTo>
                    <a:lnTo>
                      <a:pt x="566" y="1216"/>
                    </a:lnTo>
                    <a:lnTo>
                      <a:pt x="566" y="1235"/>
                    </a:lnTo>
                    <a:lnTo>
                      <a:pt x="566" y="1253"/>
                    </a:lnTo>
                    <a:lnTo>
                      <a:pt x="566" y="1272"/>
                    </a:lnTo>
                    <a:lnTo>
                      <a:pt x="566" y="1272"/>
                    </a:lnTo>
                    <a:lnTo>
                      <a:pt x="566" y="1290"/>
                    </a:lnTo>
                    <a:lnTo>
                      <a:pt x="566" y="1309"/>
                    </a:lnTo>
                    <a:lnTo>
                      <a:pt x="566" y="1327"/>
                    </a:lnTo>
                    <a:lnTo>
                      <a:pt x="585" y="1346"/>
                    </a:lnTo>
                    <a:lnTo>
                      <a:pt x="585" y="1364"/>
                    </a:lnTo>
                    <a:lnTo>
                      <a:pt x="3416" y="0"/>
                    </a:lnTo>
                    <a:close/>
                    <a:moveTo>
                      <a:pt x="5115" y="1419"/>
                    </a:moveTo>
                    <a:lnTo>
                      <a:pt x="5134" y="1400"/>
                    </a:lnTo>
                    <a:lnTo>
                      <a:pt x="5172" y="1382"/>
                    </a:lnTo>
                    <a:lnTo>
                      <a:pt x="5209" y="1364"/>
                    </a:lnTo>
                    <a:lnTo>
                      <a:pt x="5247" y="1364"/>
                    </a:lnTo>
                    <a:lnTo>
                      <a:pt x="5266" y="1346"/>
                    </a:lnTo>
                    <a:lnTo>
                      <a:pt x="5304" y="1327"/>
                    </a:lnTo>
                    <a:lnTo>
                      <a:pt x="5342" y="1309"/>
                    </a:lnTo>
                    <a:lnTo>
                      <a:pt x="5361" y="1309"/>
                    </a:lnTo>
                    <a:lnTo>
                      <a:pt x="5399" y="1290"/>
                    </a:lnTo>
                    <a:lnTo>
                      <a:pt x="5436" y="1272"/>
                    </a:lnTo>
                    <a:lnTo>
                      <a:pt x="5473" y="1272"/>
                    </a:lnTo>
                    <a:lnTo>
                      <a:pt x="5492" y="1253"/>
                    </a:lnTo>
                    <a:lnTo>
                      <a:pt x="5530" y="1235"/>
                    </a:lnTo>
                    <a:lnTo>
                      <a:pt x="5568" y="1216"/>
                    </a:lnTo>
                    <a:lnTo>
                      <a:pt x="5587" y="1216"/>
                    </a:lnTo>
                    <a:lnTo>
                      <a:pt x="5625" y="1198"/>
                    </a:lnTo>
                    <a:lnTo>
                      <a:pt x="5663" y="1198"/>
                    </a:lnTo>
                    <a:lnTo>
                      <a:pt x="5701" y="1180"/>
                    </a:lnTo>
                    <a:lnTo>
                      <a:pt x="5720" y="1161"/>
                    </a:lnTo>
                    <a:lnTo>
                      <a:pt x="5757" y="1161"/>
                    </a:lnTo>
                    <a:lnTo>
                      <a:pt x="5794" y="1143"/>
                    </a:lnTo>
                    <a:lnTo>
                      <a:pt x="5813" y="1143"/>
                    </a:lnTo>
                    <a:lnTo>
                      <a:pt x="5851" y="1124"/>
                    </a:lnTo>
                    <a:lnTo>
                      <a:pt x="5889" y="1106"/>
                    </a:lnTo>
                    <a:lnTo>
                      <a:pt x="5908" y="1106"/>
                    </a:lnTo>
                    <a:lnTo>
                      <a:pt x="5946" y="1087"/>
                    </a:lnTo>
                    <a:lnTo>
                      <a:pt x="5984" y="1087"/>
                    </a:lnTo>
                    <a:lnTo>
                      <a:pt x="6002" y="1069"/>
                    </a:lnTo>
                    <a:lnTo>
                      <a:pt x="6040" y="1069"/>
                    </a:lnTo>
                    <a:lnTo>
                      <a:pt x="6078" y="1069"/>
                    </a:lnTo>
                    <a:lnTo>
                      <a:pt x="6097" y="1050"/>
                    </a:lnTo>
                    <a:lnTo>
                      <a:pt x="6134" y="1050"/>
                    </a:lnTo>
                    <a:lnTo>
                      <a:pt x="6172" y="1033"/>
                    </a:lnTo>
                    <a:lnTo>
                      <a:pt x="6210" y="1033"/>
                    </a:lnTo>
                    <a:lnTo>
                      <a:pt x="6229" y="1014"/>
                    </a:lnTo>
                    <a:lnTo>
                      <a:pt x="6266" y="1014"/>
                    </a:lnTo>
                    <a:lnTo>
                      <a:pt x="6304" y="996"/>
                    </a:lnTo>
                    <a:lnTo>
                      <a:pt x="6323" y="996"/>
                    </a:lnTo>
                    <a:lnTo>
                      <a:pt x="6361" y="996"/>
                    </a:lnTo>
                    <a:lnTo>
                      <a:pt x="6399" y="977"/>
                    </a:lnTo>
                    <a:lnTo>
                      <a:pt x="6418" y="977"/>
                    </a:lnTo>
                    <a:lnTo>
                      <a:pt x="6456" y="959"/>
                    </a:lnTo>
                    <a:lnTo>
                      <a:pt x="6493" y="959"/>
                    </a:lnTo>
                    <a:lnTo>
                      <a:pt x="6512" y="940"/>
                    </a:lnTo>
                    <a:lnTo>
                      <a:pt x="6549" y="940"/>
                    </a:lnTo>
                    <a:lnTo>
                      <a:pt x="6587" y="922"/>
                    </a:lnTo>
                    <a:lnTo>
                      <a:pt x="6606" y="922"/>
                    </a:lnTo>
                    <a:lnTo>
                      <a:pt x="6644" y="903"/>
                    </a:lnTo>
                    <a:lnTo>
                      <a:pt x="6663" y="903"/>
                    </a:lnTo>
                    <a:lnTo>
                      <a:pt x="6701" y="885"/>
                    </a:lnTo>
                    <a:lnTo>
                      <a:pt x="6739" y="885"/>
                    </a:lnTo>
                    <a:lnTo>
                      <a:pt x="6758" y="866"/>
                    </a:lnTo>
                    <a:lnTo>
                      <a:pt x="6796" y="866"/>
                    </a:lnTo>
                    <a:lnTo>
                      <a:pt x="6814" y="866"/>
                    </a:lnTo>
                    <a:lnTo>
                      <a:pt x="6851" y="848"/>
                    </a:lnTo>
                    <a:lnTo>
                      <a:pt x="6889" y="848"/>
                    </a:lnTo>
                    <a:lnTo>
                      <a:pt x="6908" y="829"/>
                    </a:lnTo>
                    <a:lnTo>
                      <a:pt x="6946" y="829"/>
                    </a:lnTo>
                    <a:lnTo>
                      <a:pt x="6965" y="811"/>
                    </a:lnTo>
                    <a:lnTo>
                      <a:pt x="7003" y="811"/>
                    </a:lnTo>
                    <a:lnTo>
                      <a:pt x="7022" y="811"/>
                    </a:lnTo>
                    <a:lnTo>
                      <a:pt x="7060" y="792"/>
                    </a:lnTo>
                    <a:lnTo>
                      <a:pt x="7078" y="792"/>
                    </a:lnTo>
                    <a:lnTo>
                      <a:pt x="7116" y="792"/>
                    </a:lnTo>
                    <a:lnTo>
                      <a:pt x="7154" y="1419"/>
                    </a:lnTo>
                    <a:lnTo>
                      <a:pt x="5115" y="14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72" name="Freeform 4"/>
              <p:cNvSpPr/>
              <p:nvPr/>
            </p:nvSpPr>
            <p:spPr>
              <a:xfrm>
                <a:off x="3096360" y="1636560"/>
                <a:ext cx="2417760" cy="123480"/>
              </a:xfrm>
              <a:custGeom>
                <a:avLst/>
                <a:gdLst/>
                <a:ahLst/>
                <a:rect l="l" t="t" r="r" b="b"/>
                <a:pathLst>
                  <a:path w="10534" h="1419">
                    <a:moveTo>
                      <a:pt x="4228" y="0"/>
                    </a:moveTo>
                    <a:lnTo>
                      <a:pt x="4228" y="19"/>
                    </a:lnTo>
                    <a:lnTo>
                      <a:pt x="4304" y="0"/>
                    </a:lnTo>
                    <a:lnTo>
                      <a:pt x="5399" y="0"/>
                    </a:lnTo>
                    <a:lnTo>
                      <a:pt x="5456" y="480"/>
                    </a:lnTo>
                    <a:lnTo>
                      <a:pt x="4153" y="1346"/>
                    </a:lnTo>
                    <a:lnTo>
                      <a:pt x="4228" y="1327"/>
                    </a:lnTo>
                    <a:lnTo>
                      <a:pt x="4304" y="1290"/>
                    </a:lnTo>
                    <a:lnTo>
                      <a:pt x="4380" y="1272"/>
                    </a:lnTo>
                    <a:lnTo>
                      <a:pt x="4455" y="1235"/>
                    </a:lnTo>
                    <a:lnTo>
                      <a:pt x="4531" y="1198"/>
                    </a:lnTo>
                    <a:lnTo>
                      <a:pt x="4606" y="1180"/>
                    </a:lnTo>
                    <a:lnTo>
                      <a:pt x="4681" y="1143"/>
                    </a:lnTo>
                    <a:lnTo>
                      <a:pt x="4776" y="1106"/>
                    </a:lnTo>
                    <a:lnTo>
                      <a:pt x="4852" y="1069"/>
                    </a:lnTo>
                    <a:lnTo>
                      <a:pt x="4927" y="1032"/>
                    </a:lnTo>
                    <a:lnTo>
                      <a:pt x="5002" y="1014"/>
                    </a:lnTo>
                    <a:lnTo>
                      <a:pt x="5097" y="977"/>
                    </a:lnTo>
                    <a:lnTo>
                      <a:pt x="5173" y="940"/>
                    </a:lnTo>
                    <a:lnTo>
                      <a:pt x="5248" y="903"/>
                    </a:lnTo>
                    <a:lnTo>
                      <a:pt x="5342" y="867"/>
                    </a:lnTo>
                    <a:lnTo>
                      <a:pt x="5418" y="830"/>
                    </a:lnTo>
                    <a:lnTo>
                      <a:pt x="5493" y="793"/>
                    </a:lnTo>
                    <a:lnTo>
                      <a:pt x="5569" y="756"/>
                    </a:lnTo>
                    <a:lnTo>
                      <a:pt x="5663" y="719"/>
                    </a:lnTo>
                    <a:lnTo>
                      <a:pt x="5739" y="682"/>
                    </a:lnTo>
                    <a:lnTo>
                      <a:pt x="5814" y="646"/>
                    </a:lnTo>
                    <a:lnTo>
                      <a:pt x="5909" y="609"/>
                    </a:lnTo>
                    <a:lnTo>
                      <a:pt x="5984" y="590"/>
                    </a:lnTo>
                    <a:lnTo>
                      <a:pt x="6059" y="553"/>
                    </a:lnTo>
                    <a:lnTo>
                      <a:pt x="6154" y="516"/>
                    </a:lnTo>
                    <a:lnTo>
                      <a:pt x="6230" y="498"/>
                    </a:lnTo>
                    <a:lnTo>
                      <a:pt x="6305" y="461"/>
                    </a:lnTo>
                    <a:lnTo>
                      <a:pt x="6380" y="443"/>
                    </a:lnTo>
                    <a:lnTo>
                      <a:pt x="6475" y="406"/>
                    </a:lnTo>
                    <a:lnTo>
                      <a:pt x="6551" y="387"/>
                    </a:lnTo>
                    <a:lnTo>
                      <a:pt x="6626" y="369"/>
                    </a:lnTo>
                    <a:lnTo>
                      <a:pt x="6701" y="350"/>
                    </a:lnTo>
                    <a:lnTo>
                      <a:pt x="6739" y="333"/>
                    </a:lnTo>
                    <a:lnTo>
                      <a:pt x="6777" y="333"/>
                    </a:lnTo>
                    <a:lnTo>
                      <a:pt x="6796" y="314"/>
                    </a:lnTo>
                    <a:lnTo>
                      <a:pt x="6833" y="314"/>
                    </a:lnTo>
                    <a:lnTo>
                      <a:pt x="6871" y="296"/>
                    </a:lnTo>
                    <a:lnTo>
                      <a:pt x="6890" y="296"/>
                    </a:lnTo>
                    <a:lnTo>
                      <a:pt x="6928" y="296"/>
                    </a:lnTo>
                    <a:lnTo>
                      <a:pt x="6966" y="277"/>
                    </a:lnTo>
                    <a:lnTo>
                      <a:pt x="6985" y="277"/>
                    </a:lnTo>
                    <a:lnTo>
                      <a:pt x="7023" y="259"/>
                    </a:lnTo>
                    <a:lnTo>
                      <a:pt x="7060" y="259"/>
                    </a:lnTo>
                    <a:lnTo>
                      <a:pt x="7079" y="240"/>
                    </a:lnTo>
                    <a:lnTo>
                      <a:pt x="7116" y="240"/>
                    </a:lnTo>
                    <a:lnTo>
                      <a:pt x="7154" y="222"/>
                    </a:lnTo>
                    <a:lnTo>
                      <a:pt x="7173" y="222"/>
                    </a:lnTo>
                    <a:lnTo>
                      <a:pt x="7211" y="203"/>
                    </a:lnTo>
                    <a:lnTo>
                      <a:pt x="7230" y="203"/>
                    </a:lnTo>
                    <a:lnTo>
                      <a:pt x="7268" y="185"/>
                    </a:lnTo>
                    <a:lnTo>
                      <a:pt x="7306" y="185"/>
                    </a:lnTo>
                    <a:lnTo>
                      <a:pt x="7325" y="166"/>
                    </a:lnTo>
                    <a:lnTo>
                      <a:pt x="7363" y="166"/>
                    </a:lnTo>
                    <a:lnTo>
                      <a:pt x="7381" y="166"/>
                    </a:lnTo>
                    <a:lnTo>
                      <a:pt x="7418" y="148"/>
                    </a:lnTo>
                    <a:lnTo>
                      <a:pt x="7456" y="148"/>
                    </a:lnTo>
                    <a:lnTo>
                      <a:pt x="7475" y="129"/>
                    </a:lnTo>
                    <a:lnTo>
                      <a:pt x="7513" y="129"/>
                    </a:lnTo>
                    <a:lnTo>
                      <a:pt x="7532" y="111"/>
                    </a:lnTo>
                    <a:lnTo>
                      <a:pt x="7570" y="111"/>
                    </a:lnTo>
                    <a:lnTo>
                      <a:pt x="7589" y="111"/>
                    </a:lnTo>
                    <a:lnTo>
                      <a:pt x="7627" y="92"/>
                    </a:lnTo>
                    <a:lnTo>
                      <a:pt x="7645" y="92"/>
                    </a:lnTo>
                    <a:lnTo>
                      <a:pt x="7683" y="92"/>
                    </a:lnTo>
                    <a:lnTo>
                      <a:pt x="7740" y="885"/>
                    </a:lnTo>
                    <a:lnTo>
                      <a:pt x="6607" y="1419"/>
                    </a:lnTo>
                    <a:lnTo>
                      <a:pt x="0" y="1419"/>
                    </a:lnTo>
                    <a:lnTo>
                      <a:pt x="38" y="1382"/>
                    </a:lnTo>
                    <a:lnTo>
                      <a:pt x="57" y="1346"/>
                    </a:lnTo>
                    <a:lnTo>
                      <a:pt x="95" y="1309"/>
                    </a:lnTo>
                    <a:lnTo>
                      <a:pt x="113" y="1272"/>
                    </a:lnTo>
                    <a:lnTo>
                      <a:pt x="151" y="1235"/>
                    </a:lnTo>
                    <a:lnTo>
                      <a:pt x="170" y="1198"/>
                    </a:lnTo>
                    <a:lnTo>
                      <a:pt x="208" y="1161"/>
                    </a:lnTo>
                    <a:lnTo>
                      <a:pt x="246" y="1124"/>
                    </a:lnTo>
                    <a:lnTo>
                      <a:pt x="265" y="1087"/>
                    </a:lnTo>
                    <a:lnTo>
                      <a:pt x="303" y="1050"/>
                    </a:lnTo>
                    <a:lnTo>
                      <a:pt x="321" y="1014"/>
                    </a:lnTo>
                    <a:lnTo>
                      <a:pt x="359" y="977"/>
                    </a:lnTo>
                    <a:lnTo>
                      <a:pt x="377" y="940"/>
                    </a:lnTo>
                    <a:lnTo>
                      <a:pt x="415" y="885"/>
                    </a:lnTo>
                    <a:lnTo>
                      <a:pt x="434" y="848"/>
                    </a:lnTo>
                    <a:lnTo>
                      <a:pt x="472" y="811"/>
                    </a:lnTo>
                    <a:lnTo>
                      <a:pt x="510" y="774"/>
                    </a:lnTo>
                    <a:lnTo>
                      <a:pt x="529" y="756"/>
                    </a:lnTo>
                    <a:lnTo>
                      <a:pt x="567" y="719"/>
                    </a:lnTo>
                    <a:lnTo>
                      <a:pt x="605" y="682"/>
                    </a:lnTo>
                    <a:lnTo>
                      <a:pt x="624" y="646"/>
                    </a:lnTo>
                    <a:lnTo>
                      <a:pt x="661" y="609"/>
                    </a:lnTo>
                    <a:lnTo>
                      <a:pt x="698" y="572"/>
                    </a:lnTo>
                    <a:lnTo>
                      <a:pt x="736" y="553"/>
                    </a:lnTo>
                    <a:lnTo>
                      <a:pt x="755" y="516"/>
                    </a:lnTo>
                    <a:lnTo>
                      <a:pt x="793" y="480"/>
                    </a:lnTo>
                    <a:lnTo>
                      <a:pt x="831" y="461"/>
                    </a:lnTo>
                    <a:lnTo>
                      <a:pt x="869" y="424"/>
                    </a:lnTo>
                    <a:lnTo>
                      <a:pt x="907" y="406"/>
                    </a:lnTo>
                    <a:lnTo>
                      <a:pt x="944" y="369"/>
                    </a:lnTo>
                    <a:lnTo>
                      <a:pt x="982" y="350"/>
                    </a:lnTo>
                    <a:lnTo>
                      <a:pt x="1020" y="314"/>
                    </a:lnTo>
                    <a:lnTo>
                      <a:pt x="1020" y="333"/>
                    </a:lnTo>
                    <a:lnTo>
                      <a:pt x="1038" y="350"/>
                    </a:lnTo>
                    <a:lnTo>
                      <a:pt x="1038" y="350"/>
                    </a:lnTo>
                    <a:lnTo>
                      <a:pt x="1057" y="369"/>
                    </a:lnTo>
                    <a:lnTo>
                      <a:pt x="1057" y="369"/>
                    </a:lnTo>
                    <a:lnTo>
                      <a:pt x="1076" y="387"/>
                    </a:lnTo>
                    <a:lnTo>
                      <a:pt x="1076" y="406"/>
                    </a:lnTo>
                    <a:lnTo>
                      <a:pt x="1076" y="424"/>
                    </a:lnTo>
                    <a:lnTo>
                      <a:pt x="1095" y="443"/>
                    </a:lnTo>
                    <a:lnTo>
                      <a:pt x="1095" y="443"/>
                    </a:lnTo>
                    <a:lnTo>
                      <a:pt x="1095" y="461"/>
                    </a:lnTo>
                    <a:lnTo>
                      <a:pt x="1114" y="480"/>
                    </a:lnTo>
                    <a:lnTo>
                      <a:pt x="1114" y="498"/>
                    </a:lnTo>
                    <a:lnTo>
                      <a:pt x="1114" y="516"/>
                    </a:lnTo>
                    <a:lnTo>
                      <a:pt x="1133" y="516"/>
                    </a:lnTo>
                    <a:lnTo>
                      <a:pt x="1133" y="535"/>
                    </a:lnTo>
                    <a:lnTo>
                      <a:pt x="1133" y="553"/>
                    </a:lnTo>
                    <a:lnTo>
                      <a:pt x="1133" y="572"/>
                    </a:lnTo>
                    <a:lnTo>
                      <a:pt x="1133" y="572"/>
                    </a:lnTo>
                    <a:lnTo>
                      <a:pt x="1133" y="590"/>
                    </a:lnTo>
                    <a:lnTo>
                      <a:pt x="1133" y="609"/>
                    </a:lnTo>
                    <a:lnTo>
                      <a:pt x="1133" y="627"/>
                    </a:lnTo>
                    <a:lnTo>
                      <a:pt x="1152" y="646"/>
                    </a:lnTo>
                    <a:lnTo>
                      <a:pt x="1152" y="664"/>
                    </a:lnTo>
                    <a:lnTo>
                      <a:pt x="2529" y="0"/>
                    </a:lnTo>
                    <a:lnTo>
                      <a:pt x="4228" y="0"/>
                    </a:lnTo>
                    <a:close/>
                    <a:moveTo>
                      <a:pt x="7268" y="1419"/>
                    </a:moveTo>
                    <a:lnTo>
                      <a:pt x="7325" y="1400"/>
                    </a:lnTo>
                    <a:lnTo>
                      <a:pt x="7381" y="1382"/>
                    </a:lnTo>
                    <a:lnTo>
                      <a:pt x="7437" y="1364"/>
                    </a:lnTo>
                    <a:lnTo>
                      <a:pt x="7494" y="1346"/>
                    </a:lnTo>
                    <a:lnTo>
                      <a:pt x="7551" y="1327"/>
                    </a:lnTo>
                    <a:lnTo>
                      <a:pt x="7589" y="1309"/>
                    </a:lnTo>
                    <a:lnTo>
                      <a:pt x="7645" y="1309"/>
                    </a:lnTo>
                    <a:lnTo>
                      <a:pt x="7702" y="1290"/>
                    </a:lnTo>
                    <a:lnTo>
                      <a:pt x="7758" y="1272"/>
                    </a:lnTo>
                    <a:lnTo>
                      <a:pt x="7815" y="1254"/>
                    </a:lnTo>
                    <a:lnTo>
                      <a:pt x="7872" y="1235"/>
                    </a:lnTo>
                    <a:lnTo>
                      <a:pt x="7928" y="1217"/>
                    </a:lnTo>
                    <a:lnTo>
                      <a:pt x="7985" y="1198"/>
                    </a:lnTo>
                    <a:lnTo>
                      <a:pt x="8042" y="1198"/>
                    </a:lnTo>
                    <a:lnTo>
                      <a:pt x="8099" y="1180"/>
                    </a:lnTo>
                    <a:lnTo>
                      <a:pt x="8155" y="1161"/>
                    </a:lnTo>
                    <a:lnTo>
                      <a:pt x="8211" y="1143"/>
                    </a:lnTo>
                    <a:lnTo>
                      <a:pt x="8268" y="1143"/>
                    </a:lnTo>
                    <a:lnTo>
                      <a:pt x="8325" y="1124"/>
                    </a:lnTo>
                    <a:lnTo>
                      <a:pt x="8363" y="1106"/>
                    </a:lnTo>
                    <a:lnTo>
                      <a:pt x="8420" y="1106"/>
                    </a:lnTo>
                    <a:lnTo>
                      <a:pt x="8475" y="1087"/>
                    </a:lnTo>
                    <a:lnTo>
                      <a:pt x="8532" y="1087"/>
                    </a:lnTo>
                    <a:lnTo>
                      <a:pt x="8589" y="1069"/>
                    </a:lnTo>
                    <a:lnTo>
                      <a:pt x="8646" y="1050"/>
                    </a:lnTo>
                    <a:lnTo>
                      <a:pt x="8703" y="1050"/>
                    </a:lnTo>
                    <a:lnTo>
                      <a:pt x="8759" y="1032"/>
                    </a:lnTo>
                    <a:lnTo>
                      <a:pt x="8815" y="1032"/>
                    </a:lnTo>
                    <a:lnTo>
                      <a:pt x="8872" y="1032"/>
                    </a:lnTo>
                    <a:lnTo>
                      <a:pt x="8929" y="1014"/>
                    </a:lnTo>
                    <a:lnTo>
                      <a:pt x="8985" y="1014"/>
                    </a:lnTo>
                    <a:lnTo>
                      <a:pt x="9023" y="1014"/>
                    </a:lnTo>
                    <a:lnTo>
                      <a:pt x="9042" y="1032"/>
                    </a:lnTo>
                    <a:lnTo>
                      <a:pt x="9042" y="1050"/>
                    </a:lnTo>
                    <a:lnTo>
                      <a:pt x="9061" y="1069"/>
                    </a:lnTo>
                    <a:lnTo>
                      <a:pt x="9061" y="1106"/>
                    </a:lnTo>
                    <a:lnTo>
                      <a:pt x="9061" y="1124"/>
                    </a:lnTo>
                    <a:lnTo>
                      <a:pt x="9061" y="1143"/>
                    </a:lnTo>
                    <a:lnTo>
                      <a:pt x="9080" y="1180"/>
                    </a:lnTo>
                    <a:lnTo>
                      <a:pt x="9080" y="1198"/>
                    </a:lnTo>
                    <a:lnTo>
                      <a:pt x="9080" y="1235"/>
                    </a:lnTo>
                    <a:lnTo>
                      <a:pt x="9080" y="1254"/>
                    </a:lnTo>
                    <a:lnTo>
                      <a:pt x="9061" y="1290"/>
                    </a:lnTo>
                    <a:lnTo>
                      <a:pt x="9061" y="1309"/>
                    </a:lnTo>
                    <a:lnTo>
                      <a:pt x="9061" y="1346"/>
                    </a:lnTo>
                    <a:lnTo>
                      <a:pt x="9061" y="1364"/>
                    </a:lnTo>
                    <a:lnTo>
                      <a:pt x="9061" y="1400"/>
                    </a:lnTo>
                    <a:lnTo>
                      <a:pt x="9061" y="1419"/>
                    </a:lnTo>
                    <a:lnTo>
                      <a:pt x="7268" y="1419"/>
                    </a:lnTo>
                    <a:close/>
                    <a:moveTo>
                      <a:pt x="9665" y="1419"/>
                    </a:moveTo>
                    <a:lnTo>
                      <a:pt x="10477" y="1309"/>
                    </a:lnTo>
                    <a:lnTo>
                      <a:pt x="10496" y="1309"/>
                    </a:lnTo>
                    <a:lnTo>
                      <a:pt x="10515" y="1327"/>
                    </a:lnTo>
                    <a:lnTo>
                      <a:pt x="10515" y="1327"/>
                    </a:lnTo>
                    <a:lnTo>
                      <a:pt x="10515" y="1346"/>
                    </a:lnTo>
                    <a:lnTo>
                      <a:pt x="10534" y="1364"/>
                    </a:lnTo>
                    <a:lnTo>
                      <a:pt x="10534" y="1382"/>
                    </a:lnTo>
                    <a:lnTo>
                      <a:pt x="10534" y="1400"/>
                    </a:lnTo>
                    <a:lnTo>
                      <a:pt x="10534" y="1419"/>
                    </a:lnTo>
                    <a:lnTo>
                      <a:pt x="9665" y="14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73" name="Freeform 5"/>
              <p:cNvSpPr/>
              <p:nvPr/>
            </p:nvSpPr>
            <p:spPr>
              <a:xfrm>
                <a:off x="3022560" y="1700280"/>
                <a:ext cx="2841840" cy="121680"/>
              </a:xfrm>
              <a:custGeom>
                <a:avLst/>
                <a:gdLst/>
                <a:ahLst/>
                <a:rect l="l" t="t" r="r" b="b"/>
                <a:pathLst>
                  <a:path w="12364" h="1418">
                    <a:moveTo>
                      <a:pt x="5437" y="0"/>
                    </a:moveTo>
                    <a:lnTo>
                      <a:pt x="4474" y="627"/>
                    </a:lnTo>
                    <a:lnTo>
                      <a:pt x="4512" y="608"/>
                    </a:lnTo>
                    <a:lnTo>
                      <a:pt x="4568" y="590"/>
                    </a:lnTo>
                    <a:lnTo>
                      <a:pt x="4606" y="590"/>
                    </a:lnTo>
                    <a:lnTo>
                      <a:pt x="4644" y="571"/>
                    </a:lnTo>
                    <a:lnTo>
                      <a:pt x="4701" y="553"/>
                    </a:lnTo>
                    <a:lnTo>
                      <a:pt x="4738" y="535"/>
                    </a:lnTo>
                    <a:lnTo>
                      <a:pt x="4795" y="516"/>
                    </a:lnTo>
                    <a:lnTo>
                      <a:pt x="4833" y="498"/>
                    </a:lnTo>
                    <a:lnTo>
                      <a:pt x="4889" y="479"/>
                    </a:lnTo>
                    <a:lnTo>
                      <a:pt x="4927" y="461"/>
                    </a:lnTo>
                    <a:lnTo>
                      <a:pt x="4984" y="442"/>
                    </a:lnTo>
                    <a:lnTo>
                      <a:pt x="5021" y="424"/>
                    </a:lnTo>
                    <a:lnTo>
                      <a:pt x="5078" y="405"/>
                    </a:lnTo>
                    <a:lnTo>
                      <a:pt x="5116" y="368"/>
                    </a:lnTo>
                    <a:lnTo>
                      <a:pt x="5173" y="350"/>
                    </a:lnTo>
                    <a:lnTo>
                      <a:pt x="5211" y="331"/>
                    </a:lnTo>
                    <a:lnTo>
                      <a:pt x="5266" y="313"/>
                    </a:lnTo>
                    <a:lnTo>
                      <a:pt x="5304" y="295"/>
                    </a:lnTo>
                    <a:lnTo>
                      <a:pt x="5361" y="277"/>
                    </a:lnTo>
                    <a:lnTo>
                      <a:pt x="5418" y="258"/>
                    </a:lnTo>
                    <a:lnTo>
                      <a:pt x="5456" y="221"/>
                    </a:lnTo>
                    <a:lnTo>
                      <a:pt x="5513" y="203"/>
                    </a:lnTo>
                    <a:lnTo>
                      <a:pt x="5550" y="184"/>
                    </a:lnTo>
                    <a:lnTo>
                      <a:pt x="5606" y="166"/>
                    </a:lnTo>
                    <a:lnTo>
                      <a:pt x="5644" y="148"/>
                    </a:lnTo>
                    <a:lnTo>
                      <a:pt x="5701" y="129"/>
                    </a:lnTo>
                    <a:lnTo>
                      <a:pt x="5758" y="92"/>
                    </a:lnTo>
                    <a:lnTo>
                      <a:pt x="5796" y="74"/>
                    </a:lnTo>
                    <a:lnTo>
                      <a:pt x="5852" y="55"/>
                    </a:lnTo>
                    <a:lnTo>
                      <a:pt x="5890" y="37"/>
                    </a:lnTo>
                    <a:lnTo>
                      <a:pt x="5947" y="18"/>
                    </a:lnTo>
                    <a:lnTo>
                      <a:pt x="6003" y="0"/>
                    </a:lnTo>
                    <a:lnTo>
                      <a:pt x="8042" y="0"/>
                    </a:lnTo>
                    <a:lnTo>
                      <a:pt x="8061" y="166"/>
                    </a:lnTo>
                    <a:lnTo>
                      <a:pt x="5418" y="1418"/>
                    </a:lnTo>
                    <a:lnTo>
                      <a:pt x="1057" y="1418"/>
                    </a:lnTo>
                    <a:lnTo>
                      <a:pt x="1416" y="1050"/>
                    </a:lnTo>
                    <a:lnTo>
                      <a:pt x="793" y="1418"/>
                    </a:lnTo>
                    <a:lnTo>
                      <a:pt x="76" y="1418"/>
                    </a:lnTo>
                    <a:lnTo>
                      <a:pt x="0" y="1050"/>
                    </a:lnTo>
                    <a:lnTo>
                      <a:pt x="38" y="1013"/>
                    </a:lnTo>
                    <a:lnTo>
                      <a:pt x="57" y="995"/>
                    </a:lnTo>
                    <a:lnTo>
                      <a:pt x="95" y="958"/>
                    </a:lnTo>
                    <a:lnTo>
                      <a:pt x="114" y="922"/>
                    </a:lnTo>
                    <a:lnTo>
                      <a:pt x="152" y="903"/>
                    </a:lnTo>
                    <a:lnTo>
                      <a:pt x="170" y="866"/>
                    </a:lnTo>
                    <a:lnTo>
                      <a:pt x="208" y="829"/>
                    </a:lnTo>
                    <a:lnTo>
                      <a:pt x="227" y="811"/>
                    </a:lnTo>
                    <a:lnTo>
                      <a:pt x="265" y="774"/>
                    </a:lnTo>
                    <a:lnTo>
                      <a:pt x="284" y="737"/>
                    </a:lnTo>
                    <a:lnTo>
                      <a:pt x="321" y="700"/>
                    </a:lnTo>
                    <a:lnTo>
                      <a:pt x="340" y="681"/>
                    </a:lnTo>
                    <a:lnTo>
                      <a:pt x="378" y="645"/>
                    </a:lnTo>
                    <a:lnTo>
                      <a:pt x="397" y="608"/>
                    </a:lnTo>
                    <a:lnTo>
                      <a:pt x="434" y="571"/>
                    </a:lnTo>
                    <a:lnTo>
                      <a:pt x="453" y="535"/>
                    </a:lnTo>
                    <a:lnTo>
                      <a:pt x="472" y="498"/>
                    </a:lnTo>
                    <a:lnTo>
                      <a:pt x="510" y="461"/>
                    </a:lnTo>
                    <a:lnTo>
                      <a:pt x="529" y="442"/>
                    </a:lnTo>
                    <a:lnTo>
                      <a:pt x="567" y="405"/>
                    </a:lnTo>
                    <a:lnTo>
                      <a:pt x="586" y="368"/>
                    </a:lnTo>
                    <a:lnTo>
                      <a:pt x="605" y="331"/>
                    </a:lnTo>
                    <a:lnTo>
                      <a:pt x="642" y="295"/>
                    </a:lnTo>
                    <a:lnTo>
                      <a:pt x="661" y="258"/>
                    </a:lnTo>
                    <a:lnTo>
                      <a:pt x="698" y="221"/>
                    </a:lnTo>
                    <a:lnTo>
                      <a:pt x="717" y="184"/>
                    </a:lnTo>
                    <a:lnTo>
                      <a:pt x="755" y="148"/>
                    </a:lnTo>
                    <a:lnTo>
                      <a:pt x="774" y="129"/>
                    </a:lnTo>
                    <a:lnTo>
                      <a:pt x="812" y="92"/>
                    </a:lnTo>
                    <a:lnTo>
                      <a:pt x="831" y="55"/>
                    </a:lnTo>
                    <a:lnTo>
                      <a:pt x="850" y="18"/>
                    </a:lnTo>
                    <a:lnTo>
                      <a:pt x="888" y="0"/>
                    </a:lnTo>
                    <a:lnTo>
                      <a:pt x="5437" y="0"/>
                    </a:lnTo>
                    <a:close/>
                    <a:moveTo>
                      <a:pt x="5532" y="1418"/>
                    </a:moveTo>
                    <a:lnTo>
                      <a:pt x="5644" y="1381"/>
                    </a:lnTo>
                    <a:lnTo>
                      <a:pt x="5777" y="1344"/>
                    </a:lnTo>
                    <a:lnTo>
                      <a:pt x="5890" y="1309"/>
                    </a:lnTo>
                    <a:lnTo>
                      <a:pt x="6003" y="1253"/>
                    </a:lnTo>
                    <a:lnTo>
                      <a:pt x="6116" y="1216"/>
                    </a:lnTo>
                    <a:lnTo>
                      <a:pt x="6230" y="1179"/>
                    </a:lnTo>
                    <a:lnTo>
                      <a:pt x="6361" y="1142"/>
                    </a:lnTo>
                    <a:lnTo>
                      <a:pt x="6475" y="1087"/>
                    </a:lnTo>
                    <a:lnTo>
                      <a:pt x="6589" y="1050"/>
                    </a:lnTo>
                    <a:lnTo>
                      <a:pt x="6720" y="1013"/>
                    </a:lnTo>
                    <a:lnTo>
                      <a:pt x="6834" y="958"/>
                    </a:lnTo>
                    <a:lnTo>
                      <a:pt x="6947" y="922"/>
                    </a:lnTo>
                    <a:lnTo>
                      <a:pt x="7079" y="885"/>
                    </a:lnTo>
                    <a:lnTo>
                      <a:pt x="7192" y="829"/>
                    </a:lnTo>
                    <a:lnTo>
                      <a:pt x="7306" y="792"/>
                    </a:lnTo>
                    <a:lnTo>
                      <a:pt x="7437" y="755"/>
                    </a:lnTo>
                    <a:lnTo>
                      <a:pt x="7551" y="718"/>
                    </a:lnTo>
                    <a:lnTo>
                      <a:pt x="7684" y="681"/>
                    </a:lnTo>
                    <a:lnTo>
                      <a:pt x="7796" y="627"/>
                    </a:lnTo>
                    <a:lnTo>
                      <a:pt x="7910" y="590"/>
                    </a:lnTo>
                    <a:lnTo>
                      <a:pt x="8042" y="571"/>
                    </a:lnTo>
                    <a:lnTo>
                      <a:pt x="8155" y="535"/>
                    </a:lnTo>
                    <a:lnTo>
                      <a:pt x="8268" y="498"/>
                    </a:lnTo>
                    <a:lnTo>
                      <a:pt x="8401" y="461"/>
                    </a:lnTo>
                    <a:lnTo>
                      <a:pt x="8513" y="442"/>
                    </a:lnTo>
                    <a:lnTo>
                      <a:pt x="8646" y="405"/>
                    </a:lnTo>
                    <a:lnTo>
                      <a:pt x="8760" y="387"/>
                    </a:lnTo>
                    <a:lnTo>
                      <a:pt x="8872" y="350"/>
                    </a:lnTo>
                    <a:lnTo>
                      <a:pt x="9005" y="331"/>
                    </a:lnTo>
                    <a:lnTo>
                      <a:pt x="9118" y="313"/>
                    </a:lnTo>
                    <a:lnTo>
                      <a:pt x="9231" y="295"/>
                    </a:lnTo>
                    <a:lnTo>
                      <a:pt x="9344" y="295"/>
                    </a:lnTo>
                    <a:lnTo>
                      <a:pt x="9363" y="313"/>
                    </a:lnTo>
                    <a:lnTo>
                      <a:pt x="9382" y="331"/>
                    </a:lnTo>
                    <a:lnTo>
                      <a:pt x="9382" y="368"/>
                    </a:lnTo>
                    <a:lnTo>
                      <a:pt x="9382" y="405"/>
                    </a:lnTo>
                    <a:lnTo>
                      <a:pt x="9382" y="424"/>
                    </a:lnTo>
                    <a:lnTo>
                      <a:pt x="9382" y="461"/>
                    </a:lnTo>
                    <a:lnTo>
                      <a:pt x="9401" y="498"/>
                    </a:lnTo>
                    <a:lnTo>
                      <a:pt x="9401" y="516"/>
                    </a:lnTo>
                    <a:lnTo>
                      <a:pt x="9382" y="553"/>
                    </a:lnTo>
                    <a:lnTo>
                      <a:pt x="9382" y="590"/>
                    </a:lnTo>
                    <a:lnTo>
                      <a:pt x="9382" y="627"/>
                    </a:lnTo>
                    <a:lnTo>
                      <a:pt x="9382" y="663"/>
                    </a:lnTo>
                    <a:lnTo>
                      <a:pt x="9382" y="681"/>
                    </a:lnTo>
                    <a:lnTo>
                      <a:pt x="9382" y="718"/>
                    </a:lnTo>
                    <a:lnTo>
                      <a:pt x="9401" y="755"/>
                    </a:lnTo>
                    <a:lnTo>
                      <a:pt x="9401" y="792"/>
                    </a:lnTo>
                    <a:lnTo>
                      <a:pt x="10798" y="590"/>
                    </a:lnTo>
                    <a:lnTo>
                      <a:pt x="10817" y="590"/>
                    </a:lnTo>
                    <a:lnTo>
                      <a:pt x="10836" y="608"/>
                    </a:lnTo>
                    <a:lnTo>
                      <a:pt x="10836" y="627"/>
                    </a:lnTo>
                    <a:lnTo>
                      <a:pt x="10855" y="645"/>
                    </a:lnTo>
                    <a:lnTo>
                      <a:pt x="10855" y="663"/>
                    </a:lnTo>
                    <a:lnTo>
                      <a:pt x="10855" y="681"/>
                    </a:lnTo>
                    <a:lnTo>
                      <a:pt x="10855" y="700"/>
                    </a:lnTo>
                    <a:lnTo>
                      <a:pt x="10836" y="737"/>
                    </a:lnTo>
                    <a:lnTo>
                      <a:pt x="10836" y="755"/>
                    </a:lnTo>
                    <a:lnTo>
                      <a:pt x="10836" y="792"/>
                    </a:lnTo>
                    <a:lnTo>
                      <a:pt x="10836" y="811"/>
                    </a:lnTo>
                    <a:lnTo>
                      <a:pt x="10836" y="848"/>
                    </a:lnTo>
                    <a:lnTo>
                      <a:pt x="10836" y="866"/>
                    </a:lnTo>
                    <a:lnTo>
                      <a:pt x="10836" y="885"/>
                    </a:lnTo>
                    <a:lnTo>
                      <a:pt x="10836" y="922"/>
                    </a:lnTo>
                    <a:lnTo>
                      <a:pt x="10836" y="940"/>
                    </a:lnTo>
                    <a:lnTo>
                      <a:pt x="10874" y="958"/>
                    </a:lnTo>
                    <a:lnTo>
                      <a:pt x="10929" y="977"/>
                    </a:lnTo>
                    <a:lnTo>
                      <a:pt x="10967" y="995"/>
                    </a:lnTo>
                    <a:lnTo>
                      <a:pt x="11005" y="1013"/>
                    </a:lnTo>
                    <a:lnTo>
                      <a:pt x="11043" y="1013"/>
                    </a:lnTo>
                    <a:lnTo>
                      <a:pt x="11100" y="1013"/>
                    </a:lnTo>
                    <a:lnTo>
                      <a:pt x="11138" y="1031"/>
                    </a:lnTo>
                    <a:lnTo>
                      <a:pt x="11194" y="1031"/>
                    </a:lnTo>
                    <a:lnTo>
                      <a:pt x="11232" y="1031"/>
                    </a:lnTo>
                    <a:lnTo>
                      <a:pt x="11288" y="1031"/>
                    </a:lnTo>
                    <a:lnTo>
                      <a:pt x="11326" y="1013"/>
                    </a:lnTo>
                    <a:lnTo>
                      <a:pt x="11383" y="1013"/>
                    </a:lnTo>
                    <a:lnTo>
                      <a:pt x="11421" y="1013"/>
                    </a:lnTo>
                    <a:lnTo>
                      <a:pt x="11477" y="995"/>
                    </a:lnTo>
                    <a:lnTo>
                      <a:pt x="11534" y="995"/>
                    </a:lnTo>
                    <a:lnTo>
                      <a:pt x="11572" y="977"/>
                    </a:lnTo>
                    <a:lnTo>
                      <a:pt x="11628" y="977"/>
                    </a:lnTo>
                    <a:lnTo>
                      <a:pt x="11666" y="958"/>
                    </a:lnTo>
                    <a:lnTo>
                      <a:pt x="11722" y="958"/>
                    </a:lnTo>
                    <a:lnTo>
                      <a:pt x="11779" y="940"/>
                    </a:lnTo>
                    <a:lnTo>
                      <a:pt x="11817" y="940"/>
                    </a:lnTo>
                    <a:lnTo>
                      <a:pt x="11874" y="940"/>
                    </a:lnTo>
                    <a:lnTo>
                      <a:pt x="11931" y="922"/>
                    </a:lnTo>
                    <a:lnTo>
                      <a:pt x="11968" y="922"/>
                    </a:lnTo>
                    <a:lnTo>
                      <a:pt x="12024" y="903"/>
                    </a:lnTo>
                    <a:lnTo>
                      <a:pt x="12081" y="903"/>
                    </a:lnTo>
                    <a:lnTo>
                      <a:pt x="12119" y="903"/>
                    </a:lnTo>
                    <a:lnTo>
                      <a:pt x="12176" y="903"/>
                    </a:lnTo>
                    <a:lnTo>
                      <a:pt x="12214" y="903"/>
                    </a:lnTo>
                    <a:lnTo>
                      <a:pt x="12270" y="903"/>
                    </a:lnTo>
                    <a:lnTo>
                      <a:pt x="12308" y="922"/>
                    </a:lnTo>
                    <a:lnTo>
                      <a:pt x="12364" y="922"/>
                    </a:lnTo>
                    <a:lnTo>
                      <a:pt x="12345" y="1418"/>
                    </a:lnTo>
                    <a:lnTo>
                      <a:pt x="5532" y="14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74" name="Freeform 6"/>
              <p:cNvSpPr/>
              <p:nvPr/>
            </p:nvSpPr>
            <p:spPr>
              <a:xfrm>
                <a:off x="3022560" y="1760040"/>
                <a:ext cx="2910600" cy="122040"/>
              </a:xfrm>
              <a:custGeom>
                <a:avLst/>
                <a:gdLst/>
                <a:ahLst/>
                <a:rect l="l" t="t" r="r" b="b"/>
                <a:pathLst>
                  <a:path w="12667" h="1418">
                    <a:moveTo>
                      <a:pt x="6928" y="0"/>
                    </a:moveTo>
                    <a:lnTo>
                      <a:pt x="5230" y="811"/>
                    </a:lnTo>
                    <a:lnTo>
                      <a:pt x="5304" y="774"/>
                    </a:lnTo>
                    <a:lnTo>
                      <a:pt x="5380" y="755"/>
                    </a:lnTo>
                    <a:lnTo>
                      <a:pt x="5437" y="737"/>
                    </a:lnTo>
                    <a:lnTo>
                      <a:pt x="5513" y="718"/>
                    </a:lnTo>
                    <a:lnTo>
                      <a:pt x="5588" y="700"/>
                    </a:lnTo>
                    <a:lnTo>
                      <a:pt x="5663" y="681"/>
                    </a:lnTo>
                    <a:lnTo>
                      <a:pt x="5739" y="644"/>
                    </a:lnTo>
                    <a:lnTo>
                      <a:pt x="5814" y="627"/>
                    </a:lnTo>
                    <a:lnTo>
                      <a:pt x="5890" y="609"/>
                    </a:lnTo>
                    <a:lnTo>
                      <a:pt x="5947" y="572"/>
                    </a:lnTo>
                    <a:lnTo>
                      <a:pt x="6022" y="553"/>
                    </a:lnTo>
                    <a:lnTo>
                      <a:pt x="6097" y="535"/>
                    </a:lnTo>
                    <a:lnTo>
                      <a:pt x="6173" y="498"/>
                    </a:lnTo>
                    <a:lnTo>
                      <a:pt x="6249" y="479"/>
                    </a:lnTo>
                    <a:lnTo>
                      <a:pt x="6324" y="442"/>
                    </a:lnTo>
                    <a:lnTo>
                      <a:pt x="6399" y="424"/>
                    </a:lnTo>
                    <a:lnTo>
                      <a:pt x="6475" y="387"/>
                    </a:lnTo>
                    <a:lnTo>
                      <a:pt x="6551" y="368"/>
                    </a:lnTo>
                    <a:lnTo>
                      <a:pt x="6626" y="350"/>
                    </a:lnTo>
                    <a:lnTo>
                      <a:pt x="6701" y="313"/>
                    </a:lnTo>
                    <a:lnTo>
                      <a:pt x="6758" y="295"/>
                    </a:lnTo>
                    <a:lnTo>
                      <a:pt x="6834" y="258"/>
                    </a:lnTo>
                    <a:lnTo>
                      <a:pt x="6909" y="240"/>
                    </a:lnTo>
                    <a:lnTo>
                      <a:pt x="6985" y="203"/>
                    </a:lnTo>
                    <a:lnTo>
                      <a:pt x="7060" y="185"/>
                    </a:lnTo>
                    <a:lnTo>
                      <a:pt x="7136" y="148"/>
                    </a:lnTo>
                    <a:lnTo>
                      <a:pt x="7211" y="129"/>
                    </a:lnTo>
                    <a:lnTo>
                      <a:pt x="7287" y="111"/>
                    </a:lnTo>
                    <a:lnTo>
                      <a:pt x="7362" y="74"/>
                    </a:lnTo>
                    <a:lnTo>
                      <a:pt x="7437" y="55"/>
                    </a:lnTo>
                    <a:lnTo>
                      <a:pt x="7513" y="18"/>
                    </a:lnTo>
                    <a:lnTo>
                      <a:pt x="7589" y="0"/>
                    </a:lnTo>
                    <a:lnTo>
                      <a:pt x="9382" y="0"/>
                    </a:lnTo>
                    <a:lnTo>
                      <a:pt x="9382" y="18"/>
                    </a:lnTo>
                    <a:lnTo>
                      <a:pt x="9401" y="18"/>
                    </a:lnTo>
                    <a:lnTo>
                      <a:pt x="9401" y="37"/>
                    </a:lnTo>
                    <a:lnTo>
                      <a:pt x="9401" y="37"/>
                    </a:lnTo>
                    <a:lnTo>
                      <a:pt x="9401" y="55"/>
                    </a:lnTo>
                    <a:lnTo>
                      <a:pt x="9401" y="74"/>
                    </a:lnTo>
                    <a:lnTo>
                      <a:pt x="9401" y="74"/>
                    </a:lnTo>
                    <a:lnTo>
                      <a:pt x="9401" y="92"/>
                    </a:lnTo>
                    <a:lnTo>
                      <a:pt x="9986" y="0"/>
                    </a:lnTo>
                    <a:lnTo>
                      <a:pt x="10855" y="0"/>
                    </a:lnTo>
                    <a:lnTo>
                      <a:pt x="10855" y="18"/>
                    </a:lnTo>
                    <a:lnTo>
                      <a:pt x="10855" y="37"/>
                    </a:lnTo>
                    <a:lnTo>
                      <a:pt x="10836" y="55"/>
                    </a:lnTo>
                    <a:lnTo>
                      <a:pt x="10836" y="55"/>
                    </a:lnTo>
                    <a:lnTo>
                      <a:pt x="10836" y="74"/>
                    </a:lnTo>
                    <a:lnTo>
                      <a:pt x="10836" y="92"/>
                    </a:lnTo>
                    <a:lnTo>
                      <a:pt x="10836" y="111"/>
                    </a:lnTo>
                    <a:lnTo>
                      <a:pt x="10836" y="129"/>
                    </a:lnTo>
                    <a:lnTo>
                      <a:pt x="10836" y="148"/>
                    </a:lnTo>
                    <a:lnTo>
                      <a:pt x="10836" y="148"/>
                    </a:lnTo>
                    <a:lnTo>
                      <a:pt x="10836" y="166"/>
                    </a:lnTo>
                    <a:lnTo>
                      <a:pt x="10836" y="185"/>
                    </a:lnTo>
                    <a:lnTo>
                      <a:pt x="10836" y="203"/>
                    </a:lnTo>
                    <a:lnTo>
                      <a:pt x="10836" y="222"/>
                    </a:lnTo>
                    <a:lnTo>
                      <a:pt x="10836" y="222"/>
                    </a:lnTo>
                    <a:lnTo>
                      <a:pt x="10836" y="240"/>
                    </a:lnTo>
                    <a:lnTo>
                      <a:pt x="10874" y="258"/>
                    </a:lnTo>
                    <a:lnTo>
                      <a:pt x="10929" y="277"/>
                    </a:lnTo>
                    <a:lnTo>
                      <a:pt x="10967" y="295"/>
                    </a:lnTo>
                    <a:lnTo>
                      <a:pt x="11005" y="313"/>
                    </a:lnTo>
                    <a:lnTo>
                      <a:pt x="11043" y="313"/>
                    </a:lnTo>
                    <a:lnTo>
                      <a:pt x="11100" y="313"/>
                    </a:lnTo>
                    <a:lnTo>
                      <a:pt x="11138" y="331"/>
                    </a:lnTo>
                    <a:lnTo>
                      <a:pt x="11194" y="331"/>
                    </a:lnTo>
                    <a:lnTo>
                      <a:pt x="11232" y="331"/>
                    </a:lnTo>
                    <a:lnTo>
                      <a:pt x="11288" y="331"/>
                    </a:lnTo>
                    <a:lnTo>
                      <a:pt x="11326" y="313"/>
                    </a:lnTo>
                    <a:lnTo>
                      <a:pt x="11383" y="313"/>
                    </a:lnTo>
                    <a:lnTo>
                      <a:pt x="11421" y="313"/>
                    </a:lnTo>
                    <a:lnTo>
                      <a:pt x="11477" y="295"/>
                    </a:lnTo>
                    <a:lnTo>
                      <a:pt x="11534" y="295"/>
                    </a:lnTo>
                    <a:lnTo>
                      <a:pt x="11572" y="277"/>
                    </a:lnTo>
                    <a:lnTo>
                      <a:pt x="11628" y="277"/>
                    </a:lnTo>
                    <a:lnTo>
                      <a:pt x="11666" y="258"/>
                    </a:lnTo>
                    <a:lnTo>
                      <a:pt x="11722" y="258"/>
                    </a:lnTo>
                    <a:lnTo>
                      <a:pt x="11779" y="240"/>
                    </a:lnTo>
                    <a:lnTo>
                      <a:pt x="11817" y="240"/>
                    </a:lnTo>
                    <a:lnTo>
                      <a:pt x="11874" y="240"/>
                    </a:lnTo>
                    <a:lnTo>
                      <a:pt x="11931" y="222"/>
                    </a:lnTo>
                    <a:lnTo>
                      <a:pt x="11968" y="222"/>
                    </a:lnTo>
                    <a:lnTo>
                      <a:pt x="12024" y="203"/>
                    </a:lnTo>
                    <a:lnTo>
                      <a:pt x="12081" y="203"/>
                    </a:lnTo>
                    <a:lnTo>
                      <a:pt x="12119" y="203"/>
                    </a:lnTo>
                    <a:lnTo>
                      <a:pt x="12176" y="203"/>
                    </a:lnTo>
                    <a:lnTo>
                      <a:pt x="12214" y="203"/>
                    </a:lnTo>
                    <a:lnTo>
                      <a:pt x="12270" y="203"/>
                    </a:lnTo>
                    <a:lnTo>
                      <a:pt x="12308" y="222"/>
                    </a:lnTo>
                    <a:lnTo>
                      <a:pt x="12364" y="222"/>
                    </a:lnTo>
                    <a:lnTo>
                      <a:pt x="12345" y="959"/>
                    </a:lnTo>
                    <a:lnTo>
                      <a:pt x="12308" y="995"/>
                    </a:lnTo>
                    <a:lnTo>
                      <a:pt x="12289" y="1013"/>
                    </a:lnTo>
                    <a:lnTo>
                      <a:pt x="12270" y="1050"/>
                    </a:lnTo>
                    <a:lnTo>
                      <a:pt x="12233" y="1068"/>
                    </a:lnTo>
                    <a:lnTo>
                      <a:pt x="12195" y="1087"/>
                    </a:lnTo>
                    <a:lnTo>
                      <a:pt x="12176" y="1105"/>
                    </a:lnTo>
                    <a:lnTo>
                      <a:pt x="12138" y="1124"/>
                    </a:lnTo>
                    <a:lnTo>
                      <a:pt x="12100" y="1142"/>
                    </a:lnTo>
                    <a:lnTo>
                      <a:pt x="12062" y="1142"/>
                    </a:lnTo>
                    <a:lnTo>
                      <a:pt x="12043" y="1161"/>
                    </a:lnTo>
                    <a:lnTo>
                      <a:pt x="12005" y="1161"/>
                    </a:lnTo>
                    <a:lnTo>
                      <a:pt x="11968" y="1179"/>
                    </a:lnTo>
                    <a:lnTo>
                      <a:pt x="11931" y="1179"/>
                    </a:lnTo>
                    <a:lnTo>
                      <a:pt x="11893" y="1179"/>
                    </a:lnTo>
                    <a:lnTo>
                      <a:pt x="11855" y="1198"/>
                    </a:lnTo>
                    <a:lnTo>
                      <a:pt x="11817" y="1198"/>
                    </a:lnTo>
                    <a:lnTo>
                      <a:pt x="11760" y="1198"/>
                    </a:lnTo>
                    <a:lnTo>
                      <a:pt x="11722" y="1198"/>
                    </a:lnTo>
                    <a:lnTo>
                      <a:pt x="11685" y="1198"/>
                    </a:lnTo>
                    <a:lnTo>
                      <a:pt x="11647" y="1198"/>
                    </a:lnTo>
                    <a:lnTo>
                      <a:pt x="11609" y="1198"/>
                    </a:lnTo>
                    <a:lnTo>
                      <a:pt x="11572" y="1198"/>
                    </a:lnTo>
                    <a:lnTo>
                      <a:pt x="11534" y="1198"/>
                    </a:lnTo>
                    <a:lnTo>
                      <a:pt x="11496" y="1216"/>
                    </a:lnTo>
                    <a:lnTo>
                      <a:pt x="11458" y="1216"/>
                    </a:lnTo>
                    <a:lnTo>
                      <a:pt x="11421" y="1216"/>
                    </a:lnTo>
                    <a:lnTo>
                      <a:pt x="11364" y="1216"/>
                    </a:lnTo>
                    <a:lnTo>
                      <a:pt x="11326" y="1216"/>
                    </a:lnTo>
                    <a:lnTo>
                      <a:pt x="11288" y="1235"/>
                    </a:lnTo>
                    <a:lnTo>
                      <a:pt x="11269" y="1235"/>
                    </a:lnTo>
                    <a:lnTo>
                      <a:pt x="11232" y="1253"/>
                    </a:lnTo>
                    <a:lnTo>
                      <a:pt x="11194" y="1272"/>
                    </a:lnTo>
                    <a:lnTo>
                      <a:pt x="11176" y="1272"/>
                    </a:lnTo>
                    <a:lnTo>
                      <a:pt x="11157" y="1272"/>
                    </a:lnTo>
                    <a:lnTo>
                      <a:pt x="11157" y="1290"/>
                    </a:lnTo>
                    <a:lnTo>
                      <a:pt x="11138" y="1290"/>
                    </a:lnTo>
                    <a:lnTo>
                      <a:pt x="11138" y="1309"/>
                    </a:lnTo>
                    <a:lnTo>
                      <a:pt x="11138" y="1327"/>
                    </a:lnTo>
                    <a:lnTo>
                      <a:pt x="11138" y="1345"/>
                    </a:lnTo>
                    <a:lnTo>
                      <a:pt x="11138" y="1363"/>
                    </a:lnTo>
                    <a:lnTo>
                      <a:pt x="12591" y="1290"/>
                    </a:lnTo>
                    <a:lnTo>
                      <a:pt x="12610" y="1309"/>
                    </a:lnTo>
                    <a:lnTo>
                      <a:pt x="12629" y="1309"/>
                    </a:lnTo>
                    <a:lnTo>
                      <a:pt x="12629" y="1327"/>
                    </a:lnTo>
                    <a:lnTo>
                      <a:pt x="12648" y="1345"/>
                    </a:lnTo>
                    <a:lnTo>
                      <a:pt x="12648" y="1363"/>
                    </a:lnTo>
                    <a:lnTo>
                      <a:pt x="12648" y="1382"/>
                    </a:lnTo>
                    <a:lnTo>
                      <a:pt x="12648" y="1400"/>
                    </a:lnTo>
                    <a:lnTo>
                      <a:pt x="12667" y="1418"/>
                    </a:lnTo>
                    <a:lnTo>
                      <a:pt x="378" y="1418"/>
                    </a:lnTo>
                    <a:lnTo>
                      <a:pt x="1416" y="350"/>
                    </a:lnTo>
                    <a:lnTo>
                      <a:pt x="189" y="1087"/>
                    </a:lnTo>
                    <a:lnTo>
                      <a:pt x="189" y="1068"/>
                    </a:lnTo>
                    <a:lnTo>
                      <a:pt x="170" y="1068"/>
                    </a:lnTo>
                    <a:lnTo>
                      <a:pt x="170" y="1050"/>
                    </a:lnTo>
                    <a:lnTo>
                      <a:pt x="152" y="1050"/>
                    </a:lnTo>
                    <a:lnTo>
                      <a:pt x="152" y="1031"/>
                    </a:lnTo>
                    <a:lnTo>
                      <a:pt x="152" y="1031"/>
                    </a:lnTo>
                    <a:lnTo>
                      <a:pt x="133" y="1013"/>
                    </a:lnTo>
                    <a:lnTo>
                      <a:pt x="133" y="1013"/>
                    </a:lnTo>
                    <a:lnTo>
                      <a:pt x="0" y="350"/>
                    </a:lnTo>
                    <a:lnTo>
                      <a:pt x="19" y="313"/>
                    </a:lnTo>
                    <a:lnTo>
                      <a:pt x="38" y="295"/>
                    </a:lnTo>
                    <a:lnTo>
                      <a:pt x="57" y="277"/>
                    </a:lnTo>
                    <a:lnTo>
                      <a:pt x="76" y="258"/>
                    </a:lnTo>
                    <a:lnTo>
                      <a:pt x="114" y="240"/>
                    </a:lnTo>
                    <a:lnTo>
                      <a:pt x="133" y="222"/>
                    </a:lnTo>
                    <a:lnTo>
                      <a:pt x="152" y="203"/>
                    </a:lnTo>
                    <a:lnTo>
                      <a:pt x="170" y="185"/>
                    </a:lnTo>
                    <a:lnTo>
                      <a:pt x="189" y="166"/>
                    </a:lnTo>
                    <a:lnTo>
                      <a:pt x="208" y="129"/>
                    </a:lnTo>
                    <a:lnTo>
                      <a:pt x="227" y="111"/>
                    </a:lnTo>
                    <a:lnTo>
                      <a:pt x="246" y="92"/>
                    </a:lnTo>
                    <a:lnTo>
                      <a:pt x="265" y="74"/>
                    </a:lnTo>
                    <a:lnTo>
                      <a:pt x="284" y="55"/>
                    </a:lnTo>
                    <a:lnTo>
                      <a:pt x="302" y="18"/>
                    </a:lnTo>
                    <a:lnTo>
                      <a:pt x="321" y="0"/>
                    </a:lnTo>
                    <a:lnTo>
                      <a:pt x="692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75" name="Freeform 7"/>
              <p:cNvSpPr/>
              <p:nvPr/>
            </p:nvSpPr>
            <p:spPr>
              <a:xfrm>
                <a:off x="2981880" y="1821960"/>
                <a:ext cx="2951280" cy="123840"/>
              </a:xfrm>
              <a:custGeom>
                <a:avLst/>
                <a:gdLst/>
                <a:ahLst/>
                <a:rect l="l" t="t" r="r" b="b"/>
                <a:pathLst>
                  <a:path w="12836" h="1419">
                    <a:moveTo>
                      <a:pt x="5587" y="0"/>
                    </a:moveTo>
                    <a:lnTo>
                      <a:pt x="5399" y="93"/>
                    </a:lnTo>
                    <a:lnTo>
                      <a:pt x="5417" y="74"/>
                    </a:lnTo>
                    <a:lnTo>
                      <a:pt x="5435" y="74"/>
                    </a:lnTo>
                    <a:lnTo>
                      <a:pt x="5454" y="74"/>
                    </a:lnTo>
                    <a:lnTo>
                      <a:pt x="5473" y="56"/>
                    </a:lnTo>
                    <a:lnTo>
                      <a:pt x="5492" y="56"/>
                    </a:lnTo>
                    <a:lnTo>
                      <a:pt x="5511" y="56"/>
                    </a:lnTo>
                    <a:lnTo>
                      <a:pt x="5530" y="56"/>
                    </a:lnTo>
                    <a:lnTo>
                      <a:pt x="5549" y="37"/>
                    </a:lnTo>
                    <a:lnTo>
                      <a:pt x="5568" y="37"/>
                    </a:lnTo>
                    <a:lnTo>
                      <a:pt x="5587" y="37"/>
                    </a:lnTo>
                    <a:lnTo>
                      <a:pt x="5606" y="19"/>
                    </a:lnTo>
                    <a:lnTo>
                      <a:pt x="5625" y="19"/>
                    </a:lnTo>
                    <a:lnTo>
                      <a:pt x="5644" y="19"/>
                    </a:lnTo>
                    <a:lnTo>
                      <a:pt x="5663" y="0"/>
                    </a:lnTo>
                    <a:lnTo>
                      <a:pt x="5682" y="0"/>
                    </a:lnTo>
                    <a:lnTo>
                      <a:pt x="5701" y="0"/>
                    </a:lnTo>
                    <a:lnTo>
                      <a:pt x="12514" y="0"/>
                    </a:lnTo>
                    <a:lnTo>
                      <a:pt x="12514" y="241"/>
                    </a:lnTo>
                    <a:lnTo>
                      <a:pt x="12477" y="277"/>
                    </a:lnTo>
                    <a:lnTo>
                      <a:pt x="12458" y="295"/>
                    </a:lnTo>
                    <a:lnTo>
                      <a:pt x="12439" y="332"/>
                    </a:lnTo>
                    <a:lnTo>
                      <a:pt x="12402" y="350"/>
                    </a:lnTo>
                    <a:lnTo>
                      <a:pt x="12364" y="369"/>
                    </a:lnTo>
                    <a:lnTo>
                      <a:pt x="12345" y="387"/>
                    </a:lnTo>
                    <a:lnTo>
                      <a:pt x="12307" y="406"/>
                    </a:lnTo>
                    <a:lnTo>
                      <a:pt x="12269" y="424"/>
                    </a:lnTo>
                    <a:lnTo>
                      <a:pt x="12231" y="424"/>
                    </a:lnTo>
                    <a:lnTo>
                      <a:pt x="12212" y="443"/>
                    </a:lnTo>
                    <a:lnTo>
                      <a:pt x="12174" y="443"/>
                    </a:lnTo>
                    <a:lnTo>
                      <a:pt x="12137" y="461"/>
                    </a:lnTo>
                    <a:lnTo>
                      <a:pt x="12100" y="461"/>
                    </a:lnTo>
                    <a:lnTo>
                      <a:pt x="12062" y="461"/>
                    </a:lnTo>
                    <a:lnTo>
                      <a:pt x="12024" y="480"/>
                    </a:lnTo>
                    <a:lnTo>
                      <a:pt x="11986" y="480"/>
                    </a:lnTo>
                    <a:lnTo>
                      <a:pt x="11929" y="480"/>
                    </a:lnTo>
                    <a:lnTo>
                      <a:pt x="11891" y="480"/>
                    </a:lnTo>
                    <a:lnTo>
                      <a:pt x="11854" y="480"/>
                    </a:lnTo>
                    <a:lnTo>
                      <a:pt x="11816" y="480"/>
                    </a:lnTo>
                    <a:lnTo>
                      <a:pt x="11778" y="480"/>
                    </a:lnTo>
                    <a:lnTo>
                      <a:pt x="11741" y="480"/>
                    </a:lnTo>
                    <a:lnTo>
                      <a:pt x="11703" y="480"/>
                    </a:lnTo>
                    <a:lnTo>
                      <a:pt x="11665" y="498"/>
                    </a:lnTo>
                    <a:lnTo>
                      <a:pt x="11627" y="498"/>
                    </a:lnTo>
                    <a:lnTo>
                      <a:pt x="11590" y="498"/>
                    </a:lnTo>
                    <a:lnTo>
                      <a:pt x="11533" y="498"/>
                    </a:lnTo>
                    <a:lnTo>
                      <a:pt x="11495" y="498"/>
                    </a:lnTo>
                    <a:lnTo>
                      <a:pt x="11457" y="517"/>
                    </a:lnTo>
                    <a:lnTo>
                      <a:pt x="11438" y="517"/>
                    </a:lnTo>
                    <a:lnTo>
                      <a:pt x="11401" y="535"/>
                    </a:lnTo>
                    <a:lnTo>
                      <a:pt x="11363" y="554"/>
                    </a:lnTo>
                    <a:lnTo>
                      <a:pt x="11345" y="554"/>
                    </a:lnTo>
                    <a:lnTo>
                      <a:pt x="11326" y="554"/>
                    </a:lnTo>
                    <a:lnTo>
                      <a:pt x="11326" y="572"/>
                    </a:lnTo>
                    <a:lnTo>
                      <a:pt x="11307" y="572"/>
                    </a:lnTo>
                    <a:lnTo>
                      <a:pt x="11307" y="591"/>
                    </a:lnTo>
                    <a:lnTo>
                      <a:pt x="11307" y="609"/>
                    </a:lnTo>
                    <a:lnTo>
                      <a:pt x="11307" y="627"/>
                    </a:lnTo>
                    <a:lnTo>
                      <a:pt x="11307" y="645"/>
                    </a:lnTo>
                    <a:lnTo>
                      <a:pt x="12760" y="572"/>
                    </a:lnTo>
                    <a:lnTo>
                      <a:pt x="12779" y="591"/>
                    </a:lnTo>
                    <a:lnTo>
                      <a:pt x="12798" y="609"/>
                    </a:lnTo>
                    <a:lnTo>
                      <a:pt x="12798" y="627"/>
                    </a:lnTo>
                    <a:lnTo>
                      <a:pt x="12817" y="645"/>
                    </a:lnTo>
                    <a:lnTo>
                      <a:pt x="12817" y="664"/>
                    </a:lnTo>
                    <a:lnTo>
                      <a:pt x="12817" y="682"/>
                    </a:lnTo>
                    <a:lnTo>
                      <a:pt x="12836" y="719"/>
                    </a:lnTo>
                    <a:lnTo>
                      <a:pt x="12836" y="737"/>
                    </a:lnTo>
                    <a:lnTo>
                      <a:pt x="12836" y="756"/>
                    </a:lnTo>
                    <a:lnTo>
                      <a:pt x="12836" y="793"/>
                    </a:lnTo>
                    <a:lnTo>
                      <a:pt x="12836" y="811"/>
                    </a:lnTo>
                    <a:lnTo>
                      <a:pt x="12836" y="830"/>
                    </a:lnTo>
                    <a:lnTo>
                      <a:pt x="12836" y="867"/>
                    </a:lnTo>
                    <a:lnTo>
                      <a:pt x="12836" y="885"/>
                    </a:lnTo>
                    <a:lnTo>
                      <a:pt x="12836" y="922"/>
                    </a:lnTo>
                    <a:lnTo>
                      <a:pt x="12836" y="941"/>
                    </a:lnTo>
                    <a:lnTo>
                      <a:pt x="12836" y="977"/>
                    </a:lnTo>
                    <a:lnTo>
                      <a:pt x="12836" y="995"/>
                    </a:lnTo>
                    <a:lnTo>
                      <a:pt x="12817" y="1032"/>
                    </a:lnTo>
                    <a:lnTo>
                      <a:pt x="12817" y="1051"/>
                    </a:lnTo>
                    <a:lnTo>
                      <a:pt x="12817" y="1088"/>
                    </a:lnTo>
                    <a:lnTo>
                      <a:pt x="12817" y="1106"/>
                    </a:lnTo>
                    <a:lnTo>
                      <a:pt x="12817" y="1143"/>
                    </a:lnTo>
                    <a:lnTo>
                      <a:pt x="12798" y="1161"/>
                    </a:lnTo>
                    <a:lnTo>
                      <a:pt x="12798" y="1198"/>
                    </a:lnTo>
                    <a:lnTo>
                      <a:pt x="12798" y="1217"/>
                    </a:lnTo>
                    <a:lnTo>
                      <a:pt x="12798" y="1254"/>
                    </a:lnTo>
                    <a:lnTo>
                      <a:pt x="12779" y="1272"/>
                    </a:lnTo>
                    <a:lnTo>
                      <a:pt x="12779" y="1291"/>
                    </a:lnTo>
                    <a:lnTo>
                      <a:pt x="12779" y="1327"/>
                    </a:lnTo>
                    <a:lnTo>
                      <a:pt x="12779" y="1345"/>
                    </a:lnTo>
                    <a:lnTo>
                      <a:pt x="12760" y="1364"/>
                    </a:lnTo>
                    <a:lnTo>
                      <a:pt x="12495" y="1419"/>
                    </a:lnTo>
                    <a:lnTo>
                      <a:pt x="75" y="1419"/>
                    </a:lnTo>
                    <a:lnTo>
                      <a:pt x="0" y="1254"/>
                    </a:lnTo>
                    <a:lnTo>
                      <a:pt x="1226" y="0"/>
                    </a:lnTo>
                    <a:lnTo>
                      <a:pt x="5587" y="0"/>
                    </a:lnTo>
                    <a:close/>
                    <a:moveTo>
                      <a:pt x="962" y="0"/>
                    </a:moveTo>
                    <a:lnTo>
                      <a:pt x="358" y="369"/>
                    </a:lnTo>
                    <a:lnTo>
                      <a:pt x="358" y="350"/>
                    </a:lnTo>
                    <a:lnTo>
                      <a:pt x="339" y="350"/>
                    </a:lnTo>
                    <a:lnTo>
                      <a:pt x="339" y="332"/>
                    </a:lnTo>
                    <a:lnTo>
                      <a:pt x="321" y="332"/>
                    </a:lnTo>
                    <a:lnTo>
                      <a:pt x="321" y="313"/>
                    </a:lnTo>
                    <a:lnTo>
                      <a:pt x="321" y="313"/>
                    </a:lnTo>
                    <a:lnTo>
                      <a:pt x="302" y="295"/>
                    </a:lnTo>
                    <a:lnTo>
                      <a:pt x="302" y="295"/>
                    </a:lnTo>
                    <a:lnTo>
                      <a:pt x="245" y="0"/>
                    </a:lnTo>
                    <a:lnTo>
                      <a:pt x="96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76" name="Freeform 8"/>
              <p:cNvSpPr/>
              <p:nvPr/>
            </p:nvSpPr>
            <p:spPr>
              <a:xfrm>
                <a:off x="2981880" y="1882440"/>
                <a:ext cx="2951280" cy="123840"/>
              </a:xfrm>
              <a:custGeom>
                <a:avLst/>
                <a:gdLst/>
                <a:ahLst/>
                <a:rect l="l" t="t" r="r" b="b"/>
                <a:pathLst>
                  <a:path w="12836" h="1418">
                    <a:moveTo>
                      <a:pt x="12836" y="0"/>
                    </a:moveTo>
                    <a:lnTo>
                      <a:pt x="12836" y="37"/>
                    </a:lnTo>
                    <a:lnTo>
                      <a:pt x="12836" y="74"/>
                    </a:lnTo>
                    <a:lnTo>
                      <a:pt x="12836" y="130"/>
                    </a:lnTo>
                    <a:lnTo>
                      <a:pt x="12836" y="167"/>
                    </a:lnTo>
                    <a:lnTo>
                      <a:pt x="12836" y="204"/>
                    </a:lnTo>
                    <a:lnTo>
                      <a:pt x="12836" y="259"/>
                    </a:lnTo>
                    <a:lnTo>
                      <a:pt x="12836" y="295"/>
                    </a:lnTo>
                    <a:lnTo>
                      <a:pt x="12817" y="332"/>
                    </a:lnTo>
                    <a:lnTo>
                      <a:pt x="12817" y="388"/>
                    </a:lnTo>
                    <a:lnTo>
                      <a:pt x="12817" y="424"/>
                    </a:lnTo>
                    <a:lnTo>
                      <a:pt x="12798" y="480"/>
                    </a:lnTo>
                    <a:lnTo>
                      <a:pt x="12798" y="517"/>
                    </a:lnTo>
                    <a:lnTo>
                      <a:pt x="12779" y="554"/>
                    </a:lnTo>
                    <a:lnTo>
                      <a:pt x="12779" y="591"/>
                    </a:lnTo>
                    <a:lnTo>
                      <a:pt x="12779" y="627"/>
                    </a:lnTo>
                    <a:lnTo>
                      <a:pt x="12760" y="664"/>
                    </a:lnTo>
                    <a:lnTo>
                      <a:pt x="11005" y="977"/>
                    </a:lnTo>
                    <a:lnTo>
                      <a:pt x="10986" y="977"/>
                    </a:lnTo>
                    <a:lnTo>
                      <a:pt x="10986" y="977"/>
                    </a:lnTo>
                    <a:lnTo>
                      <a:pt x="10967" y="995"/>
                    </a:lnTo>
                    <a:lnTo>
                      <a:pt x="10967" y="995"/>
                    </a:lnTo>
                    <a:lnTo>
                      <a:pt x="10967" y="1014"/>
                    </a:lnTo>
                    <a:lnTo>
                      <a:pt x="10967" y="1032"/>
                    </a:lnTo>
                    <a:lnTo>
                      <a:pt x="10967" y="1032"/>
                    </a:lnTo>
                    <a:lnTo>
                      <a:pt x="10967" y="1051"/>
                    </a:lnTo>
                    <a:lnTo>
                      <a:pt x="11741" y="1069"/>
                    </a:lnTo>
                    <a:lnTo>
                      <a:pt x="11722" y="1418"/>
                    </a:lnTo>
                    <a:lnTo>
                      <a:pt x="19" y="1418"/>
                    </a:lnTo>
                    <a:lnTo>
                      <a:pt x="38" y="1418"/>
                    </a:lnTo>
                    <a:lnTo>
                      <a:pt x="57" y="1400"/>
                    </a:lnTo>
                    <a:lnTo>
                      <a:pt x="75" y="1381"/>
                    </a:lnTo>
                    <a:lnTo>
                      <a:pt x="94" y="1363"/>
                    </a:lnTo>
                    <a:lnTo>
                      <a:pt x="94" y="1344"/>
                    </a:lnTo>
                    <a:lnTo>
                      <a:pt x="112" y="1344"/>
                    </a:lnTo>
                    <a:lnTo>
                      <a:pt x="131" y="1326"/>
                    </a:lnTo>
                    <a:lnTo>
                      <a:pt x="150" y="1307"/>
                    </a:lnTo>
                    <a:lnTo>
                      <a:pt x="150" y="1290"/>
                    </a:lnTo>
                    <a:lnTo>
                      <a:pt x="169" y="1272"/>
                    </a:lnTo>
                    <a:lnTo>
                      <a:pt x="188" y="1254"/>
                    </a:lnTo>
                    <a:lnTo>
                      <a:pt x="188" y="1235"/>
                    </a:lnTo>
                    <a:lnTo>
                      <a:pt x="207" y="1198"/>
                    </a:lnTo>
                    <a:lnTo>
                      <a:pt x="207" y="1180"/>
                    </a:lnTo>
                    <a:lnTo>
                      <a:pt x="226" y="1162"/>
                    </a:lnTo>
                    <a:lnTo>
                      <a:pt x="226" y="1125"/>
                    </a:lnTo>
                    <a:lnTo>
                      <a:pt x="0" y="554"/>
                    </a:lnTo>
                    <a:lnTo>
                      <a:pt x="547" y="0"/>
                    </a:lnTo>
                    <a:lnTo>
                      <a:pt x="128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77" name="Freeform 9"/>
              <p:cNvSpPr/>
              <p:nvPr/>
            </p:nvSpPr>
            <p:spPr>
              <a:xfrm>
                <a:off x="2963160" y="1945800"/>
                <a:ext cx="2891880" cy="122040"/>
              </a:xfrm>
              <a:custGeom>
                <a:avLst/>
                <a:gdLst/>
                <a:ahLst/>
                <a:rect l="l" t="t" r="r" b="b"/>
                <a:pathLst>
                  <a:path w="12571" h="1418">
                    <a:moveTo>
                      <a:pt x="12571" y="0"/>
                    </a:moveTo>
                    <a:lnTo>
                      <a:pt x="11081" y="258"/>
                    </a:lnTo>
                    <a:lnTo>
                      <a:pt x="11062" y="258"/>
                    </a:lnTo>
                    <a:lnTo>
                      <a:pt x="11062" y="258"/>
                    </a:lnTo>
                    <a:lnTo>
                      <a:pt x="11043" y="276"/>
                    </a:lnTo>
                    <a:lnTo>
                      <a:pt x="11043" y="276"/>
                    </a:lnTo>
                    <a:lnTo>
                      <a:pt x="11043" y="295"/>
                    </a:lnTo>
                    <a:lnTo>
                      <a:pt x="11043" y="313"/>
                    </a:lnTo>
                    <a:lnTo>
                      <a:pt x="11043" y="313"/>
                    </a:lnTo>
                    <a:lnTo>
                      <a:pt x="11043" y="332"/>
                    </a:lnTo>
                    <a:lnTo>
                      <a:pt x="11817" y="350"/>
                    </a:lnTo>
                    <a:lnTo>
                      <a:pt x="11760" y="1179"/>
                    </a:lnTo>
                    <a:lnTo>
                      <a:pt x="11760" y="1197"/>
                    </a:lnTo>
                    <a:lnTo>
                      <a:pt x="11741" y="1197"/>
                    </a:lnTo>
                    <a:lnTo>
                      <a:pt x="11741" y="1216"/>
                    </a:lnTo>
                    <a:lnTo>
                      <a:pt x="11722" y="1216"/>
                    </a:lnTo>
                    <a:lnTo>
                      <a:pt x="11722" y="1216"/>
                    </a:lnTo>
                    <a:lnTo>
                      <a:pt x="11703" y="1234"/>
                    </a:lnTo>
                    <a:lnTo>
                      <a:pt x="11685" y="1234"/>
                    </a:lnTo>
                    <a:lnTo>
                      <a:pt x="11685" y="1234"/>
                    </a:lnTo>
                    <a:lnTo>
                      <a:pt x="11666" y="1234"/>
                    </a:lnTo>
                    <a:lnTo>
                      <a:pt x="11647" y="1234"/>
                    </a:lnTo>
                    <a:lnTo>
                      <a:pt x="11628" y="1234"/>
                    </a:lnTo>
                    <a:lnTo>
                      <a:pt x="11628" y="1234"/>
                    </a:lnTo>
                    <a:lnTo>
                      <a:pt x="11609" y="1234"/>
                    </a:lnTo>
                    <a:lnTo>
                      <a:pt x="11590" y="1234"/>
                    </a:lnTo>
                    <a:lnTo>
                      <a:pt x="11590" y="1234"/>
                    </a:lnTo>
                    <a:lnTo>
                      <a:pt x="11571" y="1234"/>
                    </a:lnTo>
                    <a:lnTo>
                      <a:pt x="11552" y="1234"/>
                    </a:lnTo>
                    <a:lnTo>
                      <a:pt x="11533" y="1234"/>
                    </a:lnTo>
                    <a:lnTo>
                      <a:pt x="11533" y="1252"/>
                    </a:lnTo>
                    <a:lnTo>
                      <a:pt x="11533" y="1252"/>
                    </a:lnTo>
                    <a:lnTo>
                      <a:pt x="11514" y="1270"/>
                    </a:lnTo>
                    <a:lnTo>
                      <a:pt x="11514" y="1288"/>
                    </a:lnTo>
                    <a:lnTo>
                      <a:pt x="11533" y="1288"/>
                    </a:lnTo>
                    <a:lnTo>
                      <a:pt x="11533" y="1325"/>
                    </a:lnTo>
                    <a:lnTo>
                      <a:pt x="12213" y="1344"/>
                    </a:lnTo>
                    <a:lnTo>
                      <a:pt x="12213" y="1418"/>
                    </a:lnTo>
                    <a:lnTo>
                      <a:pt x="114" y="1418"/>
                    </a:lnTo>
                    <a:lnTo>
                      <a:pt x="0" y="829"/>
                    </a:lnTo>
                    <a:lnTo>
                      <a:pt x="19" y="810"/>
                    </a:lnTo>
                    <a:lnTo>
                      <a:pt x="38" y="773"/>
                    </a:lnTo>
                    <a:lnTo>
                      <a:pt x="57" y="755"/>
                    </a:lnTo>
                    <a:lnTo>
                      <a:pt x="76" y="736"/>
                    </a:lnTo>
                    <a:lnTo>
                      <a:pt x="95" y="718"/>
                    </a:lnTo>
                    <a:lnTo>
                      <a:pt x="114" y="699"/>
                    </a:lnTo>
                    <a:lnTo>
                      <a:pt x="133" y="681"/>
                    </a:lnTo>
                    <a:lnTo>
                      <a:pt x="151" y="644"/>
                    </a:lnTo>
                    <a:lnTo>
                      <a:pt x="188" y="625"/>
                    </a:lnTo>
                    <a:lnTo>
                      <a:pt x="207" y="607"/>
                    </a:lnTo>
                    <a:lnTo>
                      <a:pt x="226" y="571"/>
                    </a:lnTo>
                    <a:lnTo>
                      <a:pt x="245" y="553"/>
                    </a:lnTo>
                    <a:lnTo>
                      <a:pt x="264" y="516"/>
                    </a:lnTo>
                    <a:lnTo>
                      <a:pt x="283" y="479"/>
                    </a:lnTo>
                    <a:lnTo>
                      <a:pt x="283" y="443"/>
                    </a:lnTo>
                    <a:lnTo>
                      <a:pt x="302" y="406"/>
                    </a:lnTo>
                    <a:lnTo>
                      <a:pt x="151" y="0"/>
                    </a:lnTo>
                    <a:lnTo>
                      <a:pt x="1257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78" name="Freeform 10"/>
              <p:cNvSpPr/>
              <p:nvPr/>
            </p:nvSpPr>
            <p:spPr>
              <a:xfrm>
                <a:off x="2848320" y="2006280"/>
                <a:ext cx="2923200" cy="123840"/>
              </a:xfrm>
              <a:custGeom>
                <a:avLst/>
                <a:gdLst/>
                <a:ahLst/>
                <a:rect l="l" t="t" r="r" b="b"/>
                <a:pathLst>
                  <a:path w="12723" h="1437">
                    <a:moveTo>
                      <a:pt x="12308" y="0"/>
                    </a:moveTo>
                    <a:lnTo>
                      <a:pt x="12270" y="480"/>
                    </a:lnTo>
                    <a:lnTo>
                      <a:pt x="12270" y="498"/>
                    </a:lnTo>
                    <a:lnTo>
                      <a:pt x="12251" y="498"/>
                    </a:lnTo>
                    <a:lnTo>
                      <a:pt x="12251" y="517"/>
                    </a:lnTo>
                    <a:lnTo>
                      <a:pt x="12232" y="517"/>
                    </a:lnTo>
                    <a:lnTo>
                      <a:pt x="12232" y="517"/>
                    </a:lnTo>
                    <a:lnTo>
                      <a:pt x="12213" y="535"/>
                    </a:lnTo>
                    <a:lnTo>
                      <a:pt x="12195" y="535"/>
                    </a:lnTo>
                    <a:lnTo>
                      <a:pt x="12195" y="535"/>
                    </a:lnTo>
                    <a:lnTo>
                      <a:pt x="12176" y="535"/>
                    </a:lnTo>
                    <a:lnTo>
                      <a:pt x="12157" y="535"/>
                    </a:lnTo>
                    <a:lnTo>
                      <a:pt x="12138" y="535"/>
                    </a:lnTo>
                    <a:lnTo>
                      <a:pt x="12138" y="535"/>
                    </a:lnTo>
                    <a:lnTo>
                      <a:pt x="12119" y="535"/>
                    </a:lnTo>
                    <a:lnTo>
                      <a:pt x="12100" y="535"/>
                    </a:lnTo>
                    <a:lnTo>
                      <a:pt x="12100" y="535"/>
                    </a:lnTo>
                    <a:lnTo>
                      <a:pt x="12081" y="535"/>
                    </a:lnTo>
                    <a:lnTo>
                      <a:pt x="12062" y="535"/>
                    </a:lnTo>
                    <a:lnTo>
                      <a:pt x="12043" y="535"/>
                    </a:lnTo>
                    <a:lnTo>
                      <a:pt x="12043" y="553"/>
                    </a:lnTo>
                    <a:lnTo>
                      <a:pt x="12043" y="553"/>
                    </a:lnTo>
                    <a:lnTo>
                      <a:pt x="12024" y="571"/>
                    </a:lnTo>
                    <a:lnTo>
                      <a:pt x="12024" y="589"/>
                    </a:lnTo>
                    <a:lnTo>
                      <a:pt x="12043" y="589"/>
                    </a:lnTo>
                    <a:lnTo>
                      <a:pt x="12043" y="626"/>
                    </a:lnTo>
                    <a:lnTo>
                      <a:pt x="12723" y="645"/>
                    </a:lnTo>
                    <a:lnTo>
                      <a:pt x="12648" y="1400"/>
                    </a:lnTo>
                    <a:lnTo>
                      <a:pt x="12515" y="1437"/>
                    </a:lnTo>
                    <a:lnTo>
                      <a:pt x="0" y="1437"/>
                    </a:lnTo>
                    <a:lnTo>
                      <a:pt x="643" y="737"/>
                    </a:lnTo>
                    <a:lnTo>
                      <a:pt x="510" y="130"/>
                    </a:lnTo>
                    <a:lnTo>
                      <a:pt x="510" y="111"/>
                    </a:lnTo>
                    <a:lnTo>
                      <a:pt x="529" y="93"/>
                    </a:lnTo>
                    <a:lnTo>
                      <a:pt x="548" y="74"/>
                    </a:lnTo>
                    <a:lnTo>
                      <a:pt x="548" y="56"/>
                    </a:lnTo>
                    <a:lnTo>
                      <a:pt x="567" y="56"/>
                    </a:lnTo>
                    <a:lnTo>
                      <a:pt x="586" y="37"/>
                    </a:lnTo>
                    <a:lnTo>
                      <a:pt x="605" y="19"/>
                    </a:lnTo>
                    <a:lnTo>
                      <a:pt x="605" y="0"/>
                    </a:lnTo>
                    <a:lnTo>
                      <a:pt x="1230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79" name="Freeform 11"/>
              <p:cNvSpPr/>
              <p:nvPr/>
            </p:nvSpPr>
            <p:spPr>
              <a:xfrm>
                <a:off x="2843280" y="2068200"/>
                <a:ext cx="2933640" cy="123480"/>
              </a:xfrm>
              <a:custGeom>
                <a:avLst/>
                <a:gdLst/>
                <a:ahLst/>
                <a:rect l="l" t="t" r="r" b="b"/>
                <a:pathLst>
                  <a:path w="12759" h="1418">
                    <a:moveTo>
                      <a:pt x="12741" y="0"/>
                    </a:moveTo>
                    <a:lnTo>
                      <a:pt x="12666" y="681"/>
                    </a:lnTo>
                    <a:lnTo>
                      <a:pt x="12194" y="774"/>
                    </a:lnTo>
                    <a:lnTo>
                      <a:pt x="12175" y="792"/>
                    </a:lnTo>
                    <a:lnTo>
                      <a:pt x="12175" y="811"/>
                    </a:lnTo>
                    <a:lnTo>
                      <a:pt x="12156" y="811"/>
                    </a:lnTo>
                    <a:lnTo>
                      <a:pt x="12137" y="829"/>
                    </a:lnTo>
                    <a:lnTo>
                      <a:pt x="12137" y="866"/>
                    </a:lnTo>
                    <a:lnTo>
                      <a:pt x="12118" y="885"/>
                    </a:lnTo>
                    <a:lnTo>
                      <a:pt x="12118" y="902"/>
                    </a:lnTo>
                    <a:lnTo>
                      <a:pt x="12118" y="939"/>
                    </a:lnTo>
                    <a:lnTo>
                      <a:pt x="12099" y="976"/>
                    </a:lnTo>
                    <a:lnTo>
                      <a:pt x="12099" y="994"/>
                    </a:lnTo>
                    <a:lnTo>
                      <a:pt x="12099" y="1031"/>
                    </a:lnTo>
                    <a:lnTo>
                      <a:pt x="12099" y="1068"/>
                    </a:lnTo>
                    <a:lnTo>
                      <a:pt x="12099" y="1105"/>
                    </a:lnTo>
                    <a:lnTo>
                      <a:pt x="12099" y="1142"/>
                    </a:lnTo>
                    <a:lnTo>
                      <a:pt x="12099" y="1161"/>
                    </a:lnTo>
                    <a:lnTo>
                      <a:pt x="12099" y="1198"/>
                    </a:lnTo>
                    <a:lnTo>
                      <a:pt x="12118" y="1234"/>
                    </a:lnTo>
                    <a:lnTo>
                      <a:pt x="12156" y="1271"/>
                    </a:lnTo>
                    <a:lnTo>
                      <a:pt x="12194" y="1289"/>
                    </a:lnTo>
                    <a:lnTo>
                      <a:pt x="12231" y="1308"/>
                    </a:lnTo>
                    <a:lnTo>
                      <a:pt x="12269" y="1308"/>
                    </a:lnTo>
                    <a:lnTo>
                      <a:pt x="12307" y="1308"/>
                    </a:lnTo>
                    <a:lnTo>
                      <a:pt x="12364" y="1289"/>
                    </a:lnTo>
                    <a:lnTo>
                      <a:pt x="12401" y="1271"/>
                    </a:lnTo>
                    <a:lnTo>
                      <a:pt x="12439" y="1271"/>
                    </a:lnTo>
                    <a:lnTo>
                      <a:pt x="12495" y="1252"/>
                    </a:lnTo>
                    <a:lnTo>
                      <a:pt x="12533" y="1252"/>
                    </a:lnTo>
                    <a:lnTo>
                      <a:pt x="12590" y="1234"/>
                    </a:lnTo>
                    <a:lnTo>
                      <a:pt x="12628" y="1234"/>
                    </a:lnTo>
                    <a:lnTo>
                      <a:pt x="12666" y="1234"/>
                    </a:lnTo>
                    <a:lnTo>
                      <a:pt x="12723" y="1252"/>
                    </a:lnTo>
                    <a:lnTo>
                      <a:pt x="12759" y="1289"/>
                    </a:lnTo>
                    <a:lnTo>
                      <a:pt x="12759" y="1418"/>
                    </a:lnTo>
                    <a:lnTo>
                      <a:pt x="792" y="1418"/>
                    </a:lnTo>
                    <a:lnTo>
                      <a:pt x="925" y="1326"/>
                    </a:lnTo>
                    <a:lnTo>
                      <a:pt x="925" y="1142"/>
                    </a:lnTo>
                    <a:lnTo>
                      <a:pt x="547" y="1418"/>
                    </a:lnTo>
                    <a:lnTo>
                      <a:pt x="150" y="1418"/>
                    </a:lnTo>
                    <a:lnTo>
                      <a:pt x="131" y="1400"/>
                    </a:lnTo>
                    <a:lnTo>
                      <a:pt x="131" y="1381"/>
                    </a:lnTo>
                    <a:lnTo>
                      <a:pt x="113" y="1345"/>
                    </a:lnTo>
                    <a:lnTo>
                      <a:pt x="113" y="1326"/>
                    </a:lnTo>
                    <a:lnTo>
                      <a:pt x="94" y="1308"/>
                    </a:lnTo>
                    <a:lnTo>
                      <a:pt x="94" y="1289"/>
                    </a:lnTo>
                    <a:lnTo>
                      <a:pt x="75" y="1252"/>
                    </a:lnTo>
                    <a:lnTo>
                      <a:pt x="75" y="1234"/>
                    </a:lnTo>
                    <a:lnTo>
                      <a:pt x="75" y="1198"/>
                    </a:lnTo>
                    <a:lnTo>
                      <a:pt x="56" y="1179"/>
                    </a:lnTo>
                    <a:lnTo>
                      <a:pt x="56" y="1161"/>
                    </a:lnTo>
                    <a:lnTo>
                      <a:pt x="37" y="1124"/>
                    </a:lnTo>
                    <a:lnTo>
                      <a:pt x="37" y="1105"/>
                    </a:lnTo>
                    <a:lnTo>
                      <a:pt x="18" y="1087"/>
                    </a:lnTo>
                    <a:lnTo>
                      <a:pt x="18" y="1068"/>
                    </a:lnTo>
                    <a:lnTo>
                      <a:pt x="0" y="1031"/>
                    </a:lnTo>
                    <a:lnTo>
                      <a:pt x="0" y="1013"/>
                    </a:lnTo>
                    <a:lnTo>
                      <a:pt x="0" y="994"/>
                    </a:lnTo>
                    <a:lnTo>
                      <a:pt x="0" y="976"/>
                    </a:lnTo>
                    <a:lnTo>
                      <a:pt x="0" y="958"/>
                    </a:lnTo>
                    <a:lnTo>
                      <a:pt x="0" y="921"/>
                    </a:lnTo>
                    <a:lnTo>
                      <a:pt x="0" y="902"/>
                    </a:lnTo>
                    <a:lnTo>
                      <a:pt x="0" y="885"/>
                    </a:lnTo>
                    <a:lnTo>
                      <a:pt x="0" y="866"/>
                    </a:lnTo>
                    <a:lnTo>
                      <a:pt x="0" y="848"/>
                    </a:lnTo>
                    <a:lnTo>
                      <a:pt x="0" y="829"/>
                    </a:lnTo>
                    <a:lnTo>
                      <a:pt x="0" y="811"/>
                    </a:lnTo>
                    <a:lnTo>
                      <a:pt x="0" y="792"/>
                    </a:lnTo>
                    <a:lnTo>
                      <a:pt x="0" y="774"/>
                    </a:lnTo>
                    <a:lnTo>
                      <a:pt x="0" y="755"/>
                    </a:lnTo>
                    <a:lnTo>
                      <a:pt x="0" y="737"/>
                    </a:lnTo>
                    <a:lnTo>
                      <a:pt x="0" y="737"/>
                    </a:lnTo>
                    <a:lnTo>
                      <a:pt x="661" y="18"/>
                    </a:lnTo>
                    <a:lnTo>
                      <a:pt x="642" y="0"/>
                    </a:lnTo>
                    <a:lnTo>
                      <a:pt x="127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80" name="Freeform 12"/>
              <p:cNvSpPr/>
              <p:nvPr/>
            </p:nvSpPr>
            <p:spPr>
              <a:xfrm>
                <a:off x="2843280" y="2130120"/>
                <a:ext cx="2933640" cy="123480"/>
              </a:xfrm>
              <a:custGeom>
                <a:avLst/>
                <a:gdLst/>
                <a:ahLst/>
                <a:rect l="l" t="t" r="r" b="b"/>
                <a:pathLst>
                  <a:path w="12759" h="1419">
                    <a:moveTo>
                      <a:pt x="12533" y="0"/>
                    </a:moveTo>
                    <a:lnTo>
                      <a:pt x="12194" y="56"/>
                    </a:lnTo>
                    <a:lnTo>
                      <a:pt x="12175" y="74"/>
                    </a:lnTo>
                    <a:lnTo>
                      <a:pt x="12175" y="93"/>
                    </a:lnTo>
                    <a:lnTo>
                      <a:pt x="12156" y="93"/>
                    </a:lnTo>
                    <a:lnTo>
                      <a:pt x="12137" y="111"/>
                    </a:lnTo>
                    <a:lnTo>
                      <a:pt x="12137" y="148"/>
                    </a:lnTo>
                    <a:lnTo>
                      <a:pt x="12118" y="167"/>
                    </a:lnTo>
                    <a:lnTo>
                      <a:pt x="12118" y="184"/>
                    </a:lnTo>
                    <a:lnTo>
                      <a:pt x="12118" y="221"/>
                    </a:lnTo>
                    <a:lnTo>
                      <a:pt x="12099" y="258"/>
                    </a:lnTo>
                    <a:lnTo>
                      <a:pt x="12099" y="276"/>
                    </a:lnTo>
                    <a:lnTo>
                      <a:pt x="12099" y="313"/>
                    </a:lnTo>
                    <a:lnTo>
                      <a:pt x="12099" y="350"/>
                    </a:lnTo>
                    <a:lnTo>
                      <a:pt x="12099" y="387"/>
                    </a:lnTo>
                    <a:lnTo>
                      <a:pt x="12099" y="424"/>
                    </a:lnTo>
                    <a:lnTo>
                      <a:pt x="12099" y="443"/>
                    </a:lnTo>
                    <a:lnTo>
                      <a:pt x="12099" y="480"/>
                    </a:lnTo>
                    <a:lnTo>
                      <a:pt x="12118" y="516"/>
                    </a:lnTo>
                    <a:lnTo>
                      <a:pt x="12156" y="553"/>
                    </a:lnTo>
                    <a:lnTo>
                      <a:pt x="12194" y="571"/>
                    </a:lnTo>
                    <a:lnTo>
                      <a:pt x="12231" y="590"/>
                    </a:lnTo>
                    <a:lnTo>
                      <a:pt x="12269" y="590"/>
                    </a:lnTo>
                    <a:lnTo>
                      <a:pt x="12307" y="590"/>
                    </a:lnTo>
                    <a:lnTo>
                      <a:pt x="12364" y="571"/>
                    </a:lnTo>
                    <a:lnTo>
                      <a:pt x="12401" y="553"/>
                    </a:lnTo>
                    <a:lnTo>
                      <a:pt x="12439" y="553"/>
                    </a:lnTo>
                    <a:lnTo>
                      <a:pt x="12495" y="534"/>
                    </a:lnTo>
                    <a:lnTo>
                      <a:pt x="12533" y="534"/>
                    </a:lnTo>
                    <a:lnTo>
                      <a:pt x="12590" y="516"/>
                    </a:lnTo>
                    <a:lnTo>
                      <a:pt x="12628" y="516"/>
                    </a:lnTo>
                    <a:lnTo>
                      <a:pt x="12666" y="516"/>
                    </a:lnTo>
                    <a:lnTo>
                      <a:pt x="12723" y="534"/>
                    </a:lnTo>
                    <a:lnTo>
                      <a:pt x="12759" y="571"/>
                    </a:lnTo>
                    <a:lnTo>
                      <a:pt x="12741" y="1345"/>
                    </a:lnTo>
                    <a:lnTo>
                      <a:pt x="12723" y="1345"/>
                    </a:lnTo>
                    <a:lnTo>
                      <a:pt x="12723" y="1364"/>
                    </a:lnTo>
                    <a:lnTo>
                      <a:pt x="12704" y="1364"/>
                    </a:lnTo>
                    <a:lnTo>
                      <a:pt x="12685" y="1382"/>
                    </a:lnTo>
                    <a:lnTo>
                      <a:pt x="12685" y="1382"/>
                    </a:lnTo>
                    <a:lnTo>
                      <a:pt x="12666" y="1401"/>
                    </a:lnTo>
                    <a:lnTo>
                      <a:pt x="12666" y="1401"/>
                    </a:lnTo>
                    <a:lnTo>
                      <a:pt x="12647" y="1419"/>
                    </a:lnTo>
                    <a:lnTo>
                      <a:pt x="433" y="1419"/>
                    </a:lnTo>
                    <a:lnTo>
                      <a:pt x="340" y="1234"/>
                    </a:lnTo>
                    <a:lnTo>
                      <a:pt x="452" y="958"/>
                    </a:lnTo>
                    <a:lnTo>
                      <a:pt x="925" y="608"/>
                    </a:lnTo>
                    <a:lnTo>
                      <a:pt x="925" y="424"/>
                    </a:lnTo>
                    <a:lnTo>
                      <a:pt x="321" y="884"/>
                    </a:lnTo>
                    <a:lnTo>
                      <a:pt x="283" y="866"/>
                    </a:lnTo>
                    <a:lnTo>
                      <a:pt x="245" y="848"/>
                    </a:lnTo>
                    <a:lnTo>
                      <a:pt x="226" y="830"/>
                    </a:lnTo>
                    <a:lnTo>
                      <a:pt x="207" y="811"/>
                    </a:lnTo>
                    <a:lnTo>
                      <a:pt x="188" y="774"/>
                    </a:lnTo>
                    <a:lnTo>
                      <a:pt x="169" y="756"/>
                    </a:lnTo>
                    <a:lnTo>
                      <a:pt x="150" y="719"/>
                    </a:lnTo>
                    <a:lnTo>
                      <a:pt x="131" y="663"/>
                    </a:lnTo>
                    <a:lnTo>
                      <a:pt x="113" y="627"/>
                    </a:lnTo>
                    <a:lnTo>
                      <a:pt x="94" y="590"/>
                    </a:lnTo>
                    <a:lnTo>
                      <a:pt x="75" y="534"/>
                    </a:lnTo>
                    <a:lnTo>
                      <a:pt x="75" y="498"/>
                    </a:lnTo>
                    <a:lnTo>
                      <a:pt x="56" y="443"/>
                    </a:lnTo>
                    <a:lnTo>
                      <a:pt x="37" y="406"/>
                    </a:lnTo>
                    <a:lnTo>
                      <a:pt x="18" y="369"/>
                    </a:lnTo>
                    <a:lnTo>
                      <a:pt x="0" y="313"/>
                    </a:lnTo>
                    <a:lnTo>
                      <a:pt x="0" y="295"/>
                    </a:lnTo>
                    <a:lnTo>
                      <a:pt x="0" y="276"/>
                    </a:lnTo>
                    <a:lnTo>
                      <a:pt x="0" y="258"/>
                    </a:lnTo>
                    <a:lnTo>
                      <a:pt x="0" y="240"/>
                    </a:lnTo>
                    <a:lnTo>
                      <a:pt x="0" y="203"/>
                    </a:lnTo>
                    <a:lnTo>
                      <a:pt x="0" y="184"/>
                    </a:lnTo>
                    <a:lnTo>
                      <a:pt x="0" y="167"/>
                    </a:lnTo>
                    <a:lnTo>
                      <a:pt x="0" y="148"/>
                    </a:lnTo>
                    <a:lnTo>
                      <a:pt x="0" y="130"/>
                    </a:lnTo>
                    <a:lnTo>
                      <a:pt x="0" y="111"/>
                    </a:lnTo>
                    <a:lnTo>
                      <a:pt x="0" y="93"/>
                    </a:lnTo>
                    <a:lnTo>
                      <a:pt x="0" y="74"/>
                    </a:lnTo>
                    <a:lnTo>
                      <a:pt x="0" y="56"/>
                    </a:lnTo>
                    <a:lnTo>
                      <a:pt x="0" y="37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18" y="0"/>
                    </a:lnTo>
                    <a:lnTo>
                      <a:pt x="125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81" name="Freeform 13"/>
              <p:cNvSpPr/>
              <p:nvPr/>
            </p:nvSpPr>
            <p:spPr>
              <a:xfrm>
                <a:off x="2880720" y="2191680"/>
                <a:ext cx="2896200" cy="122040"/>
              </a:xfrm>
              <a:custGeom>
                <a:avLst/>
                <a:gdLst/>
                <a:ahLst/>
                <a:rect l="l" t="t" r="r" b="b"/>
                <a:pathLst>
                  <a:path w="12609" h="1419">
                    <a:moveTo>
                      <a:pt x="12609" y="0"/>
                    </a:moveTo>
                    <a:lnTo>
                      <a:pt x="12591" y="645"/>
                    </a:lnTo>
                    <a:lnTo>
                      <a:pt x="12554" y="664"/>
                    </a:lnTo>
                    <a:lnTo>
                      <a:pt x="12516" y="701"/>
                    </a:lnTo>
                    <a:lnTo>
                      <a:pt x="12478" y="738"/>
                    </a:lnTo>
                    <a:lnTo>
                      <a:pt x="12440" y="756"/>
                    </a:lnTo>
                    <a:lnTo>
                      <a:pt x="12402" y="774"/>
                    </a:lnTo>
                    <a:lnTo>
                      <a:pt x="12364" y="811"/>
                    </a:lnTo>
                    <a:lnTo>
                      <a:pt x="12327" y="830"/>
                    </a:lnTo>
                    <a:lnTo>
                      <a:pt x="12289" y="847"/>
                    </a:lnTo>
                    <a:lnTo>
                      <a:pt x="12232" y="866"/>
                    </a:lnTo>
                    <a:lnTo>
                      <a:pt x="12195" y="903"/>
                    </a:lnTo>
                    <a:lnTo>
                      <a:pt x="12157" y="921"/>
                    </a:lnTo>
                    <a:lnTo>
                      <a:pt x="12119" y="940"/>
                    </a:lnTo>
                    <a:lnTo>
                      <a:pt x="12063" y="958"/>
                    </a:lnTo>
                    <a:lnTo>
                      <a:pt x="12025" y="977"/>
                    </a:lnTo>
                    <a:lnTo>
                      <a:pt x="11987" y="995"/>
                    </a:lnTo>
                    <a:lnTo>
                      <a:pt x="11930" y="1014"/>
                    </a:lnTo>
                    <a:lnTo>
                      <a:pt x="11892" y="1014"/>
                    </a:lnTo>
                    <a:lnTo>
                      <a:pt x="11855" y="1032"/>
                    </a:lnTo>
                    <a:lnTo>
                      <a:pt x="11799" y="1051"/>
                    </a:lnTo>
                    <a:lnTo>
                      <a:pt x="11761" y="1069"/>
                    </a:lnTo>
                    <a:lnTo>
                      <a:pt x="11723" y="1088"/>
                    </a:lnTo>
                    <a:lnTo>
                      <a:pt x="11666" y="1106"/>
                    </a:lnTo>
                    <a:lnTo>
                      <a:pt x="11628" y="1125"/>
                    </a:lnTo>
                    <a:lnTo>
                      <a:pt x="11571" y="1125"/>
                    </a:lnTo>
                    <a:lnTo>
                      <a:pt x="11533" y="1143"/>
                    </a:lnTo>
                    <a:lnTo>
                      <a:pt x="11478" y="1161"/>
                    </a:lnTo>
                    <a:lnTo>
                      <a:pt x="11440" y="1180"/>
                    </a:lnTo>
                    <a:lnTo>
                      <a:pt x="11402" y="1197"/>
                    </a:lnTo>
                    <a:lnTo>
                      <a:pt x="11345" y="1216"/>
                    </a:lnTo>
                    <a:lnTo>
                      <a:pt x="11307" y="1234"/>
                    </a:lnTo>
                    <a:lnTo>
                      <a:pt x="11269" y="1253"/>
                    </a:lnTo>
                    <a:lnTo>
                      <a:pt x="11213" y="1271"/>
                    </a:lnTo>
                    <a:lnTo>
                      <a:pt x="11213" y="1419"/>
                    </a:lnTo>
                    <a:lnTo>
                      <a:pt x="2908" y="1419"/>
                    </a:lnTo>
                    <a:lnTo>
                      <a:pt x="3455" y="995"/>
                    </a:lnTo>
                    <a:lnTo>
                      <a:pt x="3455" y="995"/>
                    </a:lnTo>
                    <a:lnTo>
                      <a:pt x="3455" y="995"/>
                    </a:lnTo>
                    <a:lnTo>
                      <a:pt x="3455" y="977"/>
                    </a:lnTo>
                    <a:lnTo>
                      <a:pt x="3455" y="977"/>
                    </a:lnTo>
                    <a:lnTo>
                      <a:pt x="3455" y="958"/>
                    </a:lnTo>
                    <a:lnTo>
                      <a:pt x="3455" y="940"/>
                    </a:lnTo>
                    <a:lnTo>
                      <a:pt x="3455" y="921"/>
                    </a:lnTo>
                    <a:lnTo>
                      <a:pt x="3455" y="921"/>
                    </a:lnTo>
                    <a:lnTo>
                      <a:pt x="2492" y="1419"/>
                    </a:lnTo>
                    <a:lnTo>
                      <a:pt x="566" y="1419"/>
                    </a:lnTo>
                    <a:lnTo>
                      <a:pt x="812" y="1143"/>
                    </a:lnTo>
                    <a:lnTo>
                      <a:pt x="812" y="1143"/>
                    </a:lnTo>
                    <a:lnTo>
                      <a:pt x="812" y="1125"/>
                    </a:lnTo>
                    <a:lnTo>
                      <a:pt x="812" y="1106"/>
                    </a:lnTo>
                    <a:lnTo>
                      <a:pt x="812" y="1106"/>
                    </a:lnTo>
                    <a:lnTo>
                      <a:pt x="812" y="1088"/>
                    </a:lnTo>
                    <a:lnTo>
                      <a:pt x="793" y="1088"/>
                    </a:lnTo>
                    <a:lnTo>
                      <a:pt x="793" y="1069"/>
                    </a:lnTo>
                    <a:lnTo>
                      <a:pt x="775" y="1069"/>
                    </a:lnTo>
                    <a:lnTo>
                      <a:pt x="585" y="1253"/>
                    </a:lnTo>
                    <a:lnTo>
                      <a:pt x="566" y="1253"/>
                    </a:lnTo>
                    <a:lnTo>
                      <a:pt x="566" y="1253"/>
                    </a:lnTo>
                    <a:lnTo>
                      <a:pt x="548" y="1253"/>
                    </a:lnTo>
                    <a:lnTo>
                      <a:pt x="548" y="1234"/>
                    </a:lnTo>
                    <a:lnTo>
                      <a:pt x="529" y="1234"/>
                    </a:lnTo>
                    <a:lnTo>
                      <a:pt x="529" y="1234"/>
                    </a:lnTo>
                    <a:lnTo>
                      <a:pt x="511" y="1234"/>
                    </a:lnTo>
                    <a:lnTo>
                      <a:pt x="511" y="1216"/>
                    </a:lnTo>
                    <a:lnTo>
                      <a:pt x="190" y="534"/>
                    </a:lnTo>
                    <a:lnTo>
                      <a:pt x="302" y="258"/>
                    </a:lnTo>
                    <a:lnTo>
                      <a:pt x="642" y="0"/>
                    </a:lnTo>
                    <a:lnTo>
                      <a:pt x="12609" y="0"/>
                    </a:lnTo>
                    <a:close/>
                    <a:moveTo>
                      <a:pt x="397" y="0"/>
                    </a:moveTo>
                    <a:lnTo>
                      <a:pt x="171" y="184"/>
                    </a:lnTo>
                    <a:lnTo>
                      <a:pt x="152" y="184"/>
                    </a:lnTo>
                    <a:lnTo>
                      <a:pt x="133" y="166"/>
                    </a:lnTo>
                    <a:lnTo>
                      <a:pt x="114" y="166"/>
                    </a:lnTo>
                    <a:lnTo>
                      <a:pt x="114" y="166"/>
                    </a:lnTo>
                    <a:lnTo>
                      <a:pt x="95" y="148"/>
                    </a:lnTo>
                    <a:lnTo>
                      <a:pt x="76" y="148"/>
                    </a:lnTo>
                    <a:lnTo>
                      <a:pt x="76" y="130"/>
                    </a:lnTo>
                    <a:lnTo>
                      <a:pt x="57" y="130"/>
                    </a:lnTo>
                    <a:lnTo>
                      <a:pt x="57" y="111"/>
                    </a:lnTo>
                    <a:lnTo>
                      <a:pt x="38" y="93"/>
                    </a:lnTo>
                    <a:lnTo>
                      <a:pt x="38" y="74"/>
                    </a:lnTo>
                    <a:lnTo>
                      <a:pt x="19" y="74"/>
                    </a:lnTo>
                    <a:lnTo>
                      <a:pt x="19" y="56"/>
                    </a:lnTo>
                    <a:lnTo>
                      <a:pt x="0" y="37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39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82" name="Freeform 14"/>
              <p:cNvSpPr/>
              <p:nvPr/>
            </p:nvSpPr>
            <p:spPr>
              <a:xfrm>
                <a:off x="2880720" y="2253600"/>
                <a:ext cx="2868120" cy="123840"/>
              </a:xfrm>
              <a:custGeom>
                <a:avLst/>
                <a:gdLst/>
                <a:ahLst/>
                <a:rect l="l" t="t" r="r" b="b"/>
                <a:pathLst>
                  <a:path w="12478" h="1419">
                    <a:moveTo>
                      <a:pt x="12478" y="0"/>
                    </a:moveTo>
                    <a:lnTo>
                      <a:pt x="12440" y="19"/>
                    </a:lnTo>
                    <a:lnTo>
                      <a:pt x="12402" y="37"/>
                    </a:lnTo>
                    <a:lnTo>
                      <a:pt x="12383" y="74"/>
                    </a:lnTo>
                    <a:lnTo>
                      <a:pt x="12345" y="92"/>
                    </a:lnTo>
                    <a:lnTo>
                      <a:pt x="12308" y="111"/>
                    </a:lnTo>
                    <a:lnTo>
                      <a:pt x="12270" y="128"/>
                    </a:lnTo>
                    <a:lnTo>
                      <a:pt x="12232" y="147"/>
                    </a:lnTo>
                    <a:lnTo>
                      <a:pt x="12195" y="165"/>
                    </a:lnTo>
                    <a:lnTo>
                      <a:pt x="12157" y="184"/>
                    </a:lnTo>
                    <a:lnTo>
                      <a:pt x="12119" y="202"/>
                    </a:lnTo>
                    <a:lnTo>
                      <a:pt x="12062" y="221"/>
                    </a:lnTo>
                    <a:lnTo>
                      <a:pt x="12025" y="239"/>
                    </a:lnTo>
                    <a:lnTo>
                      <a:pt x="11987" y="258"/>
                    </a:lnTo>
                    <a:lnTo>
                      <a:pt x="11949" y="276"/>
                    </a:lnTo>
                    <a:lnTo>
                      <a:pt x="11911" y="295"/>
                    </a:lnTo>
                    <a:lnTo>
                      <a:pt x="11873" y="313"/>
                    </a:lnTo>
                    <a:lnTo>
                      <a:pt x="11817" y="313"/>
                    </a:lnTo>
                    <a:lnTo>
                      <a:pt x="11780" y="332"/>
                    </a:lnTo>
                    <a:lnTo>
                      <a:pt x="11742" y="350"/>
                    </a:lnTo>
                    <a:lnTo>
                      <a:pt x="11704" y="369"/>
                    </a:lnTo>
                    <a:lnTo>
                      <a:pt x="11666" y="387"/>
                    </a:lnTo>
                    <a:lnTo>
                      <a:pt x="11609" y="387"/>
                    </a:lnTo>
                    <a:lnTo>
                      <a:pt x="11571" y="406"/>
                    </a:lnTo>
                    <a:lnTo>
                      <a:pt x="11533" y="424"/>
                    </a:lnTo>
                    <a:lnTo>
                      <a:pt x="11497" y="442"/>
                    </a:lnTo>
                    <a:lnTo>
                      <a:pt x="11440" y="461"/>
                    </a:lnTo>
                    <a:lnTo>
                      <a:pt x="11402" y="461"/>
                    </a:lnTo>
                    <a:lnTo>
                      <a:pt x="11364" y="478"/>
                    </a:lnTo>
                    <a:lnTo>
                      <a:pt x="11326" y="497"/>
                    </a:lnTo>
                    <a:lnTo>
                      <a:pt x="11288" y="515"/>
                    </a:lnTo>
                    <a:lnTo>
                      <a:pt x="11250" y="534"/>
                    </a:lnTo>
                    <a:lnTo>
                      <a:pt x="11194" y="552"/>
                    </a:lnTo>
                    <a:lnTo>
                      <a:pt x="11194" y="1363"/>
                    </a:lnTo>
                    <a:lnTo>
                      <a:pt x="11194" y="1363"/>
                    </a:lnTo>
                    <a:lnTo>
                      <a:pt x="11175" y="1382"/>
                    </a:lnTo>
                    <a:lnTo>
                      <a:pt x="11175" y="1382"/>
                    </a:lnTo>
                    <a:lnTo>
                      <a:pt x="11156" y="1382"/>
                    </a:lnTo>
                    <a:lnTo>
                      <a:pt x="11156" y="1400"/>
                    </a:lnTo>
                    <a:lnTo>
                      <a:pt x="11138" y="1400"/>
                    </a:lnTo>
                    <a:lnTo>
                      <a:pt x="11138" y="1400"/>
                    </a:lnTo>
                    <a:lnTo>
                      <a:pt x="11119" y="1419"/>
                    </a:lnTo>
                    <a:lnTo>
                      <a:pt x="7286" y="1419"/>
                    </a:lnTo>
                    <a:lnTo>
                      <a:pt x="7834" y="1050"/>
                    </a:lnTo>
                    <a:lnTo>
                      <a:pt x="7815" y="1032"/>
                    </a:lnTo>
                    <a:lnTo>
                      <a:pt x="7815" y="1013"/>
                    </a:lnTo>
                    <a:lnTo>
                      <a:pt x="7815" y="995"/>
                    </a:lnTo>
                    <a:lnTo>
                      <a:pt x="7815" y="995"/>
                    </a:lnTo>
                    <a:lnTo>
                      <a:pt x="7815" y="1013"/>
                    </a:lnTo>
                    <a:lnTo>
                      <a:pt x="7815" y="1013"/>
                    </a:lnTo>
                    <a:lnTo>
                      <a:pt x="7815" y="1032"/>
                    </a:lnTo>
                    <a:lnTo>
                      <a:pt x="7815" y="1050"/>
                    </a:lnTo>
                    <a:lnTo>
                      <a:pt x="7834" y="1050"/>
                    </a:lnTo>
                    <a:lnTo>
                      <a:pt x="7834" y="1069"/>
                    </a:lnTo>
                    <a:lnTo>
                      <a:pt x="7834" y="1069"/>
                    </a:lnTo>
                    <a:lnTo>
                      <a:pt x="7834" y="1069"/>
                    </a:lnTo>
                    <a:lnTo>
                      <a:pt x="7815" y="1069"/>
                    </a:lnTo>
                    <a:lnTo>
                      <a:pt x="7815" y="1050"/>
                    </a:lnTo>
                    <a:lnTo>
                      <a:pt x="7796" y="1032"/>
                    </a:lnTo>
                    <a:lnTo>
                      <a:pt x="7777" y="995"/>
                    </a:lnTo>
                    <a:lnTo>
                      <a:pt x="7758" y="1013"/>
                    </a:lnTo>
                    <a:lnTo>
                      <a:pt x="7721" y="1032"/>
                    </a:lnTo>
                    <a:lnTo>
                      <a:pt x="7702" y="1050"/>
                    </a:lnTo>
                    <a:lnTo>
                      <a:pt x="7683" y="1069"/>
                    </a:lnTo>
                    <a:lnTo>
                      <a:pt x="7645" y="1087"/>
                    </a:lnTo>
                    <a:lnTo>
                      <a:pt x="7626" y="1106"/>
                    </a:lnTo>
                    <a:lnTo>
                      <a:pt x="7589" y="1106"/>
                    </a:lnTo>
                    <a:lnTo>
                      <a:pt x="7570" y="1124"/>
                    </a:lnTo>
                    <a:lnTo>
                      <a:pt x="7551" y="1143"/>
                    </a:lnTo>
                    <a:lnTo>
                      <a:pt x="7513" y="1143"/>
                    </a:lnTo>
                    <a:lnTo>
                      <a:pt x="7494" y="1161"/>
                    </a:lnTo>
                    <a:lnTo>
                      <a:pt x="7457" y="1161"/>
                    </a:lnTo>
                    <a:lnTo>
                      <a:pt x="7438" y="1179"/>
                    </a:lnTo>
                    <a:lnTo>
                      <a:pt x="7400" y="1179"/>
                    </a:lnTo>
                    <a:lnTo>
                      <a:pt x="7381" y="1197"/>
                    </a:lnTo>
                    <a:lnTo>
                      <a:pt x="7343" y="1197"/>
                    </a:lnTo>
                    <a:lnTo>
                      <a:pt x="7324" y="1215"/>
                    </a:lnTo>
                    <a:lnTo>
                      <a:pt x="7286" y="1215"/>
                    </a:lnTo>
                    <a:lnTo>
                      <a:pt x="7267" y="1234"/>
                    </a:lnTo>
                    <a:lnTo>
                      <a:pt x="7230" y="1252"/>
                    </a:lnTo>
                    <a:lnTo>
                      <a:pt x="7212" y="1252"/>
                    </a:lnTo>
                    <a:lnTo>
                      <a:pt x="7193" y="1271"/>
                    </a:lnTo>
                    <a:lnTo>
                      <a:pt x="7155" y="1271"/>
                    </a:lnTo>
                    <a:lnTo>
                      <a:pt x="7136" y="1289"/>
                    </a:lnTo>
                    <a:lnTo>
                      <a:pt x="7098" y="1308"/>
                    </a:lnTo>
                    <a:lnTo>
                      <a:pt x="7079" y="1308"/>
                    </a:lnTo>
                    <a:lnTo>
                      <a:pt x="7041" y="1326"/>
                    </a:lnTo>
                    <a:lnTo>
                      <a:pt x="7022" y="1345"/>
                    </a:lnTo>
                    <a:lnTo>
                      <a:pt x="7003" y="1363"/>
                    </a:lnTo>
                    <a:lnTo>
                      <a:pt x="6965" y="1382"/>
                    </a:lnTo>
                    <a:lnTo>
                      <a:pt x="6946" y="1400"/>
                    </a:lnTo>
                    <a:lnTo>
                      <a:pt x="6909" y="1419"/>
                    </a:lnTo>
                    <a:lnTo>
                      <a:pt x="1963" y="1419"/>
                    </a:lnTo>
                    <a:lnTo>
                      <a:pt x="3436" y="276"/>
                    </a:lnTo>
                    <a:lnTo>
                      <a:pt x="3436" y="276"/>
                    </a:lnTo>
                    <a:lnTo>
                      <a:pt x="3436" y="276"/>
                    </a:lnTo>
                    <a:lnTo>
                      <a:pt x="3436" y="258"/>
                    </a:lnTo>
                    <a:lnTo>
                      <a:pt x="3436" y="258"/>
                    </a:lnTo>
                    <a:lnTo>
                      <a:pt x="3436" y="239"/>
                    </a:lnTo>
                    <a:lnTo>
                      <a:pt x="3436" y="221"/>
                    </a:lnTo>
                    <a:lnTo>
                      <a:pt x="3436" y="202"/>
                    </a:lnTo>
                    <a:lnTo>
                      <a:pt x="3436" y="202"/>
                    </a:lnTo>
                    <a:lnTo>
                      <a:pt x="1737" y="1106"/>
                    </a:lnTo>
                    <a:lnTo>
                      <a:pt x="1302" y="1419"/>
                    </a:lnTo>
                    <a:lnTo>
                      <a:pt x="19" y="1419"/>
                    </a:lnTo>
                    <a:lnTo>
                      <a:pt x="0" y="1363"/>
                    </a:lnTo>
                    <a:lnTo>
                      <a:pt x="793" y="424"/>
                    </a:lnTo>
                    <a:lnTo>
                      <a:pt x="793" y="424"/>
                    </a:lnTo>
                    <a:lnTo>
                      <a:pt x="793" y="406"/>
                    </a:lnTo>
                    <a:lnTo>
                      <a:pt x="793" y="387"/>
                    </a:lnTo>
                    <a:lnTo>
                      <a:pt x="793" y="387"/>
                    </a:lnTo>
                    <a:lnTo>
                      <a:pt x="793" y="369"/>
                    </a:lnTo>
                    <a:lnTo>
                      <a:pt x="774" y="369"/>
                    </a:lnTo>
                    <a:lnTo>
                      <a:pt x="774" y="350"/>
                    </a:lnTo>
                    <a:lnTo>
                      <a:pt x="756" y="350"/>
                    </a:lnTo>
                    <a:lnTo>
                      <a:pt x="566" y="534"/>
                    </a:lnTo>
                    <a:lnTo>
                      <a:pt x="547" y="534"/>
                    </a:lnTo>
                    <a:lnTo>
                      <a:pt x="547" y="534"/>
                    </a:lnTo>
                    <a:lnTo>
                      <a:pt x="529" y="534"/>
                    </a:lnTo>
                    <a:lnTo>
                      <a:pt x="529" y="515"/>
                    </a:lnTo>
                    <a:lnTo>
                      <a:pt x="510" y="515"/>
                    </a:lnTo>
                    <a:lnTo>
                      <a:pt x="510" y="515"/>
                    </a:lnTo>
                    <a:lnTo>
                      <a:pt x="492" y="515"/>
                    </a:lnTo>
                    <a:lnTo>
                      <a:pt x="492" y="497"/>
                    </a:lnTo>
                    <a:lnTo>
                      <a:pt x="264" y="0"/>
                    </a:lnTo>
                    <a:lnTo>
                      <a:pt x="1247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83" name="Freeform 15"/>
              <p:cNvSpPr/>
              <p:nvPr/>
            </p:nvSpPr>
            <p:spPr>
              <a:xfrm>
                <a:off x="2880720" y="2314080"/>
                <a:ext cx="2720880" cy="123840"/>
              </a:xfrm>
              <a:custGeom>
                <a:avLst/>
                <a:gdLst/>
                <a:ahLst/>
                <a:rect l="l" t="t" r="r" b="b"/>
                <a:pathLst>
                  <a:path w="11836" h="1419">
                    <a:moveTo>
                      <a:pt x="11194" y="0"/>
                    </a:moveTo>
                    <a:lnTo>
                      <a:pt x="11194" y="663"/>
                    </a:lnTo>
                    <a:lnTo>
                      <a:pt x="11175" y="682"/>
                    </a:lnTo>
                    <a:lnTo>
                      <a:pt x="11138" y="719"/>
                    </a:lnTo>
                    <a:lnTo>
                      <a:pt x="11100" y="737"/>
                    </a:lnTo>
                    <a:lnTo>
                      <a:pt x="11062" y="756"/>
                    </a:lnTo>
                    <a:lnTo>
                      <a:pt x="11024" y="793"/>
                    </a:lnTo>
                    <a:lnTo>
                      <a:pt x="10968" y="810"/>
                    </a:lnTo>
                    <a:lnTo>
                      <a:pt x="10930" y="829"/>
                    </a:lnTo>
                    <a:lnTo>
                      <a:pt x="10892" y="847"/>
                    </a:lnTo>
                    <a:lnTo>
                      <a:pt x="10854" y="866"/>
                    </a:lnTo>
                    <a:lnTo>
                      <a:pt x="10816" y="884"/>
                    </a:lnTo>
                    <a:lnTo>
                      <a:pt x="10760" y="921"/>
                    </a:lnTo>
                    <a:lnTo>
                      <a:pt x="10722" y="939"/>
                    </a:lnTo>
                    <a:lnTo>
                      <a:pt x="10666" y="958"/>
                    </a:lnTo>
                    <a:lnTo>
                      <a:pt x="10628" y="976"/>
                    </a:lnTo>
                    <a:lnTo>
                      <a:pt x="10590" y="995"/>
                    </a:lnTo>
                    <a:lnTo>
                      <a:pt x="10533" y="1013"/>
                    </a:lnTo>
                    <a:lnTo>
                      <a:pt x="10495" y="1032"/>
                    </a:lnTo>
                    <a:lnTo>
                      <a:pt x="10440" y="1050"/>
                    </a:lnTo>
                    <a:lnTo>
                      <a:pt x="10402" y="1069"/>
                    </a:lnTo>
                    <a:lnTo>
                      <a:pt x="10345" y="1087"/>
                    </a:lnTo>
                    <a:lnTo>
                      <a:pt x="10307" y="1106"/>
                    </a:lnTo>
                    <a:lnTo>
                      <a:pt x="10269" y="1106"/>
                    </a:lnTo>
                    <a:lnTo>
                      <a:pt x="10212" y="1124"/>
                    </a:lnTo>
                    <a:lnTo>
                      <a:pt x="10174" y="1143"/>
                    </a:lnTo>
                    <a:lnTo>
                      <a:pt x="10118" y="1160"/>
                    </a:lnTo>
                    <a:lnTo>
                      <a:pt x="10081" y="1179"/>
                    </a:lnTo>
                    <a:lnTo>
                      <a:pt x="10043" y="1197"/>
                    </a:lnTo>
                    <a:lnTo>
                      <a:pt x="9986" y="1216"/>
                    </a:lnTo>
                    <a:lnTo>
                      <a:pt x="9948" y="1234"/>
                    </a:lnTo>
                    <a:lnTo>
                      <a:pt x="9910" y="1253"/>
                    </a:lnTo>
                    <a:lnTo>
                      <a:pt x="9854" y="1271"/>
                    </a:lnTo>
                    <a:lnTo>
                      <a:pt x="9816" y="1289"/>
                    </a:lnTo>
                    <a:lnTo>
                      <a:pt x="9797" y="1308"/>
                    </a:lnTo>
                    <a:lnTo>
                      <a:pt x="9778" y="1308"/>
                    </a:lnTo>
                    <a:lnTo>
                      <a:pt x="9759" y="1308"/>
                    </a:lnTo>
                    <a:lnTo>
                      <a:pt x="9759" y="1326"/>
                    </a:lnTo>
                    <a:lnTo>
                      <a:pt x="9740" y="1326"/>
                    </a:lnTo>
                    <a:lnTo>
                      <a:pt x="9740" y="1326"/>
                    </a:lnTo>
                    <a:lnTo>
                      <a:pt x="9722" y="1345"/>
                    </a:lnTo>
                    <a:lnTo>
                      <a:pt x="9722" y="1345"/>
                    </a:lnTo>
                    <a:lnTo>
                      <a:pt x="9722" y="1345"/>
                    </a:lnTo>
                    <a:lnTo>
                      <a:pt x="9722" y="1345"/>
                    </a:lnTo>
                    <a:lnTo>
                      <a:pt x="9722" y="1363"/>
                    </a:lnTo>
                    <a:lnTo>
                      <a:pt x="9722" y="1363"/>
                    </a:lnTo>
                    <a:lnTo>
                      <a:pt x="9722" y="1382"/>
                    </a:lnTo>
                    <a:lnTo>
                      <a:pt x="9722" y="1382"/>
                    </a:lnTo>
                    <a:lnTo>
                      <a:pt x="9722" y="1400"/>
                    </a:lnTo>
                    <a:lnTo>
                      <a:pt x="9722" y="1400"/>
                    </a:lnTo>
                    <a:lnTo>
                      <a:pt x="11817" y="1013"/>
                    </a:lnTo>
                    <a:lnTo>
                      <a:pt x="11836" y="1419"/>
                    </a:lnTo>
                    <a:lnTo>
                      <a:pt x="6267" y="1419"/>
                    </a:lnTo>
                    <a:lnTo>
                      <a:pt x="7834" y="350"/>
                    </a:lnTo>
                    <a:lnTo>
                      <a:pt x="7815" y="332"/>
                    </a:lnTo>
                    <a:lnTo>
                      <a:pt x="7815" y="313"/>
                    </a:lnTo>
                    <a:lnTo>
                      <a:pt x="7815" y="295"/>
                    </a:lnTo>
                    <a:lnTo>
                      <a:pt x="7815" y="295"/>
                    </a:lnTo>
                    <a:lnTo>
                      <a:pt x="7815" y="313"/>
                    </a:lnTo>
                    <a:lnTo>
                      <a:pt x="7815" y="313"/>
                    </a:lnTo>
                    <a:lnTo>
                      <a:pt x="7815" y="332"/>
                    </a:lnTo>
                    <a:lnTo>
                      <a:pt x="7815" y="350"/>
                    </a:lnTo>
                    <a:lnTo>
                      <a:pt x="7834" y="350"/>
                    </a:lnTo>
                    <a:lnTo>
                      <a:pt x="7834" y="369"/>
                    </a:lnTo>
                    <a:lnTo>
                      <a:pt x="7834" y="369"/>
                    </a:lnTo>
                    <a:lnTo>
                      <a:pt x="7834" y="369"/>
                    </a:lnTo>
                    <a:lnTo>
                      <a:pt x="7815" y="369"/>
                    </a:lnTo>
                    <a:lnTo>
                      <a:pt x="7815" y="350"/>
                    </a:lnTo>
                    <a:lnTo>
                      <a:pt x="7796" y="332"/>
                    </a:lnTo>
                    <a:lnTo>
                      <a:pt x="7777" y="295"/>
                    </a:lnTo>
                    <a:lnTo>
                      <a:pt x="7758" y="313"/>
                    </a:lnTo>
                    <a:lnTo>
                      <a:pt x="7721" y="332"/>
                    </a:lnTo>
                    <a:lnTo>
                      <a:pt x="7702" y="350"/>
                    </a:lnTo>
                    <a:lnTo>
                      <a:pt x="7664" y="369"/>
                    </a:lnTo>
                    <a:lnTo>
                      <a:pt x="7645" y="387"/>
                    </a:lnTo>
                    <a:lnTo>
                      <a:pt x="7608" y="406"/>
                    </a:lnTo>
                    <a:lnTo>
                      <a:pt x="7589" y="406"/>
                    </a:lnTo>
                    <a:lnTo>
                      <a:pt x="7551" y="424"/>
                    </a:lnTo>
                    <a:lnTo>
                      <a:pt x="7532" y="443"/>
                    </a:lnTo>
                    <a:lnTo>
                      <a:pt x="7494" y="443"/>
                    </a:lnTo>
                    <a:lnTo>
                      <a:pt x="7476" y="461"/>
                    </a:lnTo>
                    <a:lnTo>
                      <a:pt x="7438" y="479"/>
                    </a:lnTo>
                    <a:lnTo>
                      <a:pt x="7419" y="479"/>
                    </a:lnTo>
                    <a:lnTo>
                      <a:pt x="7381" y="497"/>
                    </a:lnTo>
                    <a:lnTo>
                      <a:pt x="7362" y="497"/>
                    </a:lnTo>
                    <a:lnTo>
                      <a:pt x="7324" y="515"/>
                    </a:lnTo>
                    <a:lnTo>
                      <a:pt x="7305" y="515"/>
                    </a:lnTo>
                    <a:lnTo>
                      <a:pt x="7267" y="534"/>
                    </a:lnTo>
                    <a:lnTo>
                      <a:pt x="7249" y="534"/>
                    </a:lnTo>
                    <a:lnTo>
                      <a:pt x="7212" y="552"/>
                    </a:lnTo>
                    <a:lnTo>
                      <a:pt x="7193" y="571"/>
                    </a:lnTo>
                    <a:lnTo>
                      <a:pt x="7155" y="571"/>
                    </a:lnTo>
                    <a:lnTo>
                      <a:pt x="7136" y="589"/>
                    </a:lnTo>
                    <a:lnTo>
                      <a:pt x="7098" y="608"/>
                    </a:lnTo>
                    <a:lnTo>
                      <a:pt x="7079" y="608"/>
                    </a:lnTo>
                    <a:lnTo>
                      <a:pt x="7041" y="626"/>
                    </a:lnTo>
                    <a:lnTo>
                      <a:pt x="7022" y="645"/>
                    </a:lnTo>
                    <a:lnTo>
                      <a:pt x="6984" y="663"/>
                    </a:lnTo>
                    <a:lnTo>
                      <a:pt x="6965" y="682"/>
                    </a:lnTo>
                    <a:lnTo>
                      <a:pt x="6946" y="700"/>
                    </a:lnTo>
                    <a:lnTo>
                      <a:pt x="6909" y="719"/>
                    </a:lnTo>
                    <a:lnTo>
                      <a:pt x="6891" y="737"/>
                    </a:lnTo>
                    <a:lnTo>
                      <a:pt x="6853" y="756"/>
                    </a:lnTo>
                    <a:lnTo>
                      <a:pt x="6834" y="774"/>
                    </a:lnTo>
                    <a:lnTo>
                      <a:pt x="6796" y="793"/>
                    </a:lnTo>
                    <a:lnTo>
                      <a:pt x="6777" y="793"/>
                    </a:lnTo>
                    <a:lnTo>
                      <a:pt x="6739" y="810"/>
                    </a:lnTo>
                    <a:lnTo>
                      <a:pt x="6720" y="829"/>
                    </a:lnTo>
                    <a:lnTo>
                      <a:pt x="6682" y="847"/>
                    </a:lnTo>
                    <a:lnTo>
                      <a:pt x="6664" y="847"/>
                    </a:lnTo>
                    <a:lnTo>
                      <a:pt x="6645" y="866"/>
                    </a:lnTo>
                    <a:lnTo>
                      <a:pt x="6607" y="866"/>
                    </a:lnTo>
                    <a:lnTo>
                      <a:pt x="6588" y="884"/>
                    </a:lnTo>
                    <a:lnTo>
                      <a:pt x="6551" y="902"/>
                    </a:lnTo>
                    <a:lnTo>
                      <a:pt x="6532" y="902"/>
                    </a:lnTo>
                    <a:lnTo>
                      <a:pt x="6494" y="921"/>
                    </a:lnTo>
                    <a:lnTo>
                      <a:pt x="6475" y="921"/>
                    </a:lnTo>
                    <a:lnTo>
                      <a:pt x="6437" y="939"/>
                    </a:lnTo>
                    <a:lnTo>
                      <a:pt x="6418" y="939"/>
                    </a:lnTo>
                    <a:lnTo>
                      <a:pt x="6381" y="958"/>
                    </a:lnTo>
                    <a:lnTo>
                      <a:pt x="6362" y="958"/>
                    </a:lnTo>
                    <a:lnTo>
                      <a:pt x="6324" y="976"/>
                    </a:lnTo>
                    <a:lnTo>
                      <a:pt x="6286" y="995"/>
                    </a:lnTo>
                    <a:lnTo>
                      <a:pt x="6267" y="995"/>
                    </a:lnTo>
                    <a:lnTo>
                      <a:pt x="6229" y="1013"/>
                    </a:lnTo>
                    <a:lnTo>
                      <a:pt x="6210" y="1013"/>
                    </a:lnTo>
                    <a:lnTo>
                      <a:pt x="6173" y="1032"/>
                    </a:lnTo>
                    <a:lnTo>
                      <a:pt x="6154" y="1050"/>
                    </a:lnTo>
                    <a:lnTo>
                      <a:pt x="6117" y="1050"/>
                    </a:lnTo>
                    <a:lnTo>
                      <a:pt x="6098" y="1069"/>
                    </a:lnTo>
                    <a:lnTo>
                      <a:pt x="6060" y="1087"/>
                    </a:lnTo>
                    <a:lnTo>
                      <a:pt x="6041" y="1106"/>
                    </a:lnTo>
                    <a:lnTo>
                      <a:pt x="6003" y="1106"/>
                    </a:lnTo>
                    <a:lnTo>
                      <a:pt x="5984" y="1124"/>
                    </a:lnTo>
                    <a:lnTo>
                      <a:pt x="5946" y="1143"/>
                    </a:lnTo>
                    <a:lnTo>
                      <a:pt x="5908" y="1160"/>
                    </a:lnTo>
                    <a:lnTo>
                      <a:pt x="5889" y="1179"/>
                    </a:lnTo>
                    <a:lnTo>
                      <a:pt x="5852" y="1197"/>
                    </a:lnTo>
                    <a:lnTo>
                      <a:pt x="5815" y="1216"/>
                    </a:lnTo>
                    <a:lnTo>
                      <a:pt x="5777" y="1234"/>
                    </a:lnTo>
                    <a:lnTo>
                      <a:pt x="5758" y="1253"/>
                    </a:lnTo>
                    <a:lnTo>
                      <a:pt x="5720" y="1271"/>
                    </a:lnTo>
                    <a:lnTo>
                      <a:pt x="5682" y="1289"/>
                    </a:lnTo>
                    <a:lnTo>
                      <a:pt x="5663" y="1308"/>
                    </a:lnTo>
                    <a:lnTo>
                      <a:pt x="5625" y="1326"/>
                    </a:lnTo>
                    <a:lnTo>
                      <a:pt x="5588" y="1345"/>
                    </a:lnTo>
                    <a:lnTo>
                      <a:pt x="5550" y="1363"/>
                    </a:lnTo>
                    <a:lnTo>
                      <a:pt x="5512" y="1382"/>
                    </a:lnTo>
                    <a:lnTo>
                      <a:pt x="5493" y="1400"/>
                    </a:lnTo>
                    <a:lnTo>
                      <a:pt x="5456" y="1419"/>
                    </a:lnTo>
                    <a:lnTo>
                      <a:pt x="1397" y="1419"/>
                    </a:lnTo>
                    <a:lnTo>
                      <a:pt x="1321" y="1197"/>
                    </a:lnTo>
                    <a:lnTo>
                      <a:pt x="2889" y="0"/>
                    </a:lnTo>
                    <a:lnTo>
                      <a:pt x="11194" y="0"/>
                    </a:lnTo>
                    <a:close/>
                    <a:moveTo>
                      <a:pt x="2473" y="0"/>
                    </a:moveTo>
                    <a:lnTo>
                      <a:pt x="1737" y="406"/>
                    </a:lnTo>
                    <a:lnTo>
                      <a:pt x="416" y="1382"/>
                    </a:lnTo>
                    <a:lnTo>
                      <a:pt x="245" y="1289"/>
                    </a:lnTo>
                    <a:lnTo>
                      <a:pt x="0" y="663"/>
                    </a:lnTo>
                    <a:lnTo>
                      <a:pt x="547" y="0"/>
                    </a:lnTo>
                    <a:lnTo>
                      <a:pt x="247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84" name="Freeform 16"/>
              <p:cNvSpPr/>
              <p:nvPr/>
            </p:nvSpPr>
            <p:spPr>
              <a:xfrm>
                <a:off x="2884680" y="2377800"/>
                <a:ext cx="2795040" cy="122040"/>
              </a:xfrm>
              <a:custGeom>
                <a:avLst/>
                <a:gdLst/>
                <a:ahLst/>
                <a:rect l="l" t="t" r="r" b="b"/>
                <a:pathLst>
                  <a:path w="12157" h="1418">
                    <a:moveTo>
                      <a:pt x="11100" y="0"/>
                    </a:moveTo>
                    <a:lnTo>
                      <a:pt x="11062" y="18"/>
                    </a:lnTo>
                    <a:lnTo>
                      <a:pt x="11043" y="37"/>
                    </a:lnTo>
                    <a:lnTo>
                      <a:pt x="11005" y="74"/>
                    </a:lnTo>
                    <a:lnTo>
                      <a:pt x="10967" y="91"/>
                    </a:lnTo>
                    <a:lnTo>
                      <a:pt x="10930" y="110"/>
                    </a:lnTo>
                    <a:lnTo>
                      <a:pt x="10892" y="128"/>
                    </a:lnTo>
                    <a:lnTo>
                      <a:pt x="10835" y="147"/>
                    </a:lnTo>
                    <a:lnTo>
                      <a:pt x="10797" y="165"/>
                    </a:lnTo>
                    <a:lnTo>
                      <a:pt x="10760" y="183"/>
                    </a:lnTo>
                    <a:lnTo>
                      <a:pt x="10722" y="202"/>
                    </a:lnTo>
                    <a:lnTo>
                      <a:pt x="10685" y="220"/>
                    </a:lnTo>
                    <a:lnTo>
                      <a:pt x="10647" y="239"/>
                    </a:lnTo>
                    <a:lnTo>
                      <a:pt x="10590" y="257"/>
                    </a:lnTo>
                    <a:lnTo>
                      <a:pt x="10552" y="276"/>
                    </a:lnTo>
                    <a:lnTo>
                      <a:pt x="10514" y="294"/>
                    </a:lnTo>
                    <a:lnTo>
                      <a:pt x="10476" y="313"/>
                    </a:lnTo>
                    <a:lnTo>
                      <a:pt x="10421" y="331"/>
                    </a:lnTo>
                    <a:lnTo>
                      <a:pt x="10383" y="350"/>
                    </a:lnTo>
                    <a:lnTo>
                      <a:pt x="10345" y="350"/>
                    </a:lnTo>
                    <a:lnTo>
                      <a:pt x="10307" y="368"/>
                    </a:lnTo>
                    <a:lnTo>
                      <a:pt x="10250" y="387"/>
                    </a:lnTo>
                    <a:lnTo>
                      <a:pt x="10212" y="405"/>
                    </a:lnTo>
                    <a:lnTo>
                      <a:pt x="10174" y="424"/>
                    </a:lnTo>
                    <a:lnTo>
                      <a:pt x="10118" y="441"/>
                    </a:lnTo>
                    <a:lnTo>
                      <a:pt x="10080" y="460"/>
                    </a:lnTo>
                    <a:lnTo>
                      <a:pt x="10043" y="478"/>
                    </a:lnTo>
                    <a:lnTo>
                      <a:pt x="10005" y="497"/>
                    </a:lnTo>
                    <a:lnTo>
                      <a:pt x="9967" y="515"/>
                    </a:lnTo>
                    <a:lnTo>
                      <a:pt x="9910" y="515"/>
                    </a:lnTo>
                    <a:lnTo>
                      <a:pt x="9873" y="534"/>
                    </a:lnTo>
                    <a:lnTo>
                      <a:pt x="9835" y="552"/>
                    </a:lnTo>
                    <a:lnTo>
                      <a:pt x="9797" y="570"/>
                    </a:lnTo>
                    <a:lnTo>
                      <a:pt x="9778" y="589"/>
                    </a:lnTo>
                    <a:lnTo>
                      <a:pt x="9759" y="589"/>
                    </a:lnTo>
                    <a:lnTo>
                      <a:pt x="9740" y="589"/>
                    </a:lnTo>
                    <a:lnTo>
                      <a:pt x="9740" y="607"/>
                    </a:lnTo>
                    <a:lnTo>
                      <a:pt x="9721" y="607"/>
                    </a:lnTo>
                    <a:lnTo>
                      <a:pt x="9721" y="607"/>
                    </a:lnTo>
                    <a:lnTo>
                      <a:pt x="9703" y="626"/>
                    </a:lnTo>
                    <a:lnTo>
                      <a:pt x="9703" y="626"/>
                    </a:lnTo>
                    <a:lnTo>
                      <a:pt x="9703" y="626"/>
                    </a:lnTo>
                    <a:lnTo>
                      <a:pt x="9703" y="626"/>
                    </a:lnTo>
                    <a:lnTo>
                      <a:pt x="9703" y="644"/>
                    </a:lnTo>
                    <a:lnTo>
                      <a:pt x="9703" y="644"/>
                    </a:lnTo>
                    <a:lnTo>
                      <a:pt x="9703" y="663"/>
                    </a:lnTo>
                    <a:lnTo>
                      <a:pt x="9703" y="663"/>
                    </a:lnTo>
                    <a:lnTo>
                      <a:pt x="9703" y="681"/>
                    </a:lnTo>
                    <a:lnTo>
                      <a:pt x="9703" y="681"/>
                    </a:lnTo>
                    <a:lnTo>
                      <a:pt x="11798" y="294"/>
                    </a:lnTo>
                    <a:lnTo>
                      <a:pt x="11836" y="1068"/>
                    </a:lnTo>
                    <a:lnTo>
                      <a:pt x="11854" y="1087"/>
                    </a:lnTo>
                    <a:lnTo>
                      <a:pt x="11854" y="1124"/>
                    </a:lnTo>
                    <a:lnTo>
                      <a:pt x="11873" y="1141"/>
                    </a:lnTo>
                    <a:lnTo>
                      <a:pt x="11892" y="1141"/>
                    </a:lnTo>
                    <a:lnTo>
                      <a:pt x="11892" y="1160"/>
                    </a:lnTo>
                    <a:lnTo>
                      <a:pt x="11911" y="1160"/>
                    </a:lnTo>
                    <a:lnTo>
                      <a:pt x="11930" y="1141"/>
                    </a:lnTo>
                    <a:lnTo>
                      <a:pt x="11949" y="1141"/>
                    </a:lnTo>
                    <a:lnTo>
                      <a:pt x="11987" y="1141"/>
                    </a:lnTo>
                    <a:lnTo>
                      <a:pt x="12006" y="1124"/>
                    </a:lnTo>
                    <a:lnTo>
                      <a:pt x="12025" y="1124"/>
                    </a:lnTo>
                    <a:lnTo>
                      <a:pt x="12043" y="1105"/>
                    </a:lnTo>
                    <a:lnTo>
                      <a:pt x="12062" y="1105"/>
                    </a:lnTo>
                    <a:lnTo>
                      <a:pt x="12081" y="1105"/>
                    </a:lnTo>
                    <a:lnTo>
                      <a:pt x="12100" y="1105"/>
                    </a:lnTo>
                    <a:lnTo>
                      <a:pt x="12119" y="1124"/>
                    </a:lnTo>
                    <a:lnTo>
                      <a:pt x="12157" y="1418"/>
                    </a:lnTo>
                    <a:lnTo>
                      <a:pt x="5191" y="1418"/>
                    </a:lnTo>
                    <a:lnTo>
                      <a:pt x="6173" y="755"/>
                    </a:lnTo>
                    <a:lnTo>
                      <a:pt x="7267" y="0"/>
                    </a:lnTo>
                    <a:lnTo>
                      <a:pt x="11100" y="0"/>
                    </a:lnTo>
                    <a:close/>
                    <a:moveTo>
                      <a:pt x="6890" y="0"/>
                    </a:moveTo>
                    <a:lnTo>
                      <a:pt x="6890" y="0"/>
                    </a:lnTo>
                    <a:lnTo>
                      <a:pt x="6890" y="0"/>
                    </a:lnTo>
                    <a:lnTo>
                      <a:pt x="6890" y="0"/>
                    </a:lnTo>
                    <a:lnTo>
                      <a:pt x="6890" y="18"/>
                    </a:lnTo>
                    <a:lnTo>
                      <a:pt x="6872" y="18"/>
                    </a:lnTo>
                    <a:lnTo>
                      <a:pt x="6872" y="18"/>
                    </a:lnTo>
                    <a:lnTo>
                      <a:pt x="6872" y="18"/>
                    </a:lnTo>
                    <a:lnTo>
                      <a:pt x="6872" y="18"/>
                    </a:lnTo>
                    <a:lnTo>
                      <a:pt x="6834" y="37"/>
                    </a:lnTo>
                    <a:lnTo>
                      <a:pt x="6815" y="55"/>
                    </a:lnTo>
                    <a:lnTo>
                      <a:pt x="6777" y="74"/>
                    </a:lnTo>
                    <a:lnTo>
                      <a:pt x="6758" y="74"/>
                    </a:lnTo>
                    <a:lnTo>
                      <a:pt x="6720" y="91"/>
                    </a:lnTo>
                    <a:lnTo>
                      <a:pt x="6701" y="110"/>
                    </a:lnTo>
                    <a:lnTo>
                      <a:pt x="6663" y="128"/>
                    </a:lnTo>
                    <a:lnTo>
                      <a:pt x="6645" y="128"/>
                    </a:lnTo>
                    <a:lnTo>
                      <a:pt x="6626" y="147"/>
                    </a:lnTo>
                    <a:lnTo>
                      <a:pt x="6588" y="147"/>
                    </a:lnTo>
                    <a:lnTo>
                      <a:pt x="6569" y="165"/>
                    </a:lnTo>
                    <a:lnTo>
                      <a:pt x="6532" y="183"/>
                    </a:lnTo>
                    <a:lnTo>
                      <a:pt x="6513" y="183"/>
                    </a:lnTo>
                    <a:lnTo>
                      <a:pt x="6475" y="202"/>
                    </a:lnTo>
                    <a:lnTo>
                      <a:pt x="6456" y="202"/>
                    </a:lnTo>
                    <a:lnTo>
                      <a:pt x="6418" y="220"/>
                    </a:lnTo>
                    <a:lnTo>
                      <a:pt x="6399" y="220"/>
                    </a:lnTo>
                    <a:lnTo>
                      <a:pt x="6362" y="239"/>
                    </a:lnTo>
                    <a:lnTo>
                      <a:pt x="6343" y="239"/>
                    </a:lnTo>
                    <a:lnTo>
                      <a:pt x="6305" y="257"/>
                    </a:lnTo>
                    <a:lnTo>
                      <a:pt x="6267" y="276"/>
                    </a:lnTo>
                    <a:lnTo>
                      <a:pt x="6248" y="276"/>
                    </a:lnTo>
                    <a:lnTo>
                      <a:pt x="6210" y="294"/>
                    </a:lnTo>
                    <a:lnTo>
                      <a:pt x="6191" y="294"/>
                    </a:lnTo>
                    <a:lnTo>
                      <a:pt x="6154" y="313"/>
                    </a:lnTo>
                    <a:lnTo>
                      <a:pt x="6135" y="331"/>
                    </a:lnTo>
                    <a:lnTo>
                      <a:pt x="6098" y="331"/>
                    </a:lnTo>
                    <a:lnTo>
                      <a:pt x="6079" y="350"/>
                    </a:lnTo>
                    <a:lnTo>
                      <a:pt x="6041" y="368"/>
                    </a:lnTo>
                    <a:lnTo>
                      <a:pt x="6022" y="387"/>
                    </a:lnTo>
                    <a:lnTo>
                      <a:pt x="5984" y="387"/>
                    </a:lnTo>
                    <a:lnTo>
                      <a:pt x="5965" y="405"/>
                    </a:lnTo>
                    <a:lnTo>
                      <a:pt x="5908" y="441"/>
                    </a:lnTo>
                    <a:lnTo>
                      <a:pt x="5851" y="478"/>
                    </a:lnTo>
                    <a:lnTo>
                      <a:pt x="5796" y="497"/>
                    </a:lnTo>
                    <a:lnTo>
                      <a:pt x="5739" y="534"/>
                    </a:lnTo>
                    <a:lnTo>
                      <a:pt x="5682" y="570"/>
                    </a:lnTo>
                    <a:lnTo>
                      <a:pt x="5644" y="589"/>
                    </a:lnTo>
                    <a:lnTo>
                      <a:pt x="5587" y="626"/>
                    </a:lnTo>
                    <a:lnTo>
                      <a:pt x="5531" y="663"/>
                    </a:lnTo>
                    <a:lnTo>
                      <a:pt x="5474" y="681"/>
                    </a:lnTo>
                    <a:lnTo>
                      <a:pt x="5418" y="718"/>
                    </a:lnTo>
                    <a:lnTo>
                      <a:pt x="5361" y="755"/>
                    </a:lnTo>
                    <a:lnTo>
                      <a:pt x="5305" y="774"/>
                    </a:lnTo>
                    <a:lnTo>
                      <a:pt x="5248" y="810"/>
                    </a:lnTo>
                    <a:lnTo>
                      <a:pt x="5191" y="847"/>
                    </a:lnTo>
                    <a:lnTo>
                      <a:pt x="5134" y="865"/>
                    </a:lnTo>
                    <a:lnTo>
                      <a:pt x="5078" y="902"/>
                    </a:lnTo>
                    <a:lnTo>
                      <a:pt x="5022" y="939"/>
                    </a:lnTo>
                    <a:lnTo>
                      <a:pt x="4965" y="976"/>
                    </a:lnTo>
                    <a:lnTo>
                      <a:pt x="4927" y="994"/>
                    </a:lnTo>
                    <a:lnTo>
                      <a:pt x="4870" y="1031"/>
                    </a:lnTo>
                    <a:lnTo>
                      <a:pt x="4813" y="1068"/>
                    </a:lnTo>
                    <a:lnTo>
                      <a:pt x="4758" y="1087"/>
                    </a:lnTo>
                    <a:lnTo>
                      <a:pt x="4701" y="1124"/>
                    </a:lnTo>
                    <a:lnTo>
                      <a:pt x="4644" y="1160"/>
                    </a:lnTo>
                    <a:lnTo>
                      <a:pt x="4587" y="1197"/>
                    </a:lnTo>
                    <a:lnTo>
                      <a:pt x="4530" y="1215"/>
                    </a:lnTo>
                    <a:lnTo>
                      <a:pt x="4493" y="1252"/>
                    </a:lnTo>
                    <a:lnTo>
                      <a:pt x="4436" y="1289"/>
                    </a:lnTo>
                    <a:lnTo>
                      <a:pt x="4380" y="1326"/>
                    </a:lnTo>
                    <a:lnTo>
                      <a:pt x="4323" y="1345"/>
                    </a:lnTo>
                    <a:lnTo>
                      <a:pt x="4266" y="1381"/>
                    </a:lnTo>
                    <a:lnTo>
                      <a:pt x="4229" y="1418"/>
                    </a:lnTo>
                    <a:lnTo>
                      <a:pt x="3115" y="1418"/>
                    </a:lnTo>
                    <a:lnTo>
                      <a:pt x="3096" y="1363"/>
                    </a:lnTo>
                    <a:lnTo>
                      <a:pt x="3020" y="1418"/>
                    </a:lnTo>
                    <a:lnTo>
                      <a:pt x="1416" y="1418"/>
                    </a:lnTo>
                    <a:lnTo>
                      <a:pt x="1435" y="1400"/>
                    </a:lnTo>
                    <a:lnTo>
                      <a:pt x="1454" y="1400"/>
                    </a:lnTo>
                    <a:lnTo>
                      <a:pt x="1473" y="1381"/>
                    </a:lnTo>
                    <a:lnTo>
                      <a:pt x="1492" y="1363"/>
                    </a:lnTo>
                    <a:lnTo>
                      <a:pt x="1492" y="1363"/>
                    </a:lnTo>
                    <a:lnTo>
                      <a:pt x="1511" y="1345"/>
                    </a:lnTo>
                    <a:lnTo>
                      <a:pt x="1530" y="1326"/>
                    </a:lnTo>
                    <a:lnTo>
                      <a:pt x="1549" y="1308"/>
                    </a:lnTo>
                    <a:lnTo>
                      <a:pt x="1302" y="478"/>
                    </a:lnTo>
                    <a:lnTo>
                      <a:pt x="1944" y="0"/>
                    </a:lnTo>
                    <a:lnTo>
                      <a:pt x="6890" y="0"/>
                    </a:lnTo>
                    <a:close/>
                    <a:moveTo>
                      <a:pt x="1283" y="0"/>
                    </a:moveTo>
                    <a:lnTo>
                      <a:pt x="397" y="663"/>
                    </a:lnTo>
                    <a:lnTo>
                      <a:pt x="226" y="570"/>
                    </a:lnTo>
                    <a:lnTo>
                      <a:pt x="0" y="0"/>
                    </a:lnTo>
                    <a:lnTo>
                      <a:pt x="128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85" name="Freeform 17"/>
              <p:cNvSpPr/>
              <p:nvPr/>
            </p:nvSpPr>
            <p:spPr>
              <a:xfrm>
                <a:off x="3165120" y="2437920"/>
                <a:ext cx="2519640" cy="121680"/>
              </a:xfrm>
              <a:custGeom>
                <a:avLst/>
                <a:gdLst/>
                <a:ahLst/>
                <a:rect l="l" t="t" r="r" b="b"/>
                <a:pathLst>
                  <a:path w="10967" h="1419">
                    <a:moveTo>
                      <a:pt x="10608" y="0"/>
                    </a:moveTo>
                    <a:lnTo>
                      <a:pt x="10627" y="368"/>
                    </a:lnTo>
                    <a:lnTo>
                      <a:pt x="10645" y="387"/>
                    </a:lnTo>
                    <a:lnTo>
                      <a:pt x="10645" y="424"/>
                    </a:lnTo>
                    <a:lnTo>
                      <a:pt x="10664" y="441"/>
                    </a:lnTo>
                    <a:lnTo>
                      <a:pt x="10683" y="441"/>
                    </a:lnTo>
                    <a:lnTo>
                      <a:pt x="10683" y="460"/>
                    </a:lnTo>
                    <a:lnTo>
                      <a:pt x="10702" y="460"/>
                    </a:lnTo>
                    <a:lnTo>
                      <a:pt x="10721" y="441"/>
                    </a:lnTo>
                    <a:lnTo>
                      <a:pt x="10740" y="441"/>
                    </a:lnTo>
                    <a:lnTo>
                      <a:pt x="10778" y="441"/>
                    </a:lnTo>
                    <a:lnTo>
                      <a:pt x="10797" y="424"/>
                    </a:lnTo>
                    <a:lnTo>
                      <a:pt x="10816" y="424"/>
                    </a:lnTo>
                    <a:lnTo>
                      <a:pt x="10834" y="405"/>
                    </a:lnTo>
                    <a:lnTo>
                      <a:pt x="10853" y="405"/>
                    </a:lnTo>
                    <a:lnTo>
                      <a:pt x="10872" y="405"/>
                    </a:lnTo>
                    <a:lnTo>
                      <a:pt x="10891" y="405"/>
                    </a:lnTo>
                    <a:lnTo>
                      <a:pt x="10910" y="424"/>
                    </a:lnTo>
                    <a:lnTo>
                      <a:pt x="10967" y="1123"/>
                    </a:lnTo>
                    <a:lnTo>
                      <a:pt x="10608" y="1419"/>
                    </a:lnTo>
                    <a:lnTo>
                      <a:pt x="3359" y="1419"/>
                    </a:lnTo>
                    <a:lnTo>
                      <a:pt x="3359" y="1419"/>
                    </a:lnTo>
                    <a:lnTo>
                      <a:pt x="3359" y="1419"/>
                    </a:lnTo>
                    <a:lnTo>
                      <a:pt x="3359" y="1419"/>
                    </a:lnTo>
                    <a:lnTo>
                      <a:pt x="3359" y="1400"/>
                    </a:lnTo>
                    <a:lnTo>
                      <a:pt x="3359" y="1400"/>
                    </a:lnTo>
                    <a:lnTo>
                      <a:pt x="3359" y="1400"/>
                    </a:lnTo>
                    <a:lnTo>
                      <a:pt x="3359" y="1382"/>
                    </a:lnTo>
                    <a:lnTo>
                      <a:pt x="3359" y="1382"/>
                    </a:lnTo>
                    <a:lnTo>
                      <a:pt x="3246" y="1215"/>
                    </a:lnTo>
                    <a:lnTo>
                      <a:pt x="4964" y="55"/>
                    </a:lnTo>
                    <a:lnTo>
                      <a:pt x="5039" y="0"/>
                    </a:lnTo>
                    <a:lnTo>
                      <a:pt x="10608" y="0"/>
                    </a:lnTo>
                    <a:close/>
                    <a:moveTo>
                      <a:pt x="4228" y="0"/>
                    </a:moveTo>
                    <a:lnTo>
                      <a:pt x="4171" y="37"/>
                    </a:lnTo>
                    <a:lnTo>
                      <a:pt x="4133" y="55"/>
                    </a:lnTo>
                    <a:lnTo>
                      <a:pt x="4077" y="91"/>
                    </a:lnTo>
                    <a:lnTo>
                      <a:pt x="4039" y="110"/>
                    </a:lnTo>
                    <a:lnTo>
                      <a:pt x="3982" y="147"/>
                    </a:lnTo>
                    <a:lnTo>
                      <a:pt x="3944" y="165"/>
                    </a:lnTo>
                    <a:lnTo>
                      <a:pt x="3888" y="202"/>
                    </a:lnTo>
                    <a:lnTo>
                      <a:pt x="3850" y="221"/>
                    </a:lnTo>
                    <a:lnTo>
                      <a:pt x="3794" y="239"/>
                    </a:lnTo>
                    <a:lnTo>
                      <a:pt x="3756" y="276"/>
                    </a:lnTo>
                    <a:lnTo>
                      <a:pt x="3699" y="294"/>
                    </a:lnTo>
                    <a:lnTo>
                      <a:pt x="3661" y="331"/>
                    </a:lnTo>
                    <a:lnTo>
                      <a:pt x="3604" y="350"/>
                    </a:lnTo>
                    <a:lnTo>
                      <a:pt x="3566" y="387"/>
                    </a:lnTo>
                    <a:lnTo>
                      <a:pt x="3511" y="405"/>
                    </a:lnTo>
                    <a:lnTo>
                      <a:pt x="3473" y="441"/>
                    </a:lnTo>
                    <a:lnTo>
                      <a:pt x="3416" y="460"/>
                    </a:lnTo>
                    <a:lnTo>
                      <a:pt x="3378" y="497"/>
                    </a:lnTo>
                    <a:lnTo>
                      <a:pt x="3321" y="515"/>
                    </a:lnTo>
                    <a:lnTo>
                      <a:pt x="3284" y="552"/>
                    </a:lnTo>
                    <a:lnTo>
                      <a:pt x="3246" y="571"/>
                    </a:lnTo>
                    <a:lnTo>
                      <a:pt x="3190" y="608"/>
                    </a:lnTo>
                    <a:lnTo>
                      <a:pt x="3152" y="626"/>
                    </a:lnTo>
                    <a:lnTo>
                      <a:pt x="3095" y="663"/>
                    </a:lnTo>
                    <a:lnTo>
                      <a:pt x="3057" y="681"/>
                    </a:lnTo>
                    <a:lnTo>
                      <a:pt x="3020" y="718"/>
                    </a:lnTo>
                    <a:lnTo>
                      <a:pt x="2963" y="755"/>
                    </a:lnTo>
                    <a:lnTo>
                      <a:pt x="2925" y="773"/>
                    </a:lnTo>
                    <a:lnTo>
                      <a:pt x="2887" y="810"/>
                    </a:lnTo>
                    <a:lnTo>
                      <a:pt x="2831" y="828"/>
                    </a:lnTo>
                    <a:lnTo>
                      <a:pt x="2793" y="865"/>
                    </a:lnTo>
                    <a:lnTo>
                      <a:pt x="2756" y="884"/>
                    </a:lnTo>
                    <a:lnTo>
                      <a:pt x="2737" y="902"/>
                    </a:lnTo>
                    <a:lnTo>
                      <a:pt x="2718" y="921"/>
                    </a:lnTo>
                    <a:lnTo>
                      <a:pt x="2718" y="921"/>
                    </a:lnTo>
                    <a:lnTo>
                      <a:pt x="2699" y="939"/>
                    </a:lnTo>
                    <a:lnTo>
                      <a:pt x="2699" y="939"/>
                    </a:lnTo>
                    <a:lnTo>
                      <a:pt x="2680" y="958"/>
                    </a:lnTo>
                    <a:lnTo>
                      <a:pt x="2680" y="958"/>
                    </a:lnTo>
                    <a:lnTo>
                      <a:pt x="2661" y="976"/>
                    </a:lnTo>
                    <a:lnTo>
                      <a:pt x="2661" y="976"/>
                    </a:lnTo>
                    <a:lnTo>
                      <a:pt x="2642" y="995"/>
                    </a:lnTo>
                    <a:lnTo>
                      <a:pt x="2642" y="995"/>
                    </a:lnTo>
                    <a:lnTo>
                      <a:pt x="2623" y="995"/>
                    </a:lnTo>
                    <a:lnTo>
                      <a:pt x="2623" y="1013"/>
                    </a:lnTo>
                    <a:lnTo>
                      <a:pt x="2604" y="1013"/>
                    </a:lnTo>
                    <a:lnTo>
                      <a:pt x="2585" y="1032"/>
                    </a:lnTo>
                    <a:lnTo>
                      <a:pt x="2585" y="1032"/>
                    </a:lnTo>
                    <a:lnTo>
                      <a:pt x="2566" y="1032"/>
                    </a:lnTo>
                    <a:lnTo>
                      <a:pt x="2566" y="1032"/>
                    </a:lnTo>
                    <a:lnTo>
                      <a:pt x="2547" y="1032"/>
                    </a:lnTo>
                    <a:lnTo>
                      <a:pt x="2528" y="1032"/>
                    </a:lnTo>
                    <a:lnTo>
                      <a:pt x="2509" y="1032"/>
                    </a:lnTo>
                    <a:lnTo>
                      <a:pt x="2509" y="1013"/>
                    </a:lnTo>
                    <a:lnTo>
                      <a:pt x="2492" y="1013"/>
                    </a:lnTo>
                    <a:lnTo>
                      <a:pt x="2473" y="1013"/>
                    </a:lnTo>
                    <a:lnTo>
                      <a:pt x="2095" y="1234"/>
                    </a:lnTo>
                    <a:lnTo>
                      <a:pt x="1887" y="663"/>
                    </a:lnTo>
                    <a:lnTo>
                      <a:pt x="641" y="1419"/>
                    </a:lnTo>
                    <a:lnTo>
                      <a:pt x="150" y="1419"/>
                    </a:lnTo>
                    <a:lnTo>
                      <a:pt x="150" y="1400"/>
                    </a:lnTo>
                    <a:lnTo>
                      <a:pt x="131" y="1382"/>
                    </a:lnTo>
                    <a:lnTo>
                      <a:pt x="131" y="1363"/>
                    </a:lnTo>
                    <a:lnTo>
                      <a:pt x="131" y="1326"/>
                    </a:lnTo>
                    <a:lnTo>
                      <a:pt x="112" y="1308"/>
                    </a:lnTo>
                    <a:lnTo>
                      <a:pt x="112" y="1289"/>
                    </a:lnTo>
                    <a:lnTo>
                      <a:pt x="112" y="1252"/>
                    </a:lnTo>
                    <a:lnTo>
                      <a:pt x="112" y="1234"/>
                    </a:lnTo>
                    <a:lnTo>
                      <a:pt x="93" y="1215"/>
                    </a:lnTo>
                    <a:lnTo>
                      <a:pt x="93" y="1178"/>
                    </a:lnTo>
                    <a:lnTo>
                      <a:pt x="93" y="1160"/>
                    </a:lnTo>
                    <a:lnTo>
                      <a:pt x="93" y="1123"/>
                    </a:lnTo>
                    <a:lnTo>
                      <a:pt x="93" y="1105"/>
                    </a:lnTo>
                    <a:lnTo>
                      <a:pt x="93" y="1087"/>
                    </a:lnTo>
                    <a:lnTo>
                      <a:pt x="74" y="1050"/>
                    </a:lnTo>
                    <a:lnTo>
                      <a:pt x="74" y="1032"/>
                    </a:lnTo>
                    <a:lnTo>
                      <a:pt x="74" y="1013"/>
                    </a:lnTo>
                    <a:lnTo>
                      <a:pt x="74" y="1013"/>
                    </a:lnTo>
                    <a:lnTo>
                      <a:pt x="56" y="995"/>
                    </a:lnTo>
                    <a:lnTo>
                      <a:pt x="56" y="995"/>
                    </a:lnTo>
                    <a:lnTo>
                      <a:pt x="37" y="976"/>
                    </a:lnTo>
                    <a:lnTo>
                      <a:pt x="18" y="958"/>
                    </a:lnTo>
                    <a:lnTo>
                      <a:pt x="18" y="958"/>
                    </a:lnTo>
                    <a:lnTo>
                      <a:pt x="0" y="939"/>
                    </a:lnTo>
                    <a:lnTo>
                      <a:pt x="18" y="902"/>
                    </a:lnTo>
                    <a:lnTo>
                      <a:pt x="37" y="884"/>
                    </a:lnTo>
                    <a:lnTo>
                      <a:pt x="56" y="865"/>
                    </a:lnTo>
                    <a:lnTo>
                      <a:pt x="74" y="828"/>
                    </a:lnTo>
                    <a:lnTo>
                      <a:pt x="93" y="810"/>
                    </a:lnTo>
                    <a:lnTo>
                      <a:pt x="112" y="791"/>
                    </a:lnTo>
                    <a:lnTo>
                      <a:pt x="131" y="773"/>
                    </a:lnTo>
                    <a:lnTo>
                      <a:pt x="150" y="773"/>
                    </a:lnTo>
                    <a:lnTo>
                      <a:pt x="169" y="755"/>
                    </a:lnTo>
                    <a:lnTo>
                      <a:pt x="207" y="737"/>
                    </a:lnTo>
                    <a:lnTo>
                      <a:pt x="226" y="718"/>
                    </a:lnTo>
                    <a:lnTo>
                      <a:pt x="245" y="700"/>
                    </a:lnTo>
                    <a:lnTo>
                      <a:pt x="264" y="681"/>
                    </a:lnTo>
                    <a:lnTo>
                      <a:pt x="283" y="663"/>
                    </a:lnTo>
                    <a:lnTo>
                      <a:pt x="302" y="645"/>
                    </a:lnTo>
                    <a:lnTo>
                      <a:pt x="340" y="608"/>
                    </a:lnTo>
                    <a:lnTo>
                      <a:pt x="169" y="0"/>
                    </a:lnTo>
                    <a:lnTo>
                      <a:pt x="422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86" name="Freeform 18"/>
              <p:cNvSpPr/>
              <p:nvPr/>
            </p:nvSpPr>
            <p:spPr>
              <a:xfrm>
                <a:off x="3165120" y="2499840"/>
                <a:ext cx="2675160" cy="123840"/>
              </a:xfrm>
              <a:custGeom>
                <a:avLst/>
                <a:gdLst/>
                <a:ahLst/>
                <a:rect l="l" t="t" r="r" b="b"/>
                <a:pathLst>
                  <a:path w="11646" h="1419">
                    <a:moveTo>
                      <a:pt x="10948" y="0"/>
                    </a:moveTo>
                    <a:lnTo>
                      <a:pt x="10967" y="405"/>
                    </a:lnTo>
                    <a:lnTo>
                      <a:pt x="10419" y="866"/>
                    </a:lnTo>
                    <a:lnTo>
                      <a:pt x="10212" y="995"/>
                    </a:lnTo>
                    <a:lnTo>
                      <a:pt x="10212" y="995"/>
                    </a:lnTo>
                    <a:lnTo>
                      <a:pt x="10212" y="1014"/>
                    </a:lnTo>
                    <a:lnTo>
                      <a:pt x="10212" y="1014"/>
                    </a:lnTo>
                    <a:lnTo>
                      <a:pt x="10212" y="1032"/>
                    </a:lnTo>
                    <a:lnTo>
                      <a:pt x="10212" y="1032"/>
                    </a:lnTo>
                    <a:lnTo>
                      <a:pt x="10212" y="1032"/>
                    </a:lnTo>
                    <a:lnTo>
                      <a:pt x="10212" y="1051"/>
                    </a:lnTo>
                    <a:lnTo>
                      <a:pt x="10212" y="1069"/>
                    </a:lnTo>
                    <a:lnTo>
                      <a:pt x="10250" y="1069"/>
                    </a:lnTo>
                    <a:lnTo>
                      <a:pt x="10286" y="1069"/>
                    </a:lnTo>
                    <a:lnTo>
                      <a:pt x="10305" y="1069"/>
                    </a:lnTo>
                    <a:lnTo>
                      <a:pt x="10343" y="1069"/>
                    </a:lnTo>
                    <a:lnTo>
                      <a:pt x="10381" y="1051"/>
                    </a:lnTo>
                    <a:lnTo>
                      <a:pt x="10419" y="1051"/>
                    </a:lnTo>
                    <a:lnTo>
                      <a:pt x="10438" y="1051"/>
                    </a:lnTo>
                    <a:lnTo>
                      <a:pt x="10476" y="1032"/>
                    </a:lnTo>
                    <a:lnTo>
                      <a:pt x="10514" y="1032"/>
                    </a:lnTo>
                    <a:lnTo>
                      <a:pt x="10533" y="1014"/>
                    </a:lnTo>
                    <a:lnTo>
                      <a:pt x="10570" y="1014"/>
                    </a:lnTo>
                    <a:lnTo>
                      <a:pt x="10608" y="995"/>
                    </a:lnTo>
                    <a:lnTo>
                      <a:pt x="10645" y="995"/>
                    </a:lnTo>
                    <a:lnTo>
                      <a:pt x="10664" y="995"/>
                    </a:lnTo>
                    <a:lnTo>
                      <a:pt x="10702" y="977"/>
                    </a:lnTo>
                    <a:lnTo>
                      <a:pt x="10740" y="977"/>
                    </a:lnTo>
                    <a:lnTo>
                      <a:pt x="10759" y="958"/>
                    </a:lnTo>
                    <a:lnTo>
                      <a:pt x="10797" y="958"/>
                    </a:lnTo>
                    <a:lnTo>
                      <a:pt x="10834" y="940"/>
                    </a:lnTo>
                    <a:lnTo>
                      <a:pt x="10853" y="940"/>
                    </a:lnTo>
                    <a:lnTo>
                      <a:pt x="10891" y="940"/>
                    </a:lnTo>
                    <a:lnTo>
                      <a:pt x="10929" y="921"/>
                    </a:lnTo>
                    <a:lnTo>
                      <a:pt x="10967" y="921"/>
                    </a:lnTo>
                    <a:lnTo>
                      <a:pt x="10985" y="921"/>
                    </a:lnTo>
                    <a:lnTo>
                      <a:pt x="11023" y="921"/>
                    </a:lnTo>
                    <a:lnTo>
                      <a:pt x="11061" y="921"/>
                    </a:lnTo>
                    <a:lnTo>
                      <a:pt x="11080" y="921"/>
                    </a:lnTo>
                    <a:lnTo>
                      <a:pt x="11117" y="921"/>
                    </a:lnTo>
                    <a:lnTo>
                      <a:pt x="11155" y="940"/>
                    </a:lnTo>
                    <a:lnTo>
                      <a:pt x="11193" y="940"/>
                    </a:lnTo>
                    <a:lnTo>
                      <a:pt x="11212" y="940"/>
                    </a:lnTo>
                    <a:lnTo>
                      <a:pt x="11250" y="958"/>
                    </a:lnTo>
                    <a:lnTo>
                      <a:pt x="11288" y="958"/>
                    </a:lnTo>
                    <a:lnTo>
                      <a:pt x="11307" y="940"/>
                    </a:lnTo>
                    <a:lnTo>
                      <a:pt x="11326" y="940"/>
                    </a:lnTo>
                    <a:lnTo>
                      <a:pt x="11362" y="940"/>
                    </a:lnTo>
                    <a:lnTo>
                      <a:pt x="11381" y="940"/>
                    </a:lnTo>
                    <a:lnTo>
                      <a:pt x="11400" y="940"/>
                    </a:lnTo>
                    <a:lnTo>
                      <a:pt x="11438" y="940"/>
                    </a:lnTo>
                    <a:lnTo>
                      <a:pt x="11457" y="940"/>
                    </a:lnTo>
                    <a:lnTo>
                      <a:pt x="11476" y="940"/>
                    </a:lnTo>
                    <a:lnTo>
                      <a:pt x="11495" y="958"/>
                    </a:lnTo>
                    <a:lnTo>
                      <a:pt x="11533" y="958"/>
                    </a:lnTo>
                    <a:lnTo>
                      <a:pt x="11552" y="958"/>
                    </a:lnTo>
                    <a:lnTo>
                      <a:pt x="11571" y="958"/>
                    </a:lnTo>
                    <a:lnTo>
                      <a:pt x="11590" y="977"/>
                    </a:lnTo>
                    <a:lnTo>
                      <a:pt x="11628" y="977"/>
                    </a:lnTo>
                    <a:lnTo>
                      <a:pt x="11646" y="977"/>
                    </a:lnTo>
                    <a:lnTo>
                      <a:pt x="11646" y="995"/>
                    </a:lnTo>
                    <a:lnTo>
                      <a:pt x="11646" y="1014"/>
                    </a:lnTo>
                    <a:lnTo>
                      <a:pt x="11646" y="1032"/>
                    </a:lnTo>
                    <a:lnTo>
                      <a:pt x="11646" y="1051"/>
                    </a:lnTo>
                    <a:lnTo>
                      <a:pt x="11628" y="1069"/>
                    </a:lnTo>
                    <a:lnTo>
                      <a:pt x="11628" y="1069"/>
                    </a:lnTo>
                    <a:lnTo>
                      <a:pt x="11628" y="1088"/>
                    </a:lnTo>
                    <a:lnTo>
                      <a:pt x="11628" y="1105"/>
                    </a:lnTo>
                    <a:lnTo>
                      <a:pt x="11609" y="1105"/>
                    </a:lnTo>
                    <a:lnTo>
                      <a:pt x="11609" y="1123"/>
                    </a:lnTo>
                    <a:lnTo>
                      <a:pt x="11609" y="1142"/>
                    </a:lnTo>
                    <a:lnTo>
                      <a:pt x="11590" y="1142"/>
                    </a:lnTo>
                    <a:lnTo>
                      <a:pt x="11590" y="1160"/>
                    </a:lnTo>
                    <a:lnTo>
                      <a:pt x="11590" y="1179"/>
                    </a:lnTo>
                    <a:lnTo>
                      <a:pt x="11571" y="1197"/>
                    </a:lnTo>
                    <a:lnTo>
                      <a:pt x="11571" y="1197"/>
                    </a:lnTo>
                    <a:lnTo>
                      <a:pt x="11344" y="1419"/>
                    </a:lnTo>
                    <a:lnTo>
                      <a:pt x="5832" y="1419"/>
                    </a:lnTo>
                    <a:lnTo>
                      <a:pt x="5946" y="1345"/>
                    </a:lnTo>
                    <a:lnTo>
                      <a:pt x="5775" y="1419"/>
                    </a:lnTo>
                    <a:lnTo>
                      <a:pt x="3680" y="1419"/>
                    </a:lnTo>
                    <a:lnTo>
                      <a:pt x="4378" y="829"/>
                    </a:lnTo>
                    <a:lnTo>
                      <a:pt x="3585" y="1179"/>
                    </a:lnTo>
                    <a:lnTo>
                      <a:pt x="3566" y="1179"/>
                    </a:lnTo>
                    <a:lnTo>
                      <a:pt x="3530" y="1179"/>
                    </a:lnTo>
                    <a:lnTo>
                      <a:pt x="3511" y="1160"/>
                    </a:lnTo>
                    <a:lnTo>
                      <a:pt x="3492" y="1142"/>
                    </a:lnTo>
                    <a:lnTo>
                      <a:pt x="3473" y="1123"/>
                    </a:lnTo>
                    <a:lnTo>
                      <a:pt x="3473" y="1105"/>
                    </a:lnTo>
                    <a:lnTo>
                      <a:pt x="3454" y="1088"/>
                    </a:lnTo>
                    <a:lnTo>
                      <a:pt x="3435" y="1069"/>
                    </a:lnTo>
                    <a:lnTo>
                      <a:pt x="3435" y="1032"/>
                    </a:lnTo>
                    <a:lnTo>
                      <a:pt x="3416" y="1014"/>
                    </a:lnTo>
                    <a:lnTo>
                      <a:pt x="3416" y="977"/>
                    </a:lnTo>
                    <a:lnTo>
                      <a:pt x="3397" y="940"/>
                    </a:lnTo>
                    <a:lnTo>
                      <a:pt x="3378" y="921"/>
                    </a:lnTo>
                    <a:lnTo>
                      <a:pt x="3378" y="884"/>
                    </a:lnTo>
                    <a:lnTo>
                      <a:pt x="3359" y="866"/>
                    </a:lnTo>
                    <a:lnTo>
                      <a:pt x="3340" y="829"/>
                    </a:lnTo>
                    <a:lnTo>
                      <a:pt x="3340" y="810"/>
                    </a:lnTo>
                    <a:lnTo>
                      <a:pt x="3340" y="792"/>
                    </a:lnTo>
                    <a:lnTo>
                      <a:pt x="3340" y="773"/>
                    </a:lnTo>
                    <a:lnTo>
                      <a:pt x="3359" y="755"/>
                    </a:lnTo>
                    <a:lnTo>
                      <a:pt x="3359" y="737"/>
                    </a:lnTo>
                    <a:lnTo>
                      <a:pt x="3359" y="701"/>
                    </a:lnTo>
                    <a:lnTo>
                      <a:pt x="3359" y="682"/>
                    </a:lnTo>
                    <a:lnTo>
                      <a:pt x="3359" y="664"/>
                    </a:lnTo>
                    <a:lnTo>
                      <a:pt x="3246" y="497"/>
                    </a:lnTo>
                    <a:lnTo>
                      <a:pt x="3982" y="0"/>
                    </a:lnTo>
                    <a:lnTo>
                      <a:pt x="10948" y="0"/>
                    </a:lnTo>
                    <a:close/>
                    <a:moveTo>
                      <a:pt x="3020" y="0"/>
                    </a:moveTo>
                    <a:lnTo>
                      <a:pt x="3001" y="19"/>
                    </a:lnTo>
                    <a:lnTo>
                      <a:pt x="2982" y="19"/>
                    </a:lnTo>
                    <a:lnTo>
                      <a:pt x="2963" y="37"/>
                    </a:lnTo>
                    <a:lnTo>
                      <a:pt x="2944" y="37"/>
                    </a:lnTo>
                    <a:lnTo>
                      <a:pt x="2925" y="55"/>
                    </a:lnTo>
                    <a:lnTo>
                      <a:pt x="2906" y="55"/>
                    </a:lnTo>
                    <a:lnTo>
                      <a:pt x="2906" y="73"/>
                    </a:lnTo>
                    <a:lnTo>
                      <a:pt x="2887" y="92"/>
                    </a:lnTo>
                    <a:lnTo>
                      <a:pt x="2868" y="92"/>
                    </a:lnTo>
                    <a:lnTo>
                      <a:pt x="2849" y="110"/>
                    </a:lnTo>
                    <a:lnTo>
                      <a:pt x="2831" y="110"/>
                    </a:lnTo>
                    <a:lnTo>
                      <a:pt x="2812" y="129"/>
                    </a:lnTo>
                    <a:lnTo>
                      <a:pt x="2793" y="147"/>
                    </a:lnTo>
                    <a:lnTo>
                      <a:pt x="2774" y="147"/>
                    </a:lnTo>
                    <a:lnTo>
                      <a:pt x="2774" y="166"/>
                    </a:lnTo>
                    <a:lnTo>
                      <a:pt x="2756" y="166"/>
                    </a:lnTo>
                    <a:lnTo>
                      <a:pt x="2737" y="184"/>
                    </a:lnTo>
                    <a:lnTo>
                      <a:pt x="2718" y="203"/>
                    </a:lnTo>
                    <a:lnTo>
                      <a:pt x="2718" y="203"/>
                    </a:lnTo>
                    <a:lnTo>
                      <a:pt x="2699" y="221"/>
                    </a:lnTo>
                    <a:lnTo>
                      <a:pt x="2699" y="221"/>
                    </a:lnTo>
                    <a:lnTo>
                      <a:pt x="2680" y="240"/>
                    </a:lnTo>
                    <a:lnTo>
                      <a:pt x="2680" y="240"/>
                    </a:lnTo>
                    <a:lnTo>
                      <a:pt x="2661" y="258"/>
                    </a:lnTo>
                    <a:lnTo>
                      <a:pt x="2661" y="258"/>
                    </a:lnTo>
                    <a:lnTo>
                      <a:pt x="2642" y="277"/>
                    </a:lnTo>
                    <a:lnTo>
                      <a:pt x="2642" y="277"/>
                    </a:lnTo>
                    <a:lnTo>
                      <a:pt x="2623" y="277"/>
                    </a:lnTo>
                    <a:lnTo>
                      <a:pt x="2623" y="295"/>
                    </a:lnTo>
                    <a:lnTo>
                      <a:pt x="2604" y="295"/>
                    </a:lnTo>
                    <a:lnTo>
                      <a:pt x="2585" y="314"/>
                    </a:lnTo>
                    <a:lnTo>
                      <a:pt x="2585" y="314"/>
                    </a:lnTo>
                    <a:lnTo>
                      <a:pt x="2566" y="314"/>
                    </a:lnTo>
                    <a:lnTo>
                      <a:pt x="2566" y="314"/>
                    </a:lnTo>
                    <a:lnTo>
                      <a:pt x="2547" y="314"/>
                    </a:lnTo>
                    <a:lnTo>
                      <a:pt x="2528" y="314"/>
                    </a:lnTo>
                    <a:lnTo>
                      <a:pt x="2509" y="314"/>
                    </a:lnTo>
                    <a:lnTo>
                      <a:pt x="2509" y="295"/>
                    </a:lnTo>
                    <a:lnTo>
                      <a:pt x="2492" y="295"/>
                    </a:lnTo>
                    <a:lnTo>
                      <a:pt x="2473" y="295"/>
                    </a:lnTo>
                    <a:lnTo>
                      <a:pt x="2095" y="516"/>
                    </a:lnTo>
                    <a:lnTo>
                      <a:pt x="1906" y="0"/>
                    </a:lnTo>
                    <a:lnTo>
                      <a:pt x="3020" y="0"/>
                    </a:lnTo>
                    <a:close/>
                    <a:moveTo>
                      <a:pt x="1811" y="0"/>
                    </a:moveTo>
                    <a:lnTo>
                      <a:pt x="302" y="921"/>
                    </a:lnTo>
                    <a:lnTo>
                      <a:pt x="264" y="921"/>
                    </a:lnTo>
                    <a:lnTo>
                      <a:pt x="245" y="884"/>
                    </a:lnTo>
                    <a:lnTo>
                      <a:pt x="226" y="866"/>
                    </a:lnTo>
                    <a:lnTo>
                      <a:pt x="207" y="829"/>
                    </a:lnTo>
                    <a:lnTo>
                      <a:pt x="188" y="792"/>
                    </a:lnTo>
                    <a:lnTo>
                      <a:pt x="169" y="755"/>
                    </a:lnTo>
                    <a:lnTo>
                      <a:pt x="150" y="719"/>
                    </a:lnTo>
                    <a:lnTo>
                      <a:pt x="131" y="682"/>
                    </a:lnTo>
                    <a:lnTo>
                      <a:pt x="131" y="645"/>
                    </a:lnTo>
                    <a:lnTo>
                      <a:pt x="112" y="590"/>
                    </a:lnTo>
                    <a:lnTo>
                      <a:pt x="112" y="553"/>
                    </a:lnTo>
                    <a:lnTo>
                      <a:pt x="112" y="497"/>
                    </a:lnTo>
                    <a:lnTo>
                      <a:pt x="93" y="460"/>
                    </a:lnTo>
                    <a:lnTo>
                      <a:pt x="93" y="405"/>
                    </a:lnTo>
                    <a:lnTo>
                      <a:pt x="93" y="350"/>
                    </a:lnTo>
                    <a:lnTo>
                      <a:pt x="74" y="314"/>
                    </a:lnTo>
                    <a:lnTo>
                      <a:pt x="74" y="295"/>
                    </a:lnTo>
                    <a:lnTo>
                      <a:pt x="74" y="295"/>
                    </a:lnTo>
                    <a:lnTo>
                      <a:pt x="56" y="277"/>
                    </a:lnTo>
                    <a:lnTo>
                      <a:pt x="56" y="277"/>
                    </a:lnTo>
                    <a:lnTo>
                      <a:pt x="37" y="258"/>
                    </a:lnTo>
                    <a:lnTo>
                      <a:pt x="18" y="240"/>
                    </a:lnTo>
                    <a:lnTo>
                      <a:pt x="18" y="240"/>
                    </a:lnTo>
                    <a:lnTo>
                      <a:pt x="0" y="221"/>
                    </a:lnTo>
                    <a:lnTo>
                      <a:pt x="18" y="203"/>
                    </a:lnTo>
                    <a:lnTo>
                      <a:pt x="37" y="184"/>
                    </a:lnTo>
                    <a:lnTo>
                      <a:pt x="37" y="166"/>
                    </a:lnTo>
                    <a:lnTo>
                      <a:pt x="56" y="147"/>
                    </a:lnTo>
                    <a:lnTo>
                      <a:pt x="56" y="129"/>
                    </a:lnTo>
                    <a:lnTo>
                      <a:pt x="74" y="110"/>
                    </a:lnTo>
                    <a:lnTo>
                      <a:pt x="93" y="110"/>
                    </a:lnTo>
                    <a:lnTo>
                      <a:pt x="93" y="92"/>
                    </a:lnTo>
                    <a:lnTo>
                      <a:pt x="112" y="73"/>
                    </a:lnTo>
                    <a:lnTo>
                      <a:pt x="131" y="73"/>
                    </a:lnTo>
                    <a:lnTo>
                      <a:pt x="150" y="55"/>
                    </a:lnTo>
                    <a:lnTo>
                      <a:pt x="150" y="37"/>
                    </a:lnTo>
                    <a:lnTo>
                      <a:pt x="169" y="37"/>
                    </a:lnTo>
                    <a:lnTo>
                      <a:pt x="188" y="19"/>
                    </a:lnTo>
                    <a:lnTo>
                      <a:pt x="207" y="19"/>
                    </a:lnTo>
                    <a:lnTo>
                      <a:pt x="207" y="0"/>
                    </a:lnTo>
                    <a:lnTo>
                      <a:pt x="181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87" name="Freeform 19"/>
              <p:cNvSpPr/>
              <p:nvPr/>
            </p:nvSpPr>
            <p:spPr>
              <a:xfrm>
                <a:off x="3197520" y="2559960"/>
                <a:ext cx="2642760" cy="125640"/>
              </a:xfrm>
              <a:custGeom>
                <a:avLst/>
                <a:gdLst/>
                <a:ahLst/>
                <a:rect l="l" t="t" r="r" b="b"/>
                <a:pathLst>
                  <a:path w="11496" h="1436">
                    <a:moveTo>
                      <a:pt x="10458" y="0"/>
                    </a:moveTo>
                    <a:lnTo>
                      <a:pt x="10269" y="165"/>
                    </a:lnTo>
                    <a:lnTo>
                      <a:pt x="10062" y="294"/>
                    </a:lnTo>
                    <a:lnTo>
                      <a:pt x="10062" y="294"/>
                    </a:lnTo>
                    <a:lnTo>
                      <a:pt x="10062" y="313"/>
                    </a:lnTo>
                    <a:lnTo>
                      <a:pt x="10062" y="313"/>
                    </a:lnTo>
                    <a:lnTo>
                      <a:pt x="10062" y="331"/>
                    </a:lnTo>
                    <a:lnTo>
                      <a:pt x="10062" y="331"/>
                    </a:lnTo>
                    <a:lnTo>
                      <a:pt x="10062" y="331"/>
                    </a:lnTo>
                    <a:lnTo>
                      <a:pt x="10062" y="350"/>
                    </a:lnTo>
                    <a:lnTo>
                      <a:pt x="10062" y="368"/>
                    </a:lnTo>
                    <a:lnTo>
                      <a:pt x="10100" y="368"/>
                    </a:lnTo>
                    <a:lnTo>
                      <a:pt x="10136" y="368"/>
                    </a:lnTo>
                    <a:lnTo>
                      <a:pt x="10155" y="368"/>
                    </a:lnTo>
                    <a:lnTo>
                      <a:pt x="10193" y="368"/>
                    </a:lnTo>
                    <a:lnTo>
                      <a:pt x="10231" y="350"/>
                    </a:lnTo>
                    <a:lnTo>
                      <a:pt x="10269" y="350"/>
                    </a:lnTo>
                    <a:lnTo>
                      <a:pt x="10288" y="350"/>
                    </a:lnTo>
                    <a:lnTo>
                      <a:pt x="10326" y="331"/>
                    </a:lnTo>
                    <a:lnTo>
                      <a:pt x="10364" y="331"/>
                    </a:lnTo>
                    <a:lnTo>
                      <a:pt x="10383" y="313"/>
                    </a:lnTo>
                    <a:lnTo>
                      <a:pt x="10420" y="313"/>
                    </a:lnTo>
                    <a:lnTo>
                      <a:pt x="10458" y="294"/>
                    </a:lnTo>
                    <a:lnTo>
                      <a:pt x="10495" y="294"/>
                    </a:lnTo>
                    <a:lnTo>
                      <a:pt x="10514" y="294"/>
                    </a:lnTo>
                    <a:lnTo>
                      <a:pt x="10552" y="276"/>
                    </a:lnTo>
                    <a:lnTo>
                      <a:pt x="10590" y="276"/>
                    </a:lnTo>
                    <a:lnTo>
                      <a:pt x="10609" y="257"/>
                    </a:lnTo>
                    <a:lnTo>
                      <a:pt x="10647" y="257"/>
                    </a:lnTo>
                    <a:lnTo>
                      <a:pt x="10684" y="239"/>
                    </a:lnTo>
                    <a:lnTo>
                      <a:pt x="10703" y="239"/>
                    </a:lnTo>
                    <a:lnTo>
                      <a:pt x="10741" y="239"/>
                    </a:lnTo>
                    <a:lnTo>
                      <a:pt x="10779" y="220"/>
                    </a:lnTo>
                    <a:lnTo>
                      <a:pt x="10817" y="220"/>
                    </a:lnTo>
                    <a:lnTo>
                      <a:pt x="10835" y="220"/>
                    </a:lnTo>
                    <a:lnTo>
                      <a:pt x="10873" y="220"/>
                    </a:lnTo>
                    <a:lnTo>
                      <a:pt x="10911" y="220"/>
                    </a:lnTo>
                    <a:lnTo>
                      <a:pt x="10930" y="220"/>
                    </a:lnTo>
                    <a:lnTo>
                      <a:pt x="10967" y="220"/>
                    </a:lnTo>
                    <a:lnTo>
                      <a:pt x="11005" y="239"/>
                    </a:lnTo>
                    <a:lnTo>
                      <a:pt x="11043" y="239"/>
                    </a:lnTo>
                    <a:lnTo>
                      <a:pt x="11062" y="239"/>
                    </a:lnTo>
                    <a:lnTo>
                      <a:pt x="11100" y="257"/>
                    </a:lnTo>
                    <a:lnTo>
                      <a:pt x="11138" y="257"/>
                    </a:lnTo>
                    <a:lnTo>
                      <a:pt x="11157" y="239"/>
                    </a:lnTo>
                    <a:lnTo>
                      <a:pt x="11176" y="239"/>
                    </a:lnTo>
                    <a:lnTo>
                      <a:pt x="11212" y="239"/>
                    </a:lnTo>
                    <a:lnTo>
                      <a:pt x="11231" y="239"/>
                    </a:lnTo>
                    <a:lnTo>
                      <a:pt x="11250" y="239"/>
                    </a:lnTo>
                    <a:lnTo>
                      <a:pt x="11288" y="239"/>
                    </a:lnTo>
                    <a:lnTo>
                      <a:pt x="11307" y="239"/>
                    </a:lnTo>
                    <a:lnTo>
                      <a:pt x="11326" y="239"/>
                    </a:lnTo>
                    <a:lnTo>
                      <a:pt x="11345" y="257"/>
                    </a:lnTo>
                    <a:lnTo>
                      <a:pt x="11383" y="257"/>
                    </a:lnTo>
                    <a:lnTo>
                      <a:pt x="11402" y="257"/>
                    </a:lnTo>
                    <a:lnTo>
                      <a:pt x="11421" y="257"/>
                    </a:lnTo>
                    <a:lnTo>
                      <a:pt x="11440" y="276"/>
                    </a:lnTo>
                    <a:lnTo>
                      <a:pt x="11478" y="276"/>
                    </a:lnTo>
                    <a:lnTo>
                      <a:pt x="11496" y="276"/>
                    </a:lnTo>
                    <a:lnTo>
                      <a:pt x="11496" y="294"/>
                    </a:lnTo>
                    <a:lnTo>
                      <a:pt x="11496" y="313"/>
                    </a:lnTo>
                    <a:lnTo>
                      <a:pt x="11496" y="331"/>
                    </a:lnTo>
                    <a:lnTo>
                      <a:pt x="11496" y="350"/>
                    </a:lnTo>
                    <a:lnTo>
                      <a:pt x="11478" y="368"/>
                    </a:lnTo>
                    <a:lnTo>
                      <a:pt x="11478" y="368"/>
                    </a:lnTo>
                    <a:lnTo>
                      <a:pt x="11478" y="387"/>
                    </a:lnTo>
                    <a:lnTo>
                      <a:pt x="11478" y="404"/>
                    </a:lnTo>
                    <a:lnTo>
                      <a:pt x="11459" y="404"/>
                    </a:lnTo>
                    <a:lnTo>
                      <a:pt x="11459" y="422"/>
                    </a:lnTo>
                    <a:lnTo>
                      <a:pt x="11459" y="441"/>
                    </a:lnTo>
                    <a:lnTo>
                      <a:pt x="11440" y="441"/>
                    </a:lnTo>
                    <a:lnTo>
                      <a:pt x="11440" y="459"/>
                    </a:lnTo>
                    <a:lnTo>
                      <a:pt x="11440" y="478"/>
                    </a:lnTo>
                    <a:lnTo>
                      <a:pt x="11421" y="496"/>
                    </a:lnTo>
                    <a:lnTo>
                      <a:pt x="11421" y="496"/>
                    </a:lnTo>
                    <a:lnTo>
                      <a:pt x="10986" y="902"/>
                    </a:lnTo>
                    <a:lnTo>
                      <a:pt x="10986" y="920"/>
                    </a:lnTo>
                    <a:lnTo>
                      <a:pt x="10986" y="939"/>
                    </a:lnTo>
                    <a:lnTo>
                      <a:pt x="10986" y="939"/>
                    </a:lnTo>
                    <a:lnTo>
                      <a:pt x="10986" y="957"/>
                    </a:lnTo>
                    <a:lnTo>
                      <a:pt x="10986" y="976"/>
                    </a:lnTo>
                    <a:lnTo>
                      <a:pt x="11005" y="994"/>
                    </a:lnTo>
                    <a:lnTo>
                      <a:pt x="11005" y="1013"/>
                    </a:lnTo>
                    <a:lnTo>
                      <a:pt x="11005" y="1031"/>
                    </a:lnTo>
                    <a:lnTo>
                      <a:pt x="10967" y="1031"/>
                    </a:lnTo>
                    <a:lnTo>
                      <a:pt x="10930" y="1050"/>
                    </a:lnTo>
                    <a:lnTo>
                      <a:pt x="10873" y="1068"/>
                    </a:lnTo>
                    <a:lnTo>
                      <a:pt x="10835" y="1086"/>
                    </a:lnTo>
                    <a:lnTo>
                      <a:pt x="10798" y="1086"/>
                    </a:lnTo>
                    <a:lnTo>
                      <a:pt x="10741" y="1104"/>
                    </a:lnTo>
                    <a:lnTo>
                      <a:pt x="10703" y="1123"/>
                    </a:lnTo>
                    <a:lnTo>
                      <a:pt x="10666" y="1123"/>
                    </a:lnTo>
                    <a:lnTo>
                      <a:pt x="10609" y="1141"/>
                    </a:lnTo>
                    <a:lnTo>
                      <a:pt x="10571" y="1160"/>
                    </a:lnTo>
                    <a:lnTo>
                      <a:pt x="10533" y="1160"/>
                    </a:lnTo>
                    <a:lnTo>
                      <a:pt x="10477" y="1178"/>
                    </a:lnTo>
                    <a:lnTo>
                      <a:pt x="10439" y="1196"/>
                    </a:lnTo>
                    <a:lnTo>
                      <a:pt x="10402" y="1196"/>
                    </a:lnTo>
                    <a:lnTo>
                      <a:pt x="10345" y="1215"/>
                    </a:lnTo>
                    <a:lnTo>
                      <a:pt x="10307" y="1233"/>
                    </a:lnTo>
                    <a:lnTo>
                      <a:pt x="10269" y="1233"/>
                    </a:lnTo>
                    <a:lnTo>
                      <a:pt x="10212" y="1252"/>
                    </a:lnTo>
                    <a:lnTo>
                      <a:pt x="10174" y="1270"/>
                    </a:lnTo>
                    <a:lnTo>
                      <a:pt x="10136" y="1270"/>
                    </a:lnTo>
                    <a:lnTo>
                      <a:pt x="10081" y="1289"/>
                    </a:lnTo>
                    <a:lnTo>
                      <a:pt x="10043" y="1307"/>
                    </a:lnTo>
                    <a:lnTo>
                      <a:pt x="10005" y="1326"/>
                    </a:lnTo>
                    <a:lnTo>
                      <a:pt x="9948" y="1326"/>
                    </a:lnTo>
                    <a:lnTo>
                      <a:pt x="9910" y="1344"/>
                    </a:lnTo>
                    <a:lnTo>
                      <a:pt x="9872" y="1363"/>
                    </a:lnTo>
                    <a:lnTo>
                      <a:pt x="9816" y="1363"/>
                    </a:lnTo>
                    <a:lnTo>
                      <a:pt x="9778" y="1381"/>
                    </a:lnTo>
                    <a:lnTo>
                      <a:pt x="9741" y="1400"/>
                    </a:lnTo>
                    <a:lnTo>
                      <a:pt x="9684" y="1400"/>
                    </a:lnTo>
                    <a:lnTo>
                      <a:pt x="9646" y="1418"/>
                    </a:lnTo>
                    <a:lnTo>
                      <a:pt x="9608" y="1436"/>
                    </a:lnTo>
                    <a:lnTo>
                      <a:pt x="6626" y="1436"/>
                    </a:lnTo>
                    <a:lnTo>
                      <a:pt x="7268" y="994"/>
                    </a:lnTo>
                    <a:lnTo>
                      <a:pt x="7230" y="994"/>
                    </a:lnTo>
                    <a:lnTo>
                      <a:pt x="7211" y="994"/>
                    </a:lnTo>
                    <a:lnTo>
                      <a:pt x="7174" y="1013"/>
                    </a:lnTo>
                    <a:lnTo>
                      <a:pt x="7136" y="1013"/>
                    </a:lnTo>
                    <a:lnTo>
                      <a:pt x="7117" y="1013"/>
                    </a:lnTo>
                    <a:lnTo>
                      <a:pt x="7079" y="1031"/>
                    </a:lnTo>
                    <a:lnTo>
                      <a:pt x="7041" y="1031"/>
                    </a:lnTo>
                    <a:lnTo>
                      <a:pt x="7003" y="1050"/>
                    </a:lnTo>
                    <a:lnTo>
                      <a:pt x="6965" y="1050"/>
                    </a:lnTo>
                    <a:lnTo>
                      <a:pt x="6946" y="1068"/>
                    </a:lnTo>
                    <a:lnTo>
                      <a:pt x="6910" y="1068"/>
                    </a:lnTo>
                    <a:lnTo>
                      <a:pt x="6872" y="1086"/>
                    </a:lnTo>
                    <a:lnTo>
                      <a:pt x="6834" y="1104"/>
                    </a:lnTo>
                    <a:lnTo>
                      <a:pt x="6796" y="1123"/>
                    </a:lnTo>
                    <a:lnTo>
                      <a:pt x="6758" y="1123"/>
                    </a:lnTo>
                    <a:lnTo>
                      <a:pt x="6739" y="1141"/>
                    </a:lnTo>
                    <a:lnTo>
                      <a:pt x="6701" y="1160"/>
                    </a:lnTo>
                    <a:lnTo>
                      <a:pt x="6663" y="1178"/>
                    </a:lnTo>
                    <a:lnTo>
                      <a:pt x="6626" y="1196"/>
                    </a:lnTo>
                    <a:lnTo>
                      <a:pt x="6588" y="1215"/>
                    </a:lnTo>
                    <a:lnTo>
                      <a:pt x="6551" y="1233"/>
                    </a:lnTo>
                    <a:lnTo>
                      <a:pt x="6513" y="1252"/>
                    </a:lnTo>
                    <a:lnTo>
                      <a:pt x="6494" y="1270"/>
                    </a:lnTo>
                    <a:lnTo>
                      <a:pt x="6456" y="1289"/>
                    </a:lnTo>
                    <a:lnTo>
                      <a:pt x="6418" y="1307"/>
                    </a:lnTo>
                    <a:lnTo>
                      <a:pt x="6380" y="1326"/>
                    </a:lnTo>
                    <a:lnTo>
                      <a:pt x="6343" y="1344"/>
                    </a:lnTo>
                    <a:lnTo>
                      <a:pt x="6305" y="1363"/>
                    </a:lnTo>
                    <a:lnTo>
                      <a:pt x="6267" y="1381"/>
                    </a:lnTo>
                    <a:lnTo>
                      <a:pt x="6230" y="1400"/>
                    </a:lnTo>
                    <a:lnTo>
                      <a:pt x="6211" y="1418"/>
                    </a:lnTo>
                    <a:lnTo>
                      <a:pt x="6173" y="1436"/>
                    </a:lnTo>
                    <a:lnTo>
                      <a:pt x="4644" y="1436"/>
                    </a:lnTo>
                    <a:lnTo>
                      <a:pt x="5796" y="644"/>
                    </a:lnTo>
                    <a:lnTo>
                      <a:pt x="4078" y="1436"/>
                    </a:lnTo>
                    <a:lnTo>
                      <a:pt x="3247" y="1436"/>
                    </a:lnTo>
                    <a:lnTo>
                      <a:pt x="3152" y="1141"/>
                    </a:lnTo>
                    <a:lnTo>
                      <a:pt x="3134" y="1141"/>
                    </a:lnTo>
                    <a:lnTo>
                      <a:pt x="3134" y="1141"/>
                    </a:lnTo>
                    <a:lnTo>
                      <a:pt x="3134" y="1141"/>
                    </a:lnTo>
                    <a:lnTo>
                      <a:pt x="3134" y="1123"/>
                    </a:lnTo>
                    <a:lnTo>
                      <a:pt x="3134" y="1123"/>
                    </a:lnTo>
                    <a:lnTo>
                      <a:pt x="3115" y="1104"/>
                    </a:lnTo>
                    <a:lnTo>
                      <a:pt x="3115" y="1086"/>
                    </a:lnTo>
                    <a:lnTo>
                      <a:pt x="3115" y="1086"/>
                    </a:lnTo>
                    <a:lnTo>
                      <a:pt x="4228" y="128"/>
                    </a:lnTo>
                    <a:lnTo>
                      <a:pt x="3435" y="478"/>
                    </a:lnTo>
                    <a:lnTo>
                      <a:pt x="3416" y="478"/>
                    </a:lnTo>
                    <a:lnTo>
                      <a:pt x="3380" y="478"/>
                    </a:lnTo>
                    <a:lnTo>
                      <a:pt x="3361" y="459"/>
                    </a:lnTo>
                    <a:lnTo>
                      <a:pt x="3342" y="441"/>
                    </a:lnTo>
                    <a:lnTo>
                      <a:pt x="3323" y="422"/>
                    </a:lnTo>
                    <a:lnTo>
                      <a:pt x="3323" y="404"/>
                    </a:lnTo>
                    <a:lnTo>
                      <a:pt x="3304" y="387"/>
                    </a:lnTo>
                    <a:lnTo>
                      <a:pt x="3285" y="368"/>
                    </a:lnTo>
                    <a:lnTo>
                      <a:pt x="3285" y="331"/>
                    </a:lnTo>
                    <a:lnTo>
                      <a:pt x="3266" y="313"/>
                    </a:lnTo>
                    <a:lnTo>
                      <a:pt x="3266" y="276"/>
                    </a:lnTo>
                    <a:lnTo>
                      <a:pt x="3247" y="239"/>
                    </a:lnTo>
                    <a:lnTo>
                      <a:pt x="3228" y="220"/>
                    </a:lnTo>
                    <a:lnTo>
                      <a:pt x="3228" y="183"/>
                    </a:lnTo>
                    <a:lnTo>
                      <a:pt x="3209" y="165"/>
                    </a:lnTo>
                    <a:lnTo>
                      <a:pt x="3190" y="128"/>
                    </a:lnTo>
                    <a:lnTo>
                      <a:pt x="3190" y="109"/>
                    </a:lnTo>
                    <a:lnTo>
                      <a:pt x="3190" y="109"/>
                    </a:lnTo>
                    <a:lnTo>
                      <a:pt x="3190" y="91"/>
                    </a:lnTo>
                    <a:lnTo>
                      <a:pt x="3190" y="72"/>
                    </a:lnTo>
                    <a:lnTo>
                      <a:pt x="3209" y="54"/>
                    </a:lnTo>
                    <a:lnTo>
                      <a:pt x="3209" y="36"/>
                    </a:lnTo>
                    <a:lnTo>
                      <a:pt x="3209" y="18"/>
                    </a:lnTo>
                    <a:lnTo>
                      <a:pt x="3209" y="0"/>
                    </a:lnTo>
                    <a:lnTo>
                      <a:pt x="10458" y="0"/>
                    </a:lnTo>
                    <a:close/>
                    <a:moveTo>
                      <a:pt x="491" y="0"/>
                    </a:moveTo>
                    <a:lnTo>
                      <a:pt x="152" y="220"/>
                    </a:lnTo>
                    <a:lnTo>
                      <a:pt x="133" y="220"/>
                    </a:lnTo>
                    <a:lnTo>
                      <a:pt x="114" y="220"/>
                    </a:lnTo>
                    <a:lnTo>
                      <a:pt x="114" y="202"/>
                    </a:lnTo>
                    <a:lnTo>
                      <a:pt x="95" y="202"/>
                    </a:lnTo>
                    <a:lnTo>
                      <a:pt x="76" y="183"/>
                    </a:lnTo>
                    <a:lnTo>
                      <a:pt x="76" y="165"/>
                    </a:lnTo>
                    <a:lnTo>
                      <a:pt x="57" y="165"/>
                    </a:lnTo>
                    <a:lnTo>
                      <a:pt x="57" y="146"/>
                    </a:lnTo>
                    <a:lnTo>
                      <a:pt x="38" y="128"/>
                    </a:lnTo>
                    <a:lnTo>
                      <a:pt x="38" y="109"/>
                    </a:lnTo>
                    <a:lnTo>
                      <a:pt x="38" y="91"/>
                    </a:lnTo>
                    <a:lnTo>
                      <a:pt x="19" y="72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49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88" name="Freeform 20"/>
              <p:cNvSpPr/>
              <p:nvPr/>
            </p:nvSpPr>
            <p:spPr>
              <a:xfrm>
                <a:off x="3915000" y="2623680"/>
                <a:ext cx="1856520" cy="121680"/>
              </a:xfrm>
              <a:custGeom>
                <a:avLst/>
                <a:gdLst/>
                <a:ahLst/>
                <a:rect l="l" t="t" r="r" b="b"/>
                <a:pathLst>
                  <a:path w="8079" h="1418">
                    <a:moveTo>
                      <a:pt x="8079" y="0"/>
                    </a:moveTo>
                    <a:lnTo>
                      <a:pt x="7871" y="184"/>
                    </a:lnTo>
                    <a:lnTo>
                      <a:pt x="7871" y="202"/>
                    </a:lnTo>
                    <a:lnTo>
                      <a:pt x="7871" y="221"/>
                    </a:lnTo>
                    <a:lnTo>
                      <a:pt x="7871" y="221"/>
                    </a:lnTo>
                    <a:lnTo>
                      <a:pt x="7871" y="239"/>
                    </a:lnTo>
                    <a:lnTo>
                      <a:pt x="7871" y="258"/>
                    </a:lnTo>
                    <a:lnTo>
                      <a:pt x="7890" y="276"/>
                    </a:lnTo>
                    <a:lnTo>
                      <a:pt x="7890" y="295"/>
                    </a:lnTo>
                    <a:lnTo>
                      <a:pt x="7890" y="313"/>
                    </a:lnTo>
                    <a:lnTo>
                      <a:pt x="7796" y="332"/>
                    </a:lnTo>
                    <a:lnTo>
                      <a:pt x="7683" y="368"/>
                    </a:lnTo>
                    <a:lnTo>
                      <a:pt x="7569" y="405"/>
                    </a:lnTo>
                    <a:lnTo>
                      <a:pt x="7456" y="442"/>
                    </a:lnTo>
                    <a:lnTo>
                      <a:pt x="7362" y="460"/>
                    </a:lnTo>
                    <a:lnTo>
                      <a:pt x="7249" y="497"/>
                    </a:lnTo>
                    <a:lnTo>
                      <a:pt x="7135" y="534"/>
                    </a:lnTo>
                    <a:lnTo>
                      <a:pt x="7021" y="552"/>
                    </a:lnTo>
                    <a:lnTo>
                      <a:pt x="6928" y="589"/>
                    </a:lnTo>
                    <a:lnTo>
                      <a:pt x="6814" y="626"/>
                    </a:lnTo>
                    <a:lnTo>
                      <a:pt x="6701" y="645"/>
                    </a:lnTo>
                    <a:lnTo>
                      <a:pt x="6588" y="682"/>
                    </a:lnTo>
                    <a:lnTo>
                      <a:pt x="6493" y="718"/>
                    </a:lnTo>
                    <a:lnTo>
                      <a:pt x="6380" y="736"/>
                    </a:lnTo>
                    <a:lnTo>
                      <a:pt x="6267" y="773"/>
                    </a:lnTo>
                    <a:lnTo>
                      <a:pt x="6154" y="810"/>
                    </a:lnTo>
                    <a:lnTo>
                      <a:pt x="6059" y="847"/>
                    </a:lnTo>
                    <a:lnTo>
                      <a:pt x="5947" y="865"/>
                    </a:lnTo>
                    <a:lnTo>
                      <a:pt x="5833" y="902"/>
                    </a:lnTo>
                    <a:lnTo>
                      <a:pt x="5719" y="939"/>
                    </a:lnTo>
                    <a:lnTo>
                      <a:pt x="5625" y="976"/>
                    </a:lnTo>
                    <a:lnTo>
                      <a:pt x="5512" y="1013"/>
                    </a:lnTo>
                    <a:lnTo>
                      <a:pt x="5399" y="1050"/>
                    </a:lnTo>
                    <a:lnTo>
                      <a:pt x="5285" y="1086"/>
                    </a:lnTo>
                    <a:lnTo>
                      <a:pt x="5172" y="1123"/>
                    </a:lnTo>
                    <a:lnTo>
                      <a:pt x="5078" y="1160"/>
                    </a:lnTo>
                    <a:lnTo>
                      <a:pt x="4964" y="1197"/>
                    </a:lnTo>
                    <a:lnTo>
                      <a:pt x="4852" y="1253"/>
                    </a:lnTo>
                    <a:lnTo>
                      <a:pt x="4738" y="1289"/>
                    </a:lnTo>
                    <a:lnTo>
                      <a:pt x="4643" y="1326"/>
                    </a:lnTo>
                    <a:lnTo>
                      <a:pt x="4531" y="1382"/>
                    </a:lnTo>
                    <a:lnTo>
                      <a:pt x="4417" y="1418"/>
                    </a:lnTo>
                    <a:lnTo>
                      <a:pt x="2567" y="1418"/>
                    </a:lnTo>
                    <a:lnTo>
                      <a:pt x="2567" y="1418"/>
                    </a:lnTo>
                    <a:lnTo>
                      <a:pt x="2567" y="1418"/>
                    </a:lnTo>
                    <a:lnTo>
                      <a:pt x="2548" y="1399"/>
                    </a:lnTo>
                    <a:lnTo>
                      <a:pt x="2548" y="1399"/>
                    </a:lnTo>
                    <a:lnTo>
                      <a:pt x="2548" y="1399"/>
                    </a:lnTo>
                    <a:lnTo>
                      <a:pt x="2548" y="1399"/>
                    </a:lnTo>
                    <a:lnTo>
                      <a:pt x="2548" y="1382"/>
                    </a:lnTo>
                    <a:lnTo>
                      <a:pt x="2529" y="1382"/>
                    </a:lnTo>
                    <a:lnTo>
                      <a:pt x="4153" y="276"/>
                    </a:lnTo>
                    <a:lnTo>
                      <a:pt x="4115" y="276"/>
                    </a:lnTo>
                    <a:lnTo>
                      <a:pt x="4059" y="295"/>
                    </a:lnTo>
                    <a:lnTo>
                      <a:pt x="4021" y="295"/>
                    </a:lnTo>
                    <a:lnTo>
                      <a:pt x="3964" y="295"/>
                    </a:lnTo>
                    <a:lnTo>
                      <a:pt x="3926" y="313"/>
                    </a:lnTo>
                    <a:lnTo>
                      <a:pt x="3869" y="332"/>
                    </a:lnTo>
                    <a:lnTo>
                      <a:pt x="3831" y="350"/>
                    </a:lnTo>
                    <a:lnTo>
                      <a:pt x="3776" y="368"/>
                    </a:lnTo>
                    <a:lnTo>
                      <a:pt x="3738" y="386"/>
                    </a:lnTo>
                    <a:lnTo>
                      <a:pt x="3681" y="405"/>
                    </a:lnTo>
                    <a:lnTo>
                      <a:pt x="3624" y="423"/>
                    </a:lnTo>
                    <a:lnTo>
                      <a:pt x="3586" y="442"/>
                    </a:lnTo>
                    <a:lnTo>
                      <a:pt x="3529" y="460"/>
                    </a:lnTo>
                    <a:lnTo>
                      <a:pt x="3473" y="497"/>
                    </a:lnTo>
                    <a:lnTo>
                      <a:pt x="3436" y="515"/>
                    </a:lnTo>
                    <a:lnTo>
                      <a:pt x="3379" y="534"/>
                    </a:lnTo>
                    <a:lnTo>
                      <a:pt x="3341" y="571"/>
                    </a:lnTo>
                    <a:lnTo>
                      <a:pt x="3284" y="589"/>
                    </a:lnTo>
                    <a:lnTo>
                      <a:pt x="3228" y="626"/>
                    </a:lnTo>
                    <a:lnTo>
                      <a:pt x="3190" y="645"/>
                    </a:lnTo>
                    <a:lnTo>
                      <a:pt x="3133" y="663"/>
                    </a:lnTo>
                    <a:lnTo>
                      <a:pt x="3077" y="700"/>
                    </a:lnTo>
                    <a:lnTo>
                      <a:pt x="3039" y="718"/>
                    </a:lnTo>
                    <a:lnTo>
                      <a:pt x="2983" y="755"/>
                    </a:lnTo>
                    <a:lnTo>
                      <a:pt x="2926" y="773"/>
                    </a:lnTo>
                    <a:lnTo>
                      <a:pt x="2888" y="792"/>
                    </a:lnTo>
                    <a:lnTo>
                      <a:pt x="2831" y="810"/>
                    </a:lnTo>
                    <a:lnTo>
                      <a:pt x="2793" y="829"/>
                    </a:lnTo>
                    <a:lnTo>
                      <a:pt x="2737" y="865"/>
                    </a:lnTo>
                    <a:lnTo>
                      <a:pt x="2700" y="884"/>
                    </a:lnTo>
                    <a:lnTo>
                      <a:pt x="2643" y="884"/>
                    </a:lnTo>
                    <a:lnTo>
                      <a:pt x="2605" y="902"/>
                    </a:lnTo>
                    <a:lnTo>
                      <a:pt x="2567" y="921"/>
                    </a:lnTo>
                    <a:lnTo>
                      <a:pt x="2548" y="939"/>
                    </a:lnTo>
                    <a:lnTo>
                      <a:pt x="2529" y="958"/>
                    </a:lnTo>
                    <a:lnTo>
                      <a:pt x="2491" y="976"/>
                    </a:lnTo>
                    <a:lnTo>
                      <a:pt x="2472" y="995"/>
                    </a:lnTo>
                    <a:lnTo>
                      <a:pt x="2453" y="1013"/>
                    </a:lnTo>
                    <a:lnTo>
                      <a:pt x="2435" y="1032"/>
                    </a:lnTo>
                    <a:lnTo>
                      <a:pt x="2398" y="1050"/>
                    </a:lnTo>
                    <a:lnTo>
                      <a:pt x="2379" y="1068"/>
                    </a:lnTo>
                    <a:lnTo>
                      <a:pt x="2360" y="1086"/>
                    </a:lnTo>
                    <a:lnTo>
                      <a:pt x="2322" y="1105"/>
                    </a:lnTo>
                    <a:lnTo>
                      <a:pt x="2303" y="1123"/>
                    </a:lnTo>
                    <a:lnTo>
                      <a:pt x="2284" y="1142"/>
                    </a:lnTo>
                    <a:lnTo>
                      <a:pt x="2246" y="1160"/>
                    </a:lnTo>
                    <a:lnTo>
                      <a:pt x="2227" y="1179"/>
                    </a:lnTo>
                    <a:lnTo>
                      <a:pt x="2208" y="1179"/>
                    </a:lnTo>
                    <a:lnTo>
                      <a:pt x="2171" y="1197"/>
                    </a:lnTo>
                    <a:lnTo>
                      <a:pt x="2152" y="1216"/>
                    </a:lnTo>
                    <a:lnTo>
                      <a:pt x="2133" y="1234"/>
                    </a:lnTo>
                    <a:lnTo>
                      <a:pt x="2095" y="1253"/>
                    </a:lnTo>
                    <a:lnTo>
                      <a:pt x="2076" y="1271"/>
                    </a:lnTo>
                    <a:lnTo>
                      <a:pt x="2058" y="1289"/>
                    </a:lnTo>
                    <a:lnTo>
                      <a:pt x="2020" y="1289"/>
                    </a:lnTo>
                    <a:lnTo>
                      <a:pt x="2001" y="1308"/>
                    </a:lnTo>
                    <a:lnTo>
                      <a:pt x="1982" y="1326"/>
                    </a:lnTo>
                    <a:lnTo>
                      <a:pt x="1944" y="1345"/>
                    </a:lnTo>
                    <a:lnTo>
                      <a:pt x="1925" y="1363"/>
                    </a:lnTo>
                    <a:lnTo>
                      <a:pt x="1888" y="1363"/>
                    </a:lnTo>
                    <a:lnTo>
                      <a:pt x="1869" y="1382"/>
                    </a:lnTo>
                    <a:lnTo>
                      <a:pt x="1850" y="1399"/>
                    </a:lnTo>
                    <a:lnTo>
                      <a:pt x="1812" y="1418"/>
                    </a:lnTo>
                    <a:lnTo>
                      <a:pt x="1793" y="1418"/>
                    </a:lnTo>
                    <a:lnTo>
                      <a:pt x="1680" y="1418"/>
                    </a:lnTo>
                    <a:lnTo>
                      <a:pt x="1529" y="1142"/>
                    </a:lnTo>
                    <a:lnTo>
                      <a:pt x="1529" y="1123"/>
                    </a:lnTo>
                    <a:lnTo>
                      <a:pt x="1529" y="1105"/>
                    </a:lnTo>
                    <a:lnTo>
                      <a:pt x="1529" y="1086"/>
                    </a:lnTo>
                    <a:lnTo>
                      <a:pt x="1529" y="1068"/>
                    </a:lnTo>
                    <a:lnTo>
                      <a:pt x="1510" y="1050"/>
                    </a:lnTo>
                    <a:lnTo>
                      <a:pt x="1510" y="1050"/>
                    </a:lnTo>
                    <a:lnTo>
                      <a:pt x="1491" y="1032"/>
                    </a:lnTo>
                    <a:lnTo>
                      <a:pt x="1491" y="1013"/>
                    </a:lnTo>
                    <a:lnTo>
                      <a:pt x="1491" y="1013"/>
                    </a:lnTo>
                    <a:lnTo>
                      <a:pt x="1472" y="995"/>
                    </a:lnTo>
                    <a:lnTo>
                      <a:pt x="1472" y="976"/>
                    </a:lnTo>
                    <a:lnTo>
                      <a:pt x="1472" y="958"/>
                    </a:lnTo>
                    <a:lnTo>
                      <a:pt x="1453" y="939"/>
                    </a:lnTo>
                    <a:lnTo>
                      <a:pt x="1453" y="939"/>
                    </a:lnTo>
                    <a:lnTo>
                      <a:pt x="1472" y="921"/>
                    </a:lnTo>
                    <a:lnTo>
                      <a:pt x="1472" y="884"/>
                    </a:lnTo>
                    <a:lnTo>
                      <a:pt x="1472" y="884"/>
                    </a:lnTo>
                    <a:lnTo>
                      <a:pt x="1472" y="865"/>
                    </a:lnTo>
                    <a:lnTo>
                      <a:pt x="1453" y="847"/>
                    </a:lnTo>
                    <a:lnTo>
                      <a:pt x="1453" y="847"/>
                    </a:lnTo>
                    <a:lnTo>
                      <a:pt x="1434" y="847"/>
                    </a:lnTo>
                    <a:lnTo>
                      <a:pt x="1434" y="829"/>
                    </a:lnTo>
                    <a:lnTo>
                      <a:pt x="1434" y="810"/>
                    </a:lnTo>
                    <a:lnTo>
                      <a:pt x="1434" y="792"/>
                    </a:lnTo>
                    <a:lnTo>
                      <a:pt x="2567" y="0"/>
                    </a:lnTo>
                    <a:lnTo>
                      <a:pt x="8079" y="0"/>
                    </a:lnTo>
                    <a:close/>
                    <a:moveTo>
                      <a:pt x="2510" y="0"/>
                    </a:moveTo>
                    <a:lnTo>
                      <a:pt x="246" y="1050"/>
                    </a:lnTo>
                    <a:lnTo>
                      <a:pt x="37" y="423"/>
                    </a:lnTo>
                    <a:lnTo>
                      <a:pt x="19" y="423"/>
                    </a:lnTo>
                    <a:lnTo>
                      <a:pt x="19" y="423"/>
                    </a:lnTo>
                    <a:lnTo>
                      <a:pt x="19" y="423"/>
                    </a:lnTo>
                    <a:lnTo>
                      <a:pt x="19" y="405"/>
                    </a:lnTo>
                    <a:lnTo>
                      <a:pt x="19" y="405"/>
                    </a:lnTo>
                    <a:lnTo>
                      <a:pt x="0" y="386"/>
                    </a:lnTo>
                    <a:lnTo>
                      <a:pt x="0" y="368"/>
                    </a:lnTo>
                    <a:lnTo>
                      <a:pt x="0" y="368"/>
                    </a:lnTo>
                    <a:lnTo>
                      <a:pt x="415" y="0"/>
                    </a:lnTo>
                    <a:lnTo>
                      <a:pt x="251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89" name="Freeform 21"/>
              <p:cNvSpPr/>
              <p:nvPr/>
            </p:nvSpPr>
            <p:spPr>
              <a:xfrm>
                <a:off x="3947040" y="2685960"/>
                <a:ext cx="1461600" cy="114120"/>
              </a:xfrm>
              <a:custGeom>
                <a:avLst/>
                <a:gdLst/>
                <a:ahLst/>
                <a:rect l="l" t="t" r="r" b="b"/>
                <a:pathLst>
                  <a:path w="6361" h="1327">
                    <a:moveTo>
                      <a:pt x="6361" y="0"/>
                    </a:moveTo>
                    <a:lnTo>
                      <a:pt x="6267" y="18"/>
                    </a:lnTo>
                    <a:lnTo>
                      <a:pt x="6172" y="37"/>
                    </a:lnTo>
                    <a:lnTo>
                      <a:pt x="6097" y="74"/>
                    </a:lnTo>
                    <a:lnTo>
                      <a:pt x="6003" y="92"/>
                    </a:lnTo>
                    <a:lnTo>
                      <a:pt x="5927" y="129"/>
                    </a:lnTo>
                    <a:lnTo>
                      <a:pt x="5832" y="147"/>
                    </a:lnTo>
                    <a:lnTo>
                      <a:pt x="5739" y="166"/>
                    </a:lnTo>
                    <a:lnTo>
                      <a:pt x="5663" y="203"/>
                    </a:lnTo>
                    <a:lnTo>
                      <a:pt x="5568" y="221"/>
                    </a:lnTo>
                    <a:lnTo>
                      <a:pt x="5493" y="258"/>
                    </a:lnTo>
                    <a:lnTo>
                      <a:pt x="5399" y="295"/>
                    </a:lnTo>
                    <a:lnTo>
                      <a:pt x="5304" y="314"/>
                    </a:lnTo>
                    <a:lnTo>
                      <a:pt x="5229" y="350"/>
                    </a:lnTo>
                    <a:lnTo>
                      <a:pt x="5134" y="368"/>
                    </a:lnTo>
                    <a:lnTo>
                      <a:pt x="5059" y="405"/>
                    </a:lnTo>
                    <a:lnTo>
                      <a:pt x="4965" y="442"/>
                    </a:lnTo>
                    <a:lnTo>
                      <a:pt x="4870" y="461"/>
                    </a:lnTo>
                    <a:lnTo>
                      <a:pt x="4794" y="498"/>
                    </a:lnTo>
                    <a:lnTo>
                      <a:pt x="4701" y="535"/>
                    </a:lnTo>
                    <a:lnTo>
                      <a:pt x="4606" y="571"/>
                    </a:lnTo>
                    <a:lnTo>
                      <a:pt x="4530" y="608"/>
                    </a:lnTo>
                    <a:lnTo>
                      <a:pt x="4436" y="645"/>
                    </a:lnTo>
                    <a:lnTo>
                      <a:pt x="4361" y="681"/>
                    </a:lnTo>
                    <a:lnTo>
                      <a:pt x="4266" y="718"/>
                    </a:lnTo>
                    <a:lnTo>
                      <a:pt x="4172" y="755"/>
                    </a:lnTo>
                    <a:lnTo>
                      <a:pt x="4096" y="792"/>
                    </a:lnTo>
                    <a:lnTo>
                      <a:pt x="4002" y="829"/>
                    </a:lnTo>
                    <a:lnTo>
                      <a:pt x="3908" y="866"/>
                    </a:lnTo>
                    <a:lnTo>
                      <a:pt x="3832" y="903"/>
                    </a:lnTo>
                    <a:lnTo>
                      <a:pt x="3737" y="958"/>
                    </a:lnTo>
                    <a:lnTo>
                      <a:pt x="3644" y="995"/>
                    </a:lnTo>
                    <a:lnTo>
                      <a:pt x="3568" y="1050"/>
                    </a:lnTo>
                    <a:lnTo>
                      <a:pt x="3530" y="1050"/>
                    </a:lnTo>
                    <a:lnTo>
                      <a:pt x="3492" y="1068"/>
                    </a:lnTo>
                    <a:lnTo>
                      <a:pt x="3473" y="1087"/>
                    </a:lnTo>
                    <a:lnTo>
                      <a:pt x="3435" y="1105"/>
                    </a:lnTo>
                    <a:lnTo>
                      <a:pt x="3397" y="1124"/>
                    </a:lnTo>
                    <a:lnTo>
                      <a:pt x="3379" y="1142"/>
                    </a:lnTo>
                    <a:lnTo>
                      <a:pt x="3341" y="1161"/>
                    </a:lnTo>
                    <a:lnTo>
                      <a:pt x="3323" y="1161"/>
                    </a:lnTo>
                    <a:lnTo>
                      <a:pt x="3285" y="1179"/>
                    </a:lnTo>
                    <a:lnTo>
                      <a:pt x="3266" y="1198"/>
                    </a:lnTo>
                    <a:lnTo>
                      <a:pt x="3228" y="1216"/>
                    </a:lnTo>
                    <a:lnTo>
                      <a:pt x="3209" y="1216"/>
                    </a:lnTo>
                    <a:lnTo>
                      <a:pt x="3171" y="1235"/>
                    </a:lnTo>
                    <a:lnTo>
                      <a:pt x="3133" y="1253"/>
                    </a:lnTo>
                    <a:lnTo>
                      <a:pt x="3115" y="1253"/>
                    </a:lnTo>
                    <a:lnTo>
                      <a:pt x="3077" y="1272"/>
                    </a:lnTo>
                    <a:lnTo>
                      <a:pt x="3058" y="1290"/>
                    </a:lnTo>
                    <a:lnTo>
                      <a:pt x="3020" y="1290"/>
                    </a:lnTo>
                    <a:lnTo>
                      <a:pt x="3001" y="1309"/>
                    </a:lnTo>
                    <a:lnTo>
                      <a:pt x="2964" y="1309"/>
                    </a:lnTo>
                    <a:lnTo>
                      <a:pt x="2945" y="1309"/>
                    </a:lnTo>
                    <a:lnTo>
                      <a:pt x="2907" y="1327"/>
                    </a:lnTo>
                    <a:lnTo>
                      <a:pt x="2888" y="1327"/>
                    </a:lnTo>
                    <a:lnTo>
                      <a:pt x="2851" y="1327"/>
                    </a:lnTo>
                    <a:lnTo>
                      <a:pt x="2832" y="1327"/>
                    </a:lnTo>
                    <a:lnTo>
                      <a:pt x="2794" y="1327"/>
                    </a:lnTo>
                    <a:lnTo>
                      <a:pt x="2775" y="1327"/>
                    </a:lnTo>
                    <a:lnTo>
                      <a:pt x="2737" y="1327"/>
                    </a:lnTo>
                    <a:lnTo>
                      <a:pt x="2699" y="1327"/>
                    </a:lnTo>
                    <a:lnTo>
                      <a:pt x="2680" y="1309"/>
                    </a:lnTo>
                    <a:lnTo>
                      <a:pt x="2642" y="1309"/>
                    </a:lnTo>
                    <a:lnTo>
                      <a:pt x="2605" y="1290"/>
                    </a:lnTo>
                    <a:lnTo>
                      <a:pt x="2454" y="737"/>
                    </a:lnTo>
                    <a:lnTo>
                      <a:pt x="2454" y="737"/>
                    </a:lnTo>
                    <a:lnTo>
                      <a:pt x="2435" y="718"/>
                    </a:lnTo>
                    <a:lnTo>
                      <a:pt x="2435" y="718"/>
                    </a:lnTo>
                    <a:lnTo>
                      <a:pt x="2435" y="700"/>
                    </a:lnTo>
                    <a:lnTo>
                      <a:pt x="2435" y="700"/>
                    </a:lnTo>
                    <a:lnTo>
                      <a:pt x="2416" y="681"/>
                    </a:lnTo>
                    <a:lnTo>
                      <a:pt x="2416" y="681"/>
                    </a:lnTo>
                    <a:lnTo>
                      <a:pt x="2397" y="664"/>
                    </a:lnTo>
                    <a:lnTo>
                      <a:pt x="3379" y="0"/>
                    </a:lnTo>
                    <a:lnTo>
                      <a:pt x="6361" y="0"/>
                    </a:lnTo>
                    <a:close/>
                    <a:moveTo>
                      <a:pt x="2926" y="0"/>
                    </a:moveTo>
                    <a:lnTo>
                      <a:pt x="2888" y="0"/>
                    </a:lnTo>
                    <a:lnTo>
                      <a:pt x="2869" y="18"/>
                    </a:lnTo>
                    <a:lnTo>
                      <a:pt x="2832" y="37"/>
                    </a:lnTo>
                    <a:lnTo>
                      <a:pt x="2813" y="55"/>
                    </a:lnTo>
                    <a:lnTo>
                      <a:pt x="2775" y="74"/>
                    </a:lnTo>
                    <a:lnTo>
                      <a:pt x="2756" y="74"/>
                    </a:lnTo>
                    <a:lnTo>
                      <a:pt x="2718" y="92"/>
                    </a:lnTo>
                    <a:lnTo>
                      <a:pt x="2699" y="111"/>
                    </a:lnTo>
                    <a:lnTo>
                      <a:pt x="2661" y="111"/>
                    </a:lnTo>
                    <a:lnTo>
                      <a:pt x="2642" y="129"/>
                    </a:lnTo>
                    <a:lnTo>
                      <a:pt x="2605" y="147"/>
                    </a:lnTo>
                    <a:lnTo>
                      <a:pt x="2568" y="147"/>
                    </a:lnTo>
                    <a:lnTo>
                      <a:pt x="2549" y="166"/>
                    </a:lnTo>
                    <a:lnTo>
                      <a:pt x="2511" y="166"/>
                    </a:lnTo>
                    <a:lnTo>
                      <a:pt x="2492" y="184"/>
                    </a:lnTo>
                    <a:lnTo>
                      <a:pt x="2473" y="184"/>
                    </a:lnTo>
                    <a:lnTo>
                      <a:pt x="2435" y="203"/>
                    </a:lnTo>
                    <a:lnTo>
                      <a:pt x="2416" y="221"/>
                    </a:lnTo>
                    <a:lnTo>
                      <a:pt x="2378" y="240"/>
                    </a:lnTo>
                    <a:lnTo>
                      <a:pt x="2359" y="277"/>
                    </a:lnTo>
                    <a:lnTo>
                      <a:pt x="2321" y="295"/>
                    </a:lnTo>
                    <a:lnTo>
                      <a:pt x="2303" y="314"/>
                    </a:lnTo>
                    <a:lnTo>
                      <a:pt x="2284" y="332"/>
                    </a:lnTo>
                    <a:lnTo>
                      <a:pt x="2247" y="350"/>
                    </a:lnTo>
                    <a:lnTo>
                      <a:pt x="2228" y="368"/>
                    </a:lnTo>
                    <a:lnTo>
                      <a:pt x="2190" y="387"/>
                    </a:lnTo>
                    <a:lnTo>
                      <a:pt x="2171" y="405"/>
                    </a:lnTo>
                    <a:lnTo>
                      <a:pt x="2133" y="424"/>
                    </a:lnTo>
                    <a:lnTo>
                      <a:pt x="2114" y="442"/>
                    </a:lnTo>
                    <a:lnTo>
                      <a:pt x="2076" y="461"/>
                    </a:lnTo>
                    <a:lnTo>
                      <a:pt x="2057" y="479"/>
                    </a:lnTo>
                    <a:lnTo>
                      <a:pt x="2039" y="498"/>
                    </a:lnTo>
                    <a:lnTo>
                      <a:pt x="2001" y="516"/>
                    </a:lnTo>
                    <a:lnTo>
                      <a:pt x="1982" y="535"/>
                    </a:lnTo>
                    <a:lnTo>
                      <a:pt x="1944" y="553"/>
                    </a:lnTo>
                    <a:lnTo>
                      <a:pt x="1926" y="571"/>
                    </a:lnTo>
                    <a:lnTo>
                      <a:pt x="1888" y="590"/>
                    </a:lnTo>
                    <a:lnTo>
                      <a:pt x="1869" y="608"/>
                    </a:lnTo>
                    <a:lnTo>
                      <a:pt x="1831" y="608"/>
                    </a:lnTo>
                    <a:lnTo>
                      <a:pt x="1812" y="627"/>
                    </a:lnTo>
                    <a:lnTo>
                      <a:pt x="1775" y="645"/>
                    </a:lnTo>
                    <a:lnTo>
                      <a:pt x="1737" y="664"/>
                    </a:lnTo>
                    <a:lnTo>
                      <a:pt x="1718" y="681"/>
                    </a:lnTo>
                    <a:lnTo>
                      <a:pt x="1680" y="681"/>
                    </a:lnTo>
                    <a:lnTo>
                      <a:pt x="1661" y="700"/>
                    </a:lnTo>
                    <a:lnTo>
                      <a:pt x="1623" y="718"/>
                    </a:lnTo>
                    <a:lnTo>
                      <a:pt x="1604" y="737"/>
                    </a:lnTo>
                    <a:lnTo>
                      <a:pt x="1567" y="737"/>
                    </a:lnTo>
                    <a:lnTo>
                      <a:pt x="1397" y="424"/>
                    </a:lnTo>
                    <a:lnTo>
                      <a:pt x="1397" y="405"/>
                    </a:lnTo>
                    <a:lnTo>
                      <a:pt x="1397" y="387"/>
                    </a:lnTo>
                    <a:lnTo>
                      <a:pt x="1397" y="368"/>
                    </a:lnTo>
                    <a:lnTo>
                      <a:pt x="1397" y="350"/>
                    </a:lnTo>
                    <a:lnTo>
                      <a:pt x="1378" y="332"/>
                    </a:lnTo>
                    <a:lnTo>
                      <a:pt x="1378" y="332"/>
                    </a:lnTo>
                    <a:lnTo>
                      <a:pt x="1359" y="314"/>
                    </a:lnTo>
                    <a:lnTo>
                      <a:pt x="1359" y="295"/>
                    </a:lnTo>
                    <a:lnTo>
                      <a:pt x="1359" y="295"/>
                    </a:lnTo>
                    <a:lnTo>
                      <a:pt x="1340" y="277"/>
                    </a:lnTo>
                    <a:lnTo>
                      <a:pt x="1340" y="258"/>
                    </a:lnTo>
                    <a:lnTo>
                      <a:pt x="1340" y="240"/>
                    </a:lnTo>
                    <a:lnTo>
                      <a:pt x="1321" y="221"/>
                    </a:lnTo>
                    <a:lnTo>
                      <a:pt x="1321" y="221"/>
                    </a:lnTo>
                    <a:lnTo>
                      <a:pt x="1340" y="203"/>
                    </a:lnTo>
                    <a:lnTo>
                      <a:pt x="1340" y="166"/>
                    </a:lnTo>
                    <a:lnTo>
                      <a:pt x="1340" y="166"/>
                    </a:lnTo>
                    <a:lnTo>
                      <a:pt x="1340" y="147"/>
                    </a:lnTo>
                    <a:lnTo>
                      <a:pt x="1321" y="129"/>
                    </a:lnTo>
                    <a:lnTo>
                      <a:pt x="1321" y="129"/>
                    </a:lnTo>
                    <a:lnTo>
                      <a:pt x="1302" y="129"/>
                    </a:lnTo>
                    <a:lnTo>
                      <a:pt x="1302" y="111"/>
                    </a:lnTo>
                    <a:lnTo>
                      <a:pt x="1302" y="92"/>
                    </a:lnTo>
                    <a:lnTo>
                      <a:pt x="1302" y="74"/>
                    </a:lnTo>
                    <a:lnTo>
                      <a:pt x="1397" y="0"/>
                    </a:lnTo>
                    <a:lnTo>
                      <a:pt x="2926" y="0"/>
                    </a:lnTo>
                    <a:close/>
                    <a:moveTo>
                      <a:pt x="831" y="0"/>
                    </a:moveTo>
                    <a:lnTo>
                      <a:pt x="114" y="332"/>
                    </a:lnTo>
                    <a:lnTo>
                      <a:pt x="0" y="0"/>
                    </a:lnTo>
                    <a:lnTo>
                      <a:pt x="83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90" name="Freeform 22"/>
              <p:cNvSpPr/>
              <p:nvPr/>
            </p:nvSpPr>
            <p:spPr>
              <a:xfrm>
                <a:off x="4300560" y="2745720"/>
                <a:ext cx="629640" cy="54360"/>
              </a:xfrm>
              <a:custGeom>
                <a:avLst/>
                <a:gdLst/>
                <a:ahLst/>
                <a:rect l="l" t="t" r="r" b="b"/>
                <a:pathLst>
                  <a:path w="2737" h="627">
                    <a:moveTo>
                      <a:pt x="2737" y="0"/>
                    </a:moveTo>
                    <a:lnTo>
                      <a:pt x="2718" y="18"/>
                    </a:lnTo>
                    <a:lnTo>
                      <a:pt x="2699" y="18"/>
                    </a:lnTo>
                    <a:lnTo>
                      <a:pt x="2661" y="37"/>
                    </a:lnTo>
                    <a:lnTo>
                      <a:pt x="2643" y="37"/>
                    </a:lnTo>
                    <a:lnTo>
                      <a:pt x="2624" y="55"/>
                    </a:lnTo>
                    <a:lnTo>
                      <a:pt x="2605" y="55"/>
                    </a:lnTo>
                    <a:lnTo>
                      <a:pt x="2586" y="74"/>
                    </a:lnTo>
                    <a:lnTo>
                      <a:pt x="2548" y="74"/>
                    </a:lnTo>
                    <a:lnTo>
                      <a:pt x="2529" y="92"/>
                    </a:lnTo>
                    <a:lnTo>
                      <a:pt x="2510" y="111"/>
                    </a:lnTo>
                    <a:lnTo>
                      <a:pt x="2492" y="111"/>
                    </a:lnTo>
                    <a:lnTo>
                      <a:pt x="2473" y="129"/>
                    </a:lnTo>
                    <a:lnTo>
                      <a:pt x="2435" y="129"/>
                    </a:lnTo>
                    <a:lnTo>
                      <a:pt x="2416" y="148"/>
                    </a:lnTo>
                    <a:lnTo>
                      <a:pt x="2397" y="148"/>
                    </a:lnTo>
                    <a:lnTo>
                      <a:pt x="2379" y="166"/>
                    </a:lnTo>
                    <a:lnTo>
                      <a:pt x="2360" y="185"/>
                    </a:lnTo>
                    <a:lnTo>
                      <a:pt x="2322" y="185"/>
                    </a:lnTo>
                    <a:lnTo>
                      <a:pt x="2303" y="203"/>
                    </a:lnTo>
                    <a:lnTo>
                      <a:pt x="2284" y="203"/>
                    </a:lnTo>
                    <a:lnTo>
                      <a:pt x="2265" y="222"/>
                    </a:lnTo>
                    <a:lnTo>
                      <a:pt x="2246" y="222"/>
                    </a:lnTo>
                    <a:lnTo>
                      <a:pt x="2227" y="240"/>
                    </a:lnTo>
                    <a:lnTo>
                      <a:pt x="2189" y="258"/>
                    </a:lnTo>
                    <a:lnTo>
                      <a:pt x="2170" y="258"/>
                    </a:lnTo>
                    <a:lnTo>
                      <a:pt x="2151" y="277"/>
                    </a:lnTo>
                    <a:lnTo>
                      <a:pt x="2133" y="277"/>
                    </a:lnTo>
                    <a:lnTo>
                      <a:pt x="2096" y="295"/>
                    </a:lnTo>
                    <a:lnTo>
                      <a:pt x="2077" y="314"/>
                    </a:lnTo>
                    <a:lnTo>
                      <a:pt x="2058" y="314"/>
                    </a:lnTo>
                    <a:lnTo>
                      <a:pt x="2039" y="331"/>
                    </a:lnTo>
                    <a:lnTo>
                      <a:pt x="2020" y="350"/>
                    </a:lnTo>
                    <a:lnTo>
                      <a:pt x="1982" y="350"/>
                    </a:lnTo>
                    <a:lnTo>
                      <a:pt x="1944" y="368"/>
                    </a:lnTo>
                    <a:lnTo>
                      <a:pt x="1925" y="387"/>
                    </a:lnTo>
                    <a:lnTo>
                      <a:pt x="1887" y="405"/>
                    </a:lnTo>
                    <a:lnTo>
                      <a:pt x="1849" y="424"/>
                    </a:lnTo>
                    <a:lnTo>
                      <a:pt x="1831" y="442"/>
                    </a:lnTo>
                    <a:lnTo>
                      <a:pt x="1793" y="461"/>
                    </a:lnTo>
                    <a:lnTo>
                      <a:pt x="1775" y="461"/>
                    </a:lnTo>
                    <a:lnTo>
                      <a:pt x="1737" y="479"/>
                    </a:lnTo>
                    <a:lnTo>
                      <a:pt x="1718" y="498"/>
                    </a:lnTo>
                    <a:lnTo>
                      <a:pt x="1680" y="516"/>
                    </a:lnTo>
                    <a:lnTo>
                      <a:pt x="1661" y="516"/>
                    </a:lnTo>
                    <a:lnTo>
                      <a:pt x="1623" y="535"/>
                    </a:lnTo>
                    <a:lnTo>
                      <a:pt x="1585" y="553"/>
                    </a:lnTo>
                    <a:lnTo>
                      <a:pt x="1567" y="553"/>
                    </a:lnTo>
                    <a:lnTo>
                      <a:pt x="1529" y="572"/>
                    </a:lnTo>
                    <a:lnTo>
                      <a:pt x="1510" y="590"/>
                    </a:lnTo>
                    <a:lnTo>
                      <a:pt x="1472" y="590"/>
                    </a:lnTo>
                    <a:lnTo>
                      <a:pt x="1453" y="609"/>
                    </a:lnTo>
                    <a:lnTo>
                      <a:pt x="1416" y="609"/>
                    </a:lnTo>
                    <a:lnTo>
                      <a:pt x="1397" y="609"/>
                    </a:lnTo>
                    <a:lnTo>
                      <a:pt x="1359" y="627"/>
                    </a:lnTo>
                    <a:lnTo>
                      <a:pt x="1340" y="627"/>
                    </a:lnTo>
                    <a:lnTo>
                      <a:pt x="1303" y="627"/>
                    </a:lnTo>
                    <a:lnTo>
                      <a:pt x="1284" y="627"/>
                    </a:lnTo>
                    <a:lnTo>
                      <a:pt x="1246" y="627"/>
                    </a:lnTo>
                    <a:lnTo>
                      <a:pt x="1227" y="627"/>
                    </a:lnTo>
                    <a:lnTo>
                      <a:pt x="1189" y="627"/>
                    </a:lnTo>
                    <a:lnTo>
                      <a:pt x="1151" y="627"/>
                    </a:lnTo>
                    <a:lnTo>
                      <a:pt x="1132" y="609"/>
                    </a:lnTo>
                    <a:lnTo>
                      <a:pt x="1094" y="609"/>
                    </a:lnTo>
                    <a:lnTo>
                      <a:pt x="1057" y="590"/>
                    </a:lnTo>
                    <a:lnTo>
                      <a:pt x="906" y="37"/>
                    </a:lnTo>
                    <a:lnTo>
                      <a:pt x="906" y="37"/>
                    </a:lnTo>
                    <a:lnTo>
                      <a:pt x="906" y="37"/>
                    </a:lnTo>
                    <a:lnTo>
                      <a:pt x="887" y="37"/>
                    </a:lnTo>
                    <a:lnTo>
                      <a:pt x="887" y="18"/>
                    </a:lnTo>
                    <a:lnTo>
                      <a:pt x="887" y="18"/>
                    </a:lnTo>
                    <a:lnTo>
                      <a:pt x="887" y="18"/>
                    </a:lnTo>
                    <a:lnTo>
                      <a:pt x="887" y="0"/>
                    </a:lnTo>
                    <a:lnTo>
                      <a:pt x="887" y="0"/>
                    </a:lnTo>
                    <a:lnTo>
                      <a:pt x="2737" y="0"/>
                    </a:lnTo>
                    <a:close/>
                    <a:moveTo>
                      <a:pt x="113" y="0"/>
                    </a:moveTo>
                    <a:lnTo>
                      <a:pt x="94" y="0"/>
                    </a:lnTo>
                    <a:lnTo>
                      <a:pt x="94" y="18"/>
                    </a:lnTo>
                    <a:lnTo>
                      <a:pt x="75" y="18"/>
                    </a:lnTo>
                    <a:lnTo>
                      <a:pt x="56" y="18"/>
                    </a:lnTo>
                    <a:lnTo>
                      <a:pt x="56" y="37"/>
                    </a:lnTo>
                    <a:lnTo>
                      <a:pt x="37" y="37"/>
                    </a:lnTo>
                    <a:lnTo>
                      <a:pt x="37" y="37"/>
                    </a:lnTo>
                    <a:lnTo>
                      <a:pt x="19" y="37"/>
                    </a:lnTo>
                    <a:lnTo>
                      <a:pt x="0" y="0"/>
                    </a:lnTo>
                    <a:lnTo>
                      <a:pt x="11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91" name="Freeform 23"/>
              <p:cNvSpPr/>
              <p:nvPr/>
            </p:nvSpPr>
            <p:spPr>
              <a:xfrm>
                <a:off x="4756320" y="2326680"/>
                <a:ext cx="9360" cy="1440"/>
              </a:xfrm>
              <a:custGeom>
                <a:avLst/>
                <a:gdLst/>
                <a:ahLst/>
                <a:rect l="l" t="t" r="r" b="b"/>
                <a:pathLst>
                  <a:path w="38" h="1">
                    <a:moveTo>
                      <a:pt x="0" y="0"/>
                    </a:move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38" y="0"/>
                    </a:lnTo>
                    <a:lnTo>
                      <a:pt x="19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92" name="Freeform 24"/>
              <p:cNvSpPr/>
              <p:nvPr/>
            </p:nvSpPr>
            <p:spPr>
              <a:xfrm>
                <a:off x="4750920" y="2326680"/>
                <a:ext cx="14400" cy="144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0"/>
                    </a:move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57" y="0"/>
                    </a:lnTo>
                    <a:lnTo>
                      <a:pt x="19" y="18"/>
                    </a:lnTo>
                    <a:lnTo>
                      <a:pt x="0" y="18"/>
                    </a:lnTo>
                    <a:lnTo>
                      <a:pt x="1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93" name="Freeform 25"/>
              <p:cNvSpPr/>
              <p:nvPr/>
            </p:nvSpPr>
            <p:spPr>
              <a:xfrm>
                <a:off x="4746960" y="2326680"/>
                <a:ext cx="13320" cy="144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18"/>
                    </a:moveTo>
                    <a:lnTo>
                      <a:pt x="57" y="0"/>
                    </a:lnTo>
                    <a:lnTo>
                      <a:pt x="38" y="0"/>
                    </a:lnTo>
                    <a:lnTo>
                      <a:pt x="0" y="18"/>
                    </a:lnTo>
                    <a:lnTo>
                      <a:pt x="19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94" name="Freeform 26"/>
              <p:cNvSpPr/>
              <p:nvPr/>
            </p:nvSpPr>
            <p:spPr>
              <a:xfrm>
                <a:off x="4746960" y="2328480"/>
                <a:ext cx="9360" cy="180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95" name="Freeform 27"/>
              <p:cNvSpPr/>
              <p:nvPr/>
            </p:nvSpPr>
            <p:spPr>
              <a:xfrm>
                <a:off x="4742640" y="2328480"/>
                <a:ext cx="8280" cy="180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96" name="Freeform 28"/>
              <p:cNvSpPr/>
              <p:nvPr/>
            </p:nvSpPr>
            <p:spPr>
              <a:xfrm>
                <a:off x="4737600" y="2330640"/>
                <a:ext cx="13320" cy="144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18"/>
                    </a:moveTo>
                    <a:lnTo>
                      <a:pt x="57" y="0"/>
                    </a:lnTo>
                    <a:lnTo>
                      <a:pt x="38" y="0"/>
                    </a:lnTo>
                    <a:lnTo>
                      <a:pt x="0" y="18"/>
                    </a:lnTo>
                    <a:lnTo>
                      <a:pt x="19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97" name="Freeform 29"/>
              <p:cNvSpPr/>
              <p:nvPr/>
            </p:nvSpPr>
            <p:spPr>
              <a:xfrm>
                <a:off x="4733280" y="2330640"/>
                <a:ext cx="13320" cy="144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18"/>
                    </a:moveTo>
                    <a:lnTo>
                      <a:pt x="57" y="0"/>
                    </a:lnTo>
                    <a:lnTo>
                      <a:pt x="38" y="0"/>
                    </a:lnTo>
                    <a:lnTo>
                      <a:pt x="0" y="18"/>
                    </a:lnTo>
                    <a:lnTo>
                      <a:pt x="19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98" name="Freeform 30"/>
              <p:cNvSpPr/>
              <p:nvPr/>
            </p:nvSpPr>
            <p:spPr>
              <a:xfrm>
                <a:off x="4733280" y="23320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99" name="Freeform 31"/>
              <p:cNvSpPr/>
              <p:nvPr/>
            </p:nvSpPr>
            <p:spPr>
              <a:xfrm>
                <a:off x="4723920" y="2333880"/>
                <a:ext cx="9360" cy="1800"/>
              </a:xfrm>
              <a:custGeom>
                <a:avLst/>
                <a:gdLst/>
                <a:ahLst/>
                <a:rect l="l" t="t" r="r" b="b"/>
                <a:pathLst>
                  <a:path w="56" h="18">
                    <a:moveTo>
                      <a:pt x="18" y="18"/>
                    </a:moveTo>
                    <a:lnTo>
                      <a:pt x="56" y="0"/>
                    </a:lnTo>
                    <a:lnTo>
                      <a:pt x="37" y="0"/>
                    </a:lnTo>
                    <a:lnTo>
                      <a:pt x="0" y="18"/>
                    </a:lnTo>
                    <a:lnTo>
                      <a:pt x="18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00" name="Freeform 32"/>
              <p:cNvSpPr/>
              <p:nvPr/>
            </p:nvSpPr>
            <p:spPr>
              <a:xfrm>
                <a:off x="4714560" y="233604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38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01" name="Freeform 33"/>
              <p:cNvSpPr/>
              <p:nvPr/>
            </p:nvSpPr>
            <p:spPr>
              <a:xfrm>
                <a:off x="4700880" y="2337480"/>
                <a:ext cx="9360" cy="180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38" y="0"/>
                    </a:moveTo>
                    <a:lnTo>
                      <a:pt x="0" y="19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02" name="Freeform 34"/>
              <p:cNvSpPr/>
              <p:nvPr/>
            </p:nvSpPr>
            <p:spPr>
              <a:xfrm>
                <a:off x="4700880" y="23396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19" h="1">
                    <a:moveTo>
                      <a:pt x="19" y="0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</p:grpSp>
        <p:sp>
          <p:nvSpPr>
            <p:cNvPr id="303" name="Rectangle 138"/>
            <p:cNvSpPr/>
            <p:nvPr/>
          </p:nvSpPr>
          <p:spPr>
            <a:xfrm>
              <a:off x="3047760" y="1483200"/>
              <a:ext cx="2311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f5494"/>
                  </a:solidFill>
                  <a:latin typeface="Verdana"/>
                </a:rPr>
                <a:t>Relations entre acteurs et rapports de force</a:t>
              </a:r>
              <a:endParaRPr b="0" lang="en-US" sz="20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grpSp>
        <p:nvGrpSpPr>
          <p:cNvPr id="304" name="Group 213"/>
          <p:cNvGrpSpPr/>
          <p:nvPr/>
        </p:nvGrpSpPr>
        <p:grpSpPr>
          <a:xfrm>
            <a:off x="3492360" y="3016080"/>
            <a:ext cx="3491640" cy="1368360"/>
            <a:chOff x="3492360" y="3016080"/>
            <a:chExt cx="3491640" cy="1368360"/>
          </a:xfrm>
        </p:grpSpPr>
        <p:grpSp>
          <p:nvGrpSpPr>
            <p:cNvPr id="305" name="Group 35"/>
            <p:cNvGrpSpPr/>
            <p:nvPr/>
          </p:nvGrpSpPr>
          <p:grpSpPr>
            <a:xfrm>
              <a:off x="3492360" y="3016080"/>
              <a:ext cx="3491640" cy="1368360"/>
              <a:chOff x="3492360" y="3016080"/>
              <a:chExt cx="3491640" cy="1368360"/>
            </a:xfrm>
          </p:grpSpPr>
          <p:sp>
            <p:nvSpPr>
              <p:cNvPr id="306" name="Freeform 36"/>
              <p:cNvSpPr/>
              <p:nvPr/>
            </p:nvSpPr>
            <p:spPr>
              <a:xfrm>
                <a:off x="3923280" y="3016080"/>
                <a:ext cx="1860120" cy="138240"/>
              </a:xfrm>
              <a:custGeom>
                <a:avLst/>
                <a:gdLst/>
                <a:ahLst/>
                <a:rect l="l" t="t" r="r" b="b"/>
                <a:pathLst>
                  <a:path w="7154" h="1419">
                    <a:moveTo>
                      <a:pt x="3416" y="0"/>
                    </a:moveTo>
                    <a:lnTo>
                      <a:pt x="3435" y="0"/>
                    </a:lnTo>
                    <a:lnTo>
                      <a:pt x="3435" y="0"/>
                    </a:lnTo>
                    <a:lnTo>
                      <a:pt x="3454" y="0"/>
                    </a:lnTo>
                    <a:lnTo>
                      <a:pt x="3454" y="0"/>
                    </a:lnTo>
                    <a:lnTo>
                      <a:pt x="3473" y="0"/>
                    </a:lnTo>
                    <a:lnTo>
                      <a:pt x="3473" y="0"/>
                    </a:lnTo>
                    <a:lnTo>
                      <a:pt x="3473" y="18"/>
                    </a:lnTo>
                    <a:lnTo>
                      <a:pt x="3492" y="18"/>
                    </a:lnTo>
                    <a:lnTo>
                      <a:pt x="3661" y="719"/>
                    </a:lnTo>
                    <a:lnTo>
                      <a:pt x="4794" y="387"/>
                    </a:lnTo>
                    <a:lnTo>
                      <a:pt x="4889" y="1180"/>
                    </a:lnTo>
                    <a:lnTo>
                      <a:pt x="4549" y="1419"/>
                    </a:lnTo>
                    <a:lnTo>
                      <a:pt x="0" y="1419"/>
                    </a:lnTo>
                    <a:lnTo>
                      <a:pt x="19" y="1382"/>
                    </a:lnTo>
                    <a:lnTo>
                      <a:pt x="57" y="1346"/>
                    </a:lnTo>
                    <a:lnTo>
                      <a:pt x="76" y="1327"/>
                    </a:lnTo>
                    <a:lnTo>
                      <a:pt x="94" y="1309"/>
                    </a:lnTo>
                    <a:lnTo>
                      <a:pt x="131" y="1272"/>
                    </a:lnTo>
                    <a:lnTo>
                      <a:pt x="150" y="1253"/>
                    </a:lnTo>
                    <a:lnTo>
                      <a:pt x="188" y="1216"/>
                    </a:lnTo>
                    <a:lnTo>
                      <a:pt x="207" y="1198"/>
                    </a:lnTo>
                    <a:lnTo>
                      <a:pt x="245" y="1180"/>
                    </a:lnTo>
                    <a:lnTo>
                      <a:pt x="264" y="1143"/>
                    </a:lnTo>
                    <a:lnTo>
                      <a:pt x="302" y="1124"/>
                    </a:lnTo>
                    <a:lnTo>
                      <a:pt x="321" y="1106"/>
                    </a:lnTo>
                    <a:lnTo>
                      <a:pt x="358" y="1087"/>
                    </a:lnTo>
                    <a:lnTo>
                      <a:pt x="396" y="1069"/>
                    </a:lnTo>
                    <a:lnTo>
                      <a:pt x="415" y="1050"/>
                    </a:lnTo>
                    <a:lnTo>
                      <a:pt x="453" y="1014"/>
                    </a:lnTo>
                    <a:lnTo>
                      <a:pt x="453" y="1033"/>
                    </a:lnTo>
                    <a:lnTo>
                      <a:pt x="471" y="1050"/>
                    </a:lnTo>
                    <a:lnTo>
                      <a:pt x="471" y="1050"/>
                    </a:lnTo>
                    <a:lnTo>
                      <a:pt x="490" y="1069"/>
                    </a:lnTo>
                    <a:lnTo>
                      <a:pt x="490" y="1069"/>
                    </a:lnTo>
                    <a:lnTo>
                      <a:pt x="509" y="1087"/>
                    </a:lnTo>
                    <a:lnTo>
                      <a:pt x="509" y="1106"/>
                    </a:lnTo>
                    <a:lnTo>
                      <a:pt x="509" y="1124"/>
                    </a:lnTo>
                    <a:lnTo>
                      <a:pt x="528" y="1143"/>
                    </a:lnTo>
                    <a:lnTo>
                      <a:pt x="528" y="1143"/>
                    </a:lnTo>
                    <a:lnTo>
                      <a:pt x="528" y="1161"/>
                    </a:lnTo>
                    <a:lnTo>
                      <a:pt x="547" y="1180"/>
                    </a:lnTo>
                    <a:lnTo>
                      <a:pt x="547" y="1198"/>
                    </a:lnTo>
                    <a:lnTo>
                      <a:pt x="547" y="1216"/>
                    </a:lnTo>
                    <a:lnTo>
                      <a:pt x="566" y="1216"/>
                    </a:lnTo>
                    <a:lnTo>
                      <a:pt x="566" y="1235"/>
                    </a:lnTo>
                    <a:lnTo>
                      <a:pt x="566" y="1253"/>
                    </a:lnTo>
                    <a:lnTo>
                      <a:pt x="566" y="1272"/>
                    </a:lnTo>
                    <a:lnTo>
                      <a:pt x="566" y="1272"/>
                    </a:lnTo>
                    <a:lnTo>
                      <a:pt x="566" y="1290"/>
                    </a:lnTo>
                    <a:lnTo>
                      <a:pt x="566" y="1309"/>
                    </a:lnTo>
                    <a:lnTo>
                      <a:pt x="566" y="1327"/>
                    </a:lnTo>
                    <a:lnTo>
                      <a:pt x="585" y="1346"/>
                    </a:lnTo>
                    <a:lnTo>
                      <a:pt x="585" y="1364"/>
                    </a:lnTo>
                    <a:lnTo>
                      <a:pt x="3416" y="0"/>
                    </a:lnTo>
                    <a:close/>
                    <a:moveTo>
                      <a:pt x="5115" y="1419"/>
                    </a:moveTo>
                    <a:lnTo>
                      <a:pt x="5134" y="1400"/>
                    </a:lnTo>
                    <a:lnTo>
                      <a:pt x="5172" y="1382"/>
                    </a:lnTo>
                    <a:lnTo>
                      <a:pt x="5209" y="1364"/>
                    </a:lnTo>
                    <a:lnTo>
                      <a:pt x="5247" y="1364"/>
                    </a:lnTo>
                    <a:lnTo>
                      <a:pt x="5266" y="1346"/>
                    </a:lnTo>
                    <a:lnTo>
                      <a:pt x="5304" y="1327"/>
                    </a:lnTo>
                    <a:lnTo>
                      <a:pt x="5342" y="1309"/>
                    </a:lnTo>
                    <a:lnTo>
                      <a:pt x="5361" y="1309"/>
                    </a:lnTo>
                    <a:lnTo>
                      <a:pt x="5399" y="1290"/>
                    </a:lnTo>
                    <a:lnTo>
                      <a:pt x="5436" y="1272"/>
                    </a:lnTo>
                    <a:lnTo>
                      <a:pt x="5473" y="1272"/>
                    </a:lnTo>
                    <a:lnTo>
                      <a:pt x="5492" y="1253"/>
                    </a:lnTo>
                    <a:lnTo>
                      <a:pt x="5530" y="1235"/>
                    </a:lnTo>
                    <a:lnTo>
                      <a:pt x="5568" y="1216"/>
                    </a:lnTo>
                    <a:lnTo>
                      <a:pt x="5587" y="1216"/>
                    </a:lnTo>
                    <a:lnTo>
                      <a:pt x="5625" y="1198"/>
                    </a:lnTo>
                    <a:lnTo>
                      <a:pt x="5663" y="1198"/>
                    </a:lnTo>
                    <a:lnTo>
                      <a:pt x="5701" y="1180"/>
                    </a:lnTo>
                    <a:lnTo>
                      <a:pt x="5720" y="1161"/>
                    </a:lnTo>
                    <a:lnTo>
                      <a:pt x="5757" y="1161"/>
                    </a:lnTo>
                    <a:lnTo>
                      <a:pt x="5794" y="1143"/>
                    </a:lnTo>
                    <a:lnTo>
                      <a:pt x="5813" y="1143"/>
                    </a:lnTo>
                    <a:lnTo>
                      <a:pt x="5851" y="1124"/>
                    </a:lnTo>
                    <a:lnTo>
                      <a:pt x="5889" y="1106"/>
                    </a:lnTo>
                    <a:lnTo>
                      <a:pt x="5908" y="1106"/>
                    </a:lnTo>
                    <a:lnTo>
                      <a:pt x="5946" y="1087"/>
                    </a:lnTo>
                    <a:lnTo>
                      <a:pt x="5984" y="1087"/>
                    </a:lnTo>
                    <a:lnTo>
                      <a:pt x="6002" y="1069"/>
                    </a:lnTo>
                    <a:lnTo>
                      <a:pt x="6040" y="1069"/>
                    </a:lnTo>
                    <a:lnTo>
                      <a:pt x="6078" y="1069"/>
                    </a:lnTo>
                    <a:lnTo>
                      <a:pt x="6097" y="1050"/>
                    </a:lnTo>
                    <a:lnTo>
                      <a:pt x="6134" y="1050"/>
                    </a:lnTo>
                    <a:lnTo>
                      <a:pt x="6172" y="1033"/>
                    </a:lnTo>
                    <a:lnTo>
                      <a:pt x="6210" y="1033"/>
                    </a:lnTo>
                    <a:lnTo>
                      <a:pt x="6229" y="1014"/>
                    </a:lnTo>
                    <a:lnTo>
                      <a:pt x="6266" y="1014"/>
                    </a:lnTo>
                    <a:lnTo>
                      <a:pt x="6304" y="996"/>
                    </a:lnTo>
                    <a:lnTo>
                      <a:pt x="6323" y="996"/>
                    </a:lnTo>
                    <a:lnTo>
                      <a:pt x="6361" y="996"/>
                    </a:lnTo>
                    <a:lnTo>
                      <a:pt x="6399" y="977"/>
                    </a:lnTo>
                    <a:lnTo>
                      <a:pt x="6418" y="977"/>
                    </a:lnTo>
                    <a:lnTo>
                      <a:pt x="6456" y="959"/>
                    </a:lnTo>
                    <a:lnTo>
                      <a:pt x="6493" y="959"/>
                    </a:lnTo>
                    <a:lnTo>
                      <a:pt x="6512" y="940"/>
                    </a:lnTo>
                    <a:lnTo>
                      <a:pt x="6549" y="940"/>
                    </a:lnTo>
                    <a:lnTo>
                      <a:pt x="6587" y="922"/>
                    </a:lnTo>
                    <a:lnTo>
                      <a:pt x="6606" y="922"/>
                    </a:lnTo>
                    <a:lnTo>
                      <a:pt x="6644" y="903"/>
                    </a:lnTo>
                    <a:lnTo>
                      <a:pt x="6663" y="903"/>
                    </a:lnTo>
                    <a:lnTo>
                      <a:pt x="6701" y="885"/>
                    </a:lnTo>
                    <a:lnTo>
                      <a:pt x="6739" y="885"/>
                    </a:lnTo>
                    <a:lnTo>
                      <a:pt x="6758" y="866"/>
                    </a:lnTo>
                    <a:lnTo>
                      <a:pt x="6796" y="866"/>
                    </a:lnTo>
                    <a:lnTo>
                      <a:pt x="6814" y="866"/>
                    </a:lnTo>
                    <a:lnTo>
                      <a:pt x="6851" y="848"/>
                    </a:lnTo>
                    <a:lnTo>
                      <a:pt x="6889" y="848"/>
                    </a:lnTo>
                    <a:lnTo>
                      <a:pt x="6908" y="829"/>
                    </a:lnTo>
                    <a:lnTo>
                      <a:pt x="6946" y="829"/>
                    </a:lnTo>
                    <a:lnTo>
                      <a:pt x="6965" y="811"/>
                    </a:lnTo>
                    <a:lnTo>
                      <a:pt x="7003" y="811"/>
                    </a:lnTo>
                    <a:lnTo>
                      <a:pt x="7022" y="811"/>
                    </a:lnTo>
                    <a:lnTo>
                      <a:pt x="7060" y="792"/>
                    </a:lnTo>
                    <a:lnTo>
                      <a:pt x="7078" y="792"/>
                    </a:lnTo>
                    <a:lnTo>
                      <a:pt x="7116" y="792"/>
                    </a:lnTo>
                    <a:lnTo>
                      <a:pt x="7154" y="1419"/>
                    </a:lnTo>
                    <a:lnTo>
                      <a:pt x="5115" y="14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07" name="Freeform 37"/>
              <p:cNvSpPr/>
              <p:nvPr/>
            </p:nvSpPr>
            <p:spPr>
              <a:xfrm>
                <a:off x="3778560" y="3083400"/>
                <a:ext cx="2731680" cy="140400"/>
              </a:xfrm>
              <a:custGeom>
                <a:avLst/>
                <a:gdLst/>
                <a:ahLst/>
                <a:rect l="l" t="t" r="r" b="b"/>
                <a:pathLst>
                  <a:path w="10534" h="1419">
                    <a:moveTo>
                      <a:pt x="4228" y="0"/>
                    </a:moveTo>
                    <a:lnTo>
                      <a:pt x="4228" y="19"/>
                    </a:lnTo>
                    <a:lnTo>
                      <a:pt x="4304" y="0"/>
                    </a:lnTo>
                    <a:lnTo>
                      <a:pt x="5399" y="0"/>
                    </a:lnTo>
                    <a:lnTo>
                      <a:pt x="5456" y="480"/>
                    </a:lnTo>
                    <a:lnTo>
                      <a:pt x="4153" y="1346"/>
                    </a:lnTo>
                    <a:lnTo>
                      <a:pt x="4228" y="1327"/>
                    </a:lnTo>
                    <a:lnTo>
                      <a:pt x="4304" y="1290"/>
                    </a:lnTo>
                    <a:lnTo>
                      <a:pt x="4380" y="1272"/>
                    </a:lnTo>
                    <a:lnTo>
                      <a:pt x="4455" y="1235"/>
                    </a:lnTo>
                    <a:lnTo>
                      <a:pt x="4531" y="1198"/>
                    </a:lnTo>
                    <a:lnTo>
                      <a:pt x="4606" y="1180"/>
                    </a:lnTo>
                    <a:lnTo>
                      <a:pt x="4681" y="1143"/>
                    </a:lnTo>
                    <a:lnTo>
                      <a:pt x="4776" y="1106"/>
                    </a:lnTo>
                    <a:lnTo>
                      <a:pt x="4852" y="1069"/>
                    </a:lnTo>
                    <a:lnTo>
                      <a:pt x="4927" y="1032"/>
                    </a:lnTo>
                    <a:lnTo>
                      <a:pt x="5002" y="1014"/>
                    </a:lnTo>
                    <a:lnTo>
                      <a:pt x="5097" y="977"/>
                    </a:lnTo>
                    <a:lnTo>
                      <a:pt x="5173" y="940"/>
                    </a:lnTo>
                    <a:lnTo>
                      <a:pt x="5248" y="903"/>
                    </a:lnTo>
                    <a:lnTo>
                      <a:pt x="5342" y="867"/>
                    </a:lnTo>
                    <a:lnTo>
                      <a:pt x="5418" y="830"/>
                    </a:lnTo>
                    <a:lnTo>
                      <a:pt x="5493" y="793"/>
                    </a:lnTo>
                    <a:lnTo>
                      <a:pt x="5569" y="756"/>
                    </a:lnTo>
                    <a:lnTo>
                      <a:pt x="5663" y="719"/>
                    </a:lnTo>
                    <a:lnTo>
                      <a:pt x="5739" y="682"/>
                    </a:lnTo>
                    <a:lnTo>
                      <a:pt x="5814" y="646"/>
                    </a:lnTo>
                    <a:lnTo>
                      <a:pt x="5909" y="609"/>
                    </a:lnTo>
                    <a:lnTo>
                      <a:pt x="5984" y="590"/>
                    </a:lnTo>
                    <a:lnTo>
                      <a:pt x="6059" y="553"/>
                    </a:lnTo>
                    <a:lnTo>
                      <a:pt x="6154" y="516"/>
                    </a:lnTo>
                    <a:lnTo>
                      <a:pt x="6230" y="498"/>
                    </a:lnTo>
                    <a:lnTo>
                      <a:pt x="6305" y="461"/>
                    </a:lnTo>
                    <a:lnTo>
                      <a:pt x="6380" y="443"/>
                    </a:lnTo>
                    <a:lnTo>
                      <a:pt x="6475" y="406"/>
                    </a:lnTo>
                    <a:lnTo>
                      <a:pt x="6551" y="387"/>
                    </a:lnTo>
                    <a:lnTo>
                      <a:pt x="6626" y="369"/>
                    </a:lnTo>
                    <a:lnTo>
                      <a:pt x="6701" y="350"/>
                    </a:lnTo>
                    <a:lnTo>
                      <a:pt x="6739" y="333"/>
                    </a:lnTo>
                    <a:lnTo>
                      <a:pt x="6777" y="333"/>
                    </a:lnTo>
                    <a:lnTo>
                      <a:pt x="6796" y="314"/>
                    </a:lnTo>
                    <a:lnTo>
                      <a:pt x="6833" y="314"/>
                    </a:lnTo>
                    <a:lnTo>
                      <a:pt x="6871" y="296"/>
                    </a:lnTo>
                    <a:lnTo>
                      <a:pt x="6890" y="296"/>
                    </a:lnTo>
                    <a:lnTo>
                      <a:pt x="6928" y="296"/>
                    </a:lnTo>
                    <a:lnTo>
                      <a:pt x="6966" y="277"/>
                    </a:lnTo>
                    <a:lnTo>
                      <a:pt x="6985" y="277"/>
                    </a:lnTo>
                    <a:lnTo>
                      <a:pt x="7023" y="259"/>
                    </a:lnTo>
                    <a:lnTo>
                      <a:pt x="7060" y="259"/>
                    </a:lnTo>
                    <a:lnTo>
                      <a:pt x="7079" y="240"/>
                    </a:lnTo>
                    <a:lnTo>
                      <a:pt x="7116" y="240"/>
                    </a:lnTo>
                    <a:lnTo>
                      <a:pt x="7154" y="222"/>
                    </a:lnTo>
                    <a:lnTo>
                      <a:pt x="7173" y="222"/>
                    </a:lnTo>
                    <a:lnTo>
                      <a:pt x="7211" y="203"/>
                    </a:lnTo>
                    <a:lnTo>
                      <a:pt x="7230" y="203"/>
                    </a:lnTo>
                    <a:lnTo>
                      <a:pt x="7268" y="185"/>
                    </a:lnTo>
                    <a:lnTo>
                      <a:pt x="7306" y="185"/>
                    </a:lnTo>
                    <a:lnTo>
                      <a:pt x="7325" y="166"/>
                    </a:lnTo>
                    <a:lnTo>
                      <a:pt x="7363" y="166"/>
                    </a:lnTo>
                    <a:lnTo>
                      <a:pt x="7381" y="166"/>
                    </a:lnTo>
                    <a:lnTo>
                      <a:pt x="7418" y="148"/>
                    </a:lnTo>
                    <a:lnTo>
                      <a:pt x="7456" y="148"/>
                    </a:lnTo>
                    <a:lnTo>
                      <a:pt x="7475" y="129"/>
                    </a:lnTo>
                    <a:lnTo>
                      <a:pt x="7513" y="129"/>
                    </a:lnTo>
                    <a:lnTo>
                      <a:pt x="7532" y="111"/>
                    </a:lnTo>
                    <a:lnTo>
                      <a:pt x="7570" y="111"/>
                    </a:lnTo>
                    <a:lnTo>
                      <a:pt x="7589" y="111"/>
                    </a:lnTo>
                    <a:lnTo>
                      <a:pt x="7627" y="92"/>
                    </a:lnTo>
                    <a:lnTo>
                      <a:pt x="7645" y="92"/>
                    </a:lnTo>
                    <a:lnTo>
                      <a:pt x="7683" y="92"/>
                    </a:lnTo>
                    <a:lnTo>
                      <a:pt x="7740" y="885"/>
                    </a:lnTo>
                    <a:lnTo>
                      <a:pt x="6607" y="1419"/>
                    </a:lnTo>
                    <a:lnTo>
                      <a:pt x="0" y="1419"/>
                    </a:lnTo>
                    <a:lnTo>
                      <a:pt x="38" y="1382"/>
                    </a:lnTo>
                    <a:lnTo>
                      <a:pt x="57" y="1346"/>
                    </a:lnTo>
                    <a:lnTo>
                      <a:pt x="95" y="1309"/>
                    </a:lnTo>
                    <a:lnTo>
                      <a:pt x="113" y="1272"/>
                    </a:lnTo>
                    <a:lnTo>
                      <a:pt x="151" y="1235"/>
                    </a:lnTo>
                    <a:lnTo>
                      <a:pt x="170" y="1198"/>
                    </a:lnTo>
                    <a:lnTo>
                      <a:pt x="208" y="1161"/>
                    </a:lnTo>
                    <a:lnTo>
                      <a:pt x="246" y="1124"/>
                    </a:lnTo>
                    <a:lnTo>
                      <a:pt x="265" y="1087"/>
                    </a:lnTo>
                    <a:lnTo>
                      <a:pt x="303" y="1050"/>
                    </a:lnTo>
                    <a:lnTo>
                      <a:pt x="321" y="1014"/>
                    </a:lnTo>
                    <a:lnTo>
                      <a:pt x="359" y="977"/>
                    </a:lnTo>
                    <a:lnTo>
                      <a:pt x="377" y="940"/>
                    </a:lnTo>
                    <a:lnTo>
                      <a:pt x="415" y="885"/>
                    </a:lnTo>
                    <a:lnTo>
                      <a:pt x="434" y="848"/>
                    </a:lnTo>
                    <a:lnTo>
                      <a:pt x="472" y="811"/>
                    </a:lnTo>
                    <a:lnTo>
                      <a:pt x="510" y="774"/>
                    </a:lnTo>
                    <a:lnTo>
                      <a:pt x="529" y="756"/>
                    </a:lnTo>
                    <a:lnTo>
                      <a:pt x="567" y="719"/>
                    </a:lnTo>
                    <a:lnTo>
                      <a:pt x="605" y="682"/>
                    </a:lnTo>
                    <a:lnTo>
                      <a:pt x="624" y="646"/>
                    </a:lnTo>
                    <a:lnTo>
                      <a:pt x="661" y="609"/>
                    </a:lnTo>
                    <a:lnTo>
                      <a:pt x="698" y="572"/>
                    </a:lnTo>
                    <a:lnTo>
                      <a:pt x="736" y="553"/>
                    </a:lnTo>
                    <a:lnTo>
                      <a:pt x="755" y="516"/>
                    </a:lnTo>
                    <a:lnTo>
                      <a:pt x="793" y="480"/>
                    </a:lnTo>
                    <a:lnTo>
                      <a:pt x="831" y="461"/>
                    </a:lnTo>
                    <a:lnTo>
                      <a:pt x="869" y="424"/>
                    </a:lnTo>
                    <a:lnTo>
                      <a:pt x="907" y="406"/>
                    </a:lnTo>
                    <a:lnTo>
                      <a:pt x="944" y="369"/>
                    </a:lnTo>
                    <a:lnTo>
                      <a:pt x="982" y="350"/>
                    </a:lnTo>
                    <a:lnTo>
                      <a:pt x="1020" y="314"/>
                    </a:lnTo>
                    <a:lnTo>
                      <a:pt x="1020" y="333"/>
                    </a:lnTo>
                    <a:lnTo>
                      <a:pt x="1038" y="350"/>
                    </a:lnTo>
                    <a:lnTo>
                      <a:pt x="1038" y="350"/>
                    </a:lnTo>
                    <a:lnTo>
                      <a:pt x="1057" y="369"/>
                    </a:lnTo>
                    <a:lnTo>
                      <a:pt x="1057" y="369"/>
                    </a:lnTo>
                    <a:lnTo>
                      <a:pt x="1076" y="387"/>
                    </a:lnTo>
                    <a:lnTo>
                      <a:pt x="1076" y="406"/>
                    </a:lnTo>
                    <a:lnTo>
                      <a:pt x="1076" y="424"/>
                    </a:lnTo>
                    <a:lnTo>
                      <a:pt x="1095" y="443"/>
                    </a:lnTo>
                    <a:lnTo>
                      <a:pt x="1095" y="443"/>
                    </a:lnTo>
                    <a:lnTo>
                      <a:pt x="1095" y="461"/>
                    </a:lnTo>
                    <a:lnTo>
                      <a:pt x="1114" y="480"/>
                    </a:lnTo>
                    <a:lnTo>
                      <a:pt x="1114" y="498"/>
                    </a:lnTo>
                    <a:lnTo>
                      <a:pt x="1114" y="516"/>
                    </a:lnTo>
                    <a:lnTo>
                      <a:pt x="1133" y="516"/>
                    </a:lnTo>
                    <a:lnTo>
                      <a:pt x="1133" y="535"/>
                    </a:lnTo>
                    <a:lnTo>
                      <a:pt x="1133" y="553"/>
                    </a:lnTo>
                    <a:lnTo>
                      <a:pt x="1133" y="572"/>
                    </a:lnTo>
                    <a:lnTo>
                      <a:pt x="1133" y="572"/>
                    </a:lnTo>
                    <a:lnTo>
                      <a:pt x="1133" y="590"/>
                    </a:lnTo>
                    <a:lnTo>
                      <a:pt x="1133" y="609"/>
                    </a:lnTo>
                    <a:lnTo>
                      <a:pt x="1133" y="627"/>
                    </a:lnTo>
                    <a:lnTo>
                      <a:pt x="1152" y="646"/>
                    </a:lnTo>
                    <a:lnTo>
                      <a:pt x="1152" y="664"/>
                    </a:lnTo>
                    <a:lnTo>
                      <a:pt x="2529" y="0"/>
                    </a:lnTo>
                    <a:lnTo>
                      <a:pt x="4228" y="0"/>
                    </a:lnTo>
                    <a:close/>
                    <a:moveTo>
                      <a:pt x="7268" y="1419"/>
                    </a:moveTo>
                    <a:lnTo>
                      <a:pt x="7325" y="1400"/>
                    </a:lnTo>
                    <a:lnTo>
                      <a:pt x="7381" y="1382"/>
                    </a:lnTo>
                    <a:lnTo>
                      <a:pt x="7437" y="1364"/>
                    </a:lnTo>
                    <a:lnTo>
                      <a:pt x="7494" y="1346"/>
                    </a:lnTo>
                    <a:lnTo>
                      <a:pt x="7551" y="1327"/>
                    </a:lnTo>
                    <a:lnTo>
                      <a:pt x="7589" y="1309"/>
                    </a:lnTo>
                    <a:lnTo>
                      <a:pt x="7645" y="1309"/>
                    </a:lnTo>
                    <a:lnTo>
                      <a:pt x="7702" y="1290"/>
                    </a:lnTo>
                    <a:lnTo>
                      <a:pt x="7758" y="1272"/>
                    </a:lnTo>
                    <a:lnTo>
                      <a:pt x="7815" y="1254"/>
                    </a:lnTo>
                    <a:lnTo>
                      <a:pt x="7872" y="1235"/>
                    </a:lnTo>
                    <a:lnTo>
                      <a:pt x="7928" y="1217"/>
                    </a:lnTo>
                    <a:lnTo>
                      <a:pt x="7985" y="1198"/>
                    </a:lnTo>
                    <a:lnTo>
                      <a:pt x="8042" y="1198"/>
                    </a:lnTo>
                    <a:lnTo>
                      <a:pt x="8099" y="1180"/>
                    </a:lnTo>
                    <a:lnTo>
                      <a:pt x="8155" y="1161"/>
                    </a:lnTo>
                    <a:lnTo>
                      <a:pt x="8211" y="1143"/>
                    </a:lnTo>
                    <a:lnTo>
                      <a:pt x="8268" y="1143"/>
                    </a:lnTo>
                    <a:lnTo>
                      <a:pt x="8325" y="1124"/>
                    </a:lnTo>
                    <a:lnTo>
                      <a:pt x="8363" y="1106"/>
                    </a:lnTo>
                    <a:lnTo>
                      <a:pt x="8420" y="1106"/>
                    </a:lnTo>
                    <a:lnTo>
                      <a:pt x="8475" y="1087"/>
                    </a:lnTo>
                    <a:lnTo>
                      <a:pt x="8532" y="1087"/>
                    </a:lnTo>
                    <a:lnTo>
                      <a:pt x="8589" y="1069"/>
                    </a:lnTo>
                    <a:lnTo>
                      <a:pt x="8646" y="1050"/>
                    </a:lnTo>
                    <a:lnTo>
                      <a:pt x="8703" y="1050"/>
                    </a:lnTo>
                    <a:lnTo>
                      <a:pt x="8759" y="1032"/>
                    </a:lnTo>
                    <a:lnTo>
                      <a:pt x="8815" y="1032"/>
                    </a:lnTo>
                    <a:lnTo>
                      <a:pt x="8872" y="1032"/>
                    </a:lnTo>
                    <a:lnTo>
                      <a:pt x="8929" y="1014"/>
                    </a:lnTo>
                    <a:lnTo>
                      <a:pt x="8985" y="1014"/>
                    </a:lnTo>
                    <a:lnTo>
                      <a:pt x="9023" y="1014"/>
                    </a:lnTo>
                    <a:lnTo>
                      <a:pt x="9042" y="1032"/>
                    </a:lnTo>
                    <a:lnTo>
                      <a:pt x="9042" y="1050"/>
                    </a:lnTo>
                    <a:lnTo>
                      <a:pt x="9061" y="1069"/>
                    </a:lnTo>
                    <a:lnTo>
                      <a:pt x="9061" y="1106"/>
                    </a:lnTo>
                    <a:lnTo>
                      <a:pt x="9061" y="1124"/>
                    </a:lnTo>
                    <a:lnTo>
                      <a:pt x="9061" y="1143"/>
                    </a:lnTo>
                    <a:lnTo>
                      <a:pt x="9080" y="1180"/>
                    </a:lnTo>
                    <a:lnTo>
                      <a:pt x="9080" y="1198"/>
                    </a:lnTo>
                    <a:lnTo>
                      <a:pt x="9080" y="1235"/>
                    </a:lnTo>
                    <a:lnTo>
                      <a:pt x="9080" y="1254"/>
                    </a:lnTo>
                    <a:lnTo>
                      <a:pt x="9061" y="1290"/>
                    </a:lnTo>
                    <a:lnTo>
                      <a:pt x="9061" y="1309"/>
                    </a:lnTo>
                    <a:lnTo>
                      <a:pt x="9061" y="1346"/>
                    </a:lnTo>
                    <a:lnTo>
                      <a:pt x="9061" y="1364"/>
                    </a:lnTo>
                    <a:lnTo>
                      <a:pt x="9061" y="1400"/>
                    </a:lnTo>
                    <a:lnTo>
                      <a:pt x="9061" y="1419"/>
                    </a:lnTo>
                    <a:lnTo>
                      <a:pt x="7268" y="1419"/>
                    </a:lnTo>
                    <a:close/>
                    <a:moveTo>
                      <a:pt x="9665" y="1419"/>
                    </a:moveTo>
                    <a:lnTo>
                      <a:pt x="10477" y="1309"/>
                    </a:lnTo>
                    <a:lnTo>
                      <a:pt x="10496" y="1309"/>
                    </a:lnTo>
                    <a:lnTo>
                      <a:pt x="10515" y="1327"/>
                    </a:lnTo>
                    <a:lnTo>
                      <a:pt x="10515" y="1327"/>
                    </a:lnTo>
                    <a:lnTo>
                      <a:pt x="10515" y="1346"/>
                    </a:lnTo>
                    <a:lnTo>
                      <a:pt x="10534" y="1364"/>
                    </a:lnTo>
                    <a:lnTo>
                      <a:pt x="10534" y="1382"/>
                    </a:lnTo>
                    <a:lnTo>
                      <a:pt x="10534" y="1400"/>
                    </a:lnTo>
                    <a:lnTo>
                      <a:pt x="10534" y="1419"/>
                    </a:lnTo>
                    <a:lnTo>
                      <a:pt x="9665" y="14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08" name="Freeform 38"/>
              <p:cNvSpPr/>
              <p:nvPr/>
            </p:nvSpPr>
            <p:spPr>
              <a:xfrm>
                <a:off x="3694680" y="3154320"/>
                <a:ext cx="3211200" cy="136080"/>
              </a:xfrm>
              <a:custGeom>
                <a:avLst/>
                <a:gdLst/>
                <a:ahLst/>
                <a:rect l="l" t="t" r="r" b="b"/>
                <a:pathLst>
                  <a:path w="12364" h="1418">
                    <a:moveTo>
                      <a:pt x="5437" y="0"/>
                    </a:moveTo>
                    <a:lnTo>
                      <a:pt x="4474" y="627"/>
                    </a:lnTo>
                    <a:lnTo>
                      <a:pt x="4512" y="608"/>
                    </a:lnTo>
                    <a:lnTo>
                      <a:pt x="4568" y="590"/>
                    </a:lnTo>
                    <a:lnTo>
                      <a:pt x="4606" y="590"/>
                    </a:lnTo>
                    <a:lnTo>
                      <a:pt x="4644" y="571"/>
                    </a:lnTo>
                    <a:lnTo>
                      <a:pt x="4701" y="553"/>
                    </a:lnTo>
                    <a:lnTo>
                      <a:pt x="4738" y="535"/>
                    </a:lnTo>
                    <a:lnTo>
                      <a:pt x="4795" y="516"/>
                    </a:lnTo>
                    <a:lnTo>
                      <a:pt x="4833" y="498"/>
                    </a:lnTo>
                    <a:lnTo>
                      <a:pt x="4889" y="479"/>
                    </a:lnTo>
                    <a:lnTo>
                      <a:pt x="4927" y="461"/>
                    </a:lnTo>
                    <a:lnTo>
                      <a:pt x="4984" y="442"/>
                    </a:lnTo>
                    <a:lnTo>
                      <a:pt x="5021" y="424"/>
                    </a:lnTo>
                    <a:lnTo>
                      <a:pt x="5078" y="405"/>
                    </a:lnTo>
                    <a:lnTo>
                      <a:pt x="5116" y="368"/>
                    </a:lnTo>
                    <a:lnTo>
                      <a:pt x="5173" y="350"/>
                    </a:lnTo>
                    <a:lnTo>
                      <a:pt x="5211" y="331"/>
                    </a:lnTo>
                    <a:lnTo>
                      <a:pt x="5266" y="313"/>
                    </a:lnTo>
                    <a:lnTo>
                      <a:pt x="5304" y="295"/>
                    </a:lnTo>
                    <a:lnTo>
                      <a:pt x="5361" y="277"/>
                    </a:lnTo>
                    <a:lnTo>
                      <a:pt x="5418" y="258"/>
                    </a:lnTo>
                    <a:lnTo>
                      <a:pt x="5456" y="221"/>
                    </a:lnTo>
                    <a:lnTo>
                      <a:pt x="5513" y="203"/>
                    </a:lnTo>
                    <a:lnTo>
                      <a:pt x="5550" y="184"/>
                    </a:lnTo>
                    <a:lnTo>
                      <a:pt x="5606" y="166"/>
                    </a:lnTo>
                    <a:lnTo>
                      <a:pt x="5644" y="148"/>
                    </a:lnTo>
                    <a:lnTo>
                      <a:pt x="5701" y="129"/>
                    </a:lnTo>
                    <a:lnTo>
                      <a:pt x="5758" y="92"/>
                    </a:lnTo>
                    <a:lnTo>
                      <a:pt x="5796" y="74"/>
                    </a:lnTo>
                    <a:lnTo>
                      <a:pt x="5852" y="55"/>
                    </a:lnTo>
                    <a:lnTo>
                      <a:pt x="5890" y="37"/>
                    </a:lnTo>
                    <a:lnTo>
                      <a:pt x="5947" y="18"/>
                    </a:lnTo>
                    <a:lnTo>
                      <a:pt x="6003" y="0"/>
                    </a:lnTo>
                    <a:lnTo>
                      <a:pt x="8042" y="0"/>
                    </a:lnTo>
                    <a:lnTo>
                      <a:pt x="8061" y="166"/>
                    </a:lnTo>
                    <a:lnTo>
                      <a:pt x="5418" y="1418"/>
                    </a:lnTo>
                    <a:lnTo>
                      <a:pt x="1057" y="1418"/>
                    </a:lnTo>
                    <a:lnTo>
                      <a:pt x="1416" y="1050"/>
                    </a:lnTo>
                    <a:lnTo>
                      <a:pt x="793" y="1418"/>
                    </a:lnTo>
                    <a:lnTo>
                      <a:pt x="76" y="1418"/>
                    </a:lnTo>
                    <a:lnTo>
                      <a:pt x="0" y="1050"/>
                    </a:lnTo>
                    <a:lnTo>
                      <a:pt x="38" y="1013"/>
                    </a:lnTo>
                    <a:lnTo>
                      <a:pt x="57" y="995"/>
                    </a:lnTo>
                    <a:lnTo>
                      <a:pt x="95" y="958"/>
                    </a:lnTo>
                    <a:lnTo>
                      <a:pt x="114" y="922"/>
                    </a:lnTo>
                    <a:lnTo>
                      <a:pt x="152" y="903"/>
                    </a:lnTo>
                    <a:lnTo>
                      <a:pt x="170" y="866"/>
                    </a:lnTo>
                    <a:lnTo>
                      <a:pt x="208" y="829"/>
                    </a:lnTo>
                    <a:lnTo>
                      <a:pt x="227" y="811"/>
                    </a:lnTo>
                    <a:lnTo>
                      <a:pt x="265" y="774"/>
                    </a:lnTo>
                    <a:lnTo>
                      <a:pt x="284" y="737"/>
                    </a:lnTo>
                    <a:lnTo>
                      <a:pt x="321" y="700"/>
                    </a:lnTo>
                    <a:lnTo>
                      <a:pt x="340" y="681"/>
                    </a:lnTo>
                    <a:lnTo>
                      <a:pt x="378" y="645"/>
                    </a:lnTo>
                    <a:lnTo>
                      <a:pt x="397" y="608"/>
                    </a:lnTo>
                    <a:lnTo>
                      <a:pt x="434" y="571"/>
                    </a:lnTo>
                    <a:lnTo>
                      <a:pt x="453" y="535"/>
                    </a:lnTo>
                    <a:lnTo>
                      <a:pt x="472" y="498"/>
                    </a:lnTo>
                    <a:lnTo>
                      <a:pt x="510" y="461"/>
                    </a:lnTo>
                    <a:lnTo>
                      <a:pt x="529" y="442"/>
                    </a:lnTo>
                    <a:lnTo>
                      <a:pt x="567" y="405"/>
                    </a:lnTo>
                    <a:lnTo>
                      <a:pt x="586" y="368"/>
                    </a:lnTo>
                    <a:lnTo>
                      <a:pt x="605" y="331"/>
                    </a:lnTo>
                    <a:lnTo>
                      <a:pt x="642" y="295"/>
                    </a:lnTo>
                    <a:lnTo>
                      <a:pt x="661" y="258"/>
                    </a:lnTo>
                    <a:lnTo>
                      <a:pt x="698" y="221"/>
                    </a:lnTo>
                    <a:lnTo>
                      <a:pt x="717" y="184"/>
                    </a:lnTo>
                    <a:lnTo>
                      <a:pt x="755" y="148"/>
                    </a:lnTo>
                    <a:lnTo>
                      <a:pt x="774" y="129"/>
                    </a:lnTo>
                    <a:lnTo>
                      <a:pt x="812" y="92"/>
                    </a:lnTo>
                    <a:lnTo>
                      <a:pt x="831" y="55"/>
                    </a:lnTo>
                    <a:lnTo>
                      <a:pt x="850" y="18"/>
                    </a:lnTo>
                    <a:lnTo>
                      <a:pt x="888" y="0"/>
                    </a:lnTo>
                    <a:lnTo>
                      <a:pt x="5437" y="0"/>
                    </a:lnTo>
                    <a:close/>
                    <a:moveTo>
                      <a:pt x="5532" y="1418"/>
                    </a:moveTo>
                    <a:lnTo>
                      <a:pt x="5644" y="1381"/>
                    </a:lnTo>
                    <a:lnTo>
                      <a:pt x="5777" y="1344"/>
                    </a:lnTo>
                    <a:lnTo>
                      <a:pt x="5890" y="1309"/>
                    </a:lnTo>
                    <a:lnTo>
                      <a:pt x="6003" y="1253"/>
                    </a:lnTo>
                    <a:lnTo>
                      <a:pt x="6116" y="1216"/>
                    </a:lnTo>
                    <a:lnTo>
                      <a:pt x="6230" y="1179"/>
                    </a:lnTo>
                    <a:lnTo>
                      <a:pt x="6361" y="1142"/>
                    </a:lnTo>
                    <a:lnTo>
                      <a:pt x="6475" y="1087"/>
                    </a:lnTo>
                    <a:lnTo>
                      <a:pt x="6589" y="1050"/>
                    </a:lnTo>
                    <a:lnTo>
                      <a:pt x="6720" y="1013"/>
                    </a:lnTo>
                    <a:lnTo>
                      <a:pt x="6834" y="958"/>
                    </a:lnTo>
                    <a:lnTo>
                      <a:pt x="6947" y="922"/>
                    </a:lnTo>
                    <a:lnTo>
                      <a:pt x="7079" y="885"/>
                    </a:lnTo>
                    <a:lnTo>
                      <a:pt x="7192" y="829"/>
                    </a:lnTo>
                    <a:lnTo>
                      <a:pt x="7306" y="792"/>
                    </a:lnTo>
                    <a:lnTo>
                      <a:pt x="7437" y="755"/>
                    </a:lnTo>
                    <a:lnTo>
                      <a:pt x="7551" y="718"/>
                    </a:lnTo>
                    <a:lnTo>
                      <a:pt x="7684" y="681"/>
                    </a:lnTo>
                    <a:lnTo>
                      <a:pt x="7796" y="627"/>
                    </a:lnTo>
                    <a:lnTo>
                      <a:pt x="7910" y="590"/>
                    </a:lnTo>
                    <a:lnTo>
                      <a:pt x="8042" y="571"/>
                    </a:lnTo>
                    <a:lnTo>
                      <a:pt x="8155" y="535"/>
                    </a:lnTo>
                    <a:lnTo>
                      <a:pt x="8268" y="498"/>
                    </a:lnTo>
                    <a:lnTo>
                      <a:pt x="8401" y="461"/>
                    </a:lnTo>
                    <a:lnTo>
                      <a:pt x="8513" y="442"/>
                    </a:lnTo>
                    <a:lnTo>
                      <a:pt x="8646" y="405"/>
                    </a:lnTo>
                    <a:lnTo>
                      <a:pt x="8760" y="387"/>
                    </a:lnTo>
                    <a:lnTo>
                      <a:pt x="8872" y="350"/>
                    </a:lnTo>
                    <a:lnTo>
                      <a:pt x="9005" y="331"/>
                    </a:lnTo>
                    <a:lnTo>
                      <a:pt x="9118" y="313"/>
                    </a:lnTo>
                    <a:lnTo>
                      <a:pt x="9231" y="295"/>
                    </a:lnTo>
                    <a:lnTo>
                      <a:pt x="9344" y="295"/>
                    </a:lnTo>
                    <a:lnTo>
                      <a:pt x="9363" y="313"/>
                    </a:lnTo>
                    <a:lnTo>
                      <a:pt x="9382" y="331"/>
                    </a:lnTo>
                    <a:lnTo>
                      <a:pt x="9382" y="368"/>
                    </a:lnTo>
                    <a:lnTo>
                      <a:pt x="9382" y="405"/>
                    </a:lnTo>
                    <a:lnTo>
                      <a:pt x="9382" y="424"/>
                    </a:lnTo>
                    <a:lnTo>
                      <a:pt x="9382" y="461"/>
                    </a:lnTo>
                    <a:lnTo>
                      <a:pt x="9401" y="498"/>
                    </a:lnTo>
                    <a:lnTo>
                      <a:pt x="9401" y="516"/>
                    </a:lnTo>
                    <a:lnTo>
                      <a:pt x="9382" y="553"/>
                    </a:lnTo>
                    <a:lnTo>
                      <a:pt x="9382" y="590"/>
                    </a:lnTo>
                    <a:lnTo>
                      <a:pt x="9382" y="627"/>
                    </a:lnTo>
                    <a:lnTo>
                      <a:pt x="9382" y="663"/>
                    </a:lnTo>
                    <a:lnTo>
                      <a:pt x="9382" y="681"/>
                    </a:lnTo>
                    <a:lnTo>
                      <a:pt x="9382" y="718"/>
                    </a:lnTo>
                    <a:lnTo>
                      <a:pt x="9401" y="755"/>
                    </a:lnTo>
                    <a:lnTo>
                      <a:pt x="9401" y="792"/>
                    </a:lnTo>
                    <a:lnTo>
                      <a:pt x="10798" y="590"/>
                    </a:lnTo>
                    <a:lnTo>
                      <a:pt x="10817" y="590"/>
                    </a:lnTo>
                    <a:lnTo>
                      <a:pt x="10836" y="608"/>
                    </a:lnTo>
                    <a:lnTo>
                      <a:pt x="10836" y="627"/>
                    </a:lnTo>
                    <a:lnTo>
                      <a:pt x="10855" y="645"/>
                    </a:lnTo>
                    <a:lnTo>
                      <a:pt x="10855" y="663"/>
                    </a:lnTo>
                    <a:lnTo>
                      <a:pt x="10855" y="681"/>
                    </a:lnTo>
                    <a:lnTo>
                      <a:pt x="10855" y="700"/>
                    </a:lnTo>
                    <a:lnTo>
                      <a:pt x="10836" y="737"/>
                    </a:lnTo>
                    <a:lnTo>
                      <a:pt x="10836" y="755"/>
                    </a:lnTo>
                    <a:lnTo>
                      <a:pt x="10836" y="792"/>
                    </a:lnTo>
                    <a:lnTo>
                      <a:pt x="10836" y="811"/>
                    </a:lnTo>
                    <a:lnTo>
                      <a:pt x="10836" y="848"/>
                    </a:lnTo>
                    <a:lnTo>
                      <a:pt x="10836" y="866"/>
                    </a:lnTo>
                    <a:lnTo>
                      <a:pt x="10836" y="885"/>
                    </a:lnTo>
                    <a:lnTo>
                      <a:pt x="10836" y="922"/>
                    </a:lnTo>
                    <a:lnTo>
                      <a:pt x="10836" y="940"/>
                    </a:lnTo>
                    <a:lnTo>
                      <a:pt x="10874" y="958"/>
                    </a:lnTo>
                    <a:lnTo>
                      <a:pt x="10929" y="977"/>
                    </a:lnTo>
                    <a:lnTo>
                      <a:pt x="10967" y="995"/>
                    </a:lnTo>
                    <a:lnTo>
                      <a:pt x="11005" y="1013"/>
                    </a:lnTo>
                    <a:lnTo>
                      <a:pt x="11043" y="1013"/>
                    </a:lnTo>
                    <a:lnTo>
                      <a:pt x="11100" y="1013"/>
                    </a:lnTo>
                    <a:lnTo>
                      <a:pt x="11138" y="1031"/>
                    </a:lnTo>
                    <a:lnTo>
                      <a:pt x="11194" y="1031"/>
                    </a:lnTo>
                    <a:lnTo>
                      <a:pt x="11232" y="1031"/>
                    </a:lnTo>
                    <a:lnTo>
                      <a:pt x="11288" y="1031"/>
                    </a:lnTo>
                    <a:lnTo>
                      <a:pt x="11326" y="1013"/>
                    </a:lnTo>
                    <a:lnTo>
                      <a:pt x="11383" y="1013"/>
                    </a:lnTo>
                    <a:lnTo>
                      <a:pt x="11421" y="1013"/>
                    </a:lnTo>
                    <a:lnTo>
                      <a:pt x="11477" y="995"/>
                    </a:lnTo>
                    <a:lnTo>
                      <a:pt x="11534" y="995"/>
                    </a:lnTo>
                    <a:lnTo>
                      <a:pt x="11572" y="977"/>
                    </a:lnTo>
                    <a:lnTo>
                      <a:pt x="11628" y="977"/>
                    </a:lnTo>
                    <a:lnTo>
                      <a:pt x="11666" y="958"/>
                    </a:lnTo>
                    <a:lnTo>
                      <a:pt x="11722" y="958"/>
                    </a:lnTo>
                    <a:lnTo>
                      <a:pt x="11779" y="940"/>
                    </a:lnTo>
                    <a:lnTo>
                      <a:pt x="11817" y="940"/>
                    </a:lnTo>
                    <a:lnTo>
                      <a:pt x="11874" y="940"/>
                    </a:lnTo>
                    <a:lnTo>
                      <a:pt x="11931" y="922"/>
                    </a:lnTo>
                    <a:lnTo>
                      <a:pt x="11968" y="922"/>
                    </a:lnTo>
                    <a:lnTo>
                      <a:pt x="12024" y="903"/>
                    </a:lnTo>
                    <a:lnTo>
                      <a:pt x="12081" y="903"/>
                    </a:lnTo>
                    <a:lnTo>
                      <a:pt x="12119" y="903"/>
                    </a:lnTo>
                    <a:lnTo>
                      <a:pt x="12176" y="903"/>
                    </a:lnTo>
                    <a:lnTo>
                      <a:pt x="12214" y="903"/>
                    </a:lnTo>
                    <a:lnTo>
                      <a:pt x="12270" y="903"/>
                    </a:lnTo>
                    <a:lnTo>
                      <a:pt x="12308" y="922"/>
                    </a:lnTo>
                    <a:lnTo>
                      <a:pt x="12364" y="922"/>
                    </a:lnTo>
                    <a:lnTo>
                      <a:pt x="12345" y="1418"/>
                    </a:lnTo>
                    <a:lnTo>
                      <a:pt x="5532" y="14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09" name="Freeform 39"/>
              <p:cNvSpPr/>
              <p:nvPr/>
            </p:nvSpPr>
            <p:spPr>
              <a:xfrm>
                <a:off x="3694680" y="3221280"/>
                <a:ext cx="3288960" cy="136440"/>
              </a:xfrm>
              <a:custGeom>
                <a:avLst/>
                <a:gdLst/>
                <a:ahLst/>
                <a:rect l="l" t="t" r="r" b="b"/>
                <a:pathLst>
                  <a:path w="12667" h="1418">
                    <a:moveTo>
                      <a:pt x="6928" y="0"/>
                    </a:moveTo>
                    <a:lnTo>
                      <a:pt x="5230" y="811"/>
                    </a:lnTo>
                    <a:lnTo>
                      <a:pt x="5304" y="774"/>
                    </a:lnTo>
                    <a:lnTo>
                      <a:pt x="5380" y="755"/>
                    </a:lnTo>
                    <a:lnTo>
                      <a:pt x="5437" y="737"/>
                    </a:lnTo>
                    <a:lnTo>
                      <a:pt x="5513" y="718"/>
                    </a:lnTo>
                    <a:lnTo>
                      <a:pt x="5588" y="700"/>
                    </a:lnTo>
                    <a:lnTo>
                      <a:pt x="5663" y="681"/>
                    </a:lnTo>
                    <a:lnTo>
                      <a:pt x="5739" y="644"/>
                    </a:lnTo>
                    <a:lnTo>
                      <a:pt x="5814" y="627"/>
                    </a:lnTo>
                    <a:lnTo>
                      <a:pt x="5890" y="609"/>
                    </a:lnTo>
                    <a:lnTo>
                      <a:pt x="5947" y="572"/>
                    </a:lnTo>
                    <a:lnTo>
                      <a:pt x="6022" y="553"/>
                    </a:lnTo>
                    <a:lnTo>
                      <a:pt x="6097" y="535"/>
                    </a:lnTo>
                    <a:lnTo>
                      <a:pt x="6173" y="498"/>
                    </a:lnTo>
                    <a:lnTo>
                      <a:pt x="6249" y="479"/>
                    </a:lnTo>
                    <a:lnTo>
                      <a:pt x="6324" y="442"/>
                    </a:lnTo>
                    <a:lnTo>
                      <a:pt x="6399" y="424"/>
                    </a:lnTo>
                    <a:lnTo>
                      <a:pt x="6475" y="387"/>
                    </a:lnTo>
                    <a:lnTo>
                      <a:pt x="6551" y="368"/>
                    </a:lnTo>
                    <a:lnTo>
                      <a:pt x="6626" y="350"/>
                    </a:lnTo>
                    <a:lnTo>
                      <a:pt x="6701" y="313"/>
                    </a:lnTo>
                    <a:lnTo>
                      <a:pt x="6758" y="295"/>
                    </a:lnTo>
                    <a:lnTo>
                      <a:pt x="6834" y="258"/>
                    </a:lnTo>
                    <a:lnTo>
                      <a:pt x="6909" y="240"/>
                    </a:lnTo>
                    <a:lnTo>
                      <a:pt x="6985" y="203"/>
                    </a:lnTo>
                    <a:lnTo>
                      <a:pt x="7060" y="185"/>
                    </a:lnTo>
                    <a:lnTo>
                      <a:pt x="7136" y="148"/>
                    </a:lnTo>
                    <a:lnTo>
                      <a:pt x="7211" y="129"/>
                    </a:lnTo>
                    <a:lnTo>
                      <a:pt x="7287" y="111"/>
                    </a:lnTo>
                    <a:lnTo>
                      <a:pt x="7362" y="74"/>
                    </a:lnTo>
                    <a:lnTo>
                      <a:pt x="7437" y="55"/>
                    </a:lnTo>
                    <a:lnTo>
                      <a:pt x="7513" y="18"/>
                    </a:lnTo>
                    <a:lnTo>
                      <a:pt x="7589" y="0"/>
                    </a:lnTo>
                    <a:lnTo>
                      <a:pt x="9382" y="0"/>
                    </a:lnTo>
                    <a:lnTo>
                      <a:pt x="9382" y="18"/>
                    </a:lnTo>
                    <a:lnTo>
                      <a:pt x="9401" y="18"/>
                    </a:lnTo>
                    <a:lnTo>
                      <a:pt x="9401" y="37"/>
                    </a:lnTo>
                    <a:lnTo>
                      <a:pt x="9401" y="37"/>
                    </a:lnTo>
                    <a:lnTo>
                      <a:pt x="9401" y="55"/>
                    </a:lnTo>
                    <a:lnTo>
                      <a:pt x="9401" y="74"/>
                    </a:lnTo>
                    <a:lnTo>
                      <a:pt x="9401" y="74"/>
                    </a:lnTo>
                    <a:lnTo>
                      <a:pt x="9401" y="92"/>
                    </a:lnTo>
                    <a:lnTo>
                      <a:pt x="9986" y="0"/>
                    </a:lnTo>
                    <a:lnTo>
                      <a:pt x="10855" y="0"/>
                    </a:lnTo>
                    <a:lnTo>
                      <a:pt x="10855" y="18"/>
                    </a:lnTo>
                    <a:lnTo>
                      <a:pt x="10855" y="37"/>
                    </a:lnTo>
                    <a:lnTo>
                      <a:pt x="10836" y="55"/>
                    </a:lnTo>
                    <a:lnTo>
                      <a:pt x="10836" y="55"/>
                    </a:lnTo>
                    <a:lnTo>
                      <a:pt x="10836" y="74"/>
                    </a:lnTo>
                    <a:lnTo>
                      <a:pt x="10836" y="92"/>
                    </a:lnTo>
                    <a:lnTo>
                      <a:pt x="10836" y="111"/>
                    </a:lnTo>
                    <a:lnTo>
                      <a:pt x="10836" y="129"/>
                    </a:lnTo>
                    <a:lnTo>
                      <a:pt x="10836" y="148"/>
                    </a:lnTo>
                    <a:lnTo>
                      <a:pt x="10836" y="148"/>
                    </a:lnTo>
                    <a:lnTo>
                      <a:pt x="10836" y="166"/>
                    </a:lnTo>
                    <a:lnTo>
                      <a:pt x="10836" y="185"/>
                    </a:lnTo>
                    <a:lnTo>
                      <a:pt x="10836" y="203"/>
                    </a:lnTo>
                    <a:lnTo>
                      <a:pt x="10836" y="222"/>
                    </a:lnTo>
                    <a:lnTo>
                      <a:pt x="10836" y="222"/>
                    </a:lnTo>
                    <a:lnTo>
                      <a:pt x="10836" y="240"/>
                    </a:lnTo>
                    <a:lnTo>
                      <a:pt x="10874" y="258"/>
                    </a:lnTo>
                    <a:lnTo>
                      <a:pt x="10929" y="277"/>
                    </a:lnTo>
                    <a:lnTo>
                      <a:pt x="10967" y="295"/>
                    </a:lnTo>
                    <a:lnTo>
                      <a:pt x="11005" y="313"/>
                    </a:lnTo>
                    <a:lnTo>
                      <a:pt x="11043" y="313"/>
                    </a:lnTo>
                    <a:lnTo>
                      <a:pt x="11100" y="313"/>
                    </a:lnTo>
                    <a:lnTo>
                      <a:pt x="11138" y="331"/>
                    </a:lnTo>
                    <a:lnTo>
                      <a:pt x="11194" y="331"/>
                    </a:lnTo>
                    <a:lnTo>
                      <a:pt x="11232" y="331"/>
                    </a:lnTo>
                    <a:lnTo>
                      <a:pt x="11288" y="331"/>
                    </a:lnTo>
                    <a:lnTo>
                      <a:pt x="11326" y="313"/>
                    </a:lnTo>
                    <a:lnTo>
                      <a:pt x="11383" y="313"/>
                    </a:lnTo>
                    <a:lnTo>
                      <a:pt x="11421" y="313"/>
                    </a:lnTo>
                    <a:lnTo>
                      <a:pt x="11477" y="295"/>
                    </a:lnTo>
                    <a:lnTo>
                      <a:pt x="11534" y="295"/>
                    </a:lnTo>
                    <a:lnTo>
                      <a:pt x="11572" y="277"/>
                    </a:lnTo>
                    <a:lnTo>
                      <a:pt x="11628" y="277"/>
                    </a:lnTo>
                    <a:lnTo>
                      <a:pt x="11666" y="258"/>
                    </a:lnTo>
                    <a:lnTo>
                      <a:pt x="11722" y="258"/>
                    </a:lnTo>
                    <a:lnTo>
                      <a:pt x="11779" y="240"/>
                    </a:lnTo>
                    <a:lnTo>
                      <a:pt x="11817" y="240"/>
                    </a:lnTo>
                    <a:lnTo>
                      <a:pt x="11874" y="240"/>
                    </a:lnTo>
                    <a:lnTo>
                      <a:pt x="11931" y="222"/>
                    </a:lnTo>
                    <a:lnTo>
                      <a:pt x="11968" y="222"/>
                    </a:lnTo>
                    <a:lnTo>
                      <a:pt x="12024" y="203"/>
                    </a:lnTo>
                    <a:lnTo>
                      <a:pt x="12081" y="203"/>
                    </a:lnTo>
                    <a:lnTo>
                      <a:pt x="12119" y="203"/>
                    </a:lnTo>
                    <a:lnTo>
                      <a:pt x="12176" y="203"/>
                    </a:lnTo>
                    <a:lnTo>
                      <a:pt x="12214" y="203"/>
                    </a:lnTo>
                    <a:lnTo>
                      <a:pt x="12270" y="203"/>
                    </a:lnTo>
                    <a:lnTo>
                      <a:pt x="12308" y="222"/>
                    </a:lnTo>
                    <a:lnTo>
                      <a:pt x="12364" y="222"/>
                    </a:lnTo>
                    <a:lnTo>
                      <a:pt x="12345" y="959"/>
                    </a:lnTo>
                    <a:lnTo>
                      <a:pt x="12308" y="995"/>
                    </a:lnTo>
                    <a:lnTo>
                      <a:pt x="12289" y="1013"/>
                    </a:lnTo>
                    <a:lnTo>
                      <a:pt x="12270" y="1050"/>
                    </a:lnTo>
                    <a:lnTo>
                      <a:pt x="12233" y="1068"/>
                    </a:lnTo>
                    <a:lnTo>
                      <a:pt x="12195" y="1087"/>
                    </a:lnTo>
                    <a:lnTo>
                      <a:pt x="12176" y="1105"/>
                    </a:lnTo>
                    <a:lnTo>
                      <a:pt x="12138" y="1124"/>
                    </a:lnTo>
                    <a:lnTo>
                      <a:pt x="12100" y="1142"/>
                    </a:lnTo>
                    <a:lnTo>
                      <a:pt x="12062" y="1142"/>
                    </a:lnTo>
                    <a:lnTo>
                      <a:pt x="12043" y="1161"/>
                    </a:lnTo>
                    <a:lnTo>
                      <a:pt x="12005" y="1161"/>
                    </a:lnTo>
                    <a:lnTo>
                      <a:pt x="11968" y="1179"/>
                    </a:lnTo>
                    <a:lnTo>
                      <a:pt x="11931" y="1179"/>
                    </a:lnTo>
                    <a:lnTo>
                      <a:pt x="11893" y="1179"/>
                    </a:lnTo>
                    <a:lnTo>
                      <a:pt x="11855" y="1198"/>
                    </a:lnTo>
                    <a:lnTo>
                      <a:pt x="11817" y="1198"/>
                    </a:lnTo>
                    <a:lnTo>
                      <a:pt x="11760" y="1198"/>
                    </a:lnTo>
                    <a:lnTo>
                      <a:pt x="11722" y="1198"/>
                    </a:lnTo>
                    <a:lnTo>
                      <a:pt x="11685" y="1198"/>
                    </a:lnTo>
                    <a:lnTo>
                      <a:pt x="11647" y="1198"/>
                    </a:lnTo>
                    <a:lnTo>
                      <a:pt x="11609" y="1198"/>
                    </a:lnTo>
                    <a:lnTo>
                      <a:pt x="11572" y="1198"/>
                    </a:lnTo>
                    <a:lnTo>
                      <a:pt x="11534" y="1198"/>
                    </a:lnTo>
                    <a:lnTo>
                      <a:pt x="11496" y="1216"/>
                    </a:lnTo>
                    <a:lnTo>
                      <a:pt x="11458" y="1216"/>
                    </a:lnTo>
                    <a:lnTo>
                      <a:pt x="11421" y="1216"/>
                    </a:lnTo>
                    <a:lnTo>
                      <a:pt x="11364" y="1216"/>
                    </a:lnTo>
                    <a:lnTo>
                      <a:pt x="11326" y="1216"/>
                    </a:lnTo>
                    <a:lnTo>
                      <a:pt x="11288" y="1235"/>
                    </a:lnTo>
                    <a:lnTo>
                      <a:pt x="11269" y="1235"/>
                    </a:lnTo>
                    <a:lnTo>
                      <a:pt x="11232" y="1253"/>
                    </a:lnTo>
                    <a:lnTo>
                      <a:pt x="11194" y="1272"/>
                    </a:lnTo>
                    <a:lnTo>
                      <a:pt x="11176" y="1272"/>
                    </a:lnTo>
                    <a:lnTo>
                      <a:pt x="11157" y="1272"/>
                    </a:lnTo>
                    <a:lnTo>
                      <a:pt x="11157" y="1290"/>
                    </a:lnTo>
                    <a:lnTo>
                      <a:pt x="11138" y="1290"/>
                    </a:lnTo>
                    <a:lnTo>
                      <a:pt x="11138" y="1309"/>
                    </a:lnTo>
                    <a:lnTo>
                      <a:pt x="11138" y="1327"/>
                    </a:lnTo>
                    <a:lnTo>
                      <a:pt x="11138" y="1345"/>
                    </a:lnTo>
                    <a:lnTo>
                      <a:pt x="11138" y="1363"/>
                    </a:lnTo>
                    <a:lnTo>
                      <a:pt x="12591" y="1290"/>
                    </a:lnTo>
                    <a:lnTo>
                      <a:pt x="12610" y="1309"/>
                    </a:lnTo>
                    <a:lnTo>
                      <a:pt x="12629" y="1309"/>
                    </a:lnTo>
                    <a:lnTo>
                      <a:pt x="12629" y="1327"/>
                    </a:lnTo>
                    <a:lnTo>
                      <a:pt x="12648" y="1345"/>
                    </a:lnTo>
                    <a:lnTo>
                      <a:pt x="12648" y="1363"/>
                    </a:lnTo>
                    <a:lnTo>
                      <a:pt x="12648" y="1382"/>
                    </a:lnTo>
                    <a:lnTo>
                      <a:pt x="12648" y="1400"/>
                    </a:lnTo>
                    <a:lnTo>
                      <a:pt x="12667" y="1418"/>
                    </a:lnTo>
                    <a:lnTo>
                      <a:pt x="378" y="1418"/>
                    </a:lnTo>
                    <a:lnTo>
                      <a:pt x="1416" y="350"/>
                    </a:lnTo>
                    <a:lnTo>
                      <a:pt x="189" y="1087"/>
                    </a:lnTo>
                    <a:lnTo>
                      <a:pt x="189" y="1068"/>
                    </a:lnTo>
                    <a:lnTo>
                      <a:pt x="170" y="1068"/>
                    </a:lnTo>
                    <a:lnTo>
                      <a:pt x="170" y="1050"/>
                    </a:lnTo>
                    <a:lnTo>
                      <a:pt x="152" y="1050"/>
                    </a:lnTo>
                    <a:lnTo>
                      <a:pt x="152" y="1031"/>
                    </a:lnTo>
                    <a:lnTo>
                      <a:pt x="152" y="1031"/>
                    </a:lnTo>
                    <a:lnTo>
                      <a:pt x="133" y="1013"/>
                    </a:lnTo>
                    <a:lnTo>
                      <a:pt x="133" y="1013"/>
                    </a:lnTo>
                    <a:lnTo>
                      <a:pt x="0" y="350"/>
                    </a:lnTo>
                    <a:lnTo>
                      <a:pt x="19" y="313"/>
                    </a:lnTo>
                    <a:lnTo>
                      <a:pt x="38" y="295"/>
                    </a:lnTo>
                    <a:lnTo>
                      <a:pt x="57" y="277"/>
                    </a:lnTo>
                    <a:lnTo>
                      <a:pt x="76" y="258"/>
                    </a:lnTo>
                    <a:lnTo>
                      <a:pt x="114" y="240"/>
                    </a:lnTo>
                    <a:lnTo>
                      <a:pt x="133" y="222"/>
                    </a:lnTo>
                    <a:lnTo>
                      <a:pt x="152" y="203"/>
                    </a:lnTo>
                    <a:lnTo>
                      <a:pt x="170" y="185"/>
                    </a:lnTo>
                    <a:lnTo>
                      <a:pt x="189" y="166"/>
                    </a:lnTo>
                    <a:lnTo>
                      <a:pt x="208" y="129"/>
                    </a:lnTo>
                    <a:lnTo>
                      <a:pt x="227" y="111"/>
                    </a:lnTo>
                    <a:lnTo>
                      <a:pt x="246" y="92"/>
                    </a:lnTo>
                    <a:lnTo>
                      <a:pt x="265" y="74"/>
                    </a:lnTo>
                    <a:lnTo>
                      <a:pt x="284" y="55"/>
                    </a:lnTo>
                    <a:lnTo>
                      <a:pt x="302" y="18"/>
                    </a:lnTo>
                    <a:lnTo>
                      <a:pt x="321" y="0"/>
                    </a:lnTo>
                    <a:lnTo>
                      <a:pt x="692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10" name="Freeform 40"/>
              <p:cNvSpPr/>
              <p:nvPr/>
            </p:nvSpPr>
            <p:spPr>
              <a:xfrm>
                <a:off x="3648960" y="3290760"/>
                <a:ext cx="3335040" cy="138240"/>
              </a:xfrm>
              <a:custGeom>
                <a:avLst/>
                <a:gdLst/>
                <a:ahLst/>
                <a:rect l="l" t="t" r="r" b="b"/>
                <a:pathLst>
                  <a:path w="12836" h="1419">
                    <a:moveTo>
                      <a:pt x="5587" y="0"/>
                    </a:moveTo>
                    <a:lnTo>
                      <a:pt x="5399" y="93"/>
                    </a:lnTo>
                    <a:lnTo>
                      <a:pt x="5417" y="74"/>
                    </a:lnTo>
                    <a:lnTo>
                      <a:pt x="5435" y="74"/>
                    </a:lnTo>
                    <a:lnTo>
                      <a:pt x="5454" y="74"/>
                    </a:lnTo>
                    <a:lnTo>
                      <a:pt x="5473" y="56"/>
                    </a:lnTo>
                    <a:lnTo>
                      <a:pt x="5492" y="56"/>
                    </a:lnTo>
                    <a:lnTo>
                      <a:pt x="5511" y="56"/>
                    </a:lnTo>
                    <a:lnTo>
                      <a:pt x="5530" y="56"/>
                    </a:lnTo>
                    <a:lnTo>
                      <a:pt x="5549" y="37"/>
                    </a:lnTo>
                    <a:lnTo>
                      <a:pt x="5568" y="37"/>
                    </a:lnTo>
                    <a:lnTo>
                      <a:pt x="5587" y="37"/>
                    </a:lnTo>
                    <a:lnTo>
                      <a:pt x="5606" y="19"/>
                    </a:lnTo>
                    <a:lnTo>
                      <a:pt x="5625" y="19"/>
                    </a:lnTo>
                    <a:lnTo>
                      <a:pt x="5644" y="19"/>
                    </a:lnTo>
                    <a:lnTo>
                      <a:pt x="5663" y="0"/>
                    </a:lnTo>
                    <a:lnTo>
                      <a:pt x="5682" y="0"/>
                    </a:lnTo>
                    <a:lnTo>
                      <a:pt x="5701" y="0"/>
                    </a:lnTo>
                    <a:lnTo>
                      <a:pt x="12514" y="0"/>
                    </a:lnTo>
                    <a:lnTo>
                      <a:pt x="12514" y="241"/>
                    </a:lnTo>
                    <a:lnTo>
                      <a:pt x="12477" y="277"/>
                    </a:lnTo>
                    <a:lnTo>
                      <a:pt x="12458" y="295"/>
                    </a:lnTo>
                    <a:lnTo>
                      <a:pt x="12439" y="332"/>
                    </a:lnTo>
                    <a:lnTo>
                      <a:pt x="12402" y="350"/>
                    </a:lnTo>
                    <a:lnTo>
                      <a:pt x="12364" y="369"/>
                    </a:lnTo>
                    <a:lnTo>
                      <a:pt x="12345" y="387"/>
                    </a:lnTo>
                    <a:lnTo>
                      <a:pt x="12307" y="406"/>
                    </a:lnTo>
                    <a:lnTo>
                      <a:pt x="12269" y="424"/>
                    </a:lnTo>
                    <a:lnTo>
                      <a:pt x="12231" y="424"/>
                    </a:lnTo>
                    <a:lnTo>
                      <a:pt x="12212" y="443"/>
                    </a:lnTo>
                    <a:lnTo>
                      <a:pt x="12174" y="443"/>
                    </a:lnTo>
                    <a:lnTo>
                      <a:pt x="12137" y="461"/>
                    </a:lnTo>
                    <a:lnTo>
                      <a:pt x="12100" y="461"/>
                    </a:lnTo>
                    <a:lnTo>
                      <a:pt x="12062" y="461"/>
                    </a:lnTo>
                    <a:lnTo>
                      <a:pt x="12024" y="480"/>
                    </a:lnTo>
                    <a:lnTo>
                      <a:pt x="11986" y="480"/>
                    </a:lnTo>
                    <a:lnTo>
                      <a:pt x="11929" y="480"/>
                    </a:lnTo>
                    <a:lnTo>
                      <a:pt x="11891" y="480"/>
                    </a:lnTo>
                    <a:lnTo>
                      <a:pt x="11854" y="480"/>
                    </a:lnTo>
                    <a:lnTo>
                      <a:pt x="11816" y="480"/>
                    </a:lnTo>
                    <a:lnTo>
                      <a:pt x="11778" y="480"/>
                    </a:lnTo>
                    <a:lnTo>
                      <a:pt x="11741" y="480"/>
                    </a:lnTo>
                    <a:lnTo>
                      <a:pt x="11703" y="480"/>
                    </a:lnTo>
                    <a:lnTo>
                      <a:pt x="11665" y="498"/>
                    </a:lnTo>
                    <a:lnTo>
                      <a:pt x="11627" y="498"/>
                    </a:lnTo>
                    <a:lnTo>
                      <a:pt x="11590" y="498"/>
                    </a:lnTo>
                    <a:lnTo>
                      <a:pt x="11533" y="498"/>
                    </a:lnTo>
                    <a:lnTo>
                      <a:pt x="11495" y="498"/>
                    </a:lnTo>
                    <a:lnTo>
                      <a:pt x="11457" y="517"/>
                    </a:lnTo>
                    <a:lnTo>
                      <a:pt x="11438" y="517"/>
                    </a:lnTo>
                    <a:lnTo>
                      <a:pt x="11401" y="535"/>
                    </a:lnTo>
                    <a:lnTo>
                      <a:pt x="11363" y="554"/>
                    </a:lnTo>
                    <a:lnTo>
                      <a:pt x="11345" y="554"/>
                    </a:lnTo>
                    <a:lnTo>
                      <a:pt x="11326" y="554"/>
                    </a:lnTo>
                    <a:lnTo>
                      <a:pt x="11326" y="572"/>
                    </a:lnTo>
                    <a:lnTo>
                      <a:pt x="11307" y="572"/>
                    </a:lnTo>
                    <a:lnTo>
                      <a:pt x="11307" y="591"/>
                    </a:lnTo>
                    <a:lnTo>
                      <a:pt x="11307" y="609"/>
                    </a:lnTo>
                    <a:lnTo>
                      <a:pt x="11307" y="627"/>
                    </a:lnTo>
                    <a:lnTo>
                      <a:pt x="11307" y="645"/>
                    </a:lnTo>
                    <a:lnTo>
                      <a:pt x="12760" y="572"/>
                    </a:lnTo>
                    <a:lnTo>
                      <a:pt x="12779" y="591"/>
                    </a:lnTo>
                    <a:lnTo>
                      <a:pt x="12798" y="609"/>
                    </a:lnTo>
                    <a:lnTo>
                      <a:pt x="12798" y="627"/>
                    </a:lnTo>
                    <a:lnTo>
                      <a:pt x="12817" y="645"/>
                    </a:lnTo>
                    <a:lnTo>
                      <a:pt x="12817" y="664"/>
                    </a:lnTo>
                    <a:lnTo>
                      <a:pt x="12817" y="682"/>
                    </a:lnTo>
                    <a:lnTo>
                      <a:pt x="12836" y="719"/>
                    </a:lnTo>
                    <a:lnTo>
                      <a:pt x="12836" y="737"/>
                    </a:lnTo>
                    <a:lnTo>
                      <a:pt x="12836" y="756"/>
                    </a:lnTo>
                    <a:lnTo>
                      <a:pt x="12836" y="793"/>
                    </a:lnTo>
                    <a:lnTo>
                      <a:pt x="12836" y="811"/>
                    </a:lnTo>
                    <a:lnTo>
                      <a:pt x="12836" y="830"/>
                    </a:lnTo>
                    <a:lnTo>
                      <a:pt x="12836" y="867"/>
                    </a:lnTo>
                    <a:lnTo>
                      <a:pt x="12836" y="885"/>
                    </a:lnTo>
                    <a:lnTo>
                      <a:pt x="12836" y="922"/>
                    </a:lnTo>
                    <a:lnTo>
                      <a:pt x="12836" y="941"/>
                    </a:lnTo>
                    <a:lnTo>
                      <a:pt x="12836" y="977"/>
                    </a:lnTo>
                    <a:lnTo>
                      <a:pt x="12836" y="995"/>
                    </a:lnTo>
                    <a:lnTo>
                      <a:pt x="12817" y="1032"/>
                    </a:lnTo>
                    <a:lnTo>
                      <a:pt x="12817" y="1051"/>
                    </a:lnTo>
                    <a:lnTo>
                      <a:pt x="12817" y="1088"/>
                    </a:lnTo>
                    <a:lnTo>
                      <a:pt x="12817" y="1106"/>
                    </a:lnTo>
                    <a:lnTo>
                      <a:pt x="12817" y="1143"/>
                    </a:lnTo>
                    <a:lnTo>
                      <a:pt x="12798" y="1161"/>
                    </a:lnTo>
                    <a:lnTo>
                      <a:pt x="12798" y="1198"/>
                    </a:lnTo>
                    <a:lnTo>
                      <a:pt x="12798" y="1217"/>
                    </a:lnTo>
                    <a:lnTo>
                      <a:pt x="12798" y="1254"/>
                    </a:lnTo>
                    <a:lnTo>
                      <a:pt x="12779" y="1272"/>
                    </a:lnTo>
                    <a:lnTo>
                      <a:pt x="12779" y="1291"/>
                    </a:lnTo>
                    <a:lnTo>
                      <a:pt x="12779" y="1327"/>
                    </a:lnTo>
                    <a:lnTo>
                      <a:pt x="12779" y="1345"/>
                    </a:lnTo>
                    <a:lnTo>
                      <a:pt x="12760" y="1364"/>
                    </a:lnTo>
                    <a:lnTo>
                      <a:pt x="12495" y="1419"/>
                    </a:lnTo>
                    <a:lnTo>
                      <a:pt x="75" y="1419"/>
                    </a:lnTo>
                    <a:lnTo>
                      <a:pt x="0" y="1254"/>
                    </a:lnTo>
                    <a:lnTo>
                      <a:pt x="1226" y="0"/>
                    </a:lnTo>
                    <a:lnTo>
                      <a:pt x="5587" y="0"/>
                    </a:lnTo>
                    <a:close/>
                    <a:moveTo>
                      <a:pt x="962" y="0"/>
                    </a:moveTo>
                    <a:lnTo>
                      <a:pt x="358" y="369"/>
                    </a:lnTo>
                    <a:lnTo>
                      <a:pt x="358" y="350"/>
                    </a:lnTo>
                    <a:lnTo>
                      <a:pt x="339" y="350"/>
                    </a:lnTo>
                    <a:lnTo>
                      <a:pt x="339" y="332"/>
                    </a:lnTo>
                    <a:lnTo>
                      <a:pt x="321" y="332"/>
                    </a:lnTo>
                    <a:lnTo>
                      <a:pt x="321" y="313"/>
                    </a:lnTo>
                    <a:lnTo>
                      <a:pt x="321" y="313"/>
                    </a:lnTo>
                    <a:lnTo>
                      <a:pt x="302" y="295"/>
                    </a:lnTo>
                    <a:lnTo>
                      <a:pt x="302" y="295"/>
                    </a:lnTo>
                    <a:lnTo>
                      <a:pt x="245" y="0"/>
                    </a:lnTo>
                    <a:lnTo>
                      <a:pt x="96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11" name="Freeform 41"/>
              <p:cNvSpPr/>
              <p:nvPr/>
            </p:nvSpPr>
            <p:spPr>
              <a:xfrm>
                <a:off x="3648960" y="3358080"/>
                <a:ext cx="3335040" cy="138240"/>
              </a:xfrm>
              <a:custGeom>
                <a:avLst/>
                <a:gdLst/>
                <a:ahLst/>
                <a:rect l="l" t="t" r="r" b="b"/>
                <a:pathLst>
                  <a:path w="12836" h="1418">
                    <a:moveTo>
                      <a:pt x="12836" y="0"/>
                    </a:moveTo>
                    <a:lnTo>
                      <a:pt x="12836" y="37"/>
                    </a:lnTo>
                    <a:lnTo>
                      <a:pt x="12836" y="74"/>
                    </a:lnTo>
                    <a:lnTo>
                      <a:pt x="12836" y="130"/>
                    </a:lnTo>
                    <a:lnTo>
                      <a:pt x="12836" y="167"/>
                    </a:lnTo>
                    <a:lnTo>
                      <a:pt x="12836" y="204"/>
                    </a:lnTo>
                    <a:lnTo>
                      <a:pt x="12836" y="259"/>
                    </a:lnTo>
                    <a:lnTo>
                      <a:pt x="12836" y="295"/>
                    </a:lnTo>
                    <a:lnTo>
                      <a:pt x="12817" y="332"/>
                    </a:lnTo>
                    <a:lnTo>
                      <a:pt x="12817" y="388"/>
                    </a:lnTo>
                    <a:lnTo>
                      <a:pt x="12817" y="424"/>
                    </a:lnTo>
                    <a:lnTo>
                      <a:pt x="12798" y="480"/>
                    </a:lnTo>
                    <a:lnTo>
                      <a:pt x="12798" y="517"/>
                    </a:lnTo>
                    <a:lnTo>
                      <a:pt x="12779" y="554"/>
                    </a:lnTo>
                    <a:lnTo>
                      <a:pt x="12779" y="591"/>
                    </a:lnTo>
                    <a:lnTo>
                      <a:pt x="12779" y="627"/>
                    </a:lnTo>
                    <a:lnTo>
                      <a:pt x="12760" y="664"/>
                    </a:lnTo>
                    <a:lnTo>
                      <a:pt x="11005" y="977"/>
                    </a:lnTo>
                    <a:lnTo>
                      <a:pt x="10986" y="977"/>
                    </a:lnTo>
                    <a:lnTo>
                      <a:pt x="10986" y="977"/>
                    </a:lnTo>
                    <a:lnTo>
                      <a:pt x="10967" y="995"/>
                    </a:lnTo>
                    <a:lnTo>
                      <a:pt x="10967" y="995"/>
                    </a:lnTo>
                    <a:lnTo>
                      <a:pt x="10967" y="1014"/>
                    </a:lnTo>
                    <a:lnTo>
                      <a:pt x="10967" y="1032"/>
                    </a:lnTo>
                    <a:lnTo>
                      <a:pt x="10967" y="1032"/>
                    </a:lnTo>
                    <a:lnTo>
                      <a:pt x="10967" y="1051"/>
                    </a:lnTo>
                    <a:lnTo>
                      <a:pt x="11741" y="1069"/>
                    </a:lnTo>
                    <a:lnTo>
                      <a:pt x="11722" y="1418"/>
                    </a:lnTo>
                    <a:lnTo>
                      <a:pt x="19" y="1418"/>
                    </a:lnTo>
                    <a:lnTo>
                      <a:pt x="38" y="1418"/>
                    </a:lnTo>
                    <a:lnTo>
                      <a:pt x="57" y="1400"/>
                    </a:lnTo>
                    <a:lnTo>
                      <a:pt x="75" y="1381"/>
                    </a:lnTo>
                    <a:lnTo>
                      <a:pt x="94" y="1363"/>
                    </a:lnTo>
                    <a:lnTo>
                      <a:pt x="94" y="1344"/>
                    </a:lnTo>
                    <a:lnTo>
                      <a:pt x="112" y="1344"/>
                    </a:lnTo>
                    <a:lnTo>
                      <a:pt x="131" y="1326"/>
                    </a:lnTo>
                    <a:lnTo>
                      <a:pt x="150" y="1307"/>
                    </a:lnTo>
                    <a:lnTo>
                      <a:pt x="150" y="1290"/>
                    </a:lnTo>
                    <a:lnTo>
                      <a:pt x="169" y="1272"/>
                    </a:lnTo>
                    <a:lnTo>
                      <a:pt x="188" y="1254"/>
                    </a:lnTo>
                    <a:lnTo>
                      <a:pt x="188" y="1235"/>
                    </a:lnTo>
                    <a:lnTo>
                      <a:pt x="207" y="1198"/>
                    </a:lnTo>
                    <a:lnTo>
                      <a:pt x="207" y="1180"/>
                    </a:lnTo>
                    <a:lnTo>
                      <a:pt x="226" y="1162"/>
                    </a:lnTo>
                    <a:lnTo>
                      <a:pt x="226" y="1125"/>
                    </a:lnTo>
                    <a:lnTo>
                      <a:pt x="0" y="554"/>
                    </a:lnTo>
                    <a:lnTo>
                      <a:pt x="547" y="0"/>
                    </a:lnTo>
                    <a:lnTo>
                      <a:pt x="128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12" name="Freeform 42"/>
              <p:cNvSpPr/>
              <p:nvPr/>
            </p:nvSpPr>
            <p:spPr>
              <a:xfrm>
                <a:off x="3627720" y="3429360"/>
                <a:ext cx="3267720" cy="136440"/>
              </a:xfrm>
              <a:custGeom>
                <a:avLst/>
                <a:gdLst/>
                <a:ahLst/>
                <a:rect l="l" t="t" r="r" b="b"/>
                <a:pathLst>
                  <a:path w="12571" h="1418">
                    <a:moveTo>
                      <a:pt x="12571" y="0"/>
                    </a:moveTo>
                    <a:lnTo>
                      <a:pt x="11081" y="258"/>
                    </a:lnTo>
                    <a:lnTo>
                      <a:pt x="11062" y="258"/>
                    </a:lnTo>
                    <a:lnTo>
                      <a:pt x="11062" y="258"/>
                    </a:lnTo>
                    <a:lnTo>
                      <a:pt x="11043" y="276"/>
                    </a:lnTo>
                    <a:lnTo>
                      <a:pt x="11043" y="276"/>
                    </a:lnTo>
                    <a:lnTo>
                      <a:pt x="11043" y="295"/>
                    </a:lnTo>
                    <a:lnTo>
                      <a:pt x="11043" y="313"/>
                    </a:lnTo>
                    <a:lnTo>
                      <a:pt x="11043" y="313"/>
                    </a:lnTo>
                    <a:lnTo>
                      <a:pt x="11043" y="332"/>
                    </a:lnTo>
                    <a:lnTo>
                      <a:pt x="11817" y="350"/>
                    </a:lnTo>
                    <a:lnTo>
                      <a:pt x="11760" y="1179"/>
                    </a:lnTo>
                    <a:lnTo>
                      <a:pt x="11760" y="1197"/>
                    </a:lnTo>
                    <a:lnTo>
                      <a:pt x="11741" y="1197"/>
                    </a:lnTo>
                    <a:lnTo>
                      <a:pt x="11741" y="1216"/>
                    </a:lnTo>
                    <a:lnTo>
                      <a:pt x="11722" y="1216"/>
                    </a:lnTo>
                    <a:lnTo>
                      <a:pt x="11722" y="1216"/>
                    </a:lnTo>
                    <a:lnTo>
                      <a:pt x="11703" y="1234"/>
                    </a:lnTo>
                    <a:lnTo>
                      <a:pt x="11685" y="1234"/>
                    </a:lnTo>
                    <a:lnTo>
                      <a:pt x="11685" y="1234"/>
                    </a:lnTo>
                    <a:lnTo>
                      <a:pt x="11666" y="1234"/>
                    </a:lnTo>
                    <a:lnTo>
                      <a:pt x="11647" y="1234"/>
                    </a:lnTo>
                    <a:lnTo>
                      <a:pt x="11628" y="1234"/>
                    </a:lnTo>
                    <a:lnTo>
                      <a:pt x="11628" y="1234"/>
                    </a:lnTo>
                    <a:lnTo>
                      <a:pt x="11609" y="1234"/>
                    </a:lnTo>
                    <a:lnTo>
                      <a:pt x="11590" y="1234"/>
                    </a:lnTo>
                    <a:lnTo>
                      <a:pt x="11590" y="1234"/>
                    </a:lnTo>
                    <a:lnTo>
                      <a:pt x="11571" y="1234"/>
                    </a:lnTo>
                    <a:lnTo>
                      <a:pt x="11552" y="1234"/>
                    </a:lnTo>
                    <a:lnTo>
                      <a:pt x="11533" y="1234"/>
                    </a:lnTo>
                    <a:lnTo>
                      <a:pt x="11533" y="1252"/>
                    </a:lnTo>
                    <a:lnTo>
                      <a:pt x="11533" y="1252"/>
                    </a:lnTo>
                    <a:lnTo>
                      <a:pt x="11514" y="1270"/>
                    </a:lnTo>
                    <a:lnTo>
                      <a:pt x="11514" y="1288"/>
                    </a:lnTo>
                    <a:lnTo>
                      <a:pt x="11533" y="1288"/>
                    </a:lnTo>
                    <a:lnTo>
                      <a:pt x="11533" y="1325"/>
                    </a:lnTo>
                    <a:lnTo>
                      <a:pt x="12213" y="1344"/>
                    </a:lnTo>
                    <a:lnTo>
                      <a:pt x="12213" y="1418"/>
                    </a:lnTo>
                    <a:lnTo>
                      <a:pt x="114" y="1418"/>
                    </a:lnTo>
                    <a:lnTo>
                      <a:pt x="0" y="829"/>
                    </a:lnTo>
                    <a:lnTo>
                      <a:pt x="19" y="810"/>
                    </a:lnTo>
                    <a:lnTo>
                      <a:pt x="38" y="773"/>
                    </a:lnTo>
                    <a:lnTo>
                      <a:pt x="57" y="755"/>
                    </a:lnTo>
                    <a:lnTo>
                      <a:pt x="76" y="736"/>
                    </a:lnTo>
                    <a:lnTo>
                      <a:pt x="95" y="718"/>
                    </a:lnTo>
                    <a:lnTo>
                      <a:pt x="114" y="699"/>
                    </a:lnTo>
                    <a:lnTo>
                      <a:pt x="133" y="681"/>
                    </a:lnTo>
                    <a:lnTo>
                      <a:pt x="151" y="644"/>
                    </a:lnTo>
                    <a:lnTo>
                      <a:pt x="188" y="625"/>
                    </a:lnTo>
                    <a:lnTo>
                      <a:pt x="207" y="607"/>
                    </a:lnTo>
                    <a:lnTo>
                      <a:pt x="226" y="571"/>
                    </a:lnTo>
                    <a:lnTo>
                      <a:pt x="245" y="553"/>
                    </a:lnTo>
                    <a:lnTo>
                      <a:pt x="264" y="516"/>
                    </a:lnTo>
                    <a:lnTo>
                      <a:pt x="283" y="479"/>
                    </a:lnTo>
                    <a:lnTo>
                      <a:pt x="283" y="443"/>
                    </a:lnTo>
                    <a:lnTo>
                      <a:pt x="302" y="406"/>
                    </a:lnTo>
                    <a:lnTo>
                      <a:pt x="151" y="0"/>
                    </a:lnTo>
                    <a:lnTo>
                      <a:pt x="1257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13" name="Freeform 43"/>
              <p:cNvSpPr/>
              <p:nvPr/>
            </p:nvSpPr>
            <p:spPr>
              <a:xfrm>
                <a:off x="3498120" y="3496680"/>
                <a:ext cx="3303360" cy="138240"/>
              </a:xfrm>
              <a:custGeom>
                <a:avLst/>
                <a:gdLst/>
                <a:ahLst/>
                <a:rect l="l" t="t" r="r" b="b"/>
                <a:pathLst>
                  <a:path w="12723" h="1437">
                    <a:moveTo>
                      <a:pt x="12308" y="0"/>
                    </a:moveTo>
                    <a:lnTo>
                      <a:pt x="12270" y="480"/>
                    </a:lnTo>
                    <a:lnTo>
                      <a:pt x="12270" y="498"/>
                    </a:lnTo>
                    <a:lnTo>
                      <a:pt x="12251" y="498"/>
                    </a:lnTo>
                    <a:lnTo>
                      <a:pt x="12251" y="517"/>
                    </a:lnTo>
                    <a:lnTo>
                      <a:pt x="12232" y="517"/>
                    </a:lnTo>
                    <a:lnTo>
                      <a:pt x="12232" y="517"/>
                    </a:lnTo>
                    <a:lnTo>
                      <a:pt x="12213" y="535"/>
                    </a:lnTo>
                    <a:lnTo>
                      <a:pt x="12195" y="535"/>
                    </a:lnTo>
                    <a:lnTo>
                      <a:pt x="12195" y="535"/>
                    </a:lnTo>
                    <a:lnTo>
                      <a:pt x="12176" y="535"/>
                    </a:lnTo>
                    <a:lnTo>
                      <a:pt x="12157" y="535"/>
                    </a:lnTo>
                    <a:lnTo>
                      <a:pt x="12138" y="535"/>
                    </a:lnTo>
                    <a:lnTo>
                      <a:pt x="12138" y="535"/>
                    </a:lnTo>
                    <a:lnTo>
                      <a:pt x="12119" y="535"/>
                    </a:lnTo>
                    <a:lnTo>
                      <a:pt x="12100" y="535"/>
                    </a:lnTo>
                    <a:lnTo>
                      <a:pt x="12100" y="535"/>
                    </a:lnTo>
                    <a:lnTo>
                      <a:pt x="12081" y="535"/>
                    </a:lnTo>
                    <a:lnTo>
                      <a:pt x="12062" y="535"/>
                    </a:lnTo>
                    <a:lnTo>
                      <a:pt x="12043" y="535"/>
                    </a:lnTo>
                    <a:lnTo>
                      <a:pt x="12043" y="553"/>
                    </a:lnTo>
                    <a:lnTo>
                      <a:pt x="12043" y="553"/>
                    </a:lnTo>
                    <a:lnTo>
                      <a:pt x="12024" y="571"/>
                    </a:lnTo>
                    <a:lnTo>
                      <a:pt x="12024" y="589"/>
                    </a:lnTo>
                    <a:lnTo>
                      <a:pt x="12043" y="589"/>
                    </a:lnTo>
                    <a:lnTo>
                      <a:pt x="12043" y="626"/>
                    </a:lnTo>
                    <a:lnTo>
                      <a:pt x="12723" y="645"/>
                    </a:lnTo>
                    <a:lnTo>
                      <a:pt x="12648" y="1400"/>
                    </a:lnTo>
                    <a:lnTo>
                      <a:pt x="12515" y="1437"/>
                    </a:lnTo>
                    <a:lnTo>
                      <a:pt x="0" y="1437"/>
                    </a:lnTo>
                    <a:lnTo>
                      <a:pt x="643" y="737"/>
                    </a:lnTo>
                    <a:lnTo>
                      <a:pt x="510" y="130"/>
                    </a:lnTo>
                    <a:lnTo>
                      <a:pt x="510" y="111"/>
                    </a:lnTo>
                    <a:lnTo>
                      <a:pt x="529" y="93"/>
                    </a:lnTo>
                    <a:lnTo>
                      <a:pt x="548" y="74"/>
                    </a:lnTo>
                    <a:lnTo>
                      <a:pt x="548" y="56"/>
                    </a:lnTo>
                    <a:lnTo>
                      <a:pt x="567" y="56"/>
                    </a:lnTo>
                    <a:lnTo>
                      <a:pt x="586" y="37"/>
                    </a:lnTo>
                    <a:lnTo>
                      <a:pt x="605" y="19"/>
                    </a:lnTo>
                    <a:lnTo>
                      <a:pt x="605" y="0"/>
                    </a:lnTo>
                    <a:lnTo>
                      <a:pt x="1230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14" name="Freeform 44"/>
              <p:cNvSpPr/>
              <p:nvPr/>
            </p:nvSpPr>
            <p:spPr>
              <a:xfrm>
                <a:off x="3492360" y="3566160"/>
                <a:ext cx="3314880" cy="140400"/>
              </a:xfrm>
              <a:custGeom>
                <a:avLst/>
                <a:gdLst/>
                <a:ahLst/>
                <a:rect l="l" t="t" r="r" b="b"/>
                <a:pathLst>
                  <a:path w="12759" h="1418">
                    <a:moveTo>
                      <a:pt x="12741" y="0"/>
                    </a:moveTo>
                    <a:lnTo>
                      <a:pt x="12666" y="681"/>
                    </a:lnTo>
                    <a:lnTo>
                      <a:pt x="12194" y="774"/>
                    </a:lnTo>
                    <a:lnTo>
                      <a:pt x="12175" y="792"/>
                    </a:lnTo>
                    <a:lnTo>
                      <a:pt x="12175" y="811"/>
                    </a:lnTo>
                    <a:lnTo>
                      <a:pt x="12156" y="811"/>
                    </a:lnTo>
                    <a:lnTo>
                      <a:pt x="12137" y="829"/>
                    </a:lnTo>
                    <a:lnTo>
                      <a:pt x="12137" y="866"/>
                    </a:lnTo>
                    <a:lnTo>
                      <a:pt x="12118" y="885"/>
                    </a:lnTo>
                    <a:lnTo>
                      <a:pt x="12118" y="902"/>
                    </a:lnTo>
                    <a:lnTo>
                      <a:pt x="12118" y="939"/>
                    </a:lnTo>
                    <a:lnTo>
                      <a:pt x="12099" y="976"/>
                    </a:lnTo>
                    <a:lnTo>
                      <a:pt x="12099" y="994"/>
                    </a:lnTo>
                    <a:lnTo>
                      <a:pt x="12099" y="1031"/>
                    </a:lnTo>
                    <a:lnTo>
                      <a:pt x="12099" y="1068"/>
                    </a:lnTo>
                    <a:lnTo>
                      <a:pt x="12099" y="1105"/>
                    </a:lnTo>
                    <a:lnTo>
                      <a:pt x="12099" y="1142"/>
                    </a:lnTo>
                    <a:lnTo>
                      <a:pt x="12099" y="1161"/>
                    </a:lnTo>
                    <a:lnTo>
                      <a:pt x="12099" y="1198"/>
                    </a:lnTo>
                    <a:lnTo>
                      <a:pt x="12118" y="1234"/>
                    </a:lnTo>
                    <a:lnTo>
                      <a:pt x="12156" y="1271"/>
                    </a:lnTo>
                    <a:lnTo>
                      <a:pt x="12194" y="1289"/>
                    </a:lnTo>
                    <a:lnTo>
                      <a:pt x="12231" y="1308"/>
                    </a:lnTo>
                    <a:lnTo>
                      <a:pt x="12269" y="1308"/>
                    </a:lnTo>
                    <a:lnTo>
                      <a:pt x="12307" y="1308"/>
                    </a:lnTo>
                    <a:lnTo>
                      <a:pt x="12364" y="1289"/>
                    </a:lnTo>
                    <a:lnTo>
                      <a:pt x="12401" y="1271"/>
                    </a:lnTo>
                    <a:lnTo>
                      <a:pt x="12439" y="1271"/>
                    </a:lnTo>
                    <a:lnTo>
                      <a:pt x="12495" y="1252"/>
                    </a:lnTo>
                    <a:lnTo>
                      <a:pt x="12533" y="1252"/>
                    </a:lnTo>
                    <a:lnTo>
                      <a:pt x="12590" y="1234"/>
                    </a:lnTo>
                    <a:lnTo>
                      <a:pt x="12628" y="1234"/>
                    </a:lnTo>
                    <a:lnTo>
                      <a:pt x="12666" y="1234"/>
                    </a:lnTo>
                    <a:lnTo>
                      <a:pt x="12723" y="1252"/>
                    </a:lnTo>
                    <a:lnTo>
                      <a:pt x="12759" y="1289"/>
                    </a:lnTo>
                    <a:lnTo>
                      <a:pt x="12759" y="1418"/>
                    </a:lnTo>
                    <a:lnTo>
                      <a:pt x="792" y="1418"/>
                    </a:lnTo>
                    <a:lnTo>
                      <a:pt x="925" y="1326"/>
                    </a:lnTo>
                    <a:lnTo>
                      <a:pt x="925" y="1142"/>
                    </a:lnTo>
                    <a:lnTo>
                      <a:pt x="547" y="1418"/>
                    </a:lnTo>
                    <a:lnTo>
                      <a:pt x="150" y="1418"/>
                    </a:lnTo>
                    <a:lnTo>
                      <a:pt x="131" y="1400"/>
                    </a:lnTo>
                    <a:lnTo>
                      <a:pt x="131" y="1381"/>
                    </a:lnTo>
                    <a:lnTo>
                      <a:pt x="113" y="1345"/>
                    </a:lnTo>
                    <a:lnTo>
                      <a:pt x="113" y="1326"/>
                    </a:lnTo>
                    <a:lnTo>
                      <a:pt x="94" y="1308"/>
                    </a:lnTo>
                    <a:lnTo>
                      <a:pt x="94" y="1289"/>
                    </a:lnTo>
                    <a:lnTo>
                      <a:pt x="75" y="1252"/>
                    </a:lnTo>
                    <a:lnTo>
                      <a:pt x="75" y="1234"/>
                    </a:lnTo>
                    <a:lnTo>
                      <a:pt x="75" y="1198"/>
                    </a:lnTo>
                    <a:lnTo>
                      <a:pt x="56" y="1179"/>
                    </a:lnTo>
                    <a:lnTo>
                      <a:pt x="56" y="1161"/>
                    </a:lnTo>
                    <a:lnTo>
                      <a:pt x="37" y="1124"/>
                    </a:lnTo>
                    <a:lnTo>
                      <a:pt x="37" y="1105"/>
                    </a:lnTo>
                    <a:lnTo>
                      <a:pt x="18" y="1087"/>
                    </a:lnTo>
                    <a:lnTo>
                      <a:pt x="18" y="1068"/>
                    </a:lnTo>
                    <a:lnTo>
                      <a:pt x="0" y="1031"/>
                    </a:lnTo>
                    <a:lnTo>
                      <a:pt x="0" y="1013"/>
                    </a:lnTo>
                    <a:lnTo>
                      <a:pt x="0" y="994"/>
                    </a:lnTo>
                    <a:lnTo>
                      <a:pt x="0" y="976"/>
                    </a:lnTo>
                    <a:lnTo>
                      <a:pt x="0" y="958"/>
                    </a:lnTo>
                    <a:lnTo>
                      <a:pt x="0" y="921"/>
                    </a:lnTo>
                    <a:lnTo>
                      <a:pt x="0" y="902"/>
                    </a:lnTo>
                    <a:lnTo>
                      <a:pt x="0" y="885"/>
                    </a:lnTo>
                    <a:lnTo>
                      <a:pt x="0" y="866"/>
                    </a:lnTo>
                    <a:lnTo>
                      <a:pt x="0" y="848"/>
                    </a:lnTo>
                    <a:lnTo>
                      <a:pt x="0" y="829"/>
                    </a:lnTo>
                    <a:lnTo>
                      <a:pt x="0" y="811"/>
                    </a:lnTo>
                    <a:lnTo>
                      <a:pt x="0" y="792"/>
                    </a:lnTo>
                    <a:lnTo>
                      <a:pt x="0" y="774"/>
                    </a:lnTo>
                    <a:lnTo>
                      <a:pt x="0" y="755"/>
                    </a:lnTo>
                    <a:lnTo>
                      <a:pt x="0" y="737"/>
                    </a:lnTo>
                    <a:lnTo>
                      <a:pt x="0" y="737"/>
                    </a:lnTo>
                    <a:lnTo>
                      <a:pt x="661" y="18"/>
                    </a:lnTo>
                    <a:lnTo>
                      <a:pt x="642" y="0"/>
                    </a:lnTo>
                    <a:lnTo>
                      <a:pt x="127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15" name="Freeform 45"/>
              <p:cNvSpPr/>
              <p:nvPr/>
            </p:nvSpPr>
            <p:spPr>
              <a:xfrm>
                <a:off x="3492360" y="3635280"/>
                <a:ext cx="3314880" cy="137880"/>
              </a:xfrm>
              <a:custGeom>
                <a:avLst/>
                <a:gdLst/>
                <a:ahLst/>
                <a:rect l="l" t="t" r="r" b="b"/>
                <a:pathLst>
                  <a:path w="12759" h="1419">
                    <a:moveTo>
                      <a:pt x="12533" y="0"/>
                    </a:moveTo>
                    <a:lnTo>
                      <a:pt x="12194" y="56"/>
                    </a:lnTo>
                    <a:lnTo>
                      <a:pt x="12175" y="74"/>
                    </a:lnTo>
                    <a:lnTo>
                      <a:pt x="12175" y="93"/>
                    </a:lnTo>
                    <a:lnTo>
                      <a:pt x="12156" y="93"/>
                    </a:lnTo>
                    <a:lnTo>
                      <a:pt x="12137" y="111"/>
                    </a:lnTo>
                    <a:lnTo>
                      <a:pt x="12137" y="148"/>
                    </a:lnTo>
                    <a:lnTo>
                      <a:pt x="12118" y="167"/>
                    </a:lnTo>
                    <a:lnTo>
                      <a:pt x="12118" y="184"/>
                    </a:lnTo>
                    <a:lnTo>
                      <a:pt x="12118" y="221"/>
                    </a:lnTo>
                    <a:lnTo>
                      <a:pt x="12099" y="258"/>
                    </a:lnTo>
                    <a:lnTo>
                      <a:pt x="12099" y="276"/>
                    </a:lnTo>
                    <a:lnTo>
                      <a:pt x="12099" y="313"/>
                    </a:lnTo>
                    <a:lnTo>
                      <a:pt x="12099" y="350"/>
                    </a:lnTo>
                    <a:lnTo>
                      <a:pt x="12099" y="387"/>
                    </a:lnTo>
                    <a:lnTo>
                      <a:pt x="12099" y="424"/>
                    </a:lnTo>
                    <a:lnTo>
                      <a:pt x="12099" y="443"/>
                    </a:lnTo>
                    <a:lnTo>
                      <a:pt x="12099" y="480"/>
                    </a:lnTo>
                    <a:lnTo>
                      <a:pt x="12118" y="516"/>
                    </a:lnTo>
                    <a:lnTo>
                      <a:pt x="12156" y="553"/>
                    </a:lnTo>
                    <a:lnTo>
                      <a:pt x="12194" y="571"/>
                    </a:lnTo>
                    <a:lnTo>
                      <a:pt x="12231" y="590"/>
                    </a:lnTo>
                    <a:lnTo>
                      <a:pt x="12269" y="590"/>
                    </a:lnTo>
                    <a:lnTo>
                      <a:pt x="12307" y="590"/>
                    </a:lnTo>
                    <a:lnTo>
                      <a:pt x="12364" y="571"/>
                    </a:lnTo>
                    <a:lnTo>
                      <a:pt x="12401" y="553"/>
                    </a:lnTo>
                    <a:lnTo>
                      <a:pt x="12439" y="553"/>
                    </a:lnTo>
                    <a:lnTo>
                      <a:pt x="12495" y="534"/>
                    </a:lnTo>
                    <a:lnTo>
                      <a:pt x="12533" y="534"/>
                    </a:lnTo>
                    <a:lnTo>
                      <a:pt x="12590" y="516"/>
                    </a:lnTo>
                    <a:lnTo>
                      <a:pt x="12628" y="516"/>
                    </a:lnTo>
                    <a:lnTo>
                      <a:pt x="12666" y="516"/>
                    </a:lnTo>
                    <a:lnTo>
                      <a:pt x="12723" y="534"/>
                    </a:lnTo>
                    <a:lnTo>
                      <a:pt x="12759" y="571"/>
                    </a:lnTo>
                    <a:lnTo>
                      <a:pt x="12741" y="1345"/>
                    </a:lnTo>
                    <a:lnTo>
                      <a:pt x="12723" y="1345"/>
                    </a:lnTo>
                    <a:lnTo>
                      <a:pt x="12723" y="1364"/>
                    </a:lnTo>
                    <a:lnTo>
                      <a:pt x="12704" y="1364"/>
                    </a:lnTo>
                    <a:lnTo>
                      <a:pt x="12685" y="1382"/>
                    </a:lnTo>
                    <a:lnTo>
                      <a:pt x="12685" y="1382"/>
                    </a:lnTo>
                    <a:lnTo>
                      <a:pt x="12666" y="1401"/>
                    </a:lnTo>
                    <a:lnTo>
                      <a:pt x="12666" y="1401"/>
                    </a:lnTo>
                    <a:lnTo>
                      <a:pt x="12647" y="1419"/>
                    </a:lnTo>
                    <a:lnTo>
                      <a:pt x="433" y="1419"/>
                    </a:lnTo>
                    <a:lnTo>
                      <a:pt x="340" y="1234"/>
                    </a:lnTo>
                    <a:lnTo>
                      <a:pt x="452" y="958"/>
                    </a:lnTo>
                    <a:lnTo>
                      <a:pt x="925" y="608"/>
                    </a:lnTo>
                    <a:lnTo>
                      <a:pt x="925" y="424"/>
                    </a:lnTo>
                    <a:lnTo>
                      <a:pt x="321" y="884"/>
                    </a:lnTo>
                    <a:lnTo>
                      <a:pt x="283" y="866"/>
                    </a:lnTo>
                    <a:lnTo>
                      <a:pt x="245" y="848"/>
                    </a:lnTo>
                    <a:lnTo>
                      <a:pt x="226" y="830"/>
                    </a:lnTo>
                    <a:lnTo>
                      <a:pt x="207" y="811"/>
                    </a:lnTo>
                    <a:lnTo>
                      <a:pt x="188" y="774"/>
                    </a:lnTo>
                    <a:lnTo>
                      <a:pt x="169" y="756"/>
                    </a:lnTo>
                    <a:lnTo>
                      <a:pt x="150" y="719"/>
                    </a:lnTo>
                    <a:lnTo>
                      <a:pt x="131" y="663"/>
                    </a:lnTo>
                    <a:lnTo>
                      <a:pt x="113" y="627"/>
                    </a:lnTo>
                    <a:lnTo>
                      <a:pt x="94" y="590"/>
                    </a:lnTo>
                    <a:lnTo>
                      <a:pt x="75" y="534"/>
                    </a:lnTo>
                    <a:lnTo>
                      <a:pt x="75" y="498"/>
                    </a:lnTo>
                    <a:lnTo>
                      <a:pt x="56" y="443"/>
                    </a:lnTo>
                    <a:lnTo>
                      <a:pt x="37" y="406"/>
                    </a:lnTo>
                    <a:lnTo>
                      <a:pt x="18" y="369"/>
                    </a:lnTo>
                    <a:lnTo>
                      <a:pt x="0" y="313"/>
                    </a:lnTo>
                    <a:lnTo>
                      <a:pt x="0" y="295"/>
                    </a:lnTo>
                    <a:lnTo>
                      <a:pt x="0" y="276"/>
                    </a:lnTo>
                    <a:lnTo>
                      <a:pt x="0" y="258"/>
                    </a:lnTo>
                    <a:lnTo>
                      <a:pt x="0" y="240"/>
                    </a:lnTo>
                    <a:lnTo>
                      <a:pt x="0" y="203"/>
                    </a:lnTo>
                    <a:lnTo>
                      <a:pt x="0" y="184"/>
                    </a:lnTo>
                    <a:lnTo>
                      <a:pt x="0" y="167"/>
                    </a:lnTo>
                    <a:lnTo>
                      <a:pt x="0" y="148"/>
                    </a:lnTo>
                    <a:lnTo>
                      <a:pt x="0" y="130"/>
                    </a:lnTo>
                    <a:lnTo>
                      <a:pt x="0" y="111"/>
                    </a:lnTo>
                    <a:lnTo>
                      <a:pt x="0" y="93"/>
                    </a:lnTo>
                    <a:lnTo>
                      <a:pt x="0" y="74"/>
                    </a:lnTo>
                    <a:lnTo>
                      <a:pt x="0" y="56"/>
                    </a:lnTo>
                    <a:lnTo>
                      <a:pt x="0" y="37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18" y="0"/>
                    </a:lnTo>
                    <a:lnTo>
                      <a:pt x="125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16" name="Freeform 46"/>
              <p:cNvSpPr/>
              <p:nvPr/>
            </p:nvSpPr>
            <p:spPr>
              <a:xfrm>
                <a:off x="3534480" y="3704040"/>
                <a:ext cx="3272760" cy="136440"/>
              </a:xfrm>
              <a:custGeom>
                <a:avLst/>
                <a:gdLst/>
                <a:ahLst/>
                <a:rect l="l" t="t" r="r" b="b"/>
                <a:pathLst>
                  <a:path w="12609" h="1419">
                    <a:moveTo>
                      <a:pt x="12609" y="0"/>
                    </a:moveTo>
                    <a:lnTo>
                      <a:pt x="12591" y="645"/>
                    </a:lnTo>
                    <a:lnTo>
                      <a:pt x="12554" y="664"/>
                    </a:lnTo>
                    <a:lnTo>
                      <a:pt x="12516" y="701"/>
                    </a:lnTo>
                    <a:lnTo>
                      <a:pt x="12478" y="738"/>
                    </a:lnTo>
                    <a:lnTo>
                      <a:pt x="12440" y="756"/>
                    </a:lnTo>
                    <a:lnTo>
                      <a:pt x="12402" y="774"/>
                    </a:lnTo>
                    <a:lnTo>
                      <a:pt x="12364" y="811"/>
                    </a:lnTo>
                    <a:lnTo>
                      <a:pt x="12327" y="830"/>
                    </a:lnTo>
                    <a:lnTo>
                      <a:pt x="12289" y="847"/>
                    </a:lnTo>
                    <a:lnTo>
                      <a:pt x="12232" y="866"/>
                    </a:lnTo>
                    <a:lnTo>
                      <a:pt x="12195" y="903"/>
                    </a:lnTo>
                    <a:lnTo>
                      <a:pt x="12157" y="921"/>
                    </a:lnTo>
                    <a:lnTo>
                      <a:pt x="12119" y="940"/>
                    </a:lnTo>
                    <a:lnTo>
                      <a:pt x="12063" y="958"/>
                    </a:lnTo>
                    <a:lnTo>
                      <a:pt x="12025" y="977"/>
                    </a:lnTo>
                    <a:lnTo>
                      <a:pt x="11987" y="995"/>
                    </a:lnTo>
                    <a:lnTo>
                      <a:pt x="11930" y="1014"/>
                    </a:lnTo>
                    <a:lnTo>
                      <a:pt x="11892" y="1014"/>
                    </a:lnTo>
                    <a:lnTo>
                      <a:pt x="11855" y="1032"/>
                    </a:lnTo>
                    <a:lnTo>
                      <a:pt x="11799" y="1051"/>
                    </a:lnTo>
                    <a:lnTo>
                      <a:pt x="11761" y="1069"/>
                    </a:lnTo>
                    <a:lnTo>
                      <a:pt x="11723" y="1088"/>
                    </a:lnTo>
                    <a:lnTo>
                      <a:pt x="11666" y="1106"/>
                    </a:lnTo>
                    <a:lnTo>
                      <a:pt x="11628" y="1125"/>
                    </a:lnTo>
                    <a:lnTo>
                      <a:pt x="11571" y="1125"/>
                    </a:lnTo>
                    <a:lnTo>
                      <a:pt x="11533" y="1143"/>
                    </a:lnTo>
                    <a:lnTo>
                      <a:pt x="11478" y="1161"/>
                    </a:lnTo>
                    <a:lnTo>
                      <a:pt x="11440" y="1180"/>
                    </a:lnTo>
                    <a:lnTo>
                      <a:pt x="11402" y="1197"/>
                    </a:lnTo>
                    <a:lnTo>
                      <a:pt x="11345" y="1216"/>
                    </a:lnTo>
                    <a:lnTo>
                      <a:pt x="11307" y="1234"/>
                    </a:lnTo>
                    <a:lnTo>
                      <a:pt x="11269" y="1253"/>
                    </a:lnTo>
                    <a:lnTo>
                      <a:pt x="11213" y="1271"/>
                    </a:lnTo>
                    <a:lnTo>
                      <a:pt x="11213" y="1419"/>
                    </a:lnTo>
                    <a:lnTo>
                      <a:pt x="2908" y="1419"/>
                    </a:lnTo>
                    <a:lnTo>
                      <a:pt x="3455" y="995"/>
                    </a:lnTo>
                    <a:lnTo>
                      <a:pt x="3455" y="995"/>
                    </a:lnTo>
                    <a:lnTo>
                      <a:pt x="3455" y="995"/>
                    </a:lnTo>
                    <a:lnTo>
                      <a:pt x="3455" y="977"/>
                    </a:lnTo>
                    <a:lnTo>
                      <a:pt x="3455" y="977"/>
                    </a:lnTo>
                    <a:lnTo>
                      <a:pt x="3455" y="958"/>
                    </a:lnTo>
                    <a:lnTo>
                      <a:pt x="3455" y="940"/>
                    </a:lnTo>
                    <a:lnTo>
                      <a:pt x="3455" y="921"/>
                    </a:lnTo>
                    <a:lnTo>
                      <a:pt x="3455" y="921"/>
                    </a:lnTo>
                    <a:lnTo>
                      <a:pt x="2492" y="1419"/>
                    </a:lnTo>
                    <a:lnTo>
                      <a:pt x="566" y="1419"/>
                    </a:lnTo>
                    <a:lnTo>
                      <a:pt x="812" y="1143"/>
                    </a:lnTo>
                    <a:lnTo>
                      <a:pt x="812" y="1143"/>
                    </a:lnTo>
                    <a:lnTo>
                      <a:pt x="812" y="1125"/>
                    </a:lnTo>
                    <a:lnTo>
                      <a:pt x="812" y="1106"/>
                    </a:lnTo>
                    <a:lnTo>
                      <a:pt x="812" y="1106"/>
                    </a:lnTo>
                    <a:lnTo>
                      <a:pt x="812" y="1088"/>
                    </a:lnTo>
                    <a:lnTo>
                      <a:pt x="793" y="1088"/>
                    </a:lnTo>
                    <a:lnTo>
                      <a:pt x="793" y="1069"/>
                    </a:lnTo>
                    <a:lnTo>
                      <a:pt x="775" y="1069"/>
                    </a:lnTo>
                    <a:lnTo>
                      <a:pt x="585" y="1253"/>
                    </a:lnTo>
                    <a:lnTo>
                      <a:pt x="566" y="1253"/>
                    </a:lnTo>
                    <a:lnTo>
                      <a:pt x="566" y="1253"/>
                    </a:lnTo>
                    <a:lnTo>
                      <a:pt x="548" y="1253"/>
                    </a:lnTo>
                    <a:lnTo>
                      <a:pt x="548" y="1234"/>
                    </a:lnTo>
                    <a:lnTo>
                      <a:pt x="529" y="1234"/>
                    </a:lnTo>
                    <a:lnTo>
                      <a:pt x="529" y="1234"/>
                    </a:lnTo>
                    <a:lnTo>
                      <a:pt x="511" y="1234"/>
                    </a:lnTo>
                    <a:lnTo>
                      <a:pt x="511" y="1216"/>
                    </a:lnTo>
                    <a:lnTo>
                      <a:pt x="190" y="534"/>
                    </a:lnTo>
                    <a:lnTo>
                      <a:pt x="302" y="258"/>
                    </a:lnTo>
                    <a:lnTo>
                      <a:pt x="642" y="0"/>
                    </a:lnTo>
                    <a:lnTo>
                      <a:pt x="12609" y="0"/>
                    </a:lnTo>
                    <a:close/>
                    <a:moveTo>
                      <a:pt x="397" y="0"/>
                    </a:moveTo>
                    <a:lnTo>
                      <a:pt x="171" y="184"/>
                    </a:lnTo>
                    <a:lnTo>
                      <a:pt x="152" y="184"/>
                    </a:lnTo>
                    <a:lnTo>
                      <a:pt x="133" y="166"/>
                    </a:lnTo>
                    <a:lnTo>
                      <a:pt x="114" y="166"/>
                    </a:lnTo>
                    <a:lnTo>
                      <a:pt x="114" y="166"/>
                    </a:lnTo>
                    <a:lnTo>
                      <a:pt x="95" y="148"/>
                    </a:lnTo>
                    <a:lnTo>
                      <a:pt x="76" y="148"/>
                    </a:lnTo>
                    <a:lnTo>
                      <a:pt x="76" y="130"/>
                    </a:lnTo>
                    <a:lnTo>
                      <a:pt x="57" y="130"/>
                    </a:lnTo>
                    <a:lnTo>
                      <a:pt x="57" y="111"/>
                    </a:lnTo>
                    <a:lnTo>
                      <a:pt x="38" y="93"/>
                    </a:lnTo>
                    <a:lnTo>
                      <a:pt x="38" y="74"/>
                    </a:lnTo>
                    <a:lnTo>
                      <a:pt x="19" y="74"/>
                    </a:lnTo>
                    <a:lnTo>
                      <a:pt x="19" y="56"/>
                    </a:lnTo>
                    <a:lnTo>
                      <a:pt x="0" y="37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39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17" name="Freeform 47"/>
              <p:cNvSpPr/>
              <p:nvPr/>
            </p:nvSpPr>
            <p:spPr>
              <a:xfrm>
                <a:off x="3534480" y="3773520"/>
                <a:ext cx="3240720" cy="138240"/>
              </a:xfrm>
              <a:custGeom>
                <a:avLst/>
                <a:gdLst/>
                <a:ahLst/>
                <a:rect l="l" t="t" r="r" b="b"/>
                <a:pathLst>
                  <a:path w="12478" h="1419">
                    <a:moveTo>
                      <a:pt x="12478" y="0"/>
                    </a:moveTo>
                    <a:lnTo>
                      <a:pt x="12440" y="19"/>
                    </a:lnTo>
                    <a:lnTo>
                      <a:pt x="12402" y="37"/>
                    </a:lnTo>
                    <a:lnTo>
                      <a:pt x="12383" y="74"/>
                    </a:lnTo>
                    <a:lnTo>
                      <a:pt x="12345" y="92"/>
                    </a:lnTo>
                    <a:lnTo>
                      <a:pt x="12308" y="111"/>
                    </a:lnTo>
                    <a:lnTo>
                      <a:pt x="12270" y="128"/>
                    </a:lnTo>
                    <a:lnTo>
                      <a:pt x="12232" y="147"/>
                    </a:lnTo>
                    <a:lnTo>
                      <a:pt x="12195" y="165"/>
                    </a:lnTo>
                    <a:lnTo>
                      <a:pt x="12157" y="184"/>
                    </a:lnTo>
                    <a:lnTo>
                      <a:pt x="12119" y="202"/>
                    </a:lnTo>
                    <a:lnTo>
                      <a:pt x="12062" y="221"/>
                    </a:lnTo>
                    <a:lnTo>
                      <a:pt x="12025" y="239"/>
                    </a:lnTo>
                    <a:lnTo>
                      <a:pt x="11987" y="258"/>
                    </a:lnTo>
                    <a:lnTo>
                      <a:pt x="11949" y="276"/>
                    </a:lnTo>
                    <a:lnTo>
                      <a:pt x="11911" y="295"/>
                    </a:lnTo>
                    <a:lnTo>
                      <a:pt x="11873" y="313"/>
                    </a:lnTo>
                    <a:lnTo>
                      <a:pt x="11817" y="313"/>
                    </a:lnTo>
                    <a:lnTo>
                      <a:pt x="11780" y="332"/>
                    </a:lnTo>
                    <a:lnTo>
                      <a:pt x="11742" y="350"/>
                    </a:lnTo>
                    <a:lnTo>
                      <a:pt x="11704" y="369"/>
                    </a:lnTo>
                    <a:lnTo>
                      <a:pt x="11666" y="387"/>
                    </a:lnTo>
                    <a:lnTo>
                      <a:pt x="11609" y="387"/>
                    </a:lnTo>
                    <a:lnTo>
                      <a:pt x="11571" y="406"/>
                    </a:lnTo>
                    <a:lnTo>
                      <a:pt x="11533" y="424"/>
                    </a:lnTo>
                    <a:lnTo>
                      <a:pt x="11497" y="442"/>
                    </a:lnTo>
                    <a:lnTo>
                      <a:pt x="11440" y="461"/>
                    </a:lnTo>
                    <a:lnTo>
                      <a:pt x="11402" y="461"/>
                    </a:lnTo>
                    <a:lnTo>
                      <a:pt x="11364" y="478"/>
                    </a:lnTo>
                    <a:lnTo>
                      <a:pt x="11326" y="497"/>
                    </a:lnTo>
                    <a:lnTo>
                      <a:pt x="11288" y="515"/>
                    </a:lnTo>
                    <a:lnTo>
                      <a:pt x="11250" y="534"/>
                    </a:lnTo>
                    <a:lnTo>
                      <a:pt x="11194" y="552"/>
                    </a:lnTo>
                    <a:lnTo>
                      <a:pt x="11194" y="1363"/>
                    </a:lnTo>
                    <a:lnTo>
                      <a:pt x="11194" y="1363"/>
                    </a:lnTo>
                    <a:lnTo>
                      <a:pt x="11175" y="1382"/>
                    </a:lnTo>
                    <a:lnTo>
                      <a:pt x="11175" y="1382"/>
                    </a:lnTo>
                    <a:lnTo>
                      <a:pt x="11156" y="1382"/>
                    </a:lnTo>
                    <a:lnTo>
                      <a:pt x="11156" y="1400"/>
                    </a:lnTo>
                    <a:lnTo>
                      <a:pt x="11138" y="1400"/>
                    </a:lnTo>
                    <a:lnTo>
                      <a:pt x="11138" y="1400"/>
                    </a:lnTo>
                    <a:lnTo>
                      <a:pt x="11119" y="1419"/>
                    </a:lnTo>
                    <a:lnTo>
                      <a:pt x="7286" y="1419"/>
                    </a:lnTo>
                    <a:lnTo>
                      <a:pt x="7834" y="1050"/>
                    </a:lnTo>
                    <a:lnTo>
                      <a:pt x="7815" y="1032"/>
                    </a:lnTo>
                    <a:lnTo>
                      <a:pt x="7815" y="1013"/>
                    </a:lnTo>
                    <a:lnTo>
                      <a:pt x="7815" y="995"/>
                    </a:lnTo>
                    <a:lnTo>
                      <a:pt x="7815" y="995"/>
                    </a:lnTo>
                    <a:lnTo>
                      <a:pt x="7815" y="1013"/>
                    </a:lnTo>
                    <a:lnTo>
                      <a:pt x="7815" y="1013"/>
                    </a:lnTo>
                    <a:lnTo>
                      <a:pt x="7815" y="1032"/>
                    </a:lnTo>
                    <a:lnTo>
                      <a:pt x="7815" y="1050"/>
                    </a:lnTo>
                    <a:lnTo>
                      <a:pt x="7834" y="1050"/>
                    </a:lnTo>
                    <a:lnTo>
                      <a:pt x="7834" y="1069"/>
                    </a:lnTo>
                    <a:lnTo>
                      <a:pt x="7834" y="1069"/>
                    </a:lnTo>
                    <a:lnTo>
                      <a:pt x="7834" y="1069"/>
                    </a:lnTo>
                    <a:lnTo>
                      <a:pt x="7815" y="1069"/>
                    </a:lnTo>
                    <a:lnTo>
                      <a:pt x="7815" y="1050"/>
                    </a:lnTo>
                    <a:lnTo>
                      <a:pt x="7796" y="1032"/>
                    </a:lnTo>
                    <a:lnTo>
                      <a:pt x="7777" y="995"/>
                    </a:lnTo>
                    <a:lnTo>
                      <a:pt x="7758" y="1013"/>
                    </a:lnTo>
                    <a:lnTo>
                      <a:pt x="7721" y="1032"/>
                    </a:lnTo>
                    <a:lnTo>
                      <a:pt x="7702" y="1050"/>
                    </a:lnTo>
                    <a:lnTo>
                      <a:pt x="7683" y="1069"/>
                    </a:lnTo>
                    <a:lnTo>
                      <a:pt x="7645" y="1087"/>
                    </a:lnTo>
                    <a:lnTo>
                      <a:pt x="7626" y="1106"/>
                    </a:lnTo>
                    <a:lnTo>
                      <a:pt x="7589" y="1106"/>
                    </a:lnTo>
                    <a:lnTo>
                      <a:pt x="7570" y="1124"/>
                    </a:lnTo>
                    <a:lnTo>
                      <a:pt x="7551" y="1143"/>
                    </a:lnTo>
                    <a:lnTo>
                      <a:pt x="7513" y="1143"/>
                    </a:lnTo>
                    <a:lnTo>
                      <a:pt x="7494" y="1161"/>
                    </a:lnTo>
                    <a:lnTo>
                      <a:pt x="7457" y="1161"/>
                    </a:lnTo>
                    <a:lnTo>
                      <a:pt x="7438" y="1179"/>
                    </a:lnTo>
                    <a:lnTo>
                      <a:pt x="7400" y="1179"/>
                    </a:lnTo>
                    <a:lnTo>
                      <a:pt x="7381" y="1197"/>
                    </a:lnTo>
                    <a:lnTo>
                      <a:pt x="7343" y="1197"/>
                    </a:lnTo>
                    <a:lnTo>
                      <a:pt x="7324" y="1215"/>
                    </a:lnTo>
                    <a:lnTo>
                      <a:pt x="7286" y="1215"/>
                    </a:lnTo>
                    <a:lnTo>
                      <a:pt x="7267" y="1234"/>
                    </a:lnTo>
                    <a:lnTo>
                      <a:pt x="7230" y="1252"/>
                    </a:lnTo>
                    <a:lnTo>
                      <a:pt x="7212" y="1252"/>
                    </a:lnTo>
                    <a:lnTo>
                      <a:pt x="7193" y="1271"/>
                    </a:lnTo>
                    <a:lnTo>
                      <a:pt x="7155" y="1271"/>
                    </a:lnTo>
                    <a:lnTo>
                      <a:pt x="7136" y="1289"/>
                    </a:lnTo>
                    <a:lnTo>
                      <a:pt x="7098" y="1308"/>
                    </a:lnTo>
                    <a:lnTo>
                      <a:pt x="7079" y="1308"/>
                    </a:lnTo>
                    <a:lnTo>
                      <a:pt x="7041" y="1326"/>
                    </a:lnTo>
                    <a:lnTo>
                      <a:pt x="7022" y="1345"/>
                    </a:lnTo>
                    <a:lnTo>
                      <a:pt x="7003" y="1363"/>
                    </a:lnTo>
                    <a:lnTo>
                      <a:pt x="6965" y="1382"/>
                    </a:lnTo>
                    <a:lnTo>
                      <a:pt x="6946" y="1400"/>
                    </a:lnTo>
                    <a:lnTo>
                      <a:pt x="6909" y="1419"/>
                    </a:lnTo>
                    <a:lnTo>
                      <a:pt x="1963" y="1419"/>
                    </a:lnTo>
                    <a:lnTo>
                      <a:pt x="3436" y="276"/>
                    </a:lnTo>
                    <a:lnTo>
                      <a:pt x="3436" y="276"/>
                    </a:lnTo>
                    <a:lnTo>
                      <a:pt x="3436" y="276"/>
                    </a:lnTo>
                    <a:lnTo>
                      <a:pt x="3436" y="258"/>
                    </a:lnTo>
                    <a:lnTo>
                      <a:pt x="3436" y="258"/>
                    </a:lnTo>
                    <a:lnTo>
                      <a:pt x="3436" y="239"/>
                    </a:lnTo>
                    <a:lnTo>
                      <a:pt x="3436" y="221"/>
                    </a:lnTo>
                    <a:lnTo>
                      <a:pt x="3436" y="202"/>
                    </a:lnTo>
                    <a:lnTo>
                      <a:pt x="3436" y="202"/>
                    </a:lnTo>
                    <a:lnTo>
                      <a:pt x="1737" y="1106"/>
                    </a:lnTo>
                    <a:lnTo>
                      <a:pt x="1302" y="1419"/>
                    </a:lnTo>
                    <a:lnTo>
                      <a:pt x="19" y="1419"/>
                    </a:lnTo>
                    <a:lnTo>
                      <a:pt x="0" y="1363"/>
                    </a:lnTo>
                    <a:lnTo>
                      <a:pt x="793" y="424"/>
                    </a:lnTo>
                    <a:lnTo>
                      <a:pt x="793" y="424"/>
                    </a:lnTo>
                    <a:lnTo>
                      <a:pt x="793" y="406"/>
                    </a:lnTo>
                    <a:lnTo>
                      <a:pt x="793" y="387"/>
                    </a:lnTo>
                    <a:lnTo>
                      <a:pt x="793" y="387"/>
                    </a:lnTo>
                    <a:lnTo>
                      <a:pt x="793" y="369"/>
                    </a:lnTo>
                    <a:lnTo>
                      <a:pt x="774" y="369"/>
                    </a:lnTo>
                    <a:lnTo>
                      <a:pt x="774" y="350"/>
                    </a:lnTo>
                    <a:lnTo>
                      <a:pt x="756" y="350"/>
                    </a:lnTo>
                    <a:lnTo>
                      <a:pt x="566" y="534"/>
                    </a:lnTo>
                    <a:lnTo>
                      <a:pt x="547" y="534"/>
                    </a:lnTo>
                    <a:lnTo>
                      <a:pt x="547" y="534"/>
                    </a:lnTo>
                    <a:lnTo>
                      <a:pt x="529" y="534"/>
                    </a:lnTo>
                    <a:lnTo>
                      <a:pt x="529" y="515"/>
                    </a:lnTo>
                    <a:lnTo>
                      <a:pt x="510" y="515"/>
                    </a:lnTo>
                    <a:lnTo>
                      <a:pt x="510" y="515"/>
                    </a:lnTo>
                    <a:lnTo>
                      <a:pt x="492" y="515"/>
                    </a:lnTo>
                    <a:lnTo>
                      <a:pt x="492" y="497"/>
                    </a:lnTo>
                    <a:lnTo>
                      <a:pt x="264" y="0"/>
                    </a:lnTo>
                    <a:lnTo>
                      <a:pt x="1247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18" name="Freeform 48"/>
              <p:cNvSpPr/>
              <p:nvPr/>
            </p:nvSpPr>
            <p:spPr>
              <a:xfrm>
                <a:off x="3534480" y="3840840"/>
                <a:ext cx="3074760" cy="138240"/>
              </a:xfrm>
              <a:custGeom>
                <a:avLst/>
                <a:gdLst/>
                <a:ahLst/>
                <a:rect l="l" t="t" r="r" b="b"/>
                <a:pathLst>
                  <a:path w="11836" h="1419">
                    <a:moveTo>
                      <a:pt x="11194" y="0"/>
                    </a:moveTo>
                    <a:lnTo>
                      <a:pt x="11194" y="663"/>
                    </a:lnTo>
                    <a:lnTo>
                      <a:pt x="11175" y="682"/>
                    </a:lnTo>
                    <a:lnTo>
                      <a:pt x="11138" y="719"/>
                    </a:lnTo>
                    <a:lnTo>
                      <a:pt x="11100" y="737"/>
                    </a:lnTo>
                    <a:lnTo>
                      <a:pt x="11062" y="756"/>
                    </a:lnTo>
                    <a:lnTo>
                      <a:pt x="11024" y="793"/>
                    </a:lnTo>
                    <a:lnTo>
                      <a:pt x="10968" y="810"/>
                    </a:lnTo>
                    <a:lnTo>
                      <a:pt x="10930" y="829"/>
                    </a:lnTo>
                    <a:lnTo>
                      <a:pt x="10892" y="847"/>
                    </a:lnTo>
                    <a:lnTo>
                      <a:pt x="10854" y="866"/>
                    </a:lnTo>
                    <a:lnTo>
                      <a:pt x="10816" y="884"/>
                    </a:lnTo>
                    <a:lnTo>
                      <a:pt x="10760" y="921"/>
                    </a:lnTo>
                    <a:lnTo>
                      <a:pt x="10722" y="939"/>
                    </a:lnTo>
                    <a:lnTo>
                      <a:pt x="10666" y="958"/>
                    </a:lnTo>
                    <a:lnTo>
                      <a:pt x="10628" y="976"/>
                    </a:lnTo>
                    <a:lnTo>
                      <a:pt x="10590" y="995"/>
                    </a:lnTo>
                    <a:lnTo>
                      <a:pt x="10533" y="1013"/>
                    </a:lnTo>
                    <a:lnTo>
                      <a:pt x="10495" y="1032"/>
                    </a:lnTo>
                    <a:lnTo>
                      <a:pt x="10440" y="1050"/>
                    </a:lnTo>
                    <a:lnTo>
                      <a:pt x="10402" y="1069"/>
                    </a:lnTo>
                    <a:lnTo>
                      <a:pt x="10345" y="1087"/>
                    </a:lnTo>
                    <a:lnTo>
                      <a:pt x="10307" y="1106"/>
                    </a:lnTo>
                    <a:lnTo>
                      <a:pt x="10269" y="1106"/>
                    </a:lnTo>
                    <a:lnTo>
                      <a:pt x="10212" y="1124"/>
                    </a:lnTo>
                    <a:lnTo>
                      <a:pt x="10174" y="1143"/>
                    </a:lnTo>
                    <a:lnTo>
                      <a:pt x="10118" y="1160"/>
                    </a:lnTo>
                    <a:lnTo>
                      <a:pt x="10081" y="1179"/>
                    </a:lnTo>
                    <a:lnTo>
                      <a:pt x="10043" y="1197"/>
                    </a:lnTo>
                    <a:lnTo>
                      <a:pt x="9986" y="1216"/>
                    </a:lnTo>
                    <a:lnTo>
                      <a:pt x="9948" y="1234"/>
                    </a:lnTo>
                    <a:lnTo>
                      <a:pt x="9910" y="1253"/>
                    </a:lnTo>
                    <a:lnTo>
                      <a:pt x="9854" y="1271"/>
                    </a:lnTo>
                    <a:lnTo>
                      <a:pt x="9816" y="1289"/>
                    </a:lnTo>
                    <a:lnTo>
                      <a:pt x="9797" y="1308"/>
                    </a:lnTo>
                    <a:lnTo>
                      <a:pt x="9778" y="1308"/>
                    </a:lnTo>
                    <a:lnTo>
                      <a:pt x="9759" y="1308"/>
                    </a:lnTo>
                    <a:lnTo>
                      <a:pt x="9759" y="1326"/>
                    </a:lnTo>
                    <a:lnTo>
                      <a:pt x="9740" y="1326"/>
                    </a:lnTo>
                    <a:lnTo>
                      <a:pt x="9740" y="1326"/>
                    </a:lnTo>
                    <a:lnTo>
                      <a:pt x="9722" y="1345"/>
                    </a:lnTo>
                    <a:lnTo>
                      <a:pt x="9722" y="1345"/>
                    </a:lnTo>
                    <a:lnTo>
                      <a:pt x="9722" y="1345"/>
                    </a:lnTo>
                    <a:lnTo>
                      <a:pt x="9722" y="1345"/>
                    </a:lnTo>
                    <a:lnTo>
                      <a:pt x="9722" y="1363"/>
                    </a:lnTo>
                    <a:lnTo>
                      <a:pt x="9722" y="1363"/>
                    </a:lnTo>
                    <a:lnTo>
                      <a:pt x="9722" y="1382"/>
                    </a:lnTo>
                    <a:lnTo>
                      <a:pt x="9722" y="1382"/>
                    </a:lnTo>
                    <a:lnTo>
                      <a:pt x="9722" y="1400"/>
                    </a:lnTo>
                    <a:lnTo>
                      <a:pt x="9722" y="1400"/>
                    </a:lnTo>
                    <a:lnTo>
                      <a:pt x="11817" y="1013"/>
                    </a:lnTo>
                    <a:lnTo>
                      <a:pt x="11836" y="1419"/>
                    </a:lnTo>
                    <a:lnTo>
                      <a:pt x="6267" y="1419"/>
                    </a:lnTo>
                    <a:lnTo>
                      <a:pt x="7834" y="350"/>
                    </a:lnTo>
                    <a:lnTo>
                      <a:pt x="7815" y="332"/>
                    </a:lnTo>
                    <a:lnTo>
                      <a:pt x="7815" y="313"/>
                    </a:lnTo>
                    <a:lnTo>
                      <a:pt x="7815" y="295"/>
                    </a:lnTo>
                    <a:lnTo>
                      <a:pt x="7815" y="295"/>
                    </a:lnTo>
                    <a:lnTo>
                      <a:pt x="7815" y="313"/>
                    </a:lnTo>
                    <a:lnTo>
                      <a:pt x="7815" y="313"/>
                    </a:lnTo>
                    <a:lnTo>
                      <a:pt x="7815" y="332"/>
                    </a:lnTo>
                    <a:lnTo>
                      <a:pt x="7815" y="350"/>
                    </a:lnTo>
                    <a:lnTo>
                      <a:pt x="7834" y="350"/>
                    </a:lnTo>
                    <a:lnTo>
                      <a:pt x="7834" y="369"/>
                    </a:lnTo>
                    <a:lnTo>
                      <a:pt x="7834" y="369"/>
                    </a:lnTo>
                    <a:lnTo>
                      <a:pt x="7834" y="369"/>
                    </a:lnTo>
                    <a:lnTo>
                      <a:pt x="7815" y="369"/>
                    </a:lnTo>
                    <a:lnTo>
                      <a:pt x="7815" y="350"/>
                    </a:lnTo>
                    <a:lnTo>
                      <a:pt x="7796" y="332"/>
                    </a:lnTo>
                    <a:lnTo>
                      <a:pt x="7777" y="295"/>
                    </a:lnTo>
                    <a:lnTo>
                      <a:pt x="7758" y="313"/>
                    </a:lnTo>
                    <a:lnTo>
                      <a:pt x="7721" y="332"/>
                    </a:lnTo>
                    <a:lnTo>
                      <a:pt x="7702" y="350"/>
                    </a:lnTo>
                    <a:lnTo>
                      <a:pt x="7664" y="369"/>
                    </a:lnTo>
                    <a:lnTo>
                      <a:pt x="7645" y="387"/>
                    </a:lnTo>
                    <a:lnTo>
                      <a:pt x="7608" y="406"/>
                    </a:lnTo>
                    <a:lnTo>
                      <a:pt x="7589" y="406"/>
                    </a:lnTo>
                    <a:lnTo>
                      <a:pt x="7551" y="424"/>
                    </a:lnTo>
                    <a:lnTo>
                      <a:pt x="7532" y="443"/>
                    </a:lnTo>
                    <a:lnTo>
                      <a:pt x="7494" y="443"/>
                    </a:lnTo>
                    <a:lnTo>
                      <a:pt x="7476" y="461"/>
                    </a:lnTo>
                    <a:lnTo>
                      <a:pt x="7438" y="479"/>
                    </a:lnTo>
                    <a:lnTo>
                      <a:pt x="7419" y="479"/>
                    </a:lnTo>
                    <a:lnTo>
                      <a:pt x="7381" y="497"/>
                    </a:lnTo>
                    <a:lnTo>
                      <a:pt x="7362" y="497"/>
                    </a:lnTo>
                    <a:lnTo>
                      <a:pt x="7324" y="515"/>
                    </a:lnTo>
                    <a:lnTo>
                      <a:pt x="7305" y="515"/>
                    </a:lnTo>
                    <a:lnTo>
                      <a:pt x="7267" y="534"/>
                    </a:lnTo>
                    <a:lnTo>
                      <a:pt x="7249" y="534"/>
                    </a:lnTo>
                    <a:lnTo>
                      <a:pt x="7212" y="552"/>
                    </a:lnTo>
                    <a:lnTo>
                      <a:pt x="7193" y="571"/>
                    </a:lnTo>
                    <a:lnTo>
                      <a:pt x="7155" y="571"/>
                    </a:lnTo>
                    <a:lnTo>
                      <a:pt x="7136" y="589"/>
                    </a:lnTo>
                    <a:lnTo>
                      <a:pt x="7098" y="608"/>
                    </a:lnTo>
                    <a:lnTo>
                      <a:pt x="7079" y="608"/>
                    </a:lnTo>
                    <a:lnTo>
                      <a:pt x="7041" y="626"/>
                    </a:lnTo>
                    <a:lnTo>
                      <a:pt x="7022" y="645"/>
                    </a:lnTo>
                    <a:lnTo>
                      <a:pt x="6984" y="663"/>
                    </a:lnTo>
                    <a:lnTo>
                      <a:pt x="6965" y="682"/>
                    </a:lnTo>
                    <a:lnTo>
                      <a:pt x="6946" y="700"/>
                    </a:lnTo>
                    <a:lnTo>
                      <a:pt x="6909" y="719"/>
                    </a:lnTo>
                    <a:lnTo>
                      <a:pt x="6891" y="737"/>
                    </a:lnTo>
                    <a:lnTo>
                      <a:pt x="6853" y="756"/>
                    </a:lnTo>
                    <a:lnTo>
                      <a:pt x="6834" y="774"/>
                    </a:lnTo>
                    <a:lnTo>
                      <a:pt x="6796" y="793"/>
                    </a:lnTo>
                    <a:lnTo>
                      <a:pt x="6777" y="793"/>
                    </a:lnTo>
                    <a:lnTo>
                      <a:pt x="6739" y="810"/>
                    </a:lnTo>
                    <a:lnTo>
                      <a:pt x="6720" y="829"/>
                    </a:lnTo>
                    <a:lnTo>
                      <a:pt x="6682" y="847"/>
                    </a:lnTo>
                    <a:lnTo>
                      <a:pt x="6664" y="847"/>
                    </a:lnTo>
                    <a:lnTo>
                      <a:pt x="6645" y="866"/>
                    </a:lnTo>
                    <a:lnTo>
                      <a:pt x="6607" y="866"/>
                    </a:lnTo>
                    <a:lnTo>
                      <a:pt x="6588" y="884"/>
                    </a:lnTo>
                    <a:lnTo>
                      <a:pt x="6551" y="902"/>
                    </a:lnTo>
                    <a:lnTo>
                      <a:pt x="6532" y="902"/>
                    </a:lnTo>
                    <a:lnTo>
                      <a:pt x="6494" y="921"/>
                    </a:lnTo>
                    <a:lnTo>
                      <a:pt x="6475" y="921"/>
                    </a:lnTo>
                    <a:lnTo>
                      <a:pt x="6437" y="939"/>
                    </a:lnTo>
                    <a:lnTo>
                      <a:pt x="6418" y="939"/>
                    </a:lnTo>
                    <a:lnTo>
                      <a:pt x="6381" y="958"/>
                    </a:lnTo>
                    <a:lnTo>
                      <a:pt x="6362" y="958"/>
                    </a:lnTo>
                    <a:lnTo>
                      <a:pt x="6324" y="976"/>
                    </a:lnTo>
                    <a:lnTo>
                      <a:pt x="6286" y="995"/>
                    </a:lnTo>
                    <a:lnTo>
                      <a:pt x="6267" y="995"/>
                    </a:lnTo>
                    <a:lnTo>
                      <a:pt x="6229" y="1013"/>
                    </a:lnTo>
                    <a:lnTo>
                      <a:pt x="6210" y="1013"/>
                    </a:lnTo>
                    <a:lnTo>
                      <a:pt x="6173" y="1032"/>
                    </a:lnTo>
                    <a:lnTo>
                      <a:pt x="6154" y="1050"/>
                    </a:lnTo>
                    <a:lnTo>
                      <a:pt x="6117" y="1050"/>
                    </a:lnTo>
                    <a:lnTo>
                      <a:pt x="6098" y="1069"/>
                    </a:lnTo>
                    <a:lnTo>
                      <a:pt x="6060" y="1087"/>
                    </a:lnTo>
                    <a:lnTo>
                      <a:pt x="6041" y="1106"/>
                    </a:lnTo>
                    <a:lnTo>
                      <a:pt x="6003" y="1106"/>
                    </a:lnTo>
                    <a:lnTo>
                      <a:pt x="5984" y="1124"/>
                    </a:lnTo>
                    <a:lnTo>
                      <a:pt x="5946" y="1143"/>
                    </a:lnTo>
                    <a:lnTo>
                      <a:pt x="5908" y="1160"/>
                    </a:lnTo>
                    <a:lnTo>
                      <a:pt x="5889" y="1179"/>
                    </a:lnTo>
                    <a:lnTo>
                      <a:pt x="5852" y="1197"/>
                    </a:lnTo>
                    <a:lnTo>
                      <a:pt x="5815" y="1216"/>
                    </a:lnTo>
                    <a:lnTo>
                      <a:pt x="5777" y="1234"/>
                    </a:lnTo>
                    <a:lnTo>
                      <a:pt x="5758" y="1253"/>
                    </a:lnTo>
                    <a:lnTo>
                      <a:pt x="5720" y="1271"/>
                    </a:lnTo>
                    <a:lnTo>
                      <a:pt x="5682" y="1289"/>
                    </a:lnTo>
                    <a:lnTo>
                      <a:pt x="5663" y="1308"/>
                    </a:lnTo>
                    <a:lnTo>
                      <a:pt x="5625" y="1326"/>
                    </a:lnTo>
                    <a:lnTo>
                      <a:pt x="5588" y="1345"/>
                    </a:lnTo>
                    <a:lnTo>
                      <a:pt x="5550" y="1363"/>
                    </a:lnTo>
                    <a:lnTo>
                      <a:pt x="5512" y="1382"/>
                    </a:lnTo>
                    <a:lnTo>
                      <a:pt x="5493" y="1400"/>
                    </a:lnTo>
                    <a:lnTo>
                      <a:pt x="5456" y="1419"/>
                    </a:lnTo>
                    <a:lnTo>
                      <a:pt x="1397" y="1419"/>
                    </a:lnTo>
                    <a:lnTo>
                      <a:pt x="1321" y="1197"/>
                    </a:lnTo>
                    <a:lnTo>
                      <a:pt x="2889" y="0"/>
                    </a:lnTo>
                    <a:lnTo>
                      <a:pt x="11194" y="0"/>
                    </a:lnTo>
                    <a:close/>
                    <a:moveTo>
                      <a:pt x="2473" y="0"/>
                    </a:moveTo>
                    <a:lnTo>
                      <a:pt x="1737" y="406"/>
                    </a:lnTo>
                    <a:lnTo>
                      <a:pt x="416" y="1382"/>
                    </a:lnTo>
                    <a:lnTo>
                      <a:pt x="245" y="1289"/>
                    </a:lnTo>
                    <a:lnTo>
                      <a:pt x="0" y="663"/>
                    </a:lnTo>
                    <a:lnTo>
                      <a:pt x="547" y="0"/>
                    </a:lnTo>
                    <a:lnTo>
                      <a:pt x="247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19" name="Freeform 49"/>
              <p:cNvSpPr/>
              <p:nvPr/>
            </p:nvSpPr>
            <p:spPr>
              <a:xfrm>
                <a:off x="3539160" y="3912120"/>
                <a:ext cx="3158280" cy="136440"/>
              </a:xfrm>
              <a:custGeom>
                <a:avLst/>
                <a:gdLst/>
                <a:ahLst/>
                <a:rect l="l" t="t" r="r" b="b"/>
                <a:pathLst>
                  <a:path w="12157" h="1418">
                    <a:moveTo>
                      <a:pt x="11100" y="0"/>
                    </a:moveTo>
                    <a:lnTo>
                      <a:pt x="11062" y="18"/>
                    </a:lnTo>
                    <a:lnTo>
                      <a:pt x="11043" y="37"/>
                    </a:lnTo>
                    <a:lnTo>
                      <a:pt x="11005" y="74"/>
                    </a:lnTo>
                    <a:lnTo>
                      <a:pt x="10967" y="91"/>
                    </a:lnTo>
                    <a:lnTo>
                      <a:pt x="10930" y="110"/>
                    </a:lnTo>
                    <a:lnTo>
                      <a:pt x="10892" y="128"/>
                    </a:lnTo>
                    <a:lnTo>
                      <a:pt x="10835" y="147"/>
                    </a:lnTo>
                    <a:lnTo>
                      <a:pt x="10797" y="165"/>
                    </a:lnTo>
                    <a:lnTo>
                      <a:pt x="10760" y="183"/>
                    </a:lnTo>
                    <a:lnTo>
                      <a:pt x="10722" y="202"/>
                    </a:lnTo>
                    <a:lnTo>
                      <a:pt x="10685" y="220"/>
                    </a:lnTo>
                    <a:lnTo>
                      <a:pt x="10647" y="239"/>
                    </a:lnTo>
                    <a:lnTo>
                      <a:pt x="10590" y="257"/>
                    </a:lnTo>
                    <a:lnTo>
                      <a:pt x="10552" y="276"/>
                    </a:lnTo>
                    <a:lnTo>
                      <a:pt x="10514" y="294"/>
                    </a:lnTo>
                    <a:lnTo>
                      <a:pt x="10476" y="313"/>
                    </a:lnTo>
                    <a:lnTo>
                      <a:pt x="10421" y="331"/>
                    </a:lnTo>
                    <a:lnTo>
                      <a:pt x="10383" y="350"/>
                    </a:lnTo>
                    <a:lnTo>
                      <a:pt x="10345" y="350"/>
                    </a:lnTo>
                    <a:lnTo>
                      <a:pt x="10307" y="368"/>
                    </a:lnTo>
                    <a:lnTo>
                      <a:pt x="10250" y="387"/>
                    </a:lnTo>
                    <a:lnTo>
                      <a:pt x="10212" y="405"/>
                    </a:lnTo>
                    <a:lnTo>
                      <a:pt x="10174" y="424"/>
                    </a:lnTo>
                    <a:lnTo>
                      <a:pt x="10118" y="441"/>
                    </a:lnTo>
                    <a:lnTo>
                      <a:pt x="10080" y="460"/>
                    </a:lnTo>
                    <a:lnTo>
                      <a:pt x="10043" y="478"/>
                    </a:lnTo>
                    <a:lnTo>
                      <a:pt x="10005" y="497"/>
                    </a:lnTo>
                    <a:lnTo>
                      <a:pt x="9967" y="515"/>
                    </a:lnTo>
                    <a:lnTo>
                      <a:pt x="9910" y="515"/>
                    </a:lnTo>
                    <a:lnTo>
                      <a:pt x="9873" y="534"/>
                    </a:lnTo>
                    <a:lnTo>
                      <a:pt x="9835" y="552"/>
                    </a:lnTo>
                    <a:lnTo>
                      <a:pt x="9797" y="570"/>
                    </a:lnTo>
                    <a:lnTo>
                      <a:pt x="9778" y="589"/>
                    </a:lnTo>
                    <a:lnTo>
                      <a:pt x="9759" y="589"/>
                    </a:lnTo>
                    <a:lnTo>
                      <a:pt x="9740" y="589"/>
                    </a:lnTo>
                    <a:lnTo>
                      <a:pt x="9740" y="607"/>
                    </a:lnTo>
                    <a:lnTo>
                      <a:pt x="9721" y="607"/>
                    </a:lnTo>
                    <a:lnTo>
                      <a:pt x="9721" y="607"/>
                    </a:lnTo>
                    <a:lnTo>
                      <a:pt x="9703" y="626"/>
                    </a:lnTo>
                    <a:lnTo>
                      <a:pt x="9703" y="626"/>
                    </a:lnTo>
                    <a:lnTo>
                      <a:pt x="9703" y="626"/>
                    </a:lnTo>
                    <a:lnTo>
                      <a:pt x="9703" y="626"/>
                    </a:lnTo>
                    <a:lnTo>
                      <a:pt x="9703" y="644"/>
                    </a:lnTo>
                    <a:lnTo>
                      <a:pt x="9703" y="644"/>
                    </a:lnTo>
                    <a:lnTo>
                      <a:pt x="9703" y="663"/>
                    </a:lnTo>
                    <a:lnTo>
                      <a:pt x="9703" y="663"/>
                    </a:lnTo>
                    <a:lnTo>
                      <a:pt x="9703" y="681"/>
                    </a:lnTo>
                    <a:lnTo>
                      <a:pt x="9703" y="681"/>
                    </a:lnTo>
                    <a:lnTo>
                      <a:pt x="11798" y="294"/>
                    </a:lnTo>
                    <a:lnTo>
                      <a:pt x="11836" y="1068"/>
                    </a:lnTo>
                    <a:lnTo>
                      <a:pt x="11854" y="1087"/>
                    </a:lnTo>
                    <a:lnTo>
                      <a:pt x="11854" y="1124"/>
                    </a:lnTo>
                    <a:lnTo>
                      <a:pt x="11873" y="1141"/>
                    </a:lnTo>
                    <a:lnTo>
                      <a:pt x="11892" y="1141"/>
                    </a:lnTo>
                    <a:lnTo>
                      <a:pt x="11892" y="1160"/>
                    </a:lnTo>
                    <a:lnTo>
                      <a:pt x="11911" y="1160"/>
                    </a:lnTo>
                    <a:lnTo>
                      <a:pt x="11930" y="1141"/>
                    </a:lnTo>
                    <a:lnTo>
                      <a:pt x="11949" y="1141"/>
                    </a:lnTo>
                    <a:lnTo>
                      <a:pt x="11987" y="1141"/>
                    </a:lnTo>
                    <a:lnTo>
                      <a:pt x="12006" y="1124"/>
                    </a:lnTo>
                    <a:lnTo>
                      <a:pt x="12025" y="1124"/>
                    </a:lnTo>
                    <a:lnTo>
                      <a:pt x="12043" y="1105"/>
                    </a:lnTo>
                    <a:lnTo>
                      <a:pt x="12062" y="1105"/>
                    </a:lnTo>
                    <a:lnTo>
                      <a:pt x="12081" y="1105"/>
                    </a:lnTo>
                    <a:lnTo>
                      <a:pt x="12100" y="1105"/>
                    </a:lnTo>
                    <a:lnTo>
                      <a:pt x="12119" y="1124"/>
                    </a:lnTo>
                    <a:lnTo>
                      <a:pt x="12157" y="1418"/>
                    </a:lnTo>
                    <a:lnTo>
                      <a:pt x="5191" y="1418"/>
                    </a:lnTo>
                    <a:lnTo>
                      <a:pt x="6173" y="755"/>
                    </a:lnTo>
                    <a:lnTo>
                      <a:pt x="7267" y="0"/>
                    </a:lnTo>
                    <a:lnTo>
                      <a:pt x="11100" y="0"/>
                    </a:lnTo>
                    <a:close/>
                    <a:moveTo>
                      <a:pt x="6890" y="0"/>
                    </a:moveTo>
                    <a:lnTo>
                      <a:pt x="6890" y="0"/>
                    </a:lnTo>
                    <a:lnTo>
                      <a:pt x="6890" y="0"/>
                    </a:lnTo>
                    <a:lnTo>
                      <a:pt x="6890" y="0"/>
                    </a:lnTo>
                    <a:lnTo>
                      <a:pt x="6890" y="18"/>
                    </a:lnTo>
                    <a:lnTo>
                      <a:pt x="6872" y="18"/>
                    </a:lnTo>
                    <a:lnTo>
                      <a:pt x="6872" y="18"/>
                    </a:lnTo>
                    <a:lnTo>
                      <a:pt x="6872" y="18"/>
                    </a:lnTo>
                    <a:lnTo>
                      <a:pt x="6872" y="18"/>
                    </a:lnTo>
                    <a:lnTo>
                      <a:pt x="6834" y="37"/>
                    </a:lnTo>
                    <a:lnTo>
                      <a:pt x="6815" y="55"/>
                    </a:lnTo>
                    <a:lnTo>
                      <a:pt x="6777" y="74"/>
                    </a:lnTo>
                    <a:lnTo>
                      <a:pt x="6758" y="74"/>
                    </a:lnTo>
                    <a:lnTo>
                      <a:pt x="6720" y="91"/>
                    </a:lnTo>
                    <a:lnTo>
                      <a:pt x="6701" y="110"/>
                    </a:lnTo>
                    <a:lnTo>
                      <a:pt x="6663" y="128"/>
                    </a:lnTo>
                    <a:lnTo>
                      <a:pt x="6645" y="128"/>
                    </a:lnTo>
                    <a:lnTo>
                      <a:pt x="6626" y="147"/>
                    </a:lnTo>
                    <a:lnTo>
                      <a:pt x="6588" y="147"/>
                    </a:lnTo>
                    <a:lnTo>
                      <a:pt x="6569" y="165"/>
                    </a:lnTo>
                    <a:lnTo>
                      <a:pt x="6532" y="183"/>
                    </a:lnTo>
                    <a:lnTo>
                      <a:pt x="6513" y="183"/>
                    </a:lnTo>
                    <a:lnTo>
                      <a:pt x="6475" y="202"/>
                    </a:lnTo>
                    <a:lnTo>
                      <a:pt x="6456" y="202"/>
                    </a:lnTo>
                    <a:lnTo>
                      <a:pt x="6418" y="220"/>
                    </a:lnTo>
                    <a:lnTo>
                      <a:pt x="6399" y="220"/>
                    </a:lnTo>
                    <a:lnTo>
                      <a:pt x="6362" y="239"/>
                    </a:lnTo>
                    <a:lnTo>
                      <a:pt x="6343" y="239"/>
                    </a:lnTo>
                    <a:lnTo>
                      <a:pt x="6305" y="257"/>
                    </a:lnTo>
                    <a:lnTo>
                      <a:pt x="6267" y="276"/>
                    </a:lnTo>
                    <a:lnTo>
                      <a:pt x="6248" y="276"/>
                    </a:lnTo>
                    <a:lnTo>
                      <a:pt x="6210" y="294"/>
                    </a:lnTo>
                    <a:lnTo>
                      <a:pt x="6191" y="294"/>
                    </a:lnTo>
                    <a:lnTo>
                      <a:pt x="6154" y="313"/>
                    </a:lnTo>
                    <a:lnTo>
                      <a:pt x="6135" y="331"/>
                    </a:lnTo>
                    <a:lnTo>
                      <a:pt x="6098" y="331"/>
                    </a:lnTo>
                    <a:lnTo>
                      <a:pt x="6079" y="350"/>
                    </a:lnTo>
                    <a:lnTo>
                      <a:pt x="6041" y="368"/>
                    </a:lnTo>
                    <a:lnTo>
                      <a:pt x="6022" y="387"/>
                    </a:lnTo>
                    <a:lnTo>
                      <a:pt x="5984" y="387"/>
                    </a:lnTo>
                    <a:lnTo>
                      <a:pt x="5965" y="405"/>
                    </a:lnTo>
                    <a:lnTo>
                      <a:pt x="5908" y="441"/>
                    </a:lnTo>
                    <a:lnTo>
                      <a:pt x="5851" y="478"/>
                    </a:lnTo>
                    <a:lnTo>
                      <a:pt x="5796" y="497"/>
                    </a:lnTo>
                    <a:lnTo>
                      <a:pt x="5739" y="534"/>
                    </a:lnTo>
                    <a:lnTo>
                      <a:pt x="5682" y="570"/>
                    </a:lnTo>
                    <a:lnTo>
                      <a:pt x="5644" y="589"/>
                    </a:lnTo>
                    <a:lnTo>
                      <a:pt x="5587" y="626"/>
                    </a:lnTo>
                    <a:lnTo>
                      <a:pt x="5531" y="663"/>
                    </a:lnTo>
                    <a:lnTo>
                      <a:pt x="5474" y="681"/>
                    </a:lnTo>
                    <a:lnTo>
                      <a:pt x="5418" y="718"/>
                    </a:lnTo>
                    <a:lnTo>
                      <a:pt x="5361" y="755"/>
                    </a:lnTo>
                    <a:lnTo>
                      <a:pt x="5305" y="774"/>
                    </a:lnTo>
                    <a:lnTo>
                      <a:pt x="5248" y="810"/>
                    </a:lnTo>
                    <a:lnTo>
                      <a:pt x="5191" y="847"/>
                    </a:lnTo>
                    <a:lnTo>
                      <a:pt x="5134" y="865"/>
                    </a:lnTo>
                    <a:lnTo>
                      <a:pt x="5078" y="902"/>
                    </a:lnTo>
                    <a:lnTo>
                      <a:pt x="5022" y="939"/>
                    </a:lnTo>
                    <a:lnTo>
                      <a:pt x="4965" y="976"/>
                    </a:lnTo>
                    <a:lnTo>
                      <a:pt x="4927" y="994"/>
                    </a:lnTo>
                    <a:lnTo>
                      <a:pt x="4870" y="1031"/>
                    </a:lnTo>
                    <a:lnTo>
                      <a:pt x="4813" y="1068"/>
                    </a:lnTo>
                    <a:lnTo>
                      <a:pt x="4758" y="1087"/>
                    </a:lnTo>
                    <a:lnTo>
                      <a:pt x="4701" y="1124"/>
                    </a:lnTo>
                    <a:lnTo>
                      <a:pt x="4644" y="1160"/>
                    </a:lnTo>
                    <a:lnTo>
                      <a:pt x="4587" y="1197"/>
                    </a:lnTo>
                    <a:lnTo>
                      <a:pt x="4530" y="1215"/>
                    </a:lnTo>
                    <a:lnTo>
                      <a:pt x="4493" y="1252"/>
                    </a:lnTo>
                    <a:lnTo>
                      <a:pt x="4436" y="1289"/>
                    </a:lnTo>
                    <a:lnTo>
                      <a:pt x="4380" y="1326"/>
                    </a:lnTo>
                    <a:lnTo>
                      <a:pt x="4323" y="1345"/>
                    </a:lnTo>
                    <a:lnTo>
                      <a:pt x="4266" y="1381"/>
                    </a:lnTo>
                    <a:lnTo>
                      <a:pt x="4229" y="1418"/>
                    </a:lnTo>
                    <a:lnTo>
                      <a:pt x="3115" y="1418"/>
                    </a:lnTo>
                    <a:lnTo>
                      <a:pt x="3096" y="1363"/>
                    </a:lnTo>
                    <a:lnTo>
                      <a:pt x="3020" y="1418"/>
                    </a:lnTo>
                    <a:lnTo>
                      <a:pt x="1416" y="1418"/>
                    </a:lnTo>
                    <a:lnTo>
                      <a:pt x="1435" y="1400"/>
                    </a:lnTo>
                    <a:lnTo>
                      <a:pt x="1454" y="1400"/>
                    </a:lnTo>
                    <a:lnTo>
                      <a:pt x="1473" y="1381"/>
                    </a:lnTo>
                    <a:lnTo>
                      <a:pt x="1492" y="1363"/>
                    </a:lnTo>
                    <a:lnTo>
                      <a:pt x="1492" y="1363"/>
                    </a:lnTo>
                    <a:lnTo>
                      <a:pt x="1511" y="1345"/>
                    </a:lnTo>
                    <a:lnTo>
                      <a:pt x="1530" y="1326"/>
                    </a:lnTo>
                    <a:lnTo>
                      <a:pt x="1549" y="1308"/>
                    </a:lnTo>
                    <a:lnTo>
                      <a:pt x="1302" y="478"/>
                    </a:lnTo>
                    <a:lnTo>
                      <a:pt x="1944" y="0"/>
                    </a:lnTo>
                    <a:lnTo>
                      <a:pt x="6890" y="0"/>
                    </a:lnTo>
                    <a:close/>
                    <a:moveTo>
                      <a:pt x="1283" y="0"/>
                    </a:moveTo>
                    <a:lnTo>
                      <a:pt x="397" y="663"/>
                    </a:lnTo>
                    <a:lnTo>
                      <a:pt x="226" y="570"/>
                    </a:lnTo>
                    <a:lnTo>
                      <a:pt x="0" y="0"/>
                    </a:lnTo>
                    <a:lnTo>
                      <a:pt x="128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20" name="Freeform 50"/>
              <p:cNvSpPr/>
              <p:nvPr/>
            </p:nvSpPr>
            <p:spPr>
              <a:xfrm>
                <a:off x="3856320" y="3979440"/>
                <a:ext cx="2847240" cy="136080"/>
              </a:xfrm>
              <a:custGeom>
                <a:avLst/>
                <a:gdLst/>
                <a:ahLst/>
                <a:rect l="l" t="t" r="r" b="b"/>
                <a:pathLst>
                  <a:path w="10967" h="1419">
                    <a:moveTo>
                      <a:pt x="10608" y="0"/>
                    </a:moveTo>
                    <a:lnTo>
                      <a:pt x="10627" y="368"/>
                    </a:lnTo>
                    <a:lnTo>
                      <a:pt x="10645" y="387"/>
                    </a:lnTo>
                    <a:lnTo>
                      <a:pt x="10645" y="424"/>
                    </a:lnTo>
                    <a:lnTo>
                      <a:pt x="10664" y="441"/>
                    </a:lnTo>
                    <a:lnTo>
                      <a:pt x="10683" y="441"/>
                    </a:lnTo>
                    <a:lnTo>
                      <a:pt x="10683" y="460"/>
                    </a:lnTo>
                    <a:lnTo>
                      <a:pt x="10702" y="460"/>
                    </a:lnTo>
                    <a:lnTo>
                      <a:pt x="10721" y="441"/>
                    </a:lnTo>
                    <a:lnTo>
                      <a:pt x="10740" y="441"/>
                    </a:lnTo>
                    <a:lnTo>
                      <a:pt x="10778" y="441"/>
                    </a:lnTo>
                    <a:lnTo>
                      <a:pt x="10797" y="424"/>
                    </a:lnTo>
                    <a:lnTo>
                      <a:pt x="10816" y="424"/>
                    </a:lnTo>
                    <a:lnTo>
                      <a:pt x="10834" y="405"/>
                    </a:lnTo>
                    <a:lnTo>
                      <a:pt x="10853" y="405"/>
                    </a:lnTo>
                    <a:lnTo>
                      <a:pt x="10872" y="405"/>
                    </a:lnTo>
                    <a:lnTo>
                      <a:pt x="10891" y="405"/>
                    </a:lnTo>
                    <a:lnTo>
                      <a:pt x="10910" y="424"/>
                    </a:lnTo>
                    <a:lnTo>
                      <a:pt x="10967" y="1123"/>
                    </a:lnTo>
                    <a:lnTo>
                      <a:pt x="10608" y="1419"/>
                    </a:lnTo>
                    <a:lnTo>
                      <a:pt x="3359" y="1419"/>
                    </a:lnTo>
                    <a:lnTo>
                      <a:pt x="3359" y="1419"/>
                    </a:lnTo>
                    <a:lnTo>
                      <a:pt x="3359" y="1419"/>
                    </a:lnTo>
                    <a:lnTo>
                      <a:pt x="3359" y="1419"/>
                    </a:lnTo>
                    <a:lnTo>
                      <a:pt x="3359" y="1400"/>
                    </a:lnTo>
                    <a:lnTo>
                      <a:pt x="3359" y="1400"/>
                    </a:lnTo>
                    <a:lnTo>
                      <a:pt x="3359" y="1400"/>
                    </a:lnTo>
                    <a:lnTo>
                      <a:pt x="3359" y="1382"/>
                    </a:lnTo>
                    <a:lnTo>
                      <a:pt x="3359" y="1382"/>
                    </a:lnTo>
                    <a:lnTo>
                      <a:pt x="3246" y="1215"/>
                    </a:lnTo>
                    <a:lnTo>
                      <a:pt x="4964" y="55"/>
                    </a:lnTo>
                    <a:lnTo>
                      <a:pt x="5039" y="0"/>
                    </a:lnTo>
                    <a:lnTo>
                      <a:pt x="10608" y="0"/>
                    </a:lnTo>
                    <a:close/>
                    <a:moveTo>
                      <a:pt x="4228" y="0"/>
                    </a:moveTo>
                    <a:lnTo>
                      <a:pt x="4171" y="37"/>
                    </a:lnTo>
                    <a:lnTo>
                      <a:pt x="4133" y="55"/>
                    </a:lnTo>
                    <a:lnTo>
                      <a:pt x="4077" y="91"/>
                    </a:lnTo>
                    <a:lnTo>
                      <a:pt x="4039" y="110"/>
                    </a:lnTo>
                    <a:lnTo>
                      <a:pt x="3982" y="147"/>
                    </a:lnTo>
                    <a:lnTo>
                      <a:pt x="3944" y="165"/>
                    </a:lnTo>
                    <a:lnTo>
                      <a:pt x="3888" y="202"/>
                    </a:lnTo>
                    <a:lnTo>
                      <a:pt x="3850" y="221"/>
                    </a:lnTo>
                    <a:lnTo>
                      <a:pt x="3794" y="239"/>
                    </a:lnTo>
                    <a:lnTo>
                      <a:pt x="3756" y="276"/>
                    </a:lnTo>
                    <a:lnTo>
                      <a:pt x="3699" y="294"/>
                    </a:lnTo>
                    <a:lnTo>
                      <a:pt x="3661" y="331"/>
                    </a:lnTo>
                    <a:lnTo>
                      <a:pt x="3604" y="350"/>
                    </a:lnTo>
                    <a:lnTo>
                      <a:pt x="3566" y="387"/>
                    </a:lnTo>
                    <a:lnTo>
                      <a:pt x="3511" y="405"/>
                    </a:lnTo>
                    <a:lnTo>
                      <a:pt x="3473" y="441"/>
                    </a:lnTo>
                    <a:lnTo>
                      <a:pt x="3416" y="460"/>
                    </a:lnTo>
                    <a:lnTo>
                      <a:pt x="3378" y="497"/>
                    </a:lnTo>
                    <a:lnTo>
                      <a:pt x="3321" y="515"/>
                    </a:lnTo>
                    <a:lnTo>
                      <a:pt x="3284" y="552"/>
                    </a:lnTo>
                    <a:lnTo>
                      <a:pt x="3246" y="571"/>
                    </a:lnTo>
                    <a:lnTo>
                      <a:pt x="3190" y="608"/>
                    </a:lnTo>
                    <a:lnTo>
                      <a:pt x="3152" y="626"/>
                    </a:lnTo>
                    <a:lnTo>
                      <a:pt x="3095" y="663"/>
                    </a:lnTo>
                    <a:lnTo>
                      <a:pt x="3057" y="681"/>
                    </a:lnTo>
                    <a:lnTo>
                      <a:pt x="3020" y="718"/>
                    </a:lnTo>
                    <a:lnTo>
                      <a:pt x="2963" y="755"/>
                    </a:lnTo>
                    <a:lnTo>
                      <a:pt x="2925" y="773"/>
                    </a:lnTo>
                    <a:lnTo>
                      <a:pt x="2887" y="810"/>
                    </a:lnTo>
                    <a:lnTo>
                      <a:pt x="2831" y="828"/>
                    </a:lnTo>
                    <a:lnTo>
                      <a:pt x="2793" y="865"/>
                    </a:lnTo>
                    <a:lnTo>
                      <a:pt x="2756" y="884"/>
                    </a:lnTo>
                    <a:lnTo>
                      <a:pt x="2737" y="902"/>
                    </a:lnTo>
                    <a:lnTo>
                      <a:pt x="2718" y="921"/>
                    </a:lnTo>
                    <a:lnTo>
                      <a:pt x="2718" y="921"/>
                    </a:lnTo>
                    <a:lnTo>
                      <a:pt x="2699" y="939"/>
                    </a:lnTo>
                    <a:lnTo>
                      <a:pt x="2699" y="939"/>
                    </a:lnTo>
                    <a:lnTo>
                      <a:pt x="2680" y="958"/>
                    </a:lnTo>
                    <a:lnTo>
                      <a:pt x="2680" y="958"/>
                    </a:lnTo>
                    <a:lnTo>
                      <a:pt x="2661" y="976"/>
                    </a:lnTo>
                    <a:lnTo>
                      <a:pt x="2661" y="976"/>
                    </a:lnTo>
                    <a:lnTo>
                      <a:pt x="2642" y="995"/>
                    </a:lnTo>
                    <a:lnTo>
                      <a:pt x="2642" y="995"/>
                    </a:lnTo>
                    <a:lnTo>
                      <a:pt x="2623" y="995"/>
                    </a:lnTo>
                    <a:lnTo>
                      <a:pt x="2623" y="1013"/>
                    </a:lnTo>
                    <a:lnTo>
                      <a:pt x="2604" y="1013"/>
                    </a:lnTo>
                    <a:lnTo>
                      <a:pt x="2585" y="1032"/>
                    </a:lnTo>
                    <a:lnTo>
                      <a:pt x="2585" y="1032"/>
                    </a:lnTo>
                    <a:lnTo>
                      <a:pt x="2566" y="1032"/>
                    </a:lnTo>
                    <a:lnTo>
                      <a:pt x="2566" y="1032"/>
                    </a:lnTo>
                    <a:lnTo>
                      <a:pt x="2547" y="1032"/>
                    </a:lnTo>
                    <a:lnTo>
                      <a:pt x="2528" y="1032"/>
                    </a:lnTo>
                    <a:lnTo>
                      <a:pt x="2509" y="1032"/>
                    </a:lnTo>
                    <a:lnTo>
                      <a:pt x="2509" y="1013"/>
                    </a:lnTo>
                    <a:lnTo>
                      <a:pt x="2492" y="1013"/>
                    </a:lnTo>
                    <a:lnTo>
                      <a:pt x="2473" y="1013"/>
                    </a:lnTo>
                    <a:lnTo>
                      <a:pt x="2095" y="1234"/>
                    </a:lnTo>
                    <a:lnTo>
                      <a:pt x="1887" y="663"/>
                    </a:lnTo>
                    <a:lnTo>
                      <a:pt x="641" y="1419"/>
                    </a:lnTo>
                    <a:lnTo>
                      <a:pt x="150" y="1419"/>
                    </a:lnTo>
                    <a:lnTo>
                      <a:pt x="150" y="1400"/>
                    </a:lnTo>
                    <a:lnTo>
                      <a:pt x="131" y="1382"/>
                    </a:lnTo>
                    <a:lnTo>
                      <a:pt x="131" y="1363"/>
                    </a:lnTo>
                    <a:lnTo>
                      <a:pt x="131" y="1326"/>
                    </a:lnTo>
                    <a:lnTo>
                      <a:pt x="112" y="1308"/>
                    </a:lnTo>
                    <a:lnTo>
                      <a:pt x="112" y="1289"/>
                    </a:lnTo>
                    <a:lnTo>
                      <a:pt x="112" y="1252"/>
                    </a:lnTo>
                    <a:lnTo>
                      <a:pt x="112" y="1234"/>
                    </a:lnTo>
                    <a:lnTo>
                      <a:pt x="93" y="1215"/>
                    </a:lnTo>
                    <a:lnTo>
                      <a:pt x="93" y="1178"/>
                    </a:lnTo>
                    <a:lnTo>
                      <a:pt x="93" y="1160"/>
                    </a:lnTo>
                    <a:lnTo>
                      <a:pt x="93" y="1123"/>
                    </a:lnTo>
                    <a:lnTo>
                      <a:pt x="93" y="1105"/>
                    </a:lnTo>
                    <a:lnTo>
                      <a:pt x="93" y="1087"/>
                    </a:lnTo>
                    <a:lnTo>
                      <a:pt x="74" y="1050"/>
                    </a:lnTo>
                    <a:lnTo>
                      <a:pt x="74" y="1032"/>
                    </a:lnTo>
                    <a:lnTo>
                      <a:pt x="74" y="1013"/>
                    </a:lnTo>
                    <a:lnTo>
                      <a:pt x="74" y="1013"/>
                    </a:lnTo>
                    <a:lnTo>
                      <a:pt x="56" y="995"/>
                    </a:lnTo>
                    <a:lnTo>
                      <a:pt x="56" y="995"/>
                    </a:lnTo>
                    <a:lnTo>
                      <a:pt x="37" y="976"/>
                    </a:lnTo>
                    <a:lnTo>
                      <a:pt x="18" y="958"/>
                    </a:lnTo>
                    <a:lnTo>
                      <a:pt x="18" y="958"/>
                    </a:lnTo>
                    <a:lnTo>
                      <a:pt x="0" y="939"/>
                    </a:lnTo>
                    <a:lnTo>
                      <a:pt x="18" y="902"/>
                    </a:lnTo>
                    <a:lnTo>
                      <a:pt x="37" y="884"/>
                    </a:lnTo>
                    <a:lnTo>
                      <a:pt x="56" y="865"/>
                    </a:lnTo>
                    <a:lnTo>
                      <a:pt x="74" y="828"/>
                    </a:lnTo>
                    <a:lnTo>
                      <a:pt x="93" y="810"/>
                    </a:lnTo>
                    <a:lnTo>
                      <a:pt x="112" y="791"/>
                    </a:lnTo>
                    <a:lnTo>
                      <a:pt x="131" y="773"/>
                    </a:lnTo>
                    <a:lnTo>
                      <a:pt x="150" y="773"/>
                    </a:lnTo>
                    <a:lnTo>
                      <a:pt x="169" y="755"/>
                    </a:lnTo>
                    <a:lnTo>
                      <a:pt x="207" y="737"/>
                    </a:lnTo>
                    <a:lnTo>
                      <a:pt x="226" y="718"/>
                    </a:lnTo>
                    <a:lnTo>
                      <a:pt x="245" y="700"/>
                    </a:lnTo>
                    <a:lnTo>
                      <a:pt x="264" y="681"/>
                    </a:lnTo>
                    <a:lnTo>
                      <a:pt x="283" y="663"/>
                    </a:lnTo>
                    <a:lnTo>
                      <a:pt x="302" y="645"/>
                    </a:lnTo>
                    <a:lnTo>
                      <a:pt x="340" y="608"/>
                    </a:lnTo>
                    <a:lnTo>
                      <a:pt x="169" y="0"/>
                    </a:lnTo>
                    <a:lnTo>
                      <a:pt x="422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21" name="Freeform 51"/>
              <p:cNvSpPr/>
              <p:nvPr/>
            </p:nvSpPr>
            <p:spPr>
              <a:xfrm>
                <a:off x="3856320" y="4048560"/>
                <a:ext cx="3022920" cy="140400"/>
              </a:xfrm>
              <a:custGeom>
                <a:avLst/>
                <a:gdLst/>
                <a:ahLst/>
                <a:rect l="l" t="t" r="r" b="b"/>
                <a:pathLst>
                  <a:path w="11646" h="1419">
                    <a:moveTo>
                      <a:pt x="10948" y="0"/>
                    </a:moveTo>
                    <a:lnTo>
                      <a:pt x="10967" y="405"/>
                    </a:lnTo>
                    <a:lnTo>
                      <a:pt x="10419" y="866"/>
                    </a:lnTo>
                    <a:lnTo>
                      <a:pt x="10212" y="995"/>
                    </a:lnTo>
                    <a:lnTo>
                      <a:pt x="10212" y="995"/>
                    </a:lnTo>
                    <a:lnTo>
                      <a:pt x="10212" y="1014"/>
                    </a:lnTo>
                    <a:lnTo>
                      <a:pt x="10212" y="1014"/>
                    </a:lnTo>
                    <a:lnTo>
                      <a:pt x="10212" y="1032"/>
                    </a:lnTo>
                    <a:lnTo>
                      <a:pt x="10212" y="1032"/>
                    </a:lnTo>
                    <a:lnTo>
                      <a:pt x="10212" y="1032"/>
                    </a:lnTo>
                    <a:lnTo>
                      <a:pt x="10212" y="1051"/>
                    </a:lnTo>
                    <a:lnTo>
                      <a:pt x="10212" y="1069"/>
                    </a:lnTo>
                    <a:lnTo>
                      <a:pt x="10250" y="1069"/>
                    </a:lnTo>
                    <a:lnTo>
                      <a:pt x="10286" y="1069"/>
                    </a:lnTo>
                    <a:lnTo>
                      <a:pt x="10305" y="1069"/>
                    </a:lnTo>
                    <a:lnTo>
                      <a:pt x="10343" y="1069"/>
                    </a:lnTo>
                    <a:lnTo>
                      <a:pt x="10381" y="1051"/>
                    </a:lnTo>
                    <a:lnTo>
                      <a:pt x="10419" y="1051"/>
                    </a:lnTo>
                    <a:lnTo>
                      <a:pt x="10438" y="1051"/>
                    </a:lnTo>
                    <a:lnTo>
                      <a:pt x="10476" y="1032"/>
                    </a:lnTo>
                    <a:lnTo>
                      <a:pt x="10514" y="1032"/>
                    </a:lnTo>
                    <a:lnTo>
                      <a:pt x="10533" y="1014"/>
                    </a:lnTo>
                    <a:lnTo>
                      <a:pt x="10570" y="1014"/>
                    </a:lnTo>
                    <a:lnTo>
                      <a:pt x="10608" y="995"/>
                    </a:lnTo>
                    <a:lnTo>
                      <a:pt x="10645" y="995"/>
                    </a:lnTo>
                    <a:lnTo>
                      <a:pt x="10664" y="995"/>
                    </a:lnTo>
                    <a:lnTo>
                      <a:pt x="10702" y="977"/>
                    </a:lnTo>
                    <a:lnTo>
                      <a:pt x="10740" y="977"/>
                    </a:lnTo>
                    <a:lnTo>
                      <a:pt x="10759" y="958"/>
                    </a:lnTo>
                    <a:lnTo>
                      <a:pt x="10797" y="958"/>
                    </a:lnTo>
                    <a:lnTo>
                      <a:pt x="10834" y="940"/>
                    </a:lnTo>
                    <a:lnTo>
                      <a:pt x="10853" y="940"/>
                    </a:lnTo>
                    <a:lnTo>
                      <a:pt x="10891" y="940"/>
                    </a:lnTo>
                    <a:lnTo>
                      <a:pt x="10929" y="921"/>
                    </a:lnTo>
                    <a:lnTo>
                      <a:pt x="10967" y="921"/>
                    </a:lnTo>
                    <a:lnTo>
                      <a:pt x="10985" y="921"/>
                    </a:lnTo>
                    <a:lnTo>
                      <a:pt x="11023" y="921"/>
                    </a:lnTo>
                    <a:lnTo>
                      <a:pt x="11061" y="921"/>
                    </a:lnTo>
                    <a:lnTo>
                      <a:pt x="11080" y="921"/>
                    </a:lnTo>
                    <a:lnTo>
                      <a:pt x="11117" y="921"/>
                    </a:lnTo>
                    <a:lnTo>
                      <a:pt x="11155" y="940"/>
                    </a:lnTo>
                    <a:lnTo>
                      <a:pt x="11193" y="940"/>
                    </a:lnTo>
                    <a:lnTo>
                      <a:pt x="11212" y="940"/>
                    </a:lnTo>
                    <a:lnTo>
                      <a:pt x="11250" y="958"/>
                    </a:lnTo>
                    <a:lnTo>
                      <a:pt x="11288" y="958"/>
                    </a:lnTo>
                    <a:lnTo>
                      <a:pt x="11307" y="940"/>
                    </a:lnTo>
                    <a:lnTo>
                      <a:pt x="11326" y="940"/>
                    </a:lnTo>
                    <a:lnTo>
                      <a:pt x="11362" y="940"/>
                    </a:lnTo>
                    <a:lnTo>
                      <a:pt x="11381" y="940"/>
                    </a:lnTo>
                    <a:lnTo>
                      <a:pt x="11400" y="940"/>
                    </a:lnTo>
                    <a:lnTo>
                      <a:pt x="11438" y="940"/>
                    </a:lnTo>
                    <a:lnTo>
                      <a:pt x="11457" y="940"/>
                    </a:lnTo>
                    <a:lnTo>
                      <a:pt x="11476" y="940"/>
                    </a:lnTo>
                    <a:lnTo>
                      <a:pt x="11495" y="958"/>
                    </a:lnTo>
                    <a:lnTo>
                      <a:pt x="11533" y="958"/>
                    </a:lnTo>
                    <a:lnTo>
                      <a:pt x="11552" y="958"/>
                    </a:lnTo>
                    <a:lnTo>
                      <a:pt x="11571" y="958"/>
                    </a:lnTo>
                    <a:lnTo>
                      <a:pt x="11590" y="977"/>
                    </a:lnTo>
                    <a:lnTo>
                      <a:pt x="11628" y="977"/>
                    </a:lnTo>
                    <a:lnTo>
                      <a:pt x="11646" y="977"/>
                    </a:lnTo>
                    <a:lnTo>
                      <a:pt x="11646" y="995"/>
                    </a:lnTo>
                    <a:lnTo>
                      <a:pt x="11646" y="1014"/>
                    </a:lnTo>
                    <a:lnTo>
                      <a:pt x="11646" y="1032"/>
                    </a:lnTo>
                    <a:lnTo>
                      <a:pt x="11646" y="1051"/>
                    </a:lnTo>
                    <a:lnTo>
                      <a:pt x="11628" y="1069"/>
                    </a:lnTo>
                    <a:lnTo>
                      <a:pt x="11628" y="1069"/>
                    </a:lnTo>
                    <a:lnTo>
                      <a:pt x="11628" y="1088"/>
                    </a:lnTo>
                    <a:lnTo>
                      <a:pt x="11628" y="1105"/>
                    </a:lnTo>
                    <a:lnTo>
                      <a:pt x="11609" y="1105"/>
                    </a:lnTo>
                    <a:lnTo>
                      <a:pt x="11609" y="1123"/>
                    </a:lnTo>
                    <a:lnTo>
                      <a:pt x="11609" y="1142"/>
                    </a:lnTo>
                    <a:lnTo>
                      <a:pt x="11590" y="1142"/>
                    </a:lnTo>
                    <a:lnTo>
                      <a:pt x="11590" y="1160"/>
                    </a:lnTo>
                    <a:lnTo>
                      <a:pt x="11590" y="1179"/>
                    </a:lnTo>
                    <a:lnTo>
                      <a:pt x="11571" y="1197"/>
                    </a:lnTo>
                    <a:lnTo>
                      <a:pt x="11571" y="1197"/>
                    </a:lnTo>
                    <a:lnTo>
                      <a:pt x="11344" y="1419"/>
                    </a:lnTo>
                    <a:lnTo>
                      <a:pt x="5832" y="1419"/>
                    </a:lnTo>
                    <a:lnTo>
                      <a:pt x="5946" y="1345"/>
                    </a:lnTo>
                    <a:lnTo>
                      <a:pt x="5775" y="1419"/>
                    </a:lnTo>
                    <a:lnTo>
                      <a:pt x="3680" y="1419"/>
                    </a:lnTo>
                    <a:lnTo>
                      <a:pt x="4378" y="829"/>
                    </a:lnTo>
                    <a:lnTo>
                      <a:pt x="3585" y="1179"/>
                    </a:lnTo>
                    <a:lnTo>
                      <a:pt x="3566" y="1179"/>
                    </a:lnTo>
                    <a:lnTo>
                      <a:pt x="3530" y="1179"/>
                    </a:lnTo>
                    <a:lnTo>
                      <a:pt x="3511" y="1160"/>
                    </a:lnTo>
                    <a:lnTo>
                      <a:pt x="3492" y="1142"/>
                    </a:lnTo>
                    <a:lnTo>
                      <a:pt x="3473" y="1123"/>
                    </a:lnTo>
                    <a:lnTo>
                      <a:pt x="3473" y="1105"/>
                    </a:lnTo>
                    <a:lnTo>
                      <a:pt x="3454" y="1088"/>
                    </a:lnTo>
                    <a:lnTo>
                      <a:pt x="3435" y="1069"/>
                    </a:lnTo>
                    <a:lnTo>
                      <a:pt x="3435" y="1032"/>
                    </a:lnTo>
                    <a:lnTo>
                      <a:pt x="3416" y="1014"/>
                    </a:lnTo>
                    <a:lnTo>
                      <a:pt x="3416" y="977"/>
                    </a:lnTo>
                    <a:lnTo>
                      <a:pt x="3397" y="940"/>
                    </a:lnTo>
                    <a:lnTo>
                      <a:pt x="3378" y="921"/>
                    </a:lnTo>
                    <a:lnTo>
                      <a:pt x="3378" y="884"/>
                    </a:lnTo>
                    <a:lnTo>
                      <a:pt x="3359" y="866"/>
                    </a:lnTo>
                    <a:lnTo>
                      <a:pt x="3340" y="829"/>
                    </a:lnTo>
                    <a:lnTo>
                      <a:pt x="3340" y="810"/>
                    </a:lnTo>
                    <a:lnTo>
                      <a:pt x="3340" y="792"/>
                    </a:lnTo>
                    <a:lnTo>
                      <a:pt x="3340" y="773"/>
                    </a:lnTo>
                    <a:lnTo>
                      <a:pt x="3359" y="755"/>
                    </a:lnTo>
                    <a:lnTo>
                      <a:pt x="3359" y="737"/>
                    </a:lnTo>
                    <a:lnTo>
                      <a:pt x="3359" y="701"/>
                    </a:lnTo>
                    <a:lnTo>
                      <a:pt x="3359" y="682"/>
                    </a:lnTo>
                    <a:lnTo>
                      <a:pt x="3359" y="664"/>
                    </a:lnTo>
                    <a:lnTo>
                      <a:pt x="3246" y="497"/>
                    </a:lnTo>
                    <a:lnTo>
                      <a:pt x="3982" y="0"/>
                    </a:lnTo>
                    <a:lnTo>
                      <a:pt x="10948" y="0"/>
                    </a:lnTo>
                    <a:close/>
                    <a:moveTo>
                      <a:pt x="3020" y="0"/>
                    </a:moveTo>
                    <a:lnTo>
                      <a:pt x="3001" y="19"/>
                    </a:lnTo>
                    <a:lnTo>
                      <a:pt x="2982" y="19"/>
                    </a:lnTo>
                    <a:lnTo>
                      <a:pt x="2963" y="37"/>
                    </a:lnTo>
                    <a:lnTo>
                      <a:pt x="2944" y="37"/>
                    </a:lnTo>
                    <a:lnTo>
                      <a:pt x="2925" y="55"/>
                    </a:lnTo>
                    <a:lnTo>
                      <a:pt x="2906" y="55"/>
                    </a:lnTo>
                    <a:lnTo>
                      <a:pt x="2906" y="73"/>
                    </a:lnTo>
                    <a:lnTo>
                      <a:pt x="2887" y="92"/>
                    </a:lnTo>
                    <a:lnTo>
                      <a:pt x="2868" y="92"/>
                    </a:lnTo>
                    <a:lnTo>
                      <a:pt x="2849" y="110"/>
                    </a:lnTo>
                    <a:lnTo>
                      <a:pt x="2831" y="110"/>
                    </a:lnTo>
                    <a:lnTo>
                      <a:pt x="2812" y="129"/>
                    </a:lnTo>
                    <a:lnTo>
                      <a:pt x="2793" y="147"/>
                    </a:lnTo>
                    <a:lnTo>
                      <a:pt x="2774" y="147"/>
                    </a:lnTo>
                    <a:lnTo>
                      <a:pt x="2774" y="166"/>
                    </a:lnTo>
                    <a:lnTo>
                      <a:pt x="2756" y="166"/>
                    </a:lnTo>
                    <a:lnTo>
                      <a:pt x="2737" y="184"/>
                    </a:lnTo>
                    <a:lnTo>
                      <a:pt x="2718" y="203"/>
                    </a:lnTo>
                    <a:lnTo>
                      <a:pt x="2718" y="203"/>
                    </a:lnTo>
                    <a:lnTo>
                      <a:pt x="2699" y="221"/>
                    </a:lnTo>
                    <a:lnTo>
                      <a:pt x="2699" y="221"/>
                    </a:lnTo>
                    <a:lnTo>
                      <a:pt x="2680" y="240"/>
                    </a:lnTo>
                    <a:lnTo>
                      <a:pt x="2680" y="240"/>
                    </a:lnTo>
                    <a:lnTo>
                      <a:pt x="2661" y="258"/>
                    </a:lnTo>
                    <a:lnTo>
                      <a:pt x="2661" y="258"/>
                    </a:lnTo>
                    <a:lnTo>
                      <a:pt x="2642" y="277"/>
                    </a:lnTo>
                    <a:lnTo>
                      <a:pt x="2642" y="277"/>
                    </a:lnTo>
                    <a:lnTo>
                      <a:pt x="2623" y="277"/>
                    </a:lnTo>
                    <a:lnTo>
                      <a:pt x="2623" y="295"/>
                    </a:lnTo>
                    <a:lnTo>
                      <a:pt x="2604" y="295"/>
                    </a:lnTo>
                    <a:lnTo>
                      <a:pt x="2585" y="314"/>
                    </a:lnTo>
                    <a:lnTo>
                      <a:pt x="2585" y="314"/>
                    </a:lnTo>
                    <a:lnTo>
                      <a:pt x="2566" y="314"/>
                    </a:lnTo>
                    <a:lnTo>
                      <a:pt x="2566" y="314"/>
                    </a:lnTo>
                    <a:lnTo>
                      <a:pt x="2547" y="314"/>
                    </a:lnTo>
                    <a:lnTo>
                      <a:pt x="2528" y="314"/>
                    </a:lnTo>
                    <a:lnTo>
                      <a:pt x="2509" y="314"/>
                    </a:lnTo>
                    <a:lnTo>
                      <a:pt x="2509" y="295"/>
                    </a:lnTo>
                    <a:lnTo>
                      <a:pt x="2492" y="295"/>
                    </a:lnTo>
                    <a:lnTo>
                      <a:pt x="2473" y="295"/>
                    </a:lnTo>
                    <a:lnTo>
                      <a:pt x="2095" y="516"/>
                    </a:lnTo>
                    <a:lnTo>
                      <a:pt x="1906" y="0"/>
                    </a:lnTo>
                    <a:lnTo>
                      <a:pt x="3020" y="0"/>
                    </a:lnTo>
                    <a:close/>
                    <a:moveTo>
                      <a:pt x="1811" y="0"/>
                    </a:moveTo>
                    <a:lnTo>
                      <a:pt x="302" y="921"/>
                    </a:lnTo>
                    <a:lnTo>
                      <a:pt x="264" y="921"/>
                    </a:lnTo>
                    <a:lnTo>
                      <a:pt x="245" y="884"/>
                    </a:lnTo>
                    <a:lnTo>
                      <a:pt x="226" y="866"/>
                    </a:lnTo>
                    <a:lnTo>
                      <a:pt x="207" y="829"/>
                    </a:lnTo>
                    <a:lnTo>
                      <a:pt x="188" y="792"/>
                    </a:lnTo>
                    <a:lnTo>
                      <a:pt x="169" y="755"/>
                    </a:lnTo>
                    <a:lnTo>
                      <a:pt x="150" y="719"/>
                    </a:lnTo>
                    <a:lnTo>
                      <a:pt x="131" y="682"/>
                    </a:lnTo>
                    <a:lnTo>
                      <a:pt x="131" y="645"/>
                    </a:lnTo>
                    <a:lnTo>
                      <a:pt x="112" y="590"/>
                    </a:lnTo>
                    <a:lnTo>
                      <a:pt x="112" y="553"/>
                    </a:lnTo>
                    <a:lnTo>
                      <a:pt x="112" y="497"/>
                    </a:lnTo>
                    <a:lnTo>
                      <a:pt x="93" y="460"/>
                    </a:lnTo>
                    <a:lnTo>
                      <a:pt x="93" y="405"/>
                    </a:lnTo>
                    <a:lnTo>
                      <a:pt x="93" y="350"/>
                    </a:lnTo>
                    <a:lnTo>
                      <a:pt x="74" y="314"/>
                    </a:lnTo>
                    <a:lnTo>
                      <a:pt x="74" y="295"/>
                    </a:lnTo>
                    <a:lnTo>
                      <a:pt x="74" y="295"/>
                    </a:lnTo>
                    <a:lnTo>
                      <a:pt x="56" y="277"/>
                    </a:lnTo>
                    <a:lnTo>
                      <a:pt x="56" y="277"/>
                    </a:lnTo>
                    <a:lnTo>
                      <a:pt x="37" y="258"/>
                    </a:lnTo>
                    <a:lnTo>
                      <a:pt x="18" y="240"/>
                    </a:lnTo>
                    <a:lnTo>
                      <a:pt x="18" y="240"/>
                    </a:lnTo>
                    <a:lnTo>
                      <a:pt x="0" y="221"/>
                    </a:lnTo>
                    <a:lnTo>
                      <a:pt x="18" y="203"/>
                    </a:lnTo>
                    <a:lnTo>
                      <a:pt x="37" y="184"/>
                    </a:lnTo>
                    <a:lnTo>
                      <a:pt x="37" y="166"/>
                    </a:lnTo>
                    <a:lnTo>
                      <a:pt x="56" y="147"/>
                    </a:lnTo>
                    <a:lnTo>
                      <a:pt x="56" y="129"/>
                    </a:lnTo>
                    <a:lnTo>
                      <a:pt x="74" y="110"/>
                    </a:lnTo>
                    <a:lnTo>
                      <a:pt x="93" y="110"/>
                    </a:lnTo>
                    <a:lnTo>
                      <a:pt x="93" y="92"/>
                    </a:lnTo>
                    <a:lnTo>
                      <a:pt x="112" y="73"/>
                    </a:lnTo>
                    <a:lnTo>
                      <a:pt x="131" y="73"/>
                    </a:lnTo>
                    <a:lnTo>
                      <a:pt x="150" y="55"/>
                    </a:lnTo>
                    <a:lnTo>
                      <a:pt x="150" y="37"/>
                    </a:lnTo>
                    <a:lnTo>
                      <a:pt x="169" y="37"/>
                    </a:lnTo>
                    <a:lnTo>
                      <a:pt x="188" y="19"/>
                    </a:lnTo>
                    <a:lnTo>
                      <a:pt x="207" y="19"/>
                    </a:lnTo>
                    <a:lnTo>
                      <a:pt x="207" y="0"/>
                    </a:lnTo>
                    <a:lnTo>
                      <a:pt x="181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22" name="Freeform 52"/>
              <p:cNvSpPr/>
              <p:nvPr/>
            </p:nvSpPr>
            <p:spPr>
              <a:xfrm>
                <a:off x="3892680" y="4115520"/>
                <a:ext cx="2986200" cy="140760"/>
              </a:xfrm>
              <a:custGeom>
                <a:avLst/>
                <a:gdLst/>
                <a:ahLst/>
                <a:rect l="l" t="t" r="r" b="b"/>
                <a:pathLst>
                  <a:path w="11496" h="1436">
                    <a:moveTo>
                      <a:pt x="10458" y="0"/>
                    </a:moveTo>
                    <a:lnTo>
                      <a:pt x="10269" y="165"/>
                    </a:lnTo>
                    <a:lnTo>
                      <a:pt x="10062" y="294"/>
                    </a:lnTo>
                    <a:lnTo>
                      <a:pt x="10062" y="294"/>
                    </a:lnTo>
                    <a:lnTo>
                      <a:pt x="10062" y="313"/>
                    </a:lnTo>
                    <a:lnTo>
                      <a:pt x="10062" y="313"/>
                    </a:lnTo>
                    <a:lnTo>
                      <a:pt x="10062" y="331"/>
                    </a:lnTo>
                    <a:lnTo>
                      <a:pt x="10062" y="331"/>
                    </a:lnTo>
                    <a:lnTo>
                      <a:pt x="10062" y="331"/>
                    </a:lnTo>
                    <a:lnTo>
                      <a:pt x="10062" y="350"/>
                    </a:lnTo>
                    <a:lnTo>
                      <a:pt x="10062" y="368"/>
                    </a:lnTo>
                    <a:lnTo>
                      <a:pt x="10100" y="368"/>
                    </a:lnTo>
                    <a:lnTo>
                      <a:pt x="10136" y="368"/>
                    </a:lnTo>
                    <a:lnTo>
                      <a:pt x="10155" y="368"/>
                    </a:lnTo>
                    <a:lnTo>
                      <a:pt x="10193" y="368"/>
                    </a:lnTo>
                    <a:lnTo>
                      <a:pt x="10231" y="350"/>
                    </a:lnTo>
                    <a:lnTo>
                      <a:pt x="10269" y="350"/>
                    </a:lnTo>
                    <a:lnTo>
                      <a:pt x="10288" y="350"/>
                    </a:lnTo>
                    <a:lnTo>
                      <a:pt x="10326" y="331"/>
                    </a:lnTo>
                    <a:lnTo>
                      <a:pt x="10364" y="331"/>
                    </a:lnTo>
                    <a:lnTo>
                      <a:pt x="10383" y="313"/>
                    </a:lnTo>
                    <a:lnTo>
                      <a:pt x="10420" y="313"/>
                    </a:lnTo>
                    <a:lnTo>
                      <a:pt x="10458" y="294"/>
                    </a:lnTo>
                    <a:lnTo>
                      <a:pt x="10495" y="294"/>
                    </a:lnTo>
                    <a:lnTo>
                      <a:pt x="10514" y="294"/>
                    </a:lnTo>
                    <a:lnTo>
                      <a:pt x="10552" y="276"/>
                    </a:lnTo>
                    <a:lnTo>
                      <a:pt x="10590" y="276"/>
                    </a:lnTo>
                    <a:lnTo>
                      <a:pt x="10609" y="257"/>
                    </a:lnTo>
                    <a:lnTo>
                      <a:pt x="10647" y="257"/>
                    </a:lnTo>
                    <a:lnTo>
                      <a:pt x="10684" y="239"/>
                    </a:lnTo>
                    <a:lnTo>
                      <a:pt x="10703" y="239"/>
                    </a:lnTo>
                    <a:lnTo>
                      <a:pt x="10741" y="239"/>
                    </a:lnTo>
                    <a:lnTo>
                      <a:pt x="10779" y="220"/>
                    </a:lnTo>
                    <a:lnTo>
                      <a:pt x="10817" y="220"/>
                    </a:lnTo>
                    <a:lnTo>
                      <a:pt x="10835" y="220"/>
                    </a:lnTo>
                    <a:lnTo>
                      <a:pt x="10873" y="220"/>
                    </a:lnTo>
                    <a:lnTo>
                      <a:pt x="10911" y="220"/>
                    </a:lnTo>
                    <a:lnTo>
                      <a:pt x="10930" y="220"/>
                    </a:lnTo>
                    <a:lnTo>
                      <a:pt x="10967" y="220"/>
                    </a:lnTo>
                    <a:lnTo>
                      <a:pt x="11005" y="239"/>
                    </a:lnTo>
                    <a:lnTo>
                      <a:pt x="11043" y="239"/>
                    </a:lnTo>
                    <a:lnTo>
                      <a:pt x="11062" y="239"/>
                    </a:lnTo>
                    <a:lnTo>
                      <a:pt x="11100" y="257"/>
                    </a:lnTo>
                    <a:lnTo>
                      <a:pt x="11138" y="257"/>
                    </a:lnTo>
                    <a:lnTo>
                      <a:pt x="11157" y="239"/>
                    </a:lnTo>
                    <a:lnTo>
                      <a:pt x="11176" y="239"/>
                    </a:lnTo>
                    <a:lnTo>
                      <a:pt x="11212" y="239"/>
                    </a:lnTo>
                    <a:lnTo>
                      <a:pt x="11231" y="239"/>
                    </a:lnTo>
                    <a:lnTo>
                      <a:pt x="11250" y="239"/>
                    </a:lnTo>
                    <a:lnTo>
                      <a:pt x="11288" y="239"/>
                    </a:lnTo>
                    <a:lnTo>
                      <a:pt x="11307" y="239"/>
                    </a:lnTo>
                    <a:lnTo>
                      <a:pt x="11326" y="239"/>
                    </a:lnTo>
                    <a:lnTo>
                      <a:pt x="11345" y="257"/>
                    </a:lnTo>
                    <a:lnTo>
                      <a:pt x="11383" y="257"/>
                    </a:lnTo>
                    <a:lnTo>
                      <a:pt x="11402" y="257"/>
                    </a:lnTo>
                    <a:lnTo>
                      <a:pt x="11421" y="257"/>
                    </a:lnTo>
                    <a:lnTo>
                      <a:pt x="11440" y="276"/>
                    </a:lnTo>
                    <a:lnTo>
                      <a:pt x="11478" y="276"/>
                    </a:lnTo>
                    <a:lnTo>
                      <a:pt x="11496" y="276"/>
                    </a:lnTo>
                    <a:lnTo>
                      <a:pt x="11496" y="294"/>
                    </a:lnTo>
                    <a:lnTo>
                      <a:pt x="11496" y="313"/>
                    </a:lnTo>
                    <a:lnTo>
                      <a:pt x="11496" y="331"/>
                    </a:lnTo>
                    <a:lnTo>
                      <a:pt x="11496" y="350"/>
                    </a:lnTo>
                    <a:lnTo>
                      <a:pt x="11478" y="368"/>
                    </a:lnTo>
                    <a:lnTo>
                      <a:pt x="11478" y="368"/>
                    </a:lnTo>
                    <a:lnTo>
                      <a:pt x="11478" y="387"/>
                    </a:lnTo>
                    <a:lnTo>
                      <a:pt x="11478" y="404"/>
                    </a:lnTo>
                    <a:lnTo>
                      <a:pt x="11459" y="404"/>
                    </a:lnTo>
                    <a:lnTo>
                      <a:pt x="11459" y="422"/>
                    </a:lnTo>
                    <a:lnTo>
                      <a:pt x="11459" y="441"/>
                    </a:lnTo>
                    <a:lnTo>
                      <a:pt x="11440" y="441"/>
                    </a:lnTo>
                    <a:lnTo>
                      <a:pt x="11440" y="459"/>
                    </a:lnTo>
                    <a:lnTo>
                      <a:pt x="11440" y="478"/>
                    </a:lnTo>
                    <a:lnTo>
                      <a:pt x="11421" y="496"/>
                    </a:lnTo>
                    <a:lnTo>
                      <a:pt x="11421" y="496"/>
                    </a:lnTo>
                    <a:lnTo>
                      <a:pt x="10986" y="902"/>
                    </a:lnTo>
                    <a:lnTo>
                      <a:pt x="10986" y="920"/>
                    </a:lnTo>
                    <a:lnTo>
                      <a:pt x="10986" y="939"/>
                    </a:lnTo>
                    <a:lnTo>
                      <a:pt x="10986" y="939"/>
                    </a:lnTo>
                    <a:lnTo>
                      <a:pt x="10986" y="957"/>
                    </a:lnTo>
                    <a:lnTo>
                      <a:pt x="10986" y="976"/>
                    </a:lnTo>
                    <a:lnTo>
                      <a:pt x="11005" y="994"/>
                    </a:lnTo>
                    <a:lnTo>
                      <a:pt x="11005" y="1013"/>
                    </a:lnTo>
                    <a:lnTo>
                      <a:pt x="11005" y="1031"/>
                    </a:lnTo>
                    <a:lnTo>
                      <a:pt x="10967" y="1031"/>
                    </a:lnTo>
                    <a:lnTo>
                      <a:pt x="10930" y="1050"/>
                    </a:lnTo>
                    <a:lnTo>
                      <a:pt x="10873" y="1068"/>
                    </a:lnTo>
                    <a:lnTo>
                      <a:pt x="10835" y="1086"/>
                    </a:lnTo>
                    <a:lnTo>
                      <a:pt x="10798" y="1086"/>
                    </a:lnTo>
                    <a:lnTo>
                      <a:pt x="10741" y="1104"/>
                    </a:lnTo>
                    <a:lnTo>
                      <a:pt x="10703" y="1123"/>
                    </a:lnTo>
                    <a:lnTo>
                      <a:pt x="10666" y="1123"/>
                    </a:lnTo>
                    <a:lnTo>
                      <a:pt x="10609" y="1141"/>
                    </a:lnTo>
                    <a:lnTo>
                      <a:pt x="10571" y="1160"/>
                    </a:lnTo>
                    <a:lnTo>
                      <a:pt x="10533" y="1160"/>
                    </a:lnTo>
                    <a:lnTo>
                      <a:pt x="10477" y="1178"/>
                    </a:lnTo>
                    <a:lnTo>
                      <a:pt x="10439" y="1196"/>
                    </a:lnTo>
                    <a:lnTo>
                      <a:pt x="10402" y="1196"/>
                    </a:lnTo>
                    <a:lnTo>
                      <a:pt x="10345" y="1215"/>
                    </a:lnTo>
                    <a:lnTo>
                      <a:pt x="10307" y="1233"/>
                    </a:lnTo>
                    <a:lnTo>
                      <a:pt x="10269" y="1233"/>
                    </a:lnTo>
                    <a:lnTo>
                      <a:pt x="10212" y="1252"/>
                    </a:lnTo>
                    <a:lnTo>
                      <a:pt x="10174" y="1270"/>
                    </a:lnTo>
                    <a:lnTo>
                      <a:pt x="10136" y="1270"/>
                    </a:lnTo>
                    <a:lnTo>
                      <a:pt x="10081" y="1289"/>
                    </a:lnTo>
                    <a:lnTo>
                      <a:pt x="10043" y="1307"/>
                    </a:lnTo>
                    <a:lnTo>
                      <a:pt x="10005" y="1326"/>
                    </a:lnTo>
                    <a:lnTo>
                      <a:pt x="9948" y="1326"/>
                    </a:lnTo>
                    <a:lnTo>
                      <a:pt x="9910" y="1344"/>
                    </a:lnTo>
                    <a:lnTo>
                      <a:pt x="9872" y="1363"/>
                    </a:lnTo>
                    <a:lnTo>
                      <a:pt x="9816" y="1363"/>
                    </a:lnTo>
                    <a:lnTo>
                      <a:pt x="9778" y="1381"/>
                    </a:lnTo>
                    <a:lnTo>
                      <a:pt x="9741" y="1400"/>
                    </a:lnTo>
                    <a:lnTo>
                      <a:pt x="9684" y="1400"/>
                    </a:lnTo>
                    <a:lnTo>
                      <a:pt x="9646" y="1418"/>
                    </a:lnTo>
                    <a:lnTo>
                      <a:pt x="9608" y="1436"/>
                    </a:lnTo>
                    <a:lnTo>
                      <a:pt x="6626" y="1436"/>
                    </a:lnTo>
                    <a:lnTo>
                      <a:pt x="7268" y="994"/>
                    </a:lnTo>
                    <a:lnTo>
                      <a:pt x="7230" y="994"/>
                    </a:lnTo>
                    <a:lnTo>
                      <a:pt x="7211" y="994"/>
                    </a:lnTo>
                    <a:lnTo>
                      <a:pt x="7174" y="1013"/>
                    </a:lnTo>
                    <a:lnTo>
                      <a:pt x="7136" y="1013"/>
                    </a:lnTo>
                    <a:lnTo>
                      <a:pt x="7117" y="1013"/>
                    </a:lnTo>
                    <a:lnTo>
                      <a:pt x="7079" y="1031"/>
                    </a:lnTo>
                    <a:lnTo>
                      <a:pt x="7041" y="1031"/>
                    </a:lnTo>
                    <a:lnTo>
                      <a:pt x="7003" y="1050"/>
                    </a:lnTo>
                    <a:lnTo>
                      <a:pt x="6965" y="1050"/>
                    </a:lnTo>
                    <a:lnTo>
                      <a:pt x="6946" y="1068"/>
                    </a:lnTo>
                    <a:lnTo>
                      <a:pt x="6910" y="1068"/>
                    </a:lnTo>
                    <a:lnTo>
                      <a:pt x="6872" y="1086"/>
                    </a:lnTo>
                    <a:lnTo>
                      <a:pt x="6834" y="1104"/>
                    </a:lnTo>
                    <a:lnTo>
                      <a:pt x="6796" y="1123"/>
                    </a:lnTo>
                    <a:lnTo>
                      <a:pt x="6758" y="1123"/>
                    </a:lnTo>
                    <a:lnTo>
                      <a:pt x="6739" y="1141"/>
                    </a:lnTo>
                    <a:lnTo>
                      <a:pt x="6701" y="1160"/>
                    </a:lnTo>
                    <a:lnTo>
                      <a:pt x="6663" y="1178"/>
                    </a:lnTo>
                    <a:lnTo>
                      <a:pt x="6626" y="1196"/>
                    </a:lnTo>
                    <a:lnTo>
                      <a:pt x="6588" y="1215"/>
                    </a:lnTo>
                    <a:lnTo>
                      <a:pt x="6551" y="1233"/>
                    </a:lnTo>
                    <a:lnTo>
                      <a:pt x="6513" y="1252"/>
                    </a:lnTo>
                    <a:lnTo>
                      <a:pt x="6494" y="1270"/>
                    </a:lnTo>
                    <a:lnTo>
                      <a:pt x="6456" y="1289"/>
                    </a:lnTo>
                    <a:lnTo>
                      <a:pt x="6418" y="1307"/>
                    </a:lnTo>
                    <a:lnTo>
                      <a:pt x="6380" y="1326"/>
                    </a:lnTo>
                    <a:lnTo>
                      <a:pt x="6343" y="1344"/>
                    </a:lnTo>
                    <a:lnTo>
                      <a:pt x="6305" y="1363"/>
                    </a:lnTo>
                    <a:lnTo>
                      <a:pt x="6267" y="1381"/>
                    </a:lnTo>
                    <a:lnTo>
                      <a:pt x="6230" y="1400"/>
                    </a:lnTo>
                    <a:lnTo>
                      <a:pt x="6211" y="1418"/>
                    </a:lnTo>
                    <a:lnTo>
                      <a:pt x="6173" y="1436"/>
                    </a:lnTo>
                    <a:lnTo>
                      <a:pt x="4644" y="1436"/>
                    </a:lnTo>
                    <a:lnTo>
                      <a:pt x="5796" y="644"/>
                    </a:lnTo>
                    <a:lnTo>
                      <a:pt x="4078" y="1436"/>
                    </a:lnTo>
                    <a:lnTo>
                      <a:pt x="3247" y="1436"/>
                    </a:lnTo>
                    <a:lnTo>
                      <a:pt x="3152" y="1141"/>
                    </a:lnTo>
                    <a:lnTo>
                      <a:pt x="3134" y="1141"/>
                    </a:lnTo>
                    <a:lnTo>
                      <a:pt x="3134" y="1141"/>
                    </a:lnTo>
                    <a:lnTo>
                      <a:pt x="3134" y="1141"/>
                    </a:lnTo>
                    <a:lnTo>
                      <a:pt x="3134" y="1123"/>
                    </a:lnTo>
                    <a:lnTo>
                      <a:pt x="3134" y="1123"/>
                    </a:lnTo>
                    <a:lnTo>
                      <a:pt x="3115" y="1104"/>
                    </a:lnTo>
                    <a:lnTo>
                      <a:pt x="3115" y="1086"/>
                    </a:lnTo>
                    <a:lnTo>
                      <a:pt x="3115" y="1086"/>
                    </a:lnTo>
                    <a:lnTo>
                      <a:pt x="4228" y="128"/>
                    </a:lnTo>
                    <a:lnTo>
                      <a:pt x="3435" y="478"/>
                    </a:lnTo>
                    <a:lnTo>
                      <a:pt x="3416" y="478"/>
                    </a:lnTo>
                    <a:lnTo>
                      <a:pt x="3380" y="478"/>
                    </a:lnTo>
                    <a:lnTo>
                      <a:pt x="3361" y="459"/>
                    </a:lnTo>
                    <a:lnTo>
                      <a:pt x="3342" y="441"/>
                    </a:lnTo>
                    <a:lnTo>
                      <a:pt x="3323" y="422"/>
                    </a:lnTo>
                    <a:lnTo>
                      <a:pt x="3323" y="404"/>
                    </a:lnTo>
                    <a:lnTo>
                      <a:pt x="3304" y="387"/>
                    </a:lnTo>
                    <a:lnTo>
                      <a:pt x="3285" y="368"/>
                    </a:lnTo>
                    <a:lnTo>
                      <a:pt x="3285" y="331"/>
                    </a:lnTo>
                    <a:lnTo>
                      <a:pt x="3266" y="313"/>
                    </a:lnTo>
                    <a:lnTo>
                      <a:pt x="3266" y="276"/>
                    </a:lnTo>
                    <a:lnTo>
                      <a:pt x="3247" y="239"/>
                    </a:lnTo>
                    <a:lnTo>
                      <a:pt x="3228" y="220"/>
                    </a:lnTo>
                    <a:lnTo>
                      <a:pt x="3228" y="183"/>
                    </a:lnTo>
                    <a:lnTo>
                      <a:pt x="3209" y="165"/>
                    </a:lnTo>
                    <a:lnTo>
                      <a:pt x="3190" y="128"/>
                    </a:lnTo>
                    <a:lnTo>
                      <a:pt x="3190" y="109"/>
                    </a:lnTo>
                    <a:lnTo>
                      <a:pt x="3190" y="109"/>
                    </a:lnTo>
                    <a:lnTo>
                      <a:pt x="3190" y="91"/>
                    </a:lnTo>
                    <a:lnTo>
                      <a:pt x="3190" y="72"/>
                    </a:lnTo>
                    <a:lnTo>
                      <a:pt x="3209" y="54"/>
                    </a:lnTo>
                    <a:lnTo>
                      <a:pt x="3209" y="36"/>
                    </a:lnTo>
                    <a:lnTo>
                      <a:pt x="3209" y="18"/>
                    </a:lnTo>
                    <a:lnTo>
                      <a:pt x="3209" y="0"/>
                    </a:lnTo>
                    <a:lnTo>
                      <a:pt x="10458" y="0"/>
                    </a:lnTo>
                    <a:close/>
                    <a:moveTo>
                      <a:pt x="491" y="0"/>
                    </a:moveTo>
                    <a:lnTo>
                      <a:pt x="152" y="220"/>
                    </a:lnTo>
                    <a:lnTo>
                      <a:pt x="133" y="220"/>
                    </a:lnTo>
                    <a:lnTo>
                      <a:pt x="114" y="220"/>
                    </a:lnTo>
                    <a:lnTo>
                      <a:pt x="114" y="202"/>
                    </a:lnTo>
                    <a:lnTo>
                      <a:pt x="95" y="202"/>
                    </a:lnTo>
                    <a:lnTo>
                      <a:pt x="76" y="183"/>
                    </a:lnTo>
                    <a:lnTo>
                      <a:pt x="76" y="165"/>
                    </a:lnTo>
                    <a:lnTo>
                      <a:pt x="57" y="165"/>
                    </a:lnTo>
                    <a:lnTo>
                      <a:pt x="57" y="146"/>
                    </a:lnTo>
                    <a:lnTo>
                      <a:pt x="38" y="128"/>
                    </a:lnTo>
                    <a:lnTo>
                      <a:pt x="38" y="109"/>
                    </a:lnTo>
                    <a:lnTo>
                      <a:pt x="38" y="91"/>
                    </a:lnTo>
                    <a:lnTo>
                      <a:pt x="19" y="72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49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23" name="Freeform 53"/>
              <p:cNvSpPr/>
              <p:nvPr/>
            </p:nvSpPr>
            <p:spPr>
              <a:xfrm>
                <a:off x="4703400" y="4187160"/>
                <a:ext cx="2098080" cy="136080"/>
              </a:xfrm>
              <a:custGeom>
                <a:avLst/>
                <a:gdLst/>
                <a:ahLst/>
                <a:rect l="l" t="t" r="r" b="b"/>
                <a:pathLst>
                  <a:path w="8079" h="1418">
                    <a:moveTo>
                      <a:pt x="8079" y="0"/>
                    </a:moveTo>
                    <a:lnTo>
                      <a:pt x="7871" y="184"/>
                    </a:lnTo>
                    <a:lnTo>
                      <a:pt x="7871" y="202"/>
                    </a:lnTo>
                    <a:lnTo>
                      <a:pt x="7871" y="221"/>
                    </a:lnTo>
                    <a:lnTo>
                      <a:pt x="7871" y="221"/>
                    </a:lnTo>
                    <a:lnTo>
                      <a:pt x="7871" y="239"/>
                    </a:lnTo>
                    <a:lnTo>
                      <a:pt x="7871" y="258"/>
                    </a:lnTo>
                    <a:lnTo>
                      <a:pt x="7890" y="276"/>
                    </a:lnTo>
                    <a:lnTo>
                      <a:pt x="7890" y="295"/>
                    </a:lnTo>
                    <a:lnTo>
                      <a:pt x="7890" y="313"/>
                    </a:lnTo>
                    <a:lnTo>
                      <a:pt x="7796" y="332"/>
                    </a:lnTo>
                    <a:lnTo>
                      <a:pt x="7683" y="368"/>
                    </a:lnTo>
                    <a:lnTo>
                      <a:pt x="7569" y="405"/>
                    </a:lnTo>
                    <a:lnTo>
                      <a:pt x="7456" y="442"/>
                    </a:lnTo>
                    <a:lnTo>
                      <a:pt x="7362" y="460"/>
                    </a:lnTo>
                    <a:lnTo>
                      <a:pt x="7249" y="497"/>
                    </a:lnTo>
                    <a:lnTo>
                      <a:pt x="7135" y="534"/>
                    </a:lnTo>
                    <a:lnTo>
                      <a:pt x="7021" y="552"/>
                    </a:lnTo>
                    <a:lnTo>
                      <a:pt x="6928" y="589"/>
                    </a:lnTo>
                    <a:lnTo>
                      <a:pt x="6814" y="626"/>
                    </a:lnTo>
                    <a:lnTo>
                      <a:pt x="6701" y="645"/>
                    </a:lnTo>
                    <a:lnTo>
                      <a:pt x="6588" y="682"/>
                    </a:lnTo>
                    <a:lnTo>
                      <a:pt x="6493" y="718"/>
                    </a:lnTo>
                    <a:lnTo>
                      <a:pt x="6380" y="736"/>
                    </a:lnTo>
                    <a:lnTo>
                      <a:pt x="6267" y="773"/>
                    </a:lnTo>
                    <a:lnTo>
                      <a:pt x="6154" y="810"/>
                    </a:lnTo>
                    <a:lnTo>
                      <a:pt x="6059" y="847"/>
                    </a:lnTo>
                    <a:lnTo>
                      <a:pt x="5947" y="865"/>
                    </a:lnTo>
                    <a:lnTo>
                      <a:pt x="5833" y="902"/>
                    </a:lnTo>
                    <a:lnTo>
                      <a:pt x="5719" y="939"/>
                    </a:lnTo>
                    <a:lnTo>
                      <a:pt x="5625" y="976"/>
                    </a:lnTo>
                    <a:lnTo>
                      <a:pt x="5512" y="1013"/>
                    </a:lnTo>
                    <a:lnTo>
                      <a:pt x="5399" y="1050"/>
                    </a:lnTo>
                    <a:lnTo>
                      <a:pt x="5285" y="1086"/>
                    </a:lnTo>
                    <a:lnTo>
                      <a:pt x="5172" y="1123"/>
                    </a:lnTo>
                    <a:lnTo>
                      <a:pt x="5078" y="1160"/>
                    </a:lnTo>
                    <a:lnTo>
                      <a:pt x="4964" y="1197"/>
                    </a:lnTo>
                    <a:lnTo>
                      <a:pt x="4852" y="1253"/>
                    </a:lnTo>
                    <a:lnTo>
                      <a:pt x="4738" y="1289"/>
                    </a:lnTo>
                    <a:lnTo>
                      <a:pt x="4643" y="1326"/>
                    </a:lnTo>
                    <a:lnTo>
                      <a:pt x="4531" y="1382"/>
                    </a:lnTo>
                    <a:lnTo>
                      <a:pt x="4417" y="1418"/>
                    </a:lnTo>
                    <a:lnTo>
                      <a:pt x="2567" y="1418"/>
                    </a:lnTo>
                    <a:lnTo>
                      <a:pt x="2567" y="1418"/>
                    </a:lnTo>
                    <a:lnTo>
                      <a:pt x="2567" y="1418"/>
                    </a:lnTo>
                    <a:lnTo>
                      <a:pt x="2548" y="1399"/>
                    </a:lnTo>
                    <a:lnTo>
                      <a:pt x="2548" y="1399"/>
                    </a:lnTo>
                    <a:lnTo>
                      <a:pt x="2548" y="1399"/>
                    </a:lnTo>
                    <a:lnTo>
                      <a:pt x="2548" y="1399"/>
                    </a:lnTo>
                    <a:lnTo>
                      <a:pt x="2548" y="1382"/>
                    </a:lnTo>
                    <a:lnTo>
                      <a:pt x="2529" y="1382"/>
                    </a:lnTo>
                    <a:lnTo>
                      <a:pt x="4153" y="276"/>
                    </a:lnTo>
                    <a:lnTo>
                      <a:pt x="4115" y="276"/>
                    </a:lnTo>
                    <a:lnTo>
                      <a:pt x="4059" y="295"/>
                    </a:lnTo>
                    <a:lnTo>
                      <a:pt x="4021" y="295"/>
                    </a:lnTo>
                    <a:lnTo>
                      <a:pt x="3964" y="295"/>
                    </a:lnTo>
                    <a:lnTo>
                      <a:pt x="3926" y="313"/>
                    </a:lnTo>
                    <a:lnTo>
                      <a:pt x="3869" y="332"/>
                    </a:lnTo>
                    <a:lnTo>
                      <a:pt x="3831" y="350"/>
                    </a:lnTo>
                    <a:lnTo>
                      <a:pt x="3776" y="368"/>
                    </a:lnTo>
                    <a:lnTo>
                      <a:pt x="3738" y="386"/>
                    </a:lnTo>
                    <a:lnTo>
                      <a:pt x="3681" y="405"/>
                    </a:lnTo>
                    <a:lnTo>
                      <a:pt x="3624" y="423"/>
                    </a:lnTo>
                    <a:lnTo>
                      <a:pt x="3586" y="442"/>
                    </a:lnTo>
                    <a:lnTo>
                      <a:pt x="3529" y="460"/>
                    </a:lnTo>
                    <a:lnTo>
                      <a:pt x="3473" y="497"/>
                    </a:lnTo>
                    <a:lnTo>
                      <a:pt x="3436" y="515"/>
                    </a:lnTo>
                    <a:lnTo>
                      <a:pt x="3379" y="534"/>
                    </a:lnTo>
                    <a:lnTo>
                      <a:pt x="3341" y="571"/>
                    </a:lnTo>
                    <a:lnTo>
                      <a:pt x="3284" y="589"/>
                    </a:lnTo>
                    <a:lnTo>
                      <a:pt x="3228" y="626"/>
                    </a:lnTo>
                    <a:lnTo>
                      <a:pt x="3190" y="645"/>
                    </a:lnTo>
                    <a:lnTo>
                      <a:pt x="3133" y="663"/>
                    </a:lnTo>
                    <a:lnTo>
                      <a:pt x="3077" y="700"/>
                    </a:lnTo>
                    <a:lnTo>
                      <a:pt x="3039" y="718"/>
                    </a:lnTo>
                    <a:lnTo>
                      <a:pt x="2983" y="755"/>
                    </a:lnTo>
                    <a:lnTo>
                      <a:pt x="2926" y="773"/>
                    </a:lnTo>
                    <a:lnTo>
                      <a:pt x="2888" y="792"/>
                    </a:lnTo>
                    <a:lnTo>
                      <a:pt x="2831" y="810"/>
                    </a:lnTo>
                    <a:lnTo>
                      <a:pt x="2793" y="829"/>
                    </a:lnTo>
                    <a:lnTo>
                      <a:pt x="2737" y="865"/>
                    </a:lnTo>
                    <a:lnTo>
                      <a:pt x="2700" y="884"/>
                    </a:lnTo>
                    <a:lnTo>
                      <a:pt x="2643" y="884"/>
                    </a:lnTo>
                    <a:lnTo>
                      <a:pt x="2605" y="902"/>
                    </a:lnTo>
                    <a:lnTo>
                      <a:pt x="2567" y="921"/>
                    </a:lnTo>
                    <a:lnTo>
                      <a:pt x="2548" y="939"/>
                    </a:lnTo>
                    <a:lnTo>
                      <a:pt x="2529" y="958"/>
                    </a:lnTo>
                    <a:lnTo>
                      <a:pt x="2491" y="976"/>
                    </a:lnTo>
                    <a:lnTo>
                      <a:pt x="2472" y="995"/>
                    </a:lnTo>
                    <a:lnTo>
                      <a:pt x="2453" y="1013"/>
                    </a:lnTo>
                    <a:lnTo>
                      <a:pt x="2435" y="1032"/>
                    </a:lnTo>
                    <a:lnTo>
                      <a:pt x="2398" y="1050"/>
                    </a:lnTo>
                    <a:lnTo>
                      <a:pt x="2379" y="1068"/>
                    </a:lnTo>
                    <a:lnTo>
                      <a:pt x="2360" y="1086"/>
                    </a:lnTo>
                    <a:lnTo>
                      <a:pt x="2322" y="1105"/>
                    </a:lnTo>
                    <a:lnTo>
                      <a:pt x="2303" y="1123"/>
                    </a:lnTo>
                    <a:lnTo>
                      <a:pt x="2284" y="1142"/>
                    </a:lnTo>
                    <a:lnTo>
                      <a:pt x="2246" y="1160"/>
                    </a:lnTo>
                    <a:lnTo>
                      <a:pt x="2227" y="1179"/>
                    </a:lnTo>
                    <a:lnTo>
                      <a:pt x="2208" y="1179"/>
                    </a:lnTo>
                    <a:lnTo>
                      <a:pt x="2171" y="1197"/>
                    </a:lnTo>
                    <a:lnTo>
                      <a:pt x="2152" y="1216"/>
                    </a:lnTo>
                    <a:lnTo>
                      <a:pt x="2133" y="1234"/>
                    </a:lnTo>
                    <a:lnTo>
                      <a:pt x="2095" y="1253"/>
                    </a:lnTo>
                    <a:lnTo>
                      <a:pt x="2076" y="1271"/>
                    </a:lnTo>
                    <a:lnTo>
                      <a:pt x="2058" y="1289"/>
                    </a:lnTo>
                    <a:lnTo>
                      <a:pt x="2020" y="1289"/>
                    </a:lnTo>
                    <a:lnTo>
                      <a:pt x="2001" y="1308"/>
                    </a:lnTo>
                    <a:lnTo>
                      <a:pt x="1982" y="1326"/>
                    </a:lnTo>
                    <a:lnTo>
                      <a:pt x="1944" y="1345"/>
                    </a:lnTo>
                    <a:lnTo>
                      <a:pt x="1925" y="1363"/>
                    </a:lnTo>
                    <a:lnTo>
                      <a:pt x="1888" y="1363"/>
                    </a:lnTo>
                    <a:lnTo>
                      <a:pt x="1869" y="1382"/>
                    </a:lnTo>
                    <a:lnTo>
                      <a:pt x="1850" y="1399"/>
                    </a:lnTo>
                    <a:lnTo>
                      <a:pt x="1812" y="1418"/>
                    </a:lnTo>
                    <a:lnTo>
                      <a:pt x="1793" y="1418"/>
                    </a:lnTo>
                    <a:lnTo>
                      <a:pt x="1680" y="1418"/>
                    </a:lnTo>
                    <a:lnTo>
                      <a:pt x="1529" y="1142"/>
                    </a:lnTo>
                    <a:lnTo>
                      <a:pt x="1529" y="1123"/>
                    </a:lnTo>
                    <a:lnTo>
                      <a:pt x="1529" y="1105"/>
                    </a:lnTo>
                    <a:lnTo>
                      <a:pt x="1529" y="1086"/>
                    </a:lnTo>
                    <a:lnTo>
                      <a:pt x="1529" y="1068"/>
                    </a:lnTo>
                    <a:lnTo>
                      <a:pt x="1510" y="1050"/>
                    </a:lnTo>
                    <a:lnTo>
                      <a:pt x="1510" y="1050"/>
                    </a:lnTo>
                    <a:lnTo>
                      <a:pt x="1491" y="1032"/>
                    </a:lnTo>
                    <a:lnTo>
                      <a:pt x="1491" y="1013"/>
                    </a:lnTo>
                    <a:lnTo>
                      <a:pt x="1491" y="1013"/>
                    </a:lnTo>
                    <a:lnTo>
                      <a:pt x="1472" y="995"/>
                    </a:lnTo>
                    <a:lnTo>
                      <a:pt x="1472" y="976"/>
                    </a:lnTo>
                    <a:lnTo>
                      <a:pt x="1472" y="958"/>
                    </a:lnTo>
                    <a:lnTo>
                      <a:pt x="1453" y="939"/>
                    </a:lnTo>
                    <a:lnTo>
                      <a:pt x="1453" y="939"/>
                    </a:lnTo>
                    <a:lnTo>
                      <a:pt x="1472" y="921"/>
                    </a:lnTo>
                    <a:lnTo>
                      <a:pt x="1472" y="884"/>
                    </a:lnTo>
                    <a:lnTo>
                      <a:pt x="1472" y="884"/>
                    </a:lnTo>
                    <a:lnTo>
                      <a:pt x="1472" y="865"/>
                    </a:lnTo>
                    <a:lnTo>
                      <a:pt x="1453" y="847"/>
                    </a:lnTo>
                    <a:lnTo>
                      <a:pt x="1453" y="847"/>
                    </a:lnTo>
                    <a:lnTo>
                      <a:pt x="1434" y="847"/>
                    </a:lnTo>
                    <a:lnTo>
                      <a:pt x="1434" y="829"/>
                    </a:lnTo>
                    <a:lnTo>
                      <a:pt x="1434" y="810"/>
                    </a:lnTo>
                    <a:lnTo>
                      <a:pt x="1434" y="792"/>
                    </a:lnTo>
                    <a:lnTo>
                      <a:pt x="2567" y="0"/>
                    </a:lnTo>
                    <a:lnTo>
                      <a:pt x="8079" y="0"/>
                    </a:lnTo>
                    <a:close/>
                    <a:moveTo>
                      <a:pt x="2510" y="0"/>
                    </a:moveTo>
                    <a:lnTo>
                      <a:pt x="246" y="1050"/>
                    </a:lnTo>
                    <a:lnTo>
                      <a:pt x="37" y="423"/>
                    </a:lnTo>
                    <a:lnTo>
                      <a:pt x="19" y="423"/>
                    </a:lnTo>
                    <a:lnTo>
                      <a:pt x="19" y="423"/>
                    </a:lnTo>
                    <a:lnTo>
                      <a:pt x="19" y="423"/>
                    </a:lnTo>
                    <a:lnTo>
                      <a:pt x="19" y="405"/>
                    </a:lnTo>
                    <a:lnTo>
                      <a:pt x="19" y="405"/>
                    </a:lnTo>
                    <a:lnTo>
                      <a:pt x="0" y="386"/>
                    </a:lnTo>
                    <a:lnTo>
                      <a:pt x="0" y="368"/>
                    </a:lnTo>
                    <a:lnTo>
                      <a:pt x="0" y="368"/>
                    </a:lnTo>
                    <a:lnTo>
                      <a:pt x="415" y="0"/>
                    </a:lnTo>
                    <a:lnTo>
                      <a:pt x="251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24" name="Freeform 54"/>
              <p:cNvSpPr/>
              <p:nvPr/>
            </p:nvSpPr>
            <p:spPr>
              <a:xfrm>
                <a:off x="4739760" y="4256640"/>
                <a:ext cx="1651680" cy="127800"/>
              </a:xfrm>
              <a:custGeom>
                <a:avLst/>
                <a:gdLst/>
                <a:ahLst/>
                <a:rect l="l" t="t" r="r" b="b"/>
                <a:pathLst>
                  <a:path w="6361" h="1327">
                    <a:moveTo>
                      <a:pt x="6361" y="0"/>
                    </a:moveTo>
                    <a:lnTo>
                      <a:pt x="6267" y="18"/>
                    </a:lnTo>
                    <a:lnTo>
                      <a:pt x="6172" y="37"/>
                    </a:lnTo>
                    <a:lnTo>
                      <a:pt x="6097" y="74"/>
                    </a:lnTo>
                    <a:lnTo>
                      <a:pt x="6003" y="92"/>
                    </a:lnTo>
                    <a:lnTo>
                      <a:pt x="5927" y="129"/>
                    </a:lnTo>
                    <a:lnTo>
                      <a:pt x="5832" y="147"/>
                    </a:lnTo>
                    <a:lnTo>
                      <a:pt x="5739" y="166"/>
                    </a:lnTo>
                    <a:lnTo>
                      <a:pt x="5663" y="203"/>
                    </a:lnTo>
                    <a:lnTo>
                      <a:pt x="5568" y="221"/>
                    </a:lnTo>
                    <a:lnTo>
                      <a:pt x="5493" y="258"/>
                    </a:lnTo>
                    <a:lnTo>
                      <a:pt x="5399" y="295"/>
                    </a:lnTo>
                    <a:lnTo>
                      <a:pt x="5304" y="314"/>
                    </a:lnTo>
                    <a:lnTo>
                      <a:pt x="5229" y="350"/>
                    </a:lnTo>
                    <a:lnTo>
                      <a:pt x="5134" y="368"/>
                    </a:lnTo>
                    <a:lnTo>
                      <a:pt x="5059" y="405"/>
                    </a:lnTo>
                    <a:lnTo>
                      <a:pt x="4965" y="442"/>
                    </a:lnTo>
                    <a:lnTo>
                      <a:pt x="4870" y="461"/>
                    </a:lnTo>
                    <a:lnTo>
                      <a:pt x="4794" y="498"/>
                    </a:lnTo>
                    <a:lnTo>
                      <a:pt x="4701" y="535"/>
                    </a:lnTo>
                    <a:lnTo>
                      <a:pt x="4606" y="571"/>
                    </a:lnTo>
                    <a:lnTo>
                      <a:pt x="4530" y="608"/>
                    </a:lnTo>
                    <a:lnTo>
                      <a:pt x="4436" y="645"/>
                    </a:lnTo>
                    <a:lnTo>
                      <a:pt x="4361" y="681"/>
                    </a:lnTo>
                    <a:lnTo>
                      <a:pt x="4266" y="718"/>
                    </a:lnTo>
                    <a:lnTo>
                      <a:pt x="4172" y="755"/>
                    </a:lnTo>
                    <a:lnTo>
                      <a:pt x="4096" y="792"/>
                    </a:lnTo>
                    <a:lnTo>
                      <a:pt x="4002" y="829"/>
                    </a:lnTo>
                    <a:lnTo>
                      <a:pt x="3908" y="866"/>
                    </a:lnTo>
                    <a:lnTo>
                      <a:pt x="3832" y="903"/>
                    </a:lnTo>
                    <a:lnTo>
                      <a:pt x="3737" y="958"/>
                    </a:lnTo>
                    <a:lnTo>
                      <a:pt x="3644" y="995"/>
                    </a:lnTo>
                    <a:lnTo>
                      <a:pt x="3568" y="1050"/>
                    </a:lnTo>
                    <a:lnTo>
                      <a:pt x="3530" y="1050"/>
                    </a:lnTo>
                    <a:lnTo>
                      <a:pt x="3492" y="1068"/>
                    </a:lnTo>
                    <a:lnTo>
                      <a:pt x="3473" y="1087"/>
                    </a:lnTo>
                    <a:lnTo>
                      <a:pt x="3435" y="1105"/>
                    </a:lnTo>
                    <a:lnTo>
                      <a:pt x="3397" y="1124"/>
                    </a:lnTo>
                    <a:lnTo>
                      <a:pt x="3379" y="1142"/>
                    </a:lnTo>
                    <a:lnTo>
                      <a:pt x="3341" y="1161"/>
                    </a:lnTo>
                    <a:lnTo>
                      <a:pt x="3323" y="1161"/>
                    </a:lnTo>
                    <a:lnTo>
                      <a:pt x="3285" y="1179"/>
                    </a:lnTo>
                    <a:lnTo>
                      <a:pt x="3266" y="1198"/>
                    </a:lnTo>
                    <a:lnTo>
                      <a:pt x="3228" y="1216"/>
                    </a:lnTo>
                    <a:lnTo>
                      <a:pt x="3209" y="1216"/>
                    </a:lnTo>
                    <a:lnTo>
                      <a:pt x="3171" y="1235"/>
                    </a:lnTo>
                    <a:lnTo>
                      <a:pt x="3133" y="1253"/>
                    </a:lnTo>
                    <a:lnTo>
                      <a:pt x="3115" y="1253"/>
                    </a:lnTo>
                    <a:lnTo>
                      <a:pt x="3077" y="1272"/>
                    </a:lnTo>
                    <a:lnTo>
                      <a:pt x="3058" y="1290"/>
                    </a:lnTo>
                    <a:lnTo>
                      <a:pt x="3020" y="1290"/>
                    </a:lnTo>
                    <a:lnTo>
                      <a:pt x="3001" y="1309"/>
                    </a:lnTo>
                    <a:lnTo>
                      <a:pt x="2964" y="1309"/>
                    </a:lnTo>
                    <a:lnTo>
                      <a:pt x="2945" y="1309"/>
                    </a:lnTo>
                    <a:lnTo>
                      <a:pt x="2907" y="1327"/>
                    </a:lnTo>
                    <a:lnTo>
                      <a:pt x="2888" y="1327"/>
                    </a:lnTo>
                    <a:lnTo>
                      <a:pt x="2851" y="1327"/>
                    </a:lnTo>
                    <a:lnTo>
                      <a:pt x="2832" y="1327"/>
                    </a:lnTo>
                    <a:lnTo>
                      <a:pt x="2794" y="1327"/>
                    </a:lnTo>
                    <a:lnTo>
                      <a:pt x="2775" y="1327"/>
                    </a:lnTo>
                    <a:lnTo>
                      <a:pt x="2737" y="1327"/>
                    </a:lnTo>
                    <a:lnTo>
                      <a:pt x="2699" y="1327"/>
                    </a:lnTo>
                    <a:lnTo>
                      <a:pt x="2680" y="1309"/>
                    </a:lnTo>
                    <a:lnTo>
                      <a:pt x="2642" y="1309"/>
                    </a:lnTo>
                    <a:lnTo>
                      <a:pt x="2605" y="1290"/>
                    </a:lnTo>
                    <a:lnTo>
                      <a:pt x="2454" y="737"/>
                    </a:lnTo>
                    <a:lnTo>
                      <a:pt x="2454" y="737"/>
                    </a:lnTo>
                    <a:lnTo>
                      <a:pt x="2435" y="718"/>
                    </a:lnTo>
                    <a:lnTo>
                      <a:pt x="2435" y="718"/>
                    </a:lnTo>
                    <a:lnTo>
                      <a:pt x="2435" y="700"/>
                    </a:lnTo>
                    <a:lnTo>
                      <a:pt x="2435" y="700"/>
                    </a:lnTo>
                    <a:lnTo>
                      <a:pt x="2416" y="681"/>
                    </a:lnTo>
                    <a:lnTo>
                      <a:pt x="2416" y="681"/>
                    </a:lnTo>
                    <a:lnTo>
                      <a:pt x="2397" y="664"/>
                    </a:lnTo>
                    <a:lnTo>
                      <a:pt x="3379" y="0"/>
                    </a:lnTo>
                    <a:lnTo>
                      <a:pt x="6361" y="0"/>
                    </a:lnTo>
                    <a:close/>
                    <a:moveTo>
                      <a:pt x="2926" y="0"/>
                    </a:moveTo>
                    <a:lnTo>
                      <a:pt x="2888" y="0"/>
                    </a:lnTo>
                    <a:lnTo>
                      <a:pt x="2869" y="18"/>
                    </a:lnTo>
                    <a:lnTo>
                      <a:pt x="2832" y="37"/>
                    </a:lnTo>
                    <a:lnTo>
                      <a:pt x="2813" y="55"/>
                    </a:lnTo>
                    <a:lnTo>
                      <a:pt x="2775" y="74"/>
                    </a:lnTo>
                    <a:lnTo>
                      <a:pt x="2756" y="74"/>
                    </a:lnTo>
                    <a:lnTo>
                      <a:pt x="2718" y="92"/>
                    </a:lnTo>
                    <a:lnTo>
                      <a:pt x="2699" y="111"/>
                    </a:lnTo>
                    <a:lnTo>
                      <a:pt x="2661" y="111"/>
                    </a:lnTo>
                    <a:lnTo>
                      <a:pt x="2642" y="129"/>
                    </a:lnTo>
                    <a:lnTo>
                      <a:pt x="2605" y="147"/>
                    </a:lnTo>
                    <a:lnTo>
                      <a:pt x="2568" y="147"/>
                    </a:lnTo>
                    <a:lnTo>
                      <a:pt x="2549" y="166"/>
                    </a:lnTo>
                    <a:lnTo>
                      <a:pt x="2511" y="166"/>
                    </a:lnTo>
                    <a:lnTo>
                      <a:pt x="2492" y="184"/>
                    </a:lnTo>
                    <a:lnTo>
                      <a:pt x="2473" y="184"/>
                    </a:lnTo>
                    <a:lnTo>
                      <a:pt x="2435" y="203"/>
                    </a:lnTo>
                    <a:lnTo>
                      <a:pt x="2416" y="221"/>
                    </a:lnTo>
                    <a:lnTo>
                      <a:pt x="2378" y="240"/>
                    </a:lnTo>
                    <a:lnTo>
                      <a:pt x="2359" y="277"/>
                    </a:lnTo>
                    <a:lnTo>
                      <a:pt x="2321" y="295"/>
                    </a:lnTo>
                    <a:lnTo>
                      <a:pt x="2303" y="314"/>
                    </a:lnTo>
                    <a:lnTo>
                      <a:pt x="2284" y="332"/>
                    </a:lnTo>
                    <a:lnTo>
                      <a:pt x="2247" y="350"/>
                    </a:lnTo>
                    <a:lnTo>
                      <a:pt x="2228" y="368"/>
                    </a:lnTo>
                    <a:lnTo>
                      <a:pt x="2190" y="387"/>
                    </a:lnTo>
                    <a:lnTo>
                      <a:pt x="2171" y="405"/>
                    </a:lnTo>
                    <a:lnTo>
                      <a:pt x="2133" y="424"/>
                    </a:lnTo>
                    <a:lnTo>
                      <a:pt x="2114" y="442"/>
                    </a:lnTo>
                    <a:lnTo>
                      <a:pt x="2076" y="461"/>
                    </a:lnTo>
                    <a:lnTo>
                      <a:pt x="2057" y="479"/>
                    </a:lnTo>
                    <a:lnTo>
                      <a:pt x="2039" y="498"/>
                    </a:lnTo>
                    <a:lnTo>
                      <a:pt x="2001" y="516"/>
                    </a:lnTo>
                    <a:lnTo>
                      <a:pt x="1982" y="535"/>
                    </a:lnTo>
                    <a:lnTo>
                      <a:pt x="1944" y="553"/>
                    </a:lnTo>
                    <a:lnTo>
                      <a:pt x="1926" y="571"/>
                    </a:lnTo>
                    <a:lnTo>
                      <a:pt x="1888" y="590"/>
                    </a:lnTo>
                    <a:lnTo>
                      <a:pt x="1869" y="608"/>
                    </a:lnTo>
                    <a:lnTo>
                      <a:pt x="1831" y="608"/>
                    </a:lnTo>
                    <a:lnTo>
                      <a:pt x="1812" y="627"/>
                    </a:lnTo>
                    <a:lnTo>
                      <a:pt x="1775" y="645"/>
                    </a:lnTo>
                    <a:lnTo>
                      <a:pt x="1737" y="664"/>
                    </a:lnTo>
                    <a:lnTo>
                      <a:pt x="1718" y="681"/>
                    </a:lnTo>
                    <a:lnTo>
                      <a:pt x="1680" y="681"/>
                    </a:lnTo>
                    <a:lnTo>
                      <a:pt x="1661" y="700"/>
                    </a:lnTo>
                    <a:lnTo>
                      <a:pt x="1623" y="718"/>
                    </a:lnTo>
                    <a:lnTo>
                      <a:pt x="1604" y="737"/>
                    </a:lnTo>
                    <a:lnTo>
                      <a:pt x="1567" y="737"/>
                    </a:lnTo>
                    <a:lnTo>
                      <a:pt x="1397" y="424"/>
                    </a:lnTo>
                    <a:lnTo>
                      <a:pt x="1397" y="405"/>
                    </a:lnTo>
                    <a:lnTo>
                      <a:pt x="1397" y="387"/>
                    </a:lnTo>
                    <a:lnTo>
                      <a:pt x="1397" y="368"/>
                    </a:lnTo>
                    <a:lnTo>
                      <a:pt x="1397" y="350"/>
                    </a:lnTo>
                    <a:lnTo>
                      <a:pt x="1378" y="332"/>
                    </a:lnTo>
                    <a:lnTo>
                      <a:pt x="1378" y="332"/>
                    </a:lnTo>
                    <a:lnTo>
                      <a:pt x="1359" y="314"/>
                    </a:lnTo>
                    <a:lnTo>
                      <a:pt x="1359" y="295"/>
                    </a:lnTo>
                    <a:lnTo>
                      <a:pt x="1359" y="295"/>
                    </a:lnTo>
                    <a:lnTo>
                      <a:pt x="1340" y="277"/>
                    </a:lnTo>
                    <a:lnTo>
                      <a:pt x="1340" y="258"/>
                    </a:lnTo>
                    <a:lnTo>
                      <a:pt x="1340" y="240"/>
                    </a:lnTo>
                    <a:lnTo>
                      <a:pt x="1321" y="221"/>
                    </a:lnTo>
                    <a:lnTo>
                      <a:pt x="1321" y="221"/>
                    </a:lnTo>
                    <a:lnTo>
                      <a:pt x="1340" y="203"/>
                    </a:lnTo>
                    <a:lnTo>
                      <a:pt x="1340" y="166"/>
                    </a:lnTo>
                    <a:lnTo>
                      <a:pt x="1340" y="166"/>
                    </a:lnTo>
                    <a:lnTo>
                      <a:pt x="1340" y="147"/>
                    </a:lnTo>
                    <a:lnTo>
                      <a:pt x="1321" y="129"/>
                    </a:lnTo>
                    <a:lnTo>
                      <a:pt x="1321" y="129"/>
                    </a:lnTo>
                    <a:lnTo>
                      <a:pt x="1302" y="129"/>
                    </a:lnTo>
                    <a:lnTo>
                      <a:pt x="1302" y="111"/>
                    </a:lnTo>
                    <a:lnTo>
                      <a:pt x="1302" y="92"/>
                    </a:lnTo>
                    <a:lnTo>
                      <a:pt x="1302" y="74"/>
                    </a:lnTo>
                    <a:lnTo>
                      <a:pt x="1397" y="0"/>
                    </a:lnTo>
                    <a:lnTo>
                      <a:pt x="2926" y="0"/>
                    </a:lnTo>
                    <a:close/>
                    <a:moveTo>
                      <a:pt x="831" y="0"/>
                    </a:moveTo>
                    <a:lnTo>
                      <a:pt x="114" y="332"/>
                    </a:lnTo>
                    <a:lnTo>
                      <a:pt x="0" y="0"/>
                    </a:lnTo>
                    <a:lnTo>
                      <a:pt x="83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25" name="Freeform 55"/>
              <p:cNvSpPr/>
              <p:nvPr/>
            </p:nvSpPr>
            <p:spPr>
              <a:xfrm>
                <a:off x="5139000" y="4323600"/>
                <a:ext cx="711360" cy="60840"/>
              </a:xfrm>
              <a:custGeom>
                <a:avLst/>
                <a:gdLst/>
                <a:ahLst/>
                <a:rect l="l" t="t" r="r" b="b"/>
                <a:pathLst>
                  <a:path w="2737" h="627">
                    <a:moveTo>
                      <a:pt x="2737" y="0"/>
                    </a:moveTo>
                    <a:lnTo>
                      <a:pt x="2718" y="18"/>
                    </a:lnTo>
                    <a:lnTo>
                      <a:pt x="2699" y="18"/>
                    </a:lnTo>
                    <a:lnTo>
                      <a:pt x="2661" y="37"/>
                    </a:lnTo>
                    <a:lnTo>
                      <a:pt x="2643" y="37"/>
                    </a:lnTo>
                    <a:lnTo>
                      <a:pt x="2624" y="55"/>
                    </a:lnTo>
                    <a:lnTo>
                      <a:pt x="2605" y="55"/>
                    </a:lnTo>
                    <a:lnTo>
                      <a:pt x="2586" y="74"/>
                    </a:lnTo>
                    <a:lnTo>
                      <a:pt x="2548" y="74"/>
                    </a:lnTo>
                    <a:lnTo>
                      <a:pt x="2529" y="92"/>
                    </a:lnTo>
                    <a:lnTo>
                      <a:pt x="2510" y="111"/>
                    </a:lnTo>
                    <a:lnTo>
                      <a:pt x="2492" y="111"/>
                    </a:lnTo>
                    <a:lnTo>
                      <a:pt x="2473" y="129"/>
                    </a:lnTo>
                    <a:lnTo>
                      <a:pt x="2435" y="129"/>
                    </a:lnTo>
                    <a:lnTo>
                      <a:pt x="2416" y="148"/>
                    </a:lnTo>
                    <a:lnTo>
                      <a:pt x="2397" y="148"/>
                    </a:lnTo>
                    <a:lnTo>
                      <a:pt x="2379" y="166"/>
                    </a:lnTo>
                    <a:lnTo>
                      <a:pt x="2360" y="185"/>
                    </a:lnTo>
                    <a:lnTo>
                      <a:pt x="2322" y="185"/>
                    </a:lnTo>
                    <a:lnTo>
                      <a:pt x="2303" y="203"/>
                    </a:lnTo>
                    <a:lnTo>
                      <a:pt x="2284" y="203"/>
                    </a:lnTo>
                    <a:lnTo>
                      <a:pt x="2265" y="222"/>
                    </a:lnTo>
                    <a:lnTo>
                      <a:pt x="2246" y="222"/>
                    </a:lnTo>
                    <a:lnTo>
                      <a:pt x="2227" y="240"/>
                    </a:lnTo>
                    <a:lnTo>
                      <a:pt x="2189" y="258"/>
                    </a:lnTo>
                    <a:lnTo>
                      <a:pt x="2170" y="258"/>
                    </a:lnTo>
                    <a:lnTo>
                      <a:pt x="2151" y="277"/>
                    </a:lnTo>
                    <a:lnTo>
                      <a:pt x="2133" y="277"/>
                    </a:lnTo>
                    <a:lnTo>
                      <a:pt x="2096" y="295"/>
                    </a:lnTo>
                    <a:lnTo>
                      <a:pt x="2077" y="314"/>
                    </a:lnTo>
                    <a:lnTo>
                      <a:pt x="2058" y="314"/>
                    </a:lnTo>
                    <a:lnTo>
                      <a:pt x="2039" y="331"/>
                    </a:lnTo>
                    <a:lnTo>
                      <a:pt x="2020" y="350"/>
                    </a:lnTo>
                    <a:lnTo>
                      <a:pt x="1982" y="350"/>
                    </a:lnTo>
                    <a:lnTo>
                      <a:pt x="1944" y="368"/>
                    </a:lnTo>
                    <a:lnTo>
                      <a:pt x="1925" y="387"/>
                    </a:lnTo>
                    <a:lnTo>
                      <a:pt x="1887" y="405"/>
                    </a:lnTo>
                    <a:lnTo>
                      <a:pt x="1849" y="424"/>
                    </a:lnTo>
                    <a:lnTo>
                      <a:pt x="1831" y="442"/>
                    </a:lnTo>
                    <a:lnTo>
                      <a:pt x="1793" y="461"/>
                    </a:lnTo>
                    <a:lnTo>
                      <a:pt x="1775" y="461"/>
                    </a:lnTo>
                    <a:lnTo>
                      <a:pt x="1737" y="479"/>
                    </a:lnTo>
                    <a:lnTo>
                      <a:pt x="1718" y="498"/>
                    </a:lnTo>
                    <a:lnTo>
                      <a:pt x="1680" y="516"/>
                    </a:lnTo>
                    <a:lnTo>
                      <a:pt x="1661" y="516"/>
                    </a:lnTo>
                    <a:lnTo>
                      <a:pt x="1623" y="535"/>
                    </a:lnTo>
                    <a:lnTo>
                      <a:pt x="1585" y="553"/>
                    </a:lnTo>
                    <a:lnTo>
                      <a:pt x="1567" y="553"/>
                    </a:lnTo>
                    <a:lnTo>
                      <a:pt x="1529" y="572"/>
                    </a:lnTo>
                    <a:lnTo>
                      <a:pt x="1510" y="590"/>
                    </a:lnTo>
                    <a:lnTo>
                      <a:pt x="1472" y="590"/>
                    </a:lnTo>
                    <a:lnTo>
                      <a:pt x="1453" y="609"/>
                    </a:lnTo>
                    <a:lnTo>
                      <a:pt x="1416" y="609"/>
                    </a:lnTo>
                    <a:lnTo>
                      <a:pt x="1397" y="609"/>
                    </a:lnTo>
                    <a:lnTo>
                      <a:pt x="1359" y="627"/>
                    </a:lnTo>
                    <a:lnTo>
                      <a:pt x="1340" y="627"/>
                    </a:lnTo>
                    <a:lnTo>
                      <a:pt x="1303" y="627"/>
                    </a:lnTo>
                    <a:lnTo>
                      <a:pt x="1284" y="627"/>
                    </a:lnTo>
                    <a:lnTo>
                      <a:pt x="1246" y="627"/>
                    </a:lnTo>
                    <a:lnTo>
                      <a:pt x="1227" y="627"/>
                    </a:lnTo>
                    <a:lnTo>
                      <a:pt x="1189" y="627"/>
                    </a:lnTo>
                    <a:lnTo>
                      <a:pt x="1151" y="627"/>
                    </a:lnTo>
                    <a:lnTo>
                      <a:pt x="1132" y="609"/>
                    </a:lnTo>
                    <a:lnTo>
                      <a:pt x="1094" y="609"/>
                    </a:lnTo>
                    <a:lnTo>
                      <a:pt x="1057" y="590"/>
                    </a:lnTo>
                    <a:lnTo>
                      <a:pt x="906" y="37"/>
                    </a:lnTo>
                    <a:lnTo>
                      <a:pt x="906" y="37"/>
                    </a:lnTo>
                    <a:lnTo>
                      <a:pt x="906" y="37"/>
                    </a:lnTo>
                    <a:lnTo>
                      <a:pt x="887" y="37"/>
                    </a:lnTo>
                    <a:lnTo>
                      <a:pt x="887" y="18"/>
                    </a:lnTo>
                    <a:lnTo>
                      <a:pt x="887" y="18"/>
                    </a:lnTo>
                    <a:lnTo>
                      <a:pt x="887" y="18"/>
                    </a:lnTo>
                    <a:lnTo>
                      <a:pt x="887" y="0"/>
                    </a:lnTo>
                    <a:lnTo>
                      <a:pt x="887" y="0"/>
                    </a:lnTo>
                    <a:lnTo>
                      <a:pt x="2737" y="0"/>
                    </a:lnTo>
                    <a:close/>
                    <a:moveTo>
                      <a:pt x="113" y="0"/>
                    </a:moveTo>
                    <a:lnTo>
                      <a:pt x="94" y="0"/>
                    </a:lnTo>
                    <a:lnTo>
                      <a:pt x="94" y="18"/>
                    </a:lnTo>
                    <a:lnTo>
                      <a:pt x="75" y="18"/>
                    </a:lnTo>
                    <a:lnTo>
                      <a:pt x="56" y="18"/>
                    </a:lnTo>
                    <a:lnTo>
                      <a:pt x="56" y="37"/>
                    </a:lnTo>
                    <a:lnTo>
                      <a:pt x="37" y="37"/>
                    </a:lnTo>
                    <a:lnTo>
                      <a:pt x="37" y="37"/>
                    </a:lnTo>
                    <a:lnTo>
                      <a:pt x="19" y="37"/>
                    </a:lnTo>
                    <a:lnTo>
                      <a:pt x="0" y="0"/>
                    </a:lnTo>
                    <a:lnTo>
                      <a:pt x="11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26" name="Freeform 56"/>
              <p:cNvSpPr/>
              <p:nvPr/>
            </p:nvSpPr>
            <p:spPr>
              <a:xfrm>
                <a:off x="5654160" y="3855240"/>
                <a:ext cx="10440" cy="3960"/>
              </a:xfrm>
              <a:custGeom>
                <a:avLst/>
                <a:gdLst/>
                <a:ahLst/>
                <a:rect l="l" t="t" r="r" b="b"/>
                <a:pathLst>
                  <a:path w="38" h="2">
                    <a:moveTo>
                      <a:pt x="0" y="0"/>
                    </a:move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38" y="0"/>
                    </a:lnTo>
                    <a:lnTo>
                      <a:pt x="19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27" name="Freeform 57"/>
              <p:cNvSpPr/>
              <p:nvPr/>
            </p:nvSpPr>
            <p:spPr>
              <a:xfrm>
                <a:off x="5648040" y="3855240"/>
                <a:ext cx="16200" cy="396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0"/>
                    </a:move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57" y="0"/>
                    </a:lnTo>
                    <a:lnTo>
                      <a:pt x="19" y="18"/>
                    </a:lnTo>
                    <a:lnTo>
                      <a:pt x="0" y="18"/>
                    </a:lnTo>
                    <a:lnTo>
                      <a:pt x="1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28" name="Freeform 58"/>
              <p:cNvSpPr/>
              <p:nvPr/>
            </p:nvSpPr>
            <p:spPr>
              <a:xfrm>
                <a:off x="5643360" y="3855240"/>
                <a:ext cx="15120" cy="396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18"/>
                    </a:moveTo>
                    <a:lnTo>
                      <a:pt x="57" y="0"/>
                    </a:lnTo>
                    <a:lnTo>
                      <a:pt x="38" y="0"/>
                    </a:lnTo>
                    <a:lnTo>
                      <a:pt x="0" y="18"/>
                    </a:lnTo>
                    <a:lnTo>
                      <a:pt x="19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29" name="Freeform 59"/>
              <p:cNvSpPr/>
              <p:nvPr/>
            </p:nvSpPr>
            <p:spPr>
              <a:xfrm>
                <a:off x="5643360" y="385704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30" name="Freeform 60"/>
              <p:cNvSpPr/>
              <p:nvPr/>
            </p:nvSpPr>
            <p:spPr>
              <a:xfrm>
                <a:off x="5638680" y="3857040"/>
                <a:ext cx="9360" cy="216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31" name="Freeform 61"/>
              <p:cNvSpPr/>
              <p:nvPr/>
            </p:nvSpPr>
            <p:spPr>
              <a:xfrm>
                <a:off x="5632920" y="3859200"/>
                <a:ext cx="15120" cy="180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18"/>
                    </a:moveTo>
                    <a:lnTo>
                      <a:pt x="57" y="0"/>
                    </a:lnTo>
                    <a:lnTo>
                      <a:pt x="38" y="0"/>
                    </a:lnTo>
                    <a:lnTo>
                      <a:pt x="0" y="18"/>
                    </a:lnTo>
                    <a:lnTo>
                      <a:pt x="19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32" name="Freeform 62"/>
              <p:cNvSpPr/>
              <p:nvPr/>
            </p:nvSpPr>
            <p:spPr>
              <a:xfrm>
                <a:off x="5628240" y="3859200"/>
                <a:ext cx="15120" cy="180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18"/>
                    </a:moveTo>
                    <a:lnTo>
                      <a:pt x="57" y="0"/>
                    </a:lnTo>
                    <a:lnTo>
                      <a:pt x="38" y="0"/>
                    </a:lnTo>
                    <a:lnTo>
                      <a:pt x="0" y="18"/>
                    </a:lnTo>
                    <a:lnTo>
                      <a:pt x="19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33" name="Freeform 63"/>
              <p:cNvSpPr/>
              <p:nvPr/>
            </p:nvSpPr>
            <p:spPr>
              <a:xfrm>
                <a:off x="5628240" y="3861360"/>
                <a:ext cx="4680" cy="396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34" name="Freeform 64"/>
              <p:cNvSpPr/>
              <p:nvPr/>
            </p:nvSpPr>
            <p:spPr>
              <a:xfrm>
                <a:off x="5617440" y="386316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56" h="18">
                    <a:moveTo>
                      <a:pt x="18" y="18"/>
                    </a:moveTo>
                    <a:lnTo>
                      <a:pt x="56" y="0"/>
                    </a:lnTo>
                    <a:lnTo>
                      <a:pt x="37" y="0"/>
                    </a:lnTo>
                    <a:lnTo>
                      <a:pt x="0" y="18"/>
                    </a:lnTo>
                    <a:lnTo>
                      <a:pt x="18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35" name="Freeform 65"/>
              <p:cNvSpPr/>
              <p:nvPr/>
            </p:nvSpPr>
            <p:spPr>
              <a:xfrm>
                <a:off x="5607000" y="3865320"/>
                <a:ext cx="10440" cy="180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38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36" name="Freeform 66"/>
              <p:cNvSpPr/>
              <p:nvPr/>
            </p:nvSpPr>
            <p:spPr>
              <a:xfrm>
                <a:off x="5591520" y="386712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38" y="0"/>
                    </a:moveTo>
                    <a:lnTo>
                      <a:pt x="0" y="19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37" name="Freeform 67"/>
              <p:cNvSpPr/>
              <p:nvPr/>
            </p:nvSpPr>
            <p:spPr>
              <a:xfrm>
                <a:off x="5591520" y="3869640"/>
                <a:ext cx="4680" cy="3600"/>
              </a:xfrm>
              <a:custGeom>
                <a:avLst/>
                <a:gdLst/>
                <a:ahLst/>
                <a:rect l="l" t="t" r="r" b="b"/>
                <a:pathLst>
                  <a:path w="19" h="2">
                    <a:moveTo>
                      <a:pt x="19" y="0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</p:grpSp>
        <p:sp>
          <p:nvSpPr>
            <p:cNvPr id="338" name="Rectangle 139"/>
            <p:cNvSpPr/>
            <p:nvPr/>
          </p:nvSpPr>
          <p:spPr>
            <a:xfrm>
              <a:off x="4038480" y="3283200"/>
              <a:ext cx="2664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f5494"/>
                  </a:solidFill>
                  <a:latin typeface="Verdana"/>
                </a:rPr>
                <a:t>Les règles de jeu      formelles et  informelles</a:t>
              </a:r>
              <a:endParaRPr b="0" lang="en-US" sz="20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grpSp>
        <p:nvGrpSpPr>
          <p:cNvPr id="339" name="Group 212"/>
          <p:cNvGrpSpPr/>
          <p:nvPr/>
        </p:nvGrpSpPr>
        <p:grpSpPr>
          <a:xfrm>
            <a:off x="684360" y="3232080"/>
            <a:ext cx="2627640" cy="1255680"/>
            <a:chOff x="684360" y="3232080"/>
            <a:chExt cx="2627640" cy="1255680"/>
          </a:xfrm>
        </p:grpSpPr>
        <p:grpSp>
          <p:nvGrpSpPr>
            <p:cNvPr id="340" name="Group 68"/>
            <p:cNvGrpSpPr/>
            <p:nvPr/>
          </p:nvGrpSpPr>
          <p:grpSpPr>
            <a:xfrm>
              <a:off x="684360" y="3232080"/>
              <a:ext cx="2627640" cy="1223640"/>
              <a:chOff x="684360" y="3232080"/>
              <a:chExt cx="2627640" cy="1223640"/>
            </a:xfrm>
          </p:grpSpPr>
          <p:sp>
            <p:nvSpPr>
              <p:cNvPr id="341" name="Freeform 69"/>
              <p:cNvSpPr/>
              <p:nvPr/>
            </p:nvSpPr>
            <p:spPr>
              <a:xfrm>
                <a:off x="1008720" y="3232080"/>
                <a:ext cx="1400040" cy="123840"/>
              </a:xfrm>
              <a:custGeom>
                <a:avLst/>
                <a:gdLst/>
                <a:ahLst/>
                <a:rect l="l" t="t" r="r" b="b"/>
                <a:pathLst>
                  <a:path w="7154" h="1419">
                    <a:moveTo>
                      <a:pt x="3416" y="0"/>
                    </a:moveTo>
                    <a:lnTo>
                      <a:pt x="3435" y="0"/>
                    </a:lnTo>
                    <a:lnTo>
                      <a:pt x="3435" y="0"/>
                    </a:lnTo>
                    <a:lnTo>
                      <a:pt x="3454" y="0"/>
                    </a:lnTo>
                    <a:lnTo>
                      <a:pt x="3454" y="0"/>
                    </a:lnTo>
                    <a:lnTo>
                      <a:pt x="3473" y="0"/>
                    </a:lnTo>
                    <a:lnTo>
                      <a:pt x="3473" y="0"/>
                    </a:lnTo>
                    <a:lnTo>
                      <a:pt x="3473" y="18"/>
                    </a:lnTo>
                    <a:lnTo>
                      <a:pt x="3492" y="18"/>
                    </a:lnTo>
                    <a:lnTo>
                      <a:pt x="3661" y="719"/>
                    </a:lnTo>
                    <a:lnTo>
                      <a:pt x="4794" y="387"/>
                    </a:lnTo>
                    <a:lnTo>
                      <a:pt x="4889" y="1180"/>
                    </a:lnTo>
                    <a:lnTo>
                      <a:pt x="4549" y="1419"/>
                    </a:lnTo>
                    <a:lnTo>
                      <a:pt x="0" y="1419"/>
                    </a:lnTo>
                    <a:lnTo>
                      <a:pt x="19" y="1382"/>
                    </a:lnTo>
                    <a:lnTo>
                      <a:pt x="57" y="1346"/>
                    </a:lnTo>
                    <a:lnTo>
                      <a:pt x="76" y="1327"/>
                    </a:lnTo>
                    <a:lnTo>
                      <a:pt x="94" y="1309"/>
                    </a:lnTo>
                    <a:lnTo>
                      <a:pt x="131" y="1272"/>
                    </a:lnTo>
                    <a:lnTo>
                      <a:pt x="150" y="1253"/>
                    </a:lnTo>
                    <a:lnTo>
                      <a:pt x="188" y="1216"/>
                    </a:lnTo>
                    <a:lnTo>
                      <a:pt x="207" y="1198"/>
                    </a:lnTo>
                    <a:lnTo>
                      <a:pt x="245" y="1180"/>
                    </a:lnTo>
                    <a:lnTo>
                      <a:pt x="264" y="1143"/>
                    </a:lnTo>
                    <a:lnTo>
                      <a:pt x="302" y="1124"/>
                    </a:lnTo>
                    <a:lnTo>
                      <a:pt x="321" y="1106"/>
                    </a:lnTo>
                    <a:lnTo>
                      <a:pt x="358" y="1087"/>
                    </a:lnTo>
                    <a:lnTo>
                      <a:pt x="396" y="1069"/>
                    </a:lnTo>
                    <a:lnTo>
                      <a:pt x="415" y="1050"/>
                    </a:lnTo>
                    <a:lnTo>
                      <a:pt x="453" y="1014"/>
                    </a:lnTo>
                    <a:lnTo>
                      <a:pt x="453" y="1033"/>
                    </a:lnTo>
                    <a:lnTo>
                      <a:pt x="471" y="1050"/>
                    </a:lnTo>
                    <a:lnTo>
                      <a:pt x="471" y="1050"/>
                    </a:lnTo>
                    <a:lnTo>
                      <a:pt x="490" y="1069"/>
                    </a:lnTo>
                    <a:lnTo>
                      <a:pt x="490" y="1069"/>
                    </a:lnTo>
                    <a:lnTo>
                      <a:pt x="509" y="1087"/>
                    </a:lnTo>
                    <a:lnTo>
                      <a:pt x="509" y="1106"/>
                    </a:lnTo>
                    <a:lnTo>
                      <a:pt x="509" y="1124"/>
                    </a:lnTo>
                    <a:lnTo>
                      <a:pt x="528" y="1143"/>
                    </a:lnTo>
                    <a:lnTo>
                      <a:pt x="528" y="1143"/>
                    </a:lnTo>
                    <a:lnTo>
                      <a:pt x="528" y="1161"/>
                    </a:lnTo>
                    <a:lnTo>
                      <a:pt x="547" y="1180"/>
                    </a:lnTo>
                    <a:lnTo>
                      <a:pt x="547" y="1198"/>
                    </a:lnTo>
                    <a:lnTo>
                      <a:pt x="547" y="1216"/>
                    </a:lnTo>
                    <a:lnTo>
                      <a:pt x="566" y="1216"/>
                    </a:lnTo>
                    <a:lnTo>
                      <a:pt x="566" y="1235"/>
                    </a:lnTo>
                    <a:lnTo>
                      <a:pt x="566" y="1253"/>
                    </a:lnTo>
                    <a:lnTo>
                      <a:pt x="566" y="1272"/>
                    </a:lnTo>
                    <a:lnTo>
                      <a:pt x="566" y="1272"/>
                    </a:lnTo>
                    <a:lnTo>
                      <a:pt x="566" y="1290"/>
                    </a:lnTo>
                    <a:lnTo>
                      <a:pt x="566" y="1309"/>
                    </a:lnTo>
                    <a:lnTo>
                      <a:pt x="566" y="1327"/>
                    </a:lnTo>
                    <a:lnTo>
                      <a:pt x="585" y="1346"/>
                    </a:lnTo>
                    <a:lnTo>
                      <a:pt x="585" y="1364"/>
                    </a:lnTo>
                    <a:lnTo>
                      <a:pt x="3416" y="0"/>
                    </a:lnTo>
                    <a:close/>
                    <a:moveTo>
                      <a:pt x="5115" y="1419"/>
                    </a:moveTo>
                    <a:lnTo>
                      <a:pt x="5134" y="1400"/>
                    </a:lnTo>
                    <a:lnTo>
                      <a:pt x="5172" y="1382"/>
                    </a:lnTo>
                    <a:lnTo>
                      <a:pt x="5209" y="1364"/>
                    </a:lnTo>
                    <a:lnTo>
                      <a:pt x="5247" y="1364"/>
                    </a:lnTo>
                    <a:lnTo>
                      <a:pt x="5266" y="1346"/>
                    </a:lnTo>
                    <a:lnTo>
                      <a:pt x="5304" y="1327"/>
                    </a:lnTo>
                    <a:lnTo>
                      <a:pt x="5342" y="1309"/>
                    </a:lnTo>
                    <a:lnTo>
                      <a:pt x="5361" y="1309"/>
                    </a:lnTo>
                    <a:lnTo>
                      <a:pt x="5399" y="1290"/>
                    </a:lnTo>
                    <a:lnTo>
                      <a:pt x="5436" y="1272"/>
                    </a:lnTo>
                    <a:lnTo>
                      <a:pt x="5473" y="1272"/>
                    </a:lnTo>
                    <a:lnTo>
                      <a:pt x="5492" y="1253"/>
                    </a:lnTo>
                    <a:lnTo>
                      <a:pt x="5530" y="1235"/>
                    </a:lnTo>
                    <a:lnTo>
                      <a:pt x="5568" y="1216"/>
                    </a:lnTo>
                    <a:lnTo>
                      <a:pt x="5587" y="1216"/>
                    </a:lnTo>
                    <a:lnTo>
                      <a:pt x="5625" y="1198"/>
                    </a:lnTo>
                    <a:lnTo>
                      <a:pt x="5663" y="1198"/>
                    </a:lnTo>
                    <a:lnTo>
                      <a:pt x="5701" y="1180"/>
                    </a:lnTo>
                    <a:lnTo>
                      <a:pt x="5720" y="1161"/>
                    </a:lnTo>
                    <a:lnTo>
                      <a:pt x="5757" y="1161"/>
                    </a:lnTo>
                    <a:lnTo>
                      <a:pt x="5794" y="1143"/>
                    </a:lnTo>
                    <a:lnTo>
                      <a:pt x="5813" y="1143"/>
                    </a:lnTo>
                    <a:lnTo>
                      <a:pt x="5851" y="1124"/>
                    </a:lnTo>
                    <a:lnTo>
                      <a:pt x="5889" y="1106"/>
                    </a:lnTo>
                    <a:lnTo>
                      <a:pt x="5908" y="1106"/>
                    </a:lnTo>
                    <a:lnTo>
                      <a:pt x="5946" y="1087"/>
                    </a:lnTo>
                    <a:lnTo>
                      <a:pt x="5984" y="1087"/>
                    </a:lnTo>
                    <a:lnTo>
                      <a:pt x="6002" y="1069"/>
                    </a:lnTo>
                    <a:lnTo>
                      <a:pt x="6040" y="1069"/>
                    </a:lnTo>
                    <a:lnTo>
                      <a:pt x="6078" y="1069"/>
                    </a:lnTo>
                    <a:lnTo>
                      <a:pt x="6097" y="1050"/>
                    </a:lnTo>
                    <a:lnTo>
                      <a:pt x="6134" y="1050"/>
                    </a:lnTo>
                    <a:lnTo>
                      <a:pt x="6172" y="1033"/>
                    </a:lnTo>
                    <a:lnTo>
                      <a:pt x="6210" y="1033"/>
                    </a:lnTo>
                    <a:lnTo>
                      <a:pt x="6229" y="1014"/>
                    </a:lnTo>
                    <a:lnTo>
                      <a:pt x="6266" y="1014"/>
                    </a:lnTo>
                    <a:lnTo>
                      <a:pt x="6304" y="996"/>
                    </a:lnTo>
                    <a:lnTo>
                      <a:pt x="6323" y="996"/>
                    </a:lnTo>
                    <a:lnTo>
                      <a:pt x="6361" y="996"/>
                    </a:lnTo>
                    <a:lnTo>
                      <a:pt x="6399" y="977"/>
                    </a:lnTo>
                    <a:lnTo>
                      <a:pt x="6418" y="977"/>
                    </a:lnTo>
                    <a:lnTo>
                      <a:pt x="6456" y="959"/>
                    </a:lnTo>
                    <a:lnTo>
                      <a:pt x="6493" y="959"/>
                    </a:lnTo>
                    <a:lnTo>
                      <a:pt x="6512" y="940"/>
                    </a:lnTo>
                    <a:lnTo>
                      <a:pt x="6549" y="940"/>
                    </a:lnTo>
                    <a:lnTo>
                      <a:pt x="6587" y="922"/>
                    </a:lnTo>
                    <a:lnTo>
                      <a:pt x="6606" y="922"/>
                    </a:lnTo>
                    <a:lnTo>
                      <a:pt x="6644" y="903"/>
                    </a:lnTo>
                    <a:lnTo>
                      <a:pt x="6663" y="903"/>
                    </a:lnTo>
                    <a:lnTo>
                      <a:pt x="6701" y="885"/>
                    </a:lnTo>
                    <a:lnTo>
                      <a:pt x="6739" y="885"/>
                    </a:lnTo>
                    <a:lnTo>
                      <a:pt x="6758" y="866"/>
                    </a:lnTo>
                    <a:lnTo>
                      <a:pt x="6796" y="866"/>
                    </a:lnTo>
                    <a:lnTo>
                      <a:pt x="6814" y="866"/>
                    </a:lnTo>
                    <a:lnTo>
                      <a:pt x="6851" y="848"/>
                    </a:lnTo>
                    <a:lnTo>
                      <a:pt x="6889" y="848"/>
                    </a:lnTo>
                    <a:lnTo>
                      <a:pt x="6908" y="829"/>
                    </a:lnTo>
                    <a:lnTo>
                      <a:pt x="6946" y="829"/>
                    </a:lnTo>
                    <a:lnTo>
                      <a:pt x="6965" y="811"/>
                    </a:lnTo>
                    <a:lnTo>
                      <a:pt x="7003" y="811"/>
                    </a:lnTo>
                    <a:lnTo>
                      <a:pt x="7022" y="811"/>
                    </a:lnTo>
                    <a:lnTo>
                      <a:pt x="7060" y="792"/>
                    </a:lnTo>
                    <a:lnTo>
                      <a:pt x="7078" y="792"/>
                    </a:lnTo>
                    <a:lnTo>
                      <a:pt x="7116" y="792"/>
                    </a:lnTo>
                    <a:lnTo>
                      <a:pt x="7154" y="1419"/>
                    </a:lnTo>
                    <a:lnTo>
                      <a:pt x="5115" y="14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42" name="Freeform 70"/>
              <p:cNvSpPr/>
              <p:nvPr/>
            </p:nvSpPr>
            <p:spPr>
              <a:xfrm>
                <a:off x="899640" y="3292200"/>
                <a:ext cx="2055960" cy="123480"/>
              </a:xfrm>
              <a:custGeom>
                <a:avLst/>
                <a:gdLst/>
                <a:ahLst/>
                <a:rect l="l" t="t" r="r" b="b"/>
                <a:pathLst>
                  <a:path w="10534" h="1419">
                    <a:moveTo>
                      <a:pt x="4228" y="0"/>
                    </a:moveTo>
                    <a:lnTo>
                      <a:pt x="4228" y="19"/>
                    </a:lnTo>
                    <a:lnTo>
                      <a:pt x="4304" y="0"/>
                    </a:lnTo>
                    <a:lnTo>
                      <a:pt x="5399" y="0"/>
                    </a:lnTo>
                    <a:lnTo>
                      <a:pt x="5456" y="480"/>
                    </a:lnTo>
                    <a:lnTo>
                      <a:pt x="4153" y="1346"/>
                    </a:lnTo>
                    <a:lnTo>
                      <a:pt x="4228" y="1327"/>
                    </a:lnTo>
                    <a:lnTo>
                      <a:pt x="4304" y="1290"/>
                    </a:lnTo>
                    <a:lnTo>
                      <a:pt x="4380" y="1272"/>
                    </a:lnTo>
                    <a:lnTo>
                      <a:pt x="4455" y="1235"/>
                    </a:lnTo>
                    <a:lnTo>
                      <a:pt x="4531" y="1198"/>
                    </a:lnTo>
                    <a:lnTo>
                      <a:pt x="4606" y="1180"/>
                    </a:lnTo>
                    <a:lnTo>
                      <a:pt x="4681" y="1143"/>
                    </a:lnTo>
                    <a:lnTo>
                      <a:pt x="4776" y="1106"/>
                    </a:lnTo>
                    <a:lnTo>
                      <a:pt x="4852" y="1069"/>
                    </a:lnTo>
                    <a:lnTo>
                      <a:pt x="4927" y="1032"/>
                    </a:lnTo>
                    <a:lnTo>
                      <a:pt x="5002" y="1014"/>
                    </a:lnTo>
                    <a:lnTo>
                      <a:pt x="5097" y="977"/>
                    </a:lnTo>
                    <a:lnTo>
                      <a:pt x="5173" y="940"/>
                    </a:lnTo>
                    <a:lnTo>
                      <a:pt x="5248" y="903"/>
                    </a:lnTo>
                    <a:lnTo>
                      <a:pt x="5342" y="867"/>
                    </a:lnTo>
                    <a:lnTo>
                      <a:pt x="5418" y="830"/>
                    </a:lnTo>
                    <a:lnTo>
                      <a:pt x="5493" y="793"/>
                    </a:lnTo>
                    <a:lnTo>
                      <a:pt x="5569" y="756"/>
                    </a:lnTo>
                    <a:lnTo>
                      <a:pt x="5663" y="719"/>
                    </a:lnTo>
                    <a:lnTo>
                      <a:pt x="5739" y="682"/>
                    </a:lnTo>
                    <a:lnTo>
                      <a:pt x="5814" y="646"/>
                    </a:lnTo>
                    <a:lnTo>
                      <a:pt x="5909" y="609"/>
                    </a:lnTo>
                    <a:lnTo>
                      <a:pt x="5984" y="590"/>
                    </a:lnTo>
                    <a:lnTo>
                      <a:pt x="6059" y="553"/>
                    </a:lnTo>
                    <a:lnTo>
                      <a:pt x="6154" y="516"/>
                    </a:lnTo>
                    <a:lnTo>
                      <a:pt x="6230" y="498"/>
                    </a:lnTo>
                    <a:lnTo>
                      <a:pt x="6305" y="461"/>
                    </a:lnTo>
                    <a:lnTo>
                      <a:pt x="6380" y="443"/>
                    </a:lnTo>
                    <a:lnTo>
                      <a:pt x="6475" y="406"/>
                    </a:lnTo>
                    <a:lnTo>
                      <a:pt x="6551" y="387"/>
                    </a:lnTo>
                    <a:lnTo>
                      <a:pt x="6626" y="369"/>
                    </a:lnTo>
                    <a:lnTo>
                      <a:pt x="6701" y="350"/>
                    </a:lnTo>
                    <a:lnTo>
                      <a:pt x="6739" y="333"/>
                    </a:lnTo>
                    <a:lnTo>
                      <a:pt x="6777" y="333"/>
                    </a:lnTo>
                    <a:lnTo>
                      <a:pt x="6796" y="314"/>
                    </a:lnTo>
                    <a:lnTo>
                      <a:pt x="6833" y="314"/>
                    </a:lnTo>
                    <a:lnTo>
                      <a:pt x="6871" y="296"/>
                    </a:lnTo>
                    <a:lnTo>
                      <a:pt x="6890" y="296"/>
                    </a:lnTo>
                    <a:lnTo>
                      <a:pt x="6928" y="296"/>
                    </a:lnTo>
                    <a:lnTo>
                      <a:pt x="6966" y="277"/>
                    </a:lnTo>
                    <a:lnTo>
                      <a:pt x="6985" y="277"/>
                    </a:lnTo>
                    <a:lnTo>
                      <a:pt x="7023" y="259"/>
                    </a:lnTo>
                    <a:lnTo>
                      <a:pt x="7060" y="259"/>
                    </a:lnTo>
                    <a:lnTo>
                      <a:pt x="7079" y="240"/>
                    </a:lnTo>
                    <a:lnTo>
                      <a:pt x="7116" y="240"/>
                    </a:lnTo>
                    <a:lnTo>
                      <a:pt x="7154" y="222"/>
                    </a:lnTo>
                    <a:lnTo>
                      <a:pt x="7173" y="222"/>
                    </a:lnTo>
                    <a:lnTo>
                      <a:pt x="7211" y="203"/>
                    </a:lnTo>
                    <a:lnTo>
                      <a:pt x="7230" y="203"/>
                    </a:lnTo>
                    <a:lnTo>
                      <a:pt x="7268" y="185"/>
                    </a:lnTo>
                    <a:lnTo>
                      <a:pt x="7306" y="185"/>
                    </a:lnTo>
                    <a:lnTo>
                      <a:pt x="7325" y="166"/>
                    </a:lnTo>
                    <a:lnTo>
                      <a:pt x="7363" y="166"/>
                    </a:lnTo>
                    <a:lnTo>
                      <a:pt x="7381" y="166"/>
                    </a:lnTo>
                    <a:lnTo>
                      <a:pt x="7418" y="148"/>
                    </a:lnTo>
                    <a:lnTo>
                      <a:pt x="7456" y="148"/>
                    </a:lnTo>
                    <a:lnTo>
                      <a:pt x="7475" y="129"/>
                    </a:lnTo>
                    <a:lnTo>
                      <a:pt x="7513" y="129"/>
                    </a:lnTo>
                    <a:lnTo>
                      <a:pt x="7532" y="111"/>
                    </a:lnTo>
                    <a:lnTo>
                      <a:pt x="7570" y="111"/>
                    </a:lnTo>
                    <a:lnTo>
                      <a:pt x="7589" y="111"/>
                    </a:lnTo>
                    <a:lnTo>
                      <a:pt x="7627" y="92"/>
                    </a:lnTo>
                    <a:lnTo>
                      <a:pt x="7645" y="92"/>
                    </a:lnTo>
                    <a:lnTo>
                      <a:pt x="7683" y="92"/>
                    </a:lnTo>
                    <a:lnTo>
                      <a:pt x="7740" y="885"/>
                    </a:lnTo>
                    <a:lnTo>
                      <a:pt x="6607" y="1419"/>
                    </a:lnTo>
                    <a:lnTo>
                      <a:pt x="0" y="1419"/>
                    </a:lnTo>
                    <a:lnTo>
                      <a:pt x="38" y="1382"/>
                    </a:lnTo>
                    <a:lnTo>
                      <a:pt x="57" y="1346"/>
                    </a:lnTo>
                    <a:lnTo>
                      <a:pt x="95" y="1309"/>
                    </a:lnTo>
                    <a:lnTo>
                      <a:pt x="113" y="1272"/>
                    </a:lnTo>
                    <a:lnTo>
                      <a:pt x="151" y="1235"/>
                    </a:lnTo>
                    <a:lnTo>
                      <a:pt x="170" y="1198"/>
                    </a:lnTo>
                    <a:lnTo>
                      <a:pt x="208" y="1161"/>
                    </a:lnTo>
                    <a:lnTo>
                      <a:pt x="246" y="1124"/>
                    </a:lnTo>
                    <a:lnTo>
                      <a:pt x="265" y="1087"/>
                    </a:lnTo>
                    <a:lnTo>
                      <a:pt x="303" y="1050"/>
                    </a:lnTo>
                    <a:lnTo>
                      <a:pt x="321" y="1014"/>
                    </a:lnTo>
                    <a:lnTo>
                      <a:pt x="359" y="977"/>
                    </a:lnTo>
                    <a:lnTo>
                      <a:pt x="377" y="940"/>
                    </a:lnTo>
                    <a:lnTo>
                      <a:pt x="415" y="885"/>
                    </a:lnTo>
                    <a:lnTo>
                      <a:pt x="434" y="848"/>
                    </a:lnTo>
                    <a:lnTo>
                      <a:pt x="472" y="811"/>
                    </a:lnTo>
                    <a:lnTo>
                      <a:pt x="510" y="774"/>
                    </a:lnTo>
                    <a:lnTo>
                      <a:pt x="529" y="756"/>
                    </a:lnTo>
                    <a:lnTo>
                      <a:pt x="567" y="719"/>
                    </a:lnTo>
                    <a:lnTo>
                      <a:pt x="605" y="682"/>
                    </a:lnTo>
                    <a:lnTo>
                      <a:pt x="624" y="646"/>
                    </a:lnTo>
                    <a:lnTo>
                      <a:pt x="661" y="609"/>
                    </a:lnTo>
                    <a:lnTo>
                      <a:pt x="698" y="572"/>
                    </a:lnTo>
                    <a:lnTo>
                      <a:pt x="736" y="553"/>
                    </a:lnTo>
                    <a:lnTo>
                      <a:pt x="755" y="516"/>
                    </a:lnTo>
                    <a:lnTo>
                      <a:pt x="793" y="480"/>
                    </a:lnTo>
                    <a:lnTo>
                      <a:pt x="831" y="461"/>
                    </a:lnTo>
                    <a:lnTo>
                      <a:pt x="869" y="424"/>
                    </a:lnTo>
                    <a:lnTo>
                      <a:pt x="907" y="406"/>
                    </a:lnTo>
                    <a:lnTo>
                      <a:pt x="944" y="369"/>
                    </a:lnTo>
                    <a:lnTo>
                      <a:pt x="982" y="350"/>
                    </a:lnTo>
                    <a:lnTo>
                      <a:pt x="1020" y="314"/>
                    </a:lnTo>
                    <a:lnTo>
                      <a:pt x="1020" y="333"/>
                    </a:lnTo>
                    <a:lnTo>
                      <a:pt x="1038" y="350"/>
                    </a:lnTo>
                    <a:lnTo>
                      <a:pt x="1038" y="350"/>
                    </a:lnTo>
                    <a:lnTo>
                      <a:pt x="1057" y="369"/>
                    </a:lnTo>
                    <a:lnTo>
                      <a:pt x="1057" y="369"/>
                    </a:lnTo>
                    <a:lnTo>
                      <a:pt x="1076" y="387"/>
                    </a:lnTo>
                    <a:lnTo>
                      <a:pt x="1076" y="406"/>
                    </a:lnTo>
                    <a:lnTo>
                      <a:pt x="1076" y="424"/>
                    </a:lnTo>
                    <a:lnTo>
                      <a:pt x="1095" y="443"/>
                    </a:lnTo>
                    <a:lnTo>
                      <a:pt x="1095" y="443"/>
                    </a:lnTo>
                    <a:lnTo>
                      <a:pt x="1095" y="461"/>
                    </a:lnTo>
                    <a:lnTo>
                      <a:pt x="1114" y="480"/>
                    </a:lnTo>
                    <a:lnTo>
                      <a:pt x="1114" y="498"/>
                    </a:lnTo>
                    <a:lnTo>
                      <a:pt x="1114" y="516"/>
                    </a:lnTo>
                    <a:lnTo>
                      <a:pt x="1133" y="516"/>
                    </a:lnTo>
                    <a:lnTo>
                      <a:pt x="1133" y="535"/>
                    </a:lnTo>
                    <a:lnTo>
                      <a:pt x="1133" y="553"/>
                    </a:lnTo>
                    <a:lnTo>
                      <a:pt x="1133" y="572"/>
                    </a:lnTo>
                    <a:lnTo>
                      <a:pt x="1133" y="572"/>
                    </a:lnTo>
                    <a:lnTo>
                      <a:pt x="1133" y="590"/>
                    </a:lnTo>
                    <a:lnTo>
                      <a:pt x="1133" y="609"/>
                    </a:lnTo>
                    <a:lnTo>
                      <a:pt x="1133" y="627"/>
                    </a:lnTo>
                    <a:lnTo>
                      <a:pt x="1152" y="646"/>
                    </a:lnTo>
                    <a:lnTo>
                      <a:pt x="1152" y="664"/>
                    </a:lnTo>
                    <a:lnTo>
                      <a:pt x="2529" y="0"/>
                    </a:lnTo>
                    <a:lnTo>
                      <a:pt x="4228" y="0"/>
                    </a:lnTo>
                    <a:close/>
                    <a:moveTo>
                      <a:pt x="7268" y="1419"/>
                    </a:moveTo>
                    <a:lnTo>
                      <a:pt x="7325" y="1400"/>
                    </a:lnTo>
                    <a:lnTo>
                      <a:pt x="7381" y="1382"/>
                    </a:lnTo>
                    <a:lnTo>
                      <a:pt x="7437" y="1364"/>
                    </a:lnTo>
                    <a:lnTo>
                      <a:pt x="7494" y="1346"/>
                    </a:lnTo>
                    <a:lnTo>
                      <a:pt x="7551" y="1327"/>
                    </a:lnTo>
                    <a:lnTo>
                      <a:pt x="7589" y="1309"/>
                    </a:lnTo>
                    <a:lnTo>
                      <a:pt x="7645" y="1309"/>
                    </a:lnTo>
                    <a:lnTo>
                      <a:pt x="7702" y="1290"/>
                    </a:lnTo>
                    <a:lnTo>
                      <a:pt x="7758" y="1272"/>
                    </a:lnTo>
                    <a:lnTo>
                      <a:pt x="7815" y="1254"/>
                    </a:lnTo>
                    <a:lnTo>
                      <a:pt x="7872" y="1235"/>
                    </a:lnTo>
                    <a:lnTo>
                      <a:pt x="7928" y="1217"/>
                    </a:lnTo>
                    <a:lnTo>
                      <a:pt x="7985" y="1198"/>
                    </a:lnTo>
                    <a:lnTo>
                      <a:pt x="8042" y="1198"/>
                    </a:lnTo>
                    <a:lnTo>
                      <a:pt x="8099" y="1180"/>
                    </a:lnTo>
                    <a:lnTo>
                      <a:pt x="8155" y="1161"/>
                    </a:lnTo>
                    <a:lnTo>
                      <a:pt x="8211" y="1143"/>
                    </a:lnTo>
                    <a:lnTo>
                      <a:pt x="8268" y="1143"/>
                    </a:lnTo>
                    <a:lnTo>
                      <a:pt x="8325" y="1124"/>
                    </a:lnTo>
                    <a:lnTo>
                      <a:pt x="8363" y="1106"/>
                    </a:lnTo>
                    <a:lnTo>
                      <a:pt x="8420" y="1106"/>
                    </a:lnTo>
                    <a:lnTo>
                      <a:pt x="8475" y="1087"/>
                    </a:lnTo>
                    <a:lnTo>
                      <a:pt x="8532" y="1087"/>
                    </a:lnTo>
                    <a:lnTo>
                      <a:pt x="8589" y="1069"/>
                    </a:lnTo>
                    <a:lnTo>
                      <a:pt x="8646" y="1050"/>
                    </a:lnTo>
                    <a:lnTo>
                      <a:pt x="8703" y="1050"/>
                    </a:lnTo>
                    <a:lnTo>
                      <a:pt x="8759" y="1032"/>
                    </a:lnTo>
                    <a:lnTo>
                      <a:pt x="8815" y="1032"/>
                    </a:lnTo>
                    <a:lnTo>
                      <a:pt x="8872" y="1032"/>
                    </a:lnTo>
                    <a:lnTo>
                      <a:pt x="8929" y="1014"/>
                    </a:lnTo>
                    <a:lnTo>
                      <a:pt x="8985" y="1014"/>
                    </a:lnTo>
                    <a:lnTo>
                      <a:pt x="9023" y="1014"/>
                    </a:lnTo>
                    <a:lnTo>
                      <a:pt x="9042" y="1032"/>
                    </a:lnTo>
                    <a:lnTo>
                      <a:pt x="9042" y="1050"/>
                    </a:lnTo>
                    <a:lnTo>
                      <a:pt x="9061" y="1069"/>
                    </a:lnTo>
                    <a:lnTo>
                      <a:pt x="9061" y="1106"/>
                    </a:lnTo>
                    <a:lnTo>
                      <a:pt x="9061" y="1124"/>
                    </a:lnTo>
                    <a:lnTo>
                      <a:pt x="9061" y="1143"/>
                    </a:lnTo>
                    <a:lnTo>
                      <a:pt x="9080" y="1180"/>
                    </a:lnTo>
                    <a:lnTo>
                      <a:pt x="9080" y="1198"/>
                    </a:lnTo>
                    <a:lnTo>
                      <a:pt x="9080" y="1235"/>
                    </a:lnTo>
                    <a:lnTo>
                      <a:pt x="9080" y="1254"/>
                    </a:lnTo>
                    <a:lnTo>
                      <a:pt x="9061" y="1290"/>
                    </a:lnTo>
                    <a:lnTo>
                      <a:pt x="9061" y="1309"/>
                    </a:lnTo>
                    <a:lnTo>
                      <a:pt x="9061" y="1346"/>
                    </a:lnTo>
                    <a:lnTo>
                      <a:pt x="9061" y="1364"/>
                    </a:lnTo>
                    <a:lnTo>
                      <a:pt x="9061" y="1400"/>
                    </a:lnTo>
                    <a:lnTo>
                      <a:pt x="9061" y="1419"/>
                    </a:lnTo>
                    <a:lnTo>
                      <a:pt x="7268" y="1419"/>
                    </a:lnTo>
                    <a:close/>
                    <a:moveTo>
                      <a:pt x="9665" y="1419"/>
                    </a:moveTo>
                    <a:lnTo>
                      <a:pt x="10477" y="1309"/>
                    </a:lnTo>
                    <a:lnTo>
                      <a:pt x="10496" y="1309"/>
                    </a:lnTo>
                    <a:lnTo>
                      <a:pt x="10515" y="1327"/>
                    </a:lnTo>
                    <a:lnTo>
                      <a:pt x="10515" y="1327"/>
                    </a:lnTo>
                    <a:lnTo>
                      <a:pt x="10515" y="1346"/>
                    </a:lnTo>
                    <a:lnTo>
                      <a:pt x="10534" y="1364"/>
                    </a:lnTo>
                    <a:lnTo>
                      <a:pt x="10534" y="1382"/>
                    </a:lnTo>
                    <a:lnTo>
                      <a:pt x="10534" y="1400"/>
                    </a:lnTo>
                    <a:lnTo>
                      <a:pt x="10534" y="1419"/>
                    </a:lnTo>
                    <a:lnTo>
                      <a:pt x="9665" y="14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43" name="Freeform 71"/>
              <p:cNvSpPr/>
              <p:nvPr/>
            </p:nvSpPr>
            <p:spPr>
              <a:xfrm>
                <a:off x="836640" y="3355920"/>
                <a:ext cx="2417040" cy="121680"/>
              </a:xfrm>
              <a:custGeom>
                <a:avLst/>
                <a:gdLst/>
                <a:ahLst/>
                <a:rect l="l" t="t" r="r" b="b"/>
                <a:pathLst>
                  <a:path w="12364" h="1418">
                    <a:moveTo>
                      <a:pt x="5437" y="0"/>
                    </a:moveTo>
                    <a:lnTo>
                      <a:pt x="4474" y="627"/>
                    </a:lnTo>
                    <a:lnTo>
                      <a:pt x="4512" y="608"/>
                    </a:lnTo>
                    <a:lnTo>
                      <a:pt x="4568" y="590"/>
                    </a:lnTo>
                    <a:lnTo>
                      <a:pt x="4606" y="590"/>
                    </a:lnTo>
                    <a:lnTo>
                      <a:pt x="4644" y="571"/>
                    </a:lnTo>
                    <a:lnTo>
                      <a:pt x="4701" y="553"/>
                    </a:lnTo>
                    <a:lnTo>
                      <a:pt x="4738" y="535"/>
                    </a:lnTo>
                    <a:lnTo>
                      <a:pt x="4795" y="516"/>
                    </a:lnTo>
                    <a:lnTo>
                      <a:pt x="4833" y="498"/>
                    </a:lnTo>
                    <a:lnTo>
                      <a:pt x="4889" y="479"/>
                    </a:lnTo>
                    <a:lnTo>
                      <a:pt x="4927" y="461"/>
                    </a:lnTo>
                    <a:lnTo>
                      <a:pt x="4984" y="442"/>
                    </a:lnTo>
                    <a:lnTo>
                      <a:pt x="5021" y="424"/>
                    </a:lnTo>
                    <a:lnTo>
                      <a:pt x="5078" y="405"/>
                    </a:lnTo>
                    <a:lnTo>
                      <a:pt x="5116" y="368"/>
                    </a:lnTo>
                    <a:lnTo>
                      <a:pt x="5173" y="350"/>
                    </a:lnTo>
                    <a:lnTo>
                      <a:pt x="5211" y="331"/>
                    </a:lnTo>
                    <a:lnTo>
                      <a:pt x="5266" y="313"/>
                    </a:lnTo>
                    <a:lnTo>
                      <a:pt x="5304" y="295"/>
                    </a:lnTo>
                    <a:lnTo>
                      <a:pt x="5361" y="277"/>
                    </a:lnTo>
                    <a:lnTo>
                      <a:pt x="5418" y="258"/>
                    </a:lnTo>
                    <a:lnTo>
                      <a:pt x="5456" y="221"/>
                    </a:lnTo>
                    <a:lnTo>
                      <a:pt x="5513" y="203"/>
                    </a:lnTo>
                    <a:lnTo>
                      <a:pt x="5550" y="184"/>
                    </a:lnTo>
                    <a:lnTo>
                      <a:pt x="5606" y="166"/>
                    </a:lnTo>
                    <a:lnTo>
                      <a:pt x="5644" y="148"/>
                    </a:lnTo>
                    <a:lnTo>
                      <a:pt x="5701" y="129"/>
                    </a:lnTo>
                    <a:lnTo>
                      <a:pt x="5758" y="92"/>
                    </a:lnTo>
                    <a:lnTo>
                      <a:pt x="5796" y="74"/>
                    </a:lnTo>
                    <a:lnTo>
                      <a:pt x="5852" y="55"/>
                    </a:lnTo>
                    <a:lnTo>
                      <a:pt x="5890" y="37"/>
                    </a:lnTo>
                    <a:lnTo>
                      <a:pt x="5947" y="18"/>
                    </a:lnTo>
                    <a:lnTo>
                      <a:pt x="6003" y="0"/>
                    </a:lnTo>
                    <a:lnTo>
                      <a:pt x="8042" y="0"/>
                    </a:lnTo>
                    <a:lnTo>
                      <a:pt x="8061" y="166"/>
                    </a:lnTo>
                    <a:lnTo>
                      <a:pt x="5418" y="1418"/>
                    </a:lnTo>
                    <a:lnTo>
                      <a:pt x="1057" y="1418"/>
                    </a:lnTo>
                    <a:lnTo>
                      <a:pt x="1416" y="1050"/>
                    </a:lnTo>
                    <a:lnTo>
                      <a:pt x="793" y="1418"/>
                    </a:lnTo>
                    <a:lnTo>
                      <a:pt x="76" y="1418"/>
                    </a:lnTo>
                    <a:lnTo>
                      <a:pt x="0" y="1050"/>
                    </a:lnTo>
                    <a:lnTo>
                      <a:pt x="38" y="1013"/>
                    </a:lnTo>
                    <a:lnTo>
                      <a:pt x="57" y="995"/>
                    </a:lnTo>
                    <a:lnTo>
                      <a:pt x="95" y="958"/>
                    </a:lnTo>
                    <a:lnTo>
                      <a:pt x="114" y="922"/>
                    </a:lnTo>
                    <a:lnTo>
                      <a:pt x="152" y="903"/>
                    </a:lnTo>
                    <a:lnTo>
                      <a:pt x="170" y="866"/>
                    </a:lnTo>
                    <a:lnTo>
                      <a:pt x="208" y="829"/>
                    </a:lnTo>
                    <a:lnTo>
                      <a:pt x="227" y="811"/>
                    </a:lnTo>
                    <a:lnTo>
                      <a:pt x="265" y="774"/>
                    </a:lnTo>
                    <a:lnTo>
                      <a:pt x="284" y="737"/>
                    </a:lnTo>
                    <a:lnTo>
                      <a:pt x="321" y="700"/>
                    </a:lnTo>
                    <a:lnTo>
                      <a:pt x="340" y="681"/>
                    </a:lnTo>
                    <a:lnTo>
                      <a:pt x="378" y="645"/>
                    </a:lnTo>
                    <a:lnTo>
                      <a:pt x="397" y="608"/>
                    </a:lnTo>
                    <a:lnTo>
                      <a:pt x="434" y="571"/>
                    </a:lnTo>
                    <a:lnTo>
                      <a:pt x="453" y="535"/>
                    </a:lnTo>
                    <a:lnTo>
                      <a:pt x="472" y="498"/>
                    </a:lnTo>
                    <a:lnTo>
                      <a:pt x="510" y="461"/>
                    </a:lnTo>
                    <a:lnTo>
                      <a:pt x="529" y="442"/>
                    </a:lnTo>
                    <a:lnTo>
                      <a:pt x="567" y="405"/>
                    </a:lnTo>
                    <a:lnTo>
                      <a:pt x="586" y="368"/>
                    </a:lnTo>
                    <a:lnTo>
                      <a:pt x="605" y="331"/>
                    </a:lnTo>
                    <a:lnTo>
                      <a:pt x="642" y="295"/>
                    </a:lnTo>
                    <a:lnTo>
                      <a:pt x="661" y="258"/>
                    </a:lnTo>
                    <a:lnTo>
                      <a:pt x="698" y="221"/>
                    </a:lnTo>
                    <a:lnTo>
                      <a:pt x="717" y="184"/>
                    </a:lnTo>
                    <a:lnTo>
                      <a:pt x="755" y="148"/>
                    </a:lnTo>
                    <a:lnTo>
                      <a:pt x="774" y="129"/>
                    </a:lnTo>
                    <a:lnTo>
                      <a:pt x="812" y="92"/>
                    </a:lnTo>
                    <a:lnTo>
                      <a:pt x="831" y="55"/>
                    </a:lnTo>
                    <a:lnTo>
                      <a:pt x="850" y="18"/>
                    </a:lnTo>
                    <a:lnTo>
                      <a:pt x="888" y="0"/>
                    </a:lnTo>
                    <a:lnTo>
                      <a:pt x="5437" y="0"/>
                    </a:lnTo>
                    <a:close/>
                    <a:moveTo>
                      <a:pt x="5532" y="1418"/>
                    </a:moveTo>
                    <a:lnTo>
                      <a:pt x="5644" y="1381"/>
                    </a:lnTo>
                    <a:lnTo>
                      <a:pt x="5777" y="1344"/>
                    </a:lnTo>
                    <a:lnTo>
                      <a:pt x="5890" y="1309"/>
                    </a:lnTo>
                    <a:lnTo>
                      <a:pt x="6003" y="1253"/>
                    </a:lnTo>
                    <a:lnTo>
                      <a:pt x="6116" y="1216"/>
                    </a:lnTo>
                    <a:lnTo>
                      <a:pt x="6230" y="1179"/>
                    </a:lnTo>
                    <a:lnTo>
                      <a:pt x="6361" y="1142"/>
                    </a:lnTo>
                    <a:lnTo>
                      <a:pt x="6475" y="1087"/>
                    </a:lnTo>
                    <a:lnTo>
                      <a:pt x="6589" y="1050"/>
                    </a:lnTo>
                    <a:lnTo>
                      <a:pt x="6720" y="1013"/>
                    </a:lnTo>
                    <a:lnTo>
                      <a:pt x="6834" y="958"/>
                    </a:lnTo>
                    <a:lnTo>
                      <a:pt x="6947" y="922"/>
                    </a:lnTo>
                    <a:lnTo>
                      <a:pt x="7079" y="885"/>
                    </a:lnTo>
                    <a:lnTo>
                      <a:pt x="7192" y="829"/>
                    </a:lnTo>
                    <a:lnTo>
                      <a:pt x="7306" y="792"/>
                    </a:lnTo>
                    <a:lnTo>
                      <a:pt x="7437" y="755"/>
                    </a:lnTo>
                    <a:lnTo>
                      <a:pt x="7551" y="718"/>
                    </a:lnTo>
                    <a:lnTo>
                      <a:pt x="7684" y="681"/>
                    </a:lnTo>
                    <a:lnTo>
                      <a:pt x="7796" y="627"/>
                    </a:lnTo>
                    <a:lnTo>
                      <a:pt x="7910" y="590"/>
                    </a:lnTo>
                    <a:lnTo>
                      <a:pt x="8042" y="571"/>
                    </a:lnTo>
                    <a:lnTo>
                      <a:pt x="8155" y="535"/>
                    </a:lnTo>
                    <a:lnTo>
                      <a:pt x="8268" y="498"/>
                    </a:lnTo>
                    <a:lnTo>
                      <a:pt x="8401" y="461"/>
                    </a:lnTo>
                    <a:lnTo>
                      <a:pt x="8513" y="442"/>
                    </a:lnTo>
                    <a:lnTo>
                      <a:pt x="8646" y="405"/>
                    </a:lnTo>
                    <a:lnTo>
                      <a:pt x="8760" y="387"/>
                    </a:lnTo>
                    <a:lnTo>
                      <a:pt x="8872" y="350"/>
                    </a:lnTo>
                    <a:lnTo>
                      <a:pt x="9005" y="331"/>
                    </a:lnTo>
                    <a:lnTo>
                      <a:pt x="9118" y="313"/>
                    </a:lnTo>
                    <a:lnTo>
                      <a:pt x="9231" y="295"/>
                    </a:lnTo>
                    <a:lnTo>
                      <a:pt x="9344" y="295"/>
                    </a:lnTo>
                    <a:lnTo>
                      <a:pt x="9363" y="313"/>
                    </a:lnTo>
                    <a:lnTo>
                      <a:pt x="9382" y="331"/>
                    </a:lnTo>
                    <a:lnTo>
                      <a:pt x="9382" y="368"/>
                    </a:lnTo>
                    <a:lnTo>
                      <a:pt x="9382" y="405"/>
                    </a:lnTo>
                    <a:lnTo>
                      <a:pt x="9382" y="424"/>
                    </a:lnTo>
                    <a:lnTo>
                      <a:pt x="9382" y="461"/>
                    </a:lnTo>
                    <a:lnTo>
                      <a:pt x="9401" y="498"/>
                    </a:lnTo>
                    <a:lnTo>
                      <a:pt x="9401" y="516"/>
                    </a:lnTo>
                    <a:lnTo>
                      <a:pt x="9382" y="553"/>
                    </a:lnTo>
                    <a:lnTo>
                      <a:pt x="9382" y="590"/>
                    </a:lnTo>
                    <a:lnTo>
                      <a:pt x="9382" y="627"/>
                    </a:lnTo>
                    <a:lnTo>
                      <a:pt x="9382" y="663"/>
                    </a:lnTo>
                    <a:lnTo>
                      <a:pt x="9382" y="681"/>
                    </a:lnTo>
                    <a:lnTo>
                      <a:pt x="9382" y="718"/>
                    </a:lnTo>
                    <a:lnTo>
                      <a:pt x="9401" y="755"/>
                    </a:lnTo>
                    <a:lnTo>
                      <a:pt x="9401" y="792"/>
                    </a:lnTo>
                    <a:lnTo>
                      <a:pt x="10798" y="590"/>
                    </a:lnTo>
                    <a:lnTo>
                      <a:pt x="10817" y="590"/>
                    </a:lnTo>
                    <a:lnTo>
                      <a:pt x="10836" y="608"/>
                    </a:lnTo>
                    <a:lnTo>
                      <a:pt x="10836" y="627"/>
                    </a:lnTo>
                    <a:lnTo>
                      <a:pt x="10855" y="645"/>
                    </a:lnTo>
                    <a:lnTo>
                      <a:pt x="10855" y="663"/>
                    </a:lnTo>
                    <a:lnTo>
                      <a:pt x="10855" y="681"/>
                    </a:lnTo>
                    <a:lnTo>
                      <a:pt x="10855" y="700"/>
                    </a:lnTo>
                    <a:lnTo>
                      <a:pt x="10836" y="737"/>
                    </a:lnTo>
                    <a:lnTo>
                      <a:pt x="10836" y="755"/>
                    </a:lnTo>
                    <a:lnTo>
                      <a:pt x="10836" y="792"/>
                    </a:lnTo>
                    <a:lnTo>
                      <a:pt x="10836" y="811"/>
                    </a:lnTo>
                    <a:lnTo>
                      <a:pt x="10836" y="848"/>
                    </a:lnTo>
                    <a:lnTo>
                      <a:pt x="10836" y="866"/>
                    </a:lnTo>
                    <a:lnTo>
                      <a:pt x="10836" y="885"/>
                    </a:lnTo>
                    <a:lnTo>
                      <a:pt x="10836" y="922"/>
                    </a:lnTo>
                    <a:lnTo>
                      <a:pt x="10836" y="940"/>
                    </a:lnTo>
                    <a:lnTo>
                      <a:pt x="10874" y="958"/>
                    </a:lnTo>
                    <a:lnTo>
                      <a:pt x="10929" y="977"/>
                    </a:lnTo>
                    <a:lnTo>
                      <a:pt x="10967" y="995"/>
                    </a:lnTo>
                    <a:lnTo>
                      <a:pt x="11005" y="1013"/>
                    </a:lnTo>
                    <a:lnTo>
                      <a:pt x="11043" y="1013"/>
                    </a:lnTo>
                    <a:lnTo>
                      <a:pt x="11100" y="1013"/>
                    </a:lnTo>
                    <a:lnTo>
                      <a:pt x="11138" y="1031"/>
                    </a:lnTo>
                    <a:lnTo>
                      <a:pt x="11194" y="1031"/>
                    </a:lnTo>
                    <a:lnTo>
                      <a:pt x="11232" y="1031"/>
                    </a:lnTo>
                    <a:lnTo>
                      <a:pt x="11288" y="1031"/>
                    </a:lnTo>
                    <a:lnTo>
                      <a:pt x="11326" y="1013"/>
                    </a:lnTo>
                    <a:lnTo>
                      <a:pt x="11383" y="1013"/>
                    </a:lnTo>
                    <a:lnTo>
                      <a:pt x="11421" y="1013"/>
                    </a:lnTo>
                    <a:lnTo>
                      <a:pt x="11477" y="995"/>
                    </a:lnTo>
                    <a:lnTo>
                      <a:pt x="11534" y="995"/>
                    </a:lnTo>
                    <a:lnTo>
                      <a:pt x="11572" y="977"/>
                    </a:lnTo>
                    <a:lnTo>
                      <a:pt x="11628" y="977"/>
                    </a:lnTo>
                    <a:lnTo>
                      <a:pt x="11666" y="958"/>
                    </a:lnTo>
                    <a:lnTo>
                      <a:pt x="11722" y="958"/>
                    </a:lnTo>
                    <a:lnTo>
                      <a:pt x="11779" y="940"/>
                    </a:lnTo>
                    <a:lnTo>
                      <a:pt x="11817" y="940"/>
                    </a:lnTo>
                    <a:lnTo>
                      <a:pt x="11874" y="940"/>
                    </a:lnTo>
                    <a:lnTo>
                      <a:pt x="11931" y="922"/>
                    </a:lnTo>
                    <a:lnTo>
                      <a:pt x="11968" y="922"/>
                    </a:lnTo>
                    <a:lnTo>
                      <a:pt x="12024" y="903"/>
                    </a:lnTo>
                    <a:lnTo>
                      <a:pt x="12081" y="903"/>
                    </a:lnTo>
                    <a:lnTo>
                      <a:pt x="12119" y="903"/>
                    </a:lnTo>
                    <a:lnTo>
                      <a:pt x="12176" y="903"/>
                    </a:lnTo>
                    <a:lnTo>
                      <a:pt x="12214" y="903"/>
                    </a:lnTo>
                    <a:lnTo>
                      <a:pt x="12270" y="903"/>
                    </a:lnTo>
                    <a:lnTo>
                      <a:pt x="12308" y="922"/>
                    </a:lnTo>
                    <a:lnTo>
                      <a:pt x="12364" y="922"/>
                    </a:lnTo>
                    <a:lnTo>
                      <a:pt x="12345" y="1418"/>
                    </a:lnTo>
                    <a:lnTo>
                      <a:pt x="5532" y="14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44" name="Freeform 72"/>
              <p:cNvSpPr/>
              <p:nvPr/>
            </p:nvSpPr>
            <p:spPr>
              <a:xfrm>
                <a:off x="836640" y="3415680"/>
                <a:ext cx="2475360" cy="122040"/>
              </a:xfrm>
              <a:custGeom>
                <a:avLst/>
                <a:gdLst/>
                <a:ahLst/>
                <a:rect l="l" t="t" r="r" b="b"/>
                <a:pathLst>
                  <a:path w="12667" h="1418">
                    <a:moveTo>
                      <a:pt x="6928" y="0"/>
                    </a:moveTo>
                    <a:lnTo>
                      <a:pt x="5230" y="811"/>
                    </a:lnTo>
                    <a:lnTo>
                      <a:pt x="5304" y="774"/>
                    </a:lnTo>
                    <a:lnTo>
                      <a:pt x="5380" y="755"/>
                    </a:lnTo>
                    <a:lnTo>
                      <a:pt x="5437" y="737"/>
                    </a:lnTo>
                    <a:lnTo>
                      <a:pt x="5513" y="718"/>
                    </a:lnTo>
                    <a:lnTo>
                      <a:pt x="5588" y="700"/>
                    </a:lnTo>
                    <a:lnTo>
                      <a:pt x="5663" y="681"/>
                    </a:lnTo>
                    <a:lnTo>
                      <a:pt x="5739" y="644"/>
                    </a:lnTo>
                    <a:lnTo>
                      <a:pt x="5814" y="627"/>
                    </a:lnTo>
                    <a:lnTo>
                      <a:pt x="5890" y="609"/>
                    </a:lnTo>
                    <a:lnTo>
                      <a:pt x="5947" y="572"/>
                    </a:lnTo>
                    <a:lnTo>
                      <a:pt x="6022" y="553"/>
                    </a:lnTo>
                    <a:lnTo>
                      <a:pt x="6097" y="535"/>
                    </a:lnTo>
                    <a:lnTo>
                      <a:pt x="6173" y="498"/>
                    </a:lnTo>
                    <a:lnTo>
                      <a:pt x="6249" y="479"/>
                    </a:lnTo>
                    <a:lnTo>
                      <a:pt x="6324" y="442"/>
                    </a:lnTo>
                    <a:lnTo>
                      <a:pt x="6399" y="424"/>
                    </a:lnTo>
                    <a:lnTo>
                      <a:pt x="6475" y="387"/>
                    </a:lnTo>
                    <a:lnTo>
                      <a:pt x="6551" y="368"/>
                    </a:lnTo>
                    <a:lnTo>
                      <a:pt x="6626" y="350"/>
                    </a:lnTo>
                    <a:lnTo>
                      <a:pt x="6701" y="313"/>
                    </a:lnTo>
                    <a:lnTo>
                      <a:pt x="6758" y="295"/>
                    </a:lnTo>
                    <a:lnTo>
                      <a:pt x="6834" y="258"/>
                    </a:lnTo>
                    <a:lnTo>
                      <a:pt x="6909" y="240"/>
                    </a:lnTo>
                    <a:lnTo>
                      <a:pt x="6985" y="203"/>
                    </a:lnTo>
                    <a:lnTo>
                      <a:pt x="7060" y="185"/>
                    </a:lnTo>
                    <a:lnTo>
                      <a:pt x="7136" y="148"/>
                    </a:lnTo>
                    <a:lnTo>
                      <a:pt x="7211" y="129"/>
                    </a:lnTo>
                    <a:lnTo>
                      <a:pt x="7287" y="111"/>
                    </a:lnTo>
                    <a:lnTo>
                      <a:pt x="7362" y="74"/>
                    </a:lnTo>
                    <a:lnTo>
                      <a:pt x="7437" y="55"/>
                    </a:lnTo>
                    <a:lnTo>
                      <a:pt x="7513" y="18"/>
                    </a:lnTo>
                    <a:lnTo>
                      <a:pt x="7589" y="0"/>
                    </a:lnTo>
                    <a:lnTo>
                      <a:pt x="9382" y="0"/>
                    </a:lnTo>
                    <a:lnTo>
                      <a:pt x="9382" y="18"/>
                    </a:lnTo>
                    <a:lnTo>
                      <a:pt x="9401" y="18"/>
                    </a:lnTo>
                    <a:lnTo>
                      <a:pt x="9401" y="37"/>
                    </a:lnTo>
                    <a:lnTo>
                      <a:pt x="9401" y="37"/>
                    </a:lnTo>
                    <a:lnTo>
                      <a:pt x="9401" y="55"/>
                    </a:lnTo>
                    <a:lnTo>
                      <a:pt x="9401" y="74"/>
                    </a:lnTo>
                    <a:lnTo>
                      <a:pt x="9401" y="74"/>
                    </a:lnTo>
                    <a:lnTo>
                      <a:pt x="9401" y="92"/>
                    </a:lnTo>
                    <a:lnTo>
                      <a:pt x="9986" y="0"/>
                    </a:lnTo>
                    <a:lnTo>
                      <a:pt x="10855" y="0"/>
                    </a:lnTo>
                    <a:lnTo>
                      <a:pt x="10855" y="18"/>
                    </a:lnTo>
                    <a:lnTo>
                      <a:pt x="10855" y="37"/>
                    </a:lnTo>
                    <a:lnTo>
                      <a:pt x="10836" y="55"/>
                    </a:lnTo>
                    <a:lnTo>
                      <a:pt x="10836" y="55"/>
                    </a:lnTo>
                    <a:lnTo>
                      <a:pt x="10836" y="74"/>
                    </a:lnTo>
                    <a:lnTo>
                      <a:pt x="10836" y="92"/>
                    </a:lnTo>
                    <a:lnTo>
                      <a:pt x="10836" y="111"/>
                    </a:lnTo>
                    <a:lnTo>
                      <a:pt x="10836" y="129"/>
                    </a:lnTo>
                    <a:lnTo>
                      <a:pt x="10836" y="148"/>
                    </a:lnTo>
                    <a:lnTo>
                      <a:pt x="10836" y="148"/>
                    </a:lnTo>
                    <a:lnTo>
                      <a:pt x="10836" y="166"/>
                    </a:lnTo>
                    <a:lnTo>
                      <a:pt x="10836" y="185"/>
                    </a:lnTo>
                    <a:lnTo>
                      <a:pt x="10836" y="203"/>
                    </a:lnTo>
                    <a:lnTo>
                      <a:pt x="10836" y="222"/>
                    </a:lnTo>
                    <a:lnTo>
                      <a:pt x="10836" y="222"/>
                    </a:lnTo>
                    <a:lnTo>
                      <a:pt x="10836" y="240"/>
                    </a:lnTo>
                    <a:lnTo>
                      <a:pt x="10874" y="258"/>
                    </a:lnTo>
                    <a:lnTo>
                      <a:pt x="10929" y="277"/>
                    </a:lnTo>
                    <a:lnTo>
                      <a:pt x="10967" y="295"/>
                    </a:lnTo>
                    <a:lnTo>
                      <a:pt x="11005" y="313"/>
                    </a:lnTo>
                    <a:lnTo>
                      <a:pt x="11043" y="313"/>
                    </a:lnTo>
                    <a:lnTo>
                      <a:pt x="11100" y="313"/>
                    </a:lnTo>
                    <a:lnTo>
                      <a:pt x="11138" y="331"/>
                    </a:lnTo>
                    <a:lnTo>
                      <a:pt x="11194" y="331"/>
                    </a:lnTo>
                    <a:lnTo>
                      <a:pt x="11232" y="331"/>
                    </a:lnTo>
                    <a:lnTo>
                      <a:pt x="11288" y="331"/>
                    </a:lnTo>
                    <a:lnTo>
                      <a:pt x="11326" y="313"/>
                    </a:lnTo>
                    <a:lnTo>
                      <a:pt x="11383" y="313"/>
                    </a:lnTo>
                    <a:lnTo>
                      <a:pt x="11421" y="313"/>
                    </a:lnTo>
                    <a:lnTo>
                      <a:pt x="11477" y="295"/>
                    </a:lnTo>
                    <a:lnTo>
                      <a:pt x="11534" y="295"/>
                    </a:lnTo>
                    <a:lnTo>
                      <a:pt x="11572" y="277"/>
                    </a:lnTo>
                    <a:lnTo>
                      <a:pt x="11628" y="277"/>
                    </a:lnTo>
                    <a:lnTo>
                      <a:pt x="11666" y="258"/>
                    </a:lnTo>
                    <a:lnTo>
                      <a:pt x="11722" y="258"/>
                    </a:lnTo>
                    <a:lnTo>
                      <a:pt x="11779" y="240"/>
                    </a:lnTo>
                    <a:lnTo>
                      <a:pt x="11817" y="240"/>
                    </a:lnTo>
                    <a:lnTo>
                      <a:pt x="11874" y="240"/>
                    </a:lnTo>
                    <a:lnTo>
                      <a:pt x="11931" y="222"/>
                    </a:lnTo>
                    <a:lnTo>
                      <a:pt x="11968" y="222"/>
                    </a:lnTo>
                    <a:lnTo>
                      <a:pt x="12024" y="203"/>
                    </a:lnTo>
                    <a:lnTo>
                      <a:pt x="12081" y="203"/>
                    </a:lnTo>
                    <a:lnTo>
                      <a:pt x="12119" y="203"/>
                    </a:lnTo>
                    <a:lnTo>
                      <a:pt x="12176" y="203"/>
                    </a:lnTo>
                    <a:lnTo>
                      <a:pt x="12214" y="203"/>
                    </a:lnTo>
                    <a:lnTo>
                      <a:pt x="12270" y="203"/>
                    </a:lnTo>
                    <a:lnTo>
                      <a:pt x="12308" y="222"/>
                    </a:lnTo>
                    <a:lnTo>
                      <a:pt x="12364" y="222"/>
                    </a:lnTo>
                    <a:lnTo>
                      <a:pt x="12345" y="959"/>
                    </a:lnTo>
                    <a:lnTo>
                      <a:pt x="12308" y="995"/>
                    </a:lnTo>
                    <a:lnTo>
                      <a:pt x="12289" y="1013"/>
                    </a:lnTo>
                    <a:lnTo>
                      <a:pt x="12270" y="1050"/>
                    </a:lnTo>
                    <a:lnTo>
                      <a:pt x="12233" y="1068"/>
                    </a:lnTo>
                    <a:lnTo>
                      <a:pt x="12195" y="1087"/>
                    </a:lnTo>
                    <a:lnTo>
                      <a:pt x="12176" y="1105"/>
                    </a:lnTo>
                    <a:lnTo>
                      <a:pt x="12138" y="1124"/>
                    </a:lnTo>
                    <a:lnTo>
                      <a:pt x="12100" y="1142"/>
                    </a:lnTo>
                    <a:lnTo>
                      <a:pt x="12062" y="1142"/>
                    </a:lnTo>
                    <a:lnTo>
                      <a:pt x="12043" y="1161"/>
                    </a:lnTo>
                    <a:lnTo>
                      <a:pt x="12005" y="1161"/>
                    </a:lnTo>
                    <a:lnTo>
                      <a:pt x="11968" y="1179"/>
                    </a:lnTo>
                    <a:lnTo>
                      <a:pt x="11931" y="1179"/>
                    </a:lnTo>
                    <a:lnTo>
                      <a:pt x="11893" y="1179"/>
                    </a:lnTo>
                    <a:lnTo>
                      <a:pt x="11855" y="1198"/>
                    </a:lnTo>
                    <a:lnTo>
                      <a:pt x="11817" y="1198"/>
                    </a:lnTo>
                    <a:lnTo>
                      <a:pt x="11760" y="1198"/>
                    </a:lnTo>
                    <a:lnTo>
                      <a:pt x="11722" y="1198"/>
                    </a:lnTo>
                    <a:lnTo>
                      <a:pt x="11685" y="1198"/>
                    </a:lnTo>
                    <a:lnTo>
                      <a:pt x="11647" y="1198"/>
                    </a:lnTo>
                    <a:lnTo>
                      <a:pt x="11609" y="1198"/>
                    </a:lnTo>
                    <a:lnTo>
                      <a:pt x="11572" y="1198"/>
                    </a:lnTo>
                    <a:lnTo>
                      <a:pt x="11534" y="1198"/>
                    </a:lnTo>
                    <a:lnTo>
                      <a:pt x="11496" y="1216"/>
                    </a:lnTo>
                    <a:lnTo>
                      <a:pt x="11458" y="1216"/>
                    </a:lnTo>
                    <a:lnTo>
                      <a:pt x="11421" y="1216"/>
                    </a:lnTo>
                    <a:lnTo>
                      <a:pt x="11364" y="1216"/>
                    </a:lnTo>
                    <a:lnTo>
                      <a:pt x="11326" y="1216"/>
                    </a:lnTo>
                    <a:lnTo>
                      <a:pt x="11288" y="1235"/>
                    </a:lnTo>
                    <a:lnTo>
                      <a:pt x="11269" y="1235"/>
                    </a:lnTo>
                    <a:lnTo>
                      <a:pt x="11232" y="1253"/>
                    </a:lnTo>
                    <a:lnTo>
                      <a:pt x="11194" y="1272"/>
                    </a:lnTo>
                    <a:lnTo>
                      <a:pt x="11176" y="1272"/>
                    </a:lnTo>
                    <a:lnTo>
                      <a:pt x="11157" y="1272"/>
                    </a:lnTo>
                    <a:lnTo>
                      <a:pt x="11157" y="1290"/>
                    </a:lnTo>
                    <a:lnTo>
                      <a:pt x="11138" y="1290"/>
                    </a:lnTo>
                    <a:lnTo>
                      <a:pt x="11138" y="1309"/>
                    </a:lnTo>
                    <a:lnTo>
                      <a:pt x="11138" y="1327"/>
                    </a:lnTo>
                    <a:lnTo>
                      <a:pt x="11138" y="1345"/>
                    </a:lnTo>
                    <a:lnTo>
                      <a:pt x="11138" y="1363"/>
                    </a:lnTo>
                    <a:lnTo>
                      <a:pt x="12591" y="1290"/>
                    </a:lnTo>
                    <a:lnTo>
                      <a:pt x="12610" y="1309"/>
                    </a:lnTo>
                    <a:lnTo>
                      <a:pt x="12629" y="1309"/>
                    </a:lnTo>
                    <a:lnTo>
                      <a:pt x="12629" y="1327"/>
                    </a:lnTo>
                    <a:lnTo>
                      <a:pt x="12648" y="1345"/>
                    </a:lnTo>
                    <a:lnTo>
                      <a:pt x="12648" y="1363"/>
                    </a:lnTo>
                    <a:lnTo>
                      <a:pt x="12648" y="1382"/>
                    </a:lnTo>
                    <a:lnTo>
                      <a:pt x="12648" y="1400"/>
                    </a:lnTo>
                    <a:lnTo>
                      <a:pt x="12667" y="1418"/>
                    </a:lnTo>
                    <a:lnTo>
                      <a:pt x="378" y="1418"/>
                    </a:lnTo>
                    <a:lnTo>
                      <a:pt x="1416" y="350"/>
                    </a:lnTo>
                    <a:lnTo>
                      <a:pt x="189" y="1087"/>
                    </a:lnTo>
                    <a:lnTo>
                      <a:pt x="189" y="1068"/>
                    </a:lnTo>
                    <a:lnTo>
                      <a:pt x="170" y="1068"/>
                    </a:lnTo>
                    <a:lnTo>
                      <a:pt x="170" y="1050"/>
                    </a:lnTo>
                    <a:lnTo>
                      <a:pt x="152" y="1050"/>
                    </a:lnTo>
                    <a:lnTo>
                      <a:pt x="152" y="1031"/>
                    </a:lnTo>
                    <a:lnTo>
                      <a:pt x="152" y="1031"/>
                    </a:lnTo>
                    <a:lnTo>
                      <a:pt x="133" y="1013"/>
                    </a:lnTo>
                    <a:lnTo>
                      <a:pt x="133" y="1013"/>
                    </a:lnTo>
                    <a:lnTo>
                      <a:pt x="0" y="350"/>
                    </a:lnTo>
                    <a:lnTo>
                      <a:pt x="19" y="313"/>
                    </a:lnTo>
                    <a:lnTo>
                      <a:pt x="38" y="295"/>
                    </a:lnTo>
                    <a:lnTo>
                      <a:pt x="57" y="277"/>
                    </a:lnTo>
                    <a:lnTo>
                      <a:pt x="76" y="258"/>
                    </a:lnTo>
                    <a:lnTo>
                      <a:pt x="114" y="240"/>
                    </a:lnTo>
                    <a:lnTo>
                      <a:pt x="133" y="222"/>
                    </a:lnTo>
                    <a:lnTo>
                      <a:pt x="152" y="203"/>
                    </a:lnTo>
                    <a:lnTo>
                      <a:pt x="170" y="185"/>
                    </a:lnTo>
                    <a:lnTo>
                      <a:pt x="189" y="166"/>
                    </a:lnTo>
                    <a:lnTo>
                      <a:pt x="208" y="129"/>
                    </a:lnTo>
                    <a:lnTo>
                      <a:pt x="227" y="111"/>
                    </a:lnTo>
                    <a:lnTo>
                      <a:pt x="246" y="92"/>
                    </a:lnTo>
                    <a:lnTo>
                      <a:pt x="265" y="74"/>
                    </a:lnTo>
                    <a:lnTo>
                      <a:pt x="284" y="55"/>
                    </a:lnTo>
                    <a:lnTo>
                      <a:pt x="302" y="18"/>
                    </a:lnTo>
                    <a:lnTo>
                      <a:pt x="321" y="0"/>
                    </a:lnTo>
                    <a:lnTo>
                      <a:pt x="692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45" name="Freeform 73"/>
              <p:cNvSpPr/>
              <p:nvPr/>
            </p:nvSpPr>
            <p:spPr>
              <a:xfrm>
                <a:off x="802080" y="3477600"/>
                <a:ext cx="2509920" cy="123840"/>
              </a:xfrm>
              <a:custGeom>
                <a:avLst/>
                <a:gdLst/>
                <a:ahLst/>
                <a:rect l="l" t="t" r="r" b="b"/>
                <a:pathLst>
                  <a:path w="12836" h="1419">
                    <a:moveTo>
                      <a:pt x="5587" y="0"/>
                    </a:moveTo>
                    <a:lnTo>
                      <a:pt x="5399" y="93"/>
                    </a:lnTo>
                    <a:lnTo>
                      <a:pt x="5417" y="74"/>
                    </a:lnTo>
                    <a:lnTo>
                      <a:pt x="5435" y="74"/>
                    </a:lnTo>
                    <a:lnTo>
                      <a:pt x="5454" y="74"/>
                    </a:lnTo>
                    <a:lnTo>
                      <a:pt x="5473" y="56"/>
                    </a:lnTo>
                    <a:lnTo>
                      <a:pt x="5492" y="56"/>
                    </a:lnTo>
                    <a:lnTo>
                      <a:pt x="5511" y="56"/>
                    </a:lnTo>
                    <a:lnTo>
                      <a:pt x="5530" y="56"/>
                    </a:lnTo>
                    <a:lnTo>
                      <a:pt x="5549" y="37"/>
                    </a:lnTo>
                    <a:lnTo>
                      <a:pt x="5568" y="37"/>
                    </a:lnTo>
                    <a:lnTo>
                      <a:pt x="5587" y="37"/>
                    </a:lnTo>
                    <a:lnTo>
                      <a:pt x="5606" y="19"/>
                    </a:lnTo>
                    <a:lnTo>
                      <a:pt x="5625" y="19"/>
                    </a:lnTo>
                    <a:lnTo>
                      <a:pt x="5644" y="19"/>
                    </a:lnTo>
                    <a:lnTo>
                      <a:pt x="5663" y="0"/>
                    </a:lnTo>
                    <a:lnTo>
                      <a:pt x="5682" y="0"/>
                    </a:lnTo>
                    <a:lnTo>
                      <a:pt x="5701" y="0"/>
                    </a:lnTo>
                    <a:lnTo>
                      <a:pt x="12514" y="0"/>
                    </a:lnTo>
                    <a:lnTo>
                      <a:pt x="12514" y="241"/>
                    </a:lnTo>
                    <a:lnTo>
                      <a:pt x="12477" y="277"/>
                    </a:lnTo>
                    <a:lnTo>
                      <a:pt x="12458" y="295"/>
                    </a:lnTo>
                    <a:lnTo>
                      <a:pt x="12439" y="332"/>
                    </a:lnTo>
                    <a:lnTo>
                      <a:pt x="12402" y="350"/>
                    </a:lnTo>
                    <a:lnTo>
                      <a:pt x="12364" y="369"/>
                    </a:lnTo>
                    <a:lnTo>
                      <a:pt x="12345" y="387"/>
                    </a:lnTo>
                    <a:lnTo>
                      <a:pt x="12307" y="406"/>
                    </a:lnTo>
                    <a:lnTo>
                      <a:pt x="12269" y="424"/>
                    </a:lnTo>
                    <a:lnTo>
                      <a:pt x="12231" y="424"/>
                    </a:lnTo>
                    <a:lnTo>
                      <a:pt x="12212" y="443"/>
                    </a:lnTo>
                    <a:lnTo>
                      <a:pt x="12174" y="443"/>
                    </a:lnTo>
                    <a:lnTo>
                      <a:pt x="12137" y="461"/>
                    </a:lnTo>
                    <a:lnTo>
                      <a:pt x="12100" y="461"/>
                    </a:lnTo>
                    <a:lnTo>
                      <a:pt x="12062" y="461"/>
                    </a:lnTo>
                    <a:lnTo>
                      <a:pt x="12024" y="480"/>
                    </a:lnTo>
                    <a:lnTo>
                      <a:pt x="11986" y="480"/>
                    </a:lnTo>
                    <a:lnTo>
                      <a:pt x="11929" y="480"/>
                    </a:lnTo>
                    <a:lnTo>
                      <a:pt x="11891" y="480"/>
                    </a:lnTo>
                    <a:lnTo>
                      <a:pt x="11854" y="480"/>
                    </a:lnTo>
                    <a:lnTo>
                      <a:pt x="11816" y="480"/>
                    </a:lnTo>
                    <a:lnTo>
                      <a:pt x="11778" y="480"/>
                    </a:lnTo>
                    <a:lnTo>
                      <a:pt x="11741" y="480"/>
                    </a:lnTo>
                    <a:lnTo>
                      <a:pt x="11703" y="480"/>
                    </a:lnTo>
                    <a:lnTo>
                      <a:pt x="11665" y="498"/>
                    </a:lnTo>
                    <a:lnTo>
                      <a:pt x="11627" y="498"/>
                    </a:lnTo>
                    <a:lnTo>
                      <a:pt x="11590" y="498"/>
                    </a:lnTo>
                    <a:lnTo>
                      <a:pt x="11533" y="498"/>
                    </a:lnTo>
                    <a:lnTo>
                      <a:pt x="11495" y="498"/>
                    </a:lnTo>
                    <a:lnTo>
                      <a:pt x="11457" y="517"/>
                    </a:lnTo>
                    <a:lnTo>
                      <a:pt x="11438" y="517"/>
                    </a:lnTo>
                    <a:lnTo>
                      <a:pt x="11401" y="535"/>
                    </a:lnTo>
                    <a:lnTo>
                      <a:pt x="11363" y="554"/>
                    </a:lnTo>
                    <a:lnTo>
                      <a:pt x="11345" y="554"/>
                    </a:lnTo>
                    <a:lnTo>
                      <a:pt x="11326" y="554"/>
                    </a:lnTo>
                    <a:lnTo>
                      <a:pt x="11326" y="572"/>
                    </a:lnTo>
                    <a:lnTo>
                      <a:pt x="11307" y="572"/>
                    </a:lnTo>
                    <a:lnTo>
                      <a:pt x="11307" y="591"/>
                    </a:lnTo>
                    <a:lnTo>
                      <a:pt x="11307" y="609"/>
                    </a:lnTo>
                    <a:lnTo>
                      <a:pt x="11307" y="627"/>
                    </a:lnTo>
                    <a:lnTo>
                      <a:pt x="11307" y="645"/>
                    </a:lnTo>
                    <a:lnTo>
                      <a:pt x="12760" y="572"/>
                    </a:lnTo>
                    <a:lnTo>
                      <a:pt x="12779" y="591"/>
                    </a:lnTo>
                    <a:lnTo>
                      <a:pt x="12798" y="609"/>
                    </a:lnTo>
                    <a:lnTo>
                      <a:pt x="12798" y="627"/>
                    </a:lnTo>
                    <a:lnTo>
                      <a:pt x="12817" y="645"/>
                    </a:lnTo>
                    <a:lnTo>
                      <a:pt x="12817" y="664"/>
                    </a:lnTo>
                    <a:lnTo>
                      <a:pt x="12817" y="682"/>
                    </a:lnTo>
                    <a:lnTo>
                      <a:pt x="12836" y="719"/>
                    </a:lnTo>
                    <a:lnTo>
                      <a:pt x="12836" y="737"/>
                    </a:lnTo>
                    <a:lnTo>
                      <a:pt x="12836" y="756"/>
                    </a:lnTo>
                    <a:lnTo>
                      <a:pt x="12836" y="793"/>
                    </a:lnTo>
                    <a:lnTo>
                      <a:pt x="12836" y="811"/>
                    </a:lnTo>
                    <a:lnTo>
                      <a:pt x="12836" y="830"/>
                    </a:lnTo>
                    <a:lnTo>
                      <a:pt x="12836" y="867"/>
                    </a:lnTo>
                    <a:lnTo>
                      <a:pt x="12836" y="885"/>
                    </a:lnTo>
                    <a:lnTo>
                      <a:pt x="12836" y="922"/>
                    </a:lnTo>
                    <a:lnTo>
                      <a:pt x="12836" y="941"/>
                    </a:lnTo>
                    <a:lnTo>
                      <a:pt x="12836" y="977"/>
                    </a:lnTo>
                    <a:lnTo>
                      <a:pt x="12836" y="995"/>
                    </a:lnTo>
                    <a:lnTo>
                      <a:pt x="12817" y="1032"/>
                    </a:lnTo>
                    <a:lnTo>
                      <a:pt x="12817" y="1051"/>
                    </a:lnTo>
                    <a:lnTo>
                      <a:pt x="12817" y="1088"/>
                    </a:lnTo>
                    <a:lnTo>
                      <a:pt x="12817" y="1106"/>
                    </a:lnTo>
                    <a:lnTo>
                      <a:pt x="12817" y="1143"/>
                    </a:lnTo>
                    <a:lnTo>
                      <a:pt x="12798" y="1161"/>
                    </a:lnTo>
                    <a:lnTo>
                      <a:pt x="12798" y="1198"/>
                    </a:lnTo>
                    <a:lnTo>
                      <a:pt x="12798" y="1217"/>
                    </a:lnTo>
                    <a:lnTo>
                      <a:pt x="12798" y="1254"/>
                    </a:lnTo>
                    <a:lnTo>
                      <a:pt x="12779" y="1272"/>
                    </a:lnTo>
                    <a:lnTo>
                      <a:pt x="12779" y="1291"/>
                    </a:lnTo>
                    <a:lnTo>
                      <a:pt x="12779" y="1327"/>
                    </a:lnTo>
                    <a:lnTo>
                      <a:pt x="12779" y="1345"/>
                    </a:lnTo>
                    <a:lnTo>
                      <a:pt x="12760" y="1364"/>
                    </a:lnTo>
                    <a:lnTo>
                      <a:pt x="12495" y="1419"/>
                    </a:lnTo>
                    <a:lnTo>
                      <a:pt x="75" y="1419"/>
                    </a:lnTo>
                    <a:lnTo>
                      <a:pt x="0" y="1254"/>
                    </a:lnTo>
                    <a:lnTo>
                      <a:pt x="1226" y="0"/>
                    </a:lnTo>
                    <a:lnTo>
                      <a:pt x="5587" y="0"/>
                    </a:lnTo>
                    <a:close/>
                    <a:moveTo>
                      <a:pt x="962" y="0"/>
                    </a:moveTo>
                    <a:lnTo>
                      <a:pt x="358" y="369"/>
                    </a:lnTo>
                    <a:lnTo>
                      <a:pt x="358" y="350"/>
                    </a:lnTo>
                    <a:lnTo>
                      <a:pt x="339" y="350"/>
                    </a:lnTo>
                    <a:lnTo>
                      <a:pt x="339" y="332"/>
                    </a:lnTo>
                    <a:lnTo>
                      <a:pt x="321" y="332"/>
                    </a:lnTo>
                    <a:lnTo>
                      <a:pt x="321" y="313"/>
                    </a:lnTo>
                    <a:lnTo>
                      <a:pt x="321" y="313"/>
                    </a:lnTo>
                    <a:lnTo>
                      <a:pt x="302" y="295"/>
                    </a:lnTo>
                    <a:lnTo>
                      <a:pt x="302" y="295"/>
                    </a:lnTo>
                    <a:lnTo>
                      <a:pt x="245" y="0"/>
                    </a:lnTo>
                    <a:lnTo>
                      <a:pt x="96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46" name="Freeform 74"/>
              <p:cNvSpPr/>
              <p:nvPr/>
            </p:nvSpPr>
            <p:spPr>
              <a:xfrm>
                <a:off x="802080" y="3538080"/>
                <a:ext cx="2509920" cy="123840"/>
              </a:xfrm>
              <a:custGeom>
                <a:avLst/>
                <a:gdLst/>
                <a:ahLst/>
                <a:rect l="l" t="t" r="r" b="b"/>
                <a:pathLst>
                  <a:path w="12836" h="1418">
                    <a:moveTo>
                      <a:pt x="12836" y="0"/>
                    </a:moveTo>
                    <a:lnTo>
                      <a:pt x="12836" y="37"/>
                    </a:lnTo>
                    <a:lnTo>
                      <a:pt x="12836" y="74"/>
                    </a:lnTo>
                    <a:lnTo>
                      <a:pt x="12836" y="130"/>
                    </a:lnTo>
                    <a:lnTo>
                      <a:pt x="12836" y="167"/>
                    </a:lnTo>
                    <a:lnTo>
                      <a:pt x="12836" y="204"/>
                    </a:lnTo>
                    <a:lnTo>
                      <a:pt x="12836" y="259"/>
                    </a:lnTo>
                    <a:lnTo>
                      <a:pt x="12836" y="295"/>
                    </a:lnTo>
                    <a:lnTo>
                      <a:pt x="12817" y="332"/>
                    </a:lnTo>
                    <a:lnTo>
                      <a:pt x="12817" y="388"/>
                    </a:lnTo>
                    <a:lnTo>
                      <a:pt x="12817" y="424"/>
                    </a:lnTo>
                    <a:lnTo>
                      <a:pt x="12798" y="480"/>
                    </a:lnTo>
                    <a:lnTo>
                      <a:pt x="12798" y="517"/>
                    </a:lnTo>
                    <a:lnTo>
                      <a:pt x="12779" y="554"/>
                    </a:lnTo>
                    <a:lnTo>
                      <a:pt x="12779" y="591"/>
                    </a:lnTo>
                    <a:lnTo>
                      <a:pt x="12779" y="627"/>
                    </a:lnTo>
                    <a:lnTo>
                      <a:pt x="12760" y="664"/>
                    </a:lnTo>
                    <a:lnTo>
                      <a:pt x="11005" y="977"/>
                    </a:lnTo>
                    <a:lnTo>
                      <a:pt x="10986" y="977"/>
                    </a:lnTo>
                    <a:lnTo>
                      <a:pt x="10986" y="977"/>
                    </a:lnTo>
                    <a:lnTo>
                      <a:pt x="10967" y="995"/>
                    </a:lnTo>
                    <a:lnTo>
                      <a:pt x="10967" y="995"/>
                    </a:lnTo>
                    <a:lnTo>
                      <a:pt x="10967" y="1014"/>
                    </a:lnTo>
                    <a:lnTo>
                      <a:pt x="10967" y="1032"/>
                    </a:lnTo>
                    <a:lnTo>
                      <a:pt x="10967" y="1032"/>
                    </a:lnTo>
                    <a:lnTo>
                      <a:pt x="10967" y="1051"/>
                    </a:lnTo>
                    <a:lnTo>
                      <a:pt x="11741" y="1069"/>
                    </a:lnTo>
                    <a:lnTo>
                      <a:pt x="11722" y="1418"/>
                    </a:lnTo>
                    <a:lnTo>
                      <a:pt x="19" y="1418"/>
                    </a:lnTo>
                    <a:lnTo>
                      <a:pt x="38" y="1418"/>
                    </a:lnTo>
                    <a:lnTo>
                      <a:pt x="57" y="1400"/>
                    </a:lnTo>
                    <a:lnTo>
                      <a:pt x="75" y="1381"/>
                    </a:lnTo>
                    <a:lnTo>
                      <a:pt x="94" y="1363"/>
                    </a:lnTo>
                    <a:lnTo>
                      <a:pt x="94" y="1344"/>
                    </a:lnTo>
                    <a:lnTo>
                      <a:pt x="112" y="1344"/>
                    </a:lnTo>
                    <a:lnTo>
                      <a:pt x="131" y="1326"/>
                    </a:lnTo>
                    <a:lnTo>
                      <a:pt x="150" y="1307"/>
                    </a:lnTo>
                    <a:lnTo>
                      <a:pt x="150" y="1290"/>
                    </a:lnTo>
                    <a:lnTo>
                      <a:pt x="169" y="1272"/>
                    </a:lnTo>
                    <a:lnTo>
                      <a:pt x="188" y="1254"/>
                    </a:lnTo>
                    <a:lnTo>
                      <a:pt x="188" y="1235"/>
                    </a:lnTo>
                    <a:lnTo>
                      <a:pt x="207" y="1198"/>
                    </a:lnTo>
                    <a:lnTo>
                      <a:pt x="207" y="1180"/>
                    </a:lnTo>
                    <a:lnTo>
                      <a:pt x="226" y="1162"/>
                    </a:lnTo>
                    <a:lnTo>
                      <a:pt x="226" y="1125"/>
                    </a:lnTo>
                    <a:lnTo>
                      <a:pt x="0" y="554"/>
                    </a:lnTo>
                    <a:lnTo>
                      <a:pt x="547" y="0"/>
                    </a:lnTo>
                    <a:lnTo>
                      <a:pt x="128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47" name="Freeform 75"/>
              <p:cNvSpPr/>
              <p:nvPr/>
            </p:nvSpPr>
            <p:spPr>
              <a:xfrm>
                <a:off x="786240" y="3601440"/>
                <a:ext cx="2459520" cy="122040"/>
              </a:xfrm>
              <a:custGeom>
                <a:avLst/>
                <a:gdLst/>
                <a:ahLst/>
                <a:rect l="l" t="t" r="r" b="b"/>
                <a:pathLst>
                  <a:path w="12571" h="1418">
                    <a:moveTo>
                      <a:pt x="12571" y="0"/>
                    </a:moveTo>
                    <a:lnTo>
                      <a:pt x="11081" y="258"/>
                    </a:lnTo>
                    <a:lnTo>
                      <a:pt x="11062" y="258"/>
                    </a:lnTo>
                    <a:lnTo>
                      <a:pt x="11062" y="258"/>
                    </a:lnTo>
                    <a:lnTo>
                      <a:pt x="11043" y="276"/>
                    </a:lnTo>
                    <a:lnTo>
                      <a:pt x="11043" y="276"/>
                    </a:lnTo>
                    <a:lnTo>
                      <a:pt x="11043" y="295"/>
                    </a:lnTo>
                    <a:lnTo>
                      <a:pt x="11043" y="313"/>
                    </a:lnTo>
                    <a:lnTo>
                      <a:pt x="11043" y="313"/>
                    </a:lnTo>
                    <a:lnTo>
                      <a:pt x="11043" y="332"/>
                    </a:lnTo>
                    <a:lnTo>
                      <a:pt x="11817" y="350"/>
                    </a:lnTo>
                    <a:lnTo>
                      <a:pt x="11760" y="1179"/>
                    </a:lnTo>
                    <a:lnTo>
                      <a:pt x="11760" y="1197"/>
                    </a:lnTo>
                    <a:lnTo>
                      <a:pt x="11741" y="1197"/>
                    </a:lnTo>
                    <a:lnTo>
                      <a:pt x="11741" y="1216"/>
                    </a:lnTo>
                    <a:lnTo>
                      <a:pt x="11722" y="1216"/>
                    </a:lnTo>
                    <a:lnTo>
                      <a:pt x="11722" y="1216"/>
                    </a:lnTo>
                    <a:lnTo>
                      <a:pt x="11703" y="1234"/>
                    </a:lnTo>
                    <a:lnTo>
                      <a:pt x="11685" y="1234"/>
                    </a:lnTo>
                    <a:lnTo>
                      <a:pt x="11685" y="1234"/>
                    </a:lnTo>
                    <a:lnTo>
                      <a:pt x="11666" y="1234"/>
                    </a:lnTo>
                    <a:lnTo>
                      <a:pt x="11647" y="1234"/>
                    </a:lnTo>
                    <a:lnTo>
                      <a:pt x="11628" y="1234"/>
                    </a:lnTo>
                    <a:lnTo>
                      <a:pt x="11628" y="1234"/>
                    </a:lnTo>
                    <a:lnTo>
                      <a:pt x="11609" y="1234"/>
                    </a:lnTo>
                    <a:lnTo>
                      <a:pt x="11590" y="1234"/>
                    </a:lnTo>
                    <a:lnTo>
                      <a:pt x="11590" y="1234"/>
                    </a:lnTo>
                    <a:lnTo>
                      <a:pt x="11571" y="1234"/>
                    </a:lnTo>
                    <a:lnTo>
                      <a:pt x="11552" y="1234"/>
                    </a:lnTo>
                    <a:lnTo>
                      <a:pt x="11533" y="1234"/>
                    </a:lnTo>
                    <a:lnTo>
                      <a:pt x="11533" y="1252"/>
                    </a:lnTo>
                    <a:lnTo>
                      <a:pt x="11533" y="1252"/>
                    </a:lnTo>
                    <a:lnTo>
                      <a:pt x="11514" y="1270"/>
                    </a:lnTo>
                    <a:lnTo>
                      <a:pt x="11514" y="1288"/>
                    </a:lnTo>
                    <a:lnTo>
                      <a:pt x="11533" y="1288"/>
                    </a:lnTo>
                    <a:lnTo>
                      <a:pt x="11533" y="1325"/>
                    </a:lnTo>
                    <a:lnTo>
                      <a:pt x="12213" y="1344"/>
                    </a:lnTo>
                    <a:lnTo>
                      <a:pt x="12213" y="1418"/>
                    </a:lnTo>
                    <a:lnTo>
                      <a:pt x="114" y="1418"/>
                    </a:lnTo>
                    <a:lnTo>
                      <a:pt x="0" y="829"/>
                    </a:lnTo>
                    <a:lnTo>
                      <a:pt x="19" y="810"/>
                    </a:lnTo>
                    <a:lnTo>
                      <a:pt x="38" y="773"/>
                    </a:lnTo>
                    <a:lnTo>
                      <a:pt x="57" y="755"/>
                    </a:lnTo>
                    <a:lnTo>
                      <a:pt x="76" y="736"/>
                    </a:lnTo>
                    <a:lnTo>
                      <a:pt x="95" y="718"/>
                    </a:lnTo>
                    <a:lnTo>
                      <a:pt x="114" y="699"/>
                    </a:lnTo>
                    <a:lnTo>
                      <a:pt x="133" y="681"/>
                    </a:lnTo>
                    <a:lnTo>
                      <a:pt x="151" y="644"/>
                    </a:lnTo>
                    <a:lnTo>
                      <a:pt x="188" y="625"/>
                    </a:lnTo>
                    <a:lnTo>
                      <a:pt x="207" y="607"/>
                    </a:lnTo>
                    <a:lnTo>
                      <a:pt x="226" y="571"/>
                    </a:lnTo>
                    <a:lnTo>
                      <a:pt x="245" y="553"/>
                    </a:lnTo>
                    <a:lnTo>
                      <a:pt x="264" y="516"/>
                    </a:lnTo>
                    <a:lnTo>
                      <a:pt x="283" y="479"/>
                    </a:lnTo>
                    <a:lnTo>
                      <a:pt x="283" y="443"/>
                    </a:lnTo>
                    <a:lnTo>
                      <a:pt x="302" y="406"/>
                    </a:lnTo>
                    <a:lnTo>
                      <a:pt x="151" y="0"/>
                    </a:lnTo>
                    <a:lnTo>
                      <a:pt x="1257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48" name="Freeform 76"/>
              <p:cNvSpPr/>
              <p:nvPr/>
            </p:nvSpPr>
            <p:spPr>
              <a:xfrm>
                <a:off x="688680" y="3661920"/>
                <a:ext cx="2486160" cy="123840"/>
              </a:xfrm>
              <a:custGeom>
                <a:avLst/>
                <a:gdLst/>
                <a:ahLst/>
                <a:rect l="l" t="t" r="r" b="b"/>
                <a:pathLst>
                  <a:path w="12723" h="1437">
                    <a:moveTo>
                      <a:pt x="12308" y="0"/>
                    </a:moveTo>
                    <a:lnTo>
                      <a:pt x="12270" y="480"/>
                    </a:lnTo>
                    <a:lnTo>
                      <a:pt x="12270" y="498"/>
                    </a:lnTo>
                    <a:lnTo>
                      <a:pt x="12251" y="498"/>
                    </a:lnTo>
                    <a:lnTo>
                      <a:pt x="12251" y="517"/>
                    </a:lnTo>
                    <a:lnTo>
                      <a:pt x="12232" y="517"/>
                    </a:lnTo>
                    <a:lnTo>
                      <a:pt x="12232" y="517"/>
                    </a:lnTo>
                    <a:lnTo>
                      <a:pt x="12213" y="535"/>
                    </a:lnTo>
                    <a:lnTo>
                      <a:pt x="12195" y="535"/>
                    </a:lnTo>
                    <a:lnTo>
                      <a:pt x="12195" y="535"/>
                    </a:lnTo>
                    <a:lnTo>
                      <a:pt x="12176" y="535"/>
                    </a:lnTo>
                    <a:lnTo>
                      <a:pt x="12157" y="535"/>
                    </a:lnTo>
                    <a:lnTo>
                      <a:pt x="12138" y="535"/>
                    </a:lnTo>
                    <a:lnTo>
                      <a:pt x="12138" y="535"/>
                    </a:lnTo>
                    <a:lnTo>
                      <a:pt x="12119" y="535"/>
                    </a:lnTo>
                    <a:lnTo>
                      <a:pt x="12100" y="535"/>
                    </a:lnTo>
                    <a:lnTo>
                      <a:pt x="12100" y="535"/>
                    </a:lnTo>
                    <a:lnTo>
                      <a:pt x="12081" y="535"/>
                    </a:lnTo>
                    <a:lnTo>
                      <a:pt x="12062" y="535"/>
                    </a:lnTo>
                    <a:lnTo>
                      <a:pt x="12043" y="535"/>
                    </a:lnTo>
                    <a:lnTo>
                      <a:pt x="12043" y="553"/>
                    </a:lnTo>
                    <a:lnTo>
                      <a:pt x="12043" y="553"/>
                    </a:lnTo>
                    <a:lnTo>
                      <a:pt x="12024" y="571"/>
                    </a:lnTo>
                    <a:lnTo>
                      <a:pt x="12024" y="589"/>
                    </a:lnTo>
                    <a:lnTo>
                      <a:pt x="12043" y="589"/>
                    </a:lnTo>
                    <a:lnTo>
                      <a:pt x="12043" y="626"/>
                    </a:lnTo>
                    <a:lnTo>
                      <a:pt x="12723" y="645"/>
                    </a:lnTo>
                    <a:lnTo>
                      <a:pt x="12648" y="1400"/>
                    </a:lnTo>
                    <a:lnTo>
                      <a:pt x="12515" y="1437"/>
                    </a:lnTo>
                    <a:lnTo>
                      <a:pt x="0" y="1437"/>
                    </a:lnTo>
                    <a:lnTo>
                      <a:pt x="643" y="737"/>
                    </a:lnTo>
                    <a:lnTo>
                      <a:pt x="510" y="130"/>
                    </a:lnTo>
                    <a:lnTo>
                      <a:pt x="510" y="111"/>
                    </a:lnTo>
                    <a:lnTo>
                      <a:pt x="529" y="93"/>
                    </a:lnTo>
                    <a:lnTo>
                      <a:pt x="548" y="74"/>
                    </a:lnTo>
                    <a:lnTo>
                      <a:pt x="548" y="56"/>
                    </a:lnTo>
                    <a:lnTo>
                      <a:pt x="567" y="56"/>
                    </a:lnTo>
                    <a:lnTo>
                      <a:pt x="586" y="37"/>
                    </a:lnTo>
                    <a:lnTo>
                      <a:pt x="605" y="19"/>
                    </a:lnTo>
                    <a:lnTo>
                      <a:pt x="605" y="0"/>
                    </a:lnTo>
                    <a:lnTo>
                      <a:pt x="1230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49" name="Freeform 77"/>
              <p:cNvSpPr/>
              <p:nvPr/>
            </p:nvSpPr>
            <p:spPr>
              <a:xfrm>
                <a:off x="684360" y="3723840"/>
                <a:ext cx="2495160" cy="123480"/>
              </a:xfrm>
              <a:custGeom>
                <a:avLst/>
                <a:gdLst/>
                <a:ahLst/>
                <a:rect l="l" t="t" r="r" b="b"/>
                <a:pathLst>
                  <a:path w="12759" h="1418">
                    <a:moveTo>
                      <a:pt x="12741" y="0"/>
                    </a:moveTo>
                    <a:lnTo>
                      <a:pt x="12666" y="681"/>
                    </a:lnTo>
                    <a:lnTo>
                      <a:pt x="12194" y="774"/>
                    </a:lnTo>
                    <a:lnTo>
                      <a:pt x="12175" y="792"/>
                    </a:lnTo>
                    <a:lnTo>
                      <a:pt x="12175" y="811"/>
                    </a:lnTo>
                    <a:lnTo>
                      <a:pt x="12156" y="811"/>
                    </a:lnTo>
                    <a:lnTo>
                      <a:pt x="12137" y="829"/>
                    </a:lnTo>
                    <a:lnTo>
                      <a:pt x="12137" y="866"/>
                    </a:lnTo>
                    <a:lnTo>
                      <a:pt x="12118" y="885"/>
                    </a:lnTo>
                    <a:lnTo>
                      <a:pt x="12118" y="902"/>
                    </a:lnTo>
                    <a:lnTo>
                      <a:pt x="12118" y="939"/>
                    </a:lnTo>
                    <a:lnTo>
                      <a:pt x="12099" y="976"/>
                    </a:lnTo>
                    <a:lnTo>
                      <a:pt x="12099" y="994"/>
                    </a:lnTo>
                    <a:lnTo>
                      <a:pt x="12099" y="1031"/>
                    </a:lnTo>
                    <a:lnTo>
                      <a:pt x="12099" y="1068"/>
                    </a:lnTo>
                    <a:lnTo>
                      <a:pt x="12099" y="1105"/>
                    </a:lnTo>
                    <a:lnTo>
                      <a:pt x="12099" y="1142"/>
                    </a:lnTo>
                    <a:lnTo>
                      <a:pt x="12099" y="1161"/>
                    </a:lnTo>
                    <a:lnTo>
                      <a:pt x="12099" y="1198"/>
                    </a:lnTo>
                    <a:lnTo>
                      <a:pt x="12118" y="1234"/>
                    </a:lnTo>
                    <a:lnTo>
                      <a:pt x="12156" y="1271"/>
                    </a:lnTo>
                    <a:lnTo>
                      <a:pt x="12194" y="1289"/>
                    </a:lnTo>
                    <a:lnTo>
                      <a:pt x="12231" y="1308"/>
                    </a:lnTo>
                    <a:lnTo>
                      <a:pt x="12269" y="1308"/>
                    </a:lnTo>
                    <a:lnTo>
                      <a:pt x="12307" y="1308"/>
                    </a:lnTo>
                    <a:lnTo>
                      <a:pt x="12364" y="1289"/>
                    </a:lnTo>
                    <a:lnTo>
                      <a:pt x="12401" y="1271"/>
                    </a:lnTo>
                    <a:lnTo>
                      <a:pt x="12439" y="1271"/>
                    </a:lnTo>
                    <a:lnTo>
                      <a:pt x="12495" y="1252"/>
                    </a:lnTo>
                    <a:lnTo>
                      <a:pt x="12533" y="1252"/>
                    </a:lnTo>
                    <a:lnTo>
                      <a:pt x="12590" y="1234"/>
                    </a:lnTo>
                    <a:lnTo>
                      <a:pt x="12628" y="1234"/>
                    </a:lnTo>
                    <a:lnTo>
                      <a:pt x="12666" y="1234"/>
                    </a:lnTo>
                    <a:lnTo>
                      <a:pt x="12723" y="1252"/>
                    </a:lnTo>
                    <a:lnTo>
                      <a:pt x="12759" y="1289"/>
                    </a:lnTo>
                    <a:lnTo>
                      <a:pt x="12759" y="1418"/>
                    </a:lnTo>
                    <a:lnTo>
                      <a:pt x="792" y="1418"/>
                    </a:lnTo>
                    <a:lnTo>
                      <a:pt x="925" y="1326"/>
                    </a:lnTo>
                    <a:lnTo>
                      <a:pt x="925" y="1142"/>
                    </a:lnTo>
                    <a:lnTo>
                      <a:pt x="547" y="1418"/>
                    </a:lnTo>
                    <a:lnTo>
                      <a:pt x="150" y="1418"/>
                    </a:lnTo>
                    <a:lnTo>
                      <a:pt x="131" y="1400"/>
                    </a:lnTo>
                    <a:lnTo>
                      <a:pt x="131" y="1381"/>
                    </a:lnTo>
                    <a:lnTo>
                      <a:pt x="113" y="1345"/>
                    </a:lnTo>
                    <a:lnTo>
                      <a:pt x="113" y="1326"/>
                    </a:lnTo>
                    <a:lnTo>
                      <a:pt x="94" y="1308"/>
                    </a:lnTo>
                    <a:lnTo>
                      <a:pt x="94" y="1289"/>
                    </a:lnTo>
                    <a:lnTo>
                      <a:pt x="75" y="1252"/>
                    </a:lnTo>
                    <a:lnTo>
                      <a:pt x="75" y="1234"/>
                    </a:lnTo>
                    <a:lnTo>
                      <a:pt x="75" y="1198"/>
                    </a:lnTo>
                    <a:lnTo>
                      <a:pt x="56" y="1179"/>
                    </a:lnTo>
                    <a:lnTo>
                      <a:pt x="56" y="1161"/>
                    </a:lnTo>
                    <a:lnTo>
                      <a:pt x="37" y="1124"/>
                    </a:lnTo>
                    <a:lnTo>
                      <a:pt x="37" y="1105"/>
                    </a:lnTo>
                    <a:lnTo>
                      <a:pt x="18" y="1087"/>
                    </a:lnTo>
                    <a:lnTo>
                      <a:pt x="18" y="1068"/>
                    </a:lnTo>
                    <a:lnTo>
                      <a:pt x="0" y="1031"/>
                    </a:lnTo>
                    <a:lnTo>
                      <a:pt x="0" y="1013"/>
                    </a:lnTo>
                    <a:lnTo>
                      <a:pt x="0" y="994"/>
                    </a:lnTo>
                    <a:lnTo>
                      <a:pt x="0" y="976"/>
                    </a:lnTo>
                    <a:lnTo>
                      <a:pt x="0" y="958"/>
                    </a:lnTo>
                    <a:lnTo>
                      <a:pt x="0" y="921"/>
                    </a:lnTo>
                    <a:lnTo>
                      <a:pt x="0" y="902"/>
                    </a:lnTo>
                    <a:lnTo>
                      <a:pt x="0" y="885"/>
                    </a:lnTo>
                    <a:lnTo>
                      <a:pt x="0" y="866"/>
                    </a:lnTo>
                    <a:lnTo>
                      <a:pt x="0" y="848"/>
                    </a:lnTo>
                    <a:lnTo>
                      <a:pt x="0" y="829"/>
                    </a:lnTo>
                    <a:lnTo>
                      <a:pt x="0" y="811"/>
                    </a:lnTo>
                    <a:lnTo>
                      <a:pt x="0" y="792"/>
                    </a:lnTo>
                    <a:lnTo>
                      <a:pt x="0" y="774"/>
                    </a:lnTo>
                    <a:lnTo>
                      <a:pt x="0" y="755"/>
                    </a:lnTo>
                    <a:lnTo>
                      <a:pt x="0" y="737"/>
                    </a:lnTo>
                    <a:lnTo>
                      <a:pt x="0" y="737"/>
                    </a:lnTo>
                    <a:lnTo>
                      <a:pt x="661" y="18"/>
                    </a:lnTo>
                    <a:lnTo>
                      <a:pt x="642" y="0"/>
                    </a:lnTo>
                    <a:lnTo>
                      <a:pt x="127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50" name="Freeform 78"/>
              <p:cNvSpPr/>
              <p:nvPr/>
            </p:nvSpPr>
            <p:spPr>
              <a:xfrm>
                <a:off x="684360" y="3785760"/>
                <a:ext cx="2495160" cy="123480"/>
              </a:xfrm>
              <a:custGeom>
                <a:avLst/>
                <a:gdLst/>
                <a:ahLst/>
                <a:rect l="l" t="t" r="r" b="b"/>
                <a:pathLst>
                  <a:path w="12759" h="1419">
                    <a:moveTo>
                      <a:pt x="12533" y="0"/>
                    </a:moveTo>
                    <a:lnTo>
                      <a:pt x="12194" y="56"/>
                    </a:lnTo>
                    <a:lnTo>
                      <a:pt x="12175" y="74"/>
                    </a:lnTo>
                    <a:lnTo>
                      <a:pt x="12175" y="93"/>
                    </a:lnTo>
                    <a:lnTo>
                      <a:pt x="12156" y="93"/>
                    </a:lnTo>
                    <a:lnTo>
                      <a:pt x="12137" y="111"/>
                    </a:lnTo>
                    <a:lnTo>
                      <a:pt x="12137" y="148"/>
                    </a:lnTo>
                    <a:lnTo>
                      <a:pt x="12118" y="167"/>
                    </a:lnTo>
                    <a:lnTo>
                      <a:pt x="12118" y="184"/>
                    </a:lnTo>
                    <a:lnTo>
                      <a:pt x="12118" y="221"/>
                    </a:lnTo>
                    <a:lnTo>
                      <a:pt x="12099" y="258"/>
                    </a:lnTo>
                    <a:lnTo>
                      <a:pt x="12099" y="276"/>
                    </a:lnTo>
                    <a:lnTo>
                      <a:pt x="12099" y="313"/>
                    </a:lnTo>
                    <a:lnTo>
                      <a:pt x="12099" y="350"/>
                    </a:lnTo>
                    <a:lnTo>
                      <a:pt x="12099" y="387"/>
                    </a:lnTo>
                    <a:lnTo>
                      <a:pt x="12099" y="424"/>
                    </a:lnTo>
                    <a:lnTo>
                      <a:pt x="12099" y="443"/>
                    </a:lnTo>
                    <a:lnTo>
                      <a:pt x="12099" y="480"/>
                    </a:lnTo>
                    <a:lnTo>
                      <a:pt x="12118" y="516"/>
                    </a:lnTo>
                    <a:lnTo>
                      <a:pt x="12156" y="553"/>
                    </a:lnTo>
                    <a:lnTo>
                      <a:pt x="12194" y="571"/>
                    </a:lnTo>
                    <a:lnTo>
                      <a:pt x="12231" y="590"/>
                    </a:lnTo>
                    <a:lnTo>
                      <a:pt x="12269" y="590"/>
                    </a:lnTo>
                    <a:lnTo>
                      <a:pt x="12307" y="590"/>
                    </a:lnTo>
                    <a:lnTo>
                      <a:pt x="12364" y="571"/>
                    </a:lnTo>
                    <a:lnTo>
                      <a:pt x="12401" y="553"/>
                    </a:lnTo>
                    <a:lnTo>
                      <a:pt x="12439" y="553"/>
                    </a:lnTo>
                    <a:lnTo>
                      <a:pt x="12495" y="534"/>
                    </a:lnTo>
                    <a:lnTo>
                      <a:pt x="12533" y="534"/>
                    </a:lnTo>
                    <a:lnTo>
                      <a:pt x="12590" y="516"/>
                    </a:lnTo>
                    <a:lnTo>
                      <a:pt x="12628" y="516"/>
                    </a:lnTo>
                    <a:lnTo>
                      <a:pt x="12666" y="516"/>
                    </a:lnTo>
                    <a:lnTo>
                      <a:pt x="12723" y="534"/>
                    </a:lnTo>
                    <a:lnTo>
                      <a:pt x="12759" y="571"/>
                    </a:lnTo>
                    <a:lnTo>
                      <a:pt x="12741" y="1345"/>
                    </a:lnTo>
                    <a:lnTo>
                      <a:pt x="12723" y="1345"/>
                    </a:lnTo>
                    <a:lnTo>
                      <a:pt x="12723" y="1364"/>
                    </a:lnTo>
                    <a:lnTo>
                      <a:pt x="12704" y="1364"/>
                    </a:lnTo>
                    <a:lnTo>
                      <a:pt x="12685" y="1382"/>
                    </a:lnTo>
                    <a:lnTo>
                      <a:pt x="12685" y="1382"/>
                    </a:lnTo>
                    <a:lnTo>
                      <a:pt x="12666" y="1401"/>
                    </a:lnTo>
                    <a:lnTo>
                      <a:pt x="12666" y="1401"/>
                    </a:lnTo>
                    <a:lnTo>
                      <a:pt x="12647" y="1419"/>
                    </a:lnTo>
                    <a:lnTo>
                      <a:pt x="433" y="1419"/>
                    </a:lnTo>
                    <a:lnTo>
                      <a:pt x="340" y="1234"/>
                    </a:lnTo>
                    <a:lnTo>
                      <a:pt x="452" y="958"/>
                    </a:lnTo>
                    <a:lnTo>
                      <a:pt x="925" y="608"/>
                    </a:lnTo>
                    <a:lnTo>
                      <a:pt x="925" y="424"/>
                    </a:lnTo>
                    <a:lnTo>
                      <a:pt x="321" y="884"/>
                    </a:lnTo>
                    <a:lnTo>
                      <a:pt x="283" y="866"/>
                    </a:lnTo>
                    <a:lnTo>
                      <a:pt x="245" y="848"/>
                    </a:lnTo>
                    <a:lnTo>
                      <a:pt x="226" y="830"/>
                    </a:lnTo>
                    <a:lnTo>
                      <a:pt x="207" y="811"/>
                    </a:lnTo>
                    <a:lnTo>
                      <a:pt x="188" y="774"/>
                    </a:lnTo>
                    <a:lnTo>
                      <a:pt x="169" y="756"/>
                    </a:lnTo>
                    <a:lnTo>
                      <a:pt x="150" y="719"/>
                    </a:lnTo>
                    <a:lnTo>
                      <a:pt x="131" y="663"/>
                    </a:lnTo>
                    <a:lnTo>
                      <a:pt x="113" y="627"/>
                    </a:lnTo>
                    <a:lnTo>
                      <a:pt x="94" y="590"/>
                    </a:lnTo>
                    <a:lnTo>
                      <a:pt x="75" y="534"/>
                    </a:lnTo>
                    <a:lnTo>
                      <a:pt x="75" y="498"/>
                    </a:lnTo>
                    <a:lnTo>
                      <a:pt x="56" y="443"/>
                    </a:lnTo>
                    <a:lnTo>
                      <a:pt x="37" y="406"/>
                    </a:lnTo>
                    <a:lnTo>
                      <a:pt x="18" y="369"/>
                    </a:lnTo>
                    <a:lnTo>
                      <a:pt x="0" y="313"/>
                    </a:lnTo>
                    <a:lnTo>
                      <a:pt x="0" y="295"/>
                    </a:lnTo>
                    <a:lnTo>
                      <a:pt x="0" y="276"/>
                    </a:lnTo>
                    <a:lnTo>
                      <a:pt x="0" y="258"/>
                    </a:lnTo>
                    <a:lnTo>
                      <a:pt x="0" y="240"/>
                    </a:lnTo>
                    <a:lnTo>
                      <a:pt x="0" y="203"/>
                    </a:lnTo>
                    <a:lnTo>
                      <a:pt x="0" y="184"/>
                    </a:lnTo>
                    <a:lnTo>
                      <a:pt x="0" y="167"/>
                    </a:lnTo>
                    <a:lnTo>
                      <a:pt x="0" y="148"/>
                    </a:lnTo>
                    <a:lnTo>
                      <a:pt x="0" y="130"/>
                    </a:lnTo>
                    <a:lnTo>
                      <a:pt x="0" y="111"/>
                    </a:lnTo>
                    <a:lnTo>
                      <a:pt x="0" y="93"/>
                    </a:lnTo>
                    <a:lnTo>
                      <a:pt x="0" y="74"/>
                    </a:lnTo>
                    <a:lnTo>
                      <a:pt x="0" y="56"/>
                    </a:lnTo>
                    <a:lnTo>
                      <a:pt x="0" y="37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18" y="0"/>
                    </a:lnTo>
                    <a:lnTo>
                      <a:pt x="125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51" name="Freeform 79"/>
              <p:cNvSpPr/>
              <p:nvPr/>
            </p:nvSpPr>
            <p:spPr>
              <a:xfrm>
                <a:off x="716040" y="3847320"/>
                <a:ext cx="2463120" cy="122040"/>
              </a:xfrm>
              <a:custGeom>
                <a:avLst/>
                <a:gdLst/>
                <a:ahLst/>
                <a:rect l="l" t="t" r="r" b="b"/>
                <a:pathLst>
                  <a:path w="12609" h="1419">
                    <a:moveTo>
                      <a:pt x="12609" y="0"/>
                    </a:moveTo>
                    <a:lnTo>
                      <a:pt x="12591" y="645"/>
                    </a:lnTo>
                    <a:lnTo>
                      <a:pt x="12554" y="664"/>
                    </a:lnTo>
                    <a:lnTo>
                      <a:pt x="12516" y="701"/>
                    </a:lnTo>
                    <a:lnTo>
                      <a:pt x="12478" y="738"/>
                    </a:lnTo>
                    <a:lnTo>
                      <a:pt x="12440" y="756"/>
                    </a:lnTo>
                    <a:lnTo>
                      <a:pt x="12402" y="774"/>
                    </a:lnTo>
                    <a:lnTo>
                      <a:pt x="12364" y="811"/>
                    </a:lnTo>
                    <a:lnTo>
                      <a:pt x="12327" y="830"/>
                    </a:lnTo>
                    <a:lnTo>
                      <a:pt x="12289" y="847"/>
                    </a:lnTo>
                    <a:lnTo>
                      <a:pt x="12232" y="866"/>
                    </a:lnTo>
                    <a:lnTo>
                      <a:pt x="12195" y="903"/>
                    </a:lnTo>
                    <a:lnTo>
                      <a:pt x="12157" y="921"/>
                    </a:lnTo>
                    <a:lnTo>
                      <a:pt x="12119" y="940"/>
                    </a:lnTo>
                    <a:lnTo>
                      <a:pt x="12063" y="958"/>
                    </a:lnTo>
                    <a:lnTo>
                      <a:pt x="12025" y="977"/>
                    </a:lnTo>
                    <a:lnTo>
                      <a:pt x="11987" y="995"/>
                    </a:lnTo>
                    <a:lnTo>
                      <a:pt x="11930" y="1014"/>
                    </a:lnTo>
                    <a:lnTo>
                      <a:pt x="11892" y="1014"/>
                    </a:lnTo>
                    <a:lnTo>
                      <a:pt x="11855" y="1032"/>
                    </a:lnTo>
                    <a:lnTo>
                      <a:pt x="11799" y="1051"/>
                    </a:lnTo>
                    <a:lnTo>
                      <a:pt x="11761" y="1069"/>
                    </a:lnTo>
                    <a:lnTo>
                      <a:pt x="11723" y="1088"/>
                    </a:lnTo>
                    <a:lnTo>
                      <a:pt x="11666" y="1106"/>
                    </a:lnTo>
                    <a:lnTo>
                      <a:pt x="11628" y="1125"/>
                    </a:lnTo>
                    <a:lnTo>
                      <a:pt x="11571" y="1125"/>
                    </a:lnTo>
                    <a:lnTo>
                      <a:pt x="11533" y="1143"/>
                    </a:lnTo>
                    <a:lnTo>
                      <a:pt x="11478" y="1161"/>
                    </a:lnTo>
                    <a:lnTo>
                      <a:pt x="11440" y="1180"/>
                    </a:lnTo>
                    <a:lnTo>
                      <a:pt x="11402" y="1197"/>
                    </a:lnTo>
                    <a:lnTo>
                      <a:pt x="11345" y="1216"/>
                    </a:lnTo>
                    <a:lnTo>
                      <a:pt x="11307" y="1234"/>
                    </a:lnTo>
                    <a:lnTo>
                      <a:pt x="11269" y="1253"/>
                    </a:lnTo>
                    <a:lnTo>
                      <a:pt x="11213" y="1271"/>
                    </a:lnTo>
                    <a:lnTo>
                      <a:pt x="11213" y="1419"/>
                    </a:lnTo>
                    <a:lnTo>
                      <a:pt x="2908" y="1419"/>
                    </a:lnTo>
                    <a:lnTo>
                      <a:pt x="3455" y="995"/>
                    </a:lnTo>
                    <a:lnTo>
                      <a:pt x="3455" y="995"/>
                    </a:lnTo>
                    <a:lnTo>
                      <a:pt x="3455" y="995"/>
                    </a:lnTo>
                    <a:lnTo>
                      <a:pt x="3455" y="977"/>
                    </a:lnTo>
                    <a:lnTo>
                      <a:pt x="3455" y="977"/>
                    </a:lnTo>
                    <a:lnTo>
                      <a:pt x="3455" y="958"/>
                    </a:lnTo>
                    <a:lnTo>
                      <a:pt x="3455" y="940"/>
                    </a:lnTo>
                    <a:lnTo>
                      <a:pt x="3455" y="921"/>
                    </a:lnTo>
                    <a:lnTo>
                      <a:pt x="3455" y="921"/>
                    </a:lnTo>
                    <a:lnTo>
                      <a:pt x="2492" y="1419"/>
                    </a:lnTo>
                    <a:lnTo>
                      <a:pt x="566" y="1419"/>
                    </a:lnTo>
                    <a:lnTo>
                      <a:pt x="812" y="1143"/>
                    </a:lnTo>
                    <a:lnTo>
                      <a:pt x="812" y="1143"/>
                    </a:lnTo>
                    <a:lnTo>
                      <a:pt x="812" y="1125"/>
                    </a:lnTo>
                    <a:lnTo>
                      <a:pt x="812" y="1106"/>
                    </a:lnTo>
                    <a:lnTo>
                      <a:pt x="812" y="1106"/>
                    </a:lnTo>
                    <a:lnTo>
                      <a:pt x="812" y="1088"/>
                    </a:lnTo>
                    <a:lnTo>
                      <a:pt x="793" y="1088"/>
                    </a:lnTo>
                    <a:lnTo>
                      <a:pt x="793" y="1069"/>
                    </a:lnTo>
                    <a:lnTo>
                      <a:pt x="775" y="1069"/>
                    </a:lnTo>
                    <a:lnTo>
                      <a:pt x="585" y="1253"/>
                    </a:lnTo>
                    <a:lnTo>
                      <a:pt x="566" y="1253"/>
                    </a:lnTo>
                    <a:lnTo>
                      <a:pt x="566" y="1253"/>
                    </a:lnTo>
                    <a:lnTo>
                      <a:pt x="548" y="1253"/>
                    </a:lnTo>
                    <a:lnTo>
                      <a:pt x="548" y="1234"/>
                    </a:lnTo>
                    <a:lnTo>
                      <a:pt x="529" y="1234"/>
                    </a:lnTo>
                    <a:lnTo>
                      <a:pt x="529" y="1234"/>
                    </a:lnTo>
                    <a:lnTo>
                      <a:pt x="511" y="1234"/>
                    </a:lnTo>
                    <a:lnTo>
                      <a:pt x="511" y="1216"/>
                    </a:lnTo>
                    <a:lnTo>
                      <a:pt x="190" y="534"/>
                    </a:lnTo>
                    <a:lnTo>
                      <a:pt x="302" y="258"/>
                    </a:lnTo>
                    <a:lnTo>
                      <a:pt x="642" y="0"/>
                    </a:lnTo>
                    <a:lnTo>
                      <a:pt x="12609" y="0"/>
                    </a:lnTo>
                    <a:close/>
                    <a:moveTo>
                      <a:pt x="397" y="0"/>
                    </a:moveTo>
                    <a:lnTo>
                      <a:pt x="171" y="184"/>
                    </a:lnTo>
                    <a:lnTo>
                      <a:pt x="152" y="184"/>
                    </a:lnTo>
                    <a:lnTo>
                      <a:pt x="133" y="166"/>
                    </a:lnTo>
                    <a:lnTo>
                      <a:pt x="114" y="166"/>
                    </a:lnTo>
                    <a:lnTo>
                      <a:pt x="114" y="166"/>
                    </a:lnTo>
                    <a:lnTo>
                      <a:pt x="95" y="148"/>
                    </a:lnTo>
                    <a:lnTo>
                      <a:pt x="76" y="148"/>
                    </a:lnTo>
                    <a:lnTo>
                      <a:pt x="76" y="130"/>
                    </a:lnTo>
                    <a:lnTo>
                      <a:pt x="57" y="130"/>
                    </a:lnTo>
                    <a:lnTo>
                      <a:pt x="57" y="111"/>
                    </a:lnTo>
                    <a:lnTo>
                      <a:pt x="38" y="93"/>
                    </a:lnTo>
                    <a:lnTo>
                      <a:pt x="38" y="74"/>
                    </a:lnTo>
                    <a:lnTo>
                      <a:pt x="19" y="74"/>
                    </a:lnTo>
                    <a:lnTo>
                      <a:pt x="19" y="56"/>
                    </a:lnTo>
                    <a:lnTo>
                      <a:pt x="0" y="37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39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52" name="Freeform 80"/>
              <p:cNvSpPr/>
              <p:nvPr/>
            </p:nvSpPr>
            <p:spPr>
              <a:xfrm>
                <a:off x="716040" y="3909240"/>
                <a:ext cx="2439000" cy="123840"/>
              </a:xfrm>
              <a:custGeom>
                <a:avLst/>
                <a:gdLst/>
                <a:ahLst/>
                <a:rect l="l" t="t" r="r" b="b"/>
                <a:pathLst>
                  <a:path w="12478" h="1419">
                    <a:moveTo>
                      <a:pt x="12478" y="0"/>
                    </a:moveTo>
                    <a:lnTo>
                      <a:pt x="12440" y="19"/>
                    </a:lnTo>
                    <a:lnTo>
                      <a:pt x="12402" y="37"/>
                    </a:lnTo>
                    <a:lnTo>
                      <a:pt x="12383" y="74"/>
                    </a:lnTo>
                    <a:lnTo>
                      <a:pt x="12345" y="92"/>
                    </a:lnTo>
                    <a:lnTo>
                      <a:pt x="12308" y="111"/>
                    </a:lnTo>
                    <a:lnTo>
                      <a:pt x="12270" y="128"/>
                    </a:lnTo>
                    <a:lnTo>
                      <a:pt x="12232" y="147"/>
                    </a:lnTo>
                    <a:lnTo>
                      <a:pt x="12195" y="165"/>
                    </a:lnTo>
                    <a:lnTo>
                      <a:pt x="12157" y="184"/>
                    </a:lnTo>
                    <a:lnTo>
                      <a:pt x="12119" y="202"/>
                    </a:lnTo>
                    <a:lnTo>
                      <a:pt x="12062" y="221"/>
                    </a:lnTo>
                    <a:lnTo>
                      <a:pt x="12025" y="239"/>
                    </a:lnTo>
                    <a:lnTo>
                      <a:pt x="11987" y="258"/>
                    </a:lnTo>
                    <a:lnTo>
                      <a:pt x="11949" y="276"/>
                    </a:lnTo>
                    <a:lnTo>
                      <a:pt x="11911" y="295"/>
                    </a:lnTo>
                    <a:lnTo>
                      <a:pt x="11873" y="313"/>
                    </a:lnTo>
                    <a:lnTo>
                      <a:pt x="11817" y="313"/>
                    </a:lnTo>
                    <a:lnTo>
                      <a:pt x="11780" y="332"/>
                    </a:lnTo>
                    <a:lnTo>
                      <a:pt x="11742" y="350"/>
                    </a:lnTo>
                    <a:lnTo>
                      <a:pt x="11704" y="369"/>
                    </a:lnTo>
                    <a:lnTo>
                      <a:pt x="11666" y="387"/>
                    </a:lnTo>
                    <a:lnTo>
                      <a:pt x="11609" y="387"/>
                    </a:lnTo>
                    <a:lnTo>
                      <a:pt x="11571" y="406"/>
                    </a:lnTo>
                    <a:lnTo>
                      <a:pt x="11533" y="424"/>
                    </a:lnTo>
                    <a:lnTo>
                      <a:pt x="11497" y="442"/>
                    </a:lnTo>
                    <a:lnTo>
                      <a:pt x="11440" y="461"/>
                    </a:lnTo>
                    <a:lnTo>
                      <a:pt x="11402" y="461"/>
                    </a:lnTo>
                    <a:lnTo>
                      <a:pt x="11364" y="478"/>
                    </a:lnTo>
                    <a:lnTo>
                      <a:pt x="11326" y="497"/>
                    </a:lnTo>
                    <a:lnTo>
                      <a:pt x="11288" y="515"/>
                    </a:lnTo>
                    <a:lnTo>
                      <a:pt x="11250" y="534"/>
                    </a:lnTo>
                    <a:lnTo>
                      <a:pt x="11194" y="552"/>
                    </a:lnTo>
                    <a:lnTo>
                      <a:pt x="11194" y="1363"/>
                    </a:lnTo>
                    <a:lnTo>
                      <a:pt x="11194" y="1363"/>
                    </a:lnTo>
                    <a:lnTo>
                      <a:pt x="11175" y="1382"/>
                    </a:lnTo>
                    <a:lnTo>
                      <a:pt x="11175" y="1382"/>
                    </a:lnTo>
                    <a:lnTo>
                      <a:pt x="11156" y="1382"/>
                    </a:lnTo>
                    <a:lnTo>
                      <a:pt x="11156" y="1400"/>
                    </a:lnTo>
                    <a:lnTo>
                      <a:pt x="11138" y="1400"/>
                    </a:lnTo>
                    <a:lnTo>
                      <a:pt x="11138" y="1400"/>
                    </a:lnTo>
                    <a:lnTo>
                      <a:pt x="11119" y="1419"/>
                    </a:lnTo>
                    <a:lnTo>
                      <a:pt x="7286" y="1419"/>
                    </a:lnTo>
                    <a:lnTo>
                      <a:pt x="7834" y="1050"/>
                    </a:lnTo>
                    <a:lnTo>
                      <a:pt x="7815" y="1032"/>
                    </a:lnTo>
                    <a:lnTo>
                      <a:pt x="7815" y="1013"/>
                    </a:lnTo>
                    <a:lnTo>
                      <a:pt x="7815" y="995"/>
                    </a:lnTo>
                    <a:lnTo>
                      <a:pt x="7815" y="995"/>
                    </a:lnTo>
                    <a:lnTo>
                      <a:pt x="7815" y="1013"/>
                    </a:lnTo>
                    <a:lnTo>
                      <a:pt x="7815" y="1013"/>
                    </a:lnTo>
                    <a:lnTo>
                      <a:pt x="7815" y="1032"/>
                    </a:lnTo>
                    <a:lnTo>
                      <a:pt x="7815" y="1050"/>
                    </a:lnTo>
                    <a:lnTo>
                      <a:pt x="7834" y="1050"/>
                    </a:lnTo>
                    <a:lnTo>
                      <a:pt x="7834" y="1069"/>
                    </a:lnTo>
                    <a:lnTo>
                      <a:pt x="7834" y="1069"/>
                    </a:lnTo>
                    <a:lnTo>
                      <a:pt x="7834" y="1069"/>
                    </a:lnTo>
                    <a:lnTo>
                      <a:pt x="7815" y="1069"/>
                    </a:lnTo>
                    <a:lnTo>
                      <a:pt x="7815" y="1050"/>
                    </a:lnTo>
                    <a:lnTo>
                      <a:pt x="7796" y="1032"/>
                    </a:lnTo>
                    <a:lnTo>
                      <a:pt x="7777" y="995"/>
                    </a:lnTo>
                    <a:lnTo>
                      <a:pt x="7758" y="1013"/>
                    </a:lnTo>
                    <a:lnTo>
                      <a:pt x="7721" y="1032"/>
                    </a:lnTo>
                    <a:lnTo>
                      <a:pt x="7702" y="1050"/>
                    </a:lnTo>
                    <a:lnTo>
                      <a:pt x="7683" y="1069"/>
                    </a:lnTo>
                    <a:lnTo>
                      <a:pt x="7645" y="1087"/>
                    </a:lnTo>
                    <a:lnTo>
                      <a:pt x="7626" y="1106"/>
                    </a:lnTo>
                    <a:lnTo>
                      <a:pt x="7589" y="1106"/>
                    </a:lnTo>
                    <a:lnTo>
                      <a:pt x="7570" y="1124"/>
                    </a:lnTo>
                    <a:lnTo>
                      <a:pt x="7551" y="1143"/>
                    </a:lnTo>
                    <a:lnTo>
                      <a:pt x="7513" y="1143"/>
                    </a:lnTo>
                    <a:lnTo>
                      <a:pt x="7494" y="1161"/>
                    </a:lnTo>
                    <a:lnTo>
                      <a:pt x="7457" y="1161"/>
                    </a:lnTo>
                    <a:lnTo>
                      <a:pt x="7438" y="1179"/>
                    </a:lnTo>
                    <a:lnTo>
                      <a:pt x="7400" y="1179"/>
                    </a:lnTo>
                    <a:lnTo>
                      <a:pt x="7381" y="1197"/>
                    </a:lnTo>
                    <a:lnTo>
                      <a:pt x="7343" y="1197"/>
                    </a:lnTo>
                    <a:lnTo>
                      <a:pt x="7324" y="1215"/>
                    </a:lnTo>
                    <a:lnTo>
                      <a:pt x="7286" y="1215"/>
                    </a:lnTo>
                    <a:lnTo>
                      <a:pt x="7267" y="1234"/>
                    </a:lnTo>
                    <a:lnTo>
                      <a:pt x="7230" y="1252"/>
                    </a:lnTo>
                    <a:lnTo>
                      <a:pt x="7212" y="1252"/>
                    </a:lnTo>
                    <a:lnTo>
                      <a:pt x="7193" y="1271"/>
                    </a:lnTo>
                    <a:lnTo>
                      <a:pt x="7155" y="1271"/>
                    </a:lnTo>
                    <a:lnTo>
                      <a:pt x="7136" y="1289"/>
                    </a:lnTo>
                    <a:lnTo>
                      <a:pt x="7098" y="1308"/>
                    </a:lnTo>
                    <a:lnTo>
                      <a:pt x="7079" y="1308"/>
                    </a:lnTo>
                    <a:lnTo>
                      <a:pt x="7041" y="1326"/>
                    </a:lnTo>
                    <a:lnTo>
                      <a:pt x="7022" y="1345"/>
                    </a:lnTo>
                    <a:lnTo>
                      <a:pt x="7003" y="1363"/>
                    </a:lnTo>
                    <a:lnTo>
                      <a:pt x="6965" y="1382"/>
                    </a:lnTo>
                    <a:lnTo>
                      <a:pt x="6946" y="1400"/>
                    </a:lnTo>
                    <a:lnTo>
                      <a:pt x="6909" y="1419"/>
                    </a:lnTo>
                    <a:lnTo>
                      <a:pt x="1963" y="1419"/>
                    </a:lnTo>
                    <a:lnTo>
                      <a:pt x="3436" y="276"/>
                    </a:lnTo>
                    <a:lnTo>
                      <a:pt x="3436" y="276"/>
                    </a:lnTo>
                    <a:lnTo>
                      <a:pt x="3436" y="276"/>
                    </a:lnTo>
                    <a:lnTo>
                      <a:pt x="3436" y="258"/>
                    </a:lnTo>
                    <a:lnTo>
                      <a:pt x="3436" y="258"/>
                    </a:lnTo>
                    <a:lnTo>
                      <a:pt x="3436" y="239"/>
                    </a:lnTo>
                    <a:lnTo>
                      <a:pt x="3436" y="221"/>
                    </a:lnTo>
                    <a:lnTo>
                      <a:pt x="3436" y="202"/>
                    </a:lnTo>
                    <a:lnTo>
                      <a:pt x="3436" y="202"/>
                    </a:lnTo>
                    <a:lnTo>
                      <a:pt x="1737" y="1106"/>
                    </a:lnTo>
                    <a:lnTo>
                      <a:pt x="1302" y="1419"/>
                    </a:lnTo>
                    <a:lnTo>
                      <a:pt x="19" y="1419"/>
                    </a:lnTo>
                    <a:lnTo>
                      <a:pt x="0" y="1363"/>
                    </a:lnTo>
                    <a:lnTo>
                      <a:pt x="793" y="424"/>
                    </a:lnTo>
                    <a:lnTo>
                      <a:pt x="793" y="424"/>
                    </a:lnTo>
                    <a:lnTo>
                      <a:pt x="793" y="406"/>
                    </a:lnTo>
                    <a:lnTo>
                      <a:pt x="793" y="387"/>
                    </a:lnTo>
                    <a:lnTo>
                      <a:pt x="793" y="387"/>
                    </a:lnTo>
                    <a:lnTo>
                      <a:pt x="793" y="369"/>
                    </a:lnTo>
                    <a:lnTo>
                      <a:pt x="774" y="369"/>
                    </a:lnTo>
                    <a:lnTo>
                      <a:pt x="774" y="350"/>
                    </a:lnTo>
                    <a:lnTo>
                      <a:pt x="756" y="350"/>
                    </a:lnTo>
                    <a:lnTo>
                      <a:pt x="566" y="534"/>
                    </a:lnTo>
                    <a:lnTo>
                      <a:pt x="547" y="534"/>
                    </a:lnTo>
                    <a:lnTo>
                      <a:pt x="547" y="534"/>
                    </a:lnTo>
                    <a:lnTo>
                      <a:pt x="529" y="534"/>
                    </a:lnTo>
                    <a:lnTo>
                      <a:pt x="529" y="515"/>
                    </a:lnTo>
                    <a:lnTo>
                      <a:pt x="510" y="515"/>
                    </a:lnTo>
                    <a:lnTo>
                      <a:pt x="510" y="515"/>
                    </a:lnTo>
                    <a:lnTo>
                      <a:pt x="492" y="515"/>
                    </a:lnTo>
                    <a:lnTo>
                      <a:pt x="492" y="497"/>
                    </a:lnTo>
                    <a:lnTo>
                      <a:pt x="264" y="0"/>
                    </a:lnTo>
                    <a:lnTo>
                      <a:pt x="1247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53" name="Freeform 81"/>
              <p:cNvSpPr/>
              <p:nvPr/>
            </p:nvSpPr>
            <p:spPr>
              <a:xfrm>
                <a:off x="716040" y="3969720"/>
                <a:ext cx="2314080" cy="123840"/>
              </a:xfrm>
              <a:custGeom>
                <a:avLst/>
                <a:gdLst/>
                <a:ahLst/>
                <a:rect l="l" t="t" r="r" b="b"/>
                <a:pathLst>
                  <a:path w="11836" h="1419">
                    <a:moveTo>
                      <a:pt x="11194" y="0"/>
                    </a:moveTo>
                    <a:lnTo>
                      <a:pt x="11194" y="663"/>
                    </a:lnTo>
                    <a:lnTo>
                      <a:pt x="11175" y="682"/>
                    </a:lnTo>
                    <a:lnTo>
                      <a:pt x="11138" y="719"/>
                    </a:lnTo>
                    <a:lnTo>
                      <a:pt x="11100" y="737"/>
                    </a:lnTo>
                    <a:lnTo>
                      <a:pt x="11062" y="756"/>
                    </a:lnTo>
                    <a:lnTo>
                      <a:pt x="11024" y="793"/>
                    </a:lnTo>
                    <a:lnTo>
                      <a:pt x="10968" y="810"/>
                    </a:lnTo>
                    <a:lnTo>
                      <a:pt x="10930" y="829"/>
                    </a:lnTo>
                    <a:lnTo>
                      <a:pt x="10892" y="847"/>
                    </a:lnTo>
                    <a:lnTo>
                      <a:pt x="10854" y="866"/>
                    </a:lnTo>
                    <a:lnTo>
                      <a:pt x="10816" y="884"/>
                    </a:lnTo>
                    <a:lnTo>
                      <a:pt x="10760" y="921"/>
                    </a:lnTo>
                    <a:lnTo>
                      <a:pt x="10722" y="939"/>
                    </a:lnTo>
                    <a:lnTo>
                      <a:pt x="10666" y="958"/>
                    </a:lnTo>
                    <a:lnTo>
                      <a:pt x="10628" y="976"/>
                    </a:lnTo>
                    <a:lnTo>
                      <a:pt x="10590" y="995"/>
                    </a:lnTo>
                    <a:lnTo>
                      <a:pt x="10533" y="1013"/>
                    </a:lnTo>
                    <a:lnTo>
                      <a:pt x="10495" y="1032"/>
                    </a:lnTo>
                    <a:lnTo>
                      <a:pt x="10440" y="1050"/>
                    </a:lnTo>
                    <a:lnTo>
                      <a:pt x="10402" y="1069"/>
                    </a:lnTo>
                    <a:lnTo>
                      <a:pt x="10345" y="1087"/>
                    </a:lnTo>
                    <a:lnTo>
                      <a:pt x="10307" y="1106"/>
                    </a:lnTo>
                    <a:lnTo>
                      <a:pt x="10269" y="1106"/>
                    </a:lnTo>
                    <a:lnTo>
                      <a:pt x="10212" y="1124"/>
                    </a:lnTo>
                    <a:lnTo>
                      <a:pt x="10174" y="1143"/>
                    </a:lnTo>
                    <a:lnTo>
                      <a:pt x="10118" y="1160"/>
                    </a:lnTo>
                    <a:lnTo>
                      <a:pt x="10081" y="1179"/>
                    </a:lnTo>
                    <a:lnTo>
                      <a:pt x="10043" y="1197"/>
                    </a:lnTo>
                    <a:lnTo>
                      <a:pt x="9986" y="1216"/>
                    </a:lnTo>
                    <a:lnTo>
                      <a:pt x="9948" y="1234"/>
                    </a:lnTo>
                    <a:lnTo>
                      <a:pt x="9910" y="1253"/>
                    </a:lnTo>
                    <a:lnTo>
                      <a:pt x="9854" y="1271"/>
                    </a:lnTo>
                    <a:lnTo>
                      <a:pt x="9816" y="1289"/>
                    </a:lnTo>
                    <a:lnTo>
                      <a:pt x="9797" y="1308"/>
                    </a:lnTo>
                    <a:lnTo>
                      <a:pt x="9778" y="1308"/>
                    </a:lnTo>
                    <a:lnTo>
                      <a:pt x="9759" y="1308"/>
                    </a:lnTo>
                    <a:lnTo>
                      <a:pt x="9759" y="1326"/>
                    </a:lnTo>
                    <a:lnTo>
                      <a:pt x="9740" y="1326"/>
                    </a:lnTo>
                    <a:lnTo>
                      <a:pt x="9740" y="1326"/>
                    </a:lnTo>
                    <a:lnTo>
                      <a:pt x="9722" y="1345"/>
                    </a:lnTo>
                    <a:lnTo>
                      <a:pt x="9722" y="1345"/>
                    </a:lnTo>
                    <a:lnTo>
                      <a:pt x="9722" y="1345"/>
                    </a:lnTo>
                    <a:lnTo>
                      <a:pt x="9722" y="1345"/>
                    </a:lnTo>
                    <a:lnTo>
                      <a:pt x="9722" y="1363"/>
                    </a:lnTo>
                    <a:lnTo>
                      <a:pt x="9722" y="1363"/>
                    </a:lnTo>
                    <a:lnTo>
                      <a:pt x="9722" y="1382"/>
                    </a:lnTo>
                    <a:lnTo>
                      <a:pt x="9722" y="1382"/>
                    </a:lnTo>
                    <a:lnTo>
                      <a:pt x="9722" y="1400"/>
                    </a:lnTo>
                    <a:lnTo>
                      <a:pt x="9722" y="1400"/>
                    </a:lnTo>
                    <a:lnTo>
                      <a:pt x="11817" y="1013"/>
                    </a:lnTo>
                    <a:lnTo>
                      <a:pt x="11836" y="1419"/>
                    </a:lnTo>
                    <a:lnTo>
                      <a:pt x="6267" y="1419"/>
                    </a:lnTo>
                    <a:lnTo>
                      <a:pt x="7834" y="350"/>
                    </a:lnTo>
                    <a:lnTo>
                      <a:pt x="7815" y="332"/>
                    </a:lnTo>
                    <a:lnTo>
                      <a:pt x="7815" y="313"/>
                    </a:lnTo>
                    <a:lnTo>
                      <a:pt x="7815" y="295"/>
                    </a:lnTo>
                    <a:lnTo>
                      <a:pt x="7815" y="295"/>
                    </a:lnTo>
                    <a:lnTo>
                      <a:pt x="7815" y="313"/>
                    </a:lnTo>
                    <a:lnTo>
                      <a:pt x="7815" y="313"/>
                    </a:lnTo>
                    <a:lnTo>
                      <a:pt x="7815" y="332"/>
                    </a:lnTo>
                    <a:lnTo>
                      <a:pt x="7815" y="350"/>
                    </a:lnTo>
                    <a:lnTo>
                      <a:pt x="7834" y="350"/>
                    </a:lnTo>
                    <a:lnTo>
                      <a:pt x="7834" y="369"/>
                    </a:lnTo>
                    <a:lnTo>
                      <a:pt x="7834" y="369"/>
                    </a:lnTo>
                    <a:lnTo>
                      <a:pt x="7834" y="369"/>
                    </a:lnTo>
                    <a:lnTo>
                      <a:pt x="7815" y="369"/>
                    </a:lnTo>
                    <a:lnTo>
                      <a:pt x="7815" y="350"/>
                    </a:lnTo>
                    <a:lnTo>
                      <a:pt x="7796" y="332"/>
                    </a:lnTo>
                    <a:lnTo>
                      <a:pt x="7777" y="295"/>
                    </a:lnTo>
                    <a:lnTo>
                      <a:pt x="7758" y="313"/>
                    </a:lnTo>
                    <a:lnTo>
                      <a:pt x="7721" y="332"/>
                    </a:lnTo>
                    <a:lnTo>
                      <a:pt x="7702" y="350"/>
                    </a:lnTo>
                    <a:lnTo>
                      <a:pt x="7664" y="369"/>
                    </a:lnTo>
                    <a:lnTo>
                      <a:pt x="7645" y="387"/>
                    </a:lnTo>
                    <a:lnTo>
                      <a:pt x="7608" y="406"/>
                    </a:lnTo>
                    <a:lnTo>
                      <a:pt x="7589" y="406"/>
                    </a:lnTo>
                    <a:lnTo>
                      <a:pt x="7551" y="424"/>
                    </a:lnTo>
                    <a:lnTo>
                      <a:pt x="7532" y="443"/>
                    </a:lnTo>
                    <a:lnTo>
                      <a:pt x="7494" y="443"/>
                    </a:lnTo>
                    <a:lnTo>
                      <a:pt x="7476" y="461"/>
                    </a:lnTo>
                    <a:lnTo>
                      <a:pt x="7438" y="479"/>
                    </a:lnTo>
                    <a:lnTo>
                      <a:pt x="7419" y="479"/>
                    </a:lnTo>
                    <a:lnTo>
                      <a:pt x="7381" y="497"/>
                    </a:lnTo>
                    <a:lnTo>
                      <a:pt x="7362" y="497"/>
                    </a:lnTo>
                    <a:lnTo>
                      <a:pt x="7324" y="515"/>
                    </a:lnTo>
                    <a:lnTo>
                      <a:pt x="7305" y="515"/>
                    </a:lnTo>
                    <a:lnTo>
                      <a:pt x="7267" y="534"/>
                    </a:lnTo>
                    <a:lnTo>
                      <a:pt x="7249" y="534"/>
                    </a:lnTo>
                    <a:lnTo>
                      <a:pt x="7212" y="552"/>
                    </a:lnTo>
                    <a:lnTo>
                      <a:pt x="7193" y="571"/>
                    </a:lnTo>
                    <a:lnTo>
                      <a:pt x="7155" y="571"/>
                    </a:lnTo>
                    <a:lnTo>
                      <a:pt x="7136" y="589"/>
                    </a:lnTo>
                    <a:lnTo>
                      <a:pt x="7098" y="608"/>
                    </a:lnTo>
                    <a:lnTo>
                      <a:pt x="7079" y="608"/>
                    </a:lnTo>
                    <a:lnTo>
                      <a:pt x="7041" y="626"/>
                    </a:lnTo>
                    <a:lnTo>
                      <a:pt x="7022" y="645"/>
                    </a:lnTo>
                    <a:lnTo>
                      <a:pt x="6984" y="663"/>
                    </a:lnTo>
                    <a:lnTo>
                      <a:pt x="6965" y="682"/>
                    </a:lnTo>
                    <a:lnTo>
                      <a:pt x="6946" y="700"/>
                    </a:lnTo>
                    <a:lnTo>
                      <a:pt x="6909" y="719"/>
                    </a:lnTo>
                    <a:lnTo>
                      <a:pt x="6891" y="737"/>
                    </a:lnTo>
                    <a:lnTo>
                      <a:pt x="6853" y="756"/>
                    </a:lnTo>
                    <a:lnTo>
                      <a:pt x="6834" y="774"/>
                    </a:lnTo>
                    <a:lnTo>
                      <a:pt x="6796" y="793"/>
                    </a:lnTo>
                    <a:lnTo>
                      <a:pt x="6777" y="793"/>
                    </a:lnTo>
                    <a:lnTo>
                      <a:pt x="6739" y="810"/>
                    </a:lnTo>
                    <a:lnTo>
                      <a:pt x="6720" y="829"/>
                    </a:lnTo>
                    <a:lnTo>
                      <a:pt x="6682" y="847"/>
                    </a:lnTo>
                    <a:lnTo>
                      <a:pt x="6664" y="847"/>
                    </a:lnTo>
                    <a:lnTo>
                      <a:pt x="6645" y="866"/>
                    </a:lnTo>
                    <a:lnTo>
                      <a:pt x="6607" y="866"/>
                    </a:lnTo>
                    <a:lnTo>
                      <a:pt x="6588" y="884"/>
                    </a:lnTo>
                    <a:lnTo>
                      <a:pt x="6551" y="902"/>
                    </a:lnTo>
                    <a:lnTo>
                      <a:pt x="6532" y="902"/>
                    </a:lnTo>
                    <a:lnTo>
                      <a:pt x="6494" y="921"/>
                    </a:lnTo>
                    <a:lnTo>
                      <a:pt x="6475" y="921"/>
                    </a:lnTo>
                    <a:lnTo>
                      <a:pt x="6437" y="939"/>
                    </a:lnTo>
                    <a:lnTo>
                      <a:pt x="6418" y="939"/>
                    </a:lnTo>
                    <a:lnTo>
                      <a:pt x="6381" y="958"/>
                    </a:lnTo>
                    <a:lnTo>
                      <a:pt x="6362" y="958"/>
                    </a:lnTo>
                    <a:lnTo>
                      <a:pt x="6324" y="976"/>
                    </a:lnTo>
                    <a:lnTo>
                      <a:pt x="6286" y="995"/>
                    </a:lnTo>
                    <a:lnTo>
                      <a:pt x="6267" y="995"/>
                    </a:lnTo>
                    <a:lnTo>
                      <a:pt x="6229" y="1013"/>
                    </a:lnTo>
                    <a:lnTo>
                      <a:pt x="6210" y="1013"/>
                    </a:lnTo>
                    <a:lnTo>
                      <a:pt x="6173" y="1032"/>
                    </a:lnTo>
                    <a:lnTo>
                      <a:pt x="6154" y="1050"/>
                    </a:lnTo>
                    <a:lnTo>
                      <a:pt x="6117" y="1050"/>
                    </a:lnTo>
                    <a:lnTo>
                      <a:pt x="6098" y="1069"/>
                    </a:lnTo>
                    <a:lnTo>
                      <a:pt x="6060" y="1087"/>
                    </a:lnTo>
                    <a:lnTo>
                      <a:pt x="6041" y="1106"/>
                    </a:lnTo>
                    <a:lnTo>
                      <a:pt x="6003" y="1106"/>
                    </a:lnTo>
                    <a:lnTo>
                      <a:pt x="5984" y="1124"/>
                    </a:lnTo>
                    <a:lnTo>
                      <a:pt x="5946" y="1143"/>
                    </a:lnTo>
                    <a:lnTo>
                      <a:pt x="5908" y="1160"/>
                    </a:lnTo>
                    <a:lnTo>
                      <a:pt x="5889" y="1179"/>
                    </a:lnTo>
                    <a:lnTo>
                      <a:pt x="5852" y="1197"/>
                    </a:lnTo>
                    <a:lnTo>
                      <a:pt x="5815" y="1216"/>
                    </a:lnTo>
                    <a:lnTo>
                      <a:pt x="5777" y="1234"/>
                    </a:lnTo>
                    <a:lnTo>
                      <a:pt x="5758" y="1253"/>
                    </a:lnTo>
                    <a:lnTo>
                      <a:pt x="5720" y="1271"/>
                    </a:lnTo>
                    <a:lnTo>
                      <a:pt x="5682" y="1289"/>
                    </a:lnTo>
                    <a:lnTo>
                      <a:pt x="5663" y="1308"/>
                    </a:lnTo>
                    <a:lnTo>
                      <a:pt x="5625" y="1326"/>
                    </a:lnTo>
                    <a:lnTo>
                      <a:pt x="5588" y="1345"/>
                    </a:lnTo>
                    <a:lnTo>
                      <a:pt x="5550" y="1363"/>
                    </a:lnTo>
                    <a:lnTo>
                      <a:pt x="5512" y="1382"/>
                    </a:lnTo>
                    <a:lnTo>
                      <a:pt x="5493" y="1400"/>
                    </a:lnTo>
                    <a:lnTo>
                      <a:pt x="5456" y="1419"/>
                    </a:lnTo>
                    <a:lnTo>
                      <a:pt x="1397" y="1419"/>
                    </a:lnTo>
                    <a:lnTo>
                      <a:pt x="1321" y="1197"/>
                    </a:lnTo>
                    <a:lnTo>
                      <a:pt x="2889" y="0"/>
                    </a:lnTo>
                    <a:lnTo>
                      <a:pt x="11194" y="0"/>
                    </a:lnTo>
                    <a:close/>
                    <a:moveTo>
                      <a:pt x="2473" y="0"/>
                    </a:moveTo>
                    <a:lnTo>
                      <a:pt x="1737" y="406"/>
                    </a:lnTo>
                    <a:lnTo>
                      <a:pt x="416" y="1382"/>
                    </a:lnTo>
                    <a:lnTo>
                      <a:pt x="245" y="1289"/>
                    </a:lnTo>
                    <a:lnTo>
                      <a:pt x="0" y="663"/>
                    </a:lnTo>
                    <a:lnTo>
                      <a:pt x="547" y="0"/>
                    </a:lnTo>
                    <a:lnTo>
                      <a:pt x="247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54" name="Freeform 82"/>
              <p:cNvSpPr/>
              <p:nvPr/>
            </p:nvSpPr>
            <p:spPr>
              <a:xfrm>
                <a:off x="719640" y="4033440"/>
                <a:ext cx="2377080" cy="122040"/>
              </a:xfrm>
              <a:custGeom>
                <a:avLst/>
                <a:gdLst/>
                <a:ahLst/>
                <a:rect l="l" t="t" r="r" b="b"/>
                <a:pathLst>
                  <a:path w="12157" h="1418">
                    <a:moveTo>
                      <a:pt x="11100" y="0"/>
                    </a:moveTo>
                    <a:lnTo>
                      <a:pt x="11062" y="18"/>
                    </a:lnTo>
                    <a:lnTo>
                      <a:pt x="11043" y="37"/>
                    </a:lnTo>
                    <a:lnTo>
                      <a:pt x="11005" y="74"/>
                    </a:lnTo>
                    <a:lnTo>
                      <a:pt x="10967" y="91"/>
                    </a:lnTo>
                    <a:lnTo>
                      <a:pt x="10930" y="110"/>
                    </a:lnTo>
                    <a:lnTo>
                      <a:pt x="10892" y="128"/>
                    </a:lnTo>
                    <a:lnTo>
                      <a:pt x="10835" y="147"/>
                    </a:lnTo>
                    <a:lnTo>
                      <a:pt x="10797" y="165"/>
                    </a:lnTo>
                    <a:lnTo>
                      <a:pt x="10760" y="183"/>
                    </a:lnTo>
                    <a:lnTo>
                      <a:pt x="10722" y="202"/>
                    </a:lnTo>
                    <a:lnTo>
                      <a:pt x="10685" y="220"/>
                    </a:lnTo>
                    <a:lnTo>
                      <a:pt x="10647" y="239"/>
                    </a:lnTo>
                    <a:lnTo>
                      <a:pt x="10590" y="257"/>
                    </a:lnTo>
                    <a:lnTo>
                      <a:pt x="10552" y="276"/>
                    </a:lnTo>
                    <a:lnTo>
                      <a:pt x="10514" y="294"/>
                    </a:lnTo>
                    <a:lnTo>
                      <a:pt x="10476" y="313"/>
                    </a:lnTo>
                    <a:lnTo>
                      <a:pt x="10421" y="331"/>
                    </a:lnTo>
                    <a:lnTo>
                      <a:pt x="10383" y="350"/>
                    </a:lnTo>
                    <a:lnTo>
                      <a:pt x="10345" y="350"/>
                    </a:lnTo>
                    <a:lnTo>
                      <a:pt x="10307" y="368"/>
                    </a:lnTo>
                    <a:lnTo>
                      <a:pt x="10250" y="387"/>
                    </a:lnTo>
                    <a:lnTo>
                      <a:pt x="10212" y="405"/>
                    </a:lnTo>
                    <a:lnTo>
                      <a:pt x="10174" y="424"/>
                    </a:lnTo>
                    <a:lnTo>
                      <a:pt x="10118" y="441"/>
                    </a:lnTo>
                    <a:lnTo>
                      <a:pt x="10080" y="460"/>
                    </a:lnTo>
                    <a:lnTo>
                      <a:pt x="10043" y="478"/>
                    </a:lnTo>
                    <a:lnTo>
                      <a:pt x="10005" y="497"/>
                    </a:lnTo>
                    <a:lnTo>
                      <a:pt x="9967" y="515"/>
                    </a:lnTo>
                    <a:lnTo>
                      <a:pt x="9910" y="515"/>
                    </a:lnTo>
                    <a:lnTo>
                      <a:pt x="9873" y="534"/>
                    </a:lnTo>
                    <a:lnTo>
                      <a:pt x="9835" y="552"/>
                    </a:lnTo>
                    <a:lnTo>
                      <a:pt x="9797" y="570"/>
                    </a:lnTo>
                    <a:lnTo>
                      <a:pt x="9778" y="589"/>
                    </a:lnTo>
                    <a:lnTo>
                      <a:pt x="9759" y="589"/>
                    </a:lnTo>
                    <a:lnTo>
                      <a:pt x="9740" y="589"/>
                    </a:lnTo>
                    <a:lnTo>
                      <a:pt x="9740" y="607"/>
                    </a:lnTo>
                    <a:lnTo>
                      <a:pt x="9721" y="607"/>
                    </a:lnTo>
                    <a:lnTo>
                      <a:pt x="9721" y="607"/>
                    </a:lnTo>
                    <a:lnTo>
                      <a:pt x="9703" y="626"/>
                    </a:lnTo>
                    <a:lnTo>
                      <a:pt x="9703" y="626"/>
                    </a:lnTo>
                    <a:lnTo>
                      <a:pt x="9703" y="626"/>
                    </a:lnTo>
                    <a:lnTo>
                      <a:pt x="9703" y="626"/>
                    </a:lnTo>
                    <a:lnTo>
                      <a:pt x="9703" y="644"/>
                    </a:lnTo>
                    <a:lnTo>
                      <a:pt x="9703" y="644"/>
                    </a:lnTo>
                    <a:lnTo>
                      <a:pt x="9703" y="663"/>
                    </a:lnTo>
                    <a:lnTo>
                      <a:pt x="9703" y="663"/>
                    </a:lnTo>
                    <a:lnTo>
                      <a:pt x="9703" y="681"/>
                    </a:lnTo>
                    <a:lnTo>
                      <a:pt x="9703" y="681"/>
                    </a:lnTo>
                    <a:lnTo>
                      <a:pt x="11798" y="294"/>
                    </a:lnTo>
                    <a:lnTo>
                      <a:pt x="11836" y="1068"/>
                    </a:lnTo>
                    <a:lnTo>
                      <a:pt x="11854" y="1087"/>
                    </a:lnTo>
                    <a:lnTo>
                      <a:pt x="11854" y="1124"/>
                    </a:lnTo>
                    <a:lnTo>
                      <a:pt x="11873" y="1141"/>
                    </a:lnTo>
                    <a:lnTo>
                      <a:pt x="11892" y="1141"/>
                    </a:lnTo>
                    <a:lnTo>
                      <a:pt x="11892" y="1160"/>
                    </a:lnTo>
                    <a:lnTo>
                      <a:pt x="11911" y="1160"/>
                    </a:lnTo>
                    <a:lnTo>
                      <a:pt x="11930" y="1141"/>
                    </a:lnTo>
                    <a:lnTo>
                      <a:pt x="11949" y="1141"/>
                    </a:lnTo>
                    <a:lnTo>
                      <a:pt x="11987" y="1141"/>
                    </a:lnTo>
                    <a:lnTo>
                      <a:pt x="12006" y="1124"/>
                    </a:lnTo>
                    <a:lnTo>
                      <a:pt x="12025" y="1124"/>
                    </a:lnTo>
                    <a:lnTo>
                      <a:pt x="12043" y="1105"/>
                    </a:lnTo>
                    <a:lnTo>
                      <a:pt x="12062" y="1105"/>
                    </a:lnTo>
                    <a:lnTo>
                      <a:pt x="12081" y="1105"/>
                    </a:lnTo>
                    <a:lnTo>
                      <a:pt x="12100" y="1105"/>
                    </a:lnTo>
                    <a:lnTo>
                      <a:pt x="12119" y="1124"/>
                    </a:lnTo>
                    <a:lnTo>
                      <a:pt x="12157" y="1418"/>
                    </a:lnTo>
                    <a:lnTo>
                      <a:pt x="5191" y="1418"/>
                    </a:lnTo>
                    <a:lnTo>
                      <a:pt x="6173" y="755"/>
                    </a:lnTo>
                    <a:lnTo>
                      <a:pt x="7267" y="0"/>
                    </a:lnTo>
                    <a:lnTo>
                      <a:pt x="11100" y="0"/>
                    </a:lnTo>
                    <a:close/>
                    <a:moveTo>
                      <a:pt x="6890" y="0"/>
                    </a:moveTo>
                    <a:lnTo>
                      <a:pt x="6890" y="0"/>
                    </a:lnTo>
                    <a:lnTo>
                      <a:pt x="6890" y="0"/>
                    </a:lnTo>
                    <a:lnTo>
                      <a:pt x="6890" y="0"/>
                    </a:lnTo>
                    <a:lnTo>
                      <a:pt x="6890" y="18"/>
                    </a:lnTo>
                    <a:lnTo>
                      <a:pt x="6872" y="18"/>
                    </a:lnTo>
                    <a:lnTo>
                      <a:pt x="6872" y="18"/>
                    </a:lnTo>
                    <a:lnTo>
                      <a:pt x="6872" y="18"/>
                    </a:lnTo>
                    <a:lnTo>
                      <a:pt x="6872" y="18"/>
                    </a:lnTo>
                    <a:lnTo>
                      <a:pt x="6834" y="37"/>
                    </a:lnTo>
                    <a:lnTo>
                      <a:pt x="6815" y="55"/>
                    </a:lnTo>
                    <a:lnTo>
                      <a:pt x="6777" y="74"/>
                    </a:lnTo>
                    <a:lnTo>
                      <a:pt x="6758" y="74"/>
                    </a:lnTo>
                    <a:lnTo>
                      <a:pt x="6720" y="91"/>
                    </a:lnTo>
                    <a:lnTo>
                      <a:pt x="6701" y="110"/>
                    </a:lnTo>
                    <a:lnTo>
                      <a:pt x="6663" y="128"/>
                    </a:lnTo>
                    <a:lnTo>
                      <a:pt x="6645" y="128"/>
                    </a:lnTo>
                    <a:lnTo>
                      <a:pt x="6626" y="147"/>
                    </a:lnTo>
                    <a:lnTo>
                      <a:pt x="6588" y="147"/>
                    </a:lnTo>
                    <a:lnTo>
                      <a:pt x="6569" y="165"/>
                    </a:lnTo>
                    <a:lnTo>
                      <a:pt x="6532" y="183"/>
                    </a:lnTo>
                    <a:lnTo>
                      <a:pt x="6513" y="183"/>
                    </a:lnTo>
                    <a:lnTo>
                      <a:pt x="6475" y="202"/>
                    </a:lnTo>
                    <a:lnTo>
                      <a:pt x="6456" y="202"/>
                    </a:lnTo>
                    <a:lnTo>
                      <a:pt x="6418" y="220"/>
                    </a:lnTo>
                    <a:lnTo>
                      <a:pt x="6399" y="220"/>
                    </a:lnTo>
                    <a:lnTo>
                      <a:pt x="6362" y="239"/>
                    </a:lnTo>
                    <a:lnTo>
                      <a:pt x="6343" y="239"/>
                    </a:lnTo>
                    <a:lnTo>
                      <a:pt x="6305" y="257"/>
                    </a:lnTo>
                    <a:lnTo>
                      <a:pt x="6267" y="276"/>
                    </a:lnTo>
                    <a:lnTo>
                      <a:pt x="6248" y="276"/>
                    </a:lnTo>
                    <a:lnTo>
                      <a:pt x="6210" y="294"/>
                    </a:lnTo>
                    <a:lnTo>
                      <a:pt x="6191" y="294"/>
                    </a:lnTo>
                    <a:lnTo>
                      <a:pt x="6154" y="313"/>
                    </a:lnTo>
                    <a:lnTo>
                      <a:pt x="6135" y="331"/>
                    </a:lnTo>
                    <a:lnTo>
                      <a:pt x="6098" y="331"/>
                    </a:lnTo>
                    <a:lnTo>
                      <a:pt x="6079" y="350"/>
                    </a:lnTo>
                    <a:lnTo>
                      <a:pt x="6041" y="368"/>
                    </a:lnTo>
                    <a:lnTo>
                      <a:pt x="6022" y="387"/>
                    </a:lnTo>
                    <a:lnTo>
                      <a:pt x="5984" y="387"/>
                    </a:lnTo>
                    <a:lnTo>
                      <a:pt x="5965" y="405"/>
                    </a:lnTo>
                    <a:lnTo>
                      <a:pt x="5908" y="441"/>
                    </a:lnTo>
                    <a:lnTo>
                      <a:pt x="5851" y="478"/>
                    </a:lnTo>
                    <a:lnTo>
                      <a:pt x="5796" y="497"/>
                    </a:lnTo>
                    <a:lnTo>
                      <a:pt x="5739" y="534"/>
                    </a:lnTo>
                    <a:lnTo>
                      <a:pt x="5682" y="570"/>
                    </a:lnTo>
                    <a:lnTo>
                      <a:pt x="5644" y="589"/>
                    </a:lnTo>
                    <a:lnTo>
                      <a:pt x="5587" y="626"/>
                    </a:lnTo>
                    <a:lnTo>
                      <a:pt x="5531" y="663"/>
                    </a:lnTo>
                    <a:lnTo>
                      <a:pt x="5474" y="681"/>
                    </a:lnTo>
                    <a:lnTo>
                      <a:pt x="5418" y="718"/>
                    </a:lnTo>
                    <a:lnTo>
                      <a:pt x="5361" y="755"/>
                    </a:lnTo>
                    <a:lnTo>
                      <a:pt x="5305" y="774"/>
                    </a:lnTo>
                    <a:lnTo>
                      <a:pt x="5248" y="810"/>
                    </a:lnTo>
                    <a:lnTo>
                      <a:pt x="5191" y="847"/>
                    </a:lnTo>
                    <a:lnTo>
                      <a:pt x="5134" y="865"/>
                    </a:lnTo>
                    <a:lnTo>
                      <a:pt x="5078" y="902"/>
                    </a:lnTo>
                    <a:lnTo>
                      <a:pt x="5022" y="939"/>
                    </a:lnTo>
                    <a:lnTo>
                      <a:pt x="4965" y="976"/>
                    </a:lnTo>
                    <a:lnTo>
                      <a:pt x="4927" y="994"/>
                    </a:lnTo>
                    <a:lnTo>
                      <a:pt x="4870" y="1031"/>
                    </a:lnTo>
                    <a:lnTo>
                      <a:pt x="4813" y="1068"/>
                    </a:lnTo>
                    <a:lnTo>
                      <a:pt x="4758" y="1087"/>
                    </a:lnTo>
                    <a:lnTo>
                      <a:pt x="4701" y="1124"/>
                    </a:lnTo>
                    <a:lnTo>
                      <a:pt x="4644" y="1160"/>
                    </a:lnTo>
                    <a:lnTo>
                      <a:pt x="4587" y="1197"/>
                    </a:lnTo>
                    <a:lnTo>
                      <a:pt x="4530" y="1215"/>
                    </a:lnTo>
                    <a:lnTo>
                      <a:pt x="4493" y="1252"/>
                    </a:lnTo>
                    <a:lnTo>
                      <a:pt x="4436" y="1289"/>
                    </a:lnTo>
                    <a:lnTo>
                      <a:pt x="4380" y="1326"/>
                    </a:lnTo>
                    <a:lnTo>
                      <a:pt x="4323" y="1345"/>
                    </a:lnTo>
                    <a:lnTo>
                      <a:pt x="4266" y="1381"/>
                    </a:lnTo>
                    <a:lnTo>
                      <a:pt x="4229" y="1418"/>
                    </a:lnTo>
                    <a:lnTo>
                      <a:pt x="3115" y="1418"/>
                    </a:lnTo>
                    <a:lnTo>
                      <a:pt x="3096" y="1363"/>
                    </a:lnTo>
                    <a:lnTo>
                      <a:pt x="3020" y="1418"/>
                    </a:lnTo>
                    <a:lnTo>
                      <a:pt x="1416" y="1418"/>
                    </a:lnTo>
                    <a:lnTo>
                      <a:pt x="1435" y="1400"/>
                    </a:lnTo>
                    <a:lnTo>
                      <a:pt x="1454" y="1400"/>
                    </a:lnTo>
                    <a:lnTo>
                      <a:pt x="1473" y="1381"/>
                    </a:lnTo>
                    <a:lnTo>
                      <a:pt x="1492" y="1363"/>
                    </a:lnTo>
                    <a:lnTo>
                      <a:pt x="1492" y="1363"/>
                    </a:lnTo>
                    <a:lnTo>
                      <a:pt x="1511" y="1345"/>
                    </a:lnTo>
                    <a:lnTo>
                      <a:pt x="1530" y="1326"/>
                    </a:lnTo>
                    <a:lnTo>
                      <a:pt x="1549" y="1308"/>
                    </a:lnTo>
                    <a:lnTo>
                      <a:pt x="1302" y="478"/>
                    </a:lnTo>
                    <a:lnTo>
                      <a:pt x="1944" y="0"/>
                    </a:lnTo>
                    <a:lnTo>
                      <a:pt x="6890" y="0"/>
                    </a:lnTo>
                    <a:close/>
                    <a:moveTo>
                      <a:pt x="1283" y="0"/>
                    </a:moveTo>
                    <a:lnTo>
                      <a:pt x="397" y="663"/>
                    </a:lnTo>
                    <a:lnTo>
                      <a:pt x="226" y="570"/>
                    </a:lnTo>
                    <a:lnTo>
                      <a:pt x="0" y="0"/>
                    </a:lnTo>
                    <a:lnTo>
                      <a:pt x="128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55" name="Freeform 83"/>
              <p:cNvSpPr/>
              <p:nvPr/>
            </p:nvSpPr>
            <p:spPr>
              <a:xfrm>
                <a:off x="958320" y="4093560"/>
                <a:ext cx="2143080" cy="121680"/>
              </a:xfrm>
              <a:custGeom>
                <a:avLst/>
                <a:gdLst/>
                <a:ahLst/>
                <a:rect l="l" t="t" r="r" b="b"/>
                <a:pathLst>
                  <a:path w="10967" h="1419">
                    <a:moveTo>
                      <a:pt x="10608" y="0"/>
                    </a:moveTo>
                    <a:lnTo>
                      <a:pt x="10627" y="368"/>
                    </a:lnTo>
                    <a:lnTo>
                      <a:pt x="10645" y="387"/>
                    </a:lnTo>
                    <a:lnTo>
                      <a:pt x="10645" y="424"/>
                    </a:lnTo>
                    <a:lnTo>
                      <a:pt x="10664" y="441"/>
                    </a:lnTo>
                    <a:lnTo>
                      <a:pt x="10683" y="441"/>
                    </a:lnTo>
                    <a:lnTo>
                      <a:pt x="10683" y="460"/>
                    </a:lnTo>
                    <a:lnTo>
                      <a:pt x="10702" y="460"/>
                    </a:lnTo>
                    <a:lnTo>
                      <a:pt x="10721" y="441"/>
                    </a:lnTo>
                    <a:lnTo>
                      <a:pt x="10740" y="441"/>
                    </a:lnTo>
                    <a:lnTo>
                      <a:pt x="10778" y="441"/>
                    </a:lnTo>
                    <a:lnTo>
                      <a:pt x="10797" y="424"/>
                    </a:lnTo>
                    <a:lnTo>
                      <a:pt x="10816" y="424"/>
                    </a:lnTo>
                    <a:lnTo>
                      <a:pt x="10834" y="405"/>
                    </a:lnTo>
                    <a:lnTo>
                      <a:pt x="10853" y="405"/>
                    </a:lnTo>
                    <a:lnTo>
                      <a:pt x="10872" y="405"/>
                    </a:lnTo>
                    <a:lnTo>
                      <a:pt x="10891" y="405"/>
                    </a:lnTo>
                    <a:lnTo>
                      <a:pt x="10910" y="424"/>
                    </a:lnTo>
                    <a:lnTo>
                      <a:pt x="10967" y="1123"/>
                    </a:lnTo>
                    <a:lnTo>
                      <a:pt x="10608" y="1419"/>
                    </a:lnTo>
                    <a:lnTo>
                      <a:pt x="3359" y="1419"/>
                    </a:lnTo>
                    <a:lnTo>
                      <a:pt x="3359" y="1419"/>
                    </a:lnTo>
                    <a:lnTo>
                      <a:pt x="3359" y="1419"/>
                    </a:lnTo>
                    <a:lnTo>
                      <a:pt x="3359" y="1419"/>
                    </a:lnTo>
                    <a:lnTo>
                      <a:pt x="3359" y="1400"/>
                    </a:lnTo>
                    <a:lnTo>
                      <a:pt x="3359" y="1400"/>
                    </a:lnTo>
                    <a:lnTo>
                      <a:pt x="3359" y="1400"/>
                    </a:lnTo>
                    <a:lnTo>
                      <a:pt x="3359" y="1382"/>
                    </a:lnTo>
                    <a:lnTo>
                      <a:pt x="3359" y="1382"/>
                    </a:lnTo>
                    <a:lnTo>
                      <a:pt x="3246" y="1215"/>
                    </a:lnTo>
                    <a:lnTo>
                      <a:pt x="4964" y="55"/>
                    </a:lnTo>
                    <a:lnTo>
                      <a:pt x="5039" y="0"/>
                    </a:lnTo>
                    <a:lnTo>
                      <a:pt x="10608" y="0"/>
                    </a:lnTo>
                    <a:close/>
                    <a:moveTo>
                      <a:pt x="4228" y="0"/>
                    </a:moveTo>
                    <a:lnTo>
                      <a:pt x="4171" y="37"/>
                    </a:lnTo>
                    <a:lnTo>
                      <a:pt x="4133" y="55"/>
                    </a:lnTo>
                    <a:lnTo>
                      <a:pt x="4077" y="91"/>
                    </a:lnTo>
                    <a:lnTo>
                      <a:pt x="4039" y="110"/>
                    </a:lnTo>
                    <a:lnTo>
                      <a:pt x="3982" y="147"/>
                    </a:lnTo>
                    <a:lnTo>
                      <a:pt x="3944" y="165"/>
                    </a:lnTo>
                    <a:lnTo>
                      <a:pt x="3888" y="202"/>
                    </a:lnTo>
                    <a:lnTo>
                      <a:pt x="3850" y="221"/>
                    </a:lnTo>
                    <a:lnTo>
                      <a:pt x="3794" y="239"/>
                    </a:lnTo>
                    <a:lnTo>
                      <a:pt x="3756" y="276"/>
                    </a:lnTo>
                    <a:lnTo>
                      <a:pt x="3699" y="294"/>
                    </a:lnTo>
                    <a:lnTo>
                      <a:pt x="3661" y="331"/>
                    </a:lnTo>
                    <a:lnTo>
                      <a:pt x="3604" y="350"/>
                    </a:lnTo>
                    <a:lnTo>
                      <a:pt x="3566" y="387"/>
                    </a:lnTo>
                    <a:lnTo>
                      <a:pt x="3511" y="405"/>
                    </a:lnTo>
                    <a:lnTo>
                      <a:pt x="3473" y="441"/>
                    </a:lnTo>
                    <a:lnTo>
                      <a:pt x="3416" y="460"/>
                    </a:lnTo>
                    <a:lnTo>
                      <a:pt x="3378" y="497"/>
                    </a:lnTo>
                    <a:lnTo>
                      <a:pt x="3321" y="515"/>
                    </a:lnTo>
                    <a:lnTo>
                      <a:pt x="3284" y="552"/>
                    </a:lnTo>
                    <a:lnTo>
                      <a:pt x="3246" y="571"/>
                    </a:lnTo>
                    <a:lnTo>
                      <a:pt x="3190" y="608"/>
                    </a:lnTo>
                    <a:lnTo>
                      <a:pt x="3152" y="626"/>
                    </a:lnTo>
                    <a:lnTo>
                      <a:pt x="3095" y="663"/>
                    </a:lnTo>
                    <a:lnTo>
                      <a:pt x="3057" y="681"/>
                    </a:lnTo>
                    <a:lnTo>
                      <a:pt x="3020" y="718"/>
                    </a:lnTo>
                    <a:lnTo>
                      <a:pt x="2963" y="755"/>
                    </a:lnTo>
                    <a:lnTo>
                      <a:pt x="2925" y="773"/>
                    </a:lnTo>
                    <a:lnTo>
                      <a:pt x="2887" y="810"/>
                    </a:lnTo>
                    <a:lnTo>
                      <a:pt x="2831" y="828"/>
                    </a:lnTo>
                    <a:lnTo>
                      <a:pt x="2793" y="865"/>
                    </a:lnTo>
                    <a:lnTo>
                      <a:pt x="2756" y="884"/>
                    </a:lnTo>
                    <a:lnTo>
                      <a:pt x="2737" y="902"/>
                    </a:lnTo>
                    <a:lnTo>
                      <a:pt x="2718" y="921"/>
                    </a:lnTo>
                    <a:lnTo>
                      <a:pt x="2718" y="921"/>
                    </a:lnTo>
                    <a:lnTo>
                      <a:pt x="2699" y="939"/>
                    </a:lnTo>
                    <a:lnTo>
                      <a:pt x="2699" y="939"/>
                    </a:lnTo>
                    <a:lnTo>
                      <a:pt x="2680" y="958"/>
                    </a:lnTo>
                    <a:lnTo>
                      <a:pt x="2680" y="958"/>
                    </a:lnTo>
                    <a:lnTo>
                      <a:pt x="2661" y="976"/>
                    </a:lnTo>
                    <a:lnTo>
                      <a:pt x="2661" y="976"/>
                    </a:lnTo>
                    <a:lnTo>
                      <a:pt x="2642" y="995"/>
                    </a:lnTo>
                    <a:lnTo>
                      <a:pt x="2642" y="995"/>
                    </a:lnTo>
                    <a:lnTo>
                      <a:pt x="2623" y="995"/>
                    </a:lnTo>
                    <a:lnTo>
                      <a:pt x="2623" y="1013"/>
                    </a:lnTo>
                    <a:lnTo>
                      <a:pt x="2604" y="1013"/>
                    </a:lnTo>
                    <a:lnTo>
                      <a:pt x="2585" y="1032"/>
                    </a:lnTo>
                    <a:lnTo>
                      <a:pt x="2585" y="1032"/>
                    </a:lnTo>
                    <a:lnTo>
                      <a:pt x="2566" y="1032"/>
                    </a:lnTo>
                    <a:lnTo>
                      <a:pt x="2566" y="1032"/>
                    </a:lnTo>
                    <a:lnTo>
                      <a:pt x="2547" y="1032"/>
                    </a:lnTo>
                    <a:lnTo>
                      <a:pt x="2528" y="1032"/>
                    </a:lnTo>
                    <a:lnTo>
                      <a:pt x="2509" y="1032"/>
                    </a:lnTo>
                    <a:lnTo>
                      <a:pt x="2509" y="1013"/>
                    </a:lnTo>
                    <a:lnTo>
                      <a:pt x="2492" y="1013"/>
                    </a:lnTo>
                    <a:lnTo>
                      <a:pt x="2473" y="1013"/>
                    </a:lnTo>
                    <a:lnTo>
                      <a:pt x="2095" y="1234"/>
                    </a:lnTo>
                    <a:lnTo>
                      <a:pt x="1887" y="663"/>
                    </a:lnTo>
                    <a:lnTo>
                      <a:pt x="641" y="1419"/>
                    </a:lnTo>
                    <a:lnTo>
                      <a:pt x="150" y="1419"/>
                    </a:lnTo>
                    <a:lnTo>
                      <a:pt x="150" y="1400"/>
                    </a:lnTo>
                    <a:lnTo>
                      <a:pt x="131" y="1382"/>
                    </a:lnTo>
                    <a:lnTo>
                      <a:pt x="131" y="1363"/>
                    </a:lnTo>
                    <a:lnTo>
                      <a:pt x="131" y="1326"/>
                    </a:lnTo>
                    <a:lnTo>
                      <a:pt x="112" y="1308"/>
                    </a:lnTo>
                    <a:lnTo>
                      <a:pt x="112" y="1289"/>
                    </a:lnTo>
                    <a:lnTo>
                      <a:pt x="112" y="1252"/>
                    </a:lnTo>
                    <a:lnTo>
                      <a:pt x="112" y="1234"/>
                    </a:lnTo>
                    <a:lnTo>
                      <a:pt x="93" y="1215"/>
                    </a:lnTo>
                    <a:lnTo>
                      <a:pt x="93" y="1178"/>
                    </a:lnTo>
                    <a:lnTo>
                      <a:pt x="93" y="1160"/>
                    </a:lnTo>
                    <a:lnTo>
                      <a:pt x="93" y="1123"/>
                    </a:lnTo>
                    <a:lnTo>
                      <a:pt x="93" y="1105"/>
                    </a:lnTo>
                    <a:lnTo>
                      <a:pt x="93" y="1087"/>
                    </a:lnTo>
                    <a:lnTo>
                      <a:pt x="74" y="1050"/>
                    </a:lnTo>
                    <a:lnTo>
                      <a:pt x="74" y="1032"/>
                    </a:lnTo>
                    <a:lnTo>
                      <a:pt x="74" y="1013"/>
                    </a:lnTo>
                    <a:lnTo>
                      <a:pt x="74" y="1013"/>
                    </a:lnTo>
                    <a:lnTo>
                      <a:pt x="56" y="995"/>
                    </a:lnTo>
                    <a:lnTo>
                      <a:pt x="56" y="995"/>
                    </a:lnTo>
                    <a:lnTo>
                      <a:pt x="37" y="976"/>
                    </a:lnTo>
                    <a:lnTo>
                      <a:pt x="18" y="958"/>
                    </a:lnTo>
                    <a:lnTo>
                      <a:pt x="18" y="958"/>
                    </a:lnTo>
                    <a:lnTo>
                      <a:pt x="0" y="939"/>
                    </a:lnTo>
                    <a:lnTo>
                      <a:pt x="18" y="902"/>
                    </a:lnTo>
                    <a:lnTo>
                      <a:pt x="37" y="884"/>
                    </a:lnTo>
                    <a:lnTo>
                      <a:pt x="56" y="865"/>
                    </a:lnTo>
                    <a:lnTo>
                      <a:pt x="74" y="828"/>
                    </a:lnTo>
                    <a:lnTo>
                      <a:pt x="93" y="810"/>
                    </a:lnTo>
                    <a:lnTo>
                      <a:pt x="112" y="791"/>
                    </a:lnTo>
                    <a:lnTo>
                      <a:pt x="131" y="773"/>
                    </a:lnTo>
                    <a:lnTo>
                      <a:pt x="150" y="773"/>
                    </a:lnTo>
                    <a:lnTo>
                      <a:pt x="169" y="755"/>
                    </a:lnTo>
                    <a:lnTo>
                      <a:pt x="207" y="737"/>
                    </a:lnTo>
                    <a:lnTo>
                      <a:pt x="226" y="718"/>
                    </a:lnTo>
                    <a:lnTo>
                      <a:pt x="245" y="700"/>
                    </a:lnTo>
                    <a:lnTo>
                      <a:pt x="264" y="681"/>
                    </a:lnTo>
                    <a:lnTo>
                      <a:pt x="283" y="663"/>
                    </a:lnTo>
                    <a:lnTo>
                      <a:pt x="302" y="645"/>
                    </a:lnTo>
                    <a:lnTo>
                      <a:pt x="340" y="608"/>
                    </a:lnTo>
                    <a:lnTo>
                      <a:pt x="169" y="0"/>
                    </a:lnTo>
                    <a:lnTo>
                      <a:pt x="422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56" name="Freeform 84"/>
              <p:cNvSpPr/>
              <p:nvPr/>
            </p:nvSpPr>
            <p:spPr>
              <a:xfrm>
                <a:off x="958320" y="4155480"/>
                <a:ext cx="2275200" cy="123840"/>
              </a:xfrm>
              <a:custGeom>
                <a:avLst/>
                <a:gdLst/>
                <a:ahLst/>
                <a:rect l="l" t="t" r="r" b="b"/>
                <a:pathLst>
                  <a:path w="11646" h="1419">
                    <a:moveTo>
                      <a:pt x="10948" y="0"/>
                    </a:moveTo>
                    <a:lnTo>
                      <a:pt x="10967" y="405"/>
                    </a:lnTo>
                    <a:lnTo>
                      <a:pt x="10419" y="866"/>
                    </a:lnTo>
                    <a:lnTo>
                      <a:pt x="10212" y="995"/>
                    </a:lnTo>
                    <a:lnTo>
                      <a:pt x="10212" y="995"/>
                    </a:lnTo>
                    <a:lnTo>
                      <a:pt x="10212" y="1014"/>
                    </a:lnTo>
                    <a:lnTo>
                      <a:pt x="10212" y="1014"/>
                    </a:lnTo>
                    <a:lnTo>
                      <a:pt x="10212" y="1032"/>
                    </a:lnTo>
                    <a:lnTo>
                      <a:pt x="10212" y="1032"/>
                    </a:lnTo>
                    <a:lnTo>
                      <a:pt x="10212" y="1032"/>
                    </a:lnTo>
                    <a:lnTo>
                      <a:pt x="10212" y="1051"/>
                    </a:lnTo>
                    <a:lnTo>
                      <a:pt x="10212" y="1069"/>
                    </a:lnTo>
                    <a:lnTo>
                      <a:pt x="10250" y="1069"/>
                    </a:lnTo>
                    <a:lnTo>
                      <a:pt x="10286" y="1069"/>
                    </a:lnTo>
                    <a:lnTo>
                      <a:pt x="10305" y="1069"/>
                    </a:lnTo>
                    <a:lnTo>
                      <a:pt x="10343" y="1069"/>
                    </a:lnTo>
                    <a:lnTo>
                      <a:pt x="10381" y="1051"/>
                    </a:lnTo>
                    <a:lnTo>
                      <a:pt x="10419" y="1051"/>
                    </a:lnTo>
                    <a:lnTo>
                      <a:pt x="10438" y="1051"/>
                    </a:lnTo>
                    <a:lnTo>
                      <a:pt x="10476" y="1032"/>
                    </a:lnTo>
                    <a:lnTo>
                      <a:pt x="10514" y="1032"/>
                    </a:lnTo>
                    <a:lnTo>
                      <a:pt x="10533" y="1014"/>
                    </a:lnTo>
                    <a:lnTo>
                      <a:pt x="10570" y="1014"/>
                    </a:lnTo>
                    <a:lnTo>
                      <a:pt x="10608" y="995"/>
                    </a:lnTo>
                    <a:lnTo>
                      <a:pt x="10645" y="995"/>
                    </a:lnTo>
                    <a:lnTo>
                      <a:pt x="10664" y="995"/>
                    </a:lnTo>
                    <a:lnTo>
                      <a:pt x="10702" y="977"/>
                    </a:lnTo>
                    <a:lnTo>
                      <a:pt x="10740" y="977"/>
                    </a:lnTo>
                    <a:lnTo>
                      <a:pt x="10759" y="958"/>
                    </a:lnTo>
                    <a:lnTo>
                      <a:pt x="10797" y="958"/>
                    </a:lnTo>
                    <a:lnTo>
                      <a:pt x="10834" y="940"/>
                    </a:lnTo>
                    <a:lnTo>
                      <a:pt x="10853" y="940"/>
                    </a:lnTo>
                    <a:lnTo>
                      <a:pt x="10891" y="940"/>
                    </a:lnTo>
                    <a:lnTo>
                      <a:pt x="10929" y="921"/>
                    </a:lnTo>
                    <a:lnTo>
                      <a:pt x="10967" y="921"/>
                    </a:lnTo>
                    <a:lnTo>
                      <a:pt x="10985" y="921"/>
                    </a:lnTo>
                    <a:lnTo>
                      <a:pt x="11023" y="921"/>
                    </a:lnTo>
                    <a:lnTo>
                      <a:pt x="11061" y="921"/>
                    </a:lnTo>
                    <a:lnTo>
                      <a:pt x="11080" y="921"/>
                    </a:lnTo>
                    <a:lnTo>
                      <a:pt x="11117" y="921"/>
                    </a:lnTo>
                    <a:lnTo>
                      <a:pt x="11155" y="940"/>
                    </a:lnTo>
                    <a:lnTo>
                      <a:pt x="11193" y="940"/>
                    </a:lnTo>
                    <a:lnTo>
                      <a:pt x="11212" y="940"/>
                    </a:lnTo>
                    <a:lnTo>
                      <a:pt x="11250" y="958"/>
                    </a:lnTo>
                    <a:lnTo>
                      <a:pt x="11288" y="958"/>
                    </a:lnTo>
                    <a:lnTo>
                      <a:pt x="11307" y="940"/>
                    </a:lnTo>
                    <a:lnTo>
                      <a:pt x="11326" y="940"/>
                    </a:lnTo>
                    <a:lnTo>
                      <a:pt x="11362" y="940"/>
                    </a:lnTo>
                    <a:lnTo>
                      <a:pt x="11381" y="940"/>
                    </a:lnTo>
                    <a:lnTo>
                      <a:pt x="11400" y="940"/>
                    </a:lnTo>
                    <a:lnTo>
                      <a:pt x="11438" y="940"/>
                    </a:lnTo>
                    <a:lnTo>
                      <a:pt x="11457" y="940"/>
                    </a:lnTo>
                    <a:lnTo>
                      <a:pt x="11476" y="940"/>
                    </a:lnTo>
                    <a:lnTo>
                      <a:pt x="11495" y="958"/>
                    </a:lnTo>
                    <a:lnTo>
                      <a:pt x="11533" y="958"/>
                    </a:lnTo>
                    <a:lnTo>
                      <a:pt x="11552" y="958"/>
                    </a:lnTo>
                    <a:lnTo>
                      <a:pt x="11571" y="958"/>
                    </a:lnTo>
                    <a:lnTo>
                      <a:pt x="11590" y="977"/>
                    </a:lnTo>
                    <a:lnTo>
                      <a:pt x="11628" y="977"/>
                    </a:lnTo>
                    <a:lnTo>
                      <a:pt x="11646" y="977"/>
                    </a:lnTo>
                    <a:lnTo>
                      <a:pt x="11646" y="995"/>
                    </a:lnTo>
                    <a:lnTo>
                      <a:pt x="11646" y="1014"/>
                    </a:lnTo>
                    <a:lnTo>
                      <a:pt x="11646" y="1032"/>
                    </a:lnTo>
                    <a:lnTo>
                      <a:pt x="11646" y="1051"/>
                    </a:lnTo>
                    <a:lnTo>
                      <a:pt x="11628" y="1069"/>
                    </a:lnTo>
                    <a:lnTo>
                      <a:pt x="11628" y="1069"/>
                    </a:lnTo>
                    <a:lnTo>
                      <a:pt x="11628" y="1088"/>
                    </a:lnTo>
                    <a:lnTo>
                      <a:pt x="11628" y="1105"/>
                    </a:lnTo>
                    <a:lnTo>
                      <a:pt x="11609" y="1105"/>
                    </a:lnTo>
                    <a:lnTo>
                      <a:pt x="11609" y="1123"/>
                    </a:lnTo>
                    <a:lnTo>
                      <a:pt x="11609" y="1142"/>
                    </a:lnTo>
                    <a:lnTo>
                      <a:pt x="11590" y="1142"/>
                    </a:lnTo>
                    <a:lnTo>
                      <a:pt x="11590" y="1160"/>
                    </a:lnTo>
                    <a:lnTo>
                      <a:pt x="11590" y="1179"/>
                    </a:lnTo>
                    <a:lnTo>
                      <a:pt x="11571" y="1197"/>
                    </a:lnTo>
                    <a:lnTo>
                      <a:pt x="11571" y="1197"/>
                    </a:lnTo>
                    <a:lnTo>
                      <a:pt x="11344" y="1419"/>
                    </a:lnTo>
                    <a:lnTo>
                      <a:pt x="5832" y="1419"/>
                    </a:lnTo>
                    <a:lnTo>
                      <a:pt x="5946" y="1345"/>
                    </a:lnTo>
                    <a:lnTo>
                      <a:pt x="5775" y="1419"/>
                    </a:lnTo>
                    <a:lnTo>
                      <a:pt x="3680" y="1419"/>
                    </a:lnTo>
                    <a:lnTo>
                      <a:pt x="4378" y="829"/>
                    </a:lnTo>
                    <a:lnTo>
                      <a:pt x="3585" y="1179"/>
                    </a:lnTo>
                    <a:lnTo>
                      <a:pt x="3566" y="1179"/>
                    </a:lnTo>
                    <a:lnTo>
                      <a:pt x="3530" y="1179"/>
                    </a:lnTo>
                    <a:lnTo>
                      <a:pt x="3511" y="1160"/>
                    </a:lnTo>
                    <a:lnTo>
                      <a:pt x="3492" y="1142"/>
                    </a:lnTo>
                    <a:lnTo>
                      <a:pt x="3473" y="1123"/>
                    </a:lnTo>
                    <a:lnTo>
                      <a:pt x="3473" y="1105"/>
                    </a:lnTo>
                    <a:lnTo>
                      <a:pt x="3454" y="1088"/>
                    </a:lnTo>
                    <a:lnTo>
                      <a:pt x="3435" y="1069"/>
                    </a:lnTo>
                    <a:lnTo>
                      <a:pt x="3435" y="1032"/>
                    </a:lnTo>
                    <a:lnTo>
                      <a:pt x="3416" y="1014"/>
                    </a:lnTo>
                    <a:lnTo>
                      <a:pt x="3416" y="977"/>
                    </a:lnTo>
                    <a:lnTo>
                      <a:pt x="3397" y="940"/>
                    </a:lnTo>
                    <a:lnTo>
                      <a:pt x="3378" y="921"/>
                    </a:lnTo>
                    <a:lnTo>
                      <a:pt x="3378" y="884"/>
                    </a:lnTo>
                    <a:lnTo>
                      <a:pt x="3359" y="866"/>
                    </a:lnTo>
                    <a:lnTo>
                      <a:pt x="3340" y="829"/>
                    </a:lnTo>
                    <a:lnTo>
                      <a:pt x="3340" y="810"/>
                    </a:lnTo>
                    <a:lnTo>
                      <a:pt x="3340" y="792"/>
                    </a:lnTo>
                    <a:lnTo>
                      <a:pt x="3340" y="773"/>
                    </a:lnTo>
                    <a:lnTo>
                      <a:pt x="3359" y="755"/>
                    </a:lnTo>
                    <a:lnTo>
                      <a:pt x="3359" y="737"/>
                    </a:lnTo>
                    <a:lnTo>
                      <a:pt x="3359" y="701"/>
                    </a:lnTo>
                    <a:lnTo>
                      <a:pt x="3359" y="682"/>
                    </a:lnTo>
                    <a:lnTo>
                      <a:pt x="3359" y="664"/>
                    </a:lnTo>
                    <a:lnTo>
                      <a:pt x="3246" y="497"/>
                    </a:lnTo>
                    <a:lnTo>
                      <a:pt x="3982" y="0"/>
                    </a:lnTo>
                    <a:lnTo>
                      <a:pt x="10948" y="0"/>
                    </a:lnTo>
                    <a:close/>
                    <a:moveTo>
                      <a:pt x="3020" y="0"/>
                    </a:moveTo>
                    <a:lnTo>
                      <a:pt x="3001" y="19"/>
                    </a:lnTo>
                    <a:lnTo>
                      <a:pt x="2982" y="19"/>
                    </a:lnTo>
                    <a:lnTo>
                      <a:pt x="2963" y="37"/>
                    </a:lnTo>
                    <a:lnTo>
                      <a:pt x="2944" y="37"/>
                    </a:lnTo>
                    <a:lnTo>
                      <a:pt x="2925" y="55"/>
                    </a:lnTo>
                    <a:lnTo>
                      <a:pt x="2906" y="55"/>
                    </a:lnTo>
                    <a:lnTo>
                      <a:pt x="2906" y="73"/>
                    </a:lnTo>
                    <a:lnTo>
                      <a:pt x="2887" y="92"/>
                    </a:lnTo>
                    <a:lnTo>
                      <a:pt x="2868" y="92"/>
                    </a:lnTo>
                    <a:lnTo>
                      <a:pt x="2849" y="110"/>
                    </a:lnTo>
                    <a:lnTo>
                      <a:pt x="2831" y="110"/>
                    </a:lnTo>
                    <a:lnTo>
                      <a:pt x="2812" y="129"/>
                    </a:lnTo>
                    <a:lnTo>
                      <a:pt x="2793" y="147"/>
                    </a:lnTo>
                    <a:lnTo>
                      <a:pt x="2774" y="147"/>
                    </a:lnTo>
                    <a:lnTo>
                      <a:pt x="2774" y="166"/>
                    </a:lnTo>
                    <a:lnTo>
                      <a:pt x="2756" y="166"/>
                    </a:lnTo>
                    <a:lnTo>
                      <a:pt x="2737" y="184"/>
                    </a:lnTo>
                    <a:lnTo>
                      <a:pt x="2718" y="203"/>
                    </a:lnTo>
                    <a:lnTo>
                      <a:pt x="2718" y="203"/>
                    </a:lnTo>
                    <a:lnTo>
                      <a:pt x="2699" y="221"/>
                    </a:lnTo>
                    <a:lnTo>
                      <a:pt x="2699" y="221"/>
                    </a:lnTo>
                    <a:lnTo>
                      <a:pt x="2680" y="240"/>
                    </a:lnTo>
                    <a:lnTo>
                      <a:pt x="2680" y="240"/>
                    </a:lnTo>
                    <a:lnTo>
                      <a:pt x="2661" y="258"/>
                    </a:lnTo>
                    <a:lnTo>
                      <a:pt x="2661" y="258"/>
                    </a:lnTo>
                    <a:lnTo>
                      <a:pt x="2642" y="277"/>
                    </a:lnTo>
                    <a:lnTo>
                      <a:pt x="2642" y="277"/>
                    </a:lnTo>
                    <a:lnTo>
                      <a:pt x="2623" y="277"/>
                    </a:lnTo>
                    <a:lnTo>
                      <a:pt x="2623" y="295"/>
                    </a:lnTo>
                    <a:lnTo>
                      <a:pt x="2604" y="295"/>
                    </a:lnTo>
                    <a:lnTo>
                      <a:pt x="2585" y="314"/>
                    </a:lnTo>
                    <a:lnTo>
                      <a:pt x="2585" y="314"/>
                    </a:lnTo>
                    <a:lnTo>
                      <a:pt x="2566" y="314"/>
                    </a:lnTo>
                    <a:lnTo>
                      <a:pt x="2566" y="314"/>
                    </a:lnTo>
                    <a:lnTo>
                      <a:pt x="2547" y="314"/>
                    </a:lnTo>
                    <a:lnTo>
                      <a:pt x="2528" y="314"/>
                    </a:lnTo>
                    <a:lnTo>
                      <a:pt x="2509" y="314"/>
                    </a:lnTo>
                    <a:lnTo>
                      <a:pt x="2509" y="295"/>
                    </a:lnTo>
                    <a:lnTo>
                      <a:pt x="2492" y="295"/>
                    </a:lnTo>
                    <a:lnTo>
                      <a:pt x="2473" y="295"/>
                    </a:lnTo>
                    <a:lnTo>
                      <a:pt x="2095" y="516"/>
                    </a:lnTo>
                    <a:lnTo>
                      <a:pt x="1906" y="0"/>
                    </a:lnTo>
                    <a:lnTo>
                      <a:pt x="3020" y="0"/>
                    </a:lnTo>
                    <a:close/>
                    <a:moveTo>
                      <a:pt x="1811" y="0"/>
                    </a:moveTo>
                    <a:lnTo>
                      <a:pt x="302" y="921"/>
                    </a:lnTo>
                    <a:lnTo>
                      <a:pt x="264" y="921"/>
                    </a:lnTo>
                    <a:lnTo>
                      <a:pt x="245" y="884"/>
                    </a:lnTo>
                    <a:lnTo>
                      <a:pt x="226" y="866"/>
                    </a:lnTo>
                    <a:lnTo>
                      <a:pt x="207" y="829"/>
                    </a:lnTo>
                    <a:lnTo>
                      <a:pt x="188" y="792"/>
                    </a:lnTo>
                    <a:lnTo>
                      <a:pt x="169" y="755"/>
                    </a:lnTo>
                    <a:lnTo>
                      <a:pt x="150" y="719"/>
                    </a:lnTo>
                    <a:lnTo>
                      <a:pt x="131" y="682"/>
                    </a:lnTo>
                    <a:lnTo>
                      <a:pt x="131" y="645"/>
                    </a:lnTo>
                    <a:lnTo>
                      <a:pt x="112" y="590"/>
                    </a:lnTo>
                    <a:lnTo>
                      <a:pt x="112" y="553"/>
                    </a:lnTo>
                    <a:lnTo>
                      <a:pt x="112" y="497"/>
                    </a:lnTo>
                    <a:lnTo>
                      <a:pt x="93" y="460"/>
                    </a:lnTo>
                    <a:lnTo>
                      <a:pt x="93" y="405"/>
                    </a:lnTo>
                    <a:lnTo>
                      <a:pt x="93" y="350"/>
                    </a:lnTo>
                    <a:lnTo>
                      <a:pt x="74" y="314"/>
                    </a:lnTo>
                    <a:lnTo>
                      <a:pt x="74" y="295"/>
                    </a:lnTo>
                    <a:lnTo>
                      <a:pt x="74" y="295"/>
                    </a:lnTo>
                    <a:lnTo>
                      <a:pt x="56" y="277"/>
                    </a:lnTo>
                    <a:lnTo>
                      <a:pt x="56" y="277"/>
                    </a:lnTo>
                    <a:lnTo>
                      <a:pt x="37" y="258"/>
                    </a:lnTo>
                    <a:lnTo>
                      <a:pt x="18" y="240"/>
                    </a:lnTo>
                    <a:lnTo>
                      <a:pt x="18" y="240"/>
                    </a:lnTo>
                    <a:lnTo>
                      <a:pt x="0" y="221"/>
                    </a:lnTo>
                    <a:lnTo>
                      <a:pt x="18" y="203"/>
                    </a:lnTo>
                    <a:lnTo>
                      <a:pt x="37" y="184"/>
                    </a:lnTo>
                    <a:lnTo>
                      <a:pt x="37" y="166"/>
                    </a:lnTo>
                    <a:lnTo>
                      <a:pt x="56" y="147"/>
                    </a:lnTo>
                    <a:lnTo>
                      <a:pt x="56" y="129"/>
                    </a:lnTo>
                    <a:lnTo>
                      <a:pt x="74" y="110"/>
                    </a:lnTo>
                    <a:lnTo>
                      <a:pt x="93" y="110"/>
                    </a:lnTo>
                    <a:lnTo>
                      <a:pt x="93" y="92"/>
                    </a:lnTo>
                    <a:lnTo>
                      <a:pt x="112" y="73"/>
                    </a:lnTo>
                    <a:lnTo>
                      <a:pt x="131" y="73"/>
                    </a:lnTo>
                    <a:lnTo>
                      <a:pt x="150" y="55"/>
                    </a:lnTo>
                    <a:lnTo>
                      <a:pt x="150" y="37"/>
                    </a:lnTo>
                    <a:lnTo>
                      <a:pt x="169" y="37"/>
                    </a:lnTo>
                    <a:lnTo>
                      <a:pt x="188" y="19"/>
                    </a:lnTo>
                    <a:lnTo>
                      <a:pt x="207" y="19"/>
                    </a:lnTo>
                    <a:lnTo>
                      <a:pt x="207" y="0"/>
                    </a:lnTo>
                    <a:lnTo>
                      <a:pt x="181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57" name="Freeform 85"/>
              <p:cNvSpPr/>
              <p:nvPr/>
            </p:nvSpPr>
            <p:spPr>
              <a:xfrm>
                <a:off x="985680" y="4215600"/>
                <a:ext cx="2247480" cy="125640"/>
              </a:xfrm>
              <a:custGeom>
                <a:avLst/>
                <a:gdLst/>
                <a:ahLst/>
                <a:rect l="l" t="t" r="r" b="b"/>
                <a:pathLst>
                  <a:path w="11496" h="1436">
                    <a:moveTo>
                      <a:pt x="10458" y="0"/>
                    </a:moveTo>
                    <a:lnTo>
                      <a:pt x="10269" y="165"/>
                    </a:lnTo>
                    <a:lnTo>
                      <a:pt x="10062" y="294"/>
                    </a:lnTo>
                    <a:lnTo>
                      <a:pt x="10062" y="294"/>
                    </a:lnTo>
                    <a:lnTo>
                      <a:pt x="10062" y="313"/>
                    </a:lnTo>
                    <a:lnTo>
                      <a:pt x="10062" y="313"/>
                    </a:lnTo>
                    <a:lnTo>
                      <a:pt x="10062" y="331"/>
                    </a:lnTo>
                    <a:lnTo>
                      <a:pt x="10062" y="331"/>
                    </a:lnTo>
                    <a:lnTo>
                      <a:pt x="10062" y="331"/>
                    </a:lnTo>
                    <a:lnTo>
                      <a:pt x="10062" y="350"/>
                    </a:lnTo>
                    <a:lnTo>
                      <a:pt x="10062" y="368"/>
                    </a:lnTo>
                    <a:lnTo>
                      <a:pt x="10100" y="368"/>
                    </a:lnTo>
                    <a:lnTo>
                      <a:pt x="10136" y="368"/>
                    </a:lnTo>
                    <a:lnTo>
                      <a:pt x="10155" y="368"/>
                    </a:lnTo>
                    <a:lnTo>
                      <a:pt x="10193" y="368"/>
                    </a:lnTo>
                    <a:lnTo>
                      <a:pt x="10231" y="350"/>
                    </a:lnTo>
                    <a:lnTo>
                      <a:pt x="10269" y="350"/>
                    </a:lnTo>
                    <a:lnTo>
                      <a:pt x="10288" y="350"/>
                    </a:lnTo>
                    <a:lnTo>
                      <a:pt x="10326" y="331"/>
                    </a:lnTo>
                    <a:lnTo>
                      <a:pt x="10364" y="331"/>
                    </a:lnTo>
                    <a:lnTo>
                      <a:pt x="10383" y="313"/>
                    </a:lnTo>
                    <a:lnTo>
                      <a:pt x="10420" y="313"/>
                    </a:lnTo>
                    <a:lnTo>
                      <a:pt x="10458" y="294"/>
                    </a:lnTo>
                    <a:lnTo>
                      <a:pt x="10495" y="294"/>
                    </a:lnTo>
                    <a:lnTo>
                      <a:pt x="10514" y="294"/>
                    </a:lnTo>
                    <a:lnTo>
                      <a:pt x="10552" y="276"/>
                    </a:lnTo>
                    <a:lnTo>
                      <a:pt x="10590" y="276"/>
                    </a:lnTo>
                    <a:lnTo>
                      <a:pt x="10609" y="257"/>
                    </a:lnTo>
                    <a:lnTo>
                      <a:pt x="10647" y="257"/>
                    </a:lnTo>
                    <a:lnTo>
                      <a:pt x="10684" y="239"/>
                    </a:lnTo>
                    <a:lnTo>
                      <a:pt x="10703" y="239"/>
                    </a:lnTo>
                    <a:lnTo>
                      <a:pt x="10741" y="239"/>
                    </a:lnTo>
                    <a:lnTo>
                      <a:pt x="10779" y="220"/>
                    </a:lnTo>
                    <a:lnTo>
                      <a:pt x="10817" y="220"/>
                    </a:lnTo>
                    <a:lnTo>
                      <a:pt x="10835" y="220"/>
                    </a:lnTo>
                    <a:lnTo>
                      <a:pt x="10873" y="220"/>
                    </a:lnTo>
                    <a:lnTo>
                      <a:pt x="10911" y="220"/>
                    </a:lnTo>
                    <a:lnTo>
                      <a:pt x="10930" y="220"/>
                    </a:lnTo>
                    <a:lnTo>
                      <a:pt x="10967" y="220"/>
                    </a:lnTo>
                    <a:lnTo>
                      <a:pt x="11005" y="239"/>
                    </a:lnTo>
                    <a:lnTo>
                      <a:pt x="11043" y="239"/>
                    </a:lnTo>
                    <a:lnTo>
                      <a:pt x="11062" y="239"/>
                    </a:lnTo>
                    <a:lnTo>
                      <a:pt x="11100" y="257"/>
                    </a:lnTo>
                    <a:lnTo>
                      <a:pt x="11138" y="257"/>
                    </a:lnTo>
                    <a:lnTo>
                      <a:pt x="11157" y="239"/>
                    </a:lnTo>
                    <a:lnTo>
                      <a:pt x="11176" y="239"/>
                    </a:lnTo>
                    <a:lnTo>
                      <a:pt x="11212" y="239"/>
                    </a:lnTo>
                    <a:lnTo>
                      <a:pt x="11231" y="239"/>
                    </a:lnTo>
                    <a:lnTo>
                      <a:pt x="11250" y="239"/>
                    </a:lnTo>
                    <a:lnTo>
                      <a:pt x="11288" y="239"/>
                    </a:lnTo>
                    <a:lnTo>
                      <a:pt x="11307" y="239"/>
                    </a:lnTo>
                    <a:lnTo>
                      <a:pt x="11326" y="239"/>
                    </a:lnTo>
                    <a:lnTo>
                      <a:pt x="11345" y="257"/>
                    </a:lnTo>
                    <a:lnTo>
                      <a:pt x="11383" y="257"/>
                    </a:lnTo>
                    <a:lnTo>
                      <a:pt x="11402" y="257"/>
                    </a:lnTo>
                    <a:lnTo>
                      <a:pt x="11421" y="257"/>
                    </a:lnTo>
                    <a:lnTo>
                      <a:pt x="11440" y="276"/>
                    </a:lnTo>
                    <a:lnTo>
                      <a:pt x="11478" y="276"/>
                    </a:lnTo>
                    <a:lnTo>
                      <a:pt x="11496" y="276"/>
                    </a:lnTo>
                    <a:lnTo>
                      <a:pt x="11496" y="294"/>
                    </a:lnTo>
                    <a:lnTo>
                      <a:pt x="11496" y="313"/>
                    </a:lnTo>
                    <a:lnTo>
                      <a:pt x="11496" y="331"/>
                    </a:lnTo>
                    <a:lnTo>
                      <a:pt x="11496" y="350"/>
                    </a:lnTo>
                    <a:lnTo>
                      <a:pt x="11478" y="368"/>
                    </a:lnTo>
                    <a:lnTo>
                      <a:pt x="11478" y="368"/>
                    </a:lnTo>
                    <a:lnTo>
                      <a:pt x="11478" y="387"/>
                    </a:lnTo>
                    <a:lnTo>
                      <a:pt x="11478" y="404"/>
                    </a:lnTo>
                    <a:lnTo>
                      <a:pt x="11459" y="404"/>
                    </a:lnTo>
                    <a:lnTo>
                      <a:pt x="11459" y="422"/>
                    </a:lnTo>
                    <a:lnTo>
                      <a:pt x="11459" y="441"/>
                    </a:lnTo>
                    <a:lnTo>
                      <a:pt x="11440" y="441"/>
                    </a:lnTo>
                    <a:lnTo>
                      <a:pt x="11440" y="459"/>
                    </a:lnTo>
                    <a:lnTo>
                      <a:pt x="11440" y="478"/>
                    </a:lnTo>
                    <a:lnTo>
                      <a:pt x="11421" y="496"/>
                    </a:lnTo>
                    <a:lnTo>
                      <a:pt x="11421" y="496"/>
                    </a:lnTo>
                    <a:lnTo>
                      <a:pt x="10986" y="902"/>
                    </a:lnTo>
                    <a:lnTo>
                      <a:pt x="10986" y="920"/>
                    </a:lnTo>
                    <a:lnTo>
                      <a:pt x="10986" y="939"/>
                    </a:lnTo>
                    <a:lnTo>
                      <a:pt x="10986" y="939"/>
                    </a:lnTo>
                    <a:lnTo>
                      <a:pt x="10986" y="957"/>
                    </a:lnTo>
                    <a:lnTo>
                      <a:pt x="10986" y="976"/>
                    </a:lnTo>
                    <a:lnTo>
                      <a:pt x="11005" y="994"/>
                    </a:lnTo>
                    <a:lnTo>
                      <a:pt x="11005" y="1013"/>
                    </a:lnTo>
                    <a:lnTo>
                      <a:pt x="11005" y="1031"/>
                    </a:lnTo>
                    <a:lnTo>
                      <a:pt x="10967" y="1031"/>
                    </a:lnTo>
                    <a:lnTo>
                      <a:pt x="10930" y="1050"/>
                    </a:lnTo>
                    <a:lnTo>
                      <a:pt x="10873" y="1068"/>
                    </a:lnTo>
                    <a:lnTo>
                      <a:pt x="10835" y="1086"/>
                    </a:lnTo>
                    <a:lnTo>
                      <a:pt x="10798" y="1086"/>
                    </a:lnTo>
                    <a:lnTo>
                      <a:pt x="10741" y="1104"/>
                    </a:lnTo>
                    <a:lnTo>
                      <a:pt x="10703" y="1123"/>
                    </a:lnTo>
                    <a:lnTo>
                      <a:pt x="10666" y="1123"/>
                    </a:lnTo>
                    <a:lnTo>
                      <a:pt x="10609" y="1141"/>
                    </a:lnTo>
                    <a:lnTo>
                      <a:pt x="10571" y="1160"/>
                    </a:lnTo>
                    <a:lnTo>
                      <a:pt x="10533" y="1160"/>
                    </a:lnTo>
                    <a:lnTo>
                      <a:pt x="10477" y="1178"/>
                    </a:lnTo>
                    <a:lnTo>
                      <a:pt x="10439" y="1196"/>
                    </a:lnTo>
                    <a:lnTo>
                      <a:pt x="10402" y="1196"/>
                    </a:lnTo>
                    <a:lnTo>
                      <a:pt x="10345" y="1215"/>
                    </a:lnTo>
                    <a:lnTo>
                      <a:pt x="10307" y="1233"/>
                    </a:lnTo>
                    <a:lnTo>
                      <a:pt x="10269" y="1233"/>
                    </a:lnTo>
                    <a:lnTo>
                      <a:pt x="10212" y="1252"/>
                    </a:lnTo>
                    <a:lnTo>
                      <a:pt x="10174" y="1270"/>
                    </a:lnTo>
                    <a:lnTo>
                      <a:pt x="10136" y="1270"/>
                    </a:lnTo>
                    <a:lnTo>
                      <a:pt x="10081" y="1289"/>
                    </a:lnTo>
                    <a:lnTo>
                      <a:pt x="10043" y="1307"/>
                    </a:lnTo>
                    <a:lnTo>
                      <a:pt x="10005" y="1326"/>
                    </a:lnTo>
                    <a:lnTo>
                      <a:pt x="9948" y="1326"/>
                    </a:lnTo>
                    <a:lnTo>
                      <a:pt x="9910" y="1344"/>
                    </a:lnTo>
                    <a:lnTo>
                      <a:pt x="9872" y="1363"/>
                    </a:lnTo>
                    <a:lnTo>
                      <a:pt x="9816" y="1363"/>
                    </a:lnTo>
                    <a:lnTo>
                      <a:pt x="9778" y="1381"/>
                    </a:lnTo>
                    <a:lnTo>
                      <a:pt x="9741" y="1400"/>
                    </a:lnTo>
                    <a:lnTo>
                      <a:pt x="9684" y="1400"/>
                    </a:lnTo>
                    <a:lnTo>
                      <a:pt x="9646" y="1418"/>
                    </a:lnTo>
                    <a:lnTo>
                      <a:pt x="9608" y="1436"/>
                    </a:lnTo>
                    <a:lnTo>
                      <a:pt x="6626" y="1436"/>
                    </a:lnTo>
                    <a:lnTo>
                      <a:pt x="7268" y="994"/>
                    </a:lnTo>
                    <a:lnTo>
                      <a:pt x="7230" y="994"/>
                    </a:lnTo>
                    <a:lnTo>
                      <a:pt x="7211" y="994"/>
                    </a:lnTo>
                    <a:lnTo>
                      <a:pt x="7174" y="1013"/>
                    </a:lnTo>
                    <a:lnTo>
                      <a:pt x="7136" y="1013"/>
                    </a:lnTo>
                    <a:lnTo>
                      <a:pt x="7117" y="1013"/>
                    </a:lnTo>
                    <a:lnTo>
                      <a:pt x="7079" y="1031"/>
                    </a:lnTo>
                    <a:lnTo>
                      <a:pt x="7041" y="1031"/>
                    </a:lnTo>
                    <a:lnTo>
                      <a:pt x="7003" y="1050"/>
                    </a:lnTo>
                    <a:lnTo>
                      <a:pt x="6965" y="1050"/>
                    </a:lnTo>
                    <a:lnTo>
                      <a:pt x="6946" y="1068"/>
                    </a:lnTo>
                    <a:lnTo>
                      <a:pt x="6910" y="1068"/>
                    </a:lnTo>
                    <a:lnTo>
                      <a:pt x="6872" y="1086"/>
                    </a:lnTo>
                    <a:lnTo>
                      <a:pt x="6834" y="1104"/>
                    </a:lnTo>
                    <a:lnTo>
                      <a:pt x="6796" y="1123"/>
                    </a:lnTo>
                    <a:lnTo>
                      <a:pt x="6758" y="1123"/>
                    </a:lnTo>
                    <a:lnTo>
                      <a:pt x="6739" y="1141"/>
                    </a:lnTo>
                    <a:lnTo>
                      <a:pt x="6701" y="1160"/>
                    </a:lnTo>
                    <a:lnTo>
                      <a:pt x="6663" y="1178"/>
                    </a:lnTo>
                    <a:lnTo>
                      <a:pt x="6626" y="1196"/>
                    </a:lnTo>
                    <a:lnTo>
                      <a:pt x="6588" y="1215"/>
                    </a:lnTo>
                    <a:lnTo>
                      <a:pt x="6551" y="1233"/>
                    </a:lnTo>
                    <a:lnTo>
                      <a:pt x="6513" y="1252"/>
                    </a:lnTo>
                    <a:lnTo>
                      <a:pt x="6494" y="1270"/>
                    </a:lnTo>
                    <a:lnTo>
                      <a:pt x="6456" y="1289"/>
                    </a:lnTo>
                    <a:lnTo>
                      <a:pt x="6418" y="1307"/>
                    </a:lnTo>
                    <a:lnTo>
                      <a:pt x="6380" y="1326"/>
                    </a:lnTo>
                    <a:lnTo>
                      <a:pt x="6343" y="1344"/>
                    </a:lnTo>
                    <a:lnTo>
                      <a:pt x="6305" y="1363"/>
                    </a:lnTo>
                    <a:lnTo>
                      <a:pt x="6267" y="1381"/>
                    </a:lnTo>
                    <a:lnTo>
                      <a:pt x="6230" y="1400"/>
                    </a:lnTo>
                    <a:lnTo>
                      <a:pt x="6211" y="1418"/>
                    </a:lnTo>
                    <a:lnTo>
                      <a:pt x="6173" y="1436"/>
                    </a:lnTo>
                    <a:lnTo>
                      <a:pt x="4644" y="1436"/>
                    </a:lnTo>
                    <a:lnTo>
                      <a:pt x="5796" y="644"/>
                    </a:lnTo>
                    <a:lnTo>
                      <a:pt x="4078" y="1436"/>
                    </a:lnTo>
                    <a:lnTo>
                      <a:pt x="3247" y="1436"/>
                    </a:lnTo>
                    <a:lnTo>
                      <a:pt x="3152" y="1141"/>
                    </a:lnTo>
                    <a:lnTo>
                      <a:pt x="3134" y="1141"/>
                    </a:lnTo>
                    <a:lnTo>
                      <a:pt x="3134" y="1141"/>
                    </a:lnTo>
                    <a:lnTo>
                      <a:pt x="3134" y="1141"/>
                    </a:lnTo>
                    <a:lnTo>
                      <a:pt x="3134" y="1123"/>
                    </a:lnTo>
                    <a:lnTo>
                      <a:pt x="3134" y="1123"/>
                    </a:lnTo>
                    <a:lnTo>
                      <a:pt x="3115" y="1104"/>
                    </a:lnTo>
                    <a:lnTo>
                      <a:pt x="3115" y="1086"/>
                    </a:lnTo>
                    <a:lnTo>
                      <a:pt x="3115" y="1086"/>
                    </a:lnTo>
                    <a:lnTo>
                      <a:pt x="4228" y="128"/>
                    </a:lnTo>
                    <a:lnTo>
                      <a:pt x="3435" y="478"/>
                    </a:lnTo>
                    <a:lnTo>
                      <a:pt x="3416" y="478"/>
                    </a:lnTo>
                    <a:lnTo>
                      <a:pt x="3380" y="478"/>
                    </a:lnTo>
                    <a:lnTo>
                      <a:pt x="3361" y="459"/>
                    </a:lnTo>
                    <a:lnTo>
                      <a:pt x="3342" y="441"/>
                    </a:lnTo>
                    <a:lnTo>
                      <a:pt x="3323" y="422"/>
                    </a:lnTo>
                    <a:lnTo>
                      <a:pt x="3323" y="404"/>
                    </a:lnTo>
                    <a:lnTo>
                      <a:pt x="3304" y="387"/>
                    </a:lnTo>
                    <a:lnTo>
                      <a:pt x="3285" y="368"/>
                    </a:lnTo>
                    <a:lnTo>
                      <a:pt x="3285" y="331"/>
                    </a:lnTo>
                    <a:lnTo>
                      <a:pt x="3266" y="313"/>
                    </a:lnTo>
                    <a:lnTo>
                      <a:pt x="3266" y="276"/>
                    </a:lnTo>
                    <a:lnTo>
                      <a:pt x="3247" y="239"/>
                    </a:lnTo>
                    <a:lnTo>
                      <a:pt x="3228" y="220"/>
                    </a:lnTo>
                    <a:lnTo>
                      <a:pt x="3228" y="183"/>
                    </a:lnTo>
                    <a:lnTo>
                      <a:pt x="3209" y="165"/>
                    </a:lnTo>
                    <a:lnTo>
                      <a:pt x="3190" y="128"/>
                    </a:lnTo>
                    <a:lnTo>
                      <a:pt x="3190" y="109"/>
                    </a:lnTo>
                    <a:lnTo>
                      <a:pt x="3190" y="109"/>
                    </a:lnTo>
                    <a:lnTo>
                      <a:pt x="3190" y="91"/>
                    </a:lnTo>
                    <a:lnTo>
                      <a:pt x="3190" y="72"/>
                    </a:lnTo>
                    <a:lnTo>
                      <a:pt x="3209" y="54"/>
                    </a:lnTo>
                    <a:lnTo>
                      <a:pt x="3209" y="36"/>
                    </a:lnTo>
                    <a:lnTo>
                      <a:pt x="3209" y="18"/>
                    </a:lnTo>
                    <a:lnTo>
                      <a:pt x="3209" y="0"/>
                    </a:lnTo>
                    <a:lnTo>
                      <a:pt x="10458" y="0"/>
                    </a:lnTo>
                    <a:close/>
                    <a:moveTo>
                      <a:pt x="491" y="0"/>
                    </a:moveTo>
                    <a:lnTo>
                      <a:pt x="152" y="220"/>
                    </a:lnTo>
                    <a:lnTo>
                      <a:pt x="133" y="220"/>
                    </a:lnTo>
                    <a:lnTo>
                      <a:pt x="114" y="220"/>
                    </a:lnTo>
                    <a:lnTo>
                      <a:pt x="114" y="202"/>
                    </a:lnTo>
                    <a:lnTo>
                      <a:pt x="95" y="202"/>
                    </a:lnTo>
                    <a:lnTo>
                      <a:pt x="76" y="183"/>
                    </a:lnTo>
                    <a:lnTo>
                      <a:pt x="76" y="165"/>
                    </a:lnTo>
                    <a:lnTo>
                      <a:pt x="57" y="165"/>
                    </a:lnTo>
                    <a:lnTo>
                      <a:pt x="57" y="146"/>
                    </a:lnTo>
                    <a:lnTo>
                      <a:pt x="38" y="128"/>
                    </a:lnTo>
                    <a:lnTo>
                      <a:pt x="38" y="109"/>
                    </a:lnTo>
                    <a:lnTo>
                      <a:pt x="38" y="91"/>
                    </a:lnTo>
                    <a:lnTo>
                      <a:pt x="19" y="72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49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58" name="Freeform 86"/>
              <p:cNvSpPr/>
              <p:nvPr/>
            </p:nvSpPr>
            <p:spPr>
              <a:xfrm>
                <a:off x="1595880" y="4279320"/>
                <a:ext cx="1578960" cy="121680"/>
              </a:xfrm>
              <a:custGeom>
                <a:avLst/>
                <a:gdLst/>
                <a:ahLst/>
                <a:rect l="l" t="t" r="r" b="b"/>
                <a:pathLst>
                  <a:path w="8079" h="1418">
                    <a:moveTo>
                      <a:pt x="8079" y="0"/>
                    </a:moveTo>
                    <a:lnTo>
                      <a:pt x="7871" y="184"/>
                    </a:lnTo>
                    <a:lnTo>
                      <a:pt x="7871" y="202"/>
                    </a:lnTo>
                    <a:lnTo>
                      <a:pt x="7871" y="221"/>
                    </a:lnTo>
                    <a:lnTo>
                      <a:pt x="7871" y="221"/>
                    </a:lnTo>
                    <a:lnTo>
                      <a:pt x="7871" y="239"/>
                    </a:lnTo>
                    <a:lnTo>
                      <a:pt x="7871" y="258"/>
                    </a:lnTo>
                    <a:lnTo>
                      <a:pt x="7890" y="276"/>
                    </a:lnTo>
                    <a:lnTo>
                      <a:pt x="7890" y="295"/>
                    </a:lnTo>
                    <a:lnTo>
                      <a:pt x="7890" y="313"/>
                    </a:lnTo>
                    <a:lnTo>
                      <a:pt x="7796" y="332"/>
                    </a:lnTo>
                    <a:lnTo>
                      <a:pt x="7683" y="368"/>
                    </a:lnTo>
                    <a:lnTo>
                      <a:pt x="7569" y="405"/>
                    </a:lnTo>
                    <a:lnTo>
                      <a:pt x="7456" y="442"/>
                    </a:lnTo>
                    <a:lnTo>
                      <a:pt x="7362" y="460"/>
                    </a:lnTo>
                    <a:lnTo>
                      <a:pt x="7249" y="497"/>
                    </a:lnTo>
                    <a:lnTo>
                      <a:pt x="7135" y="534"/>
                    </a:lnTo>
                    <a:lnTo>
                      <a:pt x="7021" y="552"/>
                    </a:lnTo>
                    <a:lnTo>
                      <a:pt x="6928" y="589"/>
                    </a:lnTo>
                    <a:lnTo>
                      <a:pt x="6814" y="626"/>
                    </a:lnTo>
                    <a:lnTo>
                      <a:pt x="6701" y="645"/>
                    </a:lnTo>
                    <a:lnTo>
                      <a:pt x="6588" y="682"/>
                    </a:lnTo>
                    <a:lnTo>
                      <a:pt x="6493" y="718"/>
                    </a:lnTo>
                    <a:lnTo>
                      <a:pt x="6380" y="736"/>
                    </a:lnTo>
                    <a:lnTo>
                      <a:pt x="6267" y="773"/>
                    </a:lnTo>
                    <a:lnTo>
                      <a:pt x="6154" y="810"/>
                    </a:lnTo>
                    <a:lnTo>
                      <a:pt x="6059" y="847"/>
                    </a:lnTo>
                    <a:lnTo>
                      <a:pt x="5947" y="865"/>
                    </a:lnTo>
                    <a:lnTo>
                      <a:pt x="5833" y="902"/>
                    </a:lnTo>
                    <a:lnTo>
                      <a:pt x="5719" y="939"/>
                    </a:lnTo>
                    <a:lnTo>
                      <a:pt x="5625" y="976"/>
                    </a:lnTo>
                    <a:lnTo>
                      <a:pt x="5512" y="1013"/>
                    </a:lnTo>
                    <a:lnTo>
                      <a:pt x="5399" y="1050"/>
                    </a:lnTo>
                    <a:lnTo>
                      <a:pt x="5285" y="1086"/>
                    </a:lnTo>
                    <a:lnTo>
                      <a:pt x="5172" y="1123"/>
                    </a:lnTo>
                    <a:lnTo>
                      <a:pt x="5078" y="1160"/>
                    </a:lnTo>
                    <a:lnTo>
                      <a:pt x="4964" y="1197"/>
                    </a:lnTo>
                    <a:lnTo>
                      <a:pt x="4852" y="1253"/>
                    </a:lnTo>
                    <a:lnTo>
                      <a:pt x="4738" y="1289"/>
                    </a:lnTo>
                    <a:lnTo>
                      <a:pt x="4643" y="1326"/>
                    </a:lnTo>
                    <a:lnTo>
                      <a:pt x="4531" y="1382"/>
                    </a:lnTo>
                    <a:lnTo>
                      <a:pt x="4417" y="1418"/>
                    </a:lnTo>
                    <a:lnTo>
                      <a:pt x="2567" y="1418"/>
                    </a:lnTo>
                    <a:lnTo>
                      <a:pt x="2567" y="1418"/>
                    </a:lnTo>
                    <a:lnTo>
                      <a:pt x="2567" y="1418"/>
                    </a:lnTo>
                    <a:lnTo>
                      <a:pt x="2548" y="1399"/>
                    </a:lnTo>
                    <a:lnTo>
                      <a:pt x="2548" y="1399"/>
                    </a:lnTo>
                    <a:lnTo>
                      <a:pt x="2548" y="1399"/>
                    </a:lnTo>
                    <a:lnTo>
                      <a:pt x="2548" y="1399"/>
                    </a:lnTo>
                    <a:lnTo>
                      <a:pt x="2548" y="1382"/>
                    </a:lnTo>
                    <a:lnTo>
                      <a:pt x="2529" y="1382"/>
                    </a:lnTo>
                    <a:lnTo>
                      <a:pt x="4153" y="276"/>
                    </a:lnTo>
                    <a:lnTo>
                      <a:pt x="4115" y="276"/>
                    </a:lnTo>
                    <a:lnTo>
                      <a:pt x="4059" y="295"/>
                    </a:lnTo>
                    <a:lnTo>
                      <a:pt x="4021" y="295"/>
                    </a:lnTo>
                    <a:lnTo>
                      <a:pt x="3964" y="295"/>
                    </a:lnTo>
                    <a:lnTo>
                      <a:pt x="3926" y="313"/>
                    </a:lnTo>
                    <a:lnTo>
                      <a:pt x="3869" y="332"/>
                    </a:lnTo>
                    <a:lnTo>
                      <a:pt x="3831" y="350"/>
                    </a:lnTo>
                    <a:lnTo>
                      <a:pt x="3776" y="368"/>
                    </a:lnTo>
                    <a:lnTo>
                      <a:pt x="3738" y="386"/>
                    </a:lnTo>
                    <a:lnTo>
                      <a:pt x="3681" y="405"/>
                    </a:lnTo>
                    <a:lnTo>
                      <a:pt x="3624" y="423"/>
                    </a:lnTo>
                    <a:lnTo>
                      <a:pt x="3586" y="442"/>
                    </a:lnTo>
                    <a:lnTo>
                      <a:pt x="3529" y="460"/>
                    </a:lnTo>
                    <a:lnTo>
                      <a:pt x="3473" y="497"/>
                    </a:lnTo>
                    <a:lnTo>
                      <a:pt x="3436" y="515"/>
                    </a:lnTo>
                    <a:lnTo>
                      <a:pt x="3379" y="534"/>
                    </a:lnTo>
                    <a:lnTo>
                      <a:pt x="3341" y="571"/>
                    </a:lnTo>
                    <a:lnTo>
                      <a:pt x="3284" y="589"/>
                    </a:lnTo>
                    <a:lnTo>
                      <a:pt x="3228" y="626"/>
                    </a:lnTo>
                    <a:lnTo>
                      <a:pt x="3190" y="645"/>
                    </a:lnTo>
                    <a:lnTo>
                      <a:pt x="3133" y="663"/>
                    </a:lnTo>
                    <a:lnTo>
                      <a:pt x="3077" y="700"/>
                    </a:lnTo>
                    <a:lnTo>
                      <a:pt x="3039" y="718"/>
                    </a:lnTo>
                    <a:lnTo>
                      <a:pt x="2983" y="755"/>
                    </a:lnTo>
                    <a:lnTo>
                      <a:pt x="2926" y="773"/>
                    </a:lnTo>
                    <a:lnTo>
                      <a:pt x="2888" y="792"/>
                    </a:lnTo>
                    <a:lnTo>
                      <a:pt x="2831" y="810"/>
                    </a:lnTo>
                    <a:lnTo>
                      <a:pt x="2793" y="829"/>
                    </a:lnTo>
                    <a:lnTo>
                      <a:pt x="2737" y="865"/>
                    </a:lnTo>
                    <a:lnTo>
                      <a:pt x="2700" y="884"/>
                    </a:lnTo>
                    <a:lnTo>
                      <a:pt x="2643" y="884"/>
                    </a:lnTo>
                    <a:lnTo>
                      <a:pt x="2605" y="902"/>
                    </a:lnTo>
                    <a:lnTo>
                      <a:pt x="2567" y="921"/>
                    </a:lnTo>
                    <a:lnTo>
                      <a:pt x="2548" y="939"/>
                    </a:lnTo>
                    <a:lnTo>
                      <a:pt x="2529" y="958"/>
                    </a:lnTo>
                    <a:lnTo>
                      <a:pt x="2491" y="976"/>
                    </a:lnTo>
                    <a:lnTo>
                      <a:pt x="2472" y="995"/>
                    </a:lnTo>
                    <a:lnTo>
                      <a:pt x="2453" y="1013"/>
                    </a:lnTo>
                    <a:lnTo>
                      <a:pt x="2435" y="1032"/>
                    </a:lnTo>
                    <a:lnTo>
                      <a:pt x="2398" y="1050"/>
                    </a:lnTo>
                    <a:lnTo>
                      <a:pt x="2379" y="1068"/>
                    </a:lnTo>
                    <a:lnTo>
                      <a:pt x="2360" y="1086"/>
                    </a:lnTo>
                    <a:lnTo>
                      <a:pt x="2322" y="1105"/>
                    </a:lnTo>
                    <a:lnTo>
                      <a:pt x="2303" y="1123"/>
                    </a:lnTo>
                    <a:lnTo>
                      <a:pt x="2284" y="1142"/>
                    </a:lnTo>
                    <a:lnTo>
                      <a:pt x="2246" y="1160"/>
                    </a:lnTo>
                    <a:lnTo>
                      <a:pt x="2227" y="1179"/>
                    </a:lnTo>
                    <a:lnTo>
                      <a:pt x="2208" y="1179"/>
                    </a:lnTo>
                    <a:lnTo>
                      <a:pt x="2171" y="1197"/>
                    </a:lnTo>
                    <a:lnTo>
                      <a:pt x="2152" y="1216"/>
                    </a:lnTo>
                    <a:lnTo>
                      <a:pt x="2133" y="1234"/>
                    </a:lnTo>
                    <a:lnTo>
                      <a:pt x="2095" y="1253"/>
                    </a:lnTo>
                    <a:lnTo>
                      <a:pt x="2076" y="1271"/>
                    </a:lnTo>
                    <a:lnTo>
                      <a:pt x="2058" y="1289"/>
                    </a:lnTo>
                    <a:lnTo>
                      <a:pt x="2020" y="1289"/>
                    </a:lnTo>
                    <a:lnTo>
                      <a:pt x="2001" y="1308"/>
                    </a:lnTo>
                    <a:lnTo>
                      <a:pt x="1982" y="1326"/>
                    </a:lnTo>
                    <a:lnTo>
                      <a:pt x="1944" y="1345"/>
                    </a:lnTo>
                    <a:lnTo>
                      <a:pt x="1925" y="1363"/>
                    </a:lnTo>
                    <a:lnTo>
                      <a:pt x="1888" y="1363"/>
                    </a:lnTo>
                    <a:lnTo>
                      <a:pt x="1869" y="1382"/>
                    </a:lnTo>
                    <a:lnTo>
                      <a:pt x="1850" y="1399"/>
                    </a:lnTo>
                    <a:lnTo>
                      <a:pt x="1812" y="1418"/>
                    </a:lnTo>
                    <a:lnTo>
                      <a:pt x="1793" y="1418"/>
                    </a:lnTo>
                    <a:lnTo>
                      <a:pt x="1680" y="1418"/>
                    </a:lnTo>
                    <a:lnTo>
                      <a:pt x="1529" y="1142"/>
                    </a:lnTo>
                    <a:lnTo>
                      <a:pt x="1529" y="1123"/>
                    </a:lnTo>
                    <a:lnTo>
                      <a:pt x="1529" y="1105"/>
                    </a:lnTo>
                    <a:lnTo>
                      <a:pt x="1529" y="1086"/>
                    </a:lnTo>
                    <a:lnTo>
                      <a:pt x="1529" y="1068"/>
                    </a:lnTo>
                    <a:lnTo>
                      <a:pt x="1510" y="1050"/>
                    </a:lnTo>
                    <a:lnTo>
                      <a:pt x="1510" y="1050"/>
                    </a:lnTo>
                    <a:lnTo>
                      <a:pt x="1491" y="1032"/>
                    </a:lnTo>
                    <a:lnTo>
                      <a:pt x="1491" y="1013"/>
                    </a:lnTo>
                    <a:lnTo>
                      <a:pt x="1491" y="1013"/>
                    </a:lnTo>
                    <a:lnTo>
                      <a:pt x="1472" y="995"/>
                    </a:lnTo>
                    <a:lnTo>
                      <a:pt x="1472" y="976"/>
                    </a:lnTo>
                    <a:lnTo>
                      <a:pt x="1472" y="958"/>
                    </a:lnTo>
                    <a:lnTo>
                      <a:pt x="1453" y="939"/>
                    </a:lnTo>
                    <a:lnTo>
                      <a:pt x="1453" y="939"/>
                    </a:lnTo>
                    <a:lnTo>
                      <a:pt x="1472" y="921"/>
                    </a:lnTo>
                    <a:lnTo>
                      <a:pt x="1472" y="884"/>
                    </a:lnTo>
                    <a:lnTo>
                      <a:pt x="1472" y="884"/>
                    </a:lnTo>
                    <a:lnTo>
                      <a:pt x="1472" y="865"/>
                    </a:lnTo>
                    <a:lnTo>
                      <a:pt x="1453" y="847"/>
                    </a:lnTo>
                    <a:lnTo>
                      <a:pt x="1453" y="847"/>
                    </a:lnTo>
                    <a:lnTo>
                      <a:pt x="1434" y="847"/>
                    </a:lnTo>
                    <a:lnTo>
                      <a:pt x="1434" y="829"/>
                    </a:lnTo>
                    <a:lnTo>
                      <a:pt x="1434" y="810"/>
                    </a:lnTo>
                    <a:lnTo>
                      <a:pt x="1434" y="792"/>
                    </a:lnTo>
                    <a:lnTo>
                      <a:pt x="2567" y="0"/>
                    </a:lnTo>
                    <a:lnTo>
                      <a:pt x="8079" y="0"/>
                    </a:lnTo>
                    <a:close/>
                    <a:moveTo>
                      <a:pt x="2510" y="0"/>
                    </a:moveTo>
                    <a:lnTo>
                      <a:pt x="246" y="1050"/>
                    </a:lnTo>
                    <a:lnTo>
                      <a:pt x="37" y="423"/>
                    </a:lnTo>
                    <a:lnTo>
                      <a:pt x="19" y="423"/>
                    </a:lnTo>
                    <a:lnTo>
                      <a:pt x="19" y="423"/>
                    </a:lnTo>
                    <a:lnTo>
                      <a:pt x="19" y="423"/>
                    </a:lnTo>
                    <a:lnTo>
                      <a:pt x="19" y="405"/>
                    </a:lnTo>
                    <a:lnTo>
                      <a:pt x="19" y="405"/>
                    </a:lnTo>
                    <a:lnTo>
                      <a:pt x="0" y="386"/>
                    </a:lnTo>
                    <a:lnTo>
                      <a:pt x="0" y="368"/>
                    </a:lnTo>
                    <a:lnTo>
                      <a:pt x="0" y="368"/>
                    </a:lnTo>
                    <a:lnTo>
                      <a:pt x="415" y="0"/>
                    </a:lnTo>
                    <a:lnTo>
                      <a:pt x="251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59" name="Freeform 87"/>
              <p:cNvSpPr/>
              <p:nvPr/>
            </p:nvSpPr>
            <p:spPr>
              <a:xfrm>
                <a:off x="1623240" y="4341600"/>
                <a:ext cx="1243080" cy="114120"/>
              </a:xfrm>
              <a:custGeom>
                <a:avLst/>
                <a:gdLst/>
                <a:ahLst/>
                <a:rect l="l" t="t" r="r" b="b"/>
                <a:pathLst>
                  <a:path w="6361" h="1327">
                    <a:moveTo>
                      <a:pt x="6361" y="0"/>
                    </a:moveTo>
                    <a:lnTo>
                      <a:pt x="6267" y="18"/>
                    </a:lnTo>
                    <a:lnTo>
                      <a:pt x="6172" y="37"/>
                    </a:lnTo>
                    <a:lnTo>
                      <a:pt x="6097" y="74"/>
                    </a:lnTo>
                    <a:lnTo>
                      <a:pt x="6003" y="92"/>
                    </a:lnTo>
                    <a:lnTo>
                      <a:pt x="5927" y="129"/>
                    </a:lnTo>
                    <a:lnTo>
                      <a:pt x="5832" y="147"/>
                    </a:lnTo>
                    <a:lnTo>
                      <a:pt x="5739" y="166"/>
                    </a:lnTo>
                    <a:lnTo>
                      <a:pt x="5663" y="203"/>
                    </a:lnTo>
                    <a:lnTo>
                      <a:pt x="5568" y="221"/>
                    </a:lnTo>
                    <a:lnTo>
                      <a:pt x="5493" y="258"/>
                    </a:lnTo>
                    <a:lnTo>
                      <a:pt x="5399" y="295"/>
                    </a:lnTo>
                    <a:lnTo>
                      <a:pt x="5304" y="314"/>
                    </a:lnTo>
                    <a:lnTo>
                      <a:pt x="5229" y="350"/>
                    </a:lnTo>
                    <a:lnTo>
                      <a:pt x="5134" y="368"/>
                    </a:lnTo>
                    <a:lnTo>
                      <a:pt x="5059" y="405"/>
                    </a:lnTo>
                    <a:lnTo>
                      <a:pt x="4965" y="442"/>
                    </a:lnTo>
                    <a:lnTo>
                      <a:pt x="4870" y="461"/>
                    </a:lnTo>
                    <a:lnTo>
                      <a:pt x="4794" y="498"/>
                    </a:lnTo>
                    <a:lnTo>
                      <a:pt x="4701" y="535"/>
                    </a:lnTo>
                    <a:lnTo>
                      <a:pt x="4606" y="571"/>
                    </a:lnTo>
                    <a:lnTo>
                      <a:pt x="4530" y="608"/>
                    </a:lnTo>
                    <a:lnTo>
                      <a:pt x="4436" y="645"/>
                    </a:lnTo>
                    <a:lnTo>
                      <a:pt x="4361" y="681"/>
                    </a:lnTo>
                    <a:lnTo>
                      <a:pt x="4266" y="718"/>
                    </a:lnTo>
                    <a:lnTo>
                      <a:pt x="4172" y="755"/>
                    </a:lnTo>
                    <a:lnTo>
                      <a:pt x="4096" y="792"/>
                    </a:lnTo>
                    <a:lnTo>
                      <a:pt x="4002" y="829"/>
                    </a:lnTo>
                    <a:lnTo>
                      <a:pt x="3908" y="866"/>
                    </a:lnTo>
                    <a:lnTo>
                      <a:pt x="3832" y="903"/>
                    </a:lnTo>
                    <a:lnTo>
                      <a:pt x="3737" y="958"/>
                    </a:lnTo>
                    <a:lnTo>
                      <a:pt x="3644" y="995"/>
                    </a:lnTo>
                    <a:lnTo>
                      <a:pt x="3568" y="1050"/>
                    </a:lnTo>
                    <a:lnTo>
                      <a:pt x="3530" y="1050"/>
                    </a:lnTo>
                    <a:lnTo>
                      <a:pt x="3492" y="1068"/>
                    </a:lnTo>
                    <a:lnTo>
                      <a:pt x="3473" y="1087"/>
                    </a:lnTo>
                    <a:lnTo>
                      <a:pt x="3435" y="1105"/>
                    </a:lnTo>
                    <a:lnTo>
                      <a:pt x="3397" y="1124"/>
                    </a:lnTo>
                    <a:lnTo>
                      <a:pt x="3379" y="1142"/>
                    </a:lnTo>
                    <a:lnTo>
                      <a:pt x="3341" y="1161"/>
                    </a:lnTo>
                    <a:lnTo>
                      <a:pt x="3323" y="1161"/>
                    </a:lnTo>
                    <a:lnTo>
                      <a:pt x="3285" y="1179"/>
                    </a:lnTo>
                    <a:lnTo>
                      <a:pt x="3266" y="1198"/>
                    </a:lnTo>
                    <a:lnTo>
                      <a:pt x="3228" y="1216"/>
                    </a:lnTo>
                    <a:lnTo>
                      <a:pt x="3209" y="1216"/>
                    </a:lnTo>
                    <a:lnTo>
                      <a:pt x="3171" y="1235"/>
                    </a:lnTo>
                    <a:lnTo>
                      <a:pt x="3133" y="1253"/>
                    </a:lnTo>
                    <a:lnTo>
                      <a:pt x="3115" y="1253"/>
                    </a:lnTo>
                    <a:lnTo>
                      <a:pt x="3077" y="1272"/>
                    </a:lnTo>
                    <a:lnTo>
                      <a:pt x="3058" y="1290"/>
                    </a:lnTo>
                    <a:lnTo>
                      <a:pt x="3020" y="1290"/>
                    </a:lnTo>
                    <a:lnTo>
                      <a:pt x="3001" y="1309"/>
                    </a:lnTo>
                    <a:lnTo>
                      <a:pt x="2964" y="1309"/>
                    </a:lnTo>
                    <a:lnTo>
                      <a:pt x="2945" y="1309"/>
                    </a:lnTo>
                    <a:lnTo>
                      <a:pt x="2907" y="1327"/>
                    </a:lnTo>
                    <a:lnTo>
                      <a:pt x="2888" y="1327"/>
                    </a:lnTo>
                    <a:lnTo>
                      <a:pt x="2851" y="1327"/>
                    </a:lnTo>
                    <a:lnTo>
                      <a:pt x="2832" y="1327"/>
                    </a:lnTo>
                    <a:lnTo>
                      <a:pt x="2794" y="1327"/>
                    </a:lnTo>
                    <a:lnTo>
                      <a:pt x="2775" y="1327"/>
                    </a:lnTo>
                    <a:lnTo>
                      <a:pt x="2737" y="1327"/>
                    </a:lnTo>
                    <a:lnTo>
                      <a:pt x="2699" y="1327"/>
                    </a:lnTo>
                    <a:lnTo>
                      <a:pt x="2680" y="1309"/>
                    </a:lnTo>
                    <a:lnTo>
                      <a:pt x="2642" y="1309"/>
                    </a:lnTo>
                    <a:lnTo>
                      <a:pt x="2605" y="1290"/>
                    </a:lnTo>
                    <a:lnTo>
                      <a:pt x="2454" y="737"/>
                    </a:lnTo>
                    <a:lnTo>
                      <a:pt x="2454" y="737"/>
                    </a:lnTo>
                    <a:lnTo>
                      <a:pt x="2435" y="718"/>
                    </a:lnTo>
                    <a:lnTo>
                      <a:pt x="2435" y="718"/>
                    </a:lnTo>
                    <a:lnTo>
                      <a:pt x="2435" y="700"/>
                    </a:lnTo>
                    <a:lnTo>
                      <a:pt x="2435" y="700"/>
                    </a:lnTo>
                    <a:lnTo>
                      <a:pt x="2416" y="681"/>
                    </a:lnTo>
                    <a:lnTo>
                      <a:pt x="2416" y="681"/>
                    </a:lnTo>
                    <a:lnTo>
                      <a:pt x="2397" y="664"/>
                    </a:lnTo>
                    <a:lnTo>
                      <a:pt x="3379" y="0"/>
                    </a:lnTo>
                    <a:lnTo>
                      <a:pt x="6361" y="0"/>
                    </a:lnTo>
                    <a:close/>
                    <a:moveTo>
                      <a:pt x="2926" y="0"/>
                    </a:moveTo>
                    <a:lnTo>
                      <a:pt x="2888" y="0"/>
                    </a:lnTo>
                    <a:lnTo>
                      <a:pt x="2869" y="18"/>
                    </a:lnTo>
                    <a:lnTo>
                      <a:pt x="2832" y="37"/>
                    </a:lnTo>
                    <a:lnTo>
                      <a:pt x="2813" y="55"/>
                    </a:lnTo>
                    <a:lnTo>
                      <a:pt x="2775" y="74"/>
                    </a:lnTo>
                    <a:lnTo>
                      <a:pt x="2756" y="74"/>
                    </a:lnTo>
                    <a:lnTo>
                      <a:pt x="2718" y="92"/>
                    </a:lnTo>
                    <a:lnTo>
                      <a:pt x="2699" y="111"/>
                    </a:lnTo>
                    <a:lnTo>
                      <a:pt x="2661" y="111"/>
                    </a:lnTo>
                    <a:lnTo>
                      <a:pt x="2642" y="129"/>
                    </a:lnTo>
                    <a:lnTo>
                      <a:pt x="2605" y="147"/>
                    </a:lnTo>
                    <a:lnTo>
                      <a:pt x="2568" y="147"/>
                    </a:lnTo>
                    <a:lnTo>
                      <a:pt x="2549" y="166"/>
                    </a:lnTo>
                    <a:lnTo>
                      <a:pt x="2511" y="166"/>
                    </a:lnTo>
                    <a:lnTo>
                      <a:pt x="2492" y="184"/>
                    </a:lnTo>
                    <a:lnTo>
                      <a:pt x="2473" y="184"/>
                    </a:lnTo>
                    <a:lnTo>
                      <a:pt x="2435" y="203"/>
                    </a:lnTo>
                    <a:lnTo>
                      <a:pt x="2416" y="221"/>
                    </a:lnTo>
                    <a:lnTo>
                      <a:pt x="2378" y="240"/>
                    </a:lnTo>
                    <a:lnTo>
                      <a:pt x="2359" y="277"/>
                    </a:lnTo>
                    <a:lnTo>
                      <a:pt x="2321" y="295"/>
                    </a:lnTo>
                    <a:lnTo>
                      <a:pt x="2303" y="314"/>
                    </a:lnTo>
                    <a:lnTo>
                      <a:pt x="2284" y="332"/>
                    </a:lnTo>
                    <a:lnTo>
                      <a:pt x="2247" y="350"/>
                    </a:lnTo>
                    <a:lnTo>
                      <a:pt x="2228" y="368"/>
                    </a:lnTo>
                    <a:lnTo>
                      <a:pt x="2190" y="387"/>
                    </a:lnTo>
                    <a:lnTo>
                      <a:pt x="2171" y="405"/>
                    </a:lnTo>
                    <a:lnTo>
                      <a:pt x="2133" y="424"/>
                    </a:lnTo>
                    <a:lnTo>
                      <a:pt x="2114" y="442"/>
                    </a:lnTo>
                    <a:lnTo>
                      <a:pt x="2076" y="461"/>
                    </a:lnTo>
                    <a:lnTo>
                      <a:pt x="2057" y="479"/>
                    </a:lnTo>
                    <a:lnTo>
                      <a:pt x="2039" y="498"/>
                    </a:lnTo>
                    <a:lnTo>
                      <a:pt x="2001" y="516"/>
                    </a:lnTo>
                    <a:lnTo>
                      <a:pt x="1982" y="535"/>
                    </a:lnTo>
                    <a:lnTo>
                      <a:pt x="1944" y="553"/>
                    </a:lnTo>
                    <a:lnTo>
                      <a:pt x="1926" y="571"/>
                    </a:lnTo>
                    <a:lnTo>
                      <a:pt x="1888" y="590"/>
                    </a:lnTo>
                    <a:lnTo>
                      <a:pt x="1869" y="608"/>
                    </a:lnTo>
                    <a:lnTo>
                      <a:pt x="1831" y="608"/>
                    </a:lnTo>
                    <a:lnTo>
                      <a:pt x="1812" y="627"/>
                    </a:lnTo>
                    <a:lnTo>
                      <a:pt x="1775" y="645"/>
                    </a:lnTo>
                    <a:lnTo>
                      <a:pt x="1737" y="664"/>
                    </a:lnTo>
                    <a:lnTo>
                      <a:pt x="1718" y="681"/>
                    </a:lnTo>
                    <a:lnTo>
                      <a:pt x="1680" y="681"/>
                    </a:lnTo>
                    <a:lnTo>
                      <a:pt x="1661" y="700"/>
                    </a:lnTo>
                    <a:lnTo>
                      <a:pt x="1623" y="718"/>
                    </a:lnTo>
                    <a:lnTo>
                      <a:pt x="1604" y="737"/>
                    </a:lnTo>
                    <a:lnTo>
                      <a:pt x="1567" y="737"/>
                    </a:lnTo>
                    <a:lnTo>
                      <a:pt x="1397" y="424"/>
                    </a:lnTo>
                    <a:lnTo>
                      <a:pt x="1397" y="405"/>
                    </a:lnTo>
                    <a:lnTo>
                      <a:pt x="1397" y="387"/>
                    </a:lnTo>
                    <a:lnTo>
                      <a:pt x="1397" y="368"/>
                    </a:lnTo>
                    <a:lnTo>
                      <a:pt x="1397" y="350"/>
                    </a:lnTo>
                    <a:lnTo>
                      <a:pt x="1378" y="332"/>
                    </a:lnTo>
                    <a:lnTo>
                      <a:pt x="1378" y="332"/>
                    </a:lnTo>
                    <a:lnTo>
                      <a:pt x="1359" y="314"/>
                    </a:lnTo>
                    <a:lnTo>
                      <a:pt x="1359" y="295"/>
                    </a:lnTo>
                    <a:lnTo>
                      <a:pt x="1359" y="295"/>
                    </a:lnTo>
                    <a:lnTo>
                      <a:pt x="1340" y="277"/>
                    </a:lnTo>
                    <a:lnTo>
                      <a:pt x="1340" y="258"/>
                    </a:lnTo>
                    <a:lnTo>
                      <a:pt x="1340" y="240"/>
                    </a:lnTo>
                    <a:lnTo>
                      <a:pt x="1321" y="221"/>
                    </a:lnTo>
                    <a:lnTo>
                      <a:pt x="1321" y="221"/>
                    </a:lnTo>
                    <a:lnTo>
                      <a:pt x="1340" y="203"/>
                    </a:lnTo>
                    <a:lnTo>
                      <a:pt x="1340" y="166"/>
                    </a:lnTo>
                    <a:lnTo>
                      <a:pt x="1340" y="166"/>
                    </a:lnTo>
                    <a:lnTo>
                      <a:pt x="1340" y="147"/>
                    </a:lnTo>
                    <a:lnTo>
                      <a:pt x="1321" y="129"/>
                    </a:lnTo>
                    <a:lnTo>
                      <a:pt x="1321" y="129"/>
                    </a:lnTo>
                    <a:lnTo>
                      <a:pt x="1302" y="129"/>
                    </a:lnTo>
                    <a:lnTo>
                      <a:pt x="1302" y="111"/>
                    </a:lnTo>
                    <a:lnTo>
                      <a:pt x="1302" y="92"/>
                    </a:lnTo>
                    <a:lnTo>
                      <a:pt x="1302" y="74"/>
                    </a:lnTo>
                    <a:lnTo>
                      <a:pt x="1397" y="0"/>
                    </a:lnTo>
                    <a:lnTo>
                      <a:pt x="2926" y="0"/>
                    </a:lnTo>
                    <a:close/>
                    <a:moveTo>
                      <a:pt x="831" y="0"/>
                    </a:moveTo>
                    <a:lnTo>
                      <a:pt x="114" y="332"/>
                    </a:lnTo>
                    <a:lnTo>
                      <a:pt x="0" y="0"/>
                    </a:lnTo>
                    <a:lnTo>
                      <a:pt x="83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60" name="Freeform 88"/>
              <p:cNvSpPr/>
              <p:nvPr/>
            </p:nvSpPr>
            <p:spPr>
              <a:xfrm>
                <a:off x="1923840" y="4401360"/>
                <a:ext cx="535320" cy="54360"/>
              </a:xfrm>
              <a:custGeom>
                <a:avLst/>
                <a:gdLst/>
                <a:ahLst/>
                <a:rect l="l" t="t" r="r" b="b"/>
                <a:pathLst>
                  <a:path w="2737" h="627">
                    <a:moveTo>
                      <a:pt x="2737" y="0"/>
                    </a:moveTo>
                    <a:lnTo>
                      <a:pt x="2718" y="18"/>
                    </a:lnTo>
                    <a:lnTo>
                      <a:pt x="2699" y="18"/>
                    </a:lnTo>
                    <a:lnTo>
                      <a:pt x="2661" y="37"/>
                    </a:lnTo>
                    <a:lnTo>
                      <a:pt x="2643" y="37"/>
                    </a:lnTo>
                    <a:lnTo>
                      <a:pt x="2624" y="55"/>
                    </a:lnTo>
                    <a:lnTo>
                      <a:pt x="2605" y="55"/>
                    </a:lnTo>
                    <a:lnTo>
                      <a:pt x="2586" y="74"/>
                    </a:lnTo>
                    <a:lnTo>
                      <a:pt x="2548" y="74"/>
                    </a:lnTo>
                    <a:lnTo>
                      <a:pt x="2529" y="92"/>
                    </a:lnTo>
                    <a:lnTo>
                      <a:pt x="2510" y="111"/>
                    </a:lnTo>
                    <a:lnTo>
                      <a:pt x="2492" y="111"/>
                    </a:lnTo>
                    <a:lnTo>
                      <a:pt x="2473" y="129"/>
                    </a:lnTo>
                    <a:lnTo>
                      <a:pt x="2435" y="129"/>
                    </a:lnTo>
                    <a:lnTo>
                      <a:pt x="2416" y="148"/>
                    </a:lnTo>
                    <a:lnTo>
                      <a:pt x="2397" y="148"/>
                    </a:lnTo>
                    <a:lnTo>
                      <a:pt x="2379" y="166"/>
                    </a:lnTo>
                    <a:lnTo>
                      <a:pt x="2360" y="185"/>
                    </a:lnTo>
                    <a:lnTo>
                      <a:pt x="2322" y="185"/>
                    </a:lnTo>
                    <a:lnTo>
                      <a:pt x="2303" y="203"/>
                    </a:lnTo>
                    <a:lnTo>
                      <a:pt x="2284" y="203"/>
                    </a:lnTo>
                    <a:lnTo>
                      <a:pt x="2265" y="222"/>
                    </a:lnTo>
                    <a:lnTo>
                      <a:pt x="2246" y="222"/>
                    </a:lnTo>
                    <a:lnTo>
                      <a:pt x="2227" y="240"/>
                    </a:lnTo>
                    <a:lnTo>
                      <a:pt x="2189" y="258"/>
                    </a:lnTo>
                    <a:lnTo>
                      <a:pt x="2170" y="258"/>
                    </a:lnTo>
                    <a:lnTo>
                      <a:pt x="2151" y="277"/>
                    </a:lnTo>
                    <a:lnTo>
                      <a:pt x="2133" y="277"/>
                    </a:lnTo>
                    <a:lnTo>
                      <a:pt x="2096" y="295"/>
                    </a:lnTo>
                    <a:lnTo>
                      <a:pt x="2077" y="314"/>
                    </a:lnTo>
                    <a:lnTo>
                      <a:pt x="2058" y="314"/>
                    </a:lnTo>
                    <a:lnTo>
                      <a:pt x="2039" y="331"/>
                    </a:lnTo>
                    <a:lnTo>
                      <a:pt x="2020" y="350"/>
                    </a:lnTo>
                    <a:lnTo>
                      <a:pt x="1982" y="350"/>
                    </a:lnTo>
                    <a:lnTo>
                      <a:pt x="1944" y="368"/>
                    </a:lnTo>
                    <a:lnTo>
                      <a:pt x="1925" y="387"/>
                    </a:lnTo>
                    <a:lnTo>
                      <a:pt x="1887" y="405"/>
                    </a:lnTo>
                    <a:lnTo>
                      <a:pt x="1849" y="424"/>
                    </a:lnTo>
                    <a:lnTo>
                      <a:pt x="1831" y="442"/>
                    </a:lnTo>
                    <a:lnTo>
                      <a:pt x="1793" y="461"/>
                    </a:lnTo>
                    <a:lnTo>
                      <a:pt x="1775" y="461"/>
                    </a:lnTo>
                    <a:lnTo>
                      <a:pt x="1737" y="479"/>
                    </a:lnTo>
                    <a:lnTo>
                      <a:pt x="1718" y="498"/>
                    </a:lnTo>
                    <a:lnTo>
                      <a:pt x="1680" y="516"/>
                    </a:lnTo>
                    <a:lnTo>
                      <a:pt x="1661" y="516"/>
                    </a:lnTo>
                    <a:lnTo>
                      <a:pt x="1623" y="535"/>
                    </a:lnTo>
                    <a:lnTo>
                      <a:pt x="1585" y="553"/>
                    </a:lnTo>
                    <a:lnTo>
                      <a:pt x="1567" y="553"/>
                    </a:lnTo>
                    <a:lnTo>
                      <a:pt x="1529" y="572"/>
                    </a:lnTo>
                    <a:lnTo>
                      <a:pt x="1510" y="590"/>
                    </a:lnTo>
                    <a:lnTo>
                      <a:pt x="1472" y="590"/>
                    </a:lnTo>
                    <a:lnTo>
                      <a:pt x="1453" y="609"/>
                    </a:lnTo>
                    <a:lnTo>
                      <a:pt x="1416" y="609"/>
                    </a:lnTo>
                    <a:lnTo>
                      <a:pt x="1397" y="609"/>
                    </a:lnTo>
                    <a:lnTo>
                      <a:pt x="1359" y="627"/>
                    </a:lnTo>
                    <a:lnTo>
                      <a:pt x="1340" y="627"/>
                    </a:lnTo>
                    <a:lnTo>
                      <a:pt x="1303" y="627"/>
                    </a:lnTo>
                    <a:lnTo>
                      <a:pt x="1284" y="627"/>
                    </a:lnTo>
                    <a:lnTo>
                      <a:pt x="1246" y="627"/>
                    </a:lnTo>
                    <a:lnTo>
                      <a:pt x="1227" y="627"/>
                    </a:lnTo>
                    <a:lnTo>
                      <a:pt x="1189" y="627"/>
                    </a:lnTo>
                    <a:lnTo>
                      <a:pt x="1151" y="627"/>
                    </a:lnTo>
                    <a:lnTo>
                      <a:pt x="1132" y="609"/>
                    </a:lnTo>
                    <a:lnTo>
                      <a:pt x="1094" y="609"/>
                    </a:lnTo>
                    <a:lnTo>
                      <a:pt x="1057" y="590"/>
                    </a:lnTo>
                    <a:lnTo>
                      <a:pt x="906" y="37"/>
                    </a:lnTo>
                    <a:lnTo>
                      <a:pt x="906" y="37"/>
                    </a:lnTo>
                    <a:lnTo>
                      <a:pt x="906" y="37"/>
                    </a:lnTo>
                    <a:lnTo>
                      <a:pt x="887" y="37"/>
                    </a:lnTo>
                    <a:lnTo>
                      <a:pt x="887" y="18"/>
                    </a:lnTo>
                    <a:lnTo>
                      <a:pt x="887" y="18"/>
                    </a:lnTo>
                    <a:lnTo>
                      <a:pt x="887" y="18"/>
                    </a:lnTo>
                    <a:lnTo>
                      <a:pt x="887" y="0"/>
                    </a:lnTo>
                    <a:lnTo>
                      <a:pt x="887" y="0"/>
                    </a:lnTo>
                    <a:lnTo>
                      <a:pt x="2737" y="0"/>
                    </a:lnTo>
                    <a:close/>
                    <a:moveTo>
                      <a:pt x="113" y="0"/>
                    </a:moveTo>
                    <a:lnTo>
                      <a:pt x="94" y="0"/>
                    </a:lnTo>
                    <a:lnTo>
                      <a:pt x="94" y="18"/>
                    </a:lnTo>
                    <a:lnTo>
                      <a:pt x="75" y="18"/>
                    </a:lnTo>
                    <a:lnTo>
                      <a:pt x="56" y="18"/>
                    </a:lnTo>
                    <a:lnTo>
                      <a:pt x="56" y="37"/>
                    </a:lnTo>
                    <a:lnTo>
                      <a:pt x="37" y="37"/>
                    </a:lnTo>
                    <a:lnTo>
                      <a:pt x="37" y="37"/>
                    </a:lnTo>
                    <a:lnTo>
                      <a:pt x="19" y="37"/>
                    </a:lnTo>
                    <a:lnTo>
                      <a:pt x="0" y="0"/>
                    </a:lnTo>
                    <a:lnTo>
                      <a:pt x="11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61" name="Freeform 89"/>
              <p:cNvSpPr/>
              <p:nvPr/>
            </p:nvSpPr>
            <p:spPr>
              <a:xfrm>
                <a:off x="2311200" y="398232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38" h="1">
                    <a:moveTo>
                      <a:pt x="0" y="0"/>
                    </a:move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38" y="0"/>
                    </a:lnTo>
                    <a:lnTo>
                      <a:pt x="19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62" name="Freeform 90"/>
              <p:cNvSpPr/>
              <p:nvPr/>
            </p:nvSpPr>
            <p:spPr>
              <a:xfrm>
                <a:off x="2306880" y="3982320"/>
                <a:ext cx="12240" cy="144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0"/>
                    </a:move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57" y="0"/>
                    </a:lnTo>
                    <a:lnTo>
                      <a:pt x="19" y="18"/>
                    </a:lnTo>
                    <a:lnTo>
                      <a:pt x="0" y="18"/>
                    </a:lnTo>
                    <a:lnTo>
                      <a:pt x="1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63" name="Freeform 91"/>
              <p:cNvSpPr/>
              <p:nvPr/>
            </p:nvSpPr>
            <p:spPr>
              <a:xfrm>
                <a:off x="2303280" y="3982320"/>
                <a:ext cx="11520" cy="144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18"/>
                    </a:moveTo>
                    <a:lnTo>
                      <a:pt x="57" y="0"/>
                    </a:lnTo>
                    <a:lnTo>
                      <a:pt x="38" y="0"/>
                    </a:lnTo>
                    <a:lnTo>
                      <a:pt x="0" y="18"/>
                    </a:lnTo>
                    <a:lnTo>
                      <a:pt x="19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64" name="Freeform 92"/>
              <p:cNvSpPr/>
              <p:nvPr/>
            </p:nvSpPr>
            <p:spPr>
              <a:xfrm>
                <a:off x="2303280" y="3984120"/>
                <a:ext cx="7920" cy="180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65" name="Freeform 93"/>
              <p:cNvSpPr/>
              <p:nvPr/>
            </p:nvSpPr>
            <p:spPr>
              <a:xfrm>
                <a:off x="2299680" y="3984120"/>
                <a:ext cx="6840" cy="180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66" name="Freeform 94"/>
              <p:cNvSpPr/>
              <p:nvPr/>
            </p:nvSpPr>
            <p:spPr>
              <a:xfrm>
                <a:off x="2295360" y="3986280"/>
                <a:ext cx="11520" cy="144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18"/>
                    </a:moveTo>
                    <a:lnTo>
                      <a:pt x="57" y="0"/>
                    </a:lnTo>
                    <a:lnTo>
                      <a:pt x="38" y="0"/>
                    </a:lnTo>
                    <a:lnTo>
                      <a:pt x="0" y="18"/>
                    </a:lnTo>
                    <a:lnTo>
                      <a:pt x="19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67" name="Freeform 95"/>
              <p:cNvSpPr/>
              <p:nvPr/>
            </p:nvSpPr>
            <p:spPr>
              <a:xfrm>
                <a:off x="2291760" y="3986280"/>
                <a:ext cx="11520" cy="144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18"/>
                    </a:moveTo>
                    <a:lnTo>
                      <a:pt x="57" y="0"/>
                    </a:lnTo>
                    <a:lnTo>
                      <a:pt x="38" y="0"/>
                    </a:lnTo>
                    <a:lnTo>
                      <a:pt x="0" y="18"/>
                    </a:lnTo>
                    <a:lnTo>
                      <a:pt x="19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68" name="Freeform 96"/>
              <p:cNvSpPr/>
              <p:nvPr/>
            </p:nvSpPr>
            <p:spPr>
              <a:xfrm>
                <a:off x="2291760" y="39877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69" name="Freeform 97"/>
              <p:cNvSpPr/>
              <p:nvPr/>
            </p:nvSpPr>
            <p:spPr>
              <a:xfrm>
                <a:off x="2283840" y="3989520"/>
                <a:ext cx="7920" cy="1800"/>
              </a:xfrm>
              <a:custGeom>
                <a:avLst/>
                <a:gdLst/>
                <a:ahLst/>
                <a:rect l="l" t="t" r="r" b="b"/>
                <a:pathLst>
                  <a:path w="56" h="18">
                    <a:moveTo>
                      <a:pt x="18" y="18"/>
                    </a:moveTo>
                    <a:lnTo>
                      <a:pt x="56" y="0"/>
                    </a:lnTo>
                    <a:lnTo>
                      <a:pt x="37" y="0"/>
                    </a:lnTo>
                    <a:lnTo>
                      <a:pt x="0" y="18"/>
                    </a:lnTo>
                    <a:lnTo>
                      <a:pt x="18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70" name="Freeform 98"/>
              <p:cNvSpPr/>
              <p:nvPr/>
            </p:nvSpPr>
            <p:spPr>
              <a:xfrm>
                <a:off x="2275920" y="3991680"/>
                <a:ext cx="7920" cy="504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38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71" name="Freeform 99"/>
              <p:cNvSpPr/>
              <p:nvPr/>
            </p:nvSpPr>
            <p:spPr>
              <a:xfrm>
                <a:off x="2264400" y="3993120"/>
                <a:ext cx="7920" cy="180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38" y="0"/>
                    </a:moveTo>
                    <a:lnTo>
                      <a:pt x="0" y="19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72" name="Freeform 100"/>
              <p:cNvSpPr/>
              <p:nvPr/>
            </p:nvSpPr>
            <p:spPr>
              <a:xfrm>
                <a:off x="2264400" y="39952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19" h="1">
                    <a:moveTo>
                      <a:pt x="19" y="0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</p:grpSp>
        <p:sp>
          <p:nvSpPr>
            <p:cNvPr id="373" name="Rectangle 140"/>
            <p:cNvSpPr/>
            <p:nvPr/>
          </p:nvSpPr>
          <p:spPr>
            <a:xfrm>
              <a:off x="804960" y="3296520"/>
              <a:ext cx="2243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f5494"/>
                  </a:solidFill>
                  <a:latin typeface="Verdana"/>
                </a:rPr>
                <a:t>  </a:t>
              </a:r>
              <a:r>
                <a:rPr b="1" lang="fr-FR" sz="2000" spc="-1" strike="noStrike">
                  <a:solidFill>
                    <a:srgbClr val="0f5494"/>
                  </a:solidFill>
                  <a:latin typeface="Verdana"/>
                </a:rPr>
                <a:t>Intérêts et accès aux ressources (rentes)</a:t>
              </a:r>
              <a:endParaRPr b="0" lang="en-US" sz="20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grpSp>
        <p:nvGrpSpPr>
          <p:cNvPr id="374" name="Group 215"/>
          <p:cNvGrpSpPr/>
          <p:nvPr/>
        </p:nvGrpSpPr>
        <p:grpSpPr>
          <a:xfrm>
            <a:off x="5508720" y="5119560"/>
            <a:ext cx="3297600" cy="1099800"/>
            <a:chOff x="5508720" y="5119560"/>
            <a:chExt cx="3297600" cy="1099800"/>
          </a:xfrm>
        </p:grpSpPr>
        <p:grpSp>
          <p:nvGrpSpPr>
            <p:cNvPr id="375" name="Group 141"/>
            <p:cNvGrpSpPr/>
            <p:nvPr/>
          </p:nvGrpSpPr>
          <p:grpSpPr>
            <a:xfrm>
              <a:off x="5508720" y="5119560"/>
              <a:ext cx="3297600" cy="1099800"/>
              <a:chOff x="5508720" y="5119560"/>
              <a:chExt cx="3297600" cy="1099800"/>
            </a:xfrm>
          </p:grpSpPr>
          <p:sp>
            <p:nvSpPr>
              <p:cNvPr id="376" name="Freeform 142"/>
              <p:cNvSpPr/>
              <p:nvPr/>
            </p:nvSpPr>
            <p:spPr>
              <a:xfrm>
                <a:off x="5915880" y="5119560"/>
                <a:ext cx="1756800" cy="111240"/>
              </a:xfrm>
              <a:custGeom>
                <a:avLst/>
                <a:gdLst/>
                <a:ahLst/>
                <a:rect l="l" t="t" r="r" b="b"/>
                <a:pathLst>
                  <a:path w="7154" h="1419">
                    <a:moveTo>
                      <a:pt x="3416" y="0"/>
                    </a:moveTo>
                    <a:lnTo>
                      <a:pt x="3435" y="0"/>
                    </a:lnTo>
                    <a:lnTo>
                      <a:pt x="3435" y="0"/>
                    </a:lnTo>
                    <a:lnTo>
                      <a:pt x="3454" y="0"/>
                    </a:lnTo>
                    <a:lnTo>
                      <a:pt x="3454" y="0"/>
                    </a:lnTo>
                    <a:lnTo>
                      <a:pt x="3473" y="0"/>
                    </a:lnTo>
                    <a:lnTo>
                      <a:pt x="3473" y="0"/>
                    </a:lnTo>
                    <a:lnTo>
                      <a:pt x="3473" y="18"/>
                    </a:lnTo>
                    <a:lnTo>
                      <a:pt x="3492" y="18"/>
                    </a:lnTo>
                    <a:lnTo>
                      <a:pt x="3661" y="719"/>
                    </a:lnTo>
                    <a:lnTo>
                      <a:pt x="4794" y="387"/>
                    </a:lnTo>
                    <a:lnTo>
                      <a:pt x="4889" y="1180"/>
                    </a:lnTo>
                    <a:lnTo>
                      <a:pt x="4549" y="1419"/>
                    </a:lnTo>
                    <a:lnTo>
                      <a:pt x="0" y="1419"/>
                    </a:lnTo>
                    <a:lnTo>
                      <a:pt x="19" y="1382"/>
                    </a:lnTo>
                    <a:lnTo>
                      <a:pt x="57" y="1346"/>
                    </a:lnTo>
                    <a:lnTo>
                      <a:pt x="76" y="1327"/>
                    </a:lnTo>
                    <a:lnTo>
                      <a:pt x="94" y="1309"/>
                    </a:lnTo>
                    <a:lnTo>
                      <a:pt x="131" y="1272"/>
                    </a:lnTo>
                    <a:lnTo>
                      <a:pt x="150" y="1253"/>
                    </a:lnTo>
                    <a:lnTo>
                      <a:pt x="188" y="1216"/>
                    </a:lnTo>
                    <a:lnTo>
                      <a:pt x="207" y="1198"/>
                    </a:lnTo>
                    <a:lnTo>
                      <a:pt x="245" y="1180"/>
                    </a:lnTo>
                    <a:lnTo>
                      <a:pt x="264" y="1143"/>
                    </a:lnTo>
                    <a:lnTo>
                      <a:pt x="302" y="1124"/>
                    </a:lnTo>
                    <a:lnTo>
                      <a:pt x="321" y="1106"/>
                    </a:lnTo>
                    <a:lnTo>
                      <a:pt x="358" y="1087"/>
                    </a:lnTo>
                    <a:lnTo>
                      <a:pt x="396" y="1069"/>
                    </a:lnTo>
                    <a:lnTo>
                      <a:pt x="415" y="1050"/>
                    </a:lnTo>
                    <a:lnTo>
                      <a:pt x="453" y="1014"/>
                    </a:lnTo>
                    <a:lnTo>
                      <a:pt x="453" y="1033"/>
                    </a:lnTo>
                    <a:lnTo>
                      <a:pt x="471" y="1050"/>
                    </a:lnTo>
                    <a:lnTo>
                      <a:pt x="471" y="1050"/>
                    </a:lnTo>
                    <a:lnTo>
                      <a:pt x="490" y="1069"/>
                    </a:lnTo>
                    <a:lnTo>
                      <a:pt x="490" y="1069"/>
                    </a:lnTo>
                    <a:lnTo>
                      <a:pt x="509" y="1087"/>
                    </a:lnTo>
                    <a:lnTo>
                      <a:pt x="509" y="1106"/>
                    </a:lnTo>
                    <a:lnTo>
                      <a:pt x="509" y="1124"/>
                    </a:lnTo>
                    <a:lnTo>
                      <a:pt x="528" y="1143"/>
                    </a:lnTo>
                    <a:lnTo>
                      <a:pt x="528" y="1143"/>
                    </a:lnTo>
                    <a:lnTo>
                      <a:pt x="528" y="1161"/>
                    </a:lnTo>
                    <a:lnTo>
                      <a:pt x="547" y="1180"/>
                    </a:lnTo>
                    <a:lnTo>
                      <a:pt x="547" y="1198"/>
                    </a:lnTo>
                    <a:lnTo>
                      <a:pt x="547" y="1216"/>
                    </a:lnTo>
                    <a:lnTo>
                      <a:pt x="566" y="1216"/>
                    </a:lnTo>
                    <a:lnTo>
                      <a:pt x="566" y="1235"/>
                    </a:lnTo>
                    <a:lnTo>
                      <a:pt x="566" y="1253"/>
                    </a:lnTo>
                    <a:lnTo>
                      <a:pt x="566" y="1272"/>
                    </a:lnTo>
                    <a:lnTo>
                      <a:pt x="566" y="1272"/>
                    </a:lnTo>
                    <a:lnTo>
                      <a:pt x="566" y="1290"/>
                    </a:lnTo>
                    <a:lnTo>
                      <a:pt x="566" y="1309"/>
                    </a:lnTo>
                    <a:lnTo>
                      <a:pt x="566" y="1327"/>
                    </a:lnTo>
                    <a:lnTo>
                      <a:pt x="585" y="1346"/>
                    </a:lnTo>
                    <a:lnTo>
                      <a:pt x="585" y="1364"/>
                    </a:lnTo>
                    <a:lnTo>
                      <a:pt x="3416" y="0"/>
                    </a:lnTo>
                    <a:close/>
                    <a:moveTo>
                      <a:pt x="5115" y="1419"/>
                    </a:moveTo>
                    <a:lnTo>
                      <a:pt x="5134" y="1400"/>
                    </a:lnTo>
                    <a:lnTo>
                      <a:pt x="5172" y="1382"/>
                    </a:lnTo>
                    <a:lnTo>
                      <a:pt x="5209" y="1364"/>
                    </a:lnTo>
                    <a:lnTo>
                      <a:pt x="5247" y="1364"/>
                    </a:lnTo>
                    <a:lnTo>
                      <a:pt x="5266" y="1346"/>
                    </a:lnTo>
                    <a:lnTo>
                      <a:pt x="5304" y="1327"/>
                    </a:lnTo>
                    <a:lnTo>
                      <a:pt x="5342" y="1309"/>
                    </a:lnTo>
                    <a:lnTo>
                      <a:pt x="5361" y="1309"/>
                    </a:lnTo>
                    <a:lnTo>
                      <a:pt x="5399" y="1290"/>
                    </a:lnTo>
                    <a:lnTo>
                      <a:pt x="5436" y="1272"/>
                    </a:lnTo>
                    <a:lnTo>
                      <a:pt x="5473" y="1272"/>
                    </a:lnTo>
                    <a:lnTo>
                      <a:pt x="5492" y="1253"/>
                    </a:lnTo>
                    <a:lnTo>
                      <a:pt x="5530" y="1235"/>
                    </a:lnTo>
                    <a:lnTo>
                      <a:pt x="5568" y="1216"/>
                    </a:lnTo>
                    <a:lnTo>
                      <a:pt x="5587" y="1216"/>
                    </a:lnTo>
                    <a:lnTo>
                      <a:pt x="5625" y="1198"/>
                    </a:lnTo>
                    <a:lnTo>
                      <a:pt x="5663" y="1198"/>
                    </a:lnTo>
                    <a:lnTo>
                      <a:pt x="5701" y="1180"/>
                    </a:lnTo>
                    <a:lnTo>
                      <a:pt x="5720" y="1161"/>
                    </a:lnTo>
                    <a:lnTo>
                      <a:pt x="5757" y="1161"/>
                    </a:lnTo>
                    <a:lnTo>
                      <a:pt x="5794" y="1143"/>
                    </a:lnTo>
                    <a:lnTo>
                      <a:pt x="5813" y="1143"/>
                    </a:lnTo>
                    <a:lnTo>
                      <a:pt x="5851" y="1124"/>
                    </a:lnTo>
                    <a:lnTo>
                      <a:pt x="5889" y="1106"/>
                    </a:lnTo>
                    <a:lnTo>
                      <a:pt x="5908" y="1106"/>
                    </a:lnTo>
                    <a:lnTo>
                      <a:pt x="5946" y="1087"/>
                    </a:lnTo>
                    <a:lnTo>
                      <a:pt x="5984" y="1087"/>
                    </a:lnTo>
                    <a:lnTo>
                      <a:pt x="6002" y="1069"/>
                    </a:lnTo>
                    <a:lnTo>
                      <a:pt x="6040" y="1069"/>
                    </a:lnTo>
                    <a:lnTo>
                      <a:pt x="6078" y="1069"/>
                    </a:lnTo>
                    <a:lnTo>
                      <a:pt x="6097" y="1050"/>
                    </a:lnTo>
                    <a:lnTo>
                      <a:pt x="6134" y="1050"/>
                    </a:lnTo>
                    <a:lnTo>
                      <a:pt x="6172" y="1033"/>
                    </a:lnTo>
                    <a:lnTo>
                      <a:pt x="6210" y="1033"/>
                    </a:lnTo>
                    <a:lnTo>
                      <a:pt x="6229" y="1014"/>
                    </a:lnTo>
                    <a:lnTo>
                      <a:pt x="6266" y="1014"/>
                    </a:lnTo>
                    <a:lnTo>
                      <a:pt x="6304" y="996"/>
                    </a:lnTo>
                    <a:lnTo>
                      <a:pt x="6323" y="996"/>
                    </a:lnTo>
                    <a:lnTo>
                      <a:pt x="6361" y="996"/>
                    </a:lnTo>
                    <a:lnTo>
                      <a:pt x="6399" y="977"/>
                    </a:lnTo>
                    <a:lnTo>
                      <a:pt x="6418" y="977"/>
                    </a:lnTo>
                    <a:lnTo>
                      <a:pt x="6456" y="959"/>
                    </a:lnTo>
                    <a:lnTo>
                      <a:pt x="6493" y="959"/>
                    </a:lnTo>
                    <a:lnTo>
                      <a:pt x="6512" y="940"/>
                    </a:lnTo>
                    <a:lnTo>
                      <a:pt x="6549" y="940"/>
                    </a:lnTo>
                    <a:lnTo>
                      <a:pt x="6587" y="922"/>
                    </a:lnTo>
                    <a:lnTo>
                      <a:pt x="6606" y="922"/>
                    </a:lnTo>
                    <a:lnTo>
                      <a:pt x="6644" y="903"/>
                    </a:lnTo>
                    <a:lnTo>
                      <a:pt x="6663" y="903"/>
                    </a:lnTo>
                    <a:lnTo>
                      <a:pt x="6701" y="885"/>
                    </a:lnTo>
                    <a:lnTo>
                      <a:pt x="6739" y="885"/>
                    </a:lnTo>
                    <a:lnTo>
                      <a:pt x="6758" y="866"/>
                    </a:lnTo>
                    <a:lnTo>
                      <a:pt x="6796" y="866"/>
                    </a:lnTo>
                    <a:lnTo>
                      <a:pt x="6814" y="866"/>
                    </a:lnTo>
                    <a:lnTo>
                      <a:pt x="6851" y="848"/>
                    </a:lnTo>
                    <a:lnTo>
                      <a:pt x="6889" y="848"/>
                    </a:lnTo>
                    <a:lnTo>
                      <a:pt x="6908" y="829"/>
                    </a:lnTo>
                    <a:lnTo>
                      <a:pt x="6946" y="829"/>
                    </a:lnTo>
                    <a:lnTo>
                      <a:pt x="6965" y="811"/>
                    </a:lnTo>
                    <a:lnTo>
                      <a:pt x="7003" y="811"/>
                    </a:lnTo>
                    <a:lnTo>
                      <a:pt x="7022" y="811"/>
                    </a:lnTo>
                    <a:lnTo>
                      <a:pt x="7060" y="792"/>
                    </a:lnTo>
                    <a:lnTo>
                      <a:pt x="7078" y="792"/>
                    </a:lnTo>
                    <a:lnTo>
                      <a:pt x="7116" y="792"/>
                    </a:lnTo>
                    <a:lnTo>
                      <a:pt x="7154" y="1419"/>
                    </a:lnTo>
                    <a:lnTo>
                      <a:pt x="5115" y="14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77" name="Freeform 143"/>
              <p:cNvSpPr/>
              <p:nvPr/>
            </p:nvSpPr>
            <p:spPr>
              <a:xfrm>
                <a:off x="5779080" y="5173560"/>
                <a:ext cx="2580120" cy="110880"/>
              </a:xfrm>
              <a:custGeom>
                <a:avLst/>
                <a:gdLst/>
                <a:ahLst/>
                <a:rect l="l" t="t" r="r" b="b"/>
                <a:pathLst>
                  <a:path w="10534" h="1419">
                    <a:moveTo>
                      <a:pt x="4228" y="0"/>
                    </a:moveTo>
                    <a:lnTo>
                      <a:pt x="4228" y="19"/>
                    </a:lnTo>
                    <a:lnTo>
                      <a:pt x="4304" y="0"/>
                    </a:lnTo>
                    <a:lnTo>
                      <a:pt x="5399" y="0"/>
                    </a:lnTo>
                    <a:lnTo>
                      <a:pt x="5456" y="480"/>
                    </a:lnTo>
                    <a:lnTo>
                      <a:pt x="4153" y="1346"/>
                    </a:lnTo>
                    <a:lnTo>
                      <a:pt x="4228" y="1327"/>
                    </a:lnTo>
                    <a:lnTo>
                      <a:pt x="4304" y="1290"/>
                    </a:lnTo>
                    <a:lnTo>
                      <a:pt x="4380" y="1272"/>
                    </a:lnTo>
                    <a:lnTo>
                      <a:pt x="4455" y="1235"/>
                    </a:lnTo>
                    <a:lnTo>
                      <a:pt x="4531" y="1198"/>
                    </a:lnTo>
                    <a:lnTo>
                      <a:pt x="4606" y="1180"/>
                    </a:lnTo>
                    <a:lnTo>
                      <a:pt x="4681" y="1143"/>
                    </a:lnTo>
                    <a:lnTo>
                      <a:pt x="4776" y="1106"/>
                    </a:lnTo>
                    <a:lnTo>
                      <a:pt x="4852" y="1069"/>
                    </a:lnTo>
                    <a:lnTo>
                      <a:pt x="4927" y="1032"/>
                    </a:lnTo>
                    <a:lnTo>
                      <a:pt x="5002" y="1014"/>
                    </a:lnTo>
                    <a:lnTo>
                      <a:pt x="5097" y="977"/>
                    </a:lnTo>
                    <a:lnTo>
                      <a:pt x="5173" y="940"/>
                    </a:lnTo>
                    <a:lnTo>
                      <a:pt x="5248" y="903"/>
                    </a:lnTo>
                    <a:lnTo>
                      <a:pt x="5342" y="867"/>
                    </a:lnTo>
                    <a:lnTo>
                      <a:pt x="5418" y="830"/>
                    </a:lnTo>
                    <a:lnTo>
                      <a:pt x="5493" y="793"/>
                    </a:lnTo>
                    <a:lnTo>
                      <a:pt x="5569" y="756"/>
                    </a:lnTo>
                    <a:lnTo>
                      <a:pt x="5663" y="719"/>
                    </a:lnTo>
                    <a:lnTo>
                      <a:pt x="5739" y="682"/>
                    </a:lnTo>
                    <a:lnTo>
                      <a:pt x="5814" y="646"/>
                    </a:lnTo>
                    <a:lnTo>
                      <a:pt x="5909" y="609"/>
                    </a:lnTo>
                    <a:lnTo>
                      <a:pt x="5984" y="590"/>
                    </a:lnTo>
                    <a:lnTo>
                      <a:pt x="6059" y="553"/>
                    </a:lnTo>
                    <a:lnTo>
                      <a:pt x="6154" y="516"/>
                    </a:lnTo>
                    <a:lnTo>
                      <a:pt x="6230" y="498"/>
                    </a:lnTo>
                    <a:lnTo>
                      <a:pt x="6305" y="461"/>
                    </a:lnTo>
                    <a:lnTo>
                      <a:pt x="6380" y="443"/>
                    </a:lnTo>
                    <a:lnTo>
                      <a:pt x="6475" y="406"/>
                    </a:lnTo>
                    <a:lnTo>
                      <a:pt x="6551" y="387"/>
                    </a:lnTo>
                    <a:lnTo>
                      <a:pt x="6626" y="369"/>
                    </a:lnTo>
                    <a:lnTo>
                      <a:pt x="6701" y="350"/>
                    </a:lnTo>
                    <a:lnTo>
                      <a:pt x="6739" y="333"/>
                    </a:lnTo>
                    <a:lnTo>
                      <a:pt x="6777" y="333"/>
                    </a:lnTo>
                    <a:lnTo>
                      <a:pt x="6796" y="314"/>
                    </a:lnTo>
                    <a:lnTo>
                      <a:pt x="6833" y="314"/>
                    </a:lnTo>
                    <a:lnTo>
                      <a:pt x="6871" y="296"/>
                    </a:lnTo>
                    <a:lnTo>
                      <a:pt x="6890" y="296"/>
                    </a:lnTo>
                    <a:lnTo>
                      <a:pt x="6928" y="296"/>
                    </a:lnTo>
                    <a:lnTo>
                      <a:pt x="6966" y="277"/>
                    </a:lnTo>
                    <a:lnTo>
                      <a:pt x="6985" y="277"/>
                    </a:lnTo>
                    <a:lnTo>
                      <a:pt x="7023" y="259"/>
                    </a:lnTo>
                    <a:lnTo>
                      <a:pt x="7060" y="259"/>
                    </a:lnTo>
                    <a:lnTo>
                      <a:pt x="7079" y="240"/>
                    </a:lnTo>
                    <a:lnTo>
                      <a:pt x="7116" y="240"/>
                    </a:lnTo>
                    <a:lnTo>
                      <a:pt x="7154" y="222"/>
                    </a:lnTo>
                    <a:lnTo>
                      <a:pt x="7173" y="222"/>
                    </a:lnTo>
                    <a:lnTo>
                      <a:pt x="7211" y="203"/>
                    </a:lnTo>
                    <a:lnTo>
                      <a:pt x="7230" y="203"/>
                    </a:lnTo>
                    <a:lnTo>
                      <a:pt x="7268" y="185"/>
                    </a:lnTo>
                    <a:lnTo>
                      <a:pt x="7306" y="185"/>
                    </a:lnTo>
                    <a:lnTo>
                      <a:pt x="7325" y="166"/>
                    </a:lnTo>
                    <a:lnTo>
                      <a:pt x="7363" y="166"/>
                    </a:lnTo>
                    <a:lnTo>
                      <a:pt x="7381" y="166"/>
                    </a:lnTo>
                    <a:lnTo>
                      <a:pt x="7418" y="148"/>
                    </a:lnTo>
                    <a:lnTo>
                      <a:pt x="7456" y="148"/>
                    </a:lnTo>
                    <a:lnTo>
                      <a:pt x="7475" y="129"/>
                    </a:lnTo>
                    <a:lnTo>
                      <a:pt x="7513" y="129"/>
                    </a:lnTo>
                    <a:lnTo>
                      <a:pt x="7532" y="111"/>
                    </a:lnTo>
                    <a:lnTo>
                      <a:pt x="7570" y="111"/>
                    </a:lnTo>
                    <a:lnTo>
                      <a:pt x="7589" y="111"/>
                    </a:lnTo>
                    <a:lnTo>
                      <a:pt x="7627" y="92"/>
                    </a:lnTo>
                    <a:lnTo>
                      <a:pt x="7645" y="92"/>
                    </a:lnTo>
                    <a:lnTo>
                      <a:pt x="7683" y="92"/>
                    </a:lnTo>
                    <a:lnTo>
                      <a:pt x="7740" y="885"/>
                    </a:lnTo>
                    <a:lnTo>
                      <a:pt x="6607" y="1419"/>
                    </a:lnTo>
                    <a:lnTo>
                      <a:pt x="0" y="1419"/>
                    </a:lnTo>
                    <a:lnTo>
                      <a:pt x="38" y="1382"/>
                    </a:lnTo>
                    <a:lnTo>
                      <a:pt x="57" y="1346"/>
                    </a:lnTo>
                    <a:lnTo>
                      <a:pt x="95" y="1309"/>
                    </a:lnTo>
                    <a:lnTo>
                      <a:pt x="113" y="1272"/>
                    </a:lnTo>
                    <a:lnTo>
                      <a:pt x="151" y="1235"/>
                    </a:lnTo>
                    <a:lnTo>
                      <a:pt x="170" y="1198"/>
                    </a:lnTo>
                    <a:lnTo>
                      <a:pt x="208" y="1161"/>
                    </a:lnTo>
                    <a:lnTo>
                      <a:pt x="246" y="1124"/>
                    </a:lnTo>
                    <a:lnTo>
                      <a:pt x="265" y="1087"/>
                    </a:lnTo>
                    <a:lnTo>
                      <a:pt x="303" y="1050"/>
                    </a:lnTo>
                    <a:lnTo>
                      <a:pt x="321" y="1014"/>
                    </a:lnTo>
                    <a:lnTo>
                      <a:pt x="359" y="977"/>
                    </a:lnTo>
                    <a:lnTo>
                      <a:pt x="377" y="940"/>
                    </a:lnTo>
                    <a:lnTo>
                      <a:pt x="415" y="885"/>
                    </a:lnTo>
                    <a:lnTo>
                      <a:pt x="434" y="848"/>
                    </a:lnTo>
                    <a:lnTo>
                      <a:pt x="472" y="811"/>
                    </a:lnTo>
                    <a:lnTo>
                      <a:pt x="510" y="774"/>
                    </a:lnTo>
                    <a:lnTo>
                      <a:pt x="529" y="756"/>
                    </a:lnTo>
                    <a:lnTo>
                      <a:pt x="567" y="719"/>
                    </a:lnTo>
                    <a:lnTo>
                      <a:pt x="605" y="682"/>
                    </a:lnTo>
                    <a:lnTo>
                      <a:pt x="624" y="646"/>
                    </a:lnTo>
                    <a:lnTo>
                      <a:pt x="661" y="609"/>
                    </a:lnTo>
                    <a:lnTo>
                      <a:pt x="698" y="572"/>
                    </a:lnTo>
                    <a:lnTo>
                      <a:pt x="736" y="553"/>
                    </a:lnTo>
                    <a:lnTo>
                      <a:pt x="755" y="516"/>
                    </a:lnTo>
                    <a:lnTo>
                      <a:pt x="793" y="480"/>
                    </a:lnTo>
                    <a:lnTo>
                      <a:pt x="831" y="461"/>
                    </a:lnTo>
                    <a:lnTo>
                      <a:pt x="869" y="424"/>
                    </a:lnTo>
                    <a:lnTo>
                      <a:pt x="907" y="406"/>
                    </a:lnTo>
                    <a:lnTo>
                      <a:pt x="944" y="369"/>
                    </a:lnTo>
                    <a:lnTo>
                      <a:pt x="982" y="350"/>
                    </a:lnTo>
                    <a:lnTo>
                      <a:pt x="1020" y="314"/>
                    </a:lnTo>
                    <a:lnTo>
                      <a:pt x="1020" y="333"/>
                    </a:lnTo>
                    <a:lnTo>
                      <a:pt x="1038" y="350"/>
                    </a:lnTo>
                    <a:lnTo>
                      <a:pt x="1038" y="350"/>
                    </a:lnTo>
                    <a:lnTo>
                      <a:pt x="1057" y="369"/>
                    </a:lnTo>
                    <a:lnTo>
                      <a:pt x="1057" y="369"/>
                    </a:lnTo>
                    <a:lnTo>
                      <a:pt x="1076" y="387"/>
                    </a:lnTo>
                    <a:lnTo>
                      <a:pt x="1076" y="406"/>
                    </a:lnTo>
                    <a:lnTo>
                      <a:pt x="1076" y="424"/>
                    </a:lnTo>
                    <a:lnTo>
                      <a:pt x="1095" y="443"/>
                    </a:lnTo>
                    <a:lnTo>
                      <a:pt x="1095" y="443"/>
                    </a:lnTo>
                    <a:lnTo>
                      <a:pt x="1095" y="461"/>
                    </a:lnTo>
                    <a:lnTo>
                      <a:pt x="1114" y="480"/>
                    </a:lnTo>
                    <a:lnTo>
                      <a:pt x="1114" y="498"/>
                    </a:lnTo>
                    <a:lnTo>
                      <a:pt x="1114" y="516"/>
                    </a:lnTo>
                    <a:lnTo>
                      <a:pt x="1133" y="516"/>
                    </a:lnTo>
                    <a:lnTo>
                      <a:pt x="1133" y="535"/>
                    </a:lnTo>
                    <a:lnTo>
                      <a:pt x="1133" y="553"/>
                    </a:lnTo>
                    <a:lnTo>
                      <a:pt x="1133" y="572"/>
                    </a:lnTo>
                    <a:lnTo>
                      <a:pt x="1133" y="572"/>
                    </a:lnTo>
                    <a:lnTo>
                      <a:pt x="1133" y="590"/>
                    </a:lnTo>
                    <a:lnTo>
                      <a:pt x="1133" y="609"/>
                    </a:lnTo>
                    <a:lnTo>
                      <a:pt x="1133" y="627"/>
                    </a:lnTo>
                    <a:lnTo>
                      <a:pt x="1152" y="646"/>
                    </a:lnTo>
                    <a:lnTo>
                      <a:pt x="1152" y="664"/>
                    </a:lnTo>
                    <a:lnTo>
                      <a:pt x="2529" y="0"/>
                    </a:lnTo>
                    <a:lnTo>
                      <a:pt x="4228" y="0"/>
                    </a:lnTo>
                    <a:close/>
                    <a:moveTo>
                      <a:pt x="7268" y="1419"/>
                    </a:moveTo>
                    <a:lnTo>
                      <a:pt x="7325" y="1400"/>
                    </a:lnTo>
                    <a:lnTo>
                      <a:pt x="7381" y="1382"/>
                    </a:lnTo>
                    <a:lnTo>
                      <a:pt x="7437" y="1364"/>
                    </a:lnTo>
                    <a:lnTo>
                      <a:pt x="7494" y="1346"/>
                    </a:lnTo>
                    <a:lnTo>
                      <a:pt x="7551" y="1327"/>
                    </a:lnTo>
                    <a:lnTo>
                      <a:pt x="7589" y="1309"/>
                    </a:lnTo>
                    <a:lnTo>
                      <a:pt x="7645" y="1309"/>
                    </a:lnTo>
                    <a:lnTo>
                      <a:pt x="7702" y="1290"/>
                    </a:lnTo>
                    <a:lnTo>
                      <a:pt x="7758" y="1272"/>
                    </a:lnTo>
                    <a:lnTo>
                      <a:pt x="7815" y="1254"/>
                    </a:lnTo>
                    <a:lnTo>
                      <a:pt x="7872" y="1235"/>
                    </a:lnTo>
                    <a:lnTo>
                      <a:pt x="7928" y="1217"/>
                    </a:lnTo>
                    <a:lnTo>
                      <a:pt x="7985" y="1198"/>
                    </a:lnTo>
                    <a:lnTo>
                      <a:pt x="8042" y="1198"/>
                    </a:lnTo>
                    <a:lnTo>
                      <a:pt x="8099" y="1180"/>
                    </a:lnTo>
                    <a:lnTo>
                      <a:pt x="8155" y="1161"/>
                    </a:lnTo>
                    <a:lnTo>
                      <a:pt x="8211" y="1143"/>
                    </a:lnTo>
                    <a:lnTo>
                      <a:pt x="8268" y="1143"/>
                    </a:lnTo>
                    <a:lnTo>
                      <a:pt x="8325" y="1124"/>
                    </a:lnTo>
                    <a:lnTo>
                      <a:pt x="8363" y="1106"/>
                    </a:lnTo>
                    <a:lnTo>
                      <a:pt x="8420" y="1106"/>
                    </a:lnTo>
                    <a:lnTo>
                      <a:pt x="8475" y="1087"/>
                    </a:lnTo>
                    <a:lnTo>
                      <a:pt x="8532" y="1087"/>
                    </a:lnTo>
                    <a:lnTo>
                      <a:pt x="8589" y="1069"/>
                    </a:lnTo>
                    <a:lnTo>
                      <a:pt x="8646" y="1050"/>
                    </a:lnTo>
                    <a:lnTo>
                      <a:pt x="8703" y="1050"/>
                    </a:lnTo>
                    <a:lnTo>
                      <a:pt x="8759" y="1032"/>
                    </a:lnTo>
                    <a:lnTo>
                      <a:pt x="8815" y="1032"/>
                    </a:lnTo>
                    <a:lnTo>
                      <a:pt x="8872" y="1032"/>
                    </a:lnTo>
                    <a:lnTo>
                      <a:pt x="8929" y="1014"/>
                    </a:lnTo>
                    <a:lnTo>
                      <a:pt x="8985" y="1014"/>
                    </a:lnTo>
                    <a:lnTo>
                      <a:pt x="9023" y="1014"/>
                    </a:lnTo>
                    <a:lnTo>
                      <a:pt x="9042" y="1032"/>
                    </a:lnTo>
                    <a:lnTo>
                      <a:pt x="9042" y="1050"/>
                    </a:lnTo>
                    <a:lnTo>
                      <a:pt x="9061" y="1069"/>
                    </a:lnTo>
                    <a:lnTo>
                      <a:pt x="9061" y="1106"/>
                    </a:lnTo>
                    <a:lnTo>
                      <a:pt x="9061" y="1124"/>
                    </a:lnTo>
                    <a:lnTo>
                      <a:pt x="9061" y="1143"/>
                    </a:lnTo>
                    <a:lnTo>
                      <a:pt x="9080" y="1180"/>
                    </a:lnTo>
                    <a:lnTo>
                      <a:pt x="9080" y="1198"/>
                    </a:lnTo>
                    <a:lnTo>
                      <a:pt x="9080" y="1235"/>
                    </a:lnTo>
                    <a:lnTo>
                      <a:pt x="9080" y="1254"/>
                    </a:lnTo>
                    <a:lnTo>
                      <a:pt x="9061" y="1290"/>
                    </a:lnTo>
                    <a:lnTo>
                      <a:pt x="9061" y="1309"/>
                    </a:lnTo>
                    <a:lnTo>
                      <a:pt x="9061" y="1346"/>
                    </a:lnTo>
                    <a:lnTo>
                      <a:pt x="9061" y="1364"/>
                    </a:lnTo>
                    <a:lnTo>
                      <a:pt x="9061" y="1400"/>
                    </a:lnTo>
                    <a:lnTo>
                      <a:pt x="9061" y="1419"/>
                    </a:lnTo>
                    <a:lnTo>
                      <a:pt x="7268" y="1419"/>
                    </a:lnTo>
                    <a:close/>
                    <a:moveTo>
                      <a:pt x="9665" y="1419"/>
                    </a:moveTo>
                    <a:lnTo>
                      <a:pt x="10477" y="1309"/>
                    </a:lnTo>
                    <a:lnTo>
                      <a:pt x="10496" y="1309"/>
                    </a:lnTo>
                    <a:lnTo>
                      <a:pt x="10515" y="1327"/>
                    </a:lnTo>
                    <a:lnTo>
                      <a:pt x="10515" y="1327"/>
                    </a:lnTo>
                    <a:lnTo>
                      <a:pt x="10515" y="1346"/>
                    </a:lnTo>
                    <a:lnTo>
                      <a:pt x="10534" y="1364"/>
                    </a:lnTo>
                    <a:lnTo>
                      <a:pt x="10534" y="1382"/>
                    </a:lnTo>
                    <a:lnTo>
                      <a:pt x="10534" y="1400"/>
                    </a:lnTo>
                    <a:lnTo>
                      <a:pt x="10534" y="1419"/>
                    </a:lnTo>
                    <a:lnTo>
                      <a:pt x="9665" y="14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78" name="Freeform 144"/>
              <p:cNvSpPr/>
              <p:nvPr/>
            </p:nvSpPr>
            <p:spPr>
              <a:xfrm>
                <a:off x="5699880" y="5230800"/>
                <a:ext cx="3033000" cy="109440"/>
              </a:xfrm>
              <a:custGeom>
                <a:avLst/>
                <a:gdLst/>
                <a:ahLst/>
                <a:rect l="l" t="t" r="r" b="b"/>
                <a:pathLst>
                  <a:path w="12364" h="1418">
                    <a:moveTo>
                      <a:pt x="5437" y="0"/>
                    </a:moveTo>
                    <a:lnTo>
                      <a:pt x="4474" y="627"/>
                    </a:lnTo>
                    <a:lnTo>
                      <a:pt x="4512" y="608"/>
                    </a:lnTo>
                    <a:lnTo>
                      <a:pt x="4568" y="590"/>
                    </a:lnTo>
                    <a:lnTo>
                      <a:pt x="4606" y="590"/>
                    </a:lnTo>
                    <a:lnTo>
                      <a:pt x="4644" y="571"/>
                    </a:lnTo>
                    <a:lnTo>
                      <a:pt x="4701" y="553"/>
                    </a:lnTo>
                    <a:lnTo>
                      <a:pt x="4738" y="535"/>
                    </a:lnTo>
                    <a:lnTo>
                      <a:pt x="4795" y="516"/>
                    </a:lnTo>
                    <a:lnTo>
                      <a:pt x="4833" y="498"/>
                    </a:lnTo>
                    <a:lnTo>
                      <a:pt x="4889" y="479"/>
                    </a:lnTo>
                    <a:lnTo>
                      <a:pt x="4927" y="461"/>
                    </a:lnTo>
                    <a:lnTo>
                      <a:pt x="4984" y="442"/>
                    </a:lnTo>
                    <a:lnTo>
                      <a:pt x="5021" y="424"/>
                    </a:lnTo>
                    <a:lnTo>
                      <a:pt x="5078" y="405"/>
                    </a:lnTo>
                    <a:lnTo>
                      <a:pt x="5116" y="368"/>
                    </a:lnTo>
                    <a:lnTo>
                      <a:pt x="5173" y="350"/>
                    </a:lnTo>
                    <a:lnTo>
                      <a:pt x="5211" y="331"/>
                    </a:lnTo>
                    <a:lnTo>
                      <a:pt x="5266" y="313"/>
                    </a:lnTo>
                    <a:lnTo>
                      <a:pt x="5304" y="295"/>
                    </a:lnTo>
                    <a:lnTo>
                      <a:pt x="5361" y="277"/>
                    </a:lnTo>
                    <a:lnTo>
                      <a:pt x="5418" y="258"/>
                    </a:lnTo>
                    <a:lnTo>
                      <a:pt x="5456" y="221"/>
                    </a:lnTo>
                    <a:lnTo>
                      <a:pt x="5513" y="203"/>
                    </a:lnTo>
                    <a:lnTo>
                      <a:pt x="5550" y="184"/>
                    </a:lnTo>
                    <a:lnTo>
                      <a:pt x="5606" y="166"/>
                    </a:lnTo>
                    <a:lnTo>
                      <a:pt x="5644" y="148"/>
                    </a:lnTo>
                    <a:lnTo>
                      <a:pt x="5701" y="129"/>
                    </a:lnTo>
                    <a:lnTo>
                      <a:pt x="5758" y="92"/>
                    </a:lnTo>
                    <a:lnTo>
                      <a:pt x="5796" y="74"/>
                    </a:lnTo>
                    <a:lnTo>
                      <a:pt x="5852" y="55"/>
                    </a:lnTo>
                    <a:lnTo>
                      <a:pt x="5890" y="37"/>
                    </a:lnTo>
                    <a:lnTo>
                      <a:pt x="5947" y="18"/>
                    </a:lnTo>
                    <a:lnTo>
                      <a:pt x="6003" y="0"/>
                    </a:lnTo>
                    <a:lnTo>
                      <a:pt x="8042" y="0"/>
                    </a:lnTo>
                    <a:lnTo>
                      <a:pt x="8061" y="166"/>
                    </a:lnTo>
                    <a:lnTo>
                      <a:pt x="5418" y="1418"/>
                    </a:lnTo>
                    <a:lnTo>
                      <a:pt x="1057" y="1418"/>
                    </a:lnTo>
                    <a:lnTo>
                      <a:pt x="1416" y="1050"/>
                    </a:lnTo>
                    <a:lnTo>
                      <a:pt x="793" y="1418"/>
                    </a:lnTo>
                    <a:lnTo>
                      <a:pt x="76" y="1418"/>
                    </a:lnTo>
                    <a:lnTo>
                      <a:pt x="0" y="1050"/>
                    </a:lnTo>
                    <a:lnTo>
                      <a:pt x="38" y="1013"/>
                    </a:lnTo>
                    <a:lnTo>
                      <a:pt x="57" y="995"/>
                    </a:lnTo>
                    <a:lnTo>
                      <a:pt x="95" y="958"/>
                    </a:lnTo>
                    <a:lnTo>
                      <a:pt x="114" y="922"/>
                    </a:lnTo>
                    <a:lnTo>
                      <a:pt x="152" y="903"/>
                    </a:lnTo>
                    <a:lnTo>
                      <a:pt x="170" y="866"/>
                    </a:lnTo>
                    <a:lnTo>
                      <a:pt x="208" y="829"/>
                    </a:lnTo>
                    <a:lnTo>
                      <a:pt x="227" y="811"/>
                    </a:lnTo>
                    <a:lnTo>
                      <a:pt x="265" y="774"/>
                    </a:lnTo>
                    <a:lnTo>
                      <a:pt x="284" y="737"/>
                    </a:lnTo>
                    <a:lnTo>
                      <a:pt x="321" y="700"/>
                    </a:lnTo>
                    <a:lnTo>
                      <a:pt x="340" y="681"/>
                    </a:lnTo>
                    <a:lnTo>
                      <a:pt x="378" y="645"/>
                    </a:lnTo>
                    <a:lnTo>
                      <a:pt x="397" y="608"/>
                    </a:lnTo>
                    <a:lnTo>
                      <a:pt x="434" y="571"/>
                    </a:lnTo>
                    <a:lnTo>
                      <a:pt x="453" y="535"/>
                    </a:lnTo>
                    <a:lnTo>
                      <a:pt x="472" y="498"/>
                    </a:lnTo>
                    <a:lnTo>
                      <a:pt x="510" y="461"/>
                    </a:lnTo>
                    <a:lnTo>
                      <a:pt x="529" y="442"/>
                    </a:lnTo>
                    <a:lnTo>
                      <a:pt x="567" y="405"/>
                    </a:lnTo>
                    <a:lnTo>
                      <a:pt x="586" y="368"/>
                    </a:lnTo>
                    <a:lnTo>
                      <a:pt x="605" y="331"/>
                    </a:lnTo>
                    <a:lnTo>
                      <a:pt x="642" y="295"/>
                    </a:lnTo>
                    <a:lnTo>
                      <a:pt x="661" y="258"/>
                    </a:lnTo>
                    <a:lnTo>
                      <a:pt x="698" y="221"/>
                    </a:lnTo>
                    <a:lnTo>
                      <a:pt x="717" y="184"/>
                    </a:lnTo>
                    <a:lnTo>
                      <a:pt x="755" y="148"/>
                    </a:lnTo>
                    <a:lnTo>
                      <a:pt x="774" y="129"/>
                    </a:lnTo>
                    <a:lnTo>
                      <a:pt x="812" y="92"/>
                    </a:lnTo>
                    <a:lnTo>
                      <a:pt x="831" y="55"/>
                    </a:lnTo>
                    <a:lnTo>
                      <a:pt x="850" y="18"/>
                    </a:lnTo>
                    <a:lnTo>
                      <a:pt x="888" y="0"/>
                    </a:lnTo>
                    <a:lnTo>
                      <a:pt x="5437" y="0"/>
                    </a:lnTo>
                    <a:close/>
                    <a:moveTo>
                      <a:pt x="5532" y="1418"/>
                    </a:moveTo>
                    <a:lnTo>
                      <a:pt x="5644" y="1381"/>
                    </a:lnTo>
                    <a:lnTo>
                      <a:pt x="5777" y="1344"/>
                    </a:lnTo>
                    <a:lnTo>
                      <a:pt x="5890" y="1309"/>
                    </a:lnTo>
                    <a:lnTo>
                      <a:pt x="6003" y="1253"/>
                    </a:lnTo>
                    <a:lnTo>
                      <a:pt x="6116" y="1216"/>
                    </a:lnTo>
                    <a:lnTo>
                      <a:pt x="6230" y="1179"/>
                    </a:lnTo>
                    <a:lnTo>
                      <a:pt x="6361" y="1142"/>
                    </a:lnTo>
                    <a:lnTo>
                      <a:pt x="6475" y="1087"/>
                    </a:lnTo>
                    <a:lnTo>
                      <a:pt x="6589" y="1050"/>
                    </a:lnTo>
                    <a:lnTo>
                      <a:pt x="6720" y="1013"/>
                    </a:lnTo>
                    <a:lnTo>
                      <a:pt x="6834" y="958"/>
                    </a:lnTo>
                    <a:lnTo>
                      <a:pt x="6947" y="922"/>
                    </a:lnTo>
                    <a:lnTo>
                      <a:pt x="7079" y="885"/>
                    </a:lnTo>
                    <a:lnTo>
                      <a:pt x="7192" y="829"/>
                    </a:lnTo>
                    <a:lnTo>
                      <a:pt x="7306" y="792"/>
                    </a:lnTo>
                    <a:lnTo>
                      <a:pt x="7437" y="755"/>
                    </a:lnTo>
                    <a:lnTo>
                      <a:pt x="7551" y="718"/>
                    </a:lnTo>
                    <a:lnTo>
                      <a:pt x="7684" y="681"/>
                    </a:lnTo>
                    <a:lnTo>
                      <a:pt x="7796" y="627"/>
                    </a:lnTo>
                    <a:lnTo>
                      <a:pt x="7910" y="590"/>
                    </a:lnTo>
                    <a:lnTo>
                      <a:pt x="8042" y="571"/>
                    </a:lnTo>
                    <a:lnTo>
                      <a:pt x="8155" y="535"/>
                    </a:lnTo>
                    <a:lnTo>
                      <a:pt x="8268" y="498"/>
                    </a:lnTo>
                    <a:lnTo>
                      <a:pt x="8401" y="461"/>
                    </a:lnTo>
                    <a:lnTo>
                      <a:pt x="8513" y="442"/>
                    </a:lnTo>
                    <a:lnTo>
                      <a:pt x="8646" y="405"/>
                    </a:lnTo>
                    <a:lnTo>
                      <a:pt x="8760" y="387"/>
                    </a:lnTo>
                    <a:lnTo>
                      <a:pt x="8872" y="350"/>
                    </a:lnTo>
                    <a:lnTo>
                      <a:pt x="9005" y="331"/>
                    </a:lnTo>
                    <a:lnTo>
                      <a:pt x="9118" y="313"/>
                    </a:lnTo>
                    <a:lnTo>
                      <a:pt x="9231" y="295"/>
                    </a:lnTo>
                    <a:lnTo>
                      <a:pt x="9344" y="295"/>
                    </a:lnTo>
                    <a:lnTo>
                      <a:pt x="9363" y="313"/>
                    </a:lnTo>
                    <a:lnTo>
                      <a:pt x="9382" y="331"/>
                    </a:lnTo>
                    <a:lnTo>
                      <a:pt x="9382" y="368"/>
                    </a:lnTo>
                    <a:lnTo>
                      <a:pt x="9382" y="405"/>
                    </a:lnTo>
                    <a:lnTo>
                      <a:pt x="9382" y="424"/>
                    </a:lnTo>
                    <a:lnTo>
                      <a:pt x="9382" y="461"/>
                    </a:lnTo>
                    <a:lnTo>
                      <a:pt x="9401" y="498"/>
                    </a:lnTo>
                    <a:lnTo>
                      <a:pt x="9401" y="516"/>
                    </a:lnTo>
                    <a:lnTo>
                      <a:pt x="9382" y="553"/>
                    </a:lnTo>
                    <a:lnTo>
                      <a:pt x="9382" y="590"/>
                    </a:lnTo>
                    <a:lnTo>
                      <a:pt x="9382" y="627"/>
                    </a:lnTo>
                    <a:lnTo>
                      <a:pt x="9382" y="663"/>
                    </a:lnTo>
                    <a:lnTo>
                      <a:pt x="9382" y="681"/>
                    </a:lnTo>
                    <a:lnTo>
                      <a:pt x="9382" y="718"/>
                    </a:lnTo>
                    <a:lnTo>
                      <a:pt x="9401" y="755"/>
                    </a:lnTo>
                    <a:lnTo>
                      <a:pt x="9401" y="792"/>
                    </a:lnTo>
                    <a:lnTo>
                      <a:pt x="10798" y="590"/>
                    </a:lnTo>
                    <a:lnTo>
                      <a:pt x="10817" y="590"/>
                    </a:lnTo>
                    <a:lnTo>
                      <a:pt x="10836" y="608"/>
                    </a:lnTo>
                    <a:lnTo>
                      <a:pt x="10836" y="627"/>
                    </a:lnTo>
                    <a:lnTo>
                      <a:pt x="10855" y="645"/>
                    </a:lnTo>
                    <a:lnTo>
                      <a:pt x="10855" y="663"/>
                    </a:lnTo>
                    <a:lnTo>
                      <a:pt x="10855" y="681"/>
                    </a:lnTo>
                    <a:lnTo>
                      <a:pt x="10855" y="700"/>
                    </a:lnTo>
                    <a:lnTo>
                      <a:pt x="10836" y="737"/>
                    </a:lnTo>
                    <a:lnTo>
                      <a:pt x="10836" y="755"/>
                    </a:lnTo>
                    <a:lnTo>
                      <a:pt x="10836" y="792"/>
                    </a:lnTo>
                    <a:lnTo>
                      <a:pt x="10836" y="811"/>
                    </a:lnTo>
                    <a:lnTo>
                      <a:pt x="10836" y="848"/>
                    </a:lnTo>
                    <a:lnTo>
                      <a:pt x="10836" y="866"/>
                    </a:lnTo>
                    <a:lnTo>
                      <a:pt x="10836" y="885"/>
                    </a:lnTo>
                    <a:lnTo>
                      <a:pt x="10836" y="922"/>
                    </a:lnTo>
                    <a:lnTo>
                      <a:pt x="10836" y="940"/>
                    </a:lnTo>
                    <a:lnTo>
                      <a:pt x="10874" y="958"/>
                    </a:lnTo>
                    <a:lnTo>
                      <a:pt x="10929" y="977"/>
                    </a:lnTo>
                    <a:lnTo>
                      <a:pt x="10967" y="995"/>
                    </a:lnTo>
                    <a:lnTo>
                      <a:pt x="11005" y="1013"/>
                    </a:lnTo>
                    <a:lnTo>
                      <a:pt x="11043" y="1013"/>
                    </a:lnTo>
                    <a:lnTo>
                      <a:pt x="11100" y="1013"/>
                    </a:lnTo>
                    <a:lnTo>
                      <a:pt x="11138" y="1031"/>
                    </a:lnTo>
                    <a:lnTo>
                      <a:pt x="11194" y="1031"/>
                    </a:lnTo>
                    <a:lnTo>
                      <a:pt x="11232" y="1031"/>
                    </a:lnTo>
                    <a:lnTo>
                      <a:pt x="11288" y="1031"/>
                    </a:lnTo>
                    <a:lnTo>
                      <a:pt x="11326" y="1013"/>
                    </a:lnTo>
                    <a:lnTo>
                      <a:pt x="11383" y="1013"/>
                    </a:lnTo>
                    <a:lnTo>
                      <a:pt x="11421" y="1013"/>
                    </a:lnTo>
                    <a:lnTo>
                      <a:pt x="11477" y="995"/>
                    </a:lnTo>
                    <a:lnTo>
                      <a:pt x="11534" y="995"/>
                    </a:lnTo>
                    <a:lnTo>
                      <a:pt x="11572" y="977"/>
                    </a:lnTo>
                    <a:lnTo>
                      <a:pt x="11628" y="977"/>
                    </a:lnTo>
                    <a:lnTo>
                      <a:pt x="11666" y="958"/>
                    </a:lnTo>
                    <a:lnTo>
                      <a:pt x="11722" y="958"/>
                    </a:lnTo>
                    <a:lnTo>
                      <a:pt x="11779" y="940"/>
                    </a:lnTo>
                    <a:lnTo>
                      <a:pt x="11817" y="940"/>
                    </a:lnTo>
                    <a:lnTo>
                      <a:pt x="11874" y="940"/>
                    </a:lnTo>
                    <a:lnTo>
                      <a:pt x="11931" y="922"/>
                    </a:lnTo>
                    <a:lnTo>
                      <a:pt x="11968" y="922"/>
                    </a:lnTo>
                    <a:lnTo>
                      <a:pt x="12024" y="903"/>
                    </a:lnTo>
                    <a:lnTo>
                      <a:pt x="12081" y="903"/>
                    </a:lnTo>
                    <a:lnTo>
                      <a:pt x="12119" y="903"/>
                    </a:lnTo>
                    <a:lnTo>
                      <a:pt x="12176" y="903"/>
                    </a:lnTo>
                    <a:lnTo>
                      <a:pt x="12214" y="903"/>
                    </a:lnTo>
                    <a:lnTo>
                      <a:pt x="12270" y="903"/>
                    </a:lnTo>
                    <a:lnTo>
                      <a:pt x="12308" y="922"/>
                    </a:lnTo>
                    <a:lnTo>
                      <a:pt x="12364" y="922"/>
                    </a:lnTo>
                    <a:lnTo>
                      <a:pt x="12345" y="1418"/>
                    </a:lnTo>
                    <a:lnTo>
                      <a:pt x="5532" y="14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79" name="Freeform 145"/>
              <p:cNvSpPr/>
              <p:nvPr/>
            </p:nvSpPr>
            <p:spPr>
              <a:xfrm>
                <a:off x="5699880" y="5284440"/>
                <a:ext cx="3106440" cy="109800"/>
              </a:xfrm>
              <a:custGeom>
                <a:avLst/>
                <a:gdLst/>
                <a:ahLst/>
                <a:rect l="l" t="t" r="r" b="b"/>
                <a:pathLst>
                  <a:path w="12667" h="1418">
                    <a:moveTo>
                      <a:pt x="6928" y="0"/>
                    </a:moveTo>
                    <a:lnTo>
                      <a:pt x="5230" y="811"/>
                    </a:lnTo>
                    <a:lnTo>
                      <a:pt x="5304" y="774"/>
                    </a:lnTo>
                    <a:lnTo>
                      <a:pt x="5380" y="755"/>
                    </a:lnTo>
                    <a:lnTo>
                      <a:pt x="5437" y="737"/>
                    </a:lnTo>
                    <a:lnTo>
                      <a:pt x="5513" y="718"/>
                    </a:lnTo>
                    <a:lnTo>
                      <a:pt x="5588" y="700"/>
                    </a:lnTo>
                    <a:lnTo>
                      <a:pt x="5663" y="681"/>
                    </a:lnTo>
                    <a:lnTo>
                      <a:pt x="5739" y="644"/>
                    </a:lnTo>
                    <a:lnTo>
                      <a:pt x="5814" y="627"/>
                    </a:lnTo>
                    <a:lnTo>
                      <a:pt x="5890" y="609"/>
                    </a:lnTo>
                    <a:lnTo>
                      <a:pt x="5947" y="572"/>
                    </a:lnTo>
                    <a:lnTo>
                      <a:pt x="6022" y="553"/>
                    </a:lnTo>
                    <a:lnTo>
                      <a:pt x="6097" y="535"/>
                    </a:lnTo>
                    <a:lnTo>
                      <a:pt x="6173" y="498"/>
                    </a:lnTo>
                    <a:lnTo>
                      <a:pt x="6249" y="479"/>
                    </a:lnTo>
                    <a:lnTo>
                      <a:pt x="6324" y="442"/>
                    </a:lnTo>
                    <a:lnTo>
                      <a:pt x="6399" y="424"/>
                    </a:lnTo>
                    <a:lnTo>
                      <a:pt x="6475" y="387"/>
                    </a:lnTo>
                    <a:lnTo>
                      <a:pt x="6551" y="368"/>
                    </a:lnTo>
                    <a:lnTo>
                      <a:pt x="6626" y="350"/>
                    </a:lnTo>
                    <a:lnTo>
                      <a:pt x="6701" y="313"/>
                    </a:lnTo>
                    <a:lnTo>
                      <a:pt x="6758" y="295"/>
                    </a:lnTo>
                    <a:lnTo>
                      <a:pt x="6834" y="258"/>
                    </a:lnTo>
                    <a:lnTo>
                      <a:pt x="6909" y="240"/>
                    </a:lnTo>
                    <a:lnTo>
                      <a:pt x="6985" y="203"/>
                    </a:lnTo>
                    <a:lnTo>
                      <a:pt x="7060" y="185"/>
                    </a:lnTo>
                    <a:lnTo>
                      <a:pt x="7136" y="148"/>
                    </a:lnTo>
                    <a:lnTo>
                      <a:pt x="7211" y="129"/>
                    </a:lnTo>
                    <a:lnTo>
                      <a:pt x="7287" y="111"/>
                    </a:lnTo>
                    <a:lnTo>
                      <a:pt x="7362" y="74"/>
                    </a:lnTo>
                    <a:lnTo>
                      <a:pt x="7437" y="55"/>
                    </a:lnTo>
                    <a:lnTo>
                      <a:pt x="7513" y="18"/>
                    </a:lnTo>
                    <a:lnTo>
                      <a:pt x="7589" y="0"/>
                    </a:lnTo>
                    <a:lnTo>
                      <a:pt x="9382" y="0"/>
                    </a:lnTo>
                    <a:lnTo>
                      <a:pt x="9382" y="18"/>
                    </a:lnTo>
                    <a:lnTo>
                      <a:pt x="9401" y="18"/>
                    </a:lnTo>
                    <a:lnTo>
                      <a:pt x="9401" y="37"/>
                    </a:lnTo>
                    <a:lnTo>
                      <a:pt x="9401" y="37"/>
                    </a:lnTo>
                    <a:lnTo>
                      <a:pt x="9401" y="55"/>
                    </a:lnTo>
                    <a:lnTo>
                      <a:pt x="9401" y="74"/>
                    </a:lnTo>
                    <a:lnTo>
                      <a:pt x="9401" y="74"/>
                    </a:lnTo>
                    <a:lnTo>
                      <a:pt x="9401" y="92"/>
                    </a:lnTo>
                    <a:lnTo>
                      <a:pt x="9986" y="0"/>
                    </a:lnTo>
                    <a:lnTo>
                      <a:pt x="10855" y="0"/>
                    </a:lnTo>
                    <a:lnTo>
                      <a:pt x="10855" y="18"/>
                    </a:lnTo>
                    <a:lnTo>
                      <a:pt x="10855" y="37"/>
                    </a:lnTo>
                    <a:lnTo>
                      <a:pt x="10836" y="55"/>
                    </a:lnTo>
                    <a:lnTo>
                      <a:pt x="10836" y="55"/>
                    </a:lnTo>
                    <a:lnTo>
                      <a:pt x="10836" y="74"/>
                    </a:lnTo>
                    <a:lnTo>
                      <a:pt x="10836" y="92"/>
                    </a:lnTo>
                    <a:lnTo>
                      <a:pt x="10836" y="111"/>
                    </a:lnTo>
                    <a:lnTo>
                      <a:pt x="10836" y="129"/>
                    </a:lnTo>
                    <a:lnTo>
                      <a:pt x="10836" y="148"/>
                    </a:lnTo>
                    <a:lnTo>
                      <a:pt x="10836" y="148"/>
                    </a:lnTo>
                    <a:lnTo>
                      <a:pt x="10836" y="166"/>
                    </a:lnTo>
                    <a:lnTo>
                      <a:pt x="10836" y="185"/>
                    </a:lnTo>
                    <a:lnTo>
                      <a:pt x="10836" y="203"/>
                    </a:lnTo>
                    <a:lnTo>
                      <a:pt x="10836" y="222"/>
                    </a:lnTo>
                    <a:lnTo>
                      <a:pt x="10836" y="222"/>
                    </a:lnTo>
                    <a:lnTo>
                      <a:pt x="10836" y="240"/>
                    </a:lnTo>
                    <a:lnTo>
                      <a:pt x="10874" y="258"/>
                    </a:lnTo>
                    <a:lnTo>
                      <a:pt x="10929" y="277"/>
                    </a:lnTo>
                    <a:lnTo>
                      <a:pt x="10967" y="295"/>
                    </a:lnTo>
                    <a:lnTo>
                      <a:pt x="11005" y="313"/>
                    </a:lnTo>
                    <a:lnTo>
                      <a:pt x="11043" y="313"/>
                    </a:lnTo>
                    <a:lnTo>
                      <a:pt x="11100" y="313"/>
                    </a:lnTo>
                    <a:lnTo>
                      <a:pt x="11138" y="331"/>
                    </a:lnTo>
                    <a:lnTo>
                      <a:pt x="11194" y="331"/>
                    </a:lnTo>
                    <a:lnTo>
                      <a:pt x="11232" y="331"/>
                    </a:lnTo>
                    <a:lnTo>
                      <a:pt x="11288" y="331"/>
                    </a:lnTo>
                    <a:lnTo>
                      <a:pt x="11326" y="313"/>
                    </a:lnTo>
                    <a:lnTo>
                      <a:pt x="11383" y="313"/>
                    </a:lnTo>
                    <a:lnTo>
                      <a:pt x="11421" y="313"/>
                    </a:lnTo>
                    <a:lnTo>
                      <a:pt x="11477" y="295"/>
                    </a:lnTo>
                    <a:lnTo>
                      <a:pt x="11534" y="295"/>
                    </a:lnTo>
                    <a:lnTo>
                      <a:pt x="11572" y="277"/>
                    </a:lnTo>
                    <a:lnTo>
                      <a:pt x="11628" y="277"/>
                    </a:lnTo>
                    <a:lnTo>
                      <a:pt x="11666" y="258"/>
                    </a:lnTo>
                    <a:lnTo>
                      <a:pt x="11722" y="258"/>
                    </a:lnTo>
                    <a:lnTo>
                      <a:pt x="11779" y="240"/>
                    </a:lnTo>
                    <a:lnTo>
                      <a:pt x="11817" y="240"/>
                    </a:lnTo>
                    <a:lnTo>
                      <a:pt x="11874" y="240"/>
                    </a:lnTo>
                    <a:lnTo>
                      <a:pt x="11931" y="222"/>
                    </a:lnTo>
                    <a:lnTo>
                      <a:pt x="11968" y="222"/>
                    </a:lnTo>
                    <a:lnTo>
                      <a:pt x="12024" y="203"/>
                    </a:lnTo>
                    <a:lnTo>
                      <a:pt x="12081" y="203"/>
                    </a:lnTo>
                    <a:lnTo>
                      <a:pt x="12119" y="203"/>
                    </a:lnTo>
                    <a:lnTo>
                      <a:pt x="12176" y="203"/>
                    </a:lnTo>
                    <a:lnTo>
                      <a:pt x="12214" y="203"/>
                    </a:lnTo>
                    <a:lnTo>
                      <a:pt x="12270" y="203"/>
                    </a:lnTo>
                    <a:lnTo>
                      <a:pt x="12308" y="222"/>
                    </a:lnTo>
                    <a:lnTo>
                      <a:pt x="12364" y="222"/>
                    </a:lnTo>
                    <a:lnTo>
                      <a:pt x="12345" y="959"/>
                    </a:lnTo>
                    <a:lnTo>
                      <a:pt x="12308" y="995"/>
                    </a:lnTo>
                    <a:lnTo>
                      <a:pt x="12289" y="1013"/>
                    </a:lnTo>
                    <a:lnTo>
                      <a:pt x="12270" y="1050"/>
                    </a:lnTo>
                    <a:lnTo>
                      <a:pt x="12233" y="1068"/>
                    </a:lnTo>
                    <a:lnTo>
                      <a:pt x="12195" y="1087"/>
                    </a:lnTo>
                    <a:lnTo>
                      <a:pt x="12176" y="1105"/>
                    </a:lnTo>
                    <a:lnTo>
                      <a:pt x="12138" y="1124"/>
                    </a:lnTo>
                    <a:lnTo>
                      <a:pt x="12100" y="1142"/>
                    </a:lnTo>
                    <a:lnTo>
                      <a:pt x="12062" y="1142"/>
                    </a:lnTo>
                    <a:lnTo>
                      <a:pt x="12043" y="1161"/>
                    </a:lnTo>
                    <a:lnTo>
                      <a:pt x="12005" y="1161"/>
                    </a:lnTo>
                    <a:lnTo>
                      <a:pt x="11968" y="1179"/>
                    </a:lnTo>
                    <a:lnTo>
                      <a:pt x="11931" y="1179"/>
                    </a:lnTo>
                    <a:lnTo>
                      <a:pt x="11893" y="1179"/>
                    </a:lnTo>
                    <a:lnTo>
                      <a:pt x="11855" y="1198"/>
                    </a:lnTo>
                    <a:lnTo>
                      <a:pt x="11817" y="1198"/>
                    </a:lnTo>
                    <a:lnTo>
                      <a:pt x="11760" y="1198"/>
                    </a:lnTo>
                    <a:lnTo>
                      <a:pt x="11722" y="1198"/>
                    </a:lnTo>
                    <a:lnTo>
                      <a:pt x="11685" y="1198"/>
                    </a:lnTo>
                    <a:lnTo>
                      <a:pt x="11647" y="1198"/>
                    </a:lnTo>
                    <a:lnTo>
                      <a:pt x="11609" y="1198"/>
                    </a:lnTo>
                    <a:lnTo>
                      <a:pt x="11572" y="1198"/>
                    </a:lnTo>
                    <a:lnTo>
                      <a:pt x="11534" y="1198"/>
                    </a:lnTo>
                    <a:lnTo>
                      <a:pt x="11496" y="1216"/>
                    </a:lnTo>
                    <a:lnTo>
                      <a:pt x="11458" y="1216"/>
                    </a:lnTo>
                    <a:lnTo>
                      <a:pt x="11421" y="1216"/>
                    </a:lnTo>
                    <a:lnTo>
                      <a:pt x="11364" y="1216"/>
                    </a:lnTo>
                    <a:lnTo>
                      <a:pt x="11326" y="1216"/>
                    </a:lnTo>
                    <a:lnTo>
                      <a:pt x="11288" y="1235"/>
                    </a:lnTo>
                    <a:lnTo>
                      <a:pt x="11269" y="1235"/>
                    </a:lnTo>
                    <a:lnTo>
                      <a:pt x="11232" y="1253"/>
                    </a:lnTo>
                    <a:lnTo>
                      <a:pt x="11194" y="1272"/>
                    </a:lnTo>
                    <a:lnTo>
                      <a:pt x="11176" y="1272"/>
                    </a:lnTo>
                    <a:lnTo>
                      <a:pt x="11157" y="1272"/>
                    </a:lnTo>
                    <a:lnTo>
                      <a:pt x="11157" y="1290"/>
                    </a:lnTo>
                    <a:lnTo>
                      <a:pt x="11138" y="1290"/>
                    </a:lnTo>
                    <a:lnTo>
                      <a:pt x="11138" y="1309"/>
                    </a:lnTo>
                    <a:lnTo>
                      <a:pt x="11138" y="1327"/>
                    </a:lnTo>
                    <a:lnTo>
                      <a:pt x="11138" y="1345"/>
                    </a:lnTo>
                    <a:lnTo>
                      <a:pt x="11138" y="1363"/>
                    </a:lnTo>
                    <a:lnTo>
                      <a:pt x="12591" y="1290"/>
                    </a:lnTo>
                    <a:lnTo>
                      <a:pt x="12610" y="1309"/>
                    </a:lnTo>
                    <a:lnTo>
                      <a:pt x="12629" y="1309"/>
                    </a:lnTo>
                    <a:lnTo>
                      <a:pt x="12629" y="1327"/>
                    </a:lnTo>
                    <a:lnTo>
                      <a:pt x="12648" y="1345"/>
                    </a:lnTo>
                    <a:lnTo>
                      <a:pt x="12648" y="1363"/>
                    </a:lnTo>
                    <a:lnTo>
                      <a:pt x="12648" y="1382"/>
                    </a:lnTo>
                    <a:lnTo>
                      <a:pt x="12648" y="1400"/>
                    </a:lnTo>
                    <a:lnTo>
                      <a:pt x="12667" y="1418"/>
                    </a:lnTo>
                    <a:lnTo>
                      <a:pt x="378" y="1418"/>
                    </a:lnTo>
                    <a:lnTo>
                      <a:pt x="1416" y="350"/>
                    </a:lnTo>
                    <a:lnTo>
                      <a:pt x="189" y="1087"/>
                    </a:lnTo>
                    <a:lnTo>
                      <a:pt x="189" y="1068"/>
                    </a:lnTo>
                    <a:lnTo>
                      <a:pt x="170" y="1068"/>
                    </a:lnTo>
                    <a:lnTo>
                      <a:pt x="170" y="1050"/>
                    </a:lnTo>
                    <a:lnTo>
                      <a:pt x="152" y="1050"/>
                    </a:lnTo>
                    <a:lnTo>
                      <a:pt x="152" y="1031"/>
                    </a:lnTo>
                    <a:lnTo>
                      <a:pt x="152" y="1031"/>
                    </a:lnTo>
                    <a:lnTo>
                      <a:pt x="133" y="1013"/>
                    </a:lnTo>
                    <a:lnTo>
                      <a:pt x="133" y="1013"/>
                    </a:lnTo>
                    <a:lnTo>
                      <a:pt x="0" y="350"/>
                    </a:lnTo>
                    <a:lnTo>
                      <a:pt x="19" y="313"/>
                    </a:lnTo>
                    <a:lnTo>
                      <a:pt x="38" y="295"/>
                    </a:lnTo>
                    <a:lnTo>
                      <a:pt x="57" y="277"/>
                    </a:lnTo>
                    <a:lnTo>
                      <a:pt x="76" y="258"/>
                    </a:lnTo>
                    <a:lnTo>
                      <a:pt x="114" y="240"/>
                    </a:lnTo>
                    <a:lnTo>
                      <a:pt x="133" y="222"/>
                    </a:lnTo>
                    <a:lnTo>
                      <a:pt x="152" y="203"/>
                    </a:lnTo>
                    <a:lnTo>
                      <a:pt x="170" y="185"/>
                    </a:lnTo>
                    <a:lnTo>
                      <a:pt x="189" y="166"/>
                    </a:lnTo>
                    <a:lnTo>
                      <a:pt x="208" y="129"/>
                    </a:lnTo>
                    <a:lnTo>
                      <a:pt x="227" y="111"/>
                    </a:lnTo>
                    <a:lnTo>
                      <a:pt x="246" y="92"/>
                    </a:lnTo>
                    <a:lnTo>
                      <a:pt x="265" y="74"/>
                    </a:lnTo>
                    <a:lnTo>
                      <a:pt x="284" y="55"/>
                    </a:lnTo>
                    <a:lnTo>
                      <a:pt x="302" y="18"/>
                    </a:lnTo>
                    <a:lnTo>
                      <a:pt x="321" y="0"/>
                    </a:lnTo>
                    <a:lnTo>
                      <a:pt x="692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80" name="Freeform 146"/>
              <p:cNvSpPr/>
              <p:nvPr/>
            </p:nvSpPr>
            <p:spPr>
              <a:xfrm>
                <a:off x="5656680" y="5340240"/>
                <a:ext cx="3149640" cy="111240"/>
              </a:xfrm>
              <a:custGeom>
                <a:avLst/>
                <a:gdLst/>
                <a:ahLst/>
                <a:rect l="l" t="t" r="r" b="b"/>
                <a:pathLst>
                  <a:path w="12836" h="1419">
                    <a:moveTo>
                      <a:pt x="5587" y="0"/>
                    </a:moveTo>
                    <a:lnTo>
                      <a:pt x="5399" y="93"/>
                    </a:lnTo>
                    <a:lnTo>
                      <a:pt x="5417" y="74"/>
                    </a:lnTo>
                    <a:lnTo>
                      <a:pt x="5435" y="74"/>
                    </a:lnTo>
                    <a:lnTo>
                      <a:pt x="5454" y="74"/>
                    </a:lnTo>
                    <a:lnTo>
                      <a:pt x="5473" y="56"/>
                    </a:lnTo>
                    <a:lnTo>
                      <a:pt x="5492" y="56"/>
                    </a:lnTo>
                    <a:lnTo>
                      <a:pt x="5511" y="56"/>
                    </a:lnTo>
                    <a:lnTo>
                      <a:pt x="5530" y="56"/>
                    </a:lnTo>
                    <a:lnTo>
                      <a:pt x="5549" y="37"/>
                    </a:lnTo>
                    <a:lnTo>
                      <a:pt x="5568" y="37"/>
                    </a:lnTo>
                    <a:lnTo>
                      <a:pt x="5587" y="37"/>
                    </a:lnTo>
                    <a:lnTo>
                      <a:pt x="5606" y="19"/>
                    </a:lnTo>
                    <a:lnTo>
                      <a:pt x="5625" y="19"/>
                    </a:lnTo>
                    <a:lnTo>
                      <a:pt x="5644" y="19"/>
                    </a:lnTo>
                    <a:lnTo>
                      <a:pt x="5663" y="0"/>
                    </a:lnTo>
                    <a:lnTo>
                      <a:pt x="5682" y="0"/>
                    </a:lnTo>
                    <a:lnTo>
                      <a:pt x="5701" y="0"/>
                    </a:lnTo>
                    <a:lnTo>
                      <a:pt x="12514" y="0"/>
                    </a:lnTo>
                    <a:lnTo>
                      <a:pt x="12514" y="241"/>
                    </a:lnTo>
                    <a:lnTo>
                      <a:pt x="12477" y="277"/>
                    </a:lnTo>
                    <a:lnTo>
                      <a:pt x="12458" y="295"/>
                    </a:lnTo>
                    <a:lnTo>
                      <a:pt x="12439" y="332"/>
                    </a:lnTo>
                    <a:lnTo>
                      <a:pt x="12402" y="350"/>
                    </a:lnTo>
                    <a:lnTo>
                      <a:pt x="12364" y="369"/>
                    </a:lnTo>
                    <a:lnTo>
                      <a:pt x="12345" y="387"/>
                    </a:lnTo>
                    <a:lnTo>
                      <a:pt x="12307" y="406"/>
                    </a:lnTo>
                    <a:lnTo>
                      <a:pt x="12269" y="424"/>
                    </a:lnTo>
                    <a:lnTo>
                      <a:pt x="12231" y="424"/>
                    </a:lnTo>
                    <a:lnTo>
                      <a:pt x="12212" y="443"/>
                    </a:lnTo>
                    <a:lnTo>
                      <a:pt x="12174" y="443"/>
                    </a:lnTo>
                    <a:lnTo>
                      <a:pt x="12137" y="461"/>
                    </a:lnTo>
                    <a:lnTo>
                      <a:pt x="12100" y="461"/>
                    </a:lnTo>
                    <a:lnTo>
                      <a:pt x="12062" y="461"/>
                    </a:lnTo>
                    <a:lnTo>
                      <a:pt x="12024" y="480"/>
                    </a:lnTo>
                    <a:lnTo>
                      <a:pt x="11986" y="480"/>
                    </a:lnTo>
                    <a:lnTo>
                      <a:pt x="11929" y="480"/>
                    </a:lnTo>
                    <a:lnTo>
                      <a:pt x="11891" y="480"/>
                    </a:lnTo>
                    <a:lnTo>
                      <a:pt x="11854" y="480"/>
                    </a:lnTo>
                    <a:lnTo>
                      <a:pt x="11816" y="480"/>
                    </a:lnTo>
                    <a:lnTo>
                      <a:pt x="11778" y="480"/>
                    </a:lnTo>
                    <a:lnTo>
                      <a:pt x="11741" y="480"/>
                    </a:lnTo>
                    <a:lnTo>
                      <a:pt x="11703" y="480"/>
                    </a:lnTo>
                    <a:lnTo>
                      <a:pt x="11665" y="498"/>
                    </a:lnTo>
                    <a:lnTo>
                      <a:pt x="11627" y="498"/>
                    </a:lnTo>
                    <a:lnTo>
                      <a:pt x="11590" y="498"/>
                    </a:lnTo>
                    <a:lnTo>
                      <a:pt x="11533" y="498"/>
                    </a:lnTo>
                    <a:lnTo>
                      <a:pt x="11495" y="498"/>
                    </a:lnTo>
                    <a:lnTo>
                      <a:pt x="11457" y="517"/>
                    </a:lnTo>
                    <a:lnTo>
                      <a:pt x="11438" y="517"/>
                    </a:lnTo>
                    <a:lnTo>
                      <a:pt x="11401" y="535"/>
                    </a:lnTo>
                    <a:lnTo>
                      <a:pt x="11363" y="554"/>
                    </a:lnTo>
                    <a:lnTo>
                      <a:pt x="11345" y="554"/>
                    </a:lnTo>
                    <a:lnTo>
                      <a:pt x="11326" y="554"/>
                    </a:lnTo>
                    <a:lnTo>
                      <a:pt x="11326" y="572"/>
                    </a:lnTo>
                    <a:lnTo>
                      <a:pt x="11307" y="572"/>
                    </a:lnTo>
                    <a:lnTo>
                      <a:pt x="11307" y="591"/>
                    </a:lnTo>
                    <a:lnTo>
                      <a:pt x="11307" y="609"/>
                    </a:lnTo>
                    <a:lnTo>
                      <a:pt x="11307" y="627"/>
                    </a:lnTo>
                    <a:lnTo>
                      <a:pt x="11307" y="645"/>
                    </a:lnTo>
                    <a:lnTo>
                      <a:pt x="12760" y="572"/>
                    </a:lnTo>
                    <a:lnTo>
                      <a:pt x="12779" y="591"/>
                    </a:lnTo>
                    <a:lnTo>
                      <a:pt x="12798" y="609"/>
                    </a:lnTo>
                    <a:lnTo>
                      <a:pt x="12798" y="627"/>
                    </a:lnTo>
                    <a:lnTo>
                      <a:pt x="12817" y="645"/>
                    </a:lnTo>
                    <a:lnTo>
                      <a:pt x="12817" y="664"/>
                    </a:lnTo>
                    <a:lnTo>
                      <a:pt x="12817" y="682"/>
                    </a:lnTo>
                    <a:lnTo>
                      <a:pt x="12836" y="719"/>
                    </a:lnTo>
                    <a:lnTo>
                      <a:pt x="12836" y="737"/>
                    </a:lnTo>
                    <a:lnTo>
                      <a:pt x="12836" y="756"/>
                    </a:lnTo>
                    <a:lnTo>
                      <a:pt x="12836" y="793"/>
                    </a:lnTo>
                    <a:lnTo>
                      <a:pt x="12836" y="811"/>
                    </a:lnTo>
                    <a:lnTo>
                      <a:pt x="12836" y="830"/>
                    </a:lnTo>
                    <a:lnTo>
                      <a:pt x="12836" y="867"/>
                    </a:lnTo>
                    <a:lnTo>
                      <a:pt x="12836" y="885"/>
                    </a:lnTo>
                    <a:lnTo>
                      <a:pt x="12836" y="922"/>
                    </a:lnTo>
                    <a:lnTo>
                      <a:pt x="12836" y="941"/>
                    </a:lnTo>
                    <a:lnTo>
                      <a:pt x="12836" y="977"/>
                    </a:lnTo>
                    <a:lnTo>
                      <a:pt x="12836" y="995"/>
                    </a:lnTo>
                    <a:lnTo>
                      <a:pt x="12817" y="1032"/>
                    </a:lnTo>
                    <a:lnTo>
                      <a:pt x="12817" y="1051"/>
                    </a:lnTo>
                    <a:lnTo>
                      <a:pt x="12817" y="1088"/>
                    </a:lnTo>
                    <a:lnTo>
                      <a:pt x="12817" y="1106"/>
                    </a:lnTo>
                    <a:lnTo>
                      <a:pt x="12817" y="1143"/>
                    </a:lnTo>
                    <a:lnTo>
                      <a:pt x="12798" y="1161"/>
                    </a:lnTo>
                    <a:lnTo>
                      <a:pt x="12798" y="1198"/>
                    </a:lnTo>
                    <a:lnTo>
                      <a:pt x="12798" y="1217"/>
                    </a:lnTo>
                    <a:lnTo>
                      <a:pt x="12798" y="1254"/>
                    </a:lnTo>
                    <a:lnTo>
                      <a:pt x="12779" y="1272"/>
                    </a:lnTo>
                    <a:lnTo>
                      <a:pt x="12779" y="1291"/>
                    </a:lnTo>
                    <a:lnTo>
                      <a:pt x="12779" y="1327"/>
                    </a:lnTo>
                    <a:lnTo>
                      <a:pt x="12779" y="1345"/>
                    </a:lnTo>
                    <a:lnTo>
                      <a:pt x="12760" y="1364"/>
                    </a:lnTo>
                    <a:lnTo>
                      <a:pt x="12495" y="1419"/>
                    </a:lnTo>
                    <a:lnTo>
                      <a:pt x="75" y="1419"/>
                    </a:lnTo>
                    <a:lnTo>
                      <a:pt x="0" y="1254"/>
                    </a:lnTo>
                    <a:lnTo>
                      <a:pt x="1226" y="0"/>
                    </a:lnTo>
                    <a:lnTo>
                      <a:pt x="5587" y="0"/>
                    </a:lnTo>
                    <a:close/>
                    <a:moveTo>
                      <a:pt x="962" y="0"/>
                    </a:moveTo>
                    <a:lnTo>
                      <a:pt x="358" y="369"/>
                    </a:lnTo>
                    <a:lnTo>
                      <a:pt x="358" y="350"/>
                    </a:lnTo>
                    <a:lnTo>
                      <a:pt x="339" y="350"/>
                    </a:lnTo>
                    <a:lnTo>
                      <a:pt x="339" y="332"/>
                    </a:lnTo>
                    <a:lnTo>
                      <a:pt x="321" y="332"/>
                    </a:lnTo>
                    <a:lnTo>
                      <a:pt x="321" y="313"/>
                    </a:lnTo>
                    <a:lnTo>
                      <a:pt x="321" y="313"/>
                    </a:lnTo>
                    <a:lnTo>
                      <a:pt x="302" y="295"/>
                    </a:lnTo>
                    <a:lnTo>
                      <a:pt x="302" y="295"/>
                    </a:lnTo>
                    <a:lnTo>
                      <a:pt x="245" y="0"/>
                    </a:lnTo>
                    <a:lnTo>
                      <a:pt x="96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81" name="Freeform 147"/>
              <p:cNvSpPr/>
              <p:nvPr/>
            </p:nvSpPr>
            <p:spPr>
              <a:xfrm>
                <a:off x="5656680" y="5394600"/>
                <a:ext cx="3149640" cy="111240"/>
              </a:xfrm>
              <a:custGeom>
                <a:avLst/>
                <a:gdLst/>
                <a:ahLst/>
                <a:rect l="l" t="t" r="r" b="b"/>
                <a:pathLst>
                  <a:path w="12836" h="1418">
                    <a:moveTo>
                      <a:pt x="12836" y="0"/>
                    </a:moveTo>
                    <a:lnTo>
                      <a:pt x="12836" y="37"/>
                    </a:lnTo>
                    <a:lnTo>
                      <a:pt x="12836" y="74"/>
                    </a:lnTo>
                    <a:lnTo>
                      <a:pt x="12836" y="130"/>
                    </a:lnTo>
                    <a:lnTo>
                      <a:pt x="12836" y="167"/>
                    </a:lnTo>
                    <a:lnTo>
                      <a:pt x="12836" y="204"/>
                    </a:lnTo>
                    <a:lnTo>
                      <a:pt x="12836" y="259"/>
                    </a:lnTo>
                    <a:lnTo>
                      <a:pt x="12836" y="295"/>
                    </a:lnTo>
                    <a:lnTo>
                      <a:pt x="12817" y="332"/>
                    </a:lnTo>
                    <a:lnTo>
                      <a:pt x="12817" y="388"/>
                    </a:lnTo>
                    <a:lnTo>
                      <a:pt x="12817" y="424"/>
                    </a:lnTo>
                    <a:lnTo>
                      <a:pt x="12798" y="480"/>
                    </a:lnTo>
                    <a:lnTo>
                      <a:pt x="12798" y="517"/>
                    </a:lnTo>
                    <a:lnTo>
                      <a:pt x="12779" y="554"/>
                    </a:lnTo>
                    <a:lnTo>
                      <a:pt x="12779" y="591"/>
                    </a:lnTo>
                    <a:lnTo>
                      <a:pt x="12779" y="627"/>
                    </a:lnTo>
                    <a:lnTo>
                      <a:pt x="12760" y="664"/>
                    </a:lnTo>
                    <a:lnTo>
                      <a:pt x="11005" y="977"/>
                    </a:lnTo>
                    <a:lnTo>
                      <a:pt x="10986" y="977"/>
                    </a:lnTo>
                    <a:lnTo>
                      <a:pt x="10986" y="977"/>
                    </a:lnTo>
                    <a:lnTo>
                      <a:pt x="10967" y="995"/>
                    </a:lnTo>
                    <a:lnTo>
                      <a:pt x="10967" y="995"/>
                    </a:lnTo>
                    <a:lnTo>
                      <a:pt x="10967" y="1014"/>
                    </a:lnTo>
                    <a:lnTo>
                      <a:pt x="10967" y="1032"/>
                    </a:lnTo>
                    <a:lnTo>
                      <a:pt x="10967" y="1032"/>
                    </a:lnTo>
                    <a:lnTo>
                      <a:pt x="10967" y="1051"/>
                    </a:lnTo>
                    <a:lnTo>
                      <a:pt x="11741" y="1069"/>
                    </a:lnTo>
                    <a:lnTo>
                      <a:pt x="11722" y="1418"/>
                    </a:lnTo>
                    <a:lnTo>
                      <a:pt x="19" y="1418"/>
                    </a:lnTo>
                    <a:lnTo>
                      <a:pt x="38" y="1418"/>
                    </a:lnTo>
                    <a:lnTo>
                      <a:pt x="57" y="1400"/>
                    </a:lnTo>
                    <a:lnTo>
                      <a:pt x="75" y="1381"/>
                    </a:lnTo>
                    <a:lnTo>
                      <a:pt x="94" y="1363"/>
                    </a:lnTo>
                    <a:lnTo>
                      <a:pt x="94" y="1344"/>
                    </a:lnTo>
                    <a:lnTo>
                      <a:pt x="112" y="1344"/>
                    </a:lnTo>
                    <a:lnTo>
                      <a:pt x="131" y="1326"/>
                    </a:lnTo>
                    <a:lnTo>
                      <a:pt x="150" y="1307"/>
                    </a:lnTo>
                    <a:lnTo>
                      <a:pt x="150" y="1290"/>
                    </a:lnTo>
                    <a:lnTo>
                      <a:pt x="169" y="1272"/>
                    </a:lnTo>
                    <a:lnTo>
                      <a:pt x="188" y="1254"/>
                    </a:lnTo>
                    <a:lnTo>
                      <a:pt x="188" y="1235"/>
                    </a:lnTo>
                    <a:lnTo>
                      <a:pt x="207" y="1198"/>
                    </a:lnTo>
                    <a:lnTo>
                      <a:pt x="207" y="1180"/>
                    </a:lnTo>
                    <a:lnTo>
                      <a:pt x="226" y="1162"/>
                    </a:lnTo>
                    <a:lnTo>
                      <a:pt x="226" y="1125"/>
                    </a:lnTo>
                    <a:lnTo>
                      <a:pt x="0" y="554"/>
                    </a:lnTo>
                    <a:lnTo>
                      <a:pt x="547" y="0"/>
                    </a:lnTo>
                    <a:lnTo>
                      <a:pt x="128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82" name="Freeform 148"/>
              <p:cNvSpPr/>
              <p:nvPr/>
            </p:nvSpPr>
            <p:spPr>
              <a:xfrm>
                <a:off x="5636520" y="5451840"/>
                <a:ext cx="3086280" cy="109800"/>
              </a:xfrm>
              <a:custGeom>
                <a:avLst/>
                <a:gdLst/>
                <a:ahLst/>
                <a:rect l="l" t="t" r="r" b="b"/>
                <a:pathLst>
                  <a:path w="12571" h="1418">
                    <a:moveTo>
                      <a:pt x="12571" y="0"/>
                    </a:moveTo>
                    <a:lnTo>
                      <a:pt x="11081" y="258"/>
                    </a:lnTo>
                    <a:lnTo>
                      <a:pt x="11062" y="258"/>
                    </a:lnTo>
                    <a:lnTo>
                      <a:pt x="11062" y="258"/>
                    </a:lnTo>
                    <a:lnTo>
                      <a:pt x="11043" y="276"/>
                    </a:lnTo>
                    <a:lnTo>
                      <a:pt x="11043" y="276"/>
                    </a:lnTo>
                    <a:lnTo>
                      <a:pt x="11043" y="295"/>
                    </a:lnTo>
                    <a:lnTo>
                      <a:pt x="11043" y="313"/>
                    </a:lnTo>
                    <a:lnTo>
                      <a:pt x="11043" y="313"/>
                    </a:lnTo>
                    <a:lnTo>
                      <a:pt x="11043" y="332"/>
                    </a:lnTo>
                    <a:lnTo>
                      <a:pt x="11817" y="350"/>
                    </a:lnTo>
                    <a:lnTo>
                      <a:pt x="11760" y="1179"/>
                    </a:lnTo>
                    <a:lnTo>
                      <a:pt x="11760" y="1197"/>
                    </a:lnTo>
                    <a:lnTo>
                      <a:pt x="11741" y="1197"/>
                    </a:lnTo>
                    <a:lnTo>
                      <a:pt x="11741" y="1216"/>
                    </a:lnTo>
                    <a:lnTo>
                      <a:pt x="11722" y="1216"/>
                    </a:lnTo>
                    <a:lnTo>
                      <a:pt x="11722" y="1216"/>
                    </a:lnTo>
                    <a:lnTo>
                      <a:pt x="11703" y="1234"/>
                    </a:lnTo>
                    <a:lnTo>
                      <a:pt x="11685" y="1234"/>
                    </a:lnTo>
                    <a:lnTo>
                      <a:pt x="11685" y="1234"/>
                    </a:lnTo>
                    <a:lnTo>
                      <a:pt x="11666" y="1234"/>
                    </a:lnTo>
                    <a:lnTo>
                      <a:pt x="11647" y="1234"/>
                    </a:lnTo>
                    <a:lnTo>
                      <a:pt x="11628" y="1234"/>
                    </a:lnTo>
                    <a:lnTo>
                      <a:pt x="11628" y="1234"/>
                    </a:lnTo>
                    <a:lnTo>
                      <a:pt x="11609" y="1234"/>
                    </a:lnTo>
                    <a:lnTo>
                      <a:pt x="11590" y="1234"/>
                    </a:lnTo>
                    <a:lnTo>
                      <a:pt x="11590" y="1234"/>
                    </a:lnTo>
                    <a:lnTo>
                      <a:pt x="11571" y="1234"/>
                    </a:lnTo>
                    <a:lnTo>
                      <a:pt x="11552" y="1234"/>
                    </a:lnTo>
                    <a:lnTo>
                      <a:pt x="11533" y="1234"/>
                    </a:lnTo>
                    <a:lnTo>
                      <a:pt x="11533" y="1252"/>
                    </a:lnTo>
                    <a:lnTo>
                      <a:pt x="11533" y="1252"/>
                    </a:lnTo>
                    <a:lnTo>
                      <a:pt x="11514" y="1270"/>
                    </a:lnTo>
                    <a:lnTo>
                      <a:pt x="11514" y="1288"/>
                    </a:lnTo>
                    <a:lnTo>
                      <a:pt x="11533" y="1288"/>
                    </a:lnTo>
                    <a:lnTo>
                      <a:pt x="11533" y="1325"/>
                    </a:lnTo>
                    <a:lnTo>
                      <a:pt x="12213" y="1344"/>
                    </a:lnTo>
                    <a:lnTo>
                      <a:pt x="12213" y="1418"/>
                    </a:lnTo>
                    <a:lnTo>
                      <a:pt x="114" y="1418"/>
                    </a:lnTo>
                    <a:lnTo>
                      <a:pt x="0" y="829"/>
                    </a:lnTo>
                    <a:lnTo>
                      <a:pt x="19" y="810"/>
                    </a:lnTo>
                    <a:lnTo>
                      <a:pt x="38" y="773"/>
                    </a:lnTo>
                    <a:lnTo>
                      <a:pt x="57" y="755"/>
                    </a:lnTo>
                    <a:lnTo>
                      <a:pt x="76" y="736"/>
                    </a:lnTo>
                    <a:lnTo>
                      <a:pt x="95" y="718"/>
                    </a:lnTo>
                    <a:lnTo>
                      <a:pt x="114" y="699"/>
                    </a:lnTo>
                    <a:lnTo>
                      <a:pt x="133" y="681"/>
                    </a:lnTo>
                    <a:lnTo>
                      <a:pt x="151" y="644"/>
                    </a:lnTo>
                    <a:lnTo>
                      <a:pt x="188" y="625"/>
                    </a:lnTo>
                    <a:lnTo>
                      <a:pt x="207" y="607"/>
                    </a:lnTo>
                    <a:lnTo>
                      <a:pt x="226" y="571"/>
                    </a:lnTo>
                    <a:lnTo>
                      <a:pt x="245" y="553"/>
                    </a:lnTo>
                    <a:lnTo>
                      <a:pt x="264" y="516"/>
                    </a:lnTo>
                    <a:lnTo>
                      <a:pt x="283" y="479"/>
                    </a:lnTo>
                    <a:lnTo>
                      <a:pt x="283" y="443"/>
                    </a:lnTo>
                    <a:lnTo>
                      <a:pt x="302" y="406"/>
                    </a:lnTo>
                    <a:lnTo>
                      <a:pt x="151" y="0"/>
                    </a:lnTo>
                    <a:lnTo>
                      <a:pt x="1257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83" name="Freeform 149"/>
              <p:cNvSpPr/>
              <p:nvPr/>
            </p:nvSpPr>
            <p:spPr>
              <a:xfrm>
                <a:off x="5514120" y="5505840"/>
                <a:ext cx="3119760" cy="130680"/>
              </a:xfrm>
              <a:custGeom>
                <a:avLst/>
                <a:gdLst/>
                <a:ahLst/>
                <a:rect l="l" t="t" r="r" b="b"/>
                <a:pathLst>
                  <a:path w="12723" h="1437">
                    <a:moveTo>
                      <a:pt x="12308" y="0"/>
                    </a:moveTo>
                    <a:lnTo>
                      <a:pt x="12270" y="480"/>
                    </a:lnTo>
                    <a:lnTo>
                      <a:pt x="12270" y="498"/>
                    </a:lnTo>
                    <a:lnTo>
                      <a:pt x="12251" y="498"/>
                    </a:lnTo>
                    <a:lnTo>
                      <a:pt x="12251" y="517"/>
                    </a:lnTo>
                    <a:lnTo>
                      <a:pt x="12232" y="517"/>
                    </a:lnTo>
                    <a:lnTo>
                      <a:pt x="12232" y="517"/>
                    </a:lnTo>
                    <a:lnTo>
                      <a:pt x="12213" y="535"/>
                    </a:lnTo>
                    <a:lnTo>
                      <a:pt x="12195" y="535"/>
                    </a:lnTo>
                    <a:lnTo>
                      <a:pt x="12195" y="535"/>
                    </a:lnTo>
                    <a:lnTo>
                      <a:pt x="12176" y="535"/>
                    </a:lnTo>
                    <a:lnTo>
                      <a:pt x="12157" y="535"/>
                    </a:lnTo>
                    <a:lnTo>
                      <a:pt x="12138" y="535"/>
                    </a:lnTo>
                    <a:lnTo>
                      <a:pt x="12138" y="535"/>
                    </a:lnTo>
                    <a:lnTo>
                      <a:pt x="12119" y="535"/>
                    </a:lnTo>
                    <a:lnTo>
                      <a:pt x="12100" y="535"/>
                    </a:lnTo>
                    <a:lnTo>
                      <a:pt x="12100" y="535"/>
                    </a:lnTo>
                    <a:lnTo>
                      <a:pt x="12081" y="535"/>
                    </a:lnTo>
                    <a:lnTo>
                      <a:pt x="12062" y="535"/>
                    </a:lnTo>
                    <a:lnTo>
                      <a:pt x="12043" y="535"/>
                    </a:lnTo>
                    <a:lnTo>
                      <a:pt x="12043" y="553"/>
                    </a:lnTo>
                    <a:lnTo>
                      <a:pt x="12043" y="553"/>
                    </a:lnTo>
                    <a:lnTo>
                      <a:pt x="12024" y="571"/>
                    </a:lnTo>
                    <a:lnTo>
                      <a:pt x="12024" y="589"/>
                    </a:lnTo>
                    <a:lnTo>
                      <a:pt x="12043" y="589"/>
                    </a:lnTo>
                    <a:lnTo>
                      <a:pt x="12043" y="626"/>
                    </a:lnTo>
                    <a:lnTo>
                      <a:pt x="12723" y="645"/>
                    </a:lnTo>
                    <a:lnTo>
                      <a:pt x="12648" y="1400"/>
                    </a:lnTo>
                    <a:lnTo>
                      <a:pt x="12515" y="1437"/>
                    </a:lnTo>
                    <a:lnTo>
                      <a:pt x="0" y="1437"/>
                    </a:lnTo>
                    <a:lnTo>
                      <a:pt x="643" y="737"/>
                    </a:lnTo>
                    <a:lnTo>
                      <a:pt x="510" y="130"/>
                    </a:lnTo>
                    <a:lnTo>
                      <a:pt x="510" y="111"/>
                    </a:lnTo>
                    <a:lnTo>
                      <a:pt x="529" y="93"/>
                    </a:lnTo>
                    <a:lnTo>
                      <a:pt x="548" y="74"/>
                    </a:lnTo>
                    <a:lnTo>
                      <a:pt x="548" y="56"/>
                    </a:lnTo>
                    <a:lnTo>
                      <a:pt x="567" y="56"/>
                    </a:lnTo>
                    <a:lnTo>
                      <a:pt x="586" y="37"/>
                    </a:lnTo>
                    <a:lnTo>
                      <a:pt x="605" y="19"/>
                    </a:lnTo>
                    <a:lnTo>
                      <a:pt x="605" y="0"/>
                    </a:lnTo>
                    <a:lnTo>
                      <a:pt x="1230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84" name="Freeform 150"/>
              <p:cNvSpPr/>
              <p:nvPr/>
            </p:nvSpPr>
            <p:spPr>
              <a:xfrm>
                <a:off x="5508720" y="5561640"/>
                <a:ext cx="3130920" cy="130680"/>
              </a:xfrm>
              <a:custGeom>
                <a:avLst/>
                <a:gdLst/>
                <a:ahLst/>
                <a:rect l="l" t="t" r="r" b="b"/>
                <a:pathLst>
                  <a:path w="12759" h="1418">
                    <a:moveTo>
                      <a:pt x="12741" y="0"/>
                    </a:moveTo>
                    <a:lnTo>
                      <a:pt x="12666" y="681"/>
                    </a:lnTo>
                    <a:lnTo>
                      <a:pt x="12194" y="774"/>
                    </a:lnTo>
                    <a:lnTo>
                      <a:pt x="12175" y="792"/>
                    </a:lnTo>
                    <a:lnTo>
                      <a:pt x="12175" y="811"/>
                    </a:lnTo>
                    <a:lnTo>
                      <a:pt x="12156" y="811"/>
                    </a:lnTo>
                    <a:lnTo>
                      <a:pt x="12137" y="829"/>
                    </a:lnTo>
                    <a:lnTo>
                      <a:pt x="12137" y="866"/>
                    </a:lnTo>
                    <a:lnTo>
                      <a:pt x="12118" y="885"/>
                    </a:lnTo>
                    <a:lnTo>
                      <a:pt x="12118" y="902"/>
                    </a:lnTo>
                    <a:lnTo>
                      <a:pt x="12118" y="939"/>
                    </a:lnTo>
                    <a:lnTo>
                      <a:pt x="12099" y="976"/>
                    </a:lnTo>
                    <a:lnTo>
                      <a:pt x="12099" y="994"/>
                    </a:lnTo>
                    <a:lnTo>
                      <a:pt x="12099" y="1031"/>
                    </a:lnTo>
                    <a:lnTo>
                      <a:pt x="12099" y="1068"/>
                    </a:lnTo>
                    <a:lnTo>
                      <a:pt x="12099" y="1105"/>
                    </a:lnTo>
                    <a:lnTo>
                      <a:pt x="12099" y="1142"/>
                    </a:lnTo>
                    <a:lnTo>
                      <a:pt x="12099" y="1161"/>
                    </a:lnTo>
                    <a:lnTo>
                      <a:pt x="12099" y="1198"/>
                    </a:lnTo>
                    <a:lnTo>
                      <a:pt x="12118" y="1234"/>
                    </a:lnTo>
                    <a:lnTo>
                      <a:pt x="12156" y="1271"/>
                    </a:lnTo>
                    <a:lnTo>
                      <a:pt x="12194" y="1289"/>
                    </a:lnTo>
                    <a:lnTo>
                      <a:pt x="12231" y="1308"/>
                    </a:lnTo>
                    <a:lnTo>
                      <a:pt x="12269" y="1308"/>
                    </a:lnTo>
                    <a:lnTo>
                      <a:pt x="12307" y="1308"/>
                    </a:lnTo>
                    <a:lnTo>
                      <a:pt x="12364" y="1289"/>
                    </a:lnTo>
                    <a:lnTo>
                      <a:pt x="12401" y="1271"/>
                    </a:lnTo>
                    <a:lnTo>
                      <a:pt x="12439" y="1271"/>
                    </a:lnTo>
                    <a:lnTo>
                      <a:pt x="12495" y="1252"/>
                    </a:lnTo>
                    <a:lnTo>
                      <a:pt x="12533" y="1252"/>
                    </a:lnTo>
                    <a:lnTo>
                      <a:pt x="12590" y="1234"/>
                    </a:lnTo>
                    <a:lnTo>
                      <a:pt x="12628" y="1234"/>
                    </a:lnTo>
                    <a:lnTo>
                      <a:pt x="12666" y="1234"/>
                    </a:lnTo>
                    <a:lnTo>
                      <a:pt x="12723" y="1252"/>
                    </a:lnTo>
                    <a:lnTo>
                      <a:pt x="12759" y="1289"/>
                    </a:lnTo>
                    <a:lnTo>
                      <a:pt x="12759" y="1418"/>
                    </a:lnTo>
                    <a:lnTo>
                      <a:pt x="792" y="1418"/>
                    </a:lnTo>
                    <a:lnTo>
                      <a:pt x="925" y="1326"/>
                    </a:lnTo>
                    <a:lnTo>
                      <a:pt x="925" y="1142"/>
                    </a:lnTo>
                    <a:lnTo>
                      <a:pt x="547" y="1418"/>
                    </a:lnTo>
                    <a:lnTo>
                      <a:pt x="150" y="1418"/>
                    </a:lnTo>
                    <a:lnTo>
                      <a:pt x="131" y="1400"/>
                    </a:lnTo>
                    <a:lnTo>
                      <a:pt x="131" y="1381"/>
                    </a:lnTo>
                    <a:lnTo>
                      <a:pt x="113" y="1345"/>
                    </a:lnTo>
                    <a:lnTo>
                      <a:pt x="113" y="1326"/>
                    </a:lnTo>
                    <a:lnTo>
                      <a:pt x="94" y="1308"/>
                    </a:lnTo>
                    <a:lnTo>
                      <a:pt x="94" y="1289"/>
                    </a:lnTo>
                    <a:lnTo>
                      <a:pt x="75" y="1252"/>
                    </a:lnTo>
                    <a:lnTo>
                      <a:pt x="75" y="1234"/>
                    </a:lnTo>
                    <a:lnTo>
                      <a:pt x="75" y="1198"/>
                    </a:lnTo>
                    <a:lnTo>
                      <a:pt x="56" y="1179"/>
                    </a:lnTo>
                    <a:lnTo>
                      <a:pt x="56" y="1161"/>
                    </a:lnTo>
                    <a:lnTo>
                      <a:pt x="37" y="1124"/>
                    </a:lnTo>
                    <a:lnTo>
                      <a:pt x="37" y="1105"/>
                    </a:lnTo>
                    <a:lnTo>
                      <a:pt x="18" y="1087"/>
                    </a:lnTo>
                    <a:lnTo>
                      <a:pt x="18" y="1068"/>
                    </a:lnTo>
                    <a:lnTo>
                      <a:pt x="0" y="1031"/>
                    </a:lnTo>
                    <a:lnTo>
                      <a:pt x="0" y="1013"/>
                    </a:lnTo>
                    <a:lnTo>
                      <a:pt x="0" y="994"/>
                    </a:lnTo>
                    <a:lnTo>
                      <a:pt x="0" y="976"/>
                    </a:lnTo>
                    <a:lnTo>
                      <a:pt x="0" y="958"/>
                    </a:lnTo>
                    <a:lnTo>
                      <a:pt x="0" y="921"/>
                    </a:lnTo>
                    <a:lnTo>
                      <a:pt x="0" y="902"/>
                    </a:lnTo>
                    <a:lnTo>
                      <a:pt x="0" y="885"/>
                    </a:lnTo>
                    <a:lnTo>
                      <a:pt x="0" y="866"/>
                    </a:lnTo>
                    <a:lnTo>
                      <a:pt x="0" y="848"/>
                    </a:lnTo>
                    <a:lnTo>
                      <a:pt x="0" y="829"/>
                    </a:lnTo>
                    <a:lnTo>
                      <a:pt x="0" y="811"/>
                    </a:lnTo>
                    <a:lnTo>
                      <a:pt x="0" y="792"/>
                    </a:lnTo>
                    <a:lnTo>
                      <a:pt x="0" y="774"/>
                    </a:lnTo>
                    <a:lnTo>
                      <a:pt x="0" y="755"/>
                    </a:lnTo>
                    <a:lnTo>
                      <a:pt x="0" y="737"/>
                    </a:lnTo>
                    <a:lnTo>
                      <a:pt x="0" y="737"/>
                    </a:lnTo>
                    <a:lnTo>
                      <a:pt x="661" y="18"/>
                    </a:lnTo>
                    <a:lnTo>
                      <a:pt x="642" y="0"/>
                    </a:lnTo>
                    <a:lnTo>
                      <a:pt x="127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85" name="Freeform 151"/>
              <p:cNvSpPr/>
              <p:nvPr/>
            </p:nvSpPr>
            <p:spPr>
              <a:xfrm>
                <a:off x="5508720" y="5617440"/>
                <a:ext cx="3130920" cy="110880"/>
              </a:xfrm>
              <a:custGeom>
                <a:avLst/>
                <a:gdLst/>
                <a:ahLst/>
                <a:rect l="l" t="t" r="r" b="b"/>
                <a:pathLst>
                  <a:path w="12759" h="1419">
                    <a:moveTo>
                      <a:pt x="12533" y="0"/>
                    </a:moveTo>
                    <a:lnTo>
                      <a:pt x="12194" y="56"/>
                    </a:lnTo>
                    <a:lnTo>
                      <a:pt x="12175" y="74"/>
                    </a:lnTo>
                    <a:lnTo>
                      <a:pt x="12175" y="93"/>
                    </a:lnTo>
                    <a:lnTo>
                      <a:pt x="12156" y="93"/>
                    </a:lnTo>
                    <a:lnTo>
                      <a:pt x="12137" y="111"/>
                    </a:lnTo>
                    <a:lnTo>
                      <a:pt x="12137" y="148"/>
                    </a:lnTo>
                    <a:lnTo>
                      <a:pt x="12118" y="167"/>
                    </a:lnTo>
                    <a:lnTo>
                      <a:pt x="12118" y="184"/>
                    </a:lnTo>
                    <a:lnTo>
                      <a:pt x="12118" y="221"/>
                    </a:lnTo>
                    <a:lnTo>
                      <a:pt x="12099" y="258"/>
                    </a:lnTo>
                    <a:lnTo>
                      <a:pt x="12099" y="276"/>
                    </a:lnTo>
                    <a:lnTo>
                      <a:pt x="12099" y="313"/>
                    </a:lnTo>
                    <a:lnTo>
                      <a:pt x="12099" y="350"/>
                    </a:lnTo>
                    <a:lnTo>
                      <a:pt x="12099" y="387"/>
                    </a:lnTo>
                    <a:lnTo>
                      <a:pt x="12099" y="424"/>
                    </a:lnTo>
                    <a:lnTo>
                      <a:pt x="12099" y="443"/>
                    </a:lnTo>
                    <a:lnTo>
                      <a:pt x="12099" y="480"/>
                    </a:lnTo>
                    <a:lnTo>
                      <a:pt x="12118" y="516"/>
                    </a:lnTo>
                    <a:lnTo>
                      <a:pt x="12156" y="553"/>
                    </a:lnTo>
                    <a:lnTo>
                      <a:pt x="12194" y="571"/>
                    </a:lnTo>
                    <a:lnTo>
                      <a:pt x="12231" y="590"/>
                    </a:lnTo>
                    <a:lnTo>
                      <a:pt x="12269" y="590"/>
                    </a:lnTo>
                    <a:lnTo>
                      <a:pt x="12307" y="590"/>
                    </a:lnTo>
                    <a:lnTo>
                      <a:pt x="12364" y="571"/>
                    </a:lnTo>
                    <a:lnTo>
                      <a:pt x="12401" y="553"/>
                    </a:lnTo>
                    <a:lnTo>
                      <a:pt x="12439" y="553"/>
                    </a:lnTo>
                    <a:lnTo>
                      <a:pt x="12495" y="534"/>
                    </a:lnTo>
                    <a:lnTo>
                      <a:pt x="12533" y="534"/>
                    </a:lnTo>
                    <a:lnTo>
                      <a:pt x="12590" y="516"/>
                    </a:lnTo>
                    <a:lnTo>
                      <a:pt x="12628" y="516"/>
                    </a:lnTo>
                    <a:lnTo>
                      <a:pt x="12666" y="516"/>
                    </a:lnTo>
                    <a:lnTo>
                      <a:pt x="12723" y="534"/>
                    </a:lnTo>
                    <a:lnTo>
                      <a:pt x="12759" y="571"/>
                    </a:lnTo>
                    <a:lnTo>
                      <a:pt x="12741" y="1345"/>
                    </a:lnTo>
                    <a:lnTo>
                      <a:pt x="12723" y="1345"/>
                    </a:lnTo>
                    <a:lnTo>
                      <a:pt x="12723" y="1364"/>
                    </a:lnTo>
                    <a:lnTo>
                      <a:pt x="12704" y="1364"/>
                    </a:lnTo>
                    <a:lnTo>
                      <a:pt x="12685" y="1382"/>
                    </a:lnTo>
                    <a:lnTo>
                      <a:pt x="12685" y="1382"/>
                    </a:lnTo>
                    <a:lnTo>
                      <a:pt x="12666" y="1401"/>
                    </a:lnTo>
                    <a:lnTo>
                      <a:pt x="12666" y="1401"/>
                    </a:lnTo>
                    <a:lnTo>
                      <a:pt x="12647" y="1419"/>
                    </a:lnTo>
                    <a:lnTo>
                      <a:pt x="433" y="1419"/>
                    </a:lnTo>
                    <a:lnTo>
                      <a:pt x="340" y="1234"/>
                    </a:lnTo>
                    <a:lnTo>
                      <a:pt x="452" y="958"/>
                    </a:lnTo>
                    <a:lnTo>
                      <a:pt x="925" y="608"/>
                    </a:lnTo>
                    <a:lnTo>
                      <a:pt x="925" y="424"/>
                    </a:lnTo>
                    <a:lnTo>
                      <a:pt x="321" y="884"/>
                    </a:lnTo>
                    <a:lnTo>
                      <a:pt x="283" y="866"/>
                    </a:lnTo>
                    <a:lnTo>
                      <a:pt x="245" y="848"/>
                    </a:lnTo>
                    <a:lnTo>
                      <a:pt x="226" y="830"/>
                    </a:lnTo>
                    <a:lnTo>
                      <a:pt x="207" y="811"/>
                    </a:lnTo>
                    <a:lnTo>
                      <a:pt x="188" y="774"/>
                    </a:lnTo>
                    <a:lnTo>
                      <a:pt x="169" y="756"/>
                    </a:lnTo>
                    <a:lnTo>
                      <a:pt x="150" y="719"/>
                    </a:lnTo>
                    <a:lnTo>
                      <a:pt x="131" y="663"/>
                    </a:lnTo>
                    <a:lnTo>
                      <a:pt x="113" y="627"/>
                    </a:lnTo>
                    <a:lnTo>
                      <a:pt x="94" y="590"/>
                    </a:lnTo>
                    <a:lnTo>
                      <a:pt x="75" y="534"/>
                    </a:lnTo>
                    <a:lnTo>
                      <a:pt x="75" y="498"/>
                    </a:lnTo>
                    <a:lnTo>
                      <a:pt x="56" y="443"/>
                    </a:lnTo>
                    <a:lnTo>
                      <a:pt x="37" y="406"/>
                    </a:lnTo>
                    <a:lnTo>
                      <a:pt x="18" y="369"/>
                    </a:lnTo>
                    <a:lnTo>
                      <a:pt x="0" y="313"/>
                    </a:lnTo>
                    <a:lnTo>
                      <a:pt x="0" y="295"/>
                    </a:lnTo>
                    <a:lnTo>
                      <a:pt x="0" y="276"/>
                    </a:lnTo>
                    <a:lnTo>
                      <a:pt x="0" y="258"/>
                    </a:lnTo>
                    <a:lnTo>
                      <a:pt x="0" y="240"/>
                    </a:lnTo>
                    <a:lnTo>
                      <a:pt x="0" y="203"/>
                    </a:lnTo>
                    <a:lnTo>
                      <a:pt x="0" y="184"/>
                    </a:lnTo>
                    <a:lnTo>
                      <a:pt x="0" y="167"/>
                    </a:lnTo>
                    <a:lnTo>
                      <a:pt x="0" y="148"/>
                    </a:lnTo>
                    <a:lnTo>
                      <a:pt x="0" y="130"/>
                    </a:lnTo>
                    <a:lnTo>
                      <a:pt x="0" y="111"/>
                    </a:lnTo>
                    <a:lnTo>
                      <a:pt x="0" y="93"/>
                    </a:lnTo>
                    <a:lnTo>
                      <a:pt x="0" y="74"/>
                    </a:lnTo>
                    <a:lnTo>
                      <a:pt x="0" y="56"/>
                    </a:lnTo>
                    <a:lnTo>
                      <a:pt x="0" y="37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18" y="0"/>
                    </a:lnTo>
                    <a:lnTo>
                      <a:pt x="125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86" name="Freeform 152"/>
              <p:cNvSpPr/>
              <p:nvPr/>
            </p:nvSpPr>
            <p:spPr>
              <a:xfrm>
                <a:off x="5548680" y="5672520"/>
                <a:ext cx="3090960" cy="109800"/>
              </a:xfrm>
              <a:custGeom>
                <a:avLst/>
                <a:gdLst/>
                <a:ahLst/>
                <a:rect l="l" t="t" r="r" b="b"/>
                <a:pathLst>
                  <a:path w="12609" h="1419">
                    <a:moveTo>
                      <a:pt x="12609" y="0"/>
                    </a:moveTo>
                    <a:lnTo>
                      <a:pt x="12591" y="645"/>
                    </a:lnTo>
                    <a:lnTo>
                      <a:pt x="12554" y="664"/>
                    </a:lnTo>
                    <a:lnTo>
                      <a:pt x="12516" y="701"/>
                    </a:lnTo>
                    <a:lnTo>
                      <a:pt x="12478" y="738"/>
                    </a:lnTo>
                    <a:lnTo>
                      <a:pt x="12440" y="756"/>
                    </a:lnTo>
                    <a:lnTo>
                      <a:pt x="12402" y="774"/>
                    </a:lnTo>
                    <a:lnTo>
                      <a:pt x="12364" y="811"/>
                    </a:lnTo>
                    <a:lnTo>
                      <a:pt x="12327" y="830"/>
                    </a:lnTo>
                    <a:lnTo>
                      <a:pt x="12289" y="847"/>
                    </a:lnTo>
                    <a:lnTo>
                      <a:pt x="12232" y="866"/>
                    </a:lnTo>
                    <a:lnTo>
                      <a:pt x="12195" y="903"/>
                    </a:lnTo>
                    <a:lnTo>
                      <a:pt x="12157" y="921"/>
                    </a:lnTo>
                    <a:lnTo>
                      <a:pt x="12119" y="940"/>
                    </a:lnTo>
                    <a:lnTo>
                      <a:pt x="12063" y="958"/>
                    </a:lnTo>
                    <a:lnTo>
                      <a:pt x="12025" y="977"/>
                    </a:lnTo>
                    <a:lnTo>
                      <a:pt x="11987" y="995"/>
                    </a:lnTo>
                    <a:lnTo>
                      <a:pt x="11930" y="1014"/>
                    </a:lnTo>
                    <a:lnTo>
                      <a:pt x="11892" y="1014"/>
                    </a:lnTo>
                    <a:lnTo>
                      <a:pt x="11855" y="1032"/>
                    </a:lnTo>
                    <a:lnTo>
                      <a:pt x="11799" y="1051"/>
                    </a:lnTo>
                    <a:lnTo>
                      <a:pt x="11761" y="1069"/>
                    </a:lnTo>
                    <a:lnTo>
                      <a:pt x="11723" y="1088"/>
                    </a:lnTo>
                    <a:lnTo>
                      <a:pt x="11666" y="1106"/>
                    </a:lnTo>
                    <a:lnTo>
                      <a:pt x="11628" y="1125"/>
                    </a:lnTo>
                    <a:lnTo>
                      <a:pt x="11571" y="1125"/>
                    </a:lnTo>
                    <a:lnTo>
                      <a:pt x="11533" y="1143"/>
                    </a:lnTo>
                    <a:lnTo>
                      <a:pt x="11478" y="1161"/>
                    </a:lnTo>
                    <a:lnTo>
                      <a:pt x="11440" y="1180"/>
                    </a:lnTo>
                    <a:lnTo>
                      <a:pt x="11402" y="1197"/>
                    </a:lnTo>
                    <a:lnTo>
                      <a:pt x="11345" y="1216"/>
                    </a:lnTo>
                    <a:lnTo>
                      <a:pt x="11307" y="1234"/>
                    </a:lnTo>
                    <a:lnTo>
                      <a:pt x="11269" y="1253"/>
                    </a:lnTo>
                    <a:lnTo>
                      <a:pt x="11213" y="1271"/>
                    </a:lnTo>
                    <a:lnTo>
                      <a:pt x="11213" y="1419"/>
                    </a:lnTo>
                    <a:lnTo>
                      <a:pt x="2908" y="1419"/>
                    </a:lnTo>
                    <a:lnTo>
                      <a:pt x="3455" y="995"/>
                    </a:lnTo>
                    <a:lnTo>
                      <a:pt x="3455" y="995"/>
                    </a:lnTo>
                    <a:lnTo>
                      <a:pt x="3455" y="995"/>
                    </a:lnTo>
                    <a:lnTo>
                      <a:pt x="3455" y="977"/>
                    </a:lnTo>
                    <a:lnTo>
                      <a:pt x="3455" y="977"/>
                    </a:lnTo>
                    <a:lnTo>
                      <a:pt x="3455" y="958"/>
                    </a:lnTo>
                    <a:lnTo>
                      <a:pt x="3455" y="940"/>
                    </a:lnTo>
                    <a:lnTo>
                      <a:pt x="3455" y="921"/>
                    </a:lnTo>
                    <a:lnTo>
                      <a:pt x="3455" y="921"/>
                    </a:lnTo>
                    <a:lnTo>
                      <a:pt x="2492" y="1419"/>
                    </a:lnTo>
                    <a:lnTo>
                      <a:pt x="566" y="1419"/>
                    </a:lnTo>
                    <a:lnTo>
                      <a:pt x="812" y="1143"/>
                    </a:lnTo>
                    <a:lnTo>
                      <a:pt x="812" y="1143"/>
                    </a:lnTo>
                    <a:lnTo>
                      <a:pt x="812" y="1125"/>
                    </a:lnTo>
                    <a:lnTo>
                      <a:pt x="812" y="1106"/>
                    </a:lnTo>
                    <a:lnTo>
                      <a:pt x="812" y="1106"/>
                    </a:lnTo>
                    <a:lnTo>
                      <a:pt x="812" y="1088"/>
                    </a:lnTo>
                    <a:lnTo>
                      <a:pt x="793" y="1088"/>
                    </a:lnTo>
                    <a:lnTo>
                      <a:pt x="793" y="1069"/>
                    </a:lnTo>
                    <a:lnTo>
                      <a:pt x="775" y="1069"/>
                    </a:lnTo>
                    <a:lnTo>
                      <a:pt x="585" y="1253"/>
                    </a:lnTo>
                    <a:lnTo>
                      <a:pt x="566" y="1253"/>
                    </a:lnTo>
                    <a:lnTo>
                      <a:pt x="566" y="1253"/>
                    </a:lnTo>
                    <a:lnTo>
                      <a:pt x="548" y="1253"/>
                    </a:lnTo>
                    <a:lnTo>
                      <a:pt x="548" y="1234"/>
                    </a:lnTo>
                    <a:lnTo>
                      <a:pt x="529" y="1234"/>
                    </a:lnTo>
                    <a:lnTo>
                      <a:pt x="529" y="1234"/>
                    </a:lnTo>
                    <a:lnTo>
                      <a:pt x="511" y="1234"/>
                    </a:lnTo>
                    <a:lnTo>
                      <a:pt x="511" y="1216"/>
                    </a:lnTo>
                    <a:lnTo>
                      <a:pt x="190" y="534"/>
                    </a:lnTo>
                    <a:lnTo>
                      <a:pt x="302" y="258"/>
                    </a:lnTo>
                    <a:lnTo>
                      <a:pt x="642" y="0"/>
                    </a:lnTo>
                    <a:lnTo>
                      <a:pt x="12609" y="0"/>
                    </a:lnTo>
                    <a:close/>
                    <a:moveTo>
                      <a:pt x="397" y="0"/>
                    </a:moveTo>
                    <a:lnTo>
                      <a:pt x="171" y="184"/>
                    </a:lnTo>
                    <a:lnTo>
                      <a:pt x="152" y="184"/>
                    </a:lnTo>
                    <a:lnTo>
                      <a:pt x="133" y="166"/>
                    </a:lnTo>
                    <a:lnTo>
                      <a:pt x="114" y="166"/>
                    </a:lnTo>
                    <a:lnTo>
                      <a:pt x="114" y="166"/>
                    </a:lnTo>
                    <a:lnTo>
                      <a:pt x="95" y="148"/>
                    </a:lnTo>
                    <a:lnTo>
                      <a:pt x="76" y="148"/>
                    </a:lnTo>
                    <a:lnTo>
                      <a:pt x="76" y="130"/>
                    </a:lnTo>
                    <a:lnTo>
                      <a:pt x="57" y="130"/>
                    </a:lnTo>
                    <a:lnTo>
                      <a:pt x="57" y="111"/>
                    </a:lnTo>
                    <a:lnTo>
                      <a:pt x="38" y="93"/>
                    </a:lnTo>
                    <a:lnTo>
                      <a:pt x="38" y="74"/>
                    </a:lnTo>
                    <a:lnTo>
                      <a:pt x="19" y="74"/>
                    </a:lnTo>
                    <a:lnTo>
                      <a:pt x="19" y="56"/>
                    </a:lnTo>
                    <a:lnTo>
                      <a:pt x="0" y="37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39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87" name="Freeform 153"/>
              <p:cNvSpPr/>
              <p:nvPr/>
            </p:nvSpPr>
            <p:spPr>
              <a:xfrm>
                <a:off x="5548680" y="5728320"/>
                <a:ext cx="3060720" cy="111240"/>
              </a:xfrm>
              <a:custGeom>
                <a:avLst/>
                <a:gdLst/>
                <a:ahLst/>
                <a:rect l="l" t="t" r="r" b="b"/>
                <a:pathLst>
                  <a:path w="12478" h="1419">
                    <a:moveTo>
                      <a:pt x="12478" y="0"/>
                    </a:moveTo>
                    <a:lnTo>
                      <a:pt x="12440" y="19"/>
                    </a:lnTo>
                    <a:lnTo>
                      <a:pt x="12402" y="37"/>
                    </a:lnTo>
                    <a:lnTo>
                      <a:pt x="12383" y="74"/>
                    </a:lnTo>
                    <a:lnTo>
                      <a:pt x="12345" y="92"/>
                    </a:lnTo>
                    <a:lnTo>
                      <a:pt x="12308" y="111"/>
                    </a:lnTo>
                    <a:lnTo>
                      <a:pt x="12270" y="128"/>
                    </a:lnTo>
                    <a:lnTo>
                      <a:pt x="12232" y="147"/>
                    </a:lnTo>
                    <a:lnTo>
                      <a:pt x="12195" y="165"/>
                    </a:lnTo>
                    <a:lnTo>
                      <a:pt x="12157" y="184"/>
                    </a:lnTo>
                    <a:lnTo>
                      <a:pt x="12119" y="202"/>
                    </a:lnTo>
                    <a:lnTo>
                      <a:pt x="12062" y="221"/>
                    </a:lnTo>
                    <a:lnTo>
                      <a:pt x="12025" y="239"/>
                    </a:lnTo>
                    <a:lnTo>
                      <a:pt x="11987" y="258"/>
                    </a:lnTo>
                    <a:lnTo>
                      <a:pt x="11949" y="276"/>
                    </a:lnTo>
                    <a:lnTo>
                      <a:pt x="11911" y="295"/>
                    </a:lnTo>
                    <a:lnTo>
                      <a:pt x="11873" y="313"/>
                    </a:lnTo>
                    <a:lnTo>
                      <a:pt x="11817" y="313"/>
                    </a:lnTo>
                    <a:lnTo>
                      <a:pt x="11780" y="332"/>
                    </a:lnTo>
                    <a:lnTo>
                      <a:pt x="11742" y="350"/>
                    </a:lnTo>
                    <a:lnTo>
                      <a:pt x="11704" y="369"/>
                    </a:lnTo>
                    <a:lnTo>
                      <a:pt x="11666" y="387"/>
                    </a:lnTo>
                    <a:lnTo>
                      <a:pt x="11609" y="387"/>
                    </a:lnTo>
                    <a:lnTo>
                      <a:pt x="11571" y="406"/>
                    </a:lnTo>
                    <a:lnTo>
                      <a:pt x="11533" y="424"/>
                    </a:lnTo>
                    <a:lnTo>
                      <a:pt x="11497" y="442"/>
                    </a:lnTo>
                    <a:lnTo>
                      <a:pt x="11440" y="461"/>
                    </a:lnTo>
                    <a:lnTo>
                      <a:pt x="11402" y="461"/>
                    </a:lnTo>
                    <a:lnTo>
                      <a:pt x="11364" y="478"/>
                    </a:lnTo>
                    <a:lnTo>
                      <a:pt x="11326" y="497"/>
                    </a:lnTo>
                    <a:lnTo>
                      <a:pt x="11288" y="515"/>
                    </a:lnTo>
                    <a:lnTo>
                      <a:pt x="11250" y="534"/>
                    </a:lnTo>
                    <a:lnTo>
                      <a:pt x="11194" y="552"/>
                    </a:lnTo>
                    <a:lnTo>
                      <a:pt x="11194" y="1363"/>
                    </a:lnTo>
                    <a:lnTo>
                      <a:pt x="11194" y="1363"/>
                    </a:lnTo>
                    <a:lnTo>
                      <a:pt x="11175" y="1382"/>
                    </a:lnTo>
                    <a:lnTo>
                      <a:pt x="11175" y="1382"/>
                    </a:lnTo>
                    <a:lnTo>
                      <a:pt x="11156" y="1382"/>
                    </a:lnTo>
                    <a:lnTo>
                      <a:pt x="11156" y="1400"/>
                    </a:lnTo>
                    <a:lnTo>
                      <a:pt x="11138" y="1400"/>
                    </a:lnTo>
                    <a:lnTo>
                      <a:pt x="11138" y="1400"/>
                    </a:lnTo>
                    <a:lnTo>
                      <a:pt x="11119" y="1419"/>
                    </a:lnTo>
                    <a:lnTo>
                      <a:pt x="7286" y="1419"/>
                    </a:lnTo>
                    <a:lnTo>
                      <a:pt x="7834" y="1050"/>
                    </a:lnTo>
                    <a:lnTo>
                      <a:pt x="7815" y="1032"/>
                    </a:lnTo>
                    <a:lnTo>
                      <a:pt x="7815" y="1013"/>
                    </a:lnTo>
                    <a:lnTo>
                      <a:pt x="7815" y="995"/>
                    </a:lnTo>
                    <a:lnTo>
                      <a:pt x="7815" y="995"/>
                    </a:lnTo>
                    <a:lnTo>
                      <a:pt x="7815" y="1013"/>
                    </a:lnTo>
                    <a:lnTo>
                      <a:pt x="7815" y="1013"/>
                    </a:lnTo>
                    <a:lnTo>
                      <a:pt x="7815" y="1032"/>
                    </a:lnTo>
                    <a:lnTo>
                      <a:pt x="7815" y="1050"/>
                    </a:lnTo>
                    <a:lnTo>
                      <a:pt x="7834" y="1050"/>
                    </a:lnTo>
                    <a:lnTo>
                      <a:pt x="7834" y="1069"/>
                    </a:lnTo>
                    <a:lnTo>
                      <a:pt x="7834" y="1069"/>
                    </a:lnTo>
                    <a:lnTo>
                      <a:pt x="7834" y="1069"/>
                    </a:lnTo>
                    <a:lnTo>
                      <a:pt x="7815" y="1069"/>
                    </a:lnTo>
                    <a:lnTo>
                      <a:pt x="7815" y="1050"/>
                    </a:lnTo>
                    <a:lnTo>
                      <a:pt x="7796" y="1032"/>
                    </a:lnTo>
                    <a:lnTo>
                      <a:pt x="7777" y="995"/>
                    </a:lnTo>
                    <a:lnTo>
                      <a:pt x="7758" y="1013"/>
                    </a:lnTo>
                    <a:lnTo>
                      <a:pt x="7721" y="1032"/>
                    </a:lnTo>
                    <a:lnTo>
                      <a:pt x="7702" y="1050"/>
                    </a:lnTo>
                    <a:lnTo>
                      <a:pt x="7683" y="1069"/>
                    </a:lnTo>
                    <a:lnTo>
                      <a:pt x="7645" y="1087"/>
                    </a:lnTo>
                    <a:lnTo>
                      <a:pt x="7626" y="1106"/>
                    </a:lnTo>
                    <a:lnTo>
                      <a:pt x="7589" y="1106"/>
                    </a:lnTo>
                    <a:lnTo>
                      <a:pt x="7570" y="1124"/>
                    </a:lnTo>
                    <a:lnTo>
                      <a:pt x="7551" y="1143"/>
                    </a:lnTo>
                    <a:lnTo>
                      <a:pt x="7513" y="1143"/>
                    </a:lnTo>
                    <a:lnTo>
                      <a:pt x="7494" y="1161"/>
                    </a:lnTo>
                    <a:lnTo>
                      <a:pt x="7457" y="1161"/>
                    </a:lnTo>
                    <a:lnTo>
                      <a:pt x="7438" y="1179"/>
                    </a:lnTo>
                    <a:lnTo>
                      <a:pt x="7400" y="1179"/>
                    </a:lnTo>
                    <a:lnTo>
                      <a:pt x="7381" y="1197"/>
                    </a:lnTo>
                    <a:lnTo>
                      <a:pt x="7343" y="1197"/>
                    </a:lnTo>
                    <a:lnTo>
                      <a:pt x="7324" y="1215"/>
                    </a:lnTo>
                    <a:lnTo>
                      <a:pt x="7286" y="1215"/>
                    </a:lnTo>
                    <a:lnTo>
                      <a:pt x="7267" y="1234"/>
                    </a:lnTo>
                    <a:lnTo>
                      <a:pt x="7230" y="1252"/>
                    </a:lnTo>
                    <a:lnTo>
                      <a:pt x="7212" y="1252"/>
                    </a:lnTo>
                    <a:lnTo>
                      <a:pt x="7193" y="1271"/>
                    </a:lnTo>
                    <a:lnTo>
                      <a:pt x="7155" y="1271"/>
                    </a:lnTo>
                    <a:lnTo>
                      <a:pt x="7136" y="1289"/>
                    </a:lnTo>
                    <a:lnTo>
                      <a:pt x="7098" y="1308"/>
                    </a:lnTo>
                    <a:lnTo>
                      <a:pt x="7079" y="1308"/>
                    </a:lnTo>
                    <a:lnTo>
                      <a:pt x="7041" y="1326"/>
                    </a:lnTo>
                    <a:lnTo>
                      <a:pt x="7022" y="1345"/>
                    </a:lnTo>
                    <a:lnTo>
                      <a:pt x="7003" y="1363"/>
                    </a:lnTo>
                    <a:lnTo>
                      <a:pt x="6965" y="1382"/>
                    </a:lnTo>
                    <a:lnTo>
                      <a:pt x="6946" y="1400"/>
                    </a:lnTo>
                    <a:lnTo>
                      <a:pt x="6909" y="1419"/>
                    </a:lnTo>
                    <a:lnTo>
                      <a:pt x="1963" y="1419"/>
                    </a:lnTo>
                    <a:lnTo>
                      <a:pt x="3436" y="276"/>
                    </a:lnTo>
                    <a:lnTo>
                      <a:pt x="3436" y="276"/>
                    </a:lnTo>
                    <a:lnTo>
                      <a:pt x="3436" y="276"/>
                    </a:lnTo>
                    <a:lnTo>
                      <a:pt x="3436" y="258"/>
                    </a:lnTo>
                    <a:lnTo>
                      <a:pt x="3436" y="258"/>
                    </a:lnTo>
                    <a:lnTo>
                      <a:pt x="3436" y="239"/>
                    </a:lnTo>
                    <a:lnTo>
                      <a:pt x="3436" y="221"/>
                    </a:lnTo>
                    <a:lnTo>
                      <a:pt x="3436" y="202"/>
                    </a:lnTo>
                    <a:lnTo>
                      <a:pt x="3436" y="202"/>
                    </a:lnTo>
                    <a:lnTo>
                      <a:pt x="1737" y="1106"/>
                    </a:lnTo>
                    <a:lnTo>
                      <a:pt x="1302" y="1419"/>
                    </a:lnTo>
                    <a:lnTo>
                      <a:pt x="19" y="1419"/>
                    </a:lnTo>
                    <a:lnTo>
                      <a:pt x="0" y="1363"/>
                    </a:lnTo>
                    <a:lnTo>
                      <a:pt x="793" y="424"/>
                    </a:lnTo>
                    <a:lnTo>
                      <a:pt x="793" y="424"/>
                    </a:lnTo>
                    <a:lnTo>
                      <a:pt x="793" y="406"/>
                    </a:lnTo>
                    <a:lnTo>
                      <a:pt x="793" y="387"/>
                    </a:lnTo>
                    <a:lnTo>
                      <a:pt x="793" y="387"/>
                    </a:lnTo>
                    <a:lnTo>
                      <a:pt x="793" y="369"/>
                    </a:lnTo>
                    <a:lnTo>
                      <a:pt x="774" y="369"/>
                    </a:lnTo>
                    <a:lnTo>
                      <a:pt x="774" y="350"/>
                    </a:lnTo>
                    <a:lnTo>
                      <a:pt x="756" y="350"/>
                    </a:lnTo>
                    <a:lnTo>
                      <a:pt x="566" y="534"/>
                    </a:lnTo>
                    <a:lnTo>
                      <a:pt x="547" y="534"/>
                    </a:lnTo>
                    <a:lnTo>
                      <a:pt x="547" y="534"/>
                    </a:lnTo>
                    <a:lnTo>
                      <a:pt x="529" y="534"/>
                    </a:lnTo>
                    <a:lnTo>
                      <a:pt x="529" y="515"/>
                    </a:lnTo>
                    <a:lnTo>
                      <a:pt x="510" y="515"/>
                    </a:lnTo>
                    <a:lnTo>
                      <a:pt x="510" y="515"/>
                    </a:lnTo>
                    <a:lnTo>
                      <a:pt x="492" y="515"/>
                    </a:lnTo>
                    <a:lnTo>
                      <a:pt x="492" y="497"/>
                    </a:lnTo>
                    <a:lnTo>
                      <a:pt x="264" y="0"/>
                    </a:lnTo>
                    <a:lnTo>
                      <a:pt x="1247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88" name="Freeform 154"/>
              <p:cNvSpPr/>
              <p:nvPr/>
            </p:nvSpPr>
            <p:spPr>
              <a:xfrm>
                <a:off x="5548680" y="5782680"/>
                <a:ext cx="2903760" cy="111240"/>
              </a:xfrm>
              <a:custGeom>
                <a:avLst/>
                <a:gdLst/>
                <a:ahLst/>
                <a:rect l="l" t="t" r="r" b="b"/>
                <a:pathLst>
                  <a:path w="11836" h="1419">
                    <a:moveTo>
                      <a:pt x="11194" y="0"/>
                    </a:moveTo>
                    <a:lnTo>
                      <a:pt x="11194" y="663"/>
                    </a:lnTo>
                    <a:lnTo>
                      <a:pt x="11175" y="682"/>
                    </a:lnTo>
                    <a:lnTo>
                      <a:pt x="11138" y="719"/>
                    </a:lnTo>
                    <a:lnTo>
                      <a:pt x="11100" y="737"/>
                    </a:lnTo>
                    <a:lnTo>
                      <a:pt x="11062" y="756"/>
                    </a:lnTo>
                    <a:lnTo>
                      <a:pt x="11024" y="793"/>
                    </a:lnTo>
                    <a:lnTo>
                      <a:pt x="10968" y="810"/>
                    </a:lnTo>
                    <a:lnTo>
                      <a:pt x="10930" y="829"/>
                    </a:lnTo>
                    <a:lnTo>
                      <a:pt x="10892" y="847"/>
                    </a:lnTo>
                    <a:lnTo>
                      <a:pt x="10854" y="866"/>
                    </a:lnTo>
                    <a:lnTo>
                      <a:pt x="10816" y="884"/>
                    </a:lnTo>
                    <a:lnTo>
                      <a:pt x="10760" y="921"/>
                    </a:lnTo>
                    <a:lnTo>
                      <a:pt x="10722" y="939"/>
                    </a:lnTo>
                    <a:lnTo>
                      <a:pt x="10666" y="958"/>
                    </a:lnTo>
                    <a:lnTo>
                      <a:pt x="10628" y="976"/>
                    </a:lnTo>
                    <a:lnTo>
                      <a:pt x="10590" y="995"/>
                    </a:lnTo>
                    <a:lnTo>
                      <a:pt x="10533" y="1013"/>
                    </a:lnTo>
                    <a:lnTo>
                      <a:pt x="10495" y="1032"/>
                    </a:lnTo>
                    <a:lnTo>
                      <a:pt x="10440" y="1050"/>
                    </a:lnTo>
                    <a:lnTo>
                      <a:pt x="10402" y="1069"/>
                    </a:lnTo>
                    <a:lnTo>
                      <a:pt x="10345" y="1087"/>
                    </a:lnTo>
                    <a:lnTo>
                      <a:pt x="10307" y="1106"/>
                    </a:lnTo>
                    <a:lnTo>
                      <a:pt x="10269" y="1106"/>
                    </a:lnTo>
                    <a:lnTo>
                      <a:pt x="10212" y="1124"/>
                    </a:lnTo>
                    <a:lnTo>
                      <a:pt x="10174" y="1143"/>
                    </a:lnTo>
                    <a:lnTo>
                      <a:pt x="10118" y="1160"/>
                    </a:lnTo>
                    <a:lnTo>
                      <a:pt x="10081" y="1179"/>
                    </a:lnTo>
                    <a:lnTo>
                      <a:pt x="10043" y="1197"/>
                    </a:lnTo>
                    <a:lnTo>
                      <a:pt x="9986" y="1216"/>
                    </a:lnTo>
                    <a:lnTo>
                      <a:pt x="9948" y="1234"/>
                    </a:lnTo>
                    <a:lnTo>
                      <a:pt x="9910" y="1253"/>
                    </a:lnTo>
                    <a:lnTo>
                      <a:pt x="9854" y="1271"/>
                    </a:lnTo>
                    <a:lnTo>
                      <a:pt x="9816" y="1289"/>
                    </a:lnTo>
                    <a:lnTo>
                      <a:pt x="9797" y="1308"/>
                    </a:lnTo>
                    <a:lnTo>
                      <a:pt x="9778" y="1308"/>
                    </a:lnTo>
                    <a:lnTo>
                      <a:pt x="9759" y="1308"/>
                    </a:lnTo>
                    <a:lnTo>
                      <a:pt x="9759" y="1326"/>
                    </a:lnTo>
                    <a:lnTo>
                      <a:pt x="9740" y="1326"/>
                    </a:lnTo>
                    <a:lnTo>
                      <a:pt x="9740" y="1326"/>
                    </a:lnTo>
                    <a:lnTo>
                      <a:pt x="9722" y="1345"/>
                    </a:lnTo>
                    <a:lnTo>
                      <a:pt x="9722" y="1345"/>
                    </a:lnTo>
                    <a:lnTo>
                      <a:pt x="9722" y="1345"/>
                    </a:lnTo>
                    <a:lnTo>
                      <a:pt x="9722" y="1345"/>
                    </a:lnTo>
                    <a:lnTo>
                      <a:pt x="9722" y="1363"/>
                    </a:lnTo>
                    <a:lnTo>
                      <a:pt x="9722" y="1363"/>
                    </a:lnTo>
                    <a:lnTo>
                      <a:pt x="9722" y="1382"/>
                    </a:lnTo>
                    <a:lnTo>
                      <a:pt x="9722" y="1382"/>
                    </a:lnTo>
                    <a:lnTo>
                      <a:pt x="9722" y="1400"/>
                    </a:lnTo>
                    <a:lnTo>
                      <a:pt x="9722" y="1400"/>
                    </a:lnTo>
                    <a:lnTo>
                      <a:pt x="11817" y="1013"/>
                    </a:lnTo>
                    <a:lnTo>
                      <a:pt x="11836" y="1419"/>
                    </a:lnTo>
                    <a:lnTo>
                      <a:pt x="6267" y="1419"/>
                    </a:lnTo>
                    <a:lnTo>
                      <a:pt x="7834" y="350"/>
                    </a:lnTo>
                    <a:lnTo>
                      <a:pt x="7815" y="332"/>
                    </a:lnTo>
                    <a:lnTo>
                      <a:pt x="7815" y="313"/>
                    </a:lnTo>
                    <a:lnTo>
                      <a:pt x="7815" y="295"/>
                    </a:lnTo>
                    <a:lnTo>
                      <a:pt x="7815" y="295"/>
                    </a:lnTo>
                    <a:lnTo>
                      <a:pt x="7815" y="313"/>
                    </a:lnTo>
                    <a:lnTo>
                      <a:pt x="7815" y="313"/>
                    </a:lnTo>
                    <a:lnTo>
                      <a:pt x="7815" y="332"/>
                    </a:lnTo>
                    <a:lnTo>
                      <a:pt x="7815" y="350"/>
                    </a:lnTo>
                    <a:lnTo>
                      <a:pt x="7834" y="350"/>
                    </a:lnTo>
                    <a:lnTo>
                      <a:pt x="7834" y="369"/>
                    </a:lnTo>
                    <a:lnTo>
                      <a:pt x="7834" y="369"/>
                    </a:lnTo>
                    <a:lnTo>
                      <a:pt x="7834" y="369"/>
                    </a:lnTo>
                    <a:lnTo>
                      <a:pt x="7815" y="369"/>
                    </a:lnTo>
                    <a:lnTo>
                      <a:pt x="7815" y="350"/>
                    </a:lnTo>
                    <a:lnTo>
                      <a:pt x="7796" y="332"/>
                    </a:lnTo>
                    <a:lnTo>
                      <a:pt x="7777" y="295"/>
                    </a:lnTo>
                    <a:lnTo>
                      <a:pt x="7758" y="313"/>
                    </a:lnTo>
                    <a:lnTo>
                      <a:pt x="7721" y="332"/>
                    </a:lnTo>
                    <a:lnTo>
                      <a:pt x="7702" y="350"/>
                    </a:lnTo>
                    <a:lnTo>
                      <a:pt x="7664" y="369"/>
                    </a:lnTo>
                    <a:lnTo>
                      <a:pt x="7645" y="387"/>
                    </a:lnTo>
                    <a:lnTo>
                      <a:pt x="7608" y="406"/>
                    </a:lnTo>
                    <a:lnTo>
                      <a:pt x="7589" y="406"/>
                    </a:lnTo>
                    <a:lnTo>
                      <a:pt x="7551" y="424"/>
                    </a:lnTo>
                    <a:lnTo>
                      <a:pt x="7532" y="443"/>
                    </a:lnTo>
                    <a:lnTo>
                      <a:pt x="7494" y="443"/>
                    </a:lnTo>
                    <a:lnTo>
                      <a:pt x="7476" y="461"/>
                    </a:lnTo>
                    <a:lnTo>
                      <a:pt x="7438" y="479"/>
                    </a:lnTo>
                    <a:lnTo>
                      <a:pt x="7419" y="479"/>
                    </a:lnTo>
                    <a:lnTo>
                      <a:pt x="7381" y="497"/>
                    </a:lnTo>
                    <a:lnTo>
                      <a:pt x="7362" y="497"/>
                    </a:lnTo>
                    <a:lnTo>
                      <a:pt x="7324" y="515"/>
                    </a:lnTo>
                    <a:lnTo>
                      <a:pt x="7305" y="515"/>
                    </a:lnTo>
                    <a:lnTo>
                      <a:pt x="7267" y="534"/>
                    </a:lnTo>
                    <a:lnTo>
                      <a:pt x="7249" y="534"/>
                    </a:lnTo>
                    <a:lnTo>
                      <a:pt x="7212" y="552"/>
                    </a:lnTo>
                    <a:lnTo>
                      <a:pt x="7193" y="571"/>
                    </a:lnTo>
                    <a:lnTo>
                      <a:pt x="7155" y="571"/>
                    </a:lnTo>
                    <a:lnTo>
                      <a:pt x="7136" y="589"/>
                    </a:lnTo>
                    <a:lnTo>
                      <a:pt x="7098" y="608"/>
                    </a:lnTo>
                    <a:lnTo>
                      <a:pt x="7079" y="608"/>
                    </a:lnTo>
                    <a:lnTo>
                      <a:pt x="7041" y="626"/>
                    </a:lnTo>
                    <a:lnTo>
                      <a:pt x="7022" y="645"/>
                    </a:lnTo>
                    <a:lnTo>
                      <a:pt x="6984" y="663"/>
                    </a:lnTo>
                    <a:lnTo>
                      <a:pt x="6965" y="682"/>
                    </a:lnTo>
                    <a:lnTo>
                      <a:pt x="6946" y="700"/>
                    </a:lnTo>
                    <a:lnTo>
                      <a:pt x="6909" y="719"/>
                    </a:lnTo>
                    <a:lnTo>
                      <a:pt x="6891" y="737"/>
                    </a:lnTo>
                    <a:lnTo>
                      <a:pt x="6853" y="756"/>
                    </a:lnTo>
                    <a:lnTo>
                      <a:pt x="6834" y="774"/>
                    </a:lnTo>
                    <a:lnTo>
                      <a:pt x="6796" y="793"/>
                    </a:lnTo>
                    <a:lnTo>
                      <a:pt x="6777" y="793"/>
                    </a:lnTo>
                    <a:lnTo>
                      <a:pt x="6739" y="810"/>
                    </a:lnTo>
                    <a:lnTo>
                      <a:pt x="6720" y="829"/>
                    </a:lnTo>
                    <a:lnTo>
                      <a:pt x="6682" y="847"/>
                    </a:lnTo>
                    <a:lnTo>
                      <a:pt x="6664" y="847"/>
                    </a:lnTo>
                    <a:lnTo>
                      <a:pt x="6645" y="866"/>
                    </a:lnTo>
                    <a:lnTo>
                      <a:pt x="6607" y="866"/>
                    </a:lnTo>
                    <a:lnTo>
                      <a:pt x="6588" y="884"/>
                    </a:lnTo>
                    <a:lnTo>
                      <a:pt x="6551" y="902"/>
                    </a:lnTo>
                    <a:lnTo>
                      <a:pt x="6532" y="902"/>
                    </a:lnTo>
                    <a:lnTo>
                      <a:pt x="6494" y="921"/>
                    </a:lnTo>
                    <a:lnTo>
                      <a:pt x="6475" y="921"/>
                    </a:lnTo>
                    <a:lnTo>
                      <a:pt x="6437" y="939"/>
                    </a:lnTo>
                    <a:lnTo>
                      <a:pt x="6418" y="939"/>
                    </a:lnTo>
                    <a:lnTo>
                      <a:pt x="6381" y="958"/>
                    </a:lnTo>
                    <a:lnTo>
                      <a:pt x="6362" y="958"/>
                    </a:lnTo>
                    <a:lnTo>
                      <a:pt x="6324" y="976"/>
                    </a:lnTo>
                    <a:lnTo>
                      <a:pt x="6286" y="995"/>
                    </a:lnTo>
                    <a:lnTo>
                      <a:pt x="6267" y="995"/>
                    </a:lnTo>
                    <a:lnTo>
                      <a:pt x="6229" y="1013"/>
                    </a:lnTo>
                    <a:lnTo>
                      <a:pt x="6210" y="1013"/>
                    </a:lnTo>
                    <a:lnTo>
                      <a:pt x="6173" y="1032"/>
                    </a:lnTo>
                    <a:lnTo>
                      <a:pt x="6154" y="1050"/>
                    </a:lnTo>
                    <a:lnTo>
                      <a:pt x="6117" y="1050"/>
                    </a:lnTo>
                    <a:lnTo>
                      <a:pt x="6098" y="1069"/>
                    </a:lnTo>
                    <a:lnTo>
                      <a:pt x="6060" y="1087"/>
                    </a:lnTo>
                    <a:lnTo>
                      <a:pt x="6041" y="1106"/>
                    </a:lnTo>
                    <a:lnTo>
                      <a:pt x="6003" y="1106"/>
                    </a:lnTo>
                    <a:lnTo>
                      <a:pt x="5984" y="1124"/>
                    </a:lnTo>
                    <a:lnTo>
                      <a:pt x="5946" y="1143"/>
                    </a:lnTo>
                    <a:lnTo>
                      <a:pt x="5908" y="1160"/>
                    </a:lnTo>
                    <a:lnTo>
                      <a:pt x="5889" y="1179"/>
                    </a:lnTo>
                    <a:lnTo>
                      <a:pt x="5852" y="1197"/>
                    </a:lnTo>
                    <a:lnTo>
                      <a:pt x="5815" y="1216"/>
                    </a:lnTo>
                    <a:lnTo>
                      <a:pt x="5777" y="1234"/>
                    </a:lnTo>
                    <a:lnTo>
                      <a:pt x="5758" y="1253"/>
                    </a:lnTo>
                    <a:lnTo>
                      <a:pt x="5720" y="1271"/>
                    </a:lnTo>
                    <a:lnTo>
                      <a:pt x="5682" y="1289"/>
                    </a:lnTo>
                    <a:lnTo>
                      <a:pt x="5663" y="1308"/>
                    </a:lnTo>
                    <a:lnTo>
                      <a:pt x="5625" y="1326"/>
                    </a:lnTo>
                    <a:lnTo>
                      <a:pt x="5588" y="1345"/>
                    </a:lnTo>
                    <a:lnTo>
                      <a:pt x="5550" y="1363"/>
                    </a:lnTo>
                    <a:lnTo>
                      <a:pt x="5512" y="1382"/>
                    </a:lnTo>
                    <a:lnTo>
                      <a:pt x="5493" y="1400"/>
                    </a:lnTo>
                    <a:lnTo>
                      <a:pt x="5456" y="1419"/>
                    </a:lnTo>
                    <a:lnTo>
                      <a:pt x="1397" y="1419"/>
                    </a:lnTo>
                    <a:lnTo>
                      <a:pt x="1321" y="1197"/>
                    </a:lnTo>
                    <a:lnTo>
                      <a:pt x="2889" y="0"/>
                    </a:lnTo>
                    <a:lnTo>
                      <a:pt x="11194" y="0"/>
                    </a:lnTo>
                    <a:close/>
                    <a:moveTo>
                      <a:pt x="2473" y="0"/>
                    </a:moveTo>
                    <a:lnTo>
                      <a:pt x="1737" y="406"/>
                    </a:lnTo>
                    <a:lnTo>
                      <a:pt x="416" y="1382"/>
                    </a:lnTo>
                    <a:lnTo>
                      <a:pt x="245" y="1289"/>
                    </a:lnTo>
                    <a:lnTo>
                      <a:pt x="0" y="663"/>
                    </a:lnTo>
                    <a:lnTo>
                      <a:pt x="547" y="0"/>
                    </a:lnTo>
                    <a:lnTo>
                      <a:pt x="247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89" name="Freeform 155"/>
              <p:cNvSpPr/>
              <p:nvPr/>
            </p:nvSpPr>
            <p:spPr>
              <a:xfrm>
                <a:off x="5553000" y="5839560"/>
                <a:ext cx="2982960" cy="109800"/>
              </a:xfrm>
              <a:custGeom>
                <a:avLst/>
                <a:gdLst/>
                <a:ahLst/>
                <a:rect l="l" t="t" r="r" b="b"/>
                <a:pathLst>
                  <a:path w="12157" h="1418">
                    <a:moveTo>
                      <a:pt x="11100" y="0"/>
                    </a:moveTo>
                    <a:lnTo>
                      <a:pt x="11062" y="18"/>
                    </a:lnTo>
                    <a:lnTo>
                      <a:pt x="11043" y="37"/>
                    </a:lnTo>
                    <a:lnTo>
                      <a:pt x="11005" y="74"/>
                    </a:lnTo>
                    <a:lnTo>
                      <a:pt x="10967" y="91"/>
                    </a:lnTo>
                    <a:lnTo>
                      <a:pt x="10930" y="110"/>
                    </a:lnTo>
                    <a:lnTo>
                      <a:pt x="10892" y="128"/>
                    </a:lnTo>
                    <a:lnTo>
                      <a:pt x="10835" y="147"/>
                    </a:lnTo>
                    <a:lnTo>
                      <a:pt x="10797" y="165"/>
                    </a:lnTo>
                    <a:lnTo>
                      <a:pt x="10760" y="183"/>
                    </a:lnTo>
                    <a:lnTo>
                      <a:pt x="10722" y="202"/>
                    </a:lnTo>
                    <a:lnTo>
                      <a:pt x="10685" y="220"/>
                    </a:lnTo>
                    <a:lnTo>
                      <a:pt x="10647" y="239"/>
                    </a:lnTo>
                    <a:lnTo>
                      <a:pt x="10590" y="257"/>
                    </a:lnTo>
                    <a:lnTo>
                      <a:pt x="10552" y="276"/>
                    </a:lnTo>
                    <a:lnTo>
                      <a:pt x="10514" y="294"/>
                    </a:lnTo>
                    <a:lnTo>
                      <a:pt x="10476" y="313"/>
                    </a:lnTo>
                    <a:lnTo>
                      <a:pt x="10421" y="331"/>
                    </a:lnTo>
                    <a:lnTo>
                      <a:pt x="10383" y="350"/>
                    </a:lnTo>
                    <a:lnTo>
                      <a:pt x="10345" y="350"/>
                    </a:lnTo>
                    <a:lnTo>
                      <a:pt x="10307" y="368"/>
                    </a:lnTo>
                    <a:lnTo>
                      <a:pt x="10250" y="387"/>
                    </a:lnTo>
                    <a:lnTo>
                      <a:pt x="10212" y="405"/>
                    </a:lnTo>
                    <a:lnTo>
                      <a:pt x="10174" y="424"/>
                    </a:lnTo>
                    <a:lnTo>
                      <a:pt x="10118" y="441"/>
                    </a:lnTo>
                    <a:lnTo>
                      <a:pt x="10080" y="460"/>
                    </a:lnTo>
                    <a:lnTo>
                      <a:pt x="10043" y="478"/>
                    </a:lnTo>
                    <a:lnTo>
                      <a:pt x="10005" y="497"/>
                    </a:lnTo>
                    <a:lnTo>
                      <a:pt x="9967" y="515"/>
                    </a:lnTo>
                    <a:lnTo>
                      <a:pt x="9910" y="515"/>
                    </a:lnTo>
                    <a:lnTo>
                      <a:pt x="9873" y="534"/>
                    </a:lnTo>
                    <a:lnTo>
                      <a:pt x="9835" y="552"/>
                    </a:lnTo>
                    <a:lnTo>
                      <a:pt x="9797" y="570"/>
                    </a:lnTo>
                    <a:lnTo>
                      <a:pt x="9778" y="589"/>
                    </a:lnTo>
                    <a:lnTo>
                      <a:pt x="9759" y="589"/>
                    </a:lnTo>
                    <a:lnTo>
                      <a:pt x="9740" y="589"/>
                    </a:lnTo>
                    <a:lnTo>
                      <a:pt x="9740" y="607"/>
                    </a:lnTo>
                    <a:lnTo>
                      <a:pt x="9721" y="607"/>
                    </a:lnTo>
                    <a:lnTo>
                      <a:pt x="9721" y="607"/>
                    </a:lnTo>
                    <a:lnTo>
                      <a:pt x="9703" y="626"/>
                    </a:lnTo>
                    <a:lnTo>
                      <a:pt x="9703" y="626"/>
                    </a:lnTo>
                    <a:lnTo>
                      <a:pt x="9703" y="626"/>
                    </a:lnTo>
                    <a:lnTo>
                      <a:pt x="9703" y="626"/>
                    </a:lnTo>
                    <a:lnTo>
                      <a:pt x="9703" y="644"/>
                    </a:lnTo>
                    <a:lnTo>
                      <a:pt x="9703" y="644"/>
                    </a:lnTo>
                    <a:lnTo>
                      <a:pt x="9703" y="663"/>
                    </a:lnTo>
                    <a:lnTo>
                      <a:pt x="9703" y="663"/>
                    </a:lnTo>
                    <a:lnTo>
                      <a:pt x="9703" y="681"/>
                    </a:lnTo>
                    <a:lnTo>
                      <a:pt x="9703" y="681"/>
                    </a:lnTo>
                    <a:lnTo>
                      <a:pt x="11798" y="294"/>
                    </a:lnTo>
                    <a:lnTo>
                      <a:pt x="11836" y="1068"/>
                    </a:lnTo>
                    <a:lnTo>
                      <a:pt x="11854" y="1087"/>
                    </a:lnTo>
                    <a:lnTo>
                      <a:pt x="11854" y="1124"/>
                    </a:lnTo>
                    <a:lnTo>
                      <a:pt x="11873" y="1141"/>
                    </a:lnTo>
                    <a:lnTo>
                      <a:pt x="11892" y="1141"/>
                    </a:lnTo>
                    <a:lnTo>
                      <a:pt x="11892" y="1160"/>
                    </a:lnTo>
                    <a:lnTo>
                      <a:pt x="11911" y="1160"/>
                    </a:lnTo>
                    <a:lnTo>
                      <a:pt x="11930" y="1141"/>
                    </a:lnTo>
                    <a:lnTo>
                      <a:pt x="11949" y="1141"/>
                    </a:lnTo>
                    <a:lnTo>
                      <a:pt x="11987" y="1141"/>
                    </a:lnTo>
                    <a:lnTo>
                      <a:pt x="12006" y="1124"/>
                    </a:lnTo>
                    <a:lnTo>
                      <a:pt x="12025" y="1124"/>
                    </a:lnTo>
                    <a:lnTo>
                      <a:pt x="12043" y="1105"/>
                    </a:lnTo>
                    <a:lnTo>
                      <a:pt x="12062" y="1105"/>
                    </a:lnTo>
                    <a:lnTo>
                      <a:pt x="12081" y="1105"/>
                    </a:lnTo>
                    <a:lnTo>
                      <a:pt x="12100" y="1105"/>
                    </a:lnTo>
                    <a:lnTo>
                      <a:pt x="12119" y="1124"/>
                    </a:lnTo>
                    <a:lnTo>
                      <a:pt x="12157" y="1418"/>
                    </a:lnTo>
                    <a:lnTo>
                      <a:pt x="5191" y="1418"/>
                    </a:lnTo>
                    <a:lnTo>
                      <a:pt x="6173" y="755"/>
                    </a:lnTo>
                    <a:lnTo>
                      <a:pt x="7267" y="0"/>
                    </a:lnTo>
                    <a:lnTo>
                      <a:pt x="11100" y="0"/>
                    </a:lnTo>
                    <a:close/>
                    <a:moveTo>
                      <a:pt x="6890" y="0"/>
                    </a:moveTo>
                    <a:lnTo>
                      <a:pt x="6890" y="0"/>
                    </a:lnTo>
                    <a:lnTo>
                      <a:pt x="6890" y="0"/>
                    </a:lnTo>
                    <a:lnTo>
                      <a:pt x="6890" y="0"/>
                    </a:lnTo>
                    <a:lnTo>
                      <a:pt x="6890" y="18"/>
                    </a:lnTo>
                    <a:lnTo>
                      <a:pt x="6872" y="18"/>
                    </a:lnTo>
                    <a:lnTo>
                      <a:pt x="6872" y="18"/>
                    </a:lnTo>
                    <a:lnTo>
                      <a:pt x="6872" y="18"/>
                    </a:lnTo>
                    <a:lnTo>
                      <a:pt x="6872" y="18"/>
                    </a:lnTo>
                    <a:lnTo>
                      <a:pt x="6834" y="37"/>
                    </a:lnTo>
                    <a:lnTo>
                      <a:pt x="6815" y="55"/>
                    </a:lnTo>
                    <a:lnTo>
                      <a:pt x="6777" y="74"/>
                    </a:lnTo>
                    <a:lnTo>
                      <a:pt x="6758" y="74"/>
                    </a:lnTo>
                    <a:lnTo>
                      <a:pt x="6720" y="91"/>
                    </a:lnTo>
                    <a:lnTo>
                      <a:pt x="6701" y="110"/>
                    </a:lnTo>
                    <a:lnTo>
                      <a:pt x="6663" y="128"/>
                    </a:lnTo>
                    <a:lnTo>
                      <a:pt x="6645" y="128"/>
                    </a:lnTo>
                    <a:lnTo>
                      <a:pt x="6626" y="147"/>
                    </a:lnTo>
                    <a:lnTo>
                      <a:pt x="6588" y="147"/>
                    </a:lnTo>
                    <a:lnTo>
                      <a:pt x="6569" y="165"/>
                    </a:lnTo>
                    <a:lnTo>
                      <a:pt x="6532" y="183"/>
                    </a:lnTo>
                    <a:lnTo>
                      <a:pt x="6513" y="183"/>
                    </a:lnTo>
                    <a:lnTo>
                      <a:pt x="6475" y="202"/>
                    </a:lnTo>
                    <a:lnTo>
                      <a:pt x="6456" y="202"/>
                    </a:lnTo>
                    <a:lnTo>
                      <a:pt x="6418" y="220"/>
                    </a:lnTo>
                    <a:lnTo>
                      <a:pt x="6399" y="220"/>
                    </a:lnTo>
                    <a:lnTo>
                      <a:pt x="6362" y="239"/>
                    </a:lnTo>
                    <a:lnTo>
                      <a:pt x="6343" y="239"/>
                    </a:lnTo>
                    <a:lnTo>
                      <a:pt x="6305" y="257"/>
                    </a:lnTo>
                    <a:lnTo>
                      <a:pt x="6267" y="276"/>
                    </a:lnTo>
                    <a:lnTo>
                      <a:pt x="6248" y="276"/>
                    </a:lnTo>
                    <a:lnTo>
                      <a:pt x="6210" y="294"/>
                    </a:lnTo>
                    <a:lnTo>
                      <a:pt x="6191" y="294"/>
                    </a:lnTo>
                    <a:lnTo>
                      <a:pt x="6154" y="313"/>
                    </a:lnTo>
                    <a:lnTo>
                      <a:pt x="6135" y="331"/>
                    </a:lnTo>
                    <a:lnTo>
                      <a:pt x="6098" y="331"/>
                    </a:lnTo>
                    <a:lnTo>
                      <a:pt x="6079" y="350"/>
                    </a:lnTo>
                    <a:lnTo>
                      <a:pt x="6041" y="368"/>
                    </a:lnTo>
                    <a:lnTo>
                      <a:pt x="6022" y="387"/>
                    </a:lnTo>
                    <a:lnTo>
                      <a:pt x="5984" y="387"/>
                    </a:lnTo>
                    <a:lnTo>
                      <a:pt x="5965" y="405"/>
                    </a:lnTo>
                    <a:lnTo>
                      <a:pt x="5908" y="441"/>
                    </a:lnTo>
                    <a:lnTo>
                      <a:pt x="5851" y="478"/>
                    </a:lnTo>
                    <a:lnTo>
                      <a:pt x="5796" y="497"/>
                    </a:lnTo>
                    <a:lnTo>
                      <a:pt x="5739" y="534"/>
                    </a:lnTo>
                    <a:lnTo>
                      <a:pt x="5682" y="570"/>
                    </a:lnTo>
                    <a:lnTo>
                      <a:pt x="5644" y="589"/>
                    </a:lnTo>
                    <a:lnTo>
                      <a:pt x="5587" y="626"/>
                    </a:lnTo>
                    <a:lnTo>
                      <a:pt x="5531" y="663"/>
                    </a:lnTo>
                    <a:lnTo>
                      <a:pt x="5474" y="681"/>
                    </a:lnTo>
                    <a:lnTo>
                      <a:pt x="5418" y="718"/>
                    </a:lnTo>
                    <a:lnTo>
                      <a:pt x="5361" y="755"/>
                    </a:lnTo>
                    <a:lnTo>
                      <a:pt x="5305" y="774"/>
                    </a:lnTo>
                    <a:lnTo>
                      <a:pt x="5248" y="810"/>
                    </a:lnTo>
                    <a:lnTo>
                      <a:pt x="5191" y="847"/>
                    </a:lnTo>
                    <a:lnTo>
                      <a:pt x="5134" y="865"/>
                    </a:lnTo>
                    <a:lnTo>
                      <a:pt x="5078" y="902"/>
                    </a:lnTo>
                    <a:lnTo>
                      <a:pt x="5022" y="939"/>
                    </a:lnTo>
                    <a:lnTo>
                      <a:pt x="4965" y="976"/>
                    </a:lnTo>
                    <a:lnTo>
                      <a:pt x="4927" y="994"/>
                    </a:lnTo>
                    <a:lnTo>
                      <a:pt x="4870" y="1031"/>
                    </a:lnTo>
                    <a:lnTo>
                      <a:pt x="4813" y="1068"/>
                    </a:lnTo>
                    <a:lnTo>
                      <a:pt x="4758" y="1087"/>
                    </a:lnTo>
                    <a:lnTo>
                      <a:pt x="4701" y="1124"/>
                    </a:lnTo>
                    <a:lnTo>
                      <a:pt x="4644" y="1160"/>
                    </a:lnTo>
                    <a:lnTo>
                      <a:pt x="4587" y="1197"/>
                    </a:lnTo>
                    <a:lnTo>
                      <a:pt x="4530" y="1215"/>
                    </a:lnTo>
                    <a:lnTo>
                      <a:pt x="4493" y="1252"/>
                    </a:lnTo>
                    <a:lnTo>
                      <a:pt x="4436" y="1289"/>
                    </a:lnTo>
                    <a:lnTo>
                      <a:pt x="4380" y="1326"/>
                    </a:lnTo>
                    <a:lnTo>
                      <a:pt x="4323" y="1345"/>
                    </a:lnTo>
                    <a:lnTo>
                      <a:pt x="4266" y="1381"/>
                    </a:lnTo>
                    <a:lnTo>
                      <a:pt x="4229" y="1418"/>
                    </a:lnTo>
                    <a:lnTo>
                      <a:pt x="3115" y="1418"/>
                    </a:lnTo>
                    <a:lnTo>
                      <a:pt x="3096" y="1363"/>
                    </a:lnTo>
                    <a:lnTo>
                      <a:pt x="3020" y="1418"/>
                    </a:lnTo>
                    <a:lnTo>
                      <a:pt x="1416" y="1418"/>
                    </a:lnTo>
                    <a:lnTo>
                      <a:pt x="1435" y="1400"/>
                    </a:lnTo>
                    <a:lnTo>
                      <a:pt x="1454" y="1400"/>
                    </a:lnTo>
                    <a:lnTo>
                      <a:pt x="1473" y="1381"/>
                    </a:lnTo>
                    <a:lnTo>
                      <a:pt x="1492" y="1363"/>
                    </a:lnTo>
                    <a:lnTo>
                      <a:pt x="1492" y="1363"/>
                    </a:lnTo>
                    <a:lnTo>
                      <a:pt x="1511" y="1345"/>
                    </a:lnTo>
                    <a:lnTo>
                      <a:pt x="1530" y="1326"/>
                    </a:lnTo>
                    <a:lnTo>
                      <a:pt x="1549" y="1308"/>
                    </a:lnTo>
                    <a:lnTo>
                      <a:pt x="1302" y="478"/>
                    </a:lnTo>
                    <a:lnTo>
                      <a:pt x="1944" y="0"/>
                    </a:lnTo>
                    <a:lnTo>
                      <a:pt x="6890" y="0"/>
                    </a:lnTo>
                    <a:close/>
                    <a:moveTo>
                      <a:pt x="1283" y="0"/>
                    </a:moveTo>
                    <a:lnTo>
                      <a:pt x="397" y="663"/>
                    </a:lnTo>
                    <a:lnTo>
                      <a:pt x="226" y="570"/>
                    </a:lnTo>
                    <a:lnTo>
                      <a:pt x="0" y="0"/>
                    </a:lnTo>
                    <a:lnTo>
                      <a:pt x="128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90" name="Freeform 156"/>
              <p:cNvSpPr/>
              <p:nvPr/>
            </p:nvSpPr>
            <p:spPr>
              <a:xfrm>
                <a:off x="5852520" y="5893920"/>
                <a:ext cx="2689200" cy="109440"/>
              </a:xfrm>
              <a:custGeom>
                <a:avLst/>
                <a:gdLst/>
                <a:ahLst/>
                <a:rect l="l" t="t" r="r" b="b"/>
                <a:pathLst>
                  <a:path w="10967" h="1419">
                    <a:moveTo>
                      <a:pt x="10608" y="0"/>
                    </a:moveTo>
                    <a:lnTo>
                      <a:pt x="10627" y="368"/>
                    </a:lnTo>
                    <a:lnTo>
                      <a:pt x="10645" y="387"/>
                    </a:lnTo>
                    <a:lnTo>
                      <a:pt x="10645" y="424"/>
                    </a:lnTo>
                    <a:lnTo>
                      <a:pt x="10664" y="441"/>
                    </a:lnTo>
                    <a:lnTo>
                      <a:pt x="10683" y="441"/>
                    </a:lnTo>
                    <a:lnTo>
                      <a:pt x="10683" y="460"/>
                    </a:lnTo>
                    <a:lnTo>
                      <a:pt x="10702" y="460"/>
                    </a:lnTo>
                    <a:lnTo>
                      <a:pt x="10721" y="441"/>
                    </a:lnTo>
                    <a:lnTo>
                      <a:pt x="10740" y="441"/>
                    </a:lnTo>
                    <a:lnTo>
                      <a:pt x="10778" y="441"/>
                    </a:lnTo>
                    <a:lnTo>
                      <a:pt x="10797" y="424"/>
                    </a:lnTo>
                    <a:lnTo>
                      <a:pt x="10816" y="424"/>
                    </a:lnTo>
                    <a:lnTo>
                      <a:pt x="10834" y="405"/>
                    </a:lnTo>
                    <a:lnTo>
                      <a:pt x="10853" y="405"/>
                    </a:lnTo>
                    <a:lnTo>
                      <a:pt x="10872" y="405"/>
                    </a:lnTo>
                    <a:lnTo>
                      <a:pt x="10891" y="405"/>
                    </a:lnTo>
                    <a:lnTo>
                      <a:pt x="10910" y="424"/>
                    </a:lnTo>
                    <a:lnTo>
                      <a:pt x="10967" y="1123"/>
                    </a:lnTo>
                    <a:lnTo>
                      <a:pt x="10608" y="1419"/>
                    </a:lnTo>
                    <a:lnTo>
                      <a:pt x="3359" y="1419"/>
                    </a:lnTo>
                    <a:lnTo>
                      <a:pt x="3359" y="1419"/>
                    </a:lnTo>
                    <a:lnTo>
                      <a:pt x="3359" y="1419"/>
                    </a:lnTo>
                    <a:lnTo>
                      <a:pt x="3359" y="1419"/>
                    </a:lnTo>
                    <a:lnTo>
                      <a:pt x="3359" y="1400"/>
                    </a:lnTo>
                    <a:lnTo>
                      <a:pt x="3359" y="1400"/>
                    </a:lnTo>
                    <a:lnTo>
                      <a:pt x="3359" y="1400"/>
                    </a:lnTo>
                    <a:lnTo>
                      <a:pt x="3359" y="1382"/>
                    </a:lnTo>
                    <a:lnTo>
                      <a:pt x="3359" y="1382"/>
                    </a:lnTo>
                    <a:lnTo>
                      <a:pt x="3246" y="1215"/>
                    </a:lnTo>
                    <a:lnTo>
                      <a:pt x="4964" y="55"/>
                    </a:lnTo>
                    <a:lnTo>
                      <a:pt x="5039" y="0"/>
                    </a:lnTo>
                    <a:lnTo>
                      <a:pt x="10608" y="0"/>
                    </a:lnTo>
                    <a:close/>
                    <a:moveTo>
                      <a:pt x="4228" y="0"/>
                    </a:moveTo>
                    <a:lnTo>
                      <a:pt x="4171" y="37"/>
                    </a:lnTo>
                    <a:lnTo>
                      <a:pt x="4133" y="55"/>
                    </a:lnTo>
                    <a:lnTo>
                      <a:pt x="4077" y="91"/>
                    </a:lnTo>
                    <a:lnTo>
                      <a:pt x="4039" y="110"/>
                    </a:lnTo>
                    <a:lnTo>
                      <a:pt x="3982" y="147"/>
                    </a:lnTo>
                    <a:lnTo>
                      <a:pt x="3944" y="165"/>
                    </a:lnTo>
                    <a:lnTo>
                      <a:pt x="3888" y="202"/>
                    </a:lnTo>
                    <a:lnTo>
                      <a:pt x="3850" y="221"/>
                    </a:lnTo>
                    <a:lnTo>
                      <a:pt x="3794" y="239"/>
                    </a:lnTo>
                    <a:lnTo>
                      <a:pt x="3756" y="276"/>
                    </a:lnTo>
                    <a:lnTo>
                      <a:pt x="3699" y="294"/>
                    </a:lnTo>
                    <a:lnTo>
                      <a:pt x="3661" y="331"/>
                    </a:lnTo>
                    <a:lnTo>
                      <a:pt x="3604" y="350"/>
                    </a:lnTo>
                    <a:lnTo>
                      <a:pt x="3566" y="387"/>
                    </a:lnTo>
                    <a:lnTo>
                      <a:pt x="3511" y="405"/>
                    </a:lnTo>
                    <a:lnTo>
                      <a:pt x="3473" y="441"/>
                    </a:lnTo>
                    <a:lnTo>
                      <a:pt x="3416" y="460"/>
                    </a:lnTo>
                    <a:lnTo>
                      <a:pt x="3378" y="497"/>
                    </a:lnTo>
                    <a:lnTo>
                      <a:pt x="3321" y="515"/>
                    </a:lnTo>
                    <a:lnTo>
                      <a:pt x="3284" y="552"/>
                    </a:lnTo>
                    <a:lnTo>
                      <a:pt x="3246" y="571"/>
                    </a:lnTo>
                    <a:lnTo>
                      <a:pt x="3190" y="608"/>
                    </a:lnTo>
                    <a:lnTo>
                      <a:pt x="3152" y="626"/>
                    </a:lnTo>
                    <a:lnTo>
                      <a:pt x="3095" y="663"/>
                    </a:lnTo>
                    <a:lnTo>
                      <a:pt x="3057" y="681"/>
                    </a:lnTo>
                    <a:lnTo>
                      <a:pt x="3020" y="718"/>
                    </a:lnTo>
                    <a:lnTo>
                      <a:pt x="2963" y="755"/>
                    </a:lnTo>
                    <a:lnTo>
                      <a:pt x="2925" y="773"/>
                    </a:lnTo>
                    <a:lnTo>
                      <a:pt x="2887" y="810"/>
                    </a:lnTo>
                    <a:lnTo>
                      <a:pt x="2831" y="828"/>
                    </a:lnTo>
                    <a:lnTo>
                      <a:pt x="2793" y="865"/>
                    </a:lnTo>
                    <a:lnTo>
                      <a:pt x="2756" y="884"/>
                    </a:lnTo>
                    <a:lnTo>
                      <a:pt x="2737" y="902"/>
                    </a:lnTo>
                    <a:lnTo>
                      <a:pt x="2718" y="921"/>
                    </a:lnTo>
                    <a:lnTo>
                      <a:pt x="2718" y="921"/>
                    </a:lnTo>
                    <a:lnTo>
                      <a:pt x="2699" y="939"/>
                    </a:lnTo>
                    <a:lnTo>
                      <a:pt x="2699" y="939"/>
                    </a:lnTo>
                    <a:lnTo>
                      <a:pt x="2680" y="958"/>
                    </a:lnTo>
                    <a:lnTo>
                      <a:pt x="2680" y="958"/>
                    </a:lnTo>
                    <a:lnTo>
                      <a:pt x="2661" y="976"/>
                    </a:lnTo>
                    <a:lnTo>
                      <a:pt x="2661" y="976"/>
                    </a:lnTo>
                    <a:lnTo>
                      <a:pt x="2642" y="995"/>
                    </a:lnTo>
                    <a:lnTo>
                      <a:pt x="2642" y="995"/>
                    </a:lnTo>
                    <a:lnTo>
                      <a:pt x="2623" y="995"/>
                    </a:lnTo>
                    <a:lnTo>
                      <a:pt x="2623" y="1013"/>
                    </a:lnTo>
                    <a:lnTo>
                      <a:pt x="2604" y="1013"/>
                    </a:lnTo>
                    <a:lnTo>
                      <a:pt x="2585" y="1032"/>
                    </a:lnTo>
                    <a:lnTo>
                      <a:pt x="2585" y="1032"/>
                    </a:lnTo>
                    <a:lnTo>
                      <a:pt x="2566" y="1032"/>
                    </a:lnTo>
                    <a:lnTo>
                      <a:pt x="2566" y="1032"/>
                    </a:lnTo>
                    <a:lnTo>
                      <a:pt x="2547" y="1032"/>
                    </a:lnTo>
                    <a:lnTo>
                      <a:pt x="2528" y="1032"/>
                    </a:lnTo>
                    <a:lnTo>
                      <a:pt x="2509" y="1032"/>
                    </a:lnTo>
                    <a:lnTo>
                      <a:pt x="2509" y="1013"/>
                    </a:lnTo>
                    <a:lnTo>
                      <a:pt x="2492" y="1013"/>
                    </a:lnTo>
                    <a:lnTo>
                      <a:pt x="2473" y="1013"/>
                    </a:lnTo>
                    <a:lnTo>
                      <a:pt x="2095" y="1234"/>
                    </a:lnTo>
                    <a:lnTo>
                      <a:pt x="1887" y="663"/>
                    </a:lnTo>
                    <a:lnTo>
                      <a:pt x="641" y="1419"/>
                    </a:lnTo>
                    <a:lnTo>
                      <a:pt x="150" y="1419"/>
                    </a:lnTo>
                    <a:lnTo>
                      <a:pt x="150" y="1400"/>
                    </a:lnTo>
                    <a:lnTo>
                      <a:pt x="131" y="1382"/>
                    </a:lnTo>
                    <a:lnTo>
                      <a:pt x="131" y="1363"/>
                    </a:lnTo>
                    <a:lnTo>
                      <a:pt x="131" y="1326"/>
                    </a:lnTo>
                    <a:lnTo>
                      <a:pt x="112" y="1308"/>
                    </a:lnTo>
                    <a:lnTo>
                      <a:pt x="112" y="1289"/>
                    </a:lnTo>
                    <a:lnTo>
                      <a:pt x="112" y="1252"/>
                    </a:lnTo>
                    <a:lnTo>
                      <a:pt x="112" y="1234"/>
                    </a:lnTo>
                    <a:lnTo>
                      <a:pt x="93" y="1215"/>
                    </a:lnTo>
                    <a:lnTo>
                      <a:pt x="93" y="1178"/>
                    </a:lnTo>
                    <a:lnTo>
                      <a:pt x="93" y="1160"/>
                    </a:lnTo>
                    <a:lnTo>
                      <a:pt x="93" y="1123"/>
                    </a:lnTo>
                    <a:lnTo>
                      <a:pt x="93" y="1105"/>
                    </a:lnTo>
                    <a:lnTo>
                      <a:pt x="93" y="1087"/>
                    </a:lnTo>
                    <a:lnTo>
                      <a:pt x="74" y="1050"/>
                    </a:lnTo>
                    <a:lnTo>
                      <a:pt x="74" y="1032"/>
                    </a:lnTo>
                    <a:lnTo>
                      <a:pt x="74" y="1013"/>
                    </a:lnTo>
                    <a:lnTo>
                      <a:pt x="74" y="1013"/>
                    </a:lnTo>
                    <a:lnTo>
                      <a:pt x="56" y="995"/>
                    </a:lnTo>
                    <a:lnTo>
                      <a:pt x="56" y="995"/>
                    </a:lnTo>
                    <a:lnTo>
                      <a:pt x="37" y="976"/>
                    </a:lnTo>
                    <a:lnTo>
                      <a:pt x="18" y="958"/>
                    </a:lnTo>
                    <a:lnTo>
                      <a:pt x="18" y="958"/>
                    </a:lnTo>
                    <a:lnTo>
                      <a:pt x="0" y="939"/>
                    </a:lnTo>
                    <a:lnTo>
                      <a:pt x="18" y="902"/>
                    </a:lnTo>
                    <a:lnTo>
                      <a:pt x="37" y="884"/>
                    </a:lnTo>
                    <a:lnTo>
                      <a:pt x="56" y="865"/>
                    </a:lnTo>
                    <a:lnTo>
                      <a:pt x="74" y="828"/>
                    </a:lnTo>
                    <a:lnTo>
                      <a:pt x="93" y="810"/>
                    </a:lnTo>
                    <a:lnTo>
                      <a:pt x="112" y="791"/>
                    </a:lnTo>
                    <a:lnTo>
                      <a:pt x="131" y="773"/>
                    </a:lnTo>
                    <a:lnTo>
                      <a:pt x="150" y="773"/>
                    </a:lnTo>
                    <a:lnTo>
                      <a:pt x="169" y="755"/>
                    </a:lnTo>
                    <a:lnTo>
                      <a:pt x="207" y="737"/>
                    </a:lnTo>
                    <a:lnTo>
                      <a:pt x="226" y="718"/>
                    </a:lnTo>
                    <a:lnTo>
                      <a:pt x="245" y="700"/>
                    </a:lnTo>
                    <a:lnTo>
                      <a:pt x="264" y="681"/>
                    </a:lnTo>
                    <a:lnTo>
                      <a:pt x="283" y="663"/>
                    </a:lnTo>
                    <a:lnTo>
                      <a:pt x="302" y="645"/>
                    </a:lnTo>
                    <a:lnTo>
                      <a:pt x="340" y="608"/>
                    </a:lnTo>
                    <a:lnTo>
                      <a:pt x="169" y="0"/>
                    </a:lnTo>
                    <a:lnTo>
                      <a:pt x="422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91" name="Freeform 157"/>
              <p:cNvSpPr/>
              <p:nvPr/>
            </p:nvSpPr>
            <p:spPr>
              <a:xfrm>
                <a:off x="5852520" y="5949720"/>
                <a:ext cx="2854800" cy="111240"/>
              </a:xfrm>
              <a:custGeom>
                <a:avLst/>
                <a:gdLst/>
                <a:ahLst/>
                <a:rect l="l" t="t" r="r" b="b"/>
                <a:pathLst>
                  <a:path w="11646" h="1419">
                    <a:moveTo>
                      <a:pt x="10948" y="0"/>
                    </a:moveTo>
                    <a:lnTo>
                      <a:pt x="10967" y="405"/>
                    </a:lnTo>
                    <a:lnTo>
                      <a:pt x="10419" y="866"/>
                    </a:lnTo>
                    <a:lnTo>
                      <a:pt x="10212" y="995"/>
                    </a:lnTo>
                    <a:lnTo>
                      <a:pt x="10212" y="995"/>
                    </a:lnTo>
                    <a:lnTo>
                      <a:pt x="10212" y="1014"/>
                    </a:lnTo>
                    <a:lnTo>
                      <a:pt x="10212" y="1014"/>
                    </a:lnTo>
                    <a:lnTo>
                      <a:pt x="10212" y="1032"/>
                    </a:lnTo>
                    <a:lnTo>
                      <a:pt x="10212" y="1032"/>
                    </a:lnTo>
                    <a:lnTo>
                      <a:pt x="10212" y="1032"/>
                    </a:lnTo>
                    <a:lnTo>
                      <a:pt x="10212" y="1051"/>
                    </a:lnTo>
                    <a:lnTo>
                      <a:pt x="10212" y="1069"/>
                    </a:lnTo>
                    <a:lnTo>
                      <a:pt x="10250" y="1069"/>
                    </a:lnTo>
                    <a:lnTo>
                      <a:pt x="10286" y="1069"/>
                    </a:lnTo>
                    <a:lnTo>
                      <a:pt x="10305" y="1069"/>
                    </a:lnTo>
                    <a:lnTo>
                      <a:pt x="10343" y="1069"/>
                    </a:lnTo>
                    <a:lnTo>
                      <a:pt x="10381" y="1051"/>
                    </a:lnTo>
                    <a:lnTo>
                      <a:pt x="10419" y="1051"/>
                    </a:lnTo>
                    <a:lnTo>
                      <a:pt x="10438" y="1051"/>
                    </a:lnTo>
                    <a:lnTo>
                      <a:pt x="10476" y="1032"/>
                    </a:lnTo>
                    <a:lnTo>
                      <a:pt x="10514" y="1032"/>
                    </a:lnTo>
                    <a:lnTo>
                      <a:pt x="10533" y="1014"/>
                    </a:lnTo>
                    <a:lnTo>
                      <a:pt x="10570" y="1014"/>
                    </a:lnTo>
                    <a:lnTo>
                      <a:pt x="10608" y="995"/>
                    </a:lnTo>
                    <a:lnTo>
                      <a:pt x="10645" y="995"/>
                    </a:lnTo>
                    <a:lnTo>
                      <a:pt x="10664" y="995"/>
                    </a:lnTo>
                    <a:lnTo>
                      <a:pt x="10702" y="977"/>
                    </a:lnTo>
                    <a:lnTo>
                      <a:pt x="10740" y="977"/>
                    </a:lnTo>
                    <a:lnTo>
                      <a:pt x="10759" y="958"/>
                    </a:lnTo>
                    <a:lnTo>
                      <a:pt x="10797" y="958"/>
                    </a:lnTo>
                    <a:lnTo>
                      <a:pt x="10834" y="940"/>
                    </a:lnTo>
                    <a:lnTo>
                      <a:pt x="10853" y="940"/>
                    </a:lnTo>
                    <a:lnTo>
                      <a:pt x="10891" y="940"/>
                    </a:lnTo>
                    <a:lnTo>
                      <a:pt x="10929" y="921"/>
                    </a:lnTo>
                    <a:lnTo>
                      <a:pt x="10967" y="921"/>
                    </a:lnTo>
                    <a:lnTo>
                      <a:pt x="10985" y="921"/>
                    </a:lnTo>
                    <a:lnTo>
                      <a:pt x="11023" y="921"/>
                    </a:lnTo>
                    <a:lnTo>
                      <a:pt x="11061" y="921"/>
                    </a:lnTo>
                    <a:lnTo>
                      <a:pt x="11080" y="921"/>
                    </a:lnTo>
                    <a:lnTo>
                      <a:pt x="11117" y="921"/>
                    </a:lnTo>
                    <a:lnTo>
                      <a:pt x="11155" y="940"/>
                    </a:lnTo>
                    <a:lnTo>
                      <a:pt x="11193" y="940"/>
                    </a:lnTo>
                    <a:lnTo>
                      <a:pt x="11212" y="940"/>
                    </a:lnTo>
                    <a:lnTo>
                      <a:pt x="11250" y="958"/>
                    </a:lnTo>
                    <a:lnTo>
                      <a:pt x="11288" y="958"/>
                    </a:lnTo>
                    <a:lnTo>
                      <a:pt x="11307" y="940"/>
                    </a:lnTo>
                    <a:lnTo>
                      <a:pt x="11326" y="940"/>
                    </a:lnTo>
                    <a:lnTo>
                      <a:pt x="11362" y="940"/>
                    </a:lnTo>
                    <a:lnTo>
                      <a:pt x="11381" y="940"/>
                    </a:lnTo>
                    <a:lnTo>
                      <a:pt x="11400" y="940"/>
                    </a:lnTo>
                    <a:lnTo>
                      <a:pt x="11438" y="940"/>
                    </a:lnTo>
                    <a:lnTo>
                      <a:pt x="11457" y="940"/>
                    </a:lnTo>
                    <a:lnTo>
                      <a:pt x="11476" y="940"/>
                    </a:lnTo>
                    <a:lnTo>
                      <a:pt x="11495" y="958"/>
                    </a:lnTo>
                    <a:lnTo>
                      <a:pt x="11533" y="958"/>
                    </a:lnTo>
                    <a:lnTo>
                      <a:pt x="11552" y="958"/>
                    </a:lnTo>
                    <a:lnTo>
                      <a:pt x="11571" y="958"/>
                    </a:lnTo>
                    <a:lnTo>
                      <a:pt x="11590" y="977"/>
                    </a:lnTo>
                    <a:lnTo>
                      <a:pt x="11628" y="977"/>
                    </a:lnTo>
                    <a:lnTo>
                      <a:pt x="11646" y="977"/>
                    </a:lnTo>
                    <a:lnTo>
                      <a:pt x="11646" y="995"/>
                    </a:lnTo>
                    <a:lnTo>
                      <a:pt x="11646" y="1014"/>
                    </a:lnTo>
                    <a:lnTo>
                      <a:pt x="11646" y="1032"/>
                    </a:lnTo>
                    <a:lnTo>
                      <a:pt x="11646" y="1051"/>
                    </a:lnTo>
                    <a:lnTo>
                      <a:pt x="11628" y="1069"/>
                    </a:lnTo>
                    <a:lnTo>
                      <a:pt x="11628" y="1069"/>
                    </a:lnTo>
                    <a:lnTo>
                      <a:pt x="11628" y="1088"/>
                    </a:lnTo>
                    <a:lnTo>
                      <a:pt x="11628" y="1105"/>
                    </a:lnTo>
                    <a:lnTo>
                      <a:pt x="11609" y="1105"/>
                    </a:lnTo>
                    <a:lnTo>
                      <a:pt x="11609" y="1123"/>
                    </a:lnTo>
                    <a:lnTo>
                      <a:pt x="11609" y="1142"/>
                    </a:lnTo>
                    <a:lnTo>
                      <a:pt x="11590" y="1142"/>
                    </a:lnTo>
                    <a:lnTo>
                      <a:pt x="11590" y="1160"/>
                    </a:lnTo>
                    <a:lnTo>
                      <a:pt x="11590" y="1179"/>
                    </a:lnTo>
                    <a:lnTo>
                      <a:pt x="11571" y="1197"/>
                    </a:lnTo>
                    <a:lnTo>
                      <a:pt x="11571" y="1197"/>
                    </a:lnTo>
                    <a:lnTo>
                      <a:pt x="11344" y="1419"/>
                    </a:lnTo>
                    <a:lnTo>
                      <a:pt x="5832" y="1419"/>
                    </a:lnTo>
                    <a:lnTo>
                      <a:pt x="5946" y="1345"/>
                    </a:lnTo>
                    <a:lnTo>
                      <a:pt x="5775" y="1419"/>
                    </a:lnTo>
                    <a:lnTo>
                      <a:pt x="3680" y="1419"/>
                    </a:lnTo>
                    <a:lnTo>
                      <a:pt x="4378" y="829"/>
                    </a:lnTo>
                    <a:lnTo>
                      <a:pt x="3585" y="1179"/>
                    </a:lnTo>
                    <a:lnTo>
                      <a:pt x="3566" y="1179"/>
                    </a:lnTo>
                    <a:lnTo>
                      <a:pt x="3530" y="1179"/>
                    </a:lnTo>
                    <a:lnTo>
                      <a:pt x="3511" y="1160"/>
                    </a:lnTo>
                    <a:lnTo>
                      <a:pt x="3492" y="1142"/>
                    </a:lnTo>
                    <a:lnTo>
                      <a:pt x="3473" y="1123"/>
                    </a:lnTo>
                    <a:lnTo>
                      <a:pt x="3473" y="1105"/>
                    </a:lnTo>
                    <a:lnTo>
                      <a:pt x="3454" y="1088"/>
                    </a:lnTo>
                    <a:lnTo>
                      <a:pt x="3435" y="1069"/>
                    </a:lnTo>
                    <a:lnTo>
                      <a:pt x="3435" y="1032"/>
                    </a:lnTo>
                    <a:lnTo>
                      <a:pt x="3416" y="1014"/>
                    </a:lnTo>
                    <a:lnTo>
                      <a:pt x="3416" y="977"/>
                    </a:lnTo>
                    <a:lnTo>
                      <a:pt x="3397" y="940"/>
                    </a:lnTo>
                    <a:lnTo>
                      <a:pt x="3378" y="921"/>
                    </a:lnTo>
                    <a:lnTo>
                      <a:pt x="3378" y="884"/>
                    </a:lnTo>
                    <a:lnTo>
                      <a:pt x="3359" y="866"/>
                    </a:lnTo>
                    <a:lnTo>
                      <a:pt x="3340" y="829"/>
                    </a:lnTo>
                    <a:lnTo>
                      <a:pt x="3340" y="810"/>
                    </a:lnTo>
                    <a:lnTo>
                      <a:pt x="3340" y="792"/>
                    </a:lnTo>
                    <a:lnTo>
                      <a:pt x="3340" y="773"/>
                    </a:lnTo>
                    <a:lnTo>
                      <a:pt x="3359" y="755"/>
                    </a:lnTo>
                    <a:lnTo>
                      <a:pt x="3359" y="737"/>
                    </a:lnTo>
                    <a:lnTo>
                      <a:pt x="3359" y="701"/>
                    </a:lnTo>
                    <a:lnTo>
                      <a:pt x="3359" y="682"/>
                    </a:lnTo>
                    <a:lnTo>
                      <a:pt x="3359" y="664"/>
                    </a:lnTo>
                    <a:lnTo>
                      <a:pt x="3246" y="497"/>
                    </a:lnTo>
                    <a:lnTo>
                      <a:pt x="3982" y="0"/>
                    </a:lnTo>
                    <a:lnTo>
                      <a:pt x="10948" y="0"/>
                    </a:lnTo>
                    <a:close/>
                    <a:moveTo>
                      <a:pt x="3020" y="0"/>
                    </a:moveTo>
                    <a:lnTo>
                      <a:pt x="3001" y="19"/>
                    </a:lnTo>
                    <a:lnTo>
                      <a:pt x="2982" y="19"/>
                    </a:lnTo>
                    <a:lnTo>
                      <a:pt x="2963" y="37"/>
                    </a:lnTo>
                    <a:lnTo>
                      <a:pt x="2944" y="37"/>
                    </a:lnTo>
                    <a:lnTo>
                      <a:pt x="2925" y="55"/>
                    </a:lnTo>
                    <a:lnTo>
                      <a:pt x="2906" y="55"/>
                    </a:lnTo>
                    <a:lnTo>
                      <a:pt x="2906" y="73"/>
                    </a:lnTo>
                    <a:lnTo>
                      <a:pt x="2887" y="92"/>
                    </a:lnTo>
                    <a:lnTo>
                      <a:pt x="2868" y="92"/>
                    </a:lnTo>
                    <a:lnTo>
                      <a:pt x="2849" y="110"/>
                    </a:lnTo>
                    <a:lnTo>
                      <a:pt x="2831" y="110"/>
                    </a:lnTo>
                    <a:lnTo>
                      <a:pt x="2812" y="129"/>
                    </a:lnTo>
                    <a:lnTo>
                      <a:pt x="2793" y="147"/>
                    </a:lnTo>
                    <a:lnTo>
                      <a:pt x="2774" y="147"/>
                    </a:lnTo>
                    <a:lnTo>
                      <a:pt x="2774" y="166"/>
                    </a:lnTo>
                    <a:lnTo>
                      <a:pt x="2756" y="166"/>
                    </a:lnTo>
                    <a:lnTo>
                      <a:pt x="2737" y="184"/>
                    </a:lnTo>
                    <a:lnTo>
                      <a:pt x="2718" y="203"/>
                    </a:lnTo>
                    <a:lnTo>
                      <a:pt x="2718" y="203"/>
                    </a:lnTo>
                    <a:lnTo>
                      <a:pt x="2699" y="221"/>
                    </a:lnTo>
                    <a:lnTo>
                      <a:pt x="2699" y="221"/>
                    </a:lnTo>
                    <a:lnTo>
                      <a:pt x="2680" y="240"/>
                    </a:lnTo>
                    <a:lnTo>
                      <a:pt x="2680" y="240"/>
                    </a:lnTo>
                    <a:lnTo>
                      <a:pt x="2661" y="258"/>
                    </a:lnTo>
                    <a:lnTo>
                      <a:pt x="2661" y="258"/>
                    </a:lnTo>
                    <a:lnTo>
                      <a:pt x="2642" y="277"/>
                    </a:lnTo>
                    <a:lnTo>
                      <a:pt x="2642" y="277"/>
                    </a:lnTo>
                    <a:lnTo>
                      <a:pt x="2623" y="277"/>
                    </a:lnTo>
                    <a:lnTo>
                      <a:pt x="2623" y="295"/>
                    </a:lnTo>
                    <a:lnTo>
                      <a:pt x="2604" y="295"/>
                    </a:lnTo>
                    <a:lnTo>
                      <a:pt x="2585" y="314"/>
                    </a:lnTo>
                    <a:lnTo>
                      <a:pt x="2585" y="314"/>
                    </a:lnTo>
                    <a:lnTo>
                      <a:pt x="2566" y="314"/>
                    </a:lnTo>
                    <a:lnTo>
                      <a:pt x="2566" y="314"/>
                    </a:lnTo>
                    <a:lnTo>
                      <a:pt x="2547" y="314"/>
                    </a:lnTo>
                    <a:lnTo>
                      <a:pt x="2528" y="314"/>
                    </a:lnTo>
                    <a:lnTo>
                      <a:pt x="2509" y="314"/>
                    </a:lnTo>
                    <a:lnTo>
                      <a:pt x="2509" y="295"/>
                    </a:lnTo>
                    <a:lnTo>
                      <a:pt x="2492" y="295"/>
                    </a:lnTo>
                    <a:lnTo>
                      <a:pt x="2473" y="295"/>
                    </a:lnTo>
                    <a:lnTo>
                      <a:pt x="2095" y="516"/>
                    </a:lnTo>
                    <a:lnTo>
                      <a:pt x="1906" y="0"/>
                    </a:lnTo>
                    <a:lnTo>
                      <a:pt x="3020" y="0"/>
                    </a:lnTo>
                    <a:close/>
                    <a:moveTo>
                      <a:pt x="1811" y="0"/>
                    </a:moveTo>
                    <a:lnTo>
                      <a:pt x="302" y="921"/>
                    </a:lnTo>
                    <a:lnTo>
                      <a:pt x="264" y="921"/>
                    </a:lnTo>
                    <a:lnTo>
                      <a:pt x="245" y="884"/>
                    </a:lnTo>
                    <a:lnTo>
                      <a:pt x="226" y="866"/>
                    </a:lnTo>
                    <a:lnTo>
                      <a:pt x="207" y="829"/>
                    </a:lnTo>
                    <a:lnTo>
                      <a:pt x="188" y="792"/>
                    </a:lnTo>
                    <a:lnTo>
                      <a:pt x="169" y="755"/>
                    </a:lnTo>
                    <a:lnTo>
                      <a:pt x="150" y="719"/>
                    </a:lnTo>
                    <a:lnTo>
                      <a:pt x="131" y="682"/>
                    </a:lnTo>
                    <a:lnTo>
                      <a:pt x="131" y="645"/>
                    </a:lnTo>
                    <a:lnTo>
                      <a:pt x="112" y="590"/>
                    </a:lnTo>
                    <a:lnTo>
                      <a:pt x="112" y="553"/>
                    </a:lnTo>
                    <a:lnTo>
                      <a:pt x="112" y="497"/>
                    </a:lnTo>
                    <a:lnTo>
                      <a:pt x="93" y="460"/>
                    </a:lnTo>
                    <a:lnTo>
                      <a:pt x="93" y="405"/>
                    </a:lnTo>
                    <a:lnTo>
                      <a:pt x="93" y="350"/>
                    </a:lnTo>
                    <a:lnTo>
                      <a:pt x="74" y="314"/>
                    </a:lnTo>
                    <a:lnTo>
                      <a:pt x="74" y="295"/>
                    </a:lnTo>
                    <a:lnTo>
                      <a:pt x="74" y="295"/>
                    </a:lnTo>
                    <a:lnTo>
                      <a:pt x="56" y="277"/>
                    </a:lnTo>
                    <a:lnTo>
                      <a:pt x="56" y="277"/>
                    </a:lnTo>
                    <a:lnTo>
                      <a:pt x="37" y="258"/>
                    </a:lnTo>
                    <a:lnTo>
                      <a:pt x="18" y="240"/>
                    </a:lnTo>
                    <a:lnTo>
                      <a:pt x="18" y="240"/>
                    </a:lnTo>
                    <a:lnTo>
                      <a:pt x="0" y="221"/>
                    </a:lnTo>
                    <a:lnTo>
                      <a:pt x="18" y="203"/>
                    </a:lnTo>
                    <a:lnTo>
                      <a:pt x="37" y="184"/>
                    </a:lnTo>
                    <a:lnTo>
                      <a:pt x="37" y="166"/>
                    </a:lnTo>
                    <a:lnTo>
                      <a:pt x="56" y="147"/>
                    </a:lnTo>
                    <a:lnTo>
                      <a:pt x="56" y="129"/>
                    </a:lnTo>
                    <a:lnTo>
                      <a:pt x="74" y="110"/>
                    </a:lnTo>
                    <a:lnTo>
                      <a:pt x="93" y="110"/>
                    </a:lnTo>
                    <a:lnTo>
                      <a:pt x="93" y="92"/>
                    </a:lnTo>
                    <a:lnTo>
                      <a:pt x="112" y="73"/>
                    </a:lnTo>
                    <a:lnTo>
                      <a:pt x="131" y="73"/>
                    </a:lnTo>
                    <a:lnTo>
                      <a:pt x="150" y="55"/>
                    </a:lnTo>
                    <a:lnTo>
                      <a:pt x="150" y="37"/>
                    </a:lnTo>
                    <a:lnTo>
                      <a:pt x="169" y="37"/>
                    </a:lnTo>
                    <a:lnTo>
                      <a:pt x="188" y="19"/>
                    </a:lnTo>
                    <a:lnTo>
                      <a:pt x="207" y="19"/>
                    </a:lnTo>
                    <a:lnTo>
                      <a:pt x="207" y="0"/>
                    </a:lnTo>
                    <a:lnTo>
                      <a:pt x="181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92" name="Freeform 158"/>
              <p:cNvSpPr/>
              <p:nvPr/>
            </p:nvSpPr>
            <p:spPr>
              <a:xfrm>
                <a:off x="5886720" y="6003360"/>
                <a:ext cx="2820240" cy="113040"/>
              </a:xfrm>
              <a:custGeom>
                <a:avLst/>
                <a:gdLst/>
                <a:ahLst/>
                <a:rect l="l" t="t" r="r" b="b"/>
                <a:pathLst>
                  <a:path w="11496" h="1436">
                    <a:moveTo>
                      <a:pt x="10458" y="0"/>
                    </a:moveTo>
                    <a:lnTo>
                      <a:pt x="10269" y="165"/>
                    </a:lnTo>
                    <a:lnTo>
                      <a:pt x="10062" y="294"/>
                    </a:lnTo>
                    <a:lnTo>
                      <a:pt x="10062" y="294"/>
                    </a:lnTo>
                    <a:lnTo>
                      <a:pt x="10062" y="313"/>
                    </a:lnTo>
                    <a:lnTo>
                      <a:pt x="10062" y="313"/>
                    </a:lnTo>
                    <a:lnTo>
                      <a:pt x="10062" y="331"/>
                    </a:lnTo>
                    <a:lnTo>
                      <a:pt x="10062" y="331"/>
                    </a:lnTo>
                    <a:lnTo>
                      <a:pt x="10062" y="331"/>
                    </a:lnTo>
                    <a:lnTo>
                      <a:pt x="10062" y="350"/>
                    </a:lnTo>
                    <a:lnTo>
                      <a:pt x="10062" y="368"/>
                    </a:lnTo>
                    <a:lnTo>
                      <a:pt x="10100" y="368"/>
                    </a:lnTo>
                    <a:lnTo>
                      <a:pt x="10136" y="368"/>
                    </a:lnTo>
                    <a:lnTo>
                      <a:pt x="10155" y="368"/>
                    </a:lnTo>
                    <a:lnTo>
                      <a:pt x="10193" y="368"/>
                    </a:lnTo>
                    <a:lnTo>
                      <a:pt x="10231" y="350"/>
                    </a:lnTo>
                    <a:lnTo>
                      <a:pt x="10269" y="350"/>
                    </a:lnTo>
                    <a:lnTo>
                      <a:pt x="10288" y="350"/>
                    </a:lnTo>
                    <a:lnTo>
                      <a:pt x="10326" y="331"/>
                    </a:lnTo>
                    <a:lnTo>
                      <a:pt x="10364" y="331"/>
                    </a:lnTo>
                    <a:lnTo>
                      <a:pt x="10383" y="313"/>
                    </a:lnTo>
                    <a:lnTo>
                      <a:pt x="10420" y="313"/>
                    </a:lnTo>
                    <a:lnTo>
                      <a:pt x="10458" y="294"/>
                    </a:lnTo>
                    <a:lnTo>
                      <a:pt x="10495" y="294"/>
                    </a:lnTo>
                    <a:lnTo>
                      <a:pt x="10514" y="294"/>
                    </a:lnTo>
                    <a:lnTo>
                      <a:pt x="10552" y="276"/>
                    </a:lnTo>
                    <a:lnTo>
                      <a:pt x="10590" y="276"/>
                    </a:lnTo>
                    <a:lnTo>
                      <a:pt x="10609" y="257"/>
                    </a:lnTo>
                    <a:lnTo>
                      <a:pt x="10647" y="257"/>
                    </a:lnTo>
                    <a:lnTo>
                      <a:pt x="10684" y="239"/>
                    </a:lnTo>
                    <a:lnTo>
                      <a:pt x="10703" y="239"/>
                    </a:lnTo>
                    <a:lnTo>
                      <a:pt x="10741" y="239"/>
                    </a:lnTo>
                    <a:lnTo>
                      <a:pt x="10779" y="220"/>
                    </a:lnTo>
                    <a:lnTo>
                      <a:pt x="10817" y="220"/>
                    </a:lnTo>
                    <a:lnTo>
                      <a:pt x="10835" y="220"/>
                    </a:lnTo>
                    <a:lnTo>
                      <a:pt x="10873" y="220"/>
                    </a:lnTo>
                    <a:lnTo>
                      <a:pt x="10911" y="220"/>
                    </a:lnTo>
                    <a:lnTo>
                      <a:pt x="10930" y="220"/>
                    </a:lnTo>
                    <a:lnTo>
                      <a:pt x="10967" y="220"/>
                    </a:lnTo>
                    <a:lnTo>
                      <a:pt x="11005" y="239"/>
                    </a:lnTo>
                    <a:lnTo>
                      <a:pt x="11043" y="239"/>
                    </a:lnTo>
                    <a:lnTo>
                      <a:pt x="11062" y="239"/>
                    </a:lnTo>
                    <a:lnTo>
                      <a:pt x="11100" y="257"/>
                    </a:lnTo>
                    <a:lnTo>
                      <a:pt x="11138" y="257"/>
                    </a:lnTo>
                    <a:lnTo>
                      <a:pt x="11157" y="239"/>
                    </a:lnTo>
                    <a:lnTo>
                      <a:pt x="11176" y="239"/>
                    </a:lnTo>
                    <a:lnTo>
                      <a:pt x="11212" y="239"/>
                    </a:lnTo>
                    <a:lnTo>
                      <a:pt x="11231" y="239"/>
                    </a:lnTo>
                    <a:lnTo>
                      <a:pt x="11250" y="239"/>
                    </a:lnTo>
                    <a:lnTo>
                      <a:pt x="11288" y="239"/>
                    </a:lnTo>
                    <a:lnTo>
                      <a:pt x="11307" y="239"/>
                    </a:lnTo>
                    <a:lnTo>
                      <a:pt x="11326" y="239"/>
                    </a:lnTo>
                    <a:lnTo>
                      <a:pt x="11345" y="257"/>
                    </a:lnTo>
                    <a:lnTo>
                      <a:pt x="11383" y="257"/>
                    </a:lnTo>
                    <a:lnTo>
                      <a:pt x="11402" y="257"/>
                    </a:lnTo>
                    <a:lnTo>
                      <a:pt x="11421" y="257"/>
                    </a:lnTo>
                    <a:lnTo>
                      <a:pt x="11440" y="276"/>
                    </a:lnTo>
                    <a:lnTo>
                      <a:pt x="11478" y="276"/>
                    </a:lnTo>
                    <a:lnTo>
                      <a:pt x="11496" y="276"/>
                    </a:lnTo>
                    <a:lnTo>
                      <a:pt x="11496" y="294"/>
                    </a:lnTo>
                    <a:lnTo>
                      <a:pt x="11496" y="313"/>
                    </a:lnTo>
                    <a:lnTo>
                      <a:pt x="11496" y="331"/>
                    </a:lnTo>
                    <a:lnTo>
                      <a:pt x="11496" y="350"/>
                    </a:lnTo>
                    <a:lnTo>
                      <a:pt x="11478" y="368"/>
                    </a:lnTo>
                    <a:lnTo>
                      <a:pt x="11478" y="368"/>
                    </a:lnTo>
                    <a:lnTo>
                      <a:pt x="11478" y="387"/>
                    </a:lnTo>
                    <a:lnTo>
                      <a:pt x="11478" y="404"/>
                    </a:lnTo>
                    <a:lnTo>
                      <a:pt x="11459" y="404"/>
                    </a:lnTo>
                    <a:lnTo>
                      <a:pt x="11459" y="422"/>
                    </a:lnTo>
                    <a:lnTo>
                      <a:pt x="11459" y="441"/>
                    </a:lnTo>
                    <a:lnTo>
                      <a:pt x="11440" y="441"/>
                    </a:lnTo>
                    <a:lnTo>
                      <a:pt x="11440" y="459"/>
                    </a:lnTo>
                    <a:lnTo>
                      <a:pt x="11440" y="478"/>
                    </a:lnTo>
                    <a:lnTo>
                      <a:pt x="11421" y="496"/>
                    </a:lnTo>
                    <a:lnTo>
                      <a:pt x="11421" y="496"/>
                    </a:lnTo>
                    <a:lnTo>
                      <a:pt x="10986" y="902"/>
                    </a:lnTo>
                    <a:lnTo>
                      <a:pt x="10986" y="920"/>
                    </a:lnTo>
                    <a:lnTo>
                      <a:pt x="10986" y="939"/>
                    </a:lnTo>
                    <a:lnTo>
                      <a:pt x="10986" y="939"/>
                    </a:lnTo>
                    <a:lnTo>
                      <a:pt x="10986" y="957"/>
                    </a:lnTo>
                    <a:lnTo>
                      <a:pt x="10986" y="976"/>
                    </a:lnTo>
                    <a:lnTo>
                      <a:pt x="11005" y="994"/>
                    </a:lnTo>
                    <a:lnTo>
                      <a:pt x="11005" y="1013"/>
                    </a:lnTo>
                    <a:lnTo>
                      <a:pt x="11005" y="1031"/>
                    </a:lnTo>
                    <a:lnTo>
                      <a:pt x="10967" y="1031"/>
                    </a:lnTo>
                    <a:lnTo>
                      <a:pt x="10930" y="1050"/>
                    </a:lnTo>
                    <a:lnTo>
                      <a:pt x="10873" y="1068"/>
                    </a:lnTo>
                    <a:lnTo>
                      <a:pt x="10835" y="1086"/>
                    </a:lnTo>
                    <a:lnTo>
                      <a:pt x="10798" y="1086"/>
                    </a:lnTo>
                    <a:lnTo>
                      <a:pt x="10741" y="1104"/>
                    </a:lnTo>
                    <a:lnTo>
                      <a:pt x="10703" y="1123"/>
                    </a:lnTo>
                    <a:lnTo>
                      <a:pt x="10666" y="1123"/>
                    </a:lnTo>
                    <a:lnTo>
                      <a:pt x="10609" y="1141"/>
                    </a:lnTo>
                    <a:lnTo>
                      <a:pt x="10571" y="1160"/>
                    </a:lnTo>
                    <a:lnTo>
                      <a:pt x="10533" y="1160"/>
                    </a:lnTo>
                    <a:lnTo>
                      <a:pt x="10477" y="1178"/>
                    </a:lnTo>
                    <a:lnTo>
                      <a:pt x="10439" y="1196"/>
                    </a:lnTo>
                    <a:lnTo>
                      <a:pt x="10402" y="1196"/>
                    </a:lnTo>
                    <a:lnTo>
                      <a:pt x="10345" y="1215"/>
                    </a:lnTo>
                    <a:lnTo>
                      <a:pt x="10307" y="1233"/>
                    </a:lnTo>
                    <a:lnTo>
                      <a:pt x="10269" y="1233"/>
                    </a:lnTo>
                    <a:lnTo>
                      <a:pt x="10212" y="1252"/>
                    </a:lnTo>
                    <a:lnTo>
                      <a:pt x="10174" y="1270"/>
                    </a:lnTo>
                    <a:lnTo>
                      <a:pt x="10136" y="1270"/>
                    </a:lnTo>
                    <a:lnTo>
                      <a:pt x="10081" y="1289"/>
                    </a:lnTo>
                    <a:lnTo>
                      <a:pt x="10043" y="1307"/>
                    </a:lnTo>
                    <a:lnTo>
                      <a:pt x="10005" y="1326"/>
                    </a:lnTo>
                    <a:lnTo>
                      <a:pt x="9948" y="1326"/>
                    </a:lnTo>
                    <a:lnTo>
                      <a:pt x="9910" y="1344"/>
                    </a:lnTo>
                    <a:lnTo>
                      <a:pt x="9872" y="1363"/>
                    </a:lnTo>
                    <a:lnTo>
                      <a:pt x="9816" y="1363"/>
                    </a:lnTo>
                    <a:lnTo>
                      <a:pt x="9778" y="1381"/>
                    </a:lnTo>
                    <a:lnTo>
                      <a:pt x="9741" y="1400"/>
                    </a:lnTo>
                    <a:lnTo>
                      <a:pt x="9684" y="1400"/>
                    </a:lnTo>
                    <a:lnTo>
                      <a:pt x="9646" y="1418"/>
                    </a:lnTo>
                    <a:lnTo>
                      <a:pt x="9608" y="1436"/>
                    </a:lnTo>
                    <a:lnTo>
                      <a:pt x="6626" y="1436"/>
                    </a:lnTo>
                    <a:lnTo>
                      <a:pt x="7268" y="994"/>
                    </a:lnTo>
                    <a:lnTo>
                      <a:pt x="7230" y="994"/>
                    </a:lnTo>
                    <a:lnTo>
                      <a:pt x="7211" y="994"/>
                    </a:lnTo>
                    <a:lnTo>
                      <a:pt x="7174" y="1013"/>
                    </a:lnTo>
                    <a:lnTo>
                      <a:pt x="7136" y="1013"/>
                    </a:lnTo>
                    <a:lnTo>
                      <a:pt x="7117" y="1013"/>
                    </a:lnTo>
                    <a:lnTo>
                      <a:pt x="7079" y="1031"/>
                    </a:lnTo>
                    <a:lnTo>
                      <a:pt x="7041" y="1031"/>
                    </a:lnTo>
                    <a:lnTo>
                      <a:pt x="7003" y="1050"/>
                    </a:lnTo>
                    <a:lnTo>
                      <a:pt x="6965" y="1050"/>
                    </a:lnTo>
                    <a:lnTo>
                      <a:pt x="6946" y="1068"/>
                    </a:lnTo>
                    <a:lnTo>
                      <a:pt x="6910" y="1068"/>
                    </a:lnTo>
                    <a:lnTo>
                      <a:pt x="6872" y="1086"/>
                    </a:lnTo>
                    <a:lnTo>
                      <a:pt x="6834" y="1104"/>
                    </a:lnTo>
                    <a:lnTo>
                      <a:pt x="6796" y="1123"/>
                    </a:lnTo>
                    <a:lnTo>
                      <a:pt x="6758" y="1123"/>
                    </a:lnTo>
                    <a:lnTo>
                      <a:pt x="6739" y="1141"/>
                    </a:lnTo>
                    <a:lnTo>
                      <a:pt x="6701" y="1160"/>
                    </a:lnTo>
                    <a:lnTo>
                      <a:pt x="6663" y="1178"/>
                    </a:lnTo>
                    <a:lnTo>
                      <a:pt x="6626" y="1196"/>
                    </a:lnTo>
                    <a:lnTo>
                      <a:pt x="6588" y="1215"/>
                    </a:lnTo>
                    <a:lnTo>
                      <a:pt x="6551" y="1233"/>
                    </a:lnTo>
                    <a:lnTo>
                      <a:pt x="6513" y="1252"/>
                    </a:lnTo>
                    <a:lnTo>
                      <a:pt x="6494" y="1270"/>
                    </a:lnTo>
                    <a:lnTo>
                      <a:pt x="6456" y="1289"/>
                    </a:lnTo>
                    <a:lnTo>
                      <a:pt x="6418" y="1307"/>
                    </a:lnTo>
                    <a:lnTo>
                      <a:pt x="6380" y="1326"/>
                    </a:lnTo>
                    <a:lnTo>
                      <a:pt x="6343" y="1344"/>
                    </a:lnTo>
                    <a:lnTo>
                      <a:pt x="6305" y="1363"/>
                    </a:lnTo>
                    <a:lnTo>
                      <a:pt x="6267" y="1381"/>
                    </a:lnTo>
                    <a:lnTo>
                      <a:pt x="6230" y="1400"/>
                    </a:lnTo>
                    <a:lnTo>
                      <a:pt x="6211" y="1418"/>
                    </a:lnTo>
                    <a:lnTo>
                      <a:pt x="6173" y="1436"/>
                    </a:lnTo>
                    <a:lnTo>
                      <a:pt x="4644" y="1436"/>
                    </a:lnTo>
                    <a:lnTo>
                      <a:pt x="5796" y="644"/>
                    </a:lnTo>
                    <a:lnTo>
                      <a:pt x="4078" y="1436"/>
                    </a:lnTo>
                    <a:lnTo>
                      <a:pt x="3247" y="1436"/>
                    </a:lnTo>
                    <a:lnTo>
                      <a:pt x="3152" y="1141"/>
                    </a:lnTo>
                    <a:lnTo>
                      <a:pt x="3134" y="1141"/>
                    </a:lnTo>
                    <a:lnTo>
                      <a:pt x="3134" y="1141"/>
                    </a:lnTo>
                    <a:lnTo>
                      <a:pt x="3134" y="1141"/>
                    </a:lnTo>
                    <a:lnTo>
                      <a:pt x="3134" y="1123"/>
                    </a:lnTo>
                    <a:lnTo>
                      <a:pt x="3134" y="1123"/>
                    </a:lnTo>
                    <a:lnTo>
                      <a:pt x="3115" y="1104"/>
                    </a:lnTo>
                    <a:lnTo>
                      <a:pt x="3115" y="1086"/>
                    </a:lnTo>
                    <a:lnTo>
                      <a:pt x="3115" y="1086"/>
                    </a:lnTo>
                    <a:lnTo>
                      <a:pt x="4228" y="128"/>
                    </a:lnTo>
                    <a:lnTo>
                      <a:pt x="3435" y="478"/>
                    </a:lnTo>
                    <a:lnTo>
                      <a:pt x="3416" y="478"/>
                    </a:lnTo>
                    <a:lnTo>
                      <a:pt x="3380" y="478"/>
                    </a:lnTo>
                    <a:lnTo>
                      <a:pt x="3361" y="459"/>
                    </a:lnTo>
                    <a:lnTo>
                      <a:pt x="3342" y="441"/>
                    </a:lnTo>
                    <a:lnTo>
                      <a:pt x="3323" y="422"/>
                    </a:lnTo>
                    <a:lnTo>
                      <a:pt x="3323" y="404"/>
                    </a:lnTo>
                    <a:lnTo>
                      <a:pt x="3304" y="387"/>
                    </a:lnTo>
                    <a:lnTo>
                      <a:pt x="3285" y="368"/>
                    </a:lnTo>
                    <a:lnTo>
                      <a:pt x="3285" y="331"/>
                    </a:lnTo>
                    <a:lnTo>
                      <a:pt x="3266" y="313"/>
                    </a:lnTo>
                    <a:lnTo>
                      <a:pt x="3266" y="276"/>
                    </a:lnTo>
                    <a:lnTo>
                      <a:pt x="3247" y="239"/>
                    </a:lnTo>
                    <a:lnTo>
                      <a:pt x="3228" y="220"/>
                    </a:lnTo>
                    <a:lnTo>
                      <a:pt x="3228" y="183"/>
                    </a:lnTo>
                    <a:lnTo>
                      <a:pt x="3209" y="165"/>
                    </a:lnTo>
                    <a:lnTo>
                      <a:pt x="3190" y="128"/>
                    </a:lnTo>
                    <a:lnTo>
                      <a:pt x="3190" y="109"/>
                    </a:lnTo>
                    <a:lnTo>
                      <a:pt x="3190" y="109"/>
                    </a:lnTo>
                    <a:lnTo>
                      <a:pt x="3190" y="91"/>
                    </a:lnTo>
                    <a:lnTo>
                      <a:pt x="3190" y="72"/>
                    </a:lnTo>
                    <a:lnTo>
                      <a:pt x="3209" y="54"/>
                    </a:lnTo>
                    <a:lnTo>
                      <a:pt x="3209" y="36"/>
                    </a:lnTo>
                    <a:lnTo>
                      <a:pt x="3209" y="18"/>
                    </a:lnTo>
                    <a:lnTo>
                      <a:pt x="3209" y="0"/>
                    </a:lnTo>
                    <a:lnTo>
                      <a:pt x="10458" y="0"/>
                    </a:lnTo>
                    <a:close/>
                    <a:moveTo>
                      <a:pt x="491" y="0"/>
                    </a:moveTo>
                    <a:lnTo>
                      <a:pt x="152" y="220"/>
                    </a:lnTo>
                    <a:lnTo>
                      <a:pt x="133" y="220"/>
                    </a:lnTo>
                    <a:lnTo>
                      <a:pt x="114" y="220"/>
                    </a:lnTo>
                    <a:lnTo>
                      <a:pt x="114" y="202"/>
                    </a:lnTo>
                    <a:lnTo>
                      <a:pt x="95" y="202"/>
                    </a:lnTo>
                    <a:lnTo>
                      <a:pt x="76" y="183"/>
                    </a:lnTo>
                    <a:lnTo>
                      <a:pt x="76" y="165"/>
                    </a:lnTo>
                    <a:lnTo>
                      <a:pt x="57" y="165"/>
                    </a:lnTo>
                    <a:lnTo>
                      <a:pt x="57" y="146"/>
                    </a:lnTo>
                    <a:lnTo>
                      <a:pt x="38" y="128"/>
                    </a:lnTo>
                    <a:lnTo>
                      <a:pt x="38" y="109"/>
                    </a:lnTo>
                    <a:lnTo>
                      <a:pt x="38" y="91"/>
                    </a:lnTo>
                    <a:lnTo>
                      <a:pt x="19" y="72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49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93" name="Freeform 159"/>
              <p:cNvSpPr/>
              <p:nvPr/>
            </p:nvSpPr>
            <p:spPr>
              <a:xfrm>
                <a:off x="6652440" y="6060960"/>
                <a:ext cx="1981440" cy="109440"/>
              </a:xfrm>
              <a:custGeom>
                <a:avLst/>
                <a:gdLst/>
                <a:ahLst/>
                <a:rect l="l" t="t" r="r" b="b"/>
                <a:pathLst>
                  <a:path w="8079" h="1418">
                    <a:moveTo>
                      <a:pt x="8079" y="0"/>
                    </a:moveTo>
                    <a:lnTo>
                      <a:pt x="7871" y="184"/>
                    </a:lnTo>
                    <a:lnTo>
                      <a:pt x="7871" y="202"/>
                    </a:lnTo>
                    <a:lnTo>
                      <a:pt x="7871" y="221"/>
                    </a:lnTo>
                    <a:lnTo>
                      <a:pt x="7871" y="221"/>
                    </a:lnTo>
                    <a:lnTo>
                      <a:pt x="7871" y="239"/>
                    </a:lnTo>
                    <a:lnTo>
                      <a:pt x="7871" y="258"/>
                    </a:lnTo>
                    <a:lnTo>
                      <a:pt x="7890" y="276"/>
                    </a:lnTo>
                    <a:lnTo>
                      <a:pt x="7890" y="295"/>
                    </a:lnTo>
                    <a:lnTo>
                      <a:pt x="7890" y="313"/>
                    </a:lnTo>
                    <a:lnTo>
                      <a:pt x="7796" y="332"/>
                    </a:lnTo>
                    <a:lnTo>
                      <a:pt x="7683" y="368"/>
                    </a:lnTo>
                    <a:lnTo>
                      <a:pt x="7569" y="405"/>
                    </a:lnTo>
                    <a:lnTo>
                      <a:pt x="7456" y="442"/>
                    </a:lnTo>
                    <a:lnTo>
                      <a:pt x="7362" y="460"/>
                    </a:lnTo>
                    <a:lnTo>
                      <a:pt x="7249" y="497"/>
                    </a:lnTo>
                    <a:lnTo>
                      <a:pt x="7135" y="534"/>
                    </a:lnTo>
                    <a:lnTo>
                      <a:pt x="7021" y="552"/>
                    </a:lnTo>
                    <a:lnTo>
                      <a:pt x="6928" y="589"/>
                    </a:lnTo>
                    <a:lnTo>
                      <a:pt x="6814" y="626"/>
                    </a:lnTo>
                    <a:lnTo>
                      <a:pt x="6701" y="645"/>
                    </a:lnTo>
                    <a:lnTo>
                      <a:pt x="6588" y="682"/>
                    </a:lnTo>
                    <a:lnTo>
                      <a:pt x="6493" y="718"/>
                    </a:lnTo>
                    <a:lnTo>
                      <a:pt x="6380" y="736"/>
                    </a:lnTo>
                    <a:lnTo>
                      <a:pt x="6267" y="773"/>
                    </a:lnTo>
                    <a:lnTo>
                      <a:pt x="6154" y="810"/>
                    </a:lnTo>
                    <a:lnTo>
                      <a:pt x="6059" y="847"/>
                    </a:lnTo>
                    <a:lnTo>
                      <a:pt x="5947" y="865"/>
                    </a:lnTo>
                    <a:lnTo>
                      <a:pt x="5833" y="902"/>
                    </a:lnTo>
                    <a:lnTo>
                      <a:pt x="5719" y="939"/>
                    </a:lnTo>
                    <a:lnTo>
                      <a:pt x="5625" y="976"/>
                    </a:lnTo>
                    <a:lnTo>
                      <a:pt x="5512" y="1013"/>
                    </a:lnTo>
                    <a:lnTo>
                      <a:pt x="5399" y="1050"/>
                    </a:lnTo>
                    <a:lnTo>
                      <a:pt x="5285" y="1086"/>
                    </a:lnTo>
                    <a:lnTo>
                      <a:pt x="5172" y="1123"/>
                    </a:lnTo>
                    <a:lnTo>
                      <a:pt x="5078" y="1160"/>
                    </a:lnTo>
                    <a:lnTo>
                      <a:pt x="4964" y="1197"/>
                    </a:lnTo>
                    <a:lnTo>
                      <a:pt x="4852" y="1253"/>
                    </a:lnTo>
                    <a:lnTo>
                      <a:pt x="4738" y="1289"/>
                    </a:lnTo>
                    <a:lnTo>
                      <a:pt x="4643" y="1326"/>
                    </a:lnTo>
                    <a:lnTo>
                      <a:pt x="4531" y="1382"/>
                    </a:lnTo>
                    <a:lnTo>
                      <a:pt x="4417" y="1418"/>
                    </a:lnTo>
                    <a:lnTo>
                      <a:pt x="2567" y="1418"/>
                    </a:lnTo>
                    <a:lnTo>
                      <a:pt x="2567" y="1418"/>
                    </a:lnTo>
                    <a:lnTo>
                      <a:pt x="2567" y="1418"/>
                    </a:lnTo>
                    <a:lnTo>
                      <a:pt x="2548" y="1399"/>
                    </a:lnTo>
                    <a:lnTo>
                      <a:pt x="2548" y="1399"/>
                    </a:lnTo>
                    <a:lnTo>
                      <a:pt x="2548" y="1399"/>
                    </a:lnTo>
                    <a:lnTo>
                      <a:pt x="2548" y="1399"/>
                    </a:lnTo>
                    <a:lnTo>
                      <a:pt x="2548" y="1382"/>
                    </a:lnTo>
                    <a:lnTo>
                      <a:pt x="2529" y="1382"/>
                    </a:lnTo>
                    <a:lnTo>
                      <a:pt x="4153" y="276"/>
                    </a:lnTo>
                    <a:lnTo>
                      <a:pt x="4115" y="276"/>
                    </a:lnTo>
                    <a:lnTo>
                      <a:pt x="4059" y="295"/>
                    </a:lnTo>
                    <a:lnTo>
                      <a:pt x="4021" y="295"/>
                    </a:lnTo>
                    <a:lnTo>
                      <a:pt x="3964" y="295"/>
                    </a:lnTo>
                    <a:lnTo>
                      <a:pt x="3926" y="313"/>
                    </a:lnTo>
                    <a:lnTo>
                      <a:pt x="3869" y="332"/>
                    </a:lnTo>
                    <a:lnTo>
                      <a:pt x="3831" y="350"/>
                    </a:lnTo>
                    <a:lnTo>
                      <a:pt x="3776" y="368"/>
                    </a:lnTo>
                    <a:lnTo>
                      <a:pt x="3738" y="386"/>
                    </a:lnTo>
                    <a:lnTo>
                      <a:pt x="3681" y="405"/>
                    </a:lnTo>
                    <a:lnTo>
                      <a:pt x="3624" y="423"/>
                    </a:lnTo>
                    <a:lnTo>
                      <a:pt x="3586" y="442"/>
                    </a:lnTo>
                    <a:lnTo>
                      <a:pt x="3529" y="460"/>
                    </a:lnTo>
                    <a:lnTo>
                      <a:pt x="3473" y="497"/>
                    </a:lnTo>
                    <a:lnTo>
                      <a:pt x="3436" y="515"/>
                    </a:lnTo>
                    <a:lnTo>
                      <a:pt x="3379" y="534"/>
                    </a:lnTo>
                    <a:lnTo>
                      <a:pt x="3341" y="571"/>
                    </a:lnTo>
                    <a:lnTo>
                      <a:pt x="3284" y="589"/>
                    </a:lnTo>
                    <a:lnTo>
                      <a:pt x="3228" y="626"/>
                    </a:lnTo>
                    <a:lnTo>
                      <a:pt x="3190" y="645"/>
                    </a:lnTo>
                    <a:lnTo>
                      <a:pt x="3133" y="663"/>
                    </a:lnTo>
                    <a:lnTo>
                      <a:pt x="3077" y="700"/>
                    </a:lnTo>
                    <a:lnTo>
                      <a:pt x="3039" y="718"/>
                    </a:lnTo>
                    <a:lnTo>
                      <a:pt x="2983" y="755"/>
                    </a:lnTo>
                    <a:lnTo>
                      <a:pt x="2926" y="773"/>
                    </a:lnTo>
                    <a:lnTo>
                      <a:pt x="2888" y="792"/>
                    </a:lnTo>
                    <a:lnTo>
                      <a:pt x="2831" y="810"/>
                    </a:lnTo>
                    <a:lnTo>
                      <a:pt x="2793" y="829"/>
                    </a:lnTo>
                    <a:lnTo>
                      <a:pt x="2737" y="865"/>
                    </a:lnTo>
                    <a:lnTo>
                      <a:pt x="2700" y="884"/>
                    </a:lnTo>
                    <a:lnTo>
                      <a:pt x="2643" y="884"/>
                    </a:lnTo>
                    <a:lnTo>
                      <a:pt x="2605" y="902"/>
                    </a:lnTo>
                    <a:lnTo>
                      <a:pt x="2567" y="921"/>
                    </a:lnTo>
                    <a:lnTo>
                      <a:pt x="2548" y="939"/>
                    </a:lnTo>
                    <a:lnTo>
                      <a:pt x="2529" y="958"/>
                    </a:lnTo>
                    <a:lnTo>
                      <a:pt x="2491" y="976"/>
                    </a:lnTo>
                    <a:lnTo>
                      <a:pt x="2472" y="995"/>
                    </a:lnTo>
                    <a:lnTo>
                      <a:pt x="2453" y="1013"/>
                    </a:lnTo>
                    <a:lnTo>
                      <a:pt x="2435" y="1032"/>
                    </a:lnTo>
                    <a:lnTo>
                      <a:pt x="2398" y="1050"/>
                    </a:lnTo>
                    <a:lnTo>
                      <a:pt x="2379" y="1068"/>
                    </a:lnTo>
                    <a:lnTo>
                      <a:pt x="2360" y="1086"/>
                    </a:lnTo>
                    <a:lnTo>
                      <a:pt x="2322" y="1105"/>
                    </a:lnTo>
                    <a:lnTo>
                      <a:pt x="2303" y="1123"/>
                    </a:lnTo>
                    <a:lnTo>
                      <a:pt x="2284" y="1142"/>
                    </a:lnTo>
                    <a:lnTo>
                      <a:pt x="2246" y="1160"/>
                    </a:lnTo>
                    <a:lnTo>
                      <a:pt x="2227" y="1179"/>
                    </a:lnTo>
                    <a:lnTo>
                      <a:pt x="2208" y="1179"/>
                    </a:lnTo>
                    <a:lnTo>
                      <a:pt x="2171" y="1197"/>
                    </a:lnTo>
                    <a:lnTo>
                      <a:pt x="2152" y="1216"/>
                    </a:lnTo>
                    <a:lnTo>
                      <a:pt x="2133" y="1234"/>
                    </a:lnTo>
                    <a:lnTo>
                      <a:pt x="2095" y="1253"/>
                    </a:lnTo>
                    <a:lnTo>
                      <a:pt x="2076" y="1271"/>
                    </a:lnTo>
                    <a:lnTo>
                      <a:pt x="2058" y="1289"/>
                    </a:lnTo>
                    <a:lnTo>
                      <a:pt x="2020" y="1289"/>
                    </a:lnTo>
                    <a:lnTo>
                      <a:pt x="2001" y="1308"/>
                    </a:lnTo>
                    <a:lnTo>
                      <a:pt x="1982" y="1326"/>
                    </a:lnTo>
                    <a:lnTo>
                      <a:pt x="1944" y="1345"/>
                    </a:lnTo>
                    <a:lnTo>
                      <a:pt x="1925" y="1363"/>
                    </a:lnTo>
                    <a:lnTo>
                      <a:pt x="1888" y="1363"/>
                    </a:lnTo>
                    <a:lnTo>
                      <a:pt x="1869" y="1382"/>
                    </a:lnTo>
                    <a:lnTo>
                      <a:pt x="1850" y="1399"/>
                    </a:lnTo>
                    <a:lnTo>
                      <a:pt x="1812" y="1418"/>
                    </a:lnTo>
                    <a:lnTo>
                      <a:pt x="1793" y="1418"/>
                    </a:lnTo>
                    <a:lnTo>
                      <a:pt x="1680" y="1418"/>
                    </a:lnTo>
                    <a:lnTo>
                      <a:pt x="1529" y="1142"/>
                    </a:lnTo>
                    <a:lnTo>
                      <a:pt x="1529" y="1123"/>
                    </a:lnTo>
                    <a:lnTo>
                      <a:pt x="1529" y="1105"/>
                    </a:lnTo>
                    <a:lnTo>
                      <a:pt x="1529" y="1086"/>
                    </a:lnTo>
                    <a:lnTo>
                      <a:pt x="1529" y="1068"/>
                    </a:lnTo>
                    <a:lnTo>
                      <a:pt x="1510" y="1050"/>
                    </a:lnTo>
                    <a:lnTo>
                      <a:pt x="1510" y="1050"/>
                    </a:lnTo>
                    <a:lnTo>
                      <a:pt x="1491" y="1032"/>
                    </a:lnTo>
                    <a:lnTo>
                      <a:pt x="1491" y="1013"/>
                    </a:lnTo>
                    <a:lnTo>
                      <a:pt x="1491" y="1013"/>
                    </a:lnTo>
                    <a:lnTo>
                      <a:pt x="1472" y="995"/>
                    </a:lnTo>
                    <a:lnTo>
                      <a:pt x="1472" y="976"/>
                    </a:lnTo>
                    <a:lnTo>
                      <a:pt x="1472" y="958"/>
                    </a:lnTo>
                    <a:lnTo>
                      <a:pt x="1453" y="939"/>
                    </a:lnTo>
                    <a:lnTo>
                      <a:pt x="1453" y="939"/>
                    </a:lnTo>
                    <a:lnTo>
                      <a:pt x="1472" y="921"/>
                    </a:lnTo>
                    <a:lnTo>
                      <a:pt x="1472" y="884"/>
                    </a:lnTo>
                    <a:lnTo>
                      <a:pt x="1472" y="884"/>
                    </a:lnTo>
                    <a:lnTo>
                      <a:pt x="1472" y="865"/>
                    </a:lnTo>
                    <a:lnTo>
                      <a:pt x="1453" y="847"/>
                    </a:lnTo>
                    <a:lnTo>
                      <a:pt x="1453" y="847"/>
                    </a:lnTo>
                    <a:lnTo>
                      <a:pt x="1434" y="847"/>
                    </a:lnTo>
                    <a:lnTo>
                      <a:pt x="1434" y="829"/>
                    </a:lnTo>
                    <a:lnTo>
                      <a:pt x="1434" y="810"/>
                    </a:lnTo>
                    <a:lnTo>
                      <a:pt x="1434" y="792"/>
                    </a:lnTo>
                    <a:lnTo>
                      <a:pt x="2567" y="0"/>
                    </a:lnTo>
                    <a:lnTo>
                      <a:pt x="8079" y="0"/>
                    </a:lnTo>
                    <a:close/>
                    <a:moveTo>
                      <a:pt x="2510" y="0"/>
                    </a:moveTo>
                    <a:lnTo>
                      <a:pt x="246" y="1050"/>
                    </a:lnTo>
                    <a:lnTo>
                      <a:pt x="37" y="423"/>
                    </a:lnTo>
                    <a:lnTo>
                      <a:pt x="19" y="423"/>
                    </a:lnTo>
                    <a:lnTo>
                      <a:pt x="19" y="423"/>
                    </a:lnTo>
                    <a:lnTo>
                      <a:pt x="19" y="423"/>
                    </a:lnTo>
                    <a:lnTo>
                      <a:pt x="19" y="405"/>
                    </a:lnTo>
                    <a:lnTo>
                      <a:pt x="19" y="405"/>
                    </a:lnTo>
                    <a:lnTo>
                      <a:pt x="0" y="386"/>
                    </a:lnTo>
                    <a:lnTo>
                      <a:pt x="0" y="368"/>
                    </a:lnTo>
                    <a:lnTo>
                      <a:pt x="0" y="368"/>
                    </a:lnTo>
                    <a:lnTo>
                      <a:pt x="415" y="0"/>
                    </a:lnTo>
                    <a:lnTo>
                      <a:pt x="251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94" name="Freeform 160"/>
              <p:cNvSpPr/>
              <p:nvPr/>
            </p:nvSpPr>
            <p:spPr>
              <a:xfrm>
                <a:off x="6687000" y="6116760"/>
                <a:ext cx="1559880" cy="102600"/>
              </a:xfrm>
              <a:custGeom>
                <a:avLst/>
                <a:gdLst/>
                <a:ahLst/>
                <a:rect l="l" t="t" r="r" b="b"/>
                <a:pathLst>
                  <a:path w="6361" h="1327">
                    <a:moveTo>
                      <a:pt x="6361" y="0"/>
                    </a:moveTo>
                    <a:lnTo>
                      <a:pt x="6267" y="18"/>
                    </a:lnTo>
                    <a:lnTo>
                      <a:pt x="6172" y="37"/>
                    </a:lnTo>
                    <a:lnTo>
                      <a:pt x="6097" y="74"/>
                    </a:lnTo>
                    <a:lnTo>
                      <a:pt x="6003" y="92"/>
                    </a:lnTo>
                    <a:lnTo>
                      <a:pt x="5927" y="129"/>
                    </a:lnTo>
                    <a:lnTo>
                      <a:pt x="5832" y="147"/>
                    </a:lnTo>
                    <a:lnTo>
                      <a:pt x="5739" y="166"/>
                    </a:lnTo>
                    <a:lnTo>
                      <a:pt x="5663" y="203"/>
                    </a:lnTo>
                    <a:lnTo>
                      <a:pt x="5568" y="221"/>
                    </a:lnTo>
                    <a:lnTo>
                      <a:pt x="5493" y="258"/>
                    </a:lnTo>
                    <a:lnTo>
                      <a:pt x="5399" y="295"/>
                    </a:lnTo>
                    <a:lnTo>
                      <a:pt x="5304" y="314"/>
                    </a:lnTo>
                    <a:lnTo>
                      <a:pt x="5229" y="350"/>
                    </a:lnTo>
                    <a:lnTo>
                      <a:pt x="5134" y="368"/>
                    </a:lnTo>
                    <a:lnTo>
                      <a:pt x="5059" y="405"/>
                    </a:lnTo>
                    <a:lnTo>
                      <a:pt x="4965" y="442"/>
                    </a:lnTo>
                    <a:lnTo>
                      <a:pt x="4870" y="461"/>
                    </a:lnTo>
                    <a:lnTo>
                      <a:pt x="4794" y="498"/>
                    </a:lnTo>
                    <a:lnTo>
                      <a:pt x="4701" y="535"/>
                    </a:lnTo>
                    <a:lnTo>
                      <a:pt x="4606" y="571"/>
                    </a:lnTo>
                    <a:lnTo>
                      <a:pt x="4530" y="608"/>
                    </a:lnTo>
                    <a:lnTo>
                      <a:pt x="4436" y="645"/>
                    </a:lnTo>
                    <a:lnTo>
                      <a:pt x="4361" y="681"/>
                    </a:lnTo>
                    <a:lnTo>
                      <a:pt x="4266" y="718"/>
                    </a:lnTo>
                    <a:lnTo>
                      <a:pt x="4172" y="755"/>
                    </a:lnTo>
                    <a:lnTo>
                      <a:pt x="4096" y="792"/>
                    </a:lnTo>
                    <a:lnTo>
                      <a:pt x="4002" y="829"/>
                    </a:lnTo>
                    <a:lnTo>
                      <a:pt x="3908" y="866"/>
                    </a:lnTo>
                    <a:lnTo>
                      <a:pt x="3832" y="903"/>
                    </a:lnTo>
                    <a:lnTo>
                      <a:pt x="3737" y="958"/>
                    </a:lnTo>
                    <a:lnTo>
                      <a:pt x="3644" y="995"/>
                    </a:lnTo>
                    <a:lnTo>
                      <a:pt x="3568" y="1050"/>
                    </a:lnTo>
                    <a:lnTo>
                      <a:pt x="3530" y="1050"/>
                    </a:lnTo>
                    <a:lnTo>
                      <a:pt x="3492" y="1068"/>
                    </a:lnTo>
                    <a:lnTo>
                      <a:pt x="3473" y="1087"/>
                    </a:lnTo>
                    <a:lnTo>
                      <a:pt x="3435" y="1105"/>
                    </a:lnTo>
                    <a:lnTo>
                      <a:pt x="3397" y="1124"/>
                    </a:lnTo>
                    <a:lnTo>
                      <a:pt x="3379" y="1142"/>
                    </a:lnTo>
                    <a:lnTo>
                      <a:pt x="3341" y="1161"/>
                    </a:lnTo>
                    <a:lnTo>
                      <a:pt x="3323" y="1161"/>
                    </a:lnTo>
                    <a:lnTo>
                      <a:pt x="3285" y="1179"/>
                    </a:lnTo>
                    <a:lnTo>
                      <a:pt x="3266" y="1198"/>
                    </a:lnTo>
                    <a:lnTo>
                      <a:pt x="3228" y="1216"/>
                    </a:lnTo>
                    <a:lnTo>
                      <a:pt x="3209" y="1216"/>
                    </a:lnTo>
                    <a:lnTo>
                      <a:pt x="3171" y="1235"/>
                    </a:lnTo>
                    <a:lnTo>
                      <a:pt x="3133" y="1253"/>
                    </a:lnTo>
                    <a:lnTo>
                      <a:pt x="3115" y="1253"/>
                    </a:lnTo>
                    <a:lnTo>
                      <a:pt x="3077" y="1272"/>
                    </a:lnTo>
                    <a:lnTo>
                      <a:pt x="3058" y="1290"/>
                    </a:lnTo>
                    <a:lnTo>
                      <a:pt x="3020" y="1290"/>
                    </a:lnTo>
                    <a:lnTo>
                      <a:pt x="3001" y="1309"/>
                    </a:lnTo>
                    <a:lnTo>
                      <a:pt x="2964" y="1309"/>
                    </a:lnTo>
                    <a:lnTo>
                      <a:pt x="2945" y="1309"/>
                    </a:lnTo>
                    <a:lnTo>
                      <a:pt x="2907" y="1327"/>
                    </a:lnTo>
                    <a:lnTo>
                      <a:pt x="2888" y="1327"/>
                    </a:lnTo>
                    <a:lnTo>
                      <a:pt x="2851" y="1327"/>
                    </a:lnTo>
                    <a:lnTo>
                      <a:pt x="2832" y="1327"/>
                    </a:lnTo>
                    <a:lnTo>
                      <a:pt x="2794" y="1327"/>
                    </a:lnTo>
                    <a:lnTo>
                      <a:pt x="2775" y="1327"/>
                    </a:lnTo>
                    <a:lnTo>
                      <a:pt x="2737" y="1327"/>
                    </a:lnTo>
                    <a:lnTo>
                      <a:pt x="2699" y="1327"/>
                    </a:lnTo>
                    <a:lnTo>
                      <a:pt x="2680" y="1309"/>
                    </a:lnTo>
                    <a:lnTo>
                      <a:pt x="2642" y="1309"/>
                    </a:lnTo>
                    <a:lnTo>
                      <a:pt x="2605" y="1290"/>
                    </a:lnTo>
                    <a:lnTo>
                      <a:pt x="2454" y="737"/>
                    </a:lnTo>
                    <a:lnTo>
                      <a:pt x="2454" y="737"/>
                    </a:lnTo>
                    <a:lnTo>
                      <a:pt x="2435" y="718"/>
                    </a:lnTo>
                    <a:lnTo>
                      <a:pt x="2435" y="718"/>
                    </a:lnTo>
                    <a:lnTo>
                      <a:pt x="2435" y="700"/>
                    </a:lnTo>
                    <a:lnTo>
                      <a:pt x="2435" y="700"/>
                    </a:lnTo>
                    <a:lnTo>
                      <a:pt x="2416" y="681"/>
                    </a:lnTo>
                    <a:lnTo>
                      <a:pt x="2416" y="681"/>
                    </a:lnTo>
                    <a:lnTo>
                      <a:pt x="2397" y="664"/>
                    </a:lnTo>
                    <a:lnTo>
                      <a:pt x="3379" y="0"/>
                    </a:lnTo>
                    <a:lnTo>
                      <a:pt x="6361" y="0"/>
                    </a:lnTo>
                    <a:close/>
                    <a:moveTo>
                      <a:pt x="2926" y="0"/>
                    </a:moveTo>
                    <a:lnTo>
                      <a:pt x="2888" y="0"/>
                    </a:lnTo>
                    <a:lnTo>
                      <a:pt x="2869" y="18"/>
                    </a:lnTo>
                    <a:lnTo>
                      <a:pt x="2832" y="37"/>
                    </a:lnTo>
                    <a:lnTo>
                      <a:pt x="2813" y="55"/>
                    </a:lnTo>
                    <a:lnTo>
                      <a:pt x="2775" y="74"/>
                    </a:lnTo>
                    <a:lnTo>
                      <a:pt x="2756" y="74"/>
                    </a:lnTo>
                    <a:lnTo>
                      <a:pt x="2718" y="92"/>
                    </a:lnTo>
                    <a:lnTo>
                      <a:pt x="2699" y="111"/>
                    </a:lnTo>
                    <a:lnTo>
                      <a:pt x="2661" y="111"/>
                    </a:lnTo>
                    <a:lnTo>
                      <a:pt x="2642" y="129"/>
                    </a:lnTo>
                    <a:lnTo>
                      <a:pt x="2605" y="147"/>
                    </a:lnTo>
                    <a:lnTo>
                      <a:pt x="2568" y="147"/>
                    </a:lnTo>
                    <a:lnTo>
                      <a:pt x="2549" y="166"/>
                    </a:lnTo>
                    <a:lnTo>
                      <a:pt x="2511" y="166"/>
                    </a:lnTo>
                    <a:lnTo>
                      <a:pt x="2492" y="184"/>
                    </a:lnTo>
                    <a:lnTo>
                      <a:pt x="2473" y="184"/>
                    </a:lnTo>
                    <a:lnTo>
                      <a:pt x="2435" y="203"/>
                    </a:lnTo>
                    <a:lnTo>
                      <a:pt x="2416" y="221"/>
                    </a:lnTo>
                    <a:lnTo>
                      <a:pt x="2378" y="240"/>
                    </a:lnTo>
                    <a:lnTo>
                      <a:pt x="2359" y="277"/>
                    </a:lnTo>
                    <a:lnTo>
                      <a:pt x="2321" y="295"/>
                    </a:lnTo>
                    <a:lnTo>
                      <a:pt x="2303" y="314"/>
                    </a:lnTo>
                    <a:lnTo>
                      <a:pt x="2284" y="332"/>
                    </a:lnTo>
                    <a:lnTo>
                      <a:pt x="2247" y="350"/>
                    </a:lnTo>
                    <a:lnTo>
                      <a:pt x="2228" y="368"/>
                    </a:lnTo>
                    <a:lnTo>
                      <a:pt x="2190" y="387"/>
                    </a:lnTo>
                    <a:lnTo>
                      <a:pt x="2171" y="405"/>
                    </a:lnTo>
                    <a:lnTo>
                      <a:pt x="2133" y="424"/>
                    </a:lnTo>
                    <a:lnTo>
                      <a:pt x="2114" y="442"/>
                    </a:lnTo>
                    <a:lnTo>
                      <a:pt x="2076" y="461"/>
                    </a:lnTo>
                    <a:lnTo>
                      <a:pt x="2057" y="479"/>
                    </a:lnTo>
                    <a:lnTo>
                      <a:pt x="2039" y="498"/>
                    </a:lnTo>
                    <a:lnTo>
                      <a:pt x="2001" y="516"/>
                    </a:lnTo>
                    <a:lnTo>
                      <a:pt x="1982" y="535"/>
                    </a:lnTo>
                    <a:lnTo>
                      <a:pt x="1944" y="553"/>
                    </a:lnTo>
                    <a:lnTo>
                      <a:pt x="1926" y="571"/>
                    </a:lnTo>
                    <a:lnTo>
                      <a:pt x="1888" y="590"/>
                    </a:lnTo>
                    <a:lnTo>
                      <a:pt x="1869" y="608"/>
                    </a:lnTo>
                    <a:lnTo>
                      <a:pt x="1831" y="608"/>
                    </a:lnTo>
                    <a:lnTo>
                      <a:pt x="1812" y="627"/>
                    </a:lnTo>
                    <a:lnTo>
                      <a:pt x="1775" y="645"/>
                    </a:lnTo>
                    <a:lnTo>
                      <a:pt x="1737" y="664"/>
                    </a:lnTo>
                    <a:lnTo>
                      <a:pt x="1718" y="681"/>
                    </a:lnTo>
                    <a:lnTo>
                      <a:pt x="1680" y="681"/>
                    </a:lnTo>
                    <a:lnTo>
                      <a:pt x="1661" y="700"/>
                    </a:lnTo>
                    <a:lnTo>
                      <a:pt x="1623" y="718"/>
                    </a:lnTo>
                    <a:lnTo>
                      <a:pt x="1604" y="737"/>
                    </a:lnTo>
                    <a:lnTo>
                      <a:pt x="1567" y="737"/>
                    </a:lnTo>
                    <a:lnTo>
                      <a:pt x="1397" y="424"/>
                    </a:lnTo>
                    <a:lnTo>
                      <a:pt x="1397" y="405"/>
                    </a:lnTo>
                    <a:lnTo>
                      <a:pt x="1397" y="387"/>
                    </a:lnTo>
                    <a:lnTo>
                      <a:pt x="1397" y="368"/>
                    </a:lnTo>
                    <a:lnTo>
                      <a:pt x="1397" y="350"/>
                    </a:lnTo>
                    <a:lnTo>
                      <a:pt x="1378" y="332"/>
                    </a:lnTo>
                    <a:lnTo>
                      <a:pt x="1378" y="332"/>
                    </a:lnTo>
                    <a:lnTo>
                      <a:pt x="1359" y="314"/>
                    </a:lnTo>
                    <a:lnTo>
                      <a:pt x="1359" y="295"/>
                    </a:lnTo>
                    <a:lnTo>
                      <a:pt x="1359" y="295"/>
                    </a:lnTo>
                    <a:lnTo>
                      <a:pt x="1340" y="277"/>
                    </a:lnTo>
                    <a:lnTo>
                      <a:pt x="1340" y="258"/>
                    </a:lnTo>
                    <a:lnTo>
                      <a:pt x="1340" y="240"/>
                    </a:lnTo>
                    <a:lnTo>
                      <a:pt x="1321" y="221"/>
                    </a:lnTo>
                    <a:lnTo>
                      <a:pt x="1321" y="221"/>
                    </a:lnTo>
                    <a:lnTo>
                      <a:pt x="1340" y="203"/>
                    </a:lnTo>
                    <a:lnTo>
                      <a:pt x="1340" y="166"/>
                    </a:lnTo>
                    <a:lnTo>
                      <a:pt x="1340" y="166"/>
                    </a:lnTo>
                    <a:lnTo>
                      <a:pt x="1340" y="147"/>
                    </a:lnTo>
                    <a:lnTo>
                      <a:pt x="1321" y="129"/>
                    </a:lnTo>
                    <a:lnTo>
                      <a:pt x="1321" y="129"/>
                    </a:lnTo>
                    <a:lnTo>
                      <a:pt x="1302" y="129"/>
                    </a:lnTo>
                    <a:lnTo>
                      <a:pt x="1302" y="111"/>
                    </a:lnTo>
                    <a:lnTo>
                      <a:pt x="1302" y="92"/>
                    </a:lnTo>
                    <a:lnTo>
                      <a:pt x="1302" y="74"/>
                    </a:lnTo>
                    <a:lnTo>
                      <a:pt x="1397" y="0"/>
                    </a:lnTo>
                    <a:lnTo>
                      <a:pt x="2926" y="0"/>
                    </a:lnTo>
                    <a:close/>
                    <a:moveTo>
                      <a:pt x="831" y="0"/>
                    </a:moveTo>
                    <a:lnTo>
                      <a:pt x="114" y="332"/>
                    </a:lnTo>
                    <a:lnTo>
                      <a:pt x="0" y="0"/>
                    </a:lnTo>
                    <a:lnTo>
                      <a:pt x="83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95" name="Freeform 161"/>
              <p:cNvSpPr/>
              <p:nvPr/>
            </p:nvSpPr>
            <p:spPr>
              <a:xfrm>
                <a:off x="7063920" y="6170400"/>
                <a:ext cx="671760" cy="48960"/>
              </a:xfrm>
              <a:custGeom>
                <a:avLst/>
                <a:gdLst/>
                <a:ahLst/>
                <a:rect l="l" t="t" r="r" b="b"/>
                <a:pathLst>
                  <a:path w="2737" h="627">
                    <a:moveTo>
                      <a:pt x="2737" y="0"/>
                    </a:moveTo>
                    <a:lnTo>
                      <a:pt x="2718" y="18"/>
                    </a:lnTo>
                    <a:lnTo>
                      <a:pt x="2699" y="18"/>
                    </a:lnTo>
                    <a:lnTo>
                      <a:pt x="2661" y="37"/>
                    </a:lnTo>
                    <a:lnTo>
                      <a:pt x="2643" y="37"/>
                    </a:lnTo>
                    <a:lnTo>
                      <a:pt x="2624" y="55"/>
                    </a:lnTo>
                    <a:lnTo>
                      <a:pt x="2605" y="55"/>
                    </a:lnTo>
                    <a:lnTo>
                      <a:pt x="2586" y="74"/>
                    </a:lnTo>
                    <a:lnTo>
                      <a:pt x="2548" y="74"/>
                    </a:lnTo>
                    <a:lnTo>
                      <a:pt x="2529" y="92"/>
                    </a:lnTo>
                    <a:lnTo>
                      <a:pt x="2510" y="111"/>
                    </a:lnTo>
                    <a:lnTo>
                      <a:pt x="2492" y="111"/>
                    </a:lnTo>
                    <a:lnTo>
                      <a:pt x="2473" y="129"/>
                    </a:lnTo>
                    <a:lnTo>
                      <a:pt x="2435" y="129"/>
                    </a:lnTo>
                    <a:lnTo>
                      <a:pt x="2416" y="148"/>
                    </a:lnTo>
                    <a:lnTo>
                      <a:pt x="2397" y="148"/>
                    </a:lnTo>
                    <a:lnTo>
                      <a:pt x="2379" y="166"/>
                    </a:lnTo>
                    <a:lnTo>
                      <a:pt x="2360" y="185"/>
                    </a:lnTo>
                    <a:lnTo>
                      <a:pt x="2322" y="185"/>
                    </a:lnTo>
                    <a:lnTo>
                      <a:pt x="2303" y="203"/>
                    </a:lnTo>
                    <a:lnTo>
                      <a:pt x="2284" y="203"/>
                    </a:lnTo>
                    <a:lnTo>
                      <a:pt x="2265" y="222"/>
                    </a:lnTo>
                    <a:lnTo>
                      <a:pt x="2246" y="222"/>
                    </a:lnTo>
                    <a:lnTo>
                      <a:pt x="2227" y="240"/>
                    </a:lnTo>
                    <a:lnTo>
                      <a:pt x="2189" y="258"/>
                    </a:lnTo>
                    <a:lnTo>
                      <a:pt x="2170" y="258"/>
                    </a:lnTo>
                    <a:lnTo>
                      <a:pt x="2151" y="277"/>
                    </a:lnTo>
                    <a:lnTo>
                      <a:pt x="2133" y="277"/>
                    </a:lnTo>
                    <a:lnTo>
                      <a:pt x="2096" y="295"/>
                    </a:lnTo>
                    <a:lnTo>
                      <a:pt x="2077" y="314"/>
                    </a:lnTo>
                    <a:lnTo>
                      <a:pt x="2058" y="314"/>
                    </a:lnTo>
                    <a:lnTo>
                      <a:pt x="2039" y="331"/>
                    </a:lnTo>
                    <a:lnTo>
                      <a:pt x="2020" y="350"/>
                    </a:lnTo>
                    <a:lnTo>
                      <a:pt x="1982" y="350"/>
                    </a:lnTo>
                    <a:lnTo>
                      <a:pt x="1944" y="368"/>
                    </a:lnTo>
                    <a:lnTo>
                      <a:pt x="1925" y="387"/>
                    </a:lnTo>
                    <a:lnTo>
                      <a:pt x="1887" y="405"/>
                    </a:lnTo>
                    <a:lnTo>
                      <a:pt x="1849" y="424"/>
                    </a:lnTo>
                    <a:lnTo>
                      <a:pt x="1831" y="442"/>
                    </a:lnTo>
                    <a:lnTo>
                      <a:pt x="1793" y="461"/>
                    </a:lnTo>
                    <a:lnTo>
                      <a:pt x="1775" y="461"/>
                    </a:lnTo>
                    <a:lnTo>
                      <a:pt x="1737" y="479"/>
                    </a:lnTo>
                    <a:lnTo>
                      <a:pt x="1718" y="498"/>
                    </a:lnTo>
                    <a:lnTo>
                      <a:pt x="1680" y="516"/>
                    </a:lnTo>
                    <a:lnTo>
                      <a:pt x="1661" y="516"/>
                    </a:lnTo>
                    <a:lnTo>
                      <a:pt x="1623" y="535"/>
                    </a:lnTo>
                    <a:lnTo>
                      <a:pt x="1585" y="553"/>
                    </a:lnTo>
                    <a:lnTo>
                      <a:pt x="1567" y="553"/>
                    </a:lnTo>
                    <a:lnTo>
                      <a:pt x="1529" y="572"/>
                    </a:lnTo>
                    <a:lnTo>
                      <a:pt x="1510" y="590"/>
                    </a:lnTo>
                    <a:lnTo>
                      <a:pt x="1472" y="590"/>
                    </a:lnTo>
                    <a:lnTo>
                      <a:pt x="1453" y="609"/>
                    </a:lnTo>
                    <a:lnTo>
                      <a:pt x="1416" y="609"/>
                    </a:lnTo>
                    <a:lnTo>
                      <a:pt x="1397" y="609"/>
                    </a:lnTo>
                    <a:lnTo>
                      <a:pt x="1359" y="627"/>
                    </a:lnTo>
                    <a:lnTo>
                      <a:pt x="1340" y="627"/>
                    </a:lnTo>
                    <a:lnTo>
                      <a:pt x="1303" y="627"/>
                    </a:lnTo>
                    <a:lnTo>
                      <a:pt x="1284" y="627"/>
                    </a:lnTo>
                    <a:lnTo>
                      <a:pt x="1246" y="627"/>
                    </a:lnTo>
                    <a:lnTo>
                      <a:pt x="1227" y="627"/>
                    </a:lnTo>
                    <a:lnTo>
                      <a:pt x="1189" y="627"/>
                    </a:lnTo>
                    <a:lnTo>
                      <a:pt x="1151" y="627"/>
                    </a:lnTo>
                    <a:lnTo>
                      <a:pt x="1132" y="609"/>
                    </a:lnTo>
                    <a:lnTo>
                      <a:pt x="1094" y="609"/>
                    </a:lnTo>
                    <a:lnTo>
                      <a:pt x="1057" y="590"/>
                    </a:lnTo>
                    <a:lnTo>
                      <a:pt x="906" y="37"/>
                    </a:lnTo>
                    <a:lnTo>
                      <a:pt x="906" y="37"/>
                    </a:lnTo>
                    <a:lnTo>
                      <a:pt x="906" y="37"/>
                    </a:lnTo>
                    <a:lnTo>
                      <a:pt x="887" y="37"/>
                    </a:lnTo>
                    <a:lnTo>
                      <a:pt x="887" y="18"/>
                    </a:lnTo>
                    <a:lnTo>
                      <a:pt x="887" y="18"/>
                    </a:lnTo>
                    <a:lnTo>
                      <a:pt x="887" y="18"/>
                    </a:lnTo>
                    <a:lnTo>
                      <a:pt x="887" y="0"/>
                    </a:lnTo>
                    <a:lnTo>
                      <a:pt x="887" y="0"/>
                    </a:lnTo>
                    <a:lnTo>
                      <a:pt x="2737" y="0"/>
                    </a:lnTo>
                    <a:close/>
                    <a:moveTo>
                      <a:pt x="113" y="0"/>
                    </a:moveTo>
                    <a:lnTo>
                      <a:pt x="94" y="0"/>
                    </a:lnTo>
                    <a:lnTo>
                      <a:pt x="94" y="18"/>
                    </a:lnTo>
                    <a:lnTo>
                      <a:pt x="75" y="18"/>
                    </a:lnTo>
                    <a:lnTo>
                      <a:pt x="56" y="18"/>
                    </a:lnTo>
                    <a:lnTo>
                      <a:pt x="56" y="37"/>
                    </a:lnTo>
                    <a:lnTo>
                      <a:pt x="37" y="37"/>
                    </a:lnTo>
                    <a:lnTo>
                      <a:pt x="37" y="37"/>
                    </a:lnTo>
                    <a:lnTo>
                      <a:pt x="19" y="37"/>
                    </a:lnTo>
                    <a:lnTo>
                      <a:pt x="0" y="0"/>
                    </a:lnTo>
                    <a:lnTo>
                      <a:pt x="11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96" name="Freeform 162"/>
              <p:cNvSpPr/>
              <p:nvPr/>
            </p:nvSpPr>
            <p:spPr>
              <a:xfrm>
                <a:off x="7550280" y="5794200"/>
                <a:ext cx="9720" cy="1440"/>
              </a:xfrm>
              <a:custGeom>
                <a:avLst/>
                <a:gdLst/>
                <a:ahLst/>
                <a:rect l="l" t="t" r="r" b="b"/>
                <a:pathLst>
                  <a:path w="38" h="1">
                    <a:moveTo>
                      <a:pt x="0" y="0"/>
                    </a:move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38" y="0"/>
                    </a:lnTo>
                    <a:lnTo>
                      <a:pt x="19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97" name="Freeform 163"/>
              <p:cNvSpPr/>
              <p:nvPr/>
            </p:nvSpPr>
            <p:spPr>
              <a:xfrm>
                <a:off x="7544880" y="57942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0"/>
                    </a:move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57" y="0"/>
                    </a:lnTo>
                    <a:lnTo>
                      <a:pt x="19" y="18"/>
                    </a:lnTo>
                    <a:lnTo>
                      <a:pt x="0" y="18"/>
                    </a:lnTo>
                    <a:lnTo>
                      <a:pt x="1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98" name="Freeform 164"/>
              <p:cNvSpPr/>
              <p:nvPr/>
            </p:nvSpPr>
            <p:spPr>
              <a:xfrm>
                <a:off x="7540200" y="5794200"/>
                <a:ext cx="14400" cy="144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18"/>
                    </a:moveTo>
                    <a:lnTo>
                      <a:pt x="57" y="0"/>
                    </a:lnTo>
                    <a:lnTo>
                      <a:pt x="38" y="0"/>
                    </a:lnTo>
                    <a:lnTo>
                      <a:pt x="0" y="18"/>
                    </a:lnTo>
                    <a:lnTo>
                      <a:pt x="19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99" name="Freeform 165"/>
              <p:cNvSpPr/>
              <p:nvPr/>
            </p:nvSpPr>
            <p:spPr>
              <a:xfrm>
                <a:off x="7540200" y="5795640"/>
                <a:ext cx="9720" cy="180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00" name="Freeform 166"/>
              <p:cNvSpPr/>
              <p:nvPr/>
            </p:nvSpPr>
            <p:spPr>
              <a:xfrm>
                <a:off x="7535880" y="5795640"/>
                <a:ext cx="8640" cy="180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01" name="Freeform 167"/>
              <p:cNvSpPr/>
              <p:nvPr/>
            </p:nvSpPr>
            <p:spPr>
              <a:xfrm>
                <a:off x="7530120" y="5797440"/>
                <a:ext cx="14400" cy="144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18"/>
                    </a:moveTo>
                    <a:lnTo>
                      <a:pt x="57" y="0"/>
                    </a:lnTo>
                    <a:lnTo>
                      <a:pt x="38" y="0"/>
                    </a:lnTo>
                    <a:lnTo>
                      <a:pt x="0" y="18"/>
                    </a:lnTo>
                    <a:lnTo>
                      <a:pt x="19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02" name="Freeform 168"/>
              <p:cNvSpPr/>
              <p:nvPr/>
            </p:nvSpPr>
            <p:spPr>
              <a:xfrm>
                <a:off x="7525800" y="5797440"/>
                <a:ext cx="14400" cy="144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18"/>
                    </a:moveTo>
                    <a:lnTo>
                      <a:pt x="57" y="0"/>
                    </a:lnTo>
                    <a:lnTo>
                      <a:pt x="38" y="0"/>
                    </a:lnTo>
                    <a:lnTo>
                      <a:pt x="0" y="18"/>
                    </a:lnTo>
                    <a:lnTo>
                      <a:pt x="19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03" name="Freeform 169"/>
              <p:cNvSpPr/>
              <p:nvPr/>
            </p:nvSpPr>
            <p:spPr>
              <a:xfrm>
                <a:off x="7525800" y="5798880"/>
                <a:ext cx="4320" cy="144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04" name="Freeform 170"/>
              <p:cNvSpPr/>
              <p:nvPr/>
            </p:nvSpPr>
            <p:spPr>
              <a:xfrm>
                <a:off x="7515720" y="5800320"/>
                <a:ext cx="9720" cy="1800"/>
              </a:xfrm>
              <a:custGeom>
                <a:avLst/>
                <a:gdLst/>
                <a:ahLst/>
                <a:rect l="l" t="t" r="r" b="b"/>
                <a:pathLst>
                  <a:path w="56" h="18">
                    <a:moveTo>
                      <a:pt x="18" y="18"/>
                    </a:moveTo>
                    <a:lnTo>
                      <a:pt x="56" y="0"/>
                    </a:lnTo>
                    <a:lnTo>
                      <a:pt x="37" y="0"/>
                    </a:lnTo>
                    <a:lnTo>
                      <a:pt x="0" y="18"/>
                    </a:lnTo>
                    <a:lnTo>
                      <a:pt x="18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05" name="Freeform 171"/>
              <p:cNvSpPr/>
              <p:nvPr/>
            </p:nvSpPr>
            <p:spPr>
              <a:xfrm>
                <a:off x="7505640" y="5802120"/>
                <a:ext cx="9720" cy="144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38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06" name="Freeform 172"/>
              <p:cNvSpPr/>
              <p:nvPr/>
            </p:nvSpPr>
            <p:spPr>
              <a:xfrm>
                <a:off x="7491240" y="5803560"/>
                <a:ext cx="9720" cy="180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38" y="0"/>
                    </a:moveTo>
                    <a:lnTo>
                      <a:pt x="0" y="19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07" name="Freeform 173"/>
              <p:cNvSpPr/>
              <p:nvPr/>
            </p:nvSpPr>
            <p:spPr>
              <a:xfrm>
                <a:off x="7491240" y="5805360"/>
                <a:ext cx="4320" cy="1440"/>
              </a:xfrm>
              <a:custGeom>
                <a:avLst/>
                <a:gdLst/>
                <a:ahLst/>
                <a:rect l="l" t="t" r="r" b="b"/>
                <a:pathLst>
                  <a:path w="19" h="1">
                    <a:moveTo>
                      <a:pt x="19" y="0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</p:grpSp>
        <p:sp>
          <p:nvSpPr>
            <p:cNvPr id="408" name="Rectangle 174"/>
            <p:cNvSpPr/>
            <p:nvPr/>
          </p:nvSpPr>
          <p:spPr>
            <a:xfrm>
              <a:off x="6300720" y="5171760"/>
              <a:ext cx="2027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f5494"/>
                  </a:solidFill>
                  <a:latin typeface="Verdana"/>
                </a:rPr>
                <a:t>Négociation autour de biens publics</a:t>
              </a:r>
              <a:endParaRPr b="0" lang="en-US" sz="20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grpSp>
        <p:nvGrpSpPr>
          <p:cNvPr id="409" name="Group 214"/>
          <p:cNvGrpSpPr/>
          <p:nvPr/>
        </p:nvGrpSpPr>
        <p:grpSpPr>
          <a:xfrm>
            <a:off x="2411280" y="4581360"/>
            <a:ext cx="2664720" cy="1223640"/>
            <a:chOff x="2411280" y="4581360"/>
            <a:chExt cx="2664720" cy="1223640"/>
          </a:xfrm>
        </p:grpSpPr>
        <p:grpSp>
          <p:nvGrpSpPr>
            <p:cNvPr id="410" name="Group 175"/>
            <p:cNvGrpSpPr/>
            <p:nvPr/>
          </p:nvGrpSpPr>
          <p:grpSpPr>
            <a:xfrm>
              <a:off x="2411280" y="4581360"/>
              <a:ext cx="2664720" cy="1223640"/>
              <a:chOff x="2411280" y="4581360"/>
              <a:chExt cx="2664720" cy="1223640"/>
            </a:xfrm>
          </p:grpSpPr>
          <p:sp>
            <p:nvSpPr>
              <p:cNvPr id="411" name="Freeform 176"/>
              <p:cNvSpPr/>
              <p:nvPr/>
            </p:nvSpPr>
            <p:spPr>
              <a:xfrm>
                <a:off x="2740320" y="4581360"/>
                <a:ext cx="1419480" cy="123840"/>
              </a:xfrm>
              <a:custGeom>
                <a:avLst/>
                <a:gdLst/>
                <a:ahLst/>
                <a:rect l="l" t="t" r="r" b="b"/>
                <a:pathLst>
                  <a:path w="7154" h="1419">
                    <a:moveTo>
                      <a:pt x="3416" y="0"/>
                    </a:moveTo>
                    <a:lnTo>
                      <a:pt x="3435" y="0"/>
                    </a:lnTo>
                    <a:lnTo>
                      <a:pt x="3435" y="0"/>
                    </a:lnTo>
                    <a:lnTo>
                      <a:pt x="3454" y="0"/>
                    </a:lnTo>
                    <a:lnTo>
                      <a:pt x="3454" y="0"/>
                    </a:lnTo>
                    <a:lnTo>
                      <a:pt x="3473" y="0"/>
                    </a:lnTo>
                    <a:lnTo>
                      <a:pt x="3473" y="0"/>
                    </a:lnTo>
                    <a:lnTo>
                      <a:pt x="3473" y="18"/>
                    </a:lnTo>
                    <a:lnTo>
                      <a:pt x="3492" y="18"/>
                    </a:lnTo>
                    <a:lnTo>
                      <a:pt x="3661" y="719"/>
                    </a:lnTo>
                    <a:lnTo>
                      <a:pt x="4794" y="387"/>
                    </a:lnTo>
                    <a:lnTo>
                      <a:pt x="4889" y="1180"/>
                    </a:lnTo>
                    <a:lnTo>
                      <a:pt x="4549" y="1419"/>
                    </a:lnTo>
                    <a:lnTo>
                      <a:pt x="0" y="1419"/>
                    </a:lnTo>
                    <a:lnTo>
                      <a:pt x="19" y="1382"/>
                    </a:lnTo>
                    <a:lnTo>
                      <a:pt x="57" y="1346"/>
                    </a:lnTo>
                    <a:lnTo>
                      <a:pt x="76" y="1327"/>
                    </a:lnTo>
                    <a:lnTo>
                      <a:pt x="94" y="1309"/>
                    </a:lnTo>
                    <a:lnTo>
                      <a:pt x="131" y="1272"/>
                    </a:lnTo>
                    <a:lnTo>
                      <a:pt x="150" y="1253"/>
                    </a:lnTo>
                    <a:lnTo>
                      <a:pt x="188" y="1216"/>
                    </a:lnTo>
                    <a:lnTo>
                      <a:pt x="207" y="1198"/>
                    </a:lnTo>
                    <a:lnTo>
                      <a:pt x="245" y="1180"/>
                    </a:lnTo>
                    <a:lnTo>
                      <a:pt x="264" y="1143"/>
                    </a:lnTo>
                    <a:lnTo>
                      <a:pt x="302" y="1124"/>
                    </a:lnTo>
                    <a:lnTo>
                      <a:pt x="321" y="1106"/>
                    </a:lnTo>
                    <a:lnTo>
                      <a:pt x="358" y="1087"/>
                    </a:lnTo>
                    <a:lnTo>
                      <a:pt x="396" y="1069"/>
                    </a:lnTo>
                    <a:lnTo>
                      <a:pt x="415" y="1050"/>
                    </a:lnTo>
                    <a:lnTo>
                      <a:pt x="453" y="1014"/>
                    </a:lnTo>
                    <a:lnTo>
                      <a:pt x="453" y="1033"/>
                    </a:lnTo>
                    <a:lnTo>
                      <a:pt x="471" y="1050"/>
                    </a:lnTo>
                    <a:lnTo>
                      <a:pt x="471" y="1050"/>
                    </a:lnTo>
                    <a:lnTo>
                      <a:pt x="490" y="1069"/>
                    </a:lnTo>
                    <a:lnTo>
                      <a:pt x="490" y="1069"/>
                    </a:lnTo>
                    <a:lnTo>
                      <a:pt x="509" y="1087"/>
                    </a:lnTo>
                    <a:lnTo>
                      <a:pt x="509" y="1106"/>
                    </a:lnTo>
                    <a:lnTo>
                      <a:pt x="509" y="1124"/>
                    </a:lnTo>
                    <a:lnTo>
                      <a:pt x="528" y="1143"/>
                    </a:lnTo>
                    <a:lnTo>
                      <a:pt x="528" y="1143"/>
                    </a:lnTo>
                    <a:lnTo>
                      <a:pt x="528" y="1161"/>
                    </a:lnTo>
                    <a:lnTo>
                      <a:pt x="547" y="1180"/>
                    </a:lnTo>
                    <a:lnTo>
                      <a:pt x="547" y="1198"/>
                    </a:lnTo>
                    <a:lnTo>
                      <a:pt x="547" y="1216"/>
                    </a:lnTo>
                    <a:lnTo>
                      <a:pt x="566" y="1216"/>
                    </a:lnTo>
                    <a:lnTo>
                      <a:pt x="566" y="1235"/>
                    </a:lnTo>
                    <a:lnTo>
                      <a:pt x="566" y="1253"/>
                    </a:lnTo>
                    <a:lnTo>
                      <a:pt x="566" y="1272"/>
                    </a:lnTo>
                    <a:lnTo>
                      <a:pt x="566" y="1272"/>
                    </a:lnTo>
                    <a:lnTo>
                      <a:pt x="566" y="1290"/>
                    </a:lnTo>
                    <a:lnTo>
                      <a:pt x="566" y="1309"/>
                    </a:lnTo>
                    <a:lnTo>
                      <a:pt x="566" y="1327"/>
                    </a:lnTo>
                    <a:lnTo>
                      <a:pt x="585" y="1346"/>
                    </a:lnTo>
                    <a:lnTo>
                      <a:pt x="585" y="1364"/>
                    </a:lnTo>
                    <a:lnTo>
                      <a:pt x="3416" y="0"/>
                    </a:lnTo>
                    <a:close/>
                    <a:moveTo>
                      <a:pt x="5115" y="1419"/>
                    </a:moveTo>
                    <a:lnTo>
                      <a:pt x="5134" y="1400"/>
                    </a:lnTo>
                    <a:lnTo>
                      <a:pt x="5172" y="1382"/>
                    </a:lnTo>
                    <a:lnTo>
                      <a:pt x="5209" y="1364"/>
                    </a:lnTo>
                    <a:lnTo>
                      <a:pt x="5247" y="1364"/>
                    </a:lnTo>
                    <a:lnTo>
                      <a:pt x="5266" y="1346"/>
                    </a:lnTo>
                    <a:lnTo>
                      <a:pt x="5304" y="1327"/>
                    </a:lnTo>
                    <a:lnTo>
                      <a:pt x="5342" y="1309"/>
                    </a:lnTo>
                    <a:lnTo>
                      <a:pt x="5361" y="1309"/>
                    </a:lnTo>
                    <a:lnTo>
                      <a:pt x="5399" y="1290"/>
                    </a:lnTo>
                    <a:lnTo>
                      <a:pt x="5436" y="1272"/>
                    </a:lnTo>
                    <a:lnTo>
                      <a:pt x="5473" y="1272"/>
                    </a:lnTo>
                    <a:lnTo>
                      <a:pt x="5492" y="1253"/>
                    </a:lnTo>
                    <a:lnTo>
                      <a:pt x="5530" y="1235"/>
                    </a:lnTo>
                    <a:lnTo>
                      <a:pt x="5568" y="1216"/>
                    </a:lnTo>
                    <a:lnTo>
                      <a:pt x="5587" y="1216"/>
                    </a:lnTo>
                    <a:lnTo>
                      <a:pt x="5625" y="1198"/>
                    </a:lnTo>
                    <a:lnTo>
                      <a:pt x="5663" y="1198"/>
                    </a:lnTo>
                    <a:lnTo>
                      <a:pt x="5701" y="1180"/>
                    </a:lnTo>
                    <a:lnTo>
                      <a:pt x="5720" y="1161"/>
                    </a:lnTo>
                    <a:lnTo>
                      <a:pt x="5757" y="1161"/>
                    </a:lnTo>
                    <a:lnTo>
                      <a:pt x="5794" y="1143"/>
                    </a:lnTo>
                    <a:lnTo>
                      <a:pt x="5813" y="1143"/>
                    </a:lnTo>
                    <a:lnTo>
                      <a:pt x="5851" y="1124"/>
                    </a:lnTo>
                    <a:lnTo>
                      <a:pt x="5889" y="1106"/>
                    </a:lnTo>
                    <a:lnTo>
                      <a:pt x="5908" y="1106"/>
                    </a:lnTo>
                    <a:lnTo>
                      <a:pt x="5946" y="1087"/>
                    </a:lnTo>
                    <a:lnTo>
                      <a:pt x="5984" y="1087"/>
                    </a:lnTo>
                    <a:lnTo>
                      <a:pt x="6002" y="1069"/>
                    </a:lnTo>
                    <a:lnTo>
                      <a:pt x="6040" y="1069"/>
                    </a:lnTo>
                    <a:lnTo>
                      <a:pt x="6078" y="1069"/>
                    </a:lnTo>
                    <a:lnTo>
                      <a:pt x="6097" y="1050"/>
                    </a:lnTo>
                    <a:lnTo>
                      <a:pt x="6134" y="1050"/>
                    </a:lnTo>
                    <a:lnTo>
                      <a:pt x="6172" y="1033"/>
                    </a:lnTo>
                    <a:lnTo>
                      <a:pt x="6210" y="1033"/>
                    </a:lnTo>
                    <a:lnTo>
                      <a:pt x="6229" y="1014"/>
                    </a:lnTo>
                    <a:lnTo>
                      <a:pt x="6266" y="1014"/>
                    </a:lnTo>
                    <a:lnTo>
                      <a:pt x="6304" y="996"/>
                    </a:lnTo>
                    <a:lnTo>
                      <a:pt x="6323" y="996"/>
                    </a:lnTo>
                    <a:lnTo>
                      <a:pt x="6361" y="996"/>
                    </a:lnTo>
                    <a:lnTo>
                      <a:pt x="6399" y="977"/>
                    </a:lnTo>
                    <a:lnTo>
                      <a:pt x="6418" y="977"/>
                    </a:lnTo>
                    <a:lnTo>
                      <a:pt x="6456" y="959"/>
                    </a:lnTo>
                    <a:lnTo>
                      <a:pt x="6493" y="959"/>
                    </a:lnTo>
                    <a:lnTo>
                      <a:pt x="6512" y="940"/>
                    </a:lnTo>
                    <a:lnTo>
                      <a:pt x="6549" y="940"/>
                    </a:lnTo>
                    <a:lnTo>
                      <a:pt x="6587" y="922"/>
                    </a:lnTo>
                    <a:lnTo>
                      <a:pt x="6606" y="922"/>
                    </a:lnTo>
                    <a:lnTo>
                      <a:pt x="6644" y="903"/>
                    </a:lnTo>
                    <a:lnTo>
                      <a:pt x="6663" y="903"/>
                    </a:lnTo>
                    <a:lnTo>
                      <a:pt x="6701" y="885"/>
                    </a:lnTo>
                    <a:lnTo>
                      <a:pt x="6739" y="885"/>
                    </a:lnTo>
                    <a:lnTo>
                      <a:pt x="6758" y="866"/>
                    </a:lnTo>
                    <a:lnTo>
                      <a:pt x="6796" y="866"/>
                    </a:lnTo>
                    <a:lnTo>
                      <a:pt x="6814" y="866"/>
                    </a:lnTo>
                    <a:lnTo>
                      <a:pt x="6851" y="848"/>
                    </a:lnTo>
                    <a:lnTo>
                      <a:pt x="6889" y="848"/>
                    </a:lnTo>
                    <a:lnTo>
                      <a:pt x="6908" y="829"/>
                    </a:lnTo>
                    <a:lnTo>
                      <a:pt x="6946" y="829"/>
                    </a:lnTo>
                    <a:lnTo>
                      <a:pt x="6965" y="811"/>
                    </a:lnTo>
                    <a:lnTo>
                      <a:pt x="7003" y="811"/>
                    </a:lnTo>
                    <a:lnTo>
                      <a:pt x="7022" y="811"/>
                    </a:lnTo>
                    <a:lnTo>
                      <a:pt x="7060" y="792"/>
                    </a:lnTo>
                    <a:lnTo>
                      <a:pt x="7078" y="792"/>
                    </a:lnTo>
                    <a:lnTo>
                      <a:pt x="7116" y="792"/>
                    </a:lnTo>
                    <a:lnTo>
                      <a:pt x="7154" y="1419"/>
                    </a:lnTo>
                    <a:lnTo>
                      <a:pt x="5115" y="14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12" name="Freeform 177"/>
              <p:cNvSpPr/>
              <p:nvPr/>
            </p:nvSpPr>
            <p:spPr>
              <a:xfrm>
                <a:off x="2629440" y="4641480"/>
                <a:ext cx="2084760" cy="123480"/>
              </a:xfrm>
              <a:custGeom>
                <a:avLst/>
                <a:gdLst/>
                <a:ahLst/>
                <a:rect l="l" t="t" r="r" b="b"/>
                <a:pathLst>
                  <a:path w="10534" h="1419">
                    <a:moveTo>
                      <a:pt x="4228" y="0"/>
                    </a:moveTo>
                    <a:lnTo>
                      <a:pt x="4228" y="19"/>
                    </a:lnTo>
                    <a:lnTo>
                      <a:pt x="4304" y="0"/>
                    </a:lnTo>
                    <a:lnTo>
                      <a:pt x="5399" y="0"/>
                    </a:lnTo>
                    <a:lnTo>
                      <a:pt x="5456" y="480"/>
                    </a:lnTo>
                    <a:lnTo>
                      <a:pt x="4153" y="1346"/>
                    </a:lnTo>
                    <a:lnTo>
                      <a:pt x="4228" y="1327"/>
                    </a:lnTo>
                    <a:lnTo>
                      <a:pt x="4304" y="1290"/>
                    </a:lnTo>
                    <a:lnTo>
                      <a:pt x="4380" y="1272"/>
                    </a:lnTo>
                    <a:lnTo>
                      <a:pt x="4455" y="1235"/>
                    </a:lnTo>
                    <a:lnTo>
                      <a:pt x="4531" y="1198"/>
                    </a:lnTo>
                    <a:lnTo>
                      <a:pt x="4606" y="1180"/>
                    </a:lnTo>
                    <a:lnTo>
                      <a:pt x="4681" y="1143"/>
                    </a:lnTo>
                    <a:lnTo>
                      <a:pt x="4776" y="1106"/>
                    </a:lnTo>
                    <a:lnTo>
                      <a:pt x="4852" y="1069"/>
                    </a:lnTo>
                    <a:lnTo>
                      <a:pt x="4927" y="1032"/>
                    </a:lnTo>
                    <a:lnTo>
                      <a:pt x="5002" y="1014"/>
                    </a:lnTo>
                    <a:lnTo>
                      <a:pt x="5097" y="977"/>
                    </a:lnTo>
                    <a:lnTo>
                      <a:pt x="5173" y="940"/>
                    </a:lnTo>
                    <a:lnTo>
                      <a:pt x="5248" y="903"/>
                    </a:lnTo>
                    <a:lnTo>
                      <a:pt x="5342" y="867"/>
                    </a:lnTo>
                    <a:lnTo>
                      <a:pt x="5418" y="830"/>
                    </a:lnTo>
                    <a:lnTo>
                      <a:pt x="5493" y="793"/>
                    </a:lnTo>
                    <a:lnTo>
                      <a:pt x="5569" y="756"/>
                    </a:lnTo>
                    <a:lnTo>
                      <a:pt x="5663" y="719"/>
                    </a:lnTo>
                    <a:lnTo>
                      <a:pt x="5739" y="682"/>
                    </a:lnTo>
                    <a:lnTo>
                      <a:pt x="5814" y="646"/>
                    </a:lnTo>
                    <a:lnTo>
                      <a:pt x="5909" y="609"/>
                    </a:lnTo>
                    <a:lnTo>
                      <a:pt x="5984" y="590"/>
                    </a:lnTo>
                    <a:lnTo>
                      <a:pt x="6059" y="553"/>
                    </a:lnTo>
                    <a:lnTo>
                      <a:pt x="6154" y="516"/>
                    </a:lnTo>
                    <a:lnTo>
                      <a:pt x="6230" y="498"/>
                    </a:lnTo>
                    <a:lnTo>
                      <a:pt x="6305" y="461"/>
                    </a:lnTo>
                    <a:lnTo>
                      <a:pt x="6380" y="443"/>
                    </a:lnTo>
                    <a:lnTo>
                      <a:pt x="6475" y="406"/>
                    </a:lnTo>
                    <a:lnTo>
                      <a:pt x="6551" y="387"/>
                    </a:lnTo>
                    <a:lnTo>
                      <a:pt x="6626" y="369"/>
                    </a:lnTo>
                    <a:lnTo>
                      <a:pt x="6701" y="350"/>
                    </a:lnTo>
                    <a:lnTo>
                      <a:pt x="6739" y="333"/>
                    </a:lnTo>
                    <a:lnTo>
                      <a:pt x="6777" y="333"/>
                    </a:lnTo>
                    <a:lnTo>
                      <a:pt x="6796" y="314"/>
                    </a:lnTo>
                    <a:lnTo>
                      <a:pt x="6833" y="314"/>
                    </a:lnTo>
                    <a:lnTo>
                      <a:pt x="6871" y="296"/>
                    </a:lnTo>
                    <a:lnTo>
                      <a:pt x="6890" y="296"/>
                    </a:lnTo>
                    <a:lnTo>
                      <a:pt x="6928" y="296"/>
                    </a:lnTo>
                    <a:lnTo>
                      <a:pt x="6966" y="277"/>
                    </a:lnTo>
                    <a:lnTo>
                      <a:pt x="6985" y="277"/>
                    </a:lnTo>
                    <a:lnTo>
                      <a:pt x="7023" y="259"/>
                    </a:lnTo>
                    <a:lnTo>
                      <a:pt x="7060" y="259"/>
                    </a:lnTo>
                    <a:lnTo>
                      <a:pt x="7079" y="240"/>
                    </a:lnTo>
                    <a:lnTo>
                      <a:pt x="7116" y="240"/>
                    </a:lnTo>
                    <a:lnTo>
                      <a:pt x="7154" y="222"/>
                    </a:lnTo>
                    <a:lnTo>
                      <a:pt x="7173" y="222"/>
                    </a:lnTo>
                    <a:lnTo>
                      <a:pt x="7211" y="203"/>
                    </a:lnTo>
                    <a:lnTo>
                      <a:pt x="7230" y="203"/>
                    </a:lnTo>
                    <a:lnTo>
                      <a:pt x="7268" y="185"/>
                    </a:lnTo>
                    <a:lnTo>
                      <a:pt x="7306" y="185"/>
                    </a:lnTo>
                    <a:lnTo>
                      <a:pt x="7325" y="166"/>
                    </a:lnTo>
                    <a:lnTo>
                      <a:pt x="7363" y="166"/>
                    </a:lnTo>
                    <a:lnTo>
                      <a:pt x="7381" y="166"/>
                    </a:lnTo>
                    <a:lnTo>
                      <a:pt x="7418" y="148"/>
                    </a:lnTo>
                    <a:lnTo>
                      <a:pt x="7456" y="148"/>
                    </a:lnTo>
                    <a:lnTo>
                      <a:pt x="7475" y="129"/>
                    </a:lnTo>
                    <a:lnTo>
                      <a:pt x="7513" y="129"/>
                    </a:lnTo>
                    <a:lnTo>
                      <a:pt x="7532" y="111"/>
                    </a:lnTo>
                    <a:lnTo>
                      <a:pt x="7570" y="111"/>
                    </a:lnTo>
                    <a:lnTo>
                      <a:pt x="7589" y="111"/>
                    </a:lnTo>
                    <a:lnTo>
                      <a:pt x="7627" y="92"/>
                    </a:lnTo>
                    <a:lnTo>
                      <a:pt x="7645" y="92"/>
                    </a:lnTo>
                    <a:lnTo>
                      <a:pt x="7683" y="92"/>
                    </a:lnTo>
                    <a:lnTo>
                      <a:pt x="7740" y="885"/>
                    </a:lnTo>
                    <a:lnTo>
                      <a:pt x="6607" y="1419"/>
                    </a:lnTo>
                    <a:lnTo>
                      <a:pt x="0" y="1419"/>
                    </a:lnTo>
                    <a:lnTo>
                      <a:pt x="38" y="1382"/>
                    </a:lnTo>
                    <a:lnTo>
                      <a:pt x="57" y="1346"/>
                    </a:lnTo>
                    <a:lnTo>
                      <a:pt x="95" y="1309"/>
                    </a:lnTo>
                    <a:lnTo>
                      <a:pt x="113" y="1272"/>
                    </a:lnTo>
                    <a:lnTo>
                      <a:pt x="151" y="1235"/>
                    </a:lnTo>
                    <a:lnTo>
                      <a:pt x="170" y="1198"/>
                    </a:lnTo>
                    <a:lnTo>
                      <a:pt x="208" y="1161"/>
                    </a:lnTo>
                    <a:lnTo>
                      <a:pt x="246" y="1124"/>
                    </a:lnTo>
                    <a:lnTo>
                      <a:pt x="265" y="1087"/>
                    </a:lnTo>
                    <a:lnTo>
                      <a:pt x="303" y="1050"/>
                    </a:lnTo>
                    <a:lnTo>
                      <a:pt x="321" y="1014"/>
                    </a:lnTo>
                    <a:lnTo>
                      <a:pt x="359" y="977"/>
                    </a:lnTo>
                    <a:lnTo>
                      <a:pt x="377" y="940"/>
                    </a:lnTo>
                    <a:lnTo>
                      <a:pt x="415" y="885"/>
                    </a:lnTo>
                    <a:lnTo>
                      <a:pt x="434" y="848"/>
                    </a:lnTo>
                    <a:lnTo>
                      <a:pt x="472" y="811"/>
                    </a:lnTo>
                    <a:lnTo>
                      <a:pt x="510" y="774"/>
                    </a:lnTo>
                    <a:lnTo>
                      <a:pt x="529" y="756"/>
                    </a:lnTo>
                    <a:lnTo>
                      <a:pt x="567" y="719"/>
                    </a:lnTo>
                    <a:lnTo>
                      <a:pt x="605" y="682"/>
                    </a:lnTo>
                    <a:lnTo>
                      <a:pt x="624" y="646"/>
                    </a:lnTo>
                    <a:lnTo>
                      <a:pt x="661" y="609"/>
                    </a:lnTo>
                    <a:lnTo>
                      <a:pt x="698" y="572"/>
                    </a:lnTo>
                    <a:lnTo>
                      <a:pt x="736" y="553"/>
                    </a:lnTo>
                    <a:lnTo>
                      <a:pt x="755" y="516"/>
                    </a:lnTo>
                    <a:lnTo>
                      <a:pt x="793" y="480"/>
                    </a:lnTo>
                    <a:lnTo>
                      <a:pt x="831" y="461"/>
                    </a:lnTo>
                    <a:lnTo>
                      <a:pt x="869" y="424"/>
                    </a:lnTo>
                    <a:lnTo>
                      <a:pt x="907" y="406"/>
                    </a:lnTo>
                    <a:lnTo>
                      <a:pt x="944" y="369"/>
                    </a:lnTo>
                    <a:lnTo>
                      <a:pt x="982" y="350"/>
                    </a:lnTo>
                    <a:lnTo>
                      <a:pt x="1020" y="314"/>
                    </a:lnTo>
                    <a:lnTo>
                      <a:pt x="1020" y="333"/>
                    </a:lnTo>
                    <a:lnTo>
                      <a:pt x="1038" y="350"/>
                    </a:lnTo>
                    <a:lnTo>
                      <a:pt x="1038" y="350"/>
                    </a:lnTo>
                    <a:lnTo>
                      <a:pt x="1057" y="369"/>
                    </a:lnTo>
                    <a:lnTo>
                      <a:pt x="1057" y="369"/>
                    </a:lnTo>
                    <a:lnTo>
                      <a:pt x="1076" y="387"/>
                    </a:lnTo>
                    <a:lnTo>
                      <a:pt x="1076" y="406"/>
                    </a:lnTo>
                    <a:lnTo>
                      <a:pt x="1076" y="424"/>
                    </a:lnTo>
                    <a:lnTo>
                      <a:pt x="1095" y="443"/>
                    </a:lnTo>
                    <a:lnTo>
                      <a:pt x="1095" y="443"/>
                    </a:lnTo>
                    <a:lnTo>
                      <a:pt x="1095" y="461"/>
                    </a:lnTo>
                    <a:lnTo>
                      <a:pt x="1114" y="480"/>
                    </a:lnTo>
                    <a:lnTo>
                      <a:pt x="1114" y="498"/>
                    </a:lnTo>
                    <a:lnTo>
                      <a:pt x="1114" y="516"/>
                    </a:lnTo>
                    <a:lnTo>
                      <a:pt x="1133" y="516"/>
                    </a:lnTo>
                    <a:lnTo>
                      <a:pt x="1133" y="535"/>
                    </a:lnTo>
                    <a:lnTo>
                      <a:pt x="1133" y="553"/>
                    </a:lnTo>
                    <a:lnTo>
                      <a:pt x="1133" y="572"/>
                    </a:lnTo>
                    <a:lnTo>
                      <a:pt x="1133" y="572"/>
                    </a:lnTo>
                    <a:lnTo>
                      <a:pt x="1133" y="590"/>
                    </a:lnTo>
                    <a:lnTo>
                      <a:pt x="1133" y="609"/>
                    </a:lnTo>
                    <a:lnTo>
                      <a:pt x="1133" y="627"/>
                    </a:lnTo>
                    <a:lnTo>
                      <a:pt x="1152" y="646"/>
                    </a:lnTo>
                    <a:lnTo>
                      <a:pt x="1152" y="664"/>
                    </a:lnTo>
                    <a:lnTo>
                      <a:pt x="2529" y="0"/>
                    </a:lnTo>
                    <a:lnTo>
                      <a:pt x="4228" y="0"/>
                    </a:lnTo>
                    <a:close/>
                    <a:moveTo>
                      <a:pt x="7268" y="1419"/>
                    </a:moveTo>
                    <a:lnTo>
                      <a:pt x="7325" y="1400"/>
                    </a:lnTo>
                    <a:lnTo>
                      <a:pt x="7381" y="1382"/>
                    </a:lnTo>
                    <a:lnTo>
                      <a:pt x="7437" y="1364"/>
                    </a:lnTo>
                    <a:lnTo>
                      <a:pt x="7494" y="1346"/>
                    </a:lnTo>
                    <a:lnTo>
                      <a:pt x="7551" y="1327"/>
                    </a:lnTo>
                    <a:lnTo>
                      <a:pt x="7589" y="1309"/>
                    </a:lnTo>
                    <a:lnTo>
                      <a:pt x="7645" y="1309"/>
                    </a:lnTo>
                    <a:lnTo>
                      <a:pt x="7702" y="1290"/>
                    </a:lnTo>
                    <a:lnTo>
                      <a:pt x="7758" y="1272"/>
                    </a:lnTo>
                    <a:lnTo>
                      <a:pt x="7815" y="1254"/>
                    </a:lnTo>
                    <a:lnTo>
                      <a:pt x="7872" y="1235"/>
                    </a:lnTo>
                    <a:lnTo>
                      <a:pt x="7928" y="1217"/>
                    </a:lnTo>
                    <a:lnTo>
                      <a:pt x="7985" y="1198"/>
                    </a:lnTo>
                    <a:lnTo>
                      <a:pt x="8042" y="1198"/>
                    </a:lnTo>
                    <a:lnTo>
                      <a:pt x="8099" y="1180"/>
                    </a:lnTo>
                    <a:lnTo>
                      <a:pt x="8155" y="1161"/>
                    </a:lnTo>
                    <a:lnTo>
                      <a:pt x="8211" y="1143"/>
                    </a:lnTo>
                    <a:lnTo>
                      <a:pt x="8268" y="1143"/>
                    </a:lnTo>
                    <a:lnTo>
                      <a:pt x="8325" y="1124"/>
                    </a:lnTo>
                    <a:lnTo>
                      <a:pt x="8363" y="1106"/>
                    </a:lnTo>
                    <a:lnTo>
                      <a:pt x="8420" y="1106"/>
                    </a:lnTo>
                    <a:lnTo>
                      <a:pt x="8475" y="1087"/>
                    </a:lnTo>
                    <a:lnTo>
                      <a:pt x="8532" y="1087"/>
                    </a:lnTo>
                    <a:lnTo>
                      <a:pt x="8589" y="1069"/>
                    </a:lnTo>
                    <a:lnTo>
                      <a:pt x="8646" y="1050"/>
                    </a:lnTo>
                    <a:lnTo>
                      <a:pt x="8703" y="1050"/>
                    </a:lnTo>
                    <a:lnTo>
                      <a:pt x="8759" y="1032"/>
                    </a:lnTo>
                    <a:lnTo>
                      <a:pt x="8815" y="1032"/>
                    </a:lnTo>
                    <a:lnTo>
                      <a:pt x="8872" y="1032"/>
                    </a:lnTo>
                    <a:lnTo>
                      <a:pt x="8929" y="1014"/>
                    </a:lnTo>
                    <a:lnTo>
                      <a:pt x="8985" y="1014"/>
                    </a:lnTo>
                    <a:lnTo>
                      <a:pt x="9023" y="1014"/>
                    </a:lnTo>
                    <a:lnTo>
                      <a:pt x="9042" y="1032"/>
                    </a:lnTo>
                    <a:lnTo>
                      <a:pt x="9042" y="1050"/>
                    </a:lnTo>
                    <a:lnTo>
                      <a:pt x="9061" y="1069"/>
                    </a:lnTo>
                    <a:lnTo>
                      <a:pt x="9061" y="1106"/>
                    </a:lnTo>
                    <a:lnTo>
                      <a:pt x="9061" y="1124"/>
                    </a:lnTo>
                    <a:lnTo>
                      <a:pt x="9061" y="1143"/>
                    </a:lnTo>
                    <a:lnTo>
                      <a:pt x="9080" y="1180"/>
                    </a:lnTo>
                    <a:lnTo>
                      <a:pt x="9080" y="1198"/>
                    </a:lnTo>
                    <a:lnTo>
                      <a:pt x="9080" y="1235"/>
                    </a:lnTo>
                    <a:lnTo>
                      <a:pt x="9080" y="1254"/>
                    </a:lnTo>
                    <a:lnTo>
                      <a:pt x="9061" y="1290"/>
                    </a:lnTo>
                    <a:lnTo>
                      <a:pt x="9061" y="1309"/>
                    </a:lnTo>
                    <a:lnTo>
                      <a:pt x="9061" y="1346"/>
                    </a:lnTo>
                    <a:lnTo>
                      <a:pt x="9061" y="1364"/>
                    </a:lnTo>
                    <a:lnTo>
                      <a:pt x="9061" y="1400"/>
                    </a:lnTo>
                    <a:lnTo>
                      <a:pt x="9061" y="1419"/>
                    </a:lnTo>
                    <a:lnTo>
                      <a:pt x="7268" y="1419"/>
                    </a:lnTo>
                    <a:close/>
                    <a:moveTo>
                      <a:pt x="9665" y="1419"/>
                    </a:moveTo>
                    <a:lnTo>
                      <a:pt x="10477" y="1309"/>
                    </a:lnTo>
                    <a:lnTo>
                      <a:pt x="10496" y="1309"/>
                    </a:lnTo>
                    <a:lnTo>
                      <a:pt x="10515" y="1327"/>
                    </a:lnTo>
                    <a:lnTo>
                      <a:pt x="10515" y="1327"/>
                    </a:lnTo>
                    <a:lnTo>
                      <a:pt x="10515" y="1346"/>
                    </a:lnTo>
                    <a:lnTo>
                      <a:pt x="10534" y="1364"/>
                    </a:lnTo>
                    <a:lnTo>
                      <a:pt x="10534" y="1382"/>
                    </a:lnTo>
                    <a:lnTo>
                      <a:pt x="10534" y="1400"/>
                    </a:lnTo>
                    <a:lnTo>
                      <a:pt x="10534" y="1419"/>
                    </a:lnTo>
                    <a:lnTo>
                      <a:pt x="9665" y="14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13" name="Freeform 178"/>
              <p:cNvSpPr/>
              <p:nvPr/>
            </p:nvSpPr>
            <p:spPr>
              <a:xfrm>
                <a:off x="2565720" y="4705200"/>
                <a:ext cx="2450880" cy="121680"/>
              </a:xfrm>
              <a:custGeom>
                <a:avLst/>
                <a:gdLst/>
                <a:ahLst/>
                <a:rect l="l" t="t" r="r" b="b"/>
                <a:pathLst>
                  <a:path w="12364" h="1418">
                    <a:moveTo>
                      <a:pt x="5437" y="0"/>
                    </a:moveTo>
                    <a:lnTo>
                      <a:pt x="4474" y="627"/>
                    </a:lnTo>
                    <a:lnTo>
                      <a:pt x="4512" y="608"/>
                    </a:lnTo>
                    <a:lnTo>
                      <a:pt x="4568" y="590"/>
                    </a:lnTo>
                    <a:lnTo>
                      <a:pt x="4606" y="590"/>
                    </a:lnTo>
                    <a:lnTo>
                      <a:pt x="4644" y="571"/>
                    </a:lnTo>
                    <a:lnTo>
                      <a:pt x="4701" y="553"/>
                    </a:lnTo>
                    <a:lnTo>
                      <a:pt x="4738" y="535"/>
                    </a:lnTo>
                    <a:lnTo>
                      <a:pt x="4795" y="516"/>
                    </a:lnTo>
                    <a:lnTo>
                      <a:pt x="4833" y="498"/>
                    </a:lnTo>
                    <a:lnTo>
                      <a:pt x="4889" y="479"/>
                    </a:lnTo>
                    <a:lnTo>
                      <a:pt x="4927" y="461"/>
                    </a:lnTo>
                    <a:lnTo>
                      <a:pt x="4984" y="442"/>
                    </a:lnTo>
                    <a:lnTo>
                      <a:pt x="5021" y="424"/>
                    </a:lnTo>
                    <a:lnTo>
                      <a:pt x="5078" y="405"/>
                    </a:lnTo>
                    <a:lnTo>
                      <a:pt x="5116" y="368"/>
                    </a:lnTo>
                    <a:lnTo>
                      <a:pt x="5173" y="350"/>
                    </a:lnTo>
                    <a:lnTo>
                      <a:pt x="5211" y="331"/>
                    </a:lnTo>
                    <a:lnTo>
                      <a:pt x="5266" y="313"/>
                    </a:lnTo>
                    <a:lnTo>
                      <a:pt x="5304" y="295"/>
                    </a:lnTo>
                    <a:lnTo>
                      <a:pt x="5361" y="277"/>
                    </a:lnTo>
                    <a:lnTo>
                      <a:pt x="5418" y="258"/>
                    </a:lnTo>
                    <a:lnTo>
                      <a:pt x="5456" y="221"/>
                    </a:lnTo>
                    <a:lnTo>
                      <a:pt x="5513" y="203"/>
                    </a:lnTo>
                    <a:lnTo>
                      <a:pt x="5550" y="184"/>
                    </a:lnTo>
                    <a:lnTo>
                      <a:pt x="5606" y="166"/>
                    </a:lnTo>
                    <a:lnTo>
                      <a:pt x="5644" y="148"/>
                    </a:lnTo>
                    <a:lnTo>
                      <a:pt x="5701" y="129"/>
                    </a:lnTo>
                    <a:lnTo>
                      <a:pt x="5758" y="92"/>
                    </a:lnTo>
                    <a:lnTo>
                      <a:pt x="5796" y="74"/>
                    </a:lnTo>
                    <a:lnTo>
                      <a:pt x="5852" y="55"/>
                    </a:lnTo>
                    <a:lnTo>
                      <a:pt x="5890" y="37"/>
                    </a:lnTo>
                    <a:lnTo>
                      <a:pt x="5947" y="18"/>
                    </a:lnTo>
                    <a:lnTo>
                      <a:pt x="6003" y="0"/>
                    </a:lnTo>
                    <a:lnTo>
                      <a:pt x="8042" y="0"/>
                    </a:lnTo>
                    <a:lnTo>
                      <a:pt x="8061" y="166"/>
                    </a:lnTo>
                    <a:lnTo>
                      <a:pt x="5418" y="1418"/>
                    </a:lnTo>
                    <a:lnTo>
                      <a:pt x="1057" y="1418"/>
                    </a:lnTo>
                    <a:lnTo>
                      <a:pt x="1416" y="1050"/>
                    </a:lnTo>
                    <a:lnTo>
                      <a:pt x="793" y="1418"/>
                    </a:lnTo>
                    <a:lnTo>
                      <a:pt x="76" y="1418"/>
                    </a:lnTo>
                    <a:lnTo>
                      <a:pt x="0" y="1050"/>
                    </a:lnTo>
                    <a:lnTo>
                      <a:pt x="38" y="1013"/>
                    </a:lnTo>
                    <a:lnTo>
                      <a:pt x="57" y="995"/>
                    </a:lnTo>
                    <a:lnTo>
                      <a:pt x="95" y="958"/>
                    </a:lnTo>
                    <a:lnTo>
                      <a:pt x="114" y="922"/>
                    </a:lnTo>
                    <a:lnTo>
                      <a:pt x="152" y="903"/>
                    </a:lnTo>
                    <a:lnTo>
                      <a:pt x="170" y="866"/>
                    </a:lnTo>
                    <a:lnTo>
                      <a:pt x="208" y="829"/>
                    </a:lnTo>
                    <a:lnTo>
                      <a:pt x="227" y="811"/>
                    </a:lnTo>
                    <a:lnTo>
                      <a:pt x="265" y="774"/>
                    </a:lnTo>
                    <a:lnTo>
                      <a:pt x="284" y="737"/>
                    </a:lnTo>
                    <a:lnTo>
                      <a:pt x="321" y="700"/>
                    </a:lnTo>
                    <a:lnTo>
                      <a:pt x="340" y="681"/>
                    </a:lnTo>
                    <a:lnTo>
                      <a:pt x="378" y="645"/>
                    </a:lnTo>
                    <a:lnTo>
                      <a:pt x="397" y="608"/>
                    </a:lnTo>
                    <a:lnTo>
                      <a:pt x="434" y="571"/>
                    </a:lnTo>
                    <a:lnTo>
                      <a:pt x="453" y="535"/>
                    </a:lnTo>
                    <a:lnTo>
                      <a:pt x="472" y="498"/>
                    </a:lnTo>
                    <a:lnTo>
                      <a:pt x="510" y="461"/>
                    </a:lnTo>
                    <a:lnTo>
                      <a:pt x="529" y="442"/>
                    </a:lnTo>
                    <a:lnTo>
                      <a:pt x="567" y="405"/>
                    </a:lnTo>
                    <a:lnTo>
                      <a:pt x="586" y="368"/>
                    </a:lnTo>
                    <a:lnTo>
                      <a:pt x="605" y="331"/>
                    </a:lnTo>
                    <a:lnTo>
                      <a:pt x="642" y="295"/>
                    </a:lnTo>
                    <a:lnTo>
                      <a:pt x="661" y="258"/>
                    </a:lnTo>
                    <a:lnTo>
                      <a:pt x="698" y="221"/>
                    </a:lnTo>
                    <a:lnTo>
                      <a:pt x="717" y="184"/>
                    </a:lnTo>
                    <a:lnTo>
                      <a:pt x="755" y="148"/>
                    </a:lnTo>
                    <a:lnTo>
                      <a:pt x="774" y="129"/>
                    </a:lnTo>
                    <a:lnTo>
                      <a:pt x="812" y="92"/>
                    </a:lnTo>
                    <a:lnTo>
                      <a:pt x="831" y="55"/>
                    </a:lnTo>
                    <a:lnTo>
                      <a:pt x="850" y="18"/>
                    </a:lnTo>
                    <a:lnTo>
                      <a:pt x="888" y="0"/>
                    </a:lnTo>
                    <a:lnTo>
                      <a:pt x="5437" y="0"/>
                    </a:lnTo>
                    <a:close/>
                    <a:moveTo>
                      <a:pt x="5532" y="1418"/>
                    </a:moveTo>
                    <a:lnTo>
                      <a:pt x="5644" y="1381"/>
                    </a:lnTo>
                    <a:lnTo>
                      <a:pt x="5777" y="1344"/>
                    </a:lnTo>
                    <a:lnTo>
                      <a:pt x="5890" y="1309"/>
                    </a:lnTo>
                    <a:lnTo>
                      <a:pt x="6003" y="1253"/>
                    </a:lnTo>
                    <a:lnTo>
                      <a:pt x="6116" y="1216"/>
                    </a:lnTo>
                    <a:lnTo>
                      <a:pt x="6230" y="1179"/>
                    </a:lnTo>
                    <a:lnTo>
                      <a:pt x="6361" y="1142"/>
                    </a:lnTo>
                    <a:lnTo>
                      <a:pt x="6475" y="1087"/>
                    </a:lnTo>
                    <a:lnTo>
                      <a:pt x="6589" y="1050"/>
                    </a:lnTo>
                    <a:lnTo>
                      <a:pt x="6720" y="1013"/>
                    </a:lnTo>
                    <a:lnTo>
                      <a:pt x="6834" y="958"/>
                    </a:lnTo>
                    <a:lnTo>
                      <a:pt x="6947" y="922"/>
                    </a:lnTo>
                    <a:lnTo>
                      <a:pt x="7079" y="885"/>
                    </a:lnTo>
                    <a:lnTo>
                      <a:pt x="7192" y="829"/>
                    </a:lnTo>
                    <a:lnTo>
                      <a:pt x="7306" y="792"/>
                    </a:lnTo>
                    <a:lnTo>
                      <a:pt x="7437" y="755"/>
                    </a:lnTo>
                    <a:lnTo>
                      <a:pt x="7551" y="718"/>
                    </a:lnTo>
                    <a:lnTo>
                      <a:pt x="7684" y="681"/>
                    </a:lnTo>
                    <a:lnTo>
                      <a:pt x="7796" y="627"/>
                    </a:lnTo>
                    <a:lnTo>
                      <a:pt x="7910" y="590"/>
                    </a:lnTo>
                    <a:lnTo>
                      <a:pt x="8042" y="571"/>
                    </a:lnTo>
                    <a:lnTo>
                      <a:pt x="8155" y="535"/>
                    </a:lnTo>
                    <a:lnTo>
                      <a:pt x="8268" y="498"/>
                    </a:lnTo>
                    <a:lnTo>
                      <a:pt x="8401" y="461"/>
                    </a:lnTo>
                    <a:lnTo>
                      <a:pt x="8513" y="442"/>
                    </a:lnTo>
                    <a:lnTo>
                      <a:pt x="8646" y="405"/>
                    </a:lnTo>
                    <a:lnTo>
                      <a:pt x="8760" y="387"/>
                    </a:lnTo>
                    <a:lnTo>
                      <a:pt x="8872" y="350"/>
                    </a:lnTo>
                    <a:lnTo>
                      <a:pt x="9005" y="331"/>
                    </a:lnTo>
                    <a:lnTo>
                      <a:pt x="9118" y="313"/>
                    </a:lnTo>
                    <a:lnTo>
                      <a:pt x="9231" y="295"/>
                    </a:lnTo>
                    <a:lnTo>
                      <a:pt x="9344" y="295"/>
                    </a:lnTo>
                    <a:lnTo>
                      <a:pt x="9363" y="313"/>
                    </a:lnTo>
                    <a:lnTo>
                      <a:pt x="9382" y="331"/>
                    </a:lnTo>
                    <a:lnTo>
                      <a:pt x="9382" y="368"/>
                    </a:lnTo>
                    <a:lnTo>
                      <a:pt x="9382" y="405"/>
                    </a:lnTo>
                    <a:lnTo>
                      <a:pt x="9382" y="424"/>
                    </a:lnTo>
                    <a:lnTo>
                      <a:pt x="9382" y="461"/>
                    </a:lnTo>
                    <a:lnTo>
                      <a:pt x="9401" y="498"/>
                    </a:lnTo>
                    <a:lnTo>
                      <a:pt x="9401" y="516"/>
                    </a:lnTo>
                    <a:lnTo>
                      <a:pt x="9382" y="553"/>
                    </a:lnTo>
                    <a:lnTo>
                      <a:pt x="9382" y="590"/>
                    </a:lnTo>
                    <a:lnTo>
                      <a:pt x="9382" y="627"/>
                    </a:lnTo>
                    <a:lnTo>
                      <a:pt x="9382" y="663"/>
                    </a:lnTo>
                    <a:lnTo>
                      <a:pt x="9382" y="681"/>
                    </a:lnTo>
                    <a:lnTo>
                      <a:pt x="9382" y="718"/>
                    </a:lnTo>
                    <a:lnTo>
                      <a:pt x="9401" y="755"/>
                    </a:lnTo>
                    <a:lnTo>
                      <a:pt x="9401" y="792"/>
                    </a:lnTo>
                    <a:lnTo>
                      <a:pt x="10798" y="590"/>
                    </a:lnTo>
                    <a:lnTo>
                      <a:pt x="10817" y="590"/>
                    </a:lnTo>
                    <a:lnTo>
                      <a:pt x="10836" y="608"/>
                    </a:lnTo>
                    <a:lnTo>
                      <a:pt x="10836" y="627"/>
                    </a:lnTo>
                    <a:lnTo>
                      <a:pt x="10855" y="645"/>
                    </a:lnTo>
                    <a:lnTo>
                      <a:pt x="10855" y="663"/>
                    </a:lnTo>
                    <a:lnTo>
                      <a:pt x="10855" y="681"/>
                    </a:lnTo>
                    <a:lnTo>
                      <a:pt x="10855" y="700"/>
                    </a:lnTo>
                    <a:lnTo>
                      <a:pt x="10836" y="737"/>
                    </a:lnTo>
                    <a:lnTo>
                      <a:pt x="10836" y="755"/>
                    </a:lnTo>
                    <a:lnTo>
                      <a:pt x="10836" y="792"/>
                    </a:lnTo>
                    <a:lnTo>
                      <a:pt x="10836" y="811"/>
                    </a:lnTo>
                    <a:lnTo>
                      <a:pt x="10836" y="848"/>
                    </a:lnTo>
                    <a:lnTo>
                      <a:pt x="10836" y="866"/>
                    </a:lnTo>
                    <a:lnTo>
                      <a:pt x="10836" y="885"/>
                    </a:lnTo>
                    <a:lnTo>
                      <a:pt x="10836" y="922"/>
                    </a:lnTo>
                    <a:lnTo>
                      <a:pt x="10836" y="940"/>
                    </a:lnTo>
                    <a:lnTo>
                      <a:pt x="10874" y="958"/>
                    </a:lnTo>
                    <a:lnTo>
                      <a:pt x="10929" y="977"/>
                    </a:lnTo>
                    <a:lnTo>
                      <a:pt x="10967" y="995"/>
                    </a:lnTo>
                    <a:lnTo>
                      <a:pt x="11005" y="1013"/>
                    </a:lnTo>
                    <a:lnTo>
                      <a:pt x="11043" y="1013"/>
                    </a:lnTo>
                    <a:lnTo>
                      <a:pt x="11100" y="1013"/>
                    </a:lnTo>
                    <a:lnTo>
                      <a:pt x="11138" y="1031"/>
                    </a:lnTo>
                    <a:lnTo>
                      <a:pt x="11194" y="1031"/>
                    </a:lnTo>
                    <a:lnTo>
                      <a:pt x="11232" y="1031"/>
                    </a:lnTo>
                    <a:lnTo>
                      <a:pt x="11288" y="1031"/>
                    </a:lnTo>
                    <a:lnTo>
                      <a:pt x="11326" y="1013"/>
                    </a:lnTo>
                    <a:lnTo>
                      <a:pt x="11383" y="1013"/>
                    </a:lnTo>
                    <a:lnTo>
                      <a:pt x="11421" y="1013"/>
                    </a:lnTo>
                    <a:lnTo>
                      <a:pt x="11477" y="995"/>
                    </a:lnTo>
                    <a:lnTo>
                      <a:pt x="11534" y="995"/>
                    </a:lnTo>
                    <a:lnTo>
                      <a:pt x="11572" y="977"/>
                    </a:lnTo>
                    <a:lnTo>
                      <a:pt x="11628" y="977"/>
                    </a:lnTo>
                    <a:lnTo>
                      <a:pt x="11666" y="958"/>
                    </a:lnTo>
                    <a:lnTo>
                      <a:pt x="11722" y="958"/>
                    </a:lnTo>
                    <a:lnTo>
                      <a:pt x="11779" y="940"/>
                    </a:lnTo>
                    <a:lnTo>
                      <a:pt x="11817" y="940"/>
                    </a:lnTo>
                    <a:lnTo>
                      <a:pt x="11874" y="940"/>
                    </a:lnTo>
                    <a:lnTo>
                      <a:pt x="11931" y="922"/>
                    </a:lnTo>
                    <a:lnTo>
                      <a:pt x="11968" y="922"/>
                    </a:lnTo>
                    <a:lnTo>
                      <a:pt x="12024" y="903"/>
                    </a:lnTo>
                    <a:lnTo>
                      <a:pt x="12081" y="903"/>
                    </a:lnTo>
                    <a:lnTo>
                      <a:pt x="12119" y="903"/>
                    </a:lnTo>
                    <a:lnTo>
                      <a:pt x="12176" y="903"/>
                    </a:lnTo>
                    <a:lnTo>
                      <a:pt x="12214" y="903"/>
                    </a:lnTo>
                    <a:lnTo>
                      <a:pt x="12270" y="903"/>
                    </a:lnTo>
                    <a:lnTo>
                      <a:pt x="12308" y="922"/>
                    </a:lnTo>
                    <a:lnTo>
                      <a:pt x="12364" y="922"/>
                    </a:lnTo>
                    <a:lnTo>
                      <a:pt x="12345" y="1418"/>
                    </a:lnTo>
                    <a:lnTo>
                      <a:pt x="5532" y="14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14" name="Freeform 179"/>
              <p:cNvSpPr/>
              <p:nvPr/>
            </p:nvSpPr>
            <p:spPr>
              <a:xfrm>
                <a:off x="2565720" y="4764960"/>
                <a:ext cx="2509920" cy="122040"/>
              </a:xfrm>
              <a:custGeom>
                <a:avLst/>
                <a:gdLst/>
                <a:ahLst/>
                <a:rect l="l" t="t" r="r" b="b"/>
                <a:pathLst>
                  <a:path w="12667" h="1418">
                    <a:moveTo>
                      <a:pt x="6928" y="0"/>
                    </a:moveTo>
                    <a:lnTo>
                      <a:pt x="5230" y="811"/>
                    </a:lnTo>
                    <a:lnTo>
                      <a:pt x="5304" y="774"/>
                    </a:lnTo>
                    <a:lnTo>
                      <a:pt x="5380" y="755"/>
                    </a:lnTo>
                    <a:lnTo>
                      <a:pt x="5437" y="737"/>
                    </a:lnTo>
                    <a:lnTo>
                      <a:pt x="5513" y="718"/>
                    </a:lnTo>
                    <a:lnTo>
                      <a:pt x="5588" y="700"/>
                    </a:lnTo>
                    <a:lnTo>
                      <a:pt x="5663" y="681"/>
                    </a:lnTo>
                    <a:lnTo>
                      <a:pt x="5739" y="644"/>
                    </a:lnTo>
                    <a:lnTo>
                      <a:pt x="5814" y="627"/>
                    </a:lnTo>
                    <a:lnTo>
                      <a:pt x="5890" y="609"/>
                    </a:lnTo>
                    <a:lnTo>
                      <a:pt x="5947" y="572"/>
                    </a:lnTo>
                    <a:lnTo>
                      <a:pt x="6022" y="553"/>
                    </a:lnTo>
                    <a:lnTo>
                      <a:pt x="6097" y="535"/>
                    </a:lnTo>
                    <a:lnTo>
                      <a:pt x="6173" y="498"/>
                    </a:lnTo>
                    <a:lnTo>
                      <a:pt x="6249" y="479"/>
                    </a:lnTo>
                    <a:lnTo>
                      <a:pt x="6324" y="442"/>
                    </a:lnTo>
                    <a:lnTo>
                      <a:pt x="6399" y="424"/>
                    </a:lnTo>
                    <a:lnTo>
                      <a:pt x="6475" y="387"/>
                    </a:lnTo>
                    <a:lnTo>
                      <a:pt x="6551" y="368"/>
                    </a:lnTo>
                    <a:lnTo>
                      <a:pt x="6626" y="350"/>
                    </a:lnTo>
                    <a:lnTo>
                      <a:pt x="6701" y="313"/>
                    </a:lnTo>
                    <a:lnTo>
                      <a:pt x="6758" y="295"/>
                    </a:lnTo>
                    <a:lnTo>
                      <a:pt x="6834" y="258"/>
                    </a:lnTo>
                    <a:lnTo>
                      <a:pt x="6909" y="240"/>
                    </a:lnTo>
                    <a:lnTo>
                      <a:pt x="6985" y="203"/>
                    </a:lnTo>
                    <a:lnTo>
                      <a:pt x="7060" y="185"/>
                    </a:lnTo>
                    <a:lnTo>
                      <a:pt x="7136" y="148"/>
                    </a:lnTo>
                    <a:lnTo>
                      <a:pt x="7211" y="129"/>
                    </a:lnTo>
                    <a:lnTo>
                      <a:pt x="7287" y="111"/>
                    </a:lnTo>
                    <a:lnTo>
                      <a:pt x="7362" y="74"/>
                    </a:lnTo>
                    <a:lnTo>
                      <a:pt x="7437" y="55"/>
                    </a:lnTo>
                    <a:lnTo>
                      <a:pt x="7513" y="18"/>
                    </a:lnTo>
                    <a:lnTo>
                      <a:pt x="7589" y="0"/>
                    </a:lnTo>
                    <a:lnTo>
                      <a:pt x="9382" y="0"/>
                    </a:lnTo>
                    <a:lnTo>
                      <a:pt x="9382" y="18"/>
                    </a:lnTo>
                    <a:lnTo>
                      <a:pt x="9401" y="18"/>
                    </a:lnTo>
                    <a:lnTo>
                      <a:pt x="9401" y="37"/>
                    </a:lnTo>
                    <a:lnTo>
                      <a:pt x="9401" y="37"/>
                    </a:lnTo>
                    <a:lnTo>
                      <a:pt x="9401" y="55"/>
                    </a:lnTo>
                    <a:lnTo>
                      <a:pt x="9401" y="74"/>
                    </a:lnTo>
                    <a:lnTo>
                      <a:pt x="9401" y="74"/>
                    </a:lnTo>
                    <a:lnTo>
                      <a:pt x="9401" y="92"/>
                    </a:lnTo>
                    <a:lnTo>
                      <a:pt x="9986" y="0"/>
                    </a:lnTo>
                    <a:lnTo>
                      <a:pt x="10855" y="0"/>
                    </a:lnTo>
                    <a:lnTo>
                      <a:pt x="10855" y="18"/>
                    </a:lnTo>
                    <a:lnTo>
                      <a:pt x="10855" y="37"/>
                    </a:lnTo>
                    <a:lnTo>
                      <a:pt x="10836" y="55"/>
                    </a:lnTo>
                    <a:lnTo>
                      <a:pt x="10836" y="55"/>
                    </a:lnTo>
                    <a:lnTo>
                      <a:pt x="10836" y="74"/>
                    </a:lnTo>
                    <a:lnTo>
                      <a:pt x="10836" y="92"/>
                    </a:lnTo>
                    <a:lnTo>
                      <a:pt x="10836" y="111"/>
                    </a:lnTo>
                    <a:lnTo>
                      <a:pt x="10836" y="129"/>
                    </a:lnTo>
                    <a:lnTo>
                      <a:pt x="10836" y="148"/>
                    </a:lnTo>
                    <a:lnTo>
                      <a:pt x="10836" y="148"/>
                    </a:lnTo>
                    <a:lnTo>
                      <a:pt x="10836" y="166"/>
                    </a:lnTo>
                    <a:lnTo>
                      <a:pt x="10836" y="185"/>
                    </a:lnTo>
                    <a:lnTo>
                      <a:pt x="10836" y="203"/>
                    </a:lnTo>
                    <a:lnTo>
                      <a:pt x="10836" y="222"/>
                    </a:lnTo>
                    <a:lnTo>
                      <a:pt x="10836" y="222"/>
                    </a:lnTo>
                    <a:lnTo>
                      <a:pt x="10836" y="240"/>
                    </a:lnTo>
                    <a:lnTo>
                      <a:pt x="10874" y="258"/>
                    </a:lnTo>
                    <a:lnTo>
                      <a:pt x="10929" y="277"/>
                    </a:lnTo>
                    <a:lnTo>
                      <a:pt x="10967" y="295"/>
                    </a:lnTo>
                    <a:lnTo>
                      <a:pt x="11005" y="313"/>
                    </a:lnTo>
                    <a:lnTo>
                      <a:pt x="11043" y="313"/>
                    </a:lnTo>
                    <a:lnTo>
                      <a:pt x="11100" y="313"/>
                    </a:lnTo>
                    <a:lnTo>
                      <a:pt x="11138" y="331"/>
                    </a:lnTo>
                    <a:lnTo>
                      <a:pt x="11194" y="331"/>
                    </a:lnTo>
                    <a:lnTo>
                      <a:pt x="11232" y="331"/>
                    </a:lnTo>
                    <a:lnTo>
                      <a:pt x="11288" y="331"/>
                    </a:lnTo>
                    <a:lnTo>
                      <a:pt x="11326" y="313"/>
                    </a:lnTo>
                    <a:lnTo>
                      <a:pt x="11383" y="313"/>
                    </a:lnTo>
                    <a:lnTo>
                      <a:pt x="11421" y="313"/>
                    </a:lnTo>
                    <a:lnTo>
                      <a:pt x="11477" y="295"/>
                    </a:lnTo>
                    <a:lnTo>
                      <a:pt x="11534" y="295"/>
                    </a:lnTo>
                    <a:lnTo>
                      <a:pt x="11572" y="277"/>
                    </a:lnTo>
                    <a:lnTo>
                      <a:pt x="11628" y="277"/>
                    </a:lnTo>
                    <a:lnTo>
                      <a:pt x="11666" y="258"/>
                    </a:lnTo>
                    <a:lnTo>
                      <a:pt x="11722" y="258"/>
                    </a:lnTo>
                    <a:lnTo>
                      <a:pt x="11779" y="240"/>
                    </a:lnTo>
                    <a:lnTo>
                      <a:pt x="11817" y="240"/>
                    </a:lnTo>
                    <a:lnTo>
                      <a:pt x="11874" y="240"/>
                    </a:lnTo>
                    <a:lnTo>
                      <a:pt x="11931" y="222"/>
                    </a:lnTo>
                    <a:lnTo>
                      <a:pt x="11968" y="222"/>
                    </a:lnTo>
                    <a:lnTo>
                      <a:pt x="12024" y="203"/>
                    </a:lnTo>
                    <a:lnTo>
                      <a:pt x="12081" y="203"/>
                    </a:lnTo>
                    <a:lnTo>
                      <a:pt x="12119" y="203"/>
                    </a:lnTo>
                    <a:lnTo>
                      <a:pt x="12176" y="203"/>
                    </a:lnTo>
                    <a:lnTo>
                      <a:pt x="12214" y="203"/>
                    </a:lnTo>
                    <a:lnTo>
                      <a:pt x="12270" y="203"/>
                    </a:lnTo>
                    <a:lnTo>
                      <a:pt x="12308" y="222"/>
                    </a:lnTo>
                    <a:lnTo>
                      <a:pt x="12364" y="222"/>
                    </a:lnTo>
                    <a:lnTo>
                      <a:pt x="12345" y="959"/>
                    </a:lnTo>
                    <a:lnTo>
                      <a:pt x="12308" y="995"/>
                    </a:lnTo>
                    <a:lnTo>
                      <a:pt x="12289" y="1013"/>
                    </a:lnTo>
                    <a:lnTo>
                      <a:pt x="12270" y="1050"/>
                    </a:lnTo>
                    <a:lnTo>
                      <a:pt x="12233" y="1068"/>
                    </a:lnTo>
                    <a:lnTo>
                      <a:pt x="12195" y="1087"/>
                    </a:lnTo>
                    <a:lnTo>
                      <a:pt x="12176" y="1105"/>
                    </a:lnTo>
                    <a:lnTo>
                      <a:pt x="12138" y="1124"/>
                    </a:lnTo>
                    <a:lnTo>
                      <a:pt x="12100" y="1142"/>
                    </a:lnTo>
                    <a:lnTo>
                      <a:pt x="12062" y="1142"/>
                    </a:lnTo>
                    <a:lnTo>
                      <a:pt x="12043" y="1161"/>
                    </a:lnTo>
                    <a:lnTo>
                      <a:pt x="12005" y="1161"/>
                    </a:lnTo>
                    <a:lnTo>
                      <a:pt x="11968" y="1179"/>
                    </a:lnTo>
                    <a:lnTo>
                      <a:pt x="11931" y="1179"/>
                    </a:lnTo>
                    <a:lnTo>
                      <a:pt x="11893" y="1179"/>
                    </a:lnTo>
                    <a:lnTo>
                      <a:pt x="11855" y="1198"/>
                    </a:lnTo>
                    <a:lnTo>
                      <a:pt x="11817" y="1198"/>
                    </a:lnTo>
                    <a:lnTo>
                      <a:pt x="11760" y="1198"/>
                    </a:lnTo>
                    <a:lnTo>
                      <a:pt x="11722" y="1198"/>
                    </a:lnTo>
                    <a:lnTo>
                      <a:pt x="11685" y="1198"/>
                    </a:lnTo>
                    <a:lnTo>
                      <a:pt x="11647" y="1198"/>
                    </a:lnTo>
                    <a:lnTo>
                      <a:pt x="11609" y="1198"/>
                    </a:lnTo>
                    <a:lnTo>
                      <a:pt x="11572" y="1198"/>
                    </a:lnTo>
                    <a:lnTo>
                      <a:pt x="11534" y="1198"/>
                    </a:lnTo>
                    <a:lnTo>
                      <a:pt x="11496" y="1216"/>
                    </a:lnTo>
                    <a:lnTo>
                      <a:pt x="11458" y="1216"/>
                    </a:lnTo>
                    <a:lnTo>
                      <a:pt x="11421" y="1216"/>
                    </a:lnTo>
                    <a:lnTo>
                      <a:pt x="11364" y="1216"/>
                    </a:lnTo>
                    <a:lnTo>
                      <a:pt x="11326" y="1216"/>
                    </a:lnTo>
                    <a:lnTo>
                      <a:pt x="11288" y="1235"/>
                    </a:lnTo>
                    <a:lnTo>
                      <a:pt x="11269" y="1235"/>
                    </a:lnTo>
                    <a:lnTo>
                      <a:pt x="11232" y="1253"/>
                    </a:lnTo>
                    <a:lnTo>
                      <a:pt x="11194" y="1272"/>
                    </a:lnTo>
                    <a:lnTo>
                      <a:pt x="11176" y="1272"/>
                    </a:lnTo>
                    <a:lnTo>
                      <a:pt x="11157" y="1272"/>
                    </a:lnTo>
                    <a:lnTo>
                      <a:pt x="11157" y="1290"/>
                    </a:lnTo>
                    <a:lnTo>
                      <a:pt x="11138" y="1290"/>
                    </a:lnTo>
                    <a:lnTo>
                      <a:pt x="11138" y="1309"/>
                    </a:lnTo>
                    <a:lnTo>
                      <a:pt x="11138" y="1327"/>
                    </a:lnTo>
                    <a:lnTo>
                      <a:pt x="11138" y="1345"/>
                    </a:lnTo>
                    <a:lnTo>
                      <a:pt x="11138" y="1363"/>
                    </a:lnTo>
                    <a:lnTo>
                      <a:pt x="12591" y="1290"/>
                    </a:lnTo>
                    <a:lnTo>
                      <a:pt x="12610" y="1309"/>
                    </a:lnTo>
                    <a:lnTo>
                      <a:pt x="12629" y="1309"/>
                    </a:lnTo>
                    <a:lnTo>
                      <a:pt x="12629" y="1327"/>
                    </a:lnTo>
                    <a:lnTo>
                      <a:pt x="12648" y="1345"/>
                    </a:lnTo>
                    <a:lnTo>
                      <a:pt x="12648" y="1363"/>
                    </a:lnTo>
                    <a:lnTo>
                      <a:pt x="12648" y="1382"/>
                    </a:lnTo>
                    <a:lnTo>
                      <a:pt x="12648" y="1400"/>
                    </a:lnTo>
                    <a:lnTo>
                      <a:pt x="12667" y="1418"/>
                    </a:lnTo>
                    <a:lnTo>
                      <a:pt x="378" y="1418"/>
                    </a:lnTo>
                    <a:lnTo>
                      <a:pt x="1416" y="350"/>
                    </a:lnTo>
                    <a:lnTo>
                      <a:pt x="189" y="1087"/>
                    </a:lnTo>
                    <a:lnTo>
                      <a:pt x="189" y="1068"/>
                    </a:lnTo>
                    <a:lnTo>
                      <a:pt x="170" y="1068"/>
                    </a:lnTo>
                    <a:lnTo>
                      <a:pt x="170" y="1050"/>
                    </a:lnTo>
                    <a:lnTo>
                      <a:pt x="152" y="1050"/>
                    </a:lnTo>
                    <a:lnTo>
                      <a:pt x="152" y="1031"/>
                    </a:lnTo>
                    <a:lnTo>
                      <a:pt x="152" y="1031"/>
                    </a:lnTo>
                    <a:lnTo>
                      <a:pt x="133" y="1013"/>
                    </a:lnTo>
                    <a:lnTo>
                      <a:pt x="133" y="1013"/>
                    </a:lnTo>
                    <a:lnTo>
                      <a:pt x="0" y="350"/>
                    </a:lnTo>
                    <a:lnTo>
                      <a:pt x="19" y="313"/>
                    </a:lnTo>
                    <a:lnTo>
                      <a:pt x="38" y="295"/>
                    </a:lnTo>
                    <a:lnTo>
                      <a:pt x="57" y="277"/>
                    </a:lnTo>
                    <a:lnTo>
                      <a:pt x="76" y="258"/>
                    </a:lnTo>
                    <a:lnTo>
                      <a:pt x="114" y="240"/>
                    </a:lnTo>
                    <a:lnTo>
                      <a:pt x="133" y="222"/>
                    </a:lnTo>
                    <a:lnTo>
                      <a:pt x="152" y="203"/>
                    </a:lnTo>
                    <a:lnTo>
                      <a:pt x="170" y="185"/>
                    </a:lnTo>
                    <a:lnTo>
                      <a:pt x="189" y="166"/>
                    </a:lnTo>
                    <a:lnTo>
                      <a:pt x="208" y="129"/>
                    </a:lnTo>
                    <a:lnTo>
                      <a:pt x="227" y="111"/>
                    </a:lnTo>
                    <a:lnTo>
                      <a:pt x="246" y="92"/>
                    </a:lnTo>
                    <a:lnTo>
                      <a:pt x="265" y="74"/>
                    </a:lnTo>
                    <a:lnTo>
                      <a:pt x="284" y="55"/>
                    </a:lnTo>
                    <a:lnTo>
                      <a:pt x="302" y="18"/>
                    </a:lnTo>
                    <a:lnTo>
                      <a:pt x="321" y="0"/>
                    </a:lnTo>
                    <a:lnTo>
                      <a:pt x="692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15" name="Freeform 180"/>
              <p:cNvSpPr/>
              <p:nvPr/>
            </p:nvSpPr>
            <p:spPr>
              <a:xfrm>
                <a:off x="2530800" y="4826880"/>
                <a:ext cx="2545200" cy="123840"/>
              </a:xfrm>
              <a:custGeom>
                <a:avLst/>
                <a:gdLst/>
                <a:ahLst/>
                <a:rect l="l" t="t" r="r" b="b"/>
                <a:pathLst>
                  <a:path w="12836" h="1419">
                    <a:moveTo>
                      <a:pt x="5587" y="0"/>
                    </a:moveTo>
                    <a:lnTo>
                      <a:pt x="5399" y="93"/>
                    </a:lnTo>
                    <a:lnTo>
                      <a:pt x="5417" y="74"/>
                    </a:lnTo>
                    <a:lnTo>
                      <a:pt x="5435" y="74"/>
                    </a:lnTo>
                    <a:lnTo>
                      <a:pt x="5454" y="74"/>
                    </a:lnTo>
                    <a:lnTo>
                      <a:pt x="5473" y="56"/>
                    </a:lnTo>
                    <a:lnTo>
                      <a:pt x="5492" y="56"/>
                    </a:lnTo>
                    <a:lnTo>
                      <a:pt x="5511" y="56"/>
                    </a:lnTo>
                    <a:lnTo>
                      <a:pt x="5530" y="56"/>
                    </a:lnTo>
                    <a:lnTo>
                      <a:pt x="5549" y="37"/>
                    </a:lnTo>
                    <a:lnTo>
                      <a:pt x="5568" y="37"/>
                    </a:lnTo>
                    <a:lnTo>
                      <a:pt x="5587" y="37"/>
                    </a:lnTo>
                    <a:lnTo>
                      <a:pt x="5606" y="19"/>
                    </a:lnTo>
                    <a:lnTo>
                      <a:pt x="5625" y="19"/>
                    </a:lnTo>
                    <a:lnTo>
                      <a:pt x="5644" y="19"/>
                    </a:lnTo>
                    <a:lnTo>
                      <a:pt x="5663" y="0"/>
                    </a:lnTo>
                    <a:lnTo>
                      <a:pt x="5682" y="0"/>
                    </a:lnTo>
                    <a:lnTo>
                      <a:pt x="5701" y="0"/>
                    </a:lnTo>
                    <a:lnTo>
                      <a:pt x="12514" y="0"/>
                    </a:lnTo>
                    <a:lnTo>
                      <a:pt x="12514" y="241"/>
                    </a:lnTo>
                    <a:lnTo>
                      <a:pt x="12477" y="277"/>
                    </a:lnTo>
                    <a:lnTo>
                      <a:pt x="12458" y="295"/>
                    </a:lnTo>
                    <a:lnTo>
                      <a:pt x="12439" y="332"/>
                    </a:lnTo>
                    <a:lnTo>
                      <a:pt x="12402" y="350"/>
                    </a:lnTo>
                    <a:lnTo>
                      <a:pt x="12364" y="369"/>
                    </a:lnTo>
                    <a:lnTo>
                      <a:pt x="12345" y="387"/>
                    </a:lnTo>
                    <a:lnTo>
                      <a:pt x="12307" y="406"/>
                    </a:lnTo>
                    <a:lnTo>
                      <a:pt x="12269" y="424"/>
                    </a:lnTo>
                    <a:lnTo>
                      <a:pt x="12231" y="424"/>
                    </a:lnTo>
                    <a:lnTo>
                      <a:pt x="12212" y="443"/>
                    </a:lnTo>
                    <a:lnTo>
                      <a:pt x="12174" y="443"/>
                    </a:lnTo>
                    <a:lnTo>
                      <a:pt x="12137" y="461"/>
                    </a:lnTo>
                    <a:lnTo>
                      <a:pt x="12100" y="461"/>
                    </a:lnTo>
                    <a:lnTo>
                      <a:pt x="12062" y="461"/>
                    </a:lnTo>
                    <a:lnTo>
                      <a:pt x="12024" y="480"/>
                    </a:lnTo>
                    <a:lnTo>
                      <a:pt x="11986" y="480"/>
                    </a:lnTo>
                    <a:lnTo>
                      <a:pt x="11929" y="480"/>
                    </a:lnTo>
                    <a:lnTo>
                      <a:pt x="11891" y="480"/>
                    </a:lnTo>
                    <a:lnTo>
                      <a:pt x="11854" y="480"/>
                    </a:lnTo>
                    <a:lnTo>
                      <a:pt x="11816" y="480"/>
                    </a:lnTo>
                    <a:lnTo>
                      <a:pt x="11778" y="480"/>
                    </a:lnTo>
                    <a:lnTo>
                      <a:pt x="11741" y="480"/>
                    </a:lnTo>
                    <a:lnTo>
                      <a:pt x="11703" y="480"/>
                    </a:lnTo>
                    <a:lnTo>
                      <a:pt x="11665" y="498"/>
                    </a:lnTo>
                    <a:lnTo>
                      <a:pt x="11627" y="498"/>
                    </a:lnTo>
                    <a:lnTo>
                      <a:pt x="11590" y="498"/>
                    </a:lnTo>
                    <a:lnTo>
                      <a:pt x="11533" y="498"/>
                    </a:lnTo>
                    <a:lnTo>
                      <a:pt x="11495" y="498"/>
                    </a:lnTo>
                    <a:lnTo>
                      <a:pt x="11457" y="517"/>
                    </a:lnTo>
                    <a:lnTo>
                      <a:pt x="11438" y="517"/>
                    </a:lnTo>
                    <a:lnTo>
                      <a:pt x="11401" y="535"/>
                    </a:lnTo>
                    <a:lnTo>
                      <a:pt x="11363" y="554"/>
                    </a:lnTo>
                    <a:lnTo>
                      <a:pt x="11345" y="554"/>
                    </a:lnTo>
                    <a:lnTo>
                      <a:pt x="11326" y="554"/>
                    </a:lnTo>
                    <a:lnTo>
                      <a:pt x="11326" y="572"/>
                    </a:lnTo>
                    <a:lnTo>
                      <a:pt x="11307" y="572"/>
                    </a:lnTo>
                    <a:lnTo>
                      <a:pt x="11307" y="591"/>
                    </a:lnTo>
                    <a:lnTo>
                      <a:pt x="11307" y="609"/>
                    </a:lnTo>
                    <a:lnTo>
                      <a:pt x="11307" y="627"/>
                    </a:lnTo>
                    <a:lnTo>
                      <a:pt x="11307" y="645"/>
                    </a:lnTo>
                    <a:lnTo>
                      <a:pt x="12760" y="572"/>
                    </a:lnTo>
                    <a:lnTo>
                      <a:pt x="12779" y="591"/>
                    </a:lnTo>
                    <a:lnTo>
                      <a:pt x="12798" y="609"/>
                    </a:lnTo>
                    <a:lnTo>
                      <a:pt x="12798" y="627"/>
                    </a:lnTo>
                    <a:lnTo>
                      <a:pt x="12817" y="645"/>
                    </a:lnTo>
                    <a:lnTo>
                      <a:pt x="12817" y="664"/>
                    </a:lnTo>
                    <a:lnTo>
                      <a:pt x="12817" y="682"/>
                    </a:lnTo>
                    <a:lnTo>
                      <a:pt x="12836" y="719"/>
                    </a:lnTo>
                    <a:lnTo>
                      <a:pt x="12836" y="737"/>
                    </a:lnTo>
                    <a:lnTo>
                      <a:pt x="12836" y="756"/>
                    </a:lnTo>
                    <a:lnTo>
                      <a:pt x="12836" y="793"/>
                    </a:lnTo>
                    <a:lnTo>
                      <a:pt x="12836" y="811"/>
                    </a:lnTo>
                    <a:lnTo>
                      <a:pt x="12836" y="830"/>
                    </a:lnTo>
                    <a:lnTo>
                      <a:pt x="12836" y="867"/>
                    </a:lnTo>
                    <a:lnTo>
                      <a:pt x="12836" y="885"/>
                    </a:lnTo>
                    <a:lnTo>
                      <a:pt x="12836" y="922"/>
                    </a:lnTo>
                    <a:lnTo>
                      <a:pt x="12836" y="941"/>
                    </a:lnTo>
                    <a:lnTo>
                      <a:pt x="12836" y="977"/>
                    </a:lnTo>
                    <a:lnTo>
                      <a:pt x="12836" y="995"/>
                    </a:lnTo>
                    <a:lnTo>
                      <a:pt x="12817" y="1032"/>
                    </a:lnTo>
                    <a:lnTo>
                      <a:pt x="12817" y="1051"/>
                    </a:lnTo>
                    <a:lnTo>
                      <a:pt x="12817" y="1088"/>
                    </a:lnTo>
                    <a:lnTo>
                      <a:pt x="12817" y="1106"/>
                    </a:lnTo>
                    <a:lnTo>
                      <a:pt x="12817" y="1143"/>
                    </a:lnTo>
                    <a:lnTo>
                      <a:pt x="12798" y="1161"/>
                    </a:lnTo>
                    <a:lnTo>
                      <a:pt x="12798" y="1198"/>
                    </a:lnTo>
                    <a:lnTo>
                      <a:pt x="12798" y="1217"/>
                    </a:lnTo>
                    <a:lnTo>
                      <a:pt x="12798" y="1254"/>
                    </a:lnTo>
                    <a:lnTo>
                      <a:pt x="12779" y="1272"/>
                    </a:lnTo>
                    <a:lnTo>
                      <a:pt x="12779" y="1291"/>
                    </a:lnTo>
                    <a:lnTo>
                      <a:pt x="12779" y="1327"/>
                    </a:lnTo>
                    <a:lnTo>
                      <a:pt x="12779" y="1345"/>
                    </a:lnTo>
                    <a:lnTo>
                      <a:pt x="12760" y="1364"/>
                    </a:lnTo>
                    <a:lnTo>
                      <a:pt x="12495" y="1419"/>
                    </a:lnTo>
                    <a:lnTo>
                      <a:pt x="75" y="1419"/>
                    </a:lnTo>
                    <a:lnTo>
                      <a:pt x="0" y="1254"/>
                    </a:lnTo>
                    <a:lnTo>
                      <a:pt x="1226" y="0"/>
                    </a:lnTo>
                    <a:lnTo>
                      <a:pt x="5587" y="0"/>
                    </a:lnTo>
                    <a:close/>
                    <a:moveTo>
                      <a:pt x="962" y="0"/>
                    </a:moveTo>
                    <a:lnTo>
                      <a:pt x="358" y="369"/>
                    </a:lnTo>
                    <a:lnTo>
                      <a:pt x="358" y="350"/>
                    </a:lnTo>
                    <a:lnTo>
                      <a:pt x="339" y="350"/>
                    </a:lnTo>
                    <a:lnTo>
                      <a:pt x="339" y="332"/>
                    </a:lnTo>
                    <a:lnTo>
                      <a:pt x="321" y="332"/>
                    </a:lnTo>
                    <a:lnTo>
                      <a:pt x="321" y="313"/>
                    </a:lnTo>
                    <a:lnTo>
                      <a:pt x="321" y="313"/>
                    </a:lnTo>
                    <a:lnTo>
                      <a:pt x="302" y="295"/>
                    </a:lnTo>
                    <a:lnTo>
                      <a:pt x="302" y="295"/>
                    </a:lnTo>
                    <a:lnTo>
                      <a:pt x="245" y="0"/>
                    </a:lnTo>
                    <a:lnTo>
                      <a:pt x="96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16" name="Freeform 181"/>
              <p:cNvSpPr/>
              <p:nvPr/>
            </p:nvSpPr>
            <p:spPr>
              <a:xfrm>
                <a:off x="2530800" y="4887360"/>
                <a:ext cx="2545200" cy="123840"/>
              </a:xfrm>
              <a:custGeom>
                <a:avLst/>
                <a:gdLst/>
                <a:ahLst/>
                <a:rect l="l" t="t" r="r" b="b"/>
                <a:pathLst>
                  <a:path w="12836" h="1418">
                    <a:moveTo>
                      <a:pt x="12836" y="0"/>
                    </a:moveTo>
                    <a:lnTo>
                      <a:pt x="12836" y="37"/>
                    </a:lnTo>
                    <a:lnTo>
                      <a:pt x="12836" y="74"/>
                    </a:lnTo>
                    <a:lnTo>
                      <a:pt x="12836" y="130"/>
                    </a:lnTo>
                    <a:lnTo>
                      <a:pt x="12836" y="167"/>
                    </a:lnTo>
                    <a:lnTo>
                      <a:pt x="12836" y="204"/>
                    </a:lnTo>
                    <a:lnTo>
                      <a:pt x="12836" y="259"/>
                    </a:lnTo>
                    <a:lnTo>
                      <a:pt x="12836" y="295"/>
                    </a:lnTo>
                    <a:lnTo>
                      <a:pt x="12817" y="332"/>
                    </a:lnTo>
                    <a:lnTo>
                      <a:pt x="12817" y="388"/>
                    </a:lnTo>
                    <a:lnTo>
                      <a:pt x="12817" y="424"/>
                    </a:lnTo>
                    <a:lnTo>
                      <a:pt x="12798" y="480"/>
                    </a:lnTo>
                    <a:lnTo>
                      <a:pt x="12798" y="517"/>
                    </a:lnTo>
                    <a:lnTo>
                      <a:pt x="12779" y="554"/>
                    </a:lnTo>
                    <a:lnTo>
                      <a:pt x="12779" y="591"/>
                    </a:lnTo>
                    <a:lnTo>
                      <a:pt x="12779" y="627"/>
                    </a:lnTo>
                    <a:lnTo>
                      <a:pt x="12760" y="664"/>
                    </a:lnTo>
                    <a:lnTo>
                      <a:pt x="11005" y="977"/>
                    </a:lnTo>
                    <a:lnTo>
                      <a:pt x="10986" y="977"/>
                    </a:lnTo>
                    <a:lnTo>
                      <a:pt x="10986" y="977"/>
                    </a:lnTo>
                    <a:lnTo>
                      <a:pt x="10967" y="995"/>
                    </a:lnTo>
                    <a:lnTo>
                      <a:pt x="10967" y="995"/>
                    </a:lnTo>
                    <a:lnTo>
                      <a:pt x="10967" y="1014"/>
                    </a:lnTo>
                    <a:lnTo>
                      <a:pt x="10967" y="1032"/>
                    </a:lnTo>
                    <a:lnTo>
                      <a:pt x="10967" y="1032"/>
                    </a:lnTo>
                    <a:lnTo>
                      <a:pt x="10967" y="1051"/>
                    </a:lnTo>
                    <a:lnTo>
                      <a:pt x="11741" y="1069"/>
                    </a:lnTo>
                    <a:lnTo>
                      <a:pt x="11722" y="1418"/>
                    </a:lnTo>
                    <a:lnTo>
                      <a:pt x="19" y="1418"/>
                    </a:lnTo>
                    <a:lnTo>
                      <a:pt x="38" y="1418"/>
                    </a:lnTo>
                    <a:lnTo>
                      <a:pt x="57" y="1400"/>
                    </a:lnTo>
                    <a:lnTo>
                      <a:pt x="75" y="1381"/>
                    </a:lnTo>
                    <a:lnTo>
                      <a:pt x="94" y="1363"/>
                    </a:lnTo>
                    <a:lnTo>
                      <a:pt x="94" y="1344"/>
                    </a:lnTo>
                    <a:lnTo>
                      <a:pt x="112" y="1344"/>
                    </a:lnTo>
                    <a:lnTo>
                      <a:pt x="131" y="1326"/>
                    </a:lnTo>
                    <a:lnTo>
                      <a:pt x="150" y="1307"/>
                    </a:lnTo>
                    <a:lnTo>
                      <a:pt x="150" y="1290"/>
                    </a:lnTo>
                    <a:lnTo>
                      <a:pt x="169" y="1272"/>
                    </a:lnTo>
                    <a:lnTo>
                      <a:pt x="188" y="1254"/>
                    </a:lnTo>
                    <a:lnTo>
                      <a:pt x="188" y="1235"/>
                    </a:lnTo>
                    <a:lnTo>
                      <a:pt x="207" y="1198"/>
                    </a:lnTo>
                    <a:lnTo>
                      <a:pt x="207" y="1180"/>
                    </a:lnTo>
                    <a:lnTo>
                      <a:pt x="226" y="1162"/>
                    </a:lnTo>
                    <a:lnTo>
                      <a:pt x="226" y="1125"/>
                    </a:lnTo>
                    <a:lnTo>
                      <a:pt x="0" y="554"/>
                    </a:lnTo>
                    <a:lnTo>
                      <a:pt x="547" y="0"/>
                    </a:lnTo>
                    <a:lnTo>
                      <a:pt x="128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17" name="Freeform 182"/>
              <p:cNvSpPr/>
              <p:nvPr/>
            </p:nvSpPr>
            <p:spPr>
              <a:xfrm>
                <a:off x="2514600" y="4950720"/>
                <a:ext cx="2493720" cy="122040"/>
              </a:xfrm>
              <a:custGeom>
                <a:avLst/>
                <a:gdLst/>
                <a:ahLst/>
                <a:rect l="l" t="t" r="r" b="b"/>
                <a:pathLst>
                  <a:path w="12571" h="1418">
                    <a:moveTo>
                      <a:pt x="12571" y="0"/>
                    </a:moveTo>
                    <a:lnTo>
                      <a:pt x="11081" y="258"/>
                    </a:lnTo>
                    <a:lnTo>
                      <a:pt x="11062" y="258"/>
                    </a:lnTo>
                    <a:lnTo>
                      <a:pt x="11062" y="258"/>
                    </a:lnTo>
                    <a:lnTo>
                      <a:pt x="11043" y="276"/>
                    </a:lnTo>
                    <a:lnTo>
                      <a:pt x="11043" y="276"/>
                    </a:lnTo>
                    <a:lnTo>
                      <a:pt x="11043" y="295"/>
                    </a:lnTo>
                    <a:lnTo>
                      <a:pt x="11043" y="313"/>
                    </a:lnTo>
                    <a:lnTo>
                      <a:pt x="11043" y="313"/>
                    </a:lnTo>
                    <a:lnTo>
                      <a:pt x="11043" y="332"/>
                    </a:lnTo>
                    <a:lnTo>
                      <a:pt x="11817" y="350"/>
                    </a:lnTo>
                    <a:lnTo>
                      <a:pt x="11760" y="1179"/>
                    </a:lnTo>
                    <a:lnTo>
                      <a:pt x="11760" y="1197"/>
                    </a:lnTo>
                    <a:lnTo>
                      <a:pt x="11741" y="1197"/>
                    </a:lnTo>
                    <a:lnTo>
                      <a:pt x="11741" y="1216"/>
                    </a:lnTo>
                    <a:lnTo>
                      <a:pt x="11722" y="1216"/>
                    </a:lnTo>
                    <a:lnTo>
                      <a:pt x="11722" y="1216"/>
                    </a:lnTo>
                    <a:lnTo>
                      <a:pt x="11703" y="1234"/>
                    </a:lnTo>
                    <a:lnTo>
                      <a:pt x="11685" y="1234"/>
                    </a:lnTo>
                    <a:lnTo>
                      <a:pt x="11685" y="1234"/>
                    </a:lnTo>
                    <a:lnTo>
                      <a:pt x="11666" y="1234"/>
                    </a:lnTo>
                    <a:lnTo>
                      <a:pt x="11647" y="1234"/>
                    </a:lnTo>
                    <a:lnTo>
                      <a:pt x="11628" y="1234"/>
                    </a:lnTo>
                    <a:lnTo>
                      <a:pt x="11628" y="1234"/>
                    </a:lnTo>
                    <a:lnTo>
                      <a:pt x="11609" y="1234"/>
                    </a:lnTo>
                    <a:lnTo>
                      <a:pt x="11590" y="1234"/>
                    </a:lnTo>
                    <a:lnTo>
                      <a:pt x="11590" y="1234"/>
                    </a:lnTo>
                    <a:lnTo>
                      <a:pt x="11571" y="1234"/>
                    </a:lnTo>
                    <a:lnTo>
                      <a:pt x="11552" y="1234"/>
                    </a:lnTo>
                    <a:lnTo>
                      <a:pt x="11533" y="1234"/>
                    </a:lnTo>
                    <a:lnTo>
                      <a:pt x="11533" y="1252"/>
                    </a:lnTo>
                    <a:lnTo>
                      <a:pt x="11533" y="1252"/>
                    </a:lnTo>
                    <a:lnTo>
                      <a:pt x="11514" y="1270"/>
                    </a:lnTo>
                    <a:lnTo>
                      <a:pt x="11514" y="1288"/>
                    </a:lnTo>
                    <a:lnTo>
                      <a:pt x="11533" y="1288"/>
                    </a:lnTo>
                    <a:lnTo>
                      <a:pt x="11533" y="1325"/>
                    </a:lnTo>
                    <a:lnTo>
                      <a:pt x="12213" y="1344"/>
                    </a:lnTo>
                    <a:lnTo>
                      <a:pt x="12213" y="1418"/>
                    </a:lnTo>
                    <a:lnTo>
                      <a:pt x="114" y="1418"/>
                    </a:lnTo>
                    <a:lnTo>
                      <a:pt x="0" y="829"/>
                    </a:lnTo>
                    <a:lnTo>
                      <a:pt x="19" y="810"/>
                    </a:lnTo>
                    <a:lnTo>
                      <a:pt x="38" y="773"/>
                    </a:lnTo>
                    <a:lnTo>
                      <a:pt x="57" y="755"/>
                    </a:lnTo>
                    <a:lnTo>
                      <a:pt x="76" y="736"/>
                    </a:lnTo>
                    <a:lnTo>
                      <a:pt x="95" y="718"/>
                    </a:lnTo>
                    <a:lnTo>
                      <a:pt x="114" y="699"/>
                    </a:lnTo>
                    <a:lnTo>
                      <a:pt x="133" y="681"/>
                    </a:lnTo>
                    <a:lnTo>
                      <a:pt x="151" y="644"/>
                    </a:lnTo>
                    <a:lnTo>
                      <a:pt x="188" y="625"/>
                    </a:lnTo>
                    <a:lnTo>
                      <a:pt x="207" y="607"/>
                    </a:lnTo>
                    <a:lnTo>
                      <a:pt x="226" y="571"/>
                    </a:lnTo>
                    <a:lnTo>
                      <a:pt x="245" y="553"/>
                    </a:lnTo>
                    <a:lnTo>
                      <a:pt x="264" y="516"/>
                    </a:lnTo>
                    <a:lnTo>
                      <a:pt x="283" y="479"/>
                    </a:lnTo>
                    <a:lnTo>
                      <a:pt x="283" y="443"/>
                    </a:lnTo>
                    <a:lnTo>
                      <a:pt x="302" y="406"/>
                    </a:lnTo>
                    <a:lnTo>
                      <a:pt x="151" y="0"/>
                    </a:lnTo>
                    <a:lnTo>
                      <a:pt x="1257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18" name="Freeform 183"/>
              <p:cNvSpPr/>
              <p:nvPr/>
            </p:nvSpPr>
            <p:spPr>
              <a:xfrm>
                <a:off x="2415600" y="5011200"/>
                <a:ext cx="2520720" cy="123840"/>
              </a:xfrm>
              <a:custGeom>
                <a:avLst/>
                <a:gdLst/>
                <a:ahLst/>
                <a:rect l="l" t="t" r="r" b="b"/>
                <a:pathLst>
                  <a:path w="12723" h="1437">
                    <a:moveTo>
                      <a:pt x="12308" y="0"/>
                    </a:moveTo>
                    <a:lnTo>
                      <a:pt x="12270" y="480"/>
                    </a:lnTo>
                    <a:lnTo>
                      <a:pt x="12270" y="498"/>
                    </a:lnTo>
                    <a:lnTo>
                      <a:pt x="12251" y="498"/>
                    </a:lnTo>
                    <a:lnTo>
                      <a:pt x="12251" y="517"/>
                    </a:lnTo>
                    <a:lnTo>
                      <a:pt x="12232" y="517"/>
                    </a:lnTo>
                    <a:lnTo>
                      <a:pt x="12232" y="517"/>
                    </a:lnTo>
                    <a:lnTo>
                      <a:pt x="12213" y="535"/>
                    </a:lnTo>
                    <a:lnTo>
                      <a:pt x="12195" y="535"/>
                    </a:lnTo>
                    <a:lnTo>
                      <a:pt x="12195" y="535"/>
                    </a:lnTo>
                    <a:lnTo>
                      <a:pt x="12176" y="535"/>
                    </a:lnTo>
                    <a:lnTo>
                      <a:pt x="12157" y="535"/>
                    </a:lnTo>
                    <a:lnTo>
                      <a:pt x="12138" y="535"/>
                    </a:lnTo>
                    <a:lnTo>
                      <a:pt x="12138" y="535"/>
                    </a:lnTo>
                    <a:lnTo>
                      <a:pt x="12119" y="535"/>
                    </a:lnTo>
                    <a:lnTo>
                      <a:pt x="12100" y="535"/>
                    </a:lnTo>
                    <a:lnTo>
                      <a:pt x="12100" y="535"/>
                    </a:lnTo>
                    <a:lnTo>
                      <a:pt x="12081" y="535"/>
                    </a:lnTo>
                    <a:lnTo>
                      <a:pt x="12062" y="535"/>
                    </a:lnTo>
                    <a:lnTo>
                      <a:pt x="12043" y="535"/>
                    </a:lnTo>
                    <a:lnTo>
                      <a:pt x="12043" y="553"/>
                    </a:lnTo>
                    <a:lnTo>
                      <a:pt x="12043" y="553"/>
                    </a:lnTo>
                    <a:lnTo>
                      <a:pt x="12024" y="571"/>
                    </a:lnTo>
                    <a:lnTo>
                      <a:pt x="12024" y="589"/>
                    </a:lnTo>
                    <a:lnTo>
                      <a:pt x="12043" y="589"/>
                    </a:lnTo>
                    <a:lnTo>
                      <a:pt x="12043" y="626"/>
                    </a:lnTo>
                    <a:lnTo>
                      <a:pt x="12723" y="645"/>
                    </a:lnTo>
                    <a:lnTo>
                      <a:pt x="12648" y="1400"/>
                    </a:lnTo>
                    <a:lnTo>
                      <a:pt x="12515" y="1437"/>
                    </a:lnTo>
                    <a:lnTo>
                      <a:pt x="0" y="1437"/>
                    </a:lnTo>
                    <a:lnTo>
                      <a:pt x="643" y="737"/>
                    </a:lnTo>
                    <a:lnTo>
                      <a:pt x="510" y="130"/>
                    </a:lnTo>
                    <a:lnTo>
                      <a:pt x="510" y="111"/>
                    </a:lnTo>
                    <a:lnTo>
                      <a:pt x="529" y="93"/>
                    </a:lnTo>
                    <a:lnTo>
                      <a:pt x="548" y="74"/>
                    </a:lnTo>
                    <a:lnTo>
                      <a:pt x="548" y="56"/>
                    </a:lnTo>
                    <a:lnTo>
                      <a:pt x="567" y="56"/>
                    </a:lnTo>
                    <a:lnTo>
                      <a:pt x="586" y="37"/>
                    </a:lnTo>
                    <a:lnTo>
                      <a:pt x="605" y="19"/>
                    </a:lnTo>
                    <a:lnTo>
                      <a:pt x="605" y="0"/>
                    </a:lnTo>
                    <a:lnTo>
                      <a:pt x="1230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19" name="Freeform 184"/>
              <p:cNvSpPr/>
              <p:nvPr/>
            </p:nvSpPr>
            <p:spPr>
              <a:xfrm>
                <a:off x="2411280" y="5073120"/>
                <a:ext cx="2529720" cy="123480"/>
              </a:xfrm>
              <a:custGeom>
                <a:avLst/>
                <a:gdLst/>
                <a:ahLst/>
                <a:rect l="l" t="t" r="r" b="b"/>
                <a:pathLst>
                  <a:path w="12759" h="1418">
                    <a:moveTo>
                      <a:pt x="12741" y="0"/>
                    </a:moveTo>
                    <a:lnTo>
                      <a:pt x="12666" y="681"/>
                    </a:lnTo>
                    <a:lnTo>
                      <a:pt x="12194" y="774"/>
                    </a:lnTo>
                    <a:lnTo>
                      <a:pt x="12175" y="792"/>
                    </a:lnTo>
                    <a:lnTo>
                      <a:pt x="12175" y="811"/>
                    </a:lnTo>
                    <a:lnTo>
                      <a:pt x="12156" y="811"/>
                    </a:lnTo>
                    <a:lnTo>
                      <a:pt x="12137" y="829"/>
                    </a:lnTo>
                    <a:lnTo>
                      <a:pt x="12137" y="866"/>
                    </a:lnTo>
                    <a:lnTo>
                      <a:pt x="12118" y="885"/>
                    </a:lnTo>
                    <a:lnTo>
                      <a:pt x="12118" y="902"/>
                    </a:lnTo>
                    <a:lnTo>
                      <a:pt x="12118" y="939"/>
                    </a:lnTo>
                    <a:lnTo>
                      <a:pt x="12099" y="976"/>
                    </a:lnTo>
                    <a:lnTo>
                      <a:pt x="12099" y="994"/>
                    </a:lnTo>
                    <a:lnTo>
                      <a:pt x="12099" y="1031"/>
                    </a:lnTo>
                    <a:lnTo>
                      <a:pt x="12099" y="1068"/>
                    </a:lnTo>
                    <a:lnTo>
                      <a:pt x="12099" y="1105"/>
                    </a:lnTo>
                    <a:lnTo>
                      <a:pt x="12099" y="1142"/>
                    </a:lnTo>
                    <a:lnTo>
                      <a:pt x="12099" y="1161"/>
                    </a:lnTo>
                    <a:lnTo>
                      <a:pt x="12099" y="1198"/>
                    </a:lnTo>
                    <a:lnTo>
                      <a:pt x="12118" y="1234"/>
                    </a:lnTo>
                    <a:lnTo>
                      <a:pt x="12156" y="1271"/>
                    </a:lnTo>
                    <a:lnTo>
                      <a:pt x="12194" y="1289"/>
                    </a:lnTo>
                    <a:lnTo>
                      <a:pt x="12231" y="1308"/>
                    </a:lnTo>
                    <a:lnTo>
                      <a:pt x="12269" y="1308"/>
                    </a:lnTo>
                    <a:lnTo>
                      <a:pt x="12307" y="1308"/>
                    </a:lnTo>
                    <a:lnTo>
                      <a:pt x="12364" y="1289"/>
                    </a:lnTo>
                    <a:lnTo>
                      <a:pt x="12401" y="1271"/>
                    </a:lnTo>
                    <a:lnTo>
                      <a:pt x="12439" y="1271"/>
                    </a:lnTo>
                    <a:lnTo>
                      <a:pt x="12495" y="1252"/>
                    </a:lnTo>
                    <a:lnTo>
                      <a:pt x="12533" y="1252"/>
                    </a:lnTo>
                    <a:lnTo>
                      <a:pt x="12590" y="1234"/>
                    </a:lnTo>
                    <a:lnTo>
                      <a:pt x="12628" y="1234"/>
                    </a:lnTo>
                    <a:lnTo>
                      <a:pt x="12666" y="1234"/>
                    </a:lnTo>
                    <a:lnTo>
                      <a:pt x="12723" y="1252"/>
                    </a:lnTo>
                    <a:lnTo>
                      <a:pt x="12759" y="1289"/>
                    </a:lnTo>
                    <a:lnTo>
                      <a:pt x="12759" y="1418"/>
                    </a:lnTo>
                    <a:lnTo>
                      <a:pt x="792" y="1418"/>
                    </a:lnTo>
                    <a:lnTo>
                      <a:pt x="925" y="1326"/>
                    </a:lnTo>
                    <a:lnTo>
                      <a:pt x="925" y="1142"/>
                    </a:lnTo>
                    <a:lnTo>
                      <a:pt x="547" y="1418"/>
                    </a:lnTo>
                    <a:lnTo>
                      <a:pt x="150" y="1418"/>
                    </a:lnTo>
                    <a:lnTo>
                      <a:pt x="131" y="1400"/>
                    </a:lnTo>
                    <a:lnTo>
                      <a:pt x="131" y="1381"/>
                    </a:lnTo>
                    <a:lnTo>
                      <a:pt x="113" y="1345"/>
                    </a:lnTo>
                    <a:lnTo>
                      <a:pt x="113" y="1326"/>
                    </a:lnTo>
                    <a:lnTo>
                      <a:pt x="94" y="1308"/>
                    </a:lnTo>
                    <a:lnTo>
                      <a:pt x="94" y="1289"/>
                    </a:lnTo>
                    <a:lnTo>
                      <a:pt x="75" y="1252"/>
                    </a:lnTo>
                    <a:lnTo>
                      <a:pt x="75" y="1234"/>
                    </a:lnTo>
                    <a:lnTo>
                      <a:pt x="75" y="1198"/>
                    </a:lnTo>
                    <a:lnTo>
                      <a:pt x="56" y="1179"/>
                    </a:lnTo>
                    <a:lnTo>
                      <a:pt x="56" y="1161"/>
                    </a:lnTo>
                    <a:lnTo>
                      <a:pt x="37" y="1124"/>
                    </a:lnTo>
                    <a:lnTo>
                      <a:pt x="37" y="1105"/>
                    </a:lnTo>
                    <a:lnTo>
                      <a:pt x="18" y="1087"/>
                    </a:lnTo>
                    <a:lnTo>
                      <a:pt x="18" y="1068"/>
                    </a:lnTo>
                    <a:lnTo>
                      <a:pt x="0" y="1031"/>
                    </a:lnTo>
                    <a:lnTo>
                      <a:pt x="0" y="1013"/>
                    </a:lnTo>
                    <a:lnTo>
                      <a:pt x="0" y="994"/>
                    </a:lnTo>
                    <a:lnTo>
                      <a:pt x="0" y="976"/>
                    </a:lnTo>
                    <a:lnTo>
                      <a:pt x="0" y="958"/>
                    </a:lnTo>
                    <a:lnTo>
                      <a:pt x="0" y="921"/>
                    </a:lnTo>
                    <a:lnTo>
                      <a:pt x="0" y="902"/>
                    </a:lnTo>
                    <a:lnTo>
                      <a:pt x="0" y="885"/>
                    </a:lnTo>
                    <a:lnTo>
                      <a:pt x="0" y="866"/>
                    </a:lnTo>
                    <a:lnTo>
                      <a:pt x="0" y="848"/>
                    </a:lnTo>
                    <a:lnTo>
                      <a:pt x="0" y="829"/>
                    </a:lnTo>
                    <a:lnTo>
                      <a:pt x="0" y="811"/>
                    </a:lnTo>
                    <a:lnTo>
                      <a:pt x="0" y="792"/>
                    </a:lnTo>
                    <a:lnTo>
                      <a:pt x="0" y="774"/>
                    </a:lnTo>
                    <a:lnTo>
                      <a:pt x="0" y="755"/>
                    </a:lnTo>
                    <a:lnTo>
                      <a:pt x="0" y="737"/>
                    </a:lnTo>
                    <a:lnTo>
                      <a:pt x="0" y="737"/>
                    </a:lnTo>
                    <a:lnTo>
                      <a:pt x="661" y="18"/>
                    </a:lnTo>
                    <a:lnTo>
                      <a:pt x="642" y="0"/>
                    </a:lnTo>
                    <a:lnTo>
                      <a:pt x="127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20" name="Freeform 185"/>
              <p:cNvSpPr/>
              <p:nvPr/>
            </p:nvSpPr>
            <p:spPr>
              <a:xfrm>
                <a:off x="2411280" y="5135040"/>
                <a:ext cx="2529720" cy="123480"/>
              </a:xfrm>
              <a:custGeom>
                <a:avLst/>
                <a:gdLst/>
                <a:ahLst/>
                <a:rect l="l" t="t" r="r" b="b"/>
                <a:pathLst>
                  <a:path w="12759" h="1419">
                    <a:moveTo>
                      <a:pt x="12533" y="0"/>
                    </a:moveTo>
                    <a:lnTo>
                      <a:pt x="12194" y="56"/>
                    </a:lnTo>
                    <a:lnTo>
                      <a:pt x="12175" y="74"/>
                    </a:lnTo>
                    <a:lnTo>
                      <a:pt x="12175" y="93"/>
                    </a:lnTo>
                    <a:lnTo>
                      <a:pt x="12156" y="93"/>
                    </a:lnTo>
                    <a:lnTo>
                      <a:pt x="12137" y="111"/>
                    </a:lnTo>
                    <a:lnTo>
                      <a:pt x="12137" y="148"/>
                    </a:lnTo>
                    <a:lnTo>
                      <a:pt x="12118" y="167"/>
                    </a:lnTo>
                    <a:lnTo>
                      <a:pt x="12118" y="184"/>
                    </a:lnTo>
                    <a:lnTo>
                      <a:pt x="12118" y="221"/>
                    </a:lnTo>
                    <a:lnTo>
                      <a:pt x="12099" y="258"/>
                    </a:lnTo>
                    <a:lnTo>
                      <a:pt x="12099" y="276"/>
                    </a:lnTo>
                    <a:lnTo>
                      <a:pt x="12099" y="313"/>
                    </a:lnTo>
                    <a:lnTo>
                      <a:pt x="12099" y="350"/>
                    </a:lnTo>
                    <a:lnTo>
                      <a:pt x="12099" y="387"/>
                    </a:lnTo>
                    <a:lnTo>
                      <a:pt x="12099" y="424"/>
                    </a:lnTo>
                    <a:lnTo>
                      <a:pt x="12099" y="443"/>
                    </a:lnTo>
                    <a:lnTo>
                      <a:pt x="12099" y="480"/>
                    </a:lnTo>
                    <a:lnTo>
                      <a:pt x="12118" y="516"/>
                    </a:lnTo>
                    <a:lnTo>
                      <a:pt x="12156" y="553"/>
                    </a:lnTo>
                    <a:lnTo>
                      <a:pt x="12194" y="571"/>
                    </a:lnTo>
                    <a:lnTo>
                      <a:pt x="12231" y="590"/>
                    </a:lnTo>
                    <a:lnTo>
                      <a:pt x="12269" y="590"/>
                    </a:lnTo>
                    <a:lnTo>
                      <a:pt x="12307" y="590"/>
                    </a:lnTo>
                    <a:lnTo>
                      <a:pt x="12364" y="571"/>
                    </a:lnTo>
                    <a:lnTo>
                      <a:pt x="12401" y="553"/>
                    </a:lnTo>
                    <a:lnTo>
                      <a:pt x="12439" y="553"/>
                    </a:lnTo>
                    <a:lnTo>
                      <a:pt x="12495" y="534"/>
                    </a:lnTo>
                    <a:lnTo>
                      <a:pt x="12533" y="534"/>
                    </a:lnTo>
                    <a:lnTo>
                      <a:pt x="12590" y="516"/>
                    </a:lnTo>
                    <a:lnTo>
                      <a:pt x="12628" y="516"/>
                    </a:lnTo>
                    <a:lnTo>
                      <a:pt x="12666" y="516"/>
                    </a:lnTo>
                    <a:lnTo>
                      <a:pt x="12723" y="534"/>
                    </a:lnTo>
                    <a:lnTo>
                      <a:pt x="12759" y="571"/>
                    </a:lnTo>
                    <a:lnTo>
                      <a:pt x="12741" y="1345"/>
                    </a:lnTo>
                    <a:lnTo>
                      <a:pt x="12723" y="1345"/>
                    </a:lnTo>
                    <a:lnTo>
                      <a:pt x="12723" y="1364"/>
                    </a:lnTo>
                    <a:lnTo>
                      <a:pt x="12704" y="1364"/>
                    </a:lnTo>
                    <a:lnTo>
                      <a:pt x="12685" y="1382"/>
                    </a:lnTo>
                    <a:lnTo>
                      <a:pt x="12685" y="1382"/>
                    </a:lnTo>
                    <a:lnTo>
                      <a:pt x="12666" y="1401"/>
                    </a:lnTo>
                    <a:lnTo>
                      <a:pt x="12666" y="1401"/>
                    </a:lnTo>
                    <a:lnTo>
                      <a:pt x="12647" y="1419"/>
                    </a:lnTo>
                    <a:lnTo>
                      <a:pt x="433" y="1419"/>
                    </a:lnTo>
                    <a:lnTo>
                      <a:pt x="340" y="1234"/>
                    </a:lnTo>
                    <a:lnTo>
                      <a:pt x="452" y="958"/>
                    </a:lnTo>
                    <a:lnTo>
                      <a:pt x="925" y="608"/>
                    </a:lnTo>
                    <a:lnTo>
                      <a:pt x="925" y="424"/>
                    </a:lnTo>
                    <a:lnTo>
                      <a:pt x="321" y="884"/>
                    </a:lnTo>
                    <a:lnTo>
                      <a:pt x="283" y="866"/>
                    </a:lnTo>
                    <a:lnTo>
                      <a:pt x="245" y="848"/>
                    </a:lnTo>
                    <a:lnTo>
                      <a:pt x="226" y="830"/>
                    </a:lnTo>
                    <a:lnTo>
                      <a:pt x="207" y="811"/>
                    </a:lnTo>
                    <a:lnTo>
                      <a:pt x="188" y="774"/>
                    </a:lnTo>
                    <a:lnTo>
                      <a:pt x="169" y="756"/>
                    </a:lnTo>
                    <a:lnTo>
                      <a:pt x="150" y="719"/>
                    </a:lnTo>
                    <a:lnTo>
                      <a:pt x="131" y="663"/>
                    </a:lnTo>
                    <a:lnTo>
                      <a:pt x="113" y="627"/>
                    </a:lnTo>
                    <a:lnTo>
                      <a:pt x="94" y="590"/>
                    </a:lnTo>
                    <a:lnTo>
                      <a:pt x="75" y="534"/>
                    </a:lnTo>
                    <a:lnTo>
                      <a:pt x="75" y="498"/>
                    </a:lnTo>
                    <a:lnTo>
                      <a:pt x="56" y="443"/>
                    </a:lnTo>
                    <a:lnTo>
                      <a:pt x="37" y="406"/>
                    </a:lnTo>
                    <a:lnTo>
                      <a:pt x="18" y="369"/>
                    </a:lnTo>
                    <a:lnTo>
                      <a:pt x="0" y="313"/>
                    </a:lnTo>
                    <a:lnTo>
                      <a:pt x="0" y="295"/>
                    </a:lnTo>
                    <a:lnTo>
                      <a:pt x="0" y="276"/>
                    </a:lnTo>
                    <a:lnTo>
                      <a:pt x="0" y="258"/>
                    </a:lnTo>
                    <a:lnTo>
                      <a:pt x="0" y="240"/>
                    </a:lnTo>
                    <a:lnTo>
                      <a:pt x="0" y="203"/>
                    </a:lnTo>
                    <a:lnTo>
                      <a:pt x="0" y="184"/>
                    </a:lnTo>
                    <a:lnTo>
                      <a:pt x="0" y="167"/>
                    </a:lnTo>
                    <a:lnTo>
                      <a:pt x="0" y="148"/>
                    </a:lnTo>
                    <a:lnTo>
                      <a:pt x="0" y="130"/>
                    </a:lnTo>
                    <a:lnTo>
                      <a:pt x="0" y="111"/>
                    </a:lnTo>
                    <a:lnTo>
                      <a:pt x="0" y="93"/>
                    </a:lnTo>
                    <a:lnTo>
                      <a:pt x="0" y="74"/>
                    </a:lnTo>
                    <a:lnTo>
                      <a:pt x="0" y="56"/>
                    </a:lnTo>
                    <a:lnTo>
                      <a:pt x="0" y="37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18" y="0"/>
                    </a:lnTo>
                    <a:lnTo>
                      <a:pt x="125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21" name="Freeform 186"/>
              <p:cNvSpPr/>
              <p:nvPr/>
            </p:nvSpPr>
            <p:spPr>
              <a:xfrm>
                <a:off x="2443320" y="5196600"/>
                <a:ext cx="2497320" cy="122040"/>
              </a:xfrm>
              <a:custGeom>
                <a:avLst/>
                <a:gdLst/>
                <a:ahLst/>
                <a:rect l="l" t="t" r="r" b="b"/>
                <a:pathLst>
                  <a:path w="12609" h="1419">
                    <a:moveTo>
                      <a:pt x="12609" y="0"/>
                    </a:moveTo>
                    <a:lnTo>
                      <a:pt x="12591" y="645"/>
                    </a:lnTo>
                    <a:lnTo>
                      <a:pt x="12554" y="664"/>
                    </a:lnTo>
                    <a:lnTo>
                      <a:pt x="12516" y="701"/>
                    </a:lnTo>
                    <a:lnTo>
                      <a:pt x="12478" y="738"/>
                    </a:lnTo>
                    <a:lnTo>
                      <a:pt x="12440" y="756"/>
                    </a:lnTo>
                    <a:lnTo>
                      <a:pt x="12402" y="774"/>
                    </a:lnTo>
                    <a:lnTo>
                      <a:pt x="12364" y="811"/>
                    </a:lnTo>
                    <a:lnTo>
                      <a:pt x="12327" y="830"/>
                    </a:lnTo>
                    <a:lnTo>
                      <a:pt x="12289" y="847"/>
                    </a:lnTo>
                    <a:lnTo>
                      <a:pt x="12232" y="866"/>
                    </a:lnTo>
                    <a:lnTo>
                      <a:pt x="12195" y="903"/>
                    </a:lnTo>
                    <a:lnTo>
                      <a:pt x="12157" y="921"/>
                    </a:lnTo>
                    <a:lnTo>
                      <a:pt x="12119" y="940"/>
                    </a:lnTo>
                    <a:lnTo>
                      <a:pt x="12063" y="958"/>
                    </a:lnTo>
                    <a:lnTo>
                      <a:pt x="12025" y="977"/>
                    </a:lnTo>
                    <a:lnTo>
                      <a:pt x="11987" y="995"/>
                    </a:lnTo>
                    <a:lnTo>
                      <a:pt x="11930" y="1014"/>
                    </a:lnTo>
                    <a:lnTo>
                      <a:pt x="11892" y="1014"/>
                    </a:lnTo>
                    <a:lnTo>
                      <a:pt x="11855" y="1032"/>
                    </a:lnTo>
                    <a:lnTo>
                      <a:pt x="11799" y="1051"/>
                    </a:lnTo>
                    <a:lnTo>
                      <a:pt x="11761" y="1069"/>
                    </a:lnTo>
                    <a:lnTo>
                      <a:pt x="11723" y="1088"/>
                    </a:lnTo>
                    <a:lnTo>
                      <a:pt x="11666" y="1106"/>
                    </a:lnTo>
                    <a:lnTo>
                      <a:pt x="11628" y="1125"/>
                    </a:lnTo>
                    <a:lnTo>
                      <a:pt x="11571" y="1125"/>
                    </a:lnTo>
                    <a:lnTo>
                      <a:pt x="11533" y="1143"/>
                    </a:lnTo>
                    <a:lnTo>
                      <a:pt x="11478" y="1161"/>
                    </a:lnTo>
                    <a:lnTo>
                      <a:pt x="11440" y="1180"/>
                    </a:lnTo>
                    <a:lnTo>
                      <a:pt x="11402" y="1197"/>
                    </a:lnTo>
                    <a:lnTo>
                      <a:pt x="11345" y="1216"/>
                    </a:lnTo>
                    <a:lnTo>
                      <a:pt x="11307" y="1234"/>
                    </a:lnTo>
                    <a:lnTo>
                      <a:pt x="11269" y="1253"/>
                    </a:lnTo>
                    <a:lnTo>
                      <a:pt x="11213" y="1271"/>
                    </a:lnTo>
                    <a:lnTo>
                      <a:pt x="11213" y="1419"/>
                    </a:lnTo>
                    <a:lnTo>
                      <a:pt x="2908" y="1419"/>
                    </a:lnTo>
                    <a:lnTo>
                      <a:pt x="3455" y="995"/>
                    </a:lnTo>
                    <a:lnTo>
                      <a:pt x="3455" y="995"/>
                    </a:lnTo>
                    <a:lnTo>
                      <a:pt x="3455" y="995"/>
                    </a:lnTo>
                    <a:lnTo>
                      <a:pt x="3455" y="977"/>
                    </a:lnTo>
                    <a:lnTo>
                      <a:pt x="3455" y="977"/>
                    </a:lnTo>
                    <a:lnTo>
                      <a:pt x="3455" y="958"/>
                    </a:lnTo>
                    <a:lnTo>
                      <a:pt x="3455" y="940"/>
                    </a:lnTo>
                    <a:lnTo>
                      <a:pt x="3455" y="921"/>
                    </a:lnTo>
                    <a:lnTo>
                      <a:pt x="3455" y="921"/>
                    </a:lnTo>
                    <a:lnTo>
                      <a:pt x="2492" y="1419"/>
                    </a:lnTo>
                    <a:lnTo>
                      <a:pt x="566" y="1419"/>
                    </a:lnTo>
                    <a:lnTo>
                      <a:pt x="812" y="1143"/>
                    </a:lnTo>
                    <a:lnTo>
                      <a:pt x="812" y="1143"/>
                    </a:lnTo>
                    <a:lnTo>
                      <a:pt x="812" y="1125"/>
                    </a:lnTo>
                    <a:lnTo>
                      <a:pt x="812" y="1106"/>
                    </a:lnTo>
                    <a:lnTo>
                      <a:pt x="812" y="1106"/>
                    </a:lnTo>
                    <a:lnTo>
                      <a:pt x="812" y="1088"/>
                    </a:lnTo>
                    <a:lnTo>
                      <a:pt x="793" y="1088"/>
                    </a:lnTo>
                    <a:lnTo>
                      <a:pt x="793" y="1069"/>
                    </a:lnTo>
                    <a:lnTo>
                      <a:pt x="775" y="1069"/>
                    </a:lnTo>
                    <a:lnTo>
                      <a:pt x="585" y="1253"/>
                    </a:lnTo>
                    <a:lnTo>
                      <a:pt x="566" y="1253"/>
                    </a:lnTo>
                    <a:lnTo>
                      <a:pt x="566" y="1253"/>
                    </a:lnTo>
                    <a:lnTo>
                      <a:pt x="548" y="1253"/>
                    </a:lnTo>
                    <a:lnTo>
                      <a:pt x="548" y="1234"/>
                    </a:lnTo>
                    <a:lnTo>
                      <a:pt x="529" y="1234"/>
                    </a:lnTo>
                    <a:lnTo>
                      <a:pt x="529" y="1234"/>
                    </a:lnTo>
                    <a:lnTo>
                      <a:pt x="511" y="1234"/>
                    </a:lnTo>
                    <a:lnTo>
                      <a:pt x="511" y="1216"/>
                    </a:lnTo>
                    <a:lnTo>
                      <a:pt x="190" y="534"/>
                    </a:lnTo>
                    <a:lnTo>
                      <a:pt x="302" y="258"/>
                    </a:lnTo>
                    <a:lnTo>
                      <a:pt x="642" y="0"/>
                    </a:lnTo>
                    <a:lnTo>
                      <a:pt x="12609" y="0"/>
                    </a:lnTo>
                    <a:close/>
                    <a:moveTo>
                      <a:pt x="397" y="0"/>
                    </a:moveTo>
                    <a:lnTo>
                      <a:pt x="171" y="184"/>
                    </a:lnTo>
                    <a:lnTo>
                      <a:pt x="152" y="184"/>
                    </a:lnTo>
                    <a:lnTo>
                      <a:pt x="133" y="166"/>
                    </a:lnTo>
                    <a:lnTo>
                      <a:pt x="114" y="166"/>
                    </a:lnTo>
                    <a:lnTo>
                      <a:pt x="114" y="166"/>
                    </a:lnTo>
                    <a:lnTo>
                      <a:pt x="95" y="148"/>
                    </a:lnTo>
                    <a:lnTo>
                      <a:pt x="76" y="148"/>
                    </a:lnTo>
                    <a:lnTo>
                      <a:pt x="76" y="130"/>
                    </a:lnTo>
                    <a:lnTo>
                      <a:pt x="57" y="130"/>
                    </a:lnTo>
                    <a:lnTo>
                      <a:pt x="57" y="111"/>
                    </a:lnTo>
                    <a:lnTo>
                      <a:pt x="38" y="93"/>
                    </a:lnTo>
                    <a:lnTo>
                      <a:pt x="38" y="74"/>
                    </a:lnTo>
                    <a:lnTo>
                      <a:pt x="19" y="74"/>
                    </a:lnTo>
                    <a:lnTo>
                      <a:pt x="19" y="56"/>
                    </a:lnTo>
                    <a:lnTo>
                      <a:pt x="0" y="37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39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22" name="Freeform 187"/>
              <p:cNvSpPr/>
              <p:nvPr/>
            </p:nvSpPr>
            <p:spPr>
              <a:xfrm>
                <a:off x="2443320" y="5258520"/>
                <a:ext cx="2473200" cy="123840"/>
              </a:xfrm>
              <a:custGeom>
                <a:avLst/>
                <a:gdLst/>
                <a:ahLst/>
                <a:rect l="l" t="t" r="r" b="b"/>
                <a:pathLst>
                  <a:path w="12478" h="1419">
                    <a:moveTo>
                      <a:pt x="12478" y="0"/>
                    </a:moveTo>
                    <a:lnTo>
                      <a:pt x="12440" y="19"/>
                    </a:lnTo>
                    <a:lnTo>
                      <a:pt x="12402" y="37"/>
                    </a:lnTo>
                    <a:lnTo>
                      <a:pt x="12383" y="74"/>
                    </a:lnTo>
                    <a:lnTo>
                      <a:pt x="12345" y="92"/>
                    </a:lnTo>
                    <a:lnTo>
                      <a:pt x="12308" y="111"/>
                    </a:lnTo>
                    <a:lnTo>
                      <a:pt x="12270" y="128"/>
                    </a:lnTo>
                    <a:lnTo>
                      <a:pt x="12232" y="147"/>
                    </a:lnTo>
                    <a:lnTo>
                      <a:pt x="12195" y="165"/>
                    </a:lnTo>
                    <a:lnTo>
                      <a:pt x="12157" y="184"/>
                    </a:lnTo>
                    <a:lnTo>
                      <a:pt x="12119" y="202"/>
                    </a:lnTo>
                    <a:lnTo>
                      <a:pt x="12062" y="221"/>
                    </a:lnTo>
                    <a:lnTo>
                      <a:pt x="12025" y="239"/>
                    </a:lnTo>
                    <a:lnTo>
                      <a:pt x="11987" y="258"/>
                    </a:lnTo>
                    <a:lnTo>
                      <a:pt x="11949" y="276"/>
                    </a:lnTo>
                    <a:lnTo>
                      <a:pt x="11911" y="295"/>
                    </a:lnTo>
                    <a:lnTo>
                      <a:pt x="11873" y="313"/>
                    </a:lnTo>
                    <a:lnTo>
                      <a:pt x="11817" y="313"/>
                    </a:lnTo>
                    <a:lnTo>
                      <a:pt x="11780" y="332"/>
                    </a:lnTo>
                    <a:lnTo>
                      <a:pt x="11742" y="350"/>
                    </a:lnTo>
                    <a:lnTo>
                      <a:pt x="11704" y="369"/>
                    </a:lnTo>
                    <a:lnTo>
                      <a:pt x="11666" y="387"/>
                    </a:lnTo>
                    <a:lnTo>
                      <a:pt x="11609" y="387"/>
                    </a:lnTo>
                    <a:lnTo>
                      <a:pt x="11571" y="406"/>
                    </a:lnTo>
                    <a:lnTo>
                      <a:pt x="11533" y="424"/>
                    </a:lnTo>
                    <a:lnTo>
                      <a:pt x="11497" y="442"/>
                    </a:lnTo>
                    <a:lnTo>
                      <a:pt x="11440" y="461"/>
                    </a:lnTo>
                    <a:lnTo>
                      <a:pt x="11402" y="461"/>
                    </a:lnTo>
                    <a:lnTo>
                      <a:pt x="11364" y="478"/>
                    </a:lnTo>
                    <a:lnTo>
                      <a:pt x="11326" y="497"/>
                    </a:lnTo>
                    <a:lnTo>
                      <a:pt x="11288" y="515"/>
                    </a:lnTo>
                    <a:lnTo>
                      <a:pt x="11250" y="534"/>
                    </a:lnTo>
                    <a:lnTo>
                      <a:pt x="11194" y="552"/>
                    </a:lnTo>
                    <a:lnTo>
                      <a:pt x="11194" y="1363"/>
                    </a:lnTo>
                    <a:lnTo>
                      <a:pt x="11194" y="1363"/>
                    </a:lnTo>
                    <a:lnTo>
                      <a:pt x="11175" y="1382"/>
                    </a:lnTo>
                    <a:lnTo>
                      <a:pt x="11175" y="1382"/>
                    </a:lnTo>
                    <a:lnTo>
                      <a:pt x="11156" y="1382"/>
                    </a:lnTo>
                    <a:lnTo>
                      <a:pt x="11156" y="1400"/>
                    </a:lnTo>
                    <a:lnTo>
                      <a:pt x="11138" y="1400"/>
                    </a:lnTo>
                    <a:lnTo>
                      <a:pt x="11138" y="1400"/>
                    </a:lnTo>
                    <a:lnTo>
                      <a:pt x="11119" y="1419"/>
                    </a:lnTo>
                    <a:lnTo>
                      <a:pt x="7286" y="1419"/>
                    </a:lnTo>
                    <a:lnTo>
                      <a:pt x="7834" y="1050"/>
                    </a:lnTo>
                    <a:lnTo>
                      <a:pt x="7815" y="1032"/>
                    </a:lnTo>
                    <a:lnTo>
                      <a:pt x="7815" y="1013"/>
                    </a:lnTo>
                    <a:lnTo>
                      <a:pt x="7815" y="995"/>
                    </a:lnTo>
                    <a:lnTo>
                      <a:pt x="7815" y="995"/>
                    </a:lnTo>
                    <a:lnTo>
                      <a:pt x="7815" y="1013"/>
                    </a:lnTo>
                    <a:lnTo>
                      <a:pt x="7815" y="1013"/>
                    </a:lnTo>
                    <a:lnTo>
                      <a:pt x="7815" y="1032"/>
                    </a:lnTo>
                    <a:lnTo>
                      <a:pt x="7815" y="1050"/>
                    </a:lnTo>
                    <a:lnTo>
                      <a:pt x="7834" y="1050"/>
                    </a:lnTo>
                    <a:lnTo>
                      <a:pt x="7834" y="1069"/>
                    </a:lnTo>
                    <a:lnTo>
                      <a:pt x="7834" y="1069"/>
                    </a:lnTo>
                    <a:lnTo>
                      <a:pt x="7834" y="1069"/>
                    </a:lnTo>
                    <a:lnTo>
                      <a:pt x="7815" y="1069"/>
                    </a:lnTo>
                    <a:lnTo>
                      <a:pt x="7815" y="1050"/>
                    </a:lnTo>
                    <a:lnTo>
                      <a:pt x="7796" y="1032"/>
                    </a:lnTo>
                    <a:lnTo>
                      <a:pt x="7777" y="995"/>
                    </a:lnTo>
                    <a:lnTo>
                      <a:pt x="7758" y="1013"/>
                    </a:lnTo>
                    <a:lnTo>
                      <a:pt x="7721" y="1032"/>
                    </a:lnTo>
                    <a:lnTo>
                      <a:pt x="7702" y="1050"/>
                    </a:lnTo>
                    <a:lnTo>
                      <a:pt x="7683" y="1069"/>
                    </a:lnTo>
                    <a:lnTo>
                      <a:pt x="7645" y="1087"/>
                    </a:lnTo>
                    <a:lnTo>
                      <a:pt x="7626" y="1106"/>
                    </a:lnTo>
                    <a:lnTo>
                      <a:pt x="7589" y="1106"/>
                    </a:lnTo>
                    <a:lnTo>
                      <a:pt x="7570" y="1124"/>
                    </a:lnTo>
                    <a:lnTo>
                      <a:pt x="7551" y="1143"/>
                    </a:lnTo>
                    <a:lnTo>
                      <a:pt x="7513" y="1143"/>
                    </a:lnTo>
                    <a:lnTo>
                      <a:pt x="7494" y="1161"/>
                    </a:lnTo>
                    <a:lnTo>
                      <a:pt x="7457" y="1161"/>
                    </a:lnTo>
                    <a:lnTo>
                      <a:pt x="7438" y="1179"/>
                    </a:lnTo>
                    <a:lnTo>
                      <a:pt x="7400" y="1179"/>
                    </a:lnTo>
                    <a:lnTo>
                      <a:pt x="7381" y="1197"/>
                    </a:lnTo>
                    <a:lnTo>
                      <a:pt x="7343" y="1197"/>
                    </a:lnTo>
                    <a:lnTo>
                      <a:pt x="7324" y="1215"/>
                    </a:lnTo>
                    <a:lnTo>
                      <a:pt x="7286" y="1215"/>
                    </a:lnTo>
                    <a:lnTo>
                      <a:pt x="7267" y="1234"/>
                    </a:lnTo>
                    <a:lnTo>
                      <a:pt x="7230" y="1252"/>
                    </a:lnTo>
                    <a:lnTo>
                      <a:pt x="7212" y="1252"/>
                    </a:lnTo>
                    <a:lnTo>
                      <a:pt x="7193" y="1271"/>
                    </a:lnTo>
                    <a:lnTo>
                      <a:pt x="7155" y="1271"/>
                    </a:lnTo>
                    <a:lnTo>
                      <a:pt x="7136" y="1289"/>
                    </a:lnTo>
                    <a:lnTo>
                      <a:pt x="7098" y="1308"/>
                    </a:lnTo>
                    <a:lnTo>
                      <a:pt x="7079" y="1308"/>
                    </a:lnTo>
                    <a:lnTo>
                      <a:pt x="7041" y="1326"/>
                    </a:lnTo>
                    <a:lnTo>
                      <a:pt x="7022" y="1345"/>
                    </a:lnTo>
                    <a:lnTo>
                      <a:pt x="7003" y="1363"/>
                    </a:lnTo>
                    <a:lnTo>
                      <a:pt x="6965" y="1382"/>
                    </a:lnTo>
                    <a:lnTo>
                      <a:pt x="6946" y="1400"/>
                    </a:lnTo>
                    <a:lnTo>
                      <a:pt x="6909" y="1419"/>
                    </a:lnTo>
                    <a:lnTo>
                      <a:pt x="1963" y="1419"/>
                    </a:lnTo>
                    <a:lnTo>
                      <a:pt x="3436" y="276"/>
                    </a:lnTo>
                    <a:lnTo>
                      <a:pt x="3436" y="276"/>
                    </a:lnTo>
                    <a:lnTo>
                      <a:pt x="3436" y="276"/>
                    </a:lnTo>
                    <a:lnTo>
                      <a:pt x="3436" y="258"/>
                    </a:lnTo>
                    <a:lnTo>
                      <a:pt x="3436" y="258"/>
                    </a:lnTo>
                    <a:lnTo>
                      <a:pt x="3436" y="239"/>
                    </a:lnTo>
                    <a:lnTo>
                      <a:pt x="3436" y="221"/>
                    </a:lnTo>
                    <a:lnTo>
                      <a:pt x="3436" y="202"/>
                    </a:lnTo>
                    <a:lnTo>
                      <a:pt x="3436" y="202"/>
                    </a:lnTo>
                    <a:lnTo>
                      <a:pt x="1737" y="1106"/>
                    </a:lnTo>
                    <a:lnTo>
                      <a:pt x="1302" y="1419"/>
                    </a:lnTo>
                    <a:lnTo>
                      <a:pt x="19" y="1419"/>
                    </a:lnTo>
                    <a:lnTo>
                      <a:pt x="0" y="1363"/>
                    </a:lnTo>
                    <a:lnTo>
                      <a:pt x="793" y="424"/>
                    </a:lnTo>
                    <a:lnTo>
                      <a:pt x="793" y="424"/>
                    </a:lnTo>
                    <a:lnTo>
                      <a:pt x="793" y="406"/>
                    </a:lnTo>
                    <a:lnTo>
                      <a:pt x="793" y="387"/>
                    </a:lnTo>
                    <a:lnTo>
                      <a:pt x="793" y="387"/>
                    </a:lnTo>
                    <a:lnTo>
                      <a:pt x="793" y="369"/>
                    </a:lnTo>
                    <a:lnTo>
                      <a:pt x="774" y="369"/>
                    </a:lnTo>
                    <a:lnTo>
                      <a:pt x="774" y="350"/>
                    </a:lnTo>
                    <a:lnTo>
                      <a:pt x="756" y="350"/>
                    </a:lnTo>
                    <a:lnTo>
                      <a:pt x="566" y="534"/>
                    </a:lnTo>
                    <a:lnTo>
                      <a:pt x="547" y="534"/>
                    </a:lnTo>
                    <a:lnTo>
                      <a:pt x="547" y="534"/>
                    </a:lnTo>
                    <a:lnTo>
                      <a:pt x="529" y="534"/>
                    </a:lnTo>
                    <a:lnTo>
                      <a:pt x="529" y="515"/>
                    </a:lnTo>
                    <a:lnTo>
                      <a:pt x="510" y="515"/>
                    </a:lnTo>
                    <a:lnTo>
                      <a:pt x="510" y="515"/>
                    </a:lnTo>
                    <a:lnTo>
                      <a:pt x="492" y="515"/>
                    </a:lnTo>
                    <a:lnTo>
                      <a:pt x="492" y="497"/>
                    </a:lnTo>
                    <a:lnTo>
                      <a:pt x="264" y="0"/>
                    </a:lnTo>
                    <a:lnTo>
                      <a:pt x="1247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23" name="Freeform 188"/>
              <p:cNvSpPr/>
              <p:nvPr/>
            </p:nvSpPr>
            <p:spPr>
              <a:xfrm>
                <a:off x="2443320" y="5319000"/>
                <a:ext cx="2346480" cy="123840"/>
              </a:xfrm>
              <a:custGeom>
                <a:avLst/>
                <a:gdLst/>
                <a:ahLst/>
                <a:rect l="l" t="t" r="r" b="b"/>
                <a:pathLst>
                  <a:path w="11836" h="1419">
                    <a:moveTo>
                      <a:pt x="11194" y="0"/>
                    </a:moveTo>
                    <a:lnTo>
                      <a:pt x="11194" y="663"/>
                    </a:lnTo>
                    <a:lnTo>
                      <a:pt x="11175" y="682"/>
                    </a:lnTo>
                    <a:lnTo>
                      <a:pt x="11138" y="719"/>
                    </a:lnTo>
                    <a:lnTo>
                      <a:pt x="11100" y="737"/>
                    </a:lnTo>
                    <a:lnTo>
                      <a:pt x="11062" y="756"/>
                    </a:lnTo>
                    <a:lnTo>
                      <a:pt x="11024" y="793"/>
                    </a:lnTo>
                    <a:lnTo>
                      <a:pt x="10968" y="810"/>
                    </a:lnTo>
                    <a:lnTo>
                      <a:pt x="10930" y="829"/>
                    </a:lnTo>
                    <a:lnTo>
                      <a:pt x="10892" y="847"/>
                    </a:lnTo>
                    <a:lnTo>
                      <a:pt x="10854" y="866"/>
                    </a:lnTo>
                    <a:lnTo>
                      <a:pt x="10816" y="884"/>
                    </a:lnTo>
                    <a:lnTo>
                      <a:pt x="10760" y="921"/>
                    </a:lnTo>
                    <a:lnTo>
                      <a:pt x="10722" y="939"/>
                    </a:lnTo>
                    <a:lnTo>
                      <a:pt x="10666" y="958"/>
                    </a:lnTo>
                    <a:lnTo>
                      <a:pt x="10628" y="976"/>
                    </a:lnTo>
                    <a:lnTo>
                      <a:pt x="10590" y="995"/>
                    </a:lnTo>
                    <a:lnTo>
                      <a:pt x="10533" y="1013"/>
                    </a:lnTo>
                    <a:lnTo>
                      <a:pt x="10495" y="1032"/>
                    </a:lnTo>
                    <a:lnTo>
                      <a:pt x="10440" y="1050"/>
                    </a:lnTo>
                    <a:lnTo>
                      <a:pt x="10402" y="1069"/>
                    </a:lnTo>
                    <a:lnTo>
                      <a:pt x="10345" y="1087"/>
                    </a:lnTo>
                    <a:lnTo>
                      <a:pt x="10307" y="1106"/>
                    </a:lnTo>
                    <a:lnTo>
                      <a:pt x="10269" y="1106"/>
                    </a:lnTo>
                    <a:lnTo>
                      <a:pt x="10212" y="1124"/>
                    </a:lnTo>
                    <a:lnTo>
                      <a:pt x="10174" y="1143"/>
                    </a:lnTo>
                    <a:lnTo>
                      <a:pt x="10118" y="1160"/>
                    </a:lnTo>
                    <a:lnTo>
                      <a:pt x="10081" y="1179"/>
                    </a:lnTo>
                    <a:lnTo>
                      <a:pt x="10043" y="1197"/>
                    </a:lnTo>
                    <a:lnTo>
                      <a:pt x="9986" y="1216"/>
                    </a:lnTo>
                    <a:lnTo>
                      <a:pt x="9948" y="1234"/>
                    </a:lnTo>
                    <a:lnTo>
                      <a:pt x="9910" y="1253"/>
                    </a:lnTo>
                    <a:lnTo>
                      <a:pt x="9854" y="1271"/>
                    </a:lnTo>
                    <a:lnTo>
                      <a:pt x="9816" y="1289"/>
                    </a:lnTo>
                    <a:lnTo>
                      <a:pt x="9797" y="1308"/>
                    </a:lnTo>
                    <a:lnTo>
                      <a:pt x="9778" y="1308"/>
                    </a:lnTo>
                    <a:lnTo>
                      <a:pt x="9759" y="1308"/>
                    </a:lnTo>
                    <a:lnTo>
                      <a:pt x="9759" y="1326"/>
                    </a:lnTo>
                    <a:lnTo>
                      <a:pt x="9740" y="1326"/>
                    </a:lnTo>
                    <a:lnTo>
                      <a:pt x="9740" y="1326"/>
                    </a:lnTo>
                    <a:lnTo>
                      <a:pt x="9722" y="1345"/>
                    </a:lnTo>
                    <a:lnTo>
                      <a:pt x="9722" y="1345"/>
                    </a:lnTo>
                    <a:lnTo>
                      <a:pt x="9722" y="1345"/>
                    </a:lnTo>
                    <a:lnTo>
                      <a:pt x="9722" y="1345"/>
                    </a:lnTo>
                    <a:lnTo>
                      <a:pt x="9722" y="1363"/>
                    </a:lnTo>
                    <a:lnTo>
                      <a:pt x="9722" y="1363"/>
                    </a:lnTo>
                    <a:lnTo>
                      <a:pt x="9722" y="1382"/>
                    </a:lnTo>
                    <a:lnTo>
                      <a:pt x="9722" y="1382"/>
                    </a:lnTo>
                    <a:lnTo>
                      <a:pt x="9722" y="1400"/>
                    </a:lnTo>
                    <a:lnTo>
                      <a:pt x="9722" y="1400"/>
                    </a:lnTo>
                    <a:lnTo>
                      <a:pt x="11817" y="1013"/>
                    </a:lnTo>
                    <a:lnTo>
                      <a:pt x="11836" y="1419"/>
                    </a:lnTo>
                    <a:lnTo>
                      <a:pt x="6267" y="1419"/>
                    </a:lnTo>
                    <a:lnTo>
                      <a:pt x="7834" y="350"/>
                    </a:lnTo>
                    <a:lnTo>
                      <a:pt x="7815" y="332"/>
                    </a:lnTo>
                    <a:lnTo>
                      <a:pt x="7815" y="313"/>
                    </a:lnTo>
                    <a:lnTo>
                      <a:pt x="7815" y="295"/>
                    </a:lnTo>
                    <a:lnTo>
                      <a:pt x="7815" y="295"/>
                    </a:lnTo>
                    <a:lnTo>
                      <a:pt x="7815" y="313"/>
                    </a:lnTo>
                    <a:lnTo>
                      <a:pt x="7815" y="313"/>
                    </a:lnTo>
                    <a:lnTo>
                      <a:pt x="7815" y="332"/>
                    </a:lnTo>
                    <a:lnTo>
                      <a:pt x="7815" y="350"/>
                    </a:lnTo>
                    <a:lnTo>
                      <a:pt x="7834" y="350"/>
                    </a:lnTo>
                    <a:lnTo>
                      <a:pt x="7834" y="369"/>
                    </a:lnTo>
                    <a:lnTo>
                      <a:pt x="7834" y="369"/>
                    </a:lnTo>
                    <a:lnTo>
                      <a:pt x="7834" y="369"/>
                    </a:lnTo>
                    <a:lnTo>
                      <a:pt x="7815" y="369"/>
                    </a:lnTo>
                    <a:lnTo>
                      <a:pt x="7815" y="350"/>
                    </a:lnTo>
                    <a:lnTo>
                      <a:pt x="7796" y="332"/>
                    </a:lnTo>
                    <a:lnTo>
                      <a:pt x="7777" y="295"/>
                    </a:lnTo>
                    <a:lnTo>
                      <a:pt x="7758" y="313"/>
                    </a:lnTo>
                    <a:lnTo>
                      <a:pt x="7721" y="332"/>
                    </a:lnTo>
                    <a:lnTo>
                      <a:pt x="7702" y="350"/>
                    </a:lnTo>
                    <a:lnTo>
                      <a:pt x="7664" y="369"/>
                    </a:lnTo>
                    <a:lnTo>
                      <a:pt x="7645" y="387"/>
                    </a:lnTo>
                    <a:lnTo>
                      <a:pt x="7608" y="406"/>
                    </a:lnTo>
                    <a:lnTo>
                      <a:pt x="7589" y="406"/>
                    </a:lnTo>
                    <a:lnTo>
                      <a:pt x="7551" y="424"/>
                    </a:lnTo>
                    <a:lnTo>
                      <a:pt x="7532" y="443"/>
                    </a:lnTo>
                    <a:lnTo>
                      <a:pt x="7494" y="443"/>
                    </a:lnTo>
                    <a:lnTo>
                      <a:pt x="7476" y="461"/>
                    </a:lnTo>
                    <a:lnTo>
                      <a:pt x="7438" y="479"/>
                    </a:lnTo>
                    <a:lnTo>
                      <a:pt x="7419" y="479"/>
                    </a:lnTo>
                    <a:lnTo>
                      <a:pt x="7381" y="497"/>
                    </a:lnTo>
                    <a:lnTo>
                      <a:pt x="7362" y="497"/>
                    </a:lnTo>
                    <a:lnTo>
                      <a:pt x="7324" y="515"/>
                    </a:lnTo>
                    <a:lnTo>
                      <a:pt x="7305" y="515"/>
                    </a:lnTo>
                    <a:lnTo>
                      <a:pt x="7267" y="534"/>
                    </a:lnTo>
                    <a:lnTo>
                      <a:pt x="7249" y="534"/>
                    </a:lnTo>
                    <a:lnTo>
                      <a:pt x="7212" y="552"/>
                    </a:lnTo>
                    <a:lnTo>
                      <a:pt x="7193" y="571"/>
                    </a:lnTo>
                    <a:lnTo>
                      <a:pt x="7155" y="571"/>
                    </a:lnTo>
                    <a:lnTo>
                      <a:pt x="7136" y="589"/>
                    </a:lnTo>
                    <a:lnTo>
                      <a:pt x="7098" y="608"/>
                    </a:lnTo>
                    <a:lnTo>
                      <a:pt x="7079" y="608"/>
                    </a:lnTo>
                    <a:lnTo>
                      <a:pt x="7041" y="626"/>
                    </a:lnTo>
                    <a:lnTo>
                      <a:pt x="7022" y="645"/>
                    </a:lnTo>
                    <a:lnTo>
                      <a:pt x="6984" y="663"/>
                    </a:lnTo>
                    <a:lnTo>
                      <a:pt x="6965" y="682"/>
                    </a:lnTo>
                    <a:lnTo>
                      <a:pt x="6946" y="700"/>
                    </a:lnTo>
                    <a:lnTo>
                      <a:pt x="6909" y="719"/>
                    </a:lnTo>
                    <a:lnTo>
                      <a:pt x="6891" y="737"/>
                    </a:lnTo>
                    <a:lnTo>
                      <a:pt x="6853" y="756"/>
                    </a:lnTo>
                    <a:lnTo>
                      <a:pt x="6834" y="774"/>
                    </a:lnTo>
                    <a:lnTo>
                      <a:pt x="6796" y="793"/>
                    </a:lnTo>
                    <a:lnTo>
                      <a:pt x="6777" y="793"/>
                    </a:lnTo>
                    <a:lnTo>
                      <a:pt x="6739" y="810"/>
                    </a:lnTo>
                    <a:lnTo>
                      <a:pt x="6720" y="829"/>
                    </a:lnTo>
                    <a:lnTo>
                      <a:pt x="6682" y="847"/>
                    </a:lnTo>
                    <a:lnTo>
                      <a:pt x="6664" y="847"/>
                    </a:lnTo>
                    <a:lnTo>
                      <a:pt x="6645" y="866"/>
                    </a:lnTo>
                    <a:lnTo>
                      <a:pt x="6607" y="866"/>
                    </a:lnTo>
                    <a:lnTo>
                      <a:pt x="6588" y="884"/>
                    </a:lnTo>
                    <a:lnTo>
                      <a:pt x="6551" y="902"/>
                    </a:lnTo>
                    <a:lnTo>
                      <a:pt x="6532" y="902"/>
                    </a:lnTo>
                    <a:lnTo>
                      <a:pt x="6494" y="921"/>
                    </a:lnTo>
                    <a:lnTo>
                      <a:pt x="6475" y="921"/>
                    </a:lnTo>
                    <a:lnTo>
                      <a:pt x="6437" y="939"/>
                    </a:lnTo>
                    <a:lnTo>
                      <a:pt x="6418" y="939"/>
                    </a:lnTo>
                    <a:lnTo>
                      <a:pt x="6381" y="958"/>
                    </a:lnTo>
                    <a:lnTo>
                      <a:pt x="6362" y="958"/>
                    </a:lnTo>
                    <a:lnTo>
                      <a:pt x="6324" y="976"/>
                    </a:lnTo>
                    <a:lnTo>
                      <a:pt x="6286" y="995"/>
                    </a:lnTo>
                    <a:lnTo>
                      <a:pt x="6267" y="995"/>
                    </a:lnTo>
                    <a:lnTo>
                      <a:pt x="6229" y="1013"/>
                    </a:lnTo>
                    <a:lnTo>
                      <a:pt x="6210" y="1013"/>
                    </a:lnTo>
                    <a:lnTo>
                      <a:pt x="6173" y="1032"/>
                    </a:lnTo>
                    <a:lnTo>
                      <a:pt x="6154" y="1050"/>
                    </a:lnTo>
                    <a:lnTo>
                      <a:pt x="6117" y="1050"/>
                    </a:lnTo>
                    <a:lnTo>
                      <a:pt x="6098" y="1069"/>
                    </a:lnTo>
                    <a:lnTo>
                      <a:pt x="6060" y="1087"/>
                    </a:lnTo>
                    <a:lnTo>
                      <a:pt x="6041" y="1106"/>
                    </a:lnTo>
                    <a:lnTo>
                      <a:pt x="6003" y="1106"/>
                    </a:lnTo>
                    <a:lnTo>
                      <a:pt x="5984" y="1124"/>
                    </a:lnTo>
                    <a:lnTo>
                      <a:pt x="5946" y="1143"/>
                    </a:lnTo>
                    <a:lnTo>
                      <a:pt x="5908" y="1160"/>
                    </a:lnTo>
                    <a:lnTo>
                      <a:pt x="5889" y="1179"/>
                    </a:lnTo>
                    <a:lnTo>
                      <a:pt x="5852" y="1197"/>
                    </a:lnTo>
                    <a:lnTo>
                      <a:pt x="5815" y="1216"/>
                    </a:lnTo>
                    <a:lnTo>
                      <a:pt x="5777" y="1234"/>
                    </a:lnTo>
                    <a:lnTo>
                      <a:pt x="5758" y="1253"/>
                    </a:lnTo>
                    <a:lnTo>
                      <a:pt x="5720" y="1271"/>
                    </a:lnTo>
                    <a:lnTo>
                      <a:pt x="5682" y="1289"/>
                    </a:lnTo>
                    <a:lnTo>
                      <a:pt x="5663" y="1308"/>
                    </a:lnTo>
                    <a:lnTo>
                      <a:pt x="5625" y="1326"/>
                    </a:lnTo>
                    <a:lnTo>
                      <a:pt x="5588" y="1345"/>
                    </a:lnTo>
                    <a:lnTo>
                      <a:pt x="5550" y="1363"/>
                    </a:lnTo>
                    <a:lnTo>
                      <a:pt x="5512" y="1382"/>
                    </a:lnTo>
                    <a:lnTo>
                      <a:pt x="5493" y="1400"/>
                    </a:lnTo>
                    <a:lnTo>
                      <a:pt x="5456" y="1419"/>
                    </a:lnTo>
                    <a:lnTo>
                      <a:pt x="1397" y="1419"/>
                    </a:lnTo>
                    <a:lnTo>
                      <a:pt x="1321" y="1197"/>
                    </a:lnTo>
                    <a:lnTo>
                      <a:pt x="2889" y="0"/>
                    </a:lnTo>
                    <a:lnTo>
                      <a:pt x="11194" y="0"/>
                    </a:lnTo>
                    <a:close/>
                    <a:moveTo>
                      <a:pt x="2473" y="0"/>
                    </a:moveTo>
                    <a:lnTo>
                      <a:pt x="1737" y="406"/>
                    </a:lnTo>
                    <a:lnTo>
                      <a:pt x="416" y="1382"/>
                    </a:lnTo>
                    <a:lnTo>
                      <a:pt x="245" y="1289"/>
                    </a:lnTo>
                    <a:lnTo>
                      <a:pt x="0" y="663"/>
                    </a:lnTo>
                    <a:lnTo>
                      <a:pt x="547" y="0"/>
                    </a:lnTo>
                    <a:lnTo>
                      <a:pt x="247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24" name="Freeform 189"/>
              <p:cNvSpPr/>
              <p:nvPr/>
            </p:nvSpPr>
            <p:spPr>
              <a:xfrm>
                <a:off x="2446920" y="5382720"/>
                <a:ext cx="2410200" cy="122040"/>
              </a:xfrm>
              <a:custGeom>
                <a:avLst/>
                <a:gdLst/>
                <a:ahLst/>
                <a:rect l="l" t="t" r="r" b="b"/>
                <a:pathLst>
                  <a:path w="12157" h="1418">
                    <a:moveTo>
                      <a:pt x="11100" y="0"/>
                    </a:moveTo>
                    <a:lnTo>
                      <a:pt x="11062" y="18"/>
                    </a:lnTo>
                    <a:lnTo>
                      <a:pt x="11043" y="37"/>
                    </a:lnTo>
                    <a:lnTo>
                      <a:pt x="11005" y="74"/>
                    </a:lnTo>
                    <a:lnTo>
                      <a:pt x="10967" y="91"/>
                    </a:lnTo>
                    <a:lnTo>
                      <a:pt x="10930" y="110"/>
                    </a:lnTo>
                    <a:lnTo>
                      <a:pt x="10892" y="128"/>
                    </a:lnTo>
                    <a:lnTo>
                      <a:pt x="10835" y="147"/>
                    </a:lnTo>
                    <a:lnTo>
                      <a:pt x="10797" y="165"/>
                    </a:lnTo>
                    <a:lnTo>
                      <a:pt x="10760" y="183"/>
                    </a:lnTo>
                    <a:lnTo>
                      <a:pt x="10722" y="202"/>
                    </a:lnTo>
                    <a:lnTo>
                      <a:pt x="10685" y="220"/>
                    </a:lnTo>
                    <a:lnTo>
                      <a:pt x="10647" y="239"/>
                    </a:lnTo>
                    <a:lnTo>
                      <a:pt x="10590" y="257"/>
                    </a:lnTo>
                    <a:lnTo>
                      <a:pt x="10552" y="276"/>
                    </a:lnTo>
                    <a:lnTo>
                      <a:pt x="10514" y="294"/>
                    </a:lnTo>
                    <a:lnTo>
                      <a:pt x="10476" y="313"/>
                    </a:lnTo>
                    <a:lnTo>
                      <a:pt x="10421" y="331"/>
                    </a:lnTo>
                    <a:lnTo>
                      <a:pt x="10383" y="350"/>
                    </a:lnTo>
                    <a:lnTo>
                      <a:pt x="10345" y="350"/>
                    </a:lnTo>
                    <a:lnTo>
                      <a:pt x="10307" y="368"/>
                    </a:lnTo>
                    <a:lnTo>
                      <a:pt x="10250" y="387"/>
                    </a:lnTo>
                    <a:lnTo>
                      <a:pt x="10212" y="405"/>
                    </a:lnTo>
                    <a:lnTo>
                      <a:pt x="10174" y="424"/>
                    </a:lnTo>
                    <a:lnTo>
                      <a:pt x="10118" y="441"/>
                    </a:lnTo>
                    <a:lnTo>
                      <a:pt x="10080" y="460"/>
                    </a:lnTo>
                    <a:lnTo>
                      <a:pt x="10043" y="478"/>
                    </a:lnTo>
                    <a:lnTo>
                      <a:pt x="10005" y="497"/>
                    </a:lnTo>
                    <a:lnTo>
                      <a:pt x="9967" y="515"/>
                    </a:lnTo>
                    <a:lnTo>
                      <a:pt x="9910" y="515"/>
                    </a:lnTo>
                    <a:lnTo>
                      <a:pt x="9873" y="534"/>
                    </a:lnTo>
                    <a:lnTo>
                      <a:pt x="9835" y="552"/>
                    </a:lnTo>
                    <a:lnTo>
                      <a:pt x="9797" y="570"/>
                    </a:lnTo>
                    <a:lnTo>
                      <a:pt x="9778" y="589"/>
                    </a:lnTo>
                    <a:lnTo>
                      <a:pt x="9759" y="589"/>
                    </a:lnTo>
                    <a:lnTo>
                      <a:pt x="9740" y="589"/>
                    </a:lnTo>
                    <a:lnTo>
                      <a:pt x="9740" y="607"/>
                    </a:lnTo>
                    <a:lnTo>
                      <a:pt x="9721" y="607"/>
                    </a:lnTo>
                    <a:lnTo>
                      <a:pt x="9721" y="607"/>
                    </a:lnTo>
                    <a:lnTo>
                      <a:pt x="9703" y="626"/>
                    </a:lnTo>
                    <a:lnTo>
                      <a:pt x="9703" y="626"/>
                    </a:lnTo>
                    <a:lnTo>
                      <a:pt x="9703" y="626"/>
                    </a:lnTo>
                    <a:lnTo>
                      <a:pt x="9703" y="626"/>
                    </a:lnTo>
                    <a:lnTo>
                      <a:pt x="9703" y="644"/>
                    </a:lnTo>
                    <a:lnTo>
                      <a:pt x="9703" y="644"/>
                    </a:lnTo>
                    <a:lnTo>
                      <a:pt x="9703" y="663"/>
                    </a:lnTo>
                    <a:lnTo>
                      <a:pt x="9703" y="663"/>
                    </a:lnTo>
                    <a:lnTo>
                      <a:pt x="9703" y="681"/>
                    </a:lnTo>
                    <a:lnTo>
                      <a:pt x="9703" y="681"/>
                    </a:lnTo>
                    <a:lnTo>
                      <a:pt x="11798" y="294"/>
                    </a:lnTo>
                    <a:lnTo>
                      <a:pt x="11836" y="1068"/>
                    </a:lnTo>
                    <a:lnTo>
                      <a:pt x="11854" y="1087"/>
                    </a:lnTo>
                    <a:lnTo>
                      <a:pt x="11854" y="1124"/>
                    </a:lnTo>
                    <a:lnTo>
                      <a:pt x="11873" y="1141"/>
                    </a:lnTo>
                    <a:lnTo>
                      <a:pt x="11892" y="1141"/>
                    </a:lnTo>
                    <a:lnTo>
                      <a:pt x="11892" y="1160"/>
                    </a:lnTo>
                    <a:lnTo>
                      <a:pt x="11911" y="1160"/>
                    </a:lnTo>
                    <a:lnTo>
                      <a:pt x="11930" y="1141"/>
                    </a:lnTo>
                    <a:lnTo>
                      <a:pt x="11949" y="1141"/>
                    </a:lnTo>
                    <a:lnTo>
                      <a:pt x="11987" y="1141"/>
                    </a:lnTo>
                    <a:lnTo>
                      <a:pt x="12006" y="1124"/>
                    </a:lnTo>
                    <a:lnTo>
                      <a:pt x="12025" y="1124"/>
                    </a:lnTo>
                    <a:lnTo>
                      <a:pt x="12043" y="1105"/>
                    </a:lnTo>
                    <a:lnTo>
                      <a:pt x="12062" y="1105"/>
                    </a:lnTo>
                    <a:lnTo>
                      <a:pt x="12081" y="1105"/>
                    </a:lnTo>
                    <a:lnTo>
                      <a:pt x="12100" y="1105"/>
                    </a:lnTo>
                    <a:lnTo>
                      <a:pt x="12119" y="1124"/>
                    </a:lnTo>
                    <a:lnTo>
                      <a:pt x="12157" y="1418"/>
                    </a:lnTo>
                    <a:lnTo>
                      <a:pt x="5191" y="1418"/>
                    </a:lnTo>
                    <a:lnTo>
                      <a:pt x="6173" y="755"/>
                    </a:lnTo>
                    <a:lnTo>
                      <a:pt x="7267" y="0"/>
                    </a:lnTo>
                    <a:lnTo>
                      <a:pt x="11100" y="0"/>
                    </a:lnTo>
                    <a:close/>
                    <a:moveTo>
                      <a:pt x="6890" y="0"/>
                    </a:moveTo>
                    <a:lnTo>
                      <a:pt x="6890" y="0"/>
                    </a:lnTo>
                    <a:lnTo>
                      <a:pt x="6890" y="0"/>
                    </a:lnTo>
                    <a:lnTo>
                      <a:pt x="6890" y="0"/>
                    </a:lnTo>
                    <a:lnTo>
                      <a:pt x="6890" y="18"/>
                    </a:lnTo>
                    <a:lnTo>
                      <a:pt x="6872" y="18"/>
                    </a:lnTo>
                    <a:lnTo>
                      <a:pt x="6872" y="18"/>
                    </a:lnTo>
                    <a:lnTo>
                      <a:pt x="6872" y="18"/>
                    </a:lnTo>
                    <a:lnTo>
                      <a:pt x="6872" y="18"/>
                    </a:lnTo>
                    <a:lnTo>
                      <a:pt x="6834" y="37"/>
                    </a:lnTo>
                    <a:lnTo>
                      <a:pt x="6815" y="55"/>
                    </a:lnTo>
                    <a:lnTo>
                      <a:pt x="6777" y="74"/>
                    </a:lnTo>
                    <a:lnTo>
                      <a:pt x="6758" y="74"/>
                    </a:lnTo>
                    <a:lnTo>
                      <a:pt x="6720" y="91"/>
                    </a:lnTo>
                    <a:lnTo>
                      <a:pt x="6701" y="110"/>
                    </a:lnTo>
                    <a:lnTo>
                      <a:pt x="6663" y="128"/>
                    </a:lnTo>
                    <a:lnTo>
                      <a:pt x="6645" y="128"/>
                    </a:lnTo>
                    <a:lnTo>
                      <a:pt x="6626" y="147"/>
                    </a:lnTo>
                    <a:lnTo>
                      <a:pt x="6588" y="147"/>
                    </a:lnTo>
                    <a:lnTo>
                      <a:pt x="6569" y="165"/>
                    </a:lnTo>
                    <a:lnTo>
                      <a:pt x="6532" y="183"/>
                    </a:lnTo>
                    <a:lnTo>
                      <a:pt x="6513" y="183"/>
                    </a:lnTo>
                    <a:lnTo>
                      <a:pt x="6475" y="202"/>
                    </a:lnTo>
                    <a:lnTo>
                      <a:pt x="6456" y="202"/>
                    </a:lnTo>
                    <a:lnTo>
                      <a:pt x="6418" y="220"/>
                    </a:lnTo>
                    <a:lnTo>
                      <a:pt x="6399" y="220"/>
                    </a:lnTo>
                    <a:lnTo>
                      <a:pt x="6362" y="239"/>
                    </a:lnTo>
                    <a:lnTo>
                      <a:pt x="6343" y="239"/>
                    </a:lnTo>
                    <a:lnTo>
                      <a:pt x="6305" y="257"/>
                    </a:lnTo>
                    <a:lnTo>
                      <a:pt x="6267" y="276"/>
                    </a:lnTo>
                    <a:lnTo>
                      <a:pt x="6248" y="276"/>
                    </a:lnTo>
                    <a:lnTo>
                      <a:pt x="6210" y="294"/>
                    </a:lnTo>
                    <a:lnTo>
                      <a:pt x="6191" y="294"/>
                    </a:lnTo>
                    <a:lnTo>
                      <a:pt x="6154" y="313"/>
                    </a:lnTo>
                    <a:lnTo>
                      <a:pt x="6135" y="331"/>
                    </a:lnTo>
                    <a:lnTo>
                      <a:pt x="6098" y="331"/>
                    </a:lnTo>
                    <a:lnTo>
                      <a:pt x="6079" y="350"/>
                    </a:lnTo>
                    <a:lnTo>
                      <a:pt x="6041" y="368"/>
                    </a:lnTo>
                    <a:lnTo>
                      <a:pt x="6022" y="387"/>
                    </a:lnTo>
                    <a:lnTo>
                      <a:pt x="5984" y="387"/>
                    </a:lnTo>
                    <a:lnTo>
                      <a:pt x="5965" y="405"/>
                    </a:lnTo>
                    <a:lnTo>
                      <a:pt x="5908" y="441"/>
                    </a:lnTo>
                    <a:lnTo>
                      <a:pt x="5851" y="478"/>
                    </a:lnTo>
                    <a:lnTo>
                      <a:pt x="5796" y="497"/>
                    </a:lnTo>
                    <a:lnTo>
                      <a:pt x="5739" y="534"/>
                    </a:lnTo>
                    <a:lnTo>
                      <a:pt x="5682" y="570"/>
                    </a:lnTo>
                    <a:lnTo>
                      <a:pt x="5644" y="589"/>
                    </a:lnTo>
                    <a:lnTo>
                      <a:pt x="5587" y="626"/>
                    </a:lnTo>
                    <a:lnTo>
                      <a:pt x="5531" y="663"/>
                    </a:lnTo>
                    <a:lnTo>
                      <a:pt x="5474" y="681"/>
                    </a:lnTo>
                    <a:lnTo>
                      <a:pt x="5418" y="718"/>
                    </a:lnTo>
                    <a:lnTo>
                      <a:pt x="5361" y="755"/>
                    </a:lnTo>
                    <a:lnTo>
                      <a:pt x="5305" y="774"/>
                    </a:lnTo>
                    <a:lnTo>
                      <a:pt x="5248" y="810"/>
                    </a:lnTo>
                    <a:lnTo>
                      <a:pt x="5191" y="847"/>
                    </a:lnTo>
                    <a:lnTo>
                      <a:pt x="5134" y="865"/>
                    </a:lnTo>
                    <a:lnTo>
                      <a:pt x="5078" y="902"/>
                    </a:lnTo>
                    <a:lnTo>
                      <a:pt x="5022" y="939"/>
                    </a:lnTo>
                    <a:lnTo>
                      <a:pt x="4965" y="976"/>
                    </a:lnTo>
                    <a:lnTo>
                      <a:pt x="4927" y="994"/>
                    </a:lnTo>
                    <a:lnTo>
                      <a:pt x="4870" y="1031"/>
                    </a:lnTo>
                    <a:lnTo>
                      <a:pt x="4813" y="1068"/>
                    </a:lnTo>
                    <a:lnTo>
                      <a:pt x="4758" y="1087"/>
                    </a:lnTo>
                    <a:lnTo>
                      <a:pt x="4701" y="1124"/>
                    </a:lnTo>
                    <a:lnTo>
                      <a:pt x="4644" y="1160"/>
                    </a:lnTo>
                    <a:lnTo>
                      <a:pt x="4587" y="1197"/>
                    </a:lnTo>
                    <a:lnTo>
                      <a:pt x="4530" y="1215"/>
                    </a:lnTo>
                    <a:lnTo>
                      <a:pt x="4493" y="1252"/>
                    </a:lnTo>
                    <a:lnTo>
                      <a:pt x="4436" y="1289"/>
                    </a:lnTo>
                    <a:lnTo>
                      <a:pt x="4380" y="1326"/>
                    </a:lnTo>
                    <a:lnTo>
                      <a:pt x="4323" y="1345"/>
                    </a:lnTo>
                    <a:lnTo>
                      <a:pt x="4266" y="1381"/>
                    </a:lnTo>
                    <a:lnTo>
                      <a:pt x="4229" y="1418"/>
                    </a:lnTo>
                    <a:lnTo>
                      <a:pt x="3115" y="1418"/>
                    </a:lnTo>
                    <a:lnTo>
                      <a:pt x="3096" y="1363"/>
                    </a:lnTo>
                    <a:lnTo>
                      <a:pt x="3020" y="1418"/>
                    </a:lnTo>
                    <a:lnTo>
                      <a:pt x="1416" y="1418"/>
                    </a:lnTo>
                    <a:lnTo>
                      <a:pt x="1435" y="1400"/>
                    </a:lnTo>
                    <a:lnTo>
                      <a:pt x="1454" y="1400"/>
                    </a:lnTo>
                    <a:lnTo>
                      <a:pt x="1473" y="1381"/>
                    </a:lnTo>
                    <a:lnTo>
                      <a:pt x="1492" y="1363"/>
                    </a:lnTo>
                    <a:lnTo>
                      <a:pt x="1492" y="1363"/>
                    </a:lnTo>
                    <a:lnTo>
                      <a:pt x="1511" y="1345"/>
                    </a:lnTo>
                    <a:lnTo>
                      <a:pt x="1530" y="1326"/>
                    </a:lnTo>
                    <a:lnTo>
                      <a:pt x="1549" y="1308"/>
                    </a:lnTo>
                    <a:lnTo>
                      <a:pt x="1302" y="478"/>
                    </a:lnTo>
                    <a:lnTo>
                      <a:pt x="1944" y="0"/>
                    </a:lnTo>
                    <a:lnTo>
                      <a:pt x="6890" y="0"/>
                    </a:lnTo>
                    <a:close/>
                    <a:moveTo>
                      <a:pt x="1283" y="0"/>
                    </a:moveTo>
                    <a:lnTo>
                      <a:pt x="397" y="663"/>
                    </a:lnTo>
                    <a:lnTo>
                      <a:pt x="226" y="570"/>
                    </a:lnTo>
                    <a:lnTo>
                      <a:pt x="0" y="0"/>
                    </a:lnTo>
                    <a:lnTo>
                      <a:pt x="128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25" name="Freeform 190"/>
              <p:cNvSpPr/>
              <p:nvPr/>
            </p:nvSpPr>
            <p:spPr>
              <a:xfrm>
                <a:off x="2688840" y="5442840"/>
                <a:ext cx="2172960" cy="121680"/>
              </a:xfrm>
              <a:custGeom>
                <a:avLst/>
                <a:gdLst/>
                <a:ahLst/>
                <a:rect l="l" t="t" r="r" b="b"/>
                <a:pathLst>
                  <a:path w="10967" h="1419">
                    <a:moveTo>
                      <a:pt x="10608" y="0"/>
                    </a:moveTo>
                    <a:lnTo>
                      <a:pt x="10627" y="368"/>
                    </a:lnTo>
                    <a:lnTo>
                      <a:pt x="10645" y="387"/>
                    </a:lnTo>
                    <a:lnTo>
                      <a:pt x="10645" y="424"/>
                    </a:lnTo>
                    <a:lnTo>
                      <a:pt x="10664" y="441"/>
                    </a:lnTo>
                    <a:lnTo>
                      <a:pt x="10683" y="441"/>
                    </a:lnTo>
                    <a:lnTo>
                      <a:pt x="10683" y="460"/>
                    </a:lnTo>
                    <a:lnTo>
                      <a:pt x="10702" y="460"/>
                    </a:lnTo>
                    <a:lnTo>
                      <a:pt x="10721" y="441"/>
                    </a:lnTo>
                    <a:lnTo>
                      <a:pt x="10740" y="441"/>
                    </a:lnTo>
                    <a:lnTo>
                      <a:pt x="10778" y="441"/>
                    </a:lnTo>
                    <a:lnTo>
                      <a:pt x="10797" y="424"/>
                    </a:lnTo>
                    <a:lnTo>
                      <a:pt x="10816" y="424"/>
                    </a:lnTo>
                    <a:lnTo>
                      <a:pt x="10834" y="405"/>
                    </a:lnTo>
                    <a:lnTo>
                      <a:pt x="10853" y="405"/>
                    </a:lnTo>
                    <a:lnTo>
                      <a:pt x="10872" y="405"/>
                    </a:lnTo>
                    <a:lnTo>
                      <a:pt x="10891" y="405"/>
                    </a:lnTo>
                    <a:lnTo>
                      <a:pt x="10910" y="424"/>
                    </a:lnTo>
                    <a:lnTo>
                      <a:pt x="10967" y="1123"/>
                    </a:lnTo>
                    <a:lnTo>
                      <a:pt x="10608" y="1419"/>
                    </a:lnTo>
                    <a:lnTo>
                      <a:pt x="3359" y="1419"/>
                    </a:lnTo>
                    <a:lnTo>
                      <a:pt x="3359" y="1419"/>
                    </a:lnTo>
                    <a:lnTo>
                      <a:pt x="3359" y="1419"/>
                    </a:lnTo>
                    <a:lnTo>
                      <a:pt x="3359" y="1419"/>
                    </a:lnTo>
                    <a:lnTo>
                      <a:pt x="3359" y="1400"/>
                    </a:lnTo>
                    <a:lnTo>
                      <a:pt x="3359" y="1400"/>
                    </a:lnTo>
                    <a:lnTo>
                      <a:pt x="3359" y="1400"/>
                    </a:lnTo>
                    <a:lnTo>
                      <a:pt x="3359" y="1382"/>
                    </a:lnTo>
                    <a:lnTo>
                      <a:pt x="3359" y="1382"/>
                    </a:lnTo>
                    <a:lnTo>
                      <a:pt x="3246" y="1215"/>
                    </a:lnTo>
                    <a:lnTo>
                      <a:pt x="4964" y="55"/>
                    </a:lnTo>
                    <a:lnTo>
                      <a:pt x="5039" y="0"/>
                    </a:lnTo>
                    <a:lnTo>
                      <a:pt x="10608" y="0"/>
                    </a:lnTo>
                    <a:close/>
                    <a:moveTo>
                      <a:pt x="4228" y="0"/>
                    </a:moveTo>
                    <a:lnTo>
                      <a:pt x="4171" y="37"/>
                    </a:lnTo>
                    <a:lnTo>
                      <a:pt x="4133" y="55"/>
                    </a:lnTo>
                    <a:lnTo>
                      <a:pt x="4077" y="91"/>
                    </a:lnTo>
                    <a:lnTo>
                      <a:pt x="4039" y="110"/>
                    </a:lnTo>
                    <a:lnTo>
                      <a:pt x="3982" y="147"/>
                    </a:lnTo>
                    <a:lnTo>
                      <a:pt x="3944" y="165"/>
                    </a:lnTo>
                    <a:lnTo>
                      <a:pt x="3888" y="202"/>
                    </a:lnTo>
                    <a:lnTo>
                      <a:pt x="3850" y="221"/>
                    </a:lnTo>
                    <a:lnTo>
                      <a:pt x="3794" y="239"/>
                    </a:lnTo>
                    <a:lnTo>
                      <a:pt x="3756" y="276"/>
                    </a:lnTo>
                    <a:lnTo>
                      <a:pt x="3699" y="294"/>
                    </a:lnTo>
                    <a:lnTo>
                      <a:pt x="3661" y="331"/>
                    </a:lnTo>
                    <a:lnTo>
                      <a:pt x="3604" y="350"/>
                    </a:lnTo>
                    <a:lnTo>
                      <a:pt x="3566" y="387"/>
                    </a:lnTo>
                    <a:lnTo>
                      <a:pt x="3511" y="405"/>
                    </a:lnTo>
                    <a:lnTo>
                      <a:pt x="3473" y="441"/>
                    </a:lnTo>
                    <a:lnTo>
                      <a:pt x="3416" y="460"/>
                    </a:lnTo>
                    <a:lnTo>
                      <a:pt x="3378" y="497"/>
                    </a:lnTo>
                    <a:lnTo>
                      <a:pt x="3321" y="515"/>
                    </a:lnTo>
                    <a:lnTo>
                      <a:pt x="3284" y="552"/>
                    </a:lnTo>
                    <a:lnTo>
                      <a:pt x="3246" y="571"/>
                    </a:lnTo>
                    <a:lnTo>
                      <a:pt x="3190" y="608"/>
                    </a:lnTo>
                    <a:lnTo>
                      <a:pt x="3152" y="626"/>
                    </a:lnTo>
                    <a:lnTo>
                      <a:pt x="3095" y="663"/>
                    </a:lnTo>
                    <a:lnTo>
                      <a:pt x="3057" y="681"/>
                    </a:lnTo>
                    <a:lnTo>
                      <a:pt x="3020" y="718"/>
                    </a:lnTo>
                    <a:lnTo>
                      <a:pt x="2963" y="755"/>
                    </a:lnTo>
                    <a:lnTo>
                      <a:pt x="2925" y="773"/>
                    </a:lnTo>
                    <a:lnTo>
                      <a:pt x="2887" y="810"/>
                    </a:lnTo>
                    <a:lnTo>
                      <a:pt x="2831" y="828"/>
                    </a:lnTo>
                    <a:lnTo>
                      <a:pt x="2793" y="865"/>
                    </a:lnTo>
                    <a:lnTo>
                      <a:pt x="2756" y="884"/>
                    </a:lnTo>
                    <a:lnTo>
                      <a:pt x="2737" y="902"/>
                    </a:lnTo>
                    <a:lnTo>
                      <a:pt x="2718" y="921"/>
                    </a:lnTo>
                    <a:lnTo>
                      <a:pt x="2718" y="921"/>
                    </a:lnTo>
                    <a:lnTo>
                      <a:pt x="2699" y="939"/>
                    </a:lnTo>
                    <a:lnTo>
                      <a:pt x="2699" y="939"/>
                    </a:lnTo>
                    <a:lnTo>
                      <a:pt x="2680" y="958"/>
                    </a:lnTo>
                    <a:lnTo>
                      <a:pt x="2680" y="958"/>
                    </a:lnTo>
                    <a:lnTo>
                      <a:pt x="2661" y="976"/>
                    </a:lnTo>
                    <a:lnTo>
                      <a:pt x="2661" y="976"/>
                    </a:lnTo>
                    <a:lnTo>
                      <a:pt x="2642" y="995"/>
                    </a:lnTo>
                    <a:lnTo>
                      <a:pt x="2642" y="995"/>
                    </a:lnTo>
                    <a:lnTo>
                      <a:pt x="2623" y="995"/>
                    </a:lnTo>
                    <a:lnTo>
                      <a:pt x="2623" y="1013"/>
                    </a:lnTo>
                    <a:lnTo>
                      <a:pt x="2604" y="1013"/>
                    </a:lnTo>
                    <a:lnTo>
                      <a:pt x="2585" y="1032"/>
                    </a:lnTo>
                    <a:lnTo>
                      <a:pt x="2585" y="1032"/>
                    </a:lnTo>
                    <a:lnTo>
                      <a:pt x="2566" y="1032"/>
                    </a:lnTo>
                    <a:lnTo>
                      <a:pt x="2566" y="1032"/>
                    </a:lnTo>
                    <a:lnTo>
                      <a:pt x="2547" y="1032"/>
                    </a:lnTo>
                    <a:lnTo>
                      <a:pt x="2528" y="1032"/>
                    </a:lnTo>
                    <a:lnTo>
                      <a:pt x="2509" y="1032"/>
                    </a:lnTo>
                    <a:lnTo>
                      <a:pt x="2509" y="1013"/>
                    </a:lnTo>
                    <a:lnTo>
                      <a:pt x="2492" y="1013"/>
                    </a:lnTo>
                    <a:lnTo>
                      <a:pt x="2473" y="1013"/>
                    </a:lnTo>
                    <a:lnTo>
                      <a:pt x="2095" y="1234"/>
                    </a:lnTo>
                    <a:lnTo>
                      <a:pt x="1887" y="663"/>
                    </a:lnTo>
                    <a:lnTo>
                      <a:pt x="641" y="1419"/>
                    </a:lnTo>
                    <a:lnTo>
                      <a:pt x="150" y="1419"/>
                    </a:lnTo>
                    <a:lnTo>
                      <a:pt x="150" y="1400"/>
                    </a:lnTo>
                    <a:lnTo>
                      <a:pt x="131" y="1382"/>
                    </a:lnTo>
                    <a:lnTo>
                      <a:pt x="131" y="1363"/>
                    </a:lnTo>
                    <a:lnTo>
                      <a:pt x="131" y="1326"/>
                    </a:lnTo>
                    <a:lnTo>
                      <a:pt x="112" y="1308"/>
                    </a:lnTo>
                    <a:lnTo>
                      <a:pt x="112" y="1289"/>
                    </a:lnTo>
                    <a:lnTo>
                      <a:pt x="112" y="1252"/>
                    </a:lnTo>
                    <a:lnTo>
                      <a:pt x="112" y="1234"/>
                    </a:lnTo>
                    <a:lnTo>
                      <a:pt x="93" y="1215"/>
                    </a:lnTo>
                    <a:lnTo>
                      <a:pt x="93" y="1178"/>
                    </a:lnTo>
                    <a:lnTo>
                      <a:pt x="93" y="1160"/>
                    </a:lnTo>
                    <a:lnTo>
                      <a:pt x="93" y="1123"/>
                    </a:lnTo>
                    <a:lnTo>
                      <a:pt x="93" y="1105"/>
                    </a:lnTo>
                    <a:lnTo>
                      <a:pt x="93" y="1087"/>
                    </a:lnTo>
                    <a:lnTo>
                      <a:pt x="74" y="1050"/>
                    </a:lnTo>
                    <a:lnTo>
                      <a:pt x="74" y="1032"/>
                    </a:lnTo>
                    <a:lnTo>
                      <a:pt x="74" y="1013"/>
                    </a:lnTo>
                    <a:lnTo>
                      <a:pt x="74" y="1013"/>
                    </a:lnTo>
                    <a:lnTo>
                      <a:pt x="56" y="995"/>
                    </a:lnTo>
                    <a:lnTo>
                      <a:pt x="56" y="995"/>
                    </a:lnTo>
                    <a:lnTo>
                      <a:pt x="37" y="976"/>
                    </a:lnTo>
                    <a:lnTo>
                      <a:pt x="18" y="958"/>
                    </a:lnTo>
                    <a:lnTo>
                      <a:pt x="18" y="958"/>
                    </a:lnTo>
                    <a:lnTo>
                      <a:pt x="0" y="939"/>
                    </a:lnTo>
                    <a:lnTo>
                      <a:pt x="18" y="902"/>
                    </a:lnTo>
                    <a:lnTo>
                      <a:pt x="37" y="884"/>
                    </a:lnTo>
                    <a:lnTo>
                      <a:pt x="56" y="865"/>
                    </a:lnTo>
                    <a:lnTo>
                      <a:pt x="74" y="828"/>
                    </a:lnTo>
                    <a:lnTo>
                      <a:pt x="93" y="810"/>
                    </a:lnTo>
                    <a:lnTo>
                      <a:pt x="112" y="791"/>
                    </a:lnTo>
                    <a:lnTo>
                      <a:pt x="131" y="773"/>
                    </a:lnTo>
                    <a:lnTo>
                      <a:pt x="150" y="773"/>
                    </a:lnTo>
                    <a:lnTo>
                      <a:pt x="169" y="755"/>
                    </a:lnTo>
                    <a:lnTo>
                      <a:pt x="207" y="737"/>
                    </a:lnTo>
                    <a:lnTo>
                      <a:pt x="226" y="718"/>
                    </a:lnTo>
                    <a:lnTo>
                      <a:pt x="245" y="700"/>
                    </a:lnTo>
                    <a:lnTo>
                      <a:pt x="264" y="681"/>
                    </a:lnTo>
                    <a:lnTo>
                      <a:pt x="283" y="663"/>
                    </a:lnTo>
                    <a:lnTo>
                      <a:pt x="302" y="645"/>
                    </a:lnTo>
                    <a:lnTo>
                      <a:pt x="340" y="608"/>
                    </a:lnTo>
                    <a:lnTo>
                      <a:pt x="169" y="0"/>
                    </a:lnTo>
                    <a:lnTo>
                      <a:pt x="422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26" name="Freeform 191"/>
              <p:cNvSpPr/>
              <p:nvPr/>
            </p:nvSpPr>
            <p:spPr>
              <a:xfrm>
                <a:off x="2688840" y="5504760"/>
                <a:ext cx="2306880" cy="123840"/>
              </a:xfrm>
              <a:custGeom>
                <a:avLst/>
                <a:gdLst/>
                <a:ahLst/>
                <a:rect l="l" t="t" r="r" b="b"/>
                <a:pathLst>
                  <a:path w="11646" h="1419">
                    <a:moveTo>
                      <a:pt x="10948" y="0"/>
                    </a:moveTo>
                    <a:lnTo>
                      <a:pt x="10967" y="405"/>
                    </a:lnTo>
                    <a:lnTo>
                      <a:pt x="10419" y="866"/>
                    </a:lnTo>
                    <a:lnTo>
                      <a:pt x="10212" y="995"/>
                    </a:lnTo>
                    <a:lnTo>
                      <a:pt x="10212" y="995"/>
                    </a:lnTo>
                    <a:lnTo>
                      <a:pt x="10212" y="1014"/>
                    </a:lnTo>
                    <a:lnTo>
                      <a:pt x="10212" y="1014"/>
                    </a:lnTo>
                    <a:lnTo>
                      <a:pt x="10212" y="1032"/>
                    </a:lnTo>
                    <a:lnTo>
                      <a:pt x="10212" y="1032"/>
                    </a:lnTo>
                    <a:lnTo>
                      <a:pt x="10212" y="1032"/>
                    </a:lnTo>
                    <a:lnTo>
                      <a:pt x="10212" y="1051"/>
                    </a:lnTo>
                    <a:lnTo>
                      <a:pt x="10212" y="1069"/>
                    </a:lnTo>
                    <a:lnTo>
                      <a:pt x="10250" y="1069"/>
                    </a:lnTo>
                    <a:lnTo>
                      <a:pt x="10286" y="1069"/>
                    </a:lnTo>
                    <a:lnTo>
                      <a:pt x="10305" y="1069"/>
                    </a:lnTo>
                    <a:lnTo>
                      <a:pt x="10343" y="1069"/>
                    </a:lnTo>
                    <a:lnTo>
                      <a:pt x="10381" y="1051"/>
                    </a:lnTo>
                    <a:lnTo>
                      <a:pt x="10419" y="1051"/>
                    </a:lnTo>
                    <a:lnTo>
                      <a:pt x="10438" y="1051"/>
                    </a:lnTo>
                    <a:lnTo>
                      <a:pt x="10476" y="1032"/>
                    </a:lnTo>
                    <a:lnTo>
                      <a:pt x="10514" y="1032"/>
                    </a:lnTo>
                    <a:lnTo>
                      <a:pt x="10533" y="1014"/>
                    </a:lnTo>
                    <a:lnTo>
                      <a:pt x="10570" y="1014"/>
                    </a:lnTo>
                    <a:lnTo>
                      <a:pt x="10608" y="995"/>
                    </a:lnTo>
                    <a:lnTo>
                      <a:pt x="10645" y="995"/>
                    </a:lnTo>
                    <a:lnTo>
                      <a:pt x="10664" y="995"/>
                    </a:lnTo>
                    <a:lnTo>
                      <a:pt x="10702" y="977"/>
                    </a:lnTo>
                    <a:lnTo>
                      <a:pt x="10740" y="977"/>
                    </a:lnTo>
                    <a:lnTo>
                      <a:pt x="10759" y="958"/>
                    </a:lnTo>
                    <a:lnTo>
                      <a:pt x="10797" y="958"/>
                    </a:lnTo>
                    <a:lnTo>
                      <a:pt x="10834" y="940"/>
                    </a:lnTo>
                    <a:lnTo>
                      <a:pt x="10853" y="940"/>
                    </a:lnTo>
                    <a:lnTo>
                      <a:pt x="10891" y="940"/>
                    </a:lnTo>
                    <a:lnTo>
                      <a:pt x="10929" y="921"/>
                    </a:lnTo>
                    <a:lnTo>
                      <a:pt x="10967" y="921"/>
                    </a:lnTo>
                    <a:lnTo>
                      <a:pt x="10985" y="921"/>
                    </a:lnTo>
                    <a:lnTo>
                      <a:pt x="11023" y="921"/>
                    </a:lnTo>
                    <a:lnTo>
                      <a:pt x="11061" y="921"/>
                    </a:lnTo>
                    <a:lnTo>
                      <a:pt x="11080" y="921"/>
                    </a:lnTo>
                    <a:lnTo>
                      <a:pt x="11117" y="921"/>
                    </a:lnTo>
                    <a:lnTo>
                      <a:pt x="11155" y="940"/>
                    </a:lnTo>
                    <a:lnTo>
                      <a:pt x="11193" y="940"/>
                    </a:lnTo>
                    <a:lnTo>
                      <a:pt x="11212" y="940"/>
                    </a:lnTo>
                    <a:lnTo>
                      <a:pt x="11250" y="958"/>
                    </a:lnTo>
                    <a:lnTo>
                      <a:pt x="11288" y="958"/>
                    </a:lnTo>
                    <a:lnTo>
                      <a:pt x="11307" y="940"/>
                    </a:lnTo>
                    <a:lnTo>
                      <a:pt x="11326" y="940"/>
                    </a:lnTo>
                    <a:lnTo>
                      <a:pt x="11362" y="940"/>
                    </a:lnTo>
                    <a:lnTo>
                      <a:pt x="11381" y="940"/>
                    </a:lnTo>
                    <a:lnTo>
                      <a:pt x="11400" y="940"/>
                    </a:lnTo>
                    <a:lnTo>
                      <a:pt x="11438" y="940"/>
                    </a:lnTo>
                    <a:lnTo>
                      <a:pt x="11457" y="940"/>
                    </a:lnTo>
                    <a:lnTo>
                      <a:pt x="11476" y="940"/>
                    </a:lnTo>
                    <a:lnTo>
                      <a:pt x="11495" y="958"/>
                    </a:lnTo>
                    <a:lnTo>
                      <a:pt x="11533" y="958"/>
                    </a:lnTo>
                    <a:lnTo>
                      <a:pt x="11552" y="958"/>
                    </a:lnTo>
                    <a:lnTo>
                      <a:pt x="11571" y="958"/>
                    </a:lnTo>
                    <a:lnTo>
                      <a:pt x="11590" y="977"/>
                    </a:lnTo>
                    <a:lnTo>
                      <a:pt x="11628" y="977"/>
                    </a:lnTo>
                    <a:lnTo>
                      <a:pt x="11646" y="977"/>
                    </a:lnTo>
                    <a:lnTo>
                      <a:pt x="11646" y="995"/>
                    </a:lnTo>
                    <a:lnTo>
                      <a:pt x="11646" y="1014"/>
                    </a:lnTo>
                    <a:lnTo>
                      <a:pt x="11646" y="1032"/>
                    </a:lnTo>
                    <a:lnTo>
                      <a:pt x="11646" y="1051"/>
                    </a:lnTo>
                    <a:lnTo>
                      <a:pt x="11628" y="1069"/>
                    </a:lnTo>
                    <a:lnTo>
                      <a:pt x="11628" y="1069"/>
                    </a:lnTo>
                    <a:lnTo>
                      <a:pt x="11628" y="1088"/>
                    </a:lnTo>
                    <a:lnTo>
                      <a:pt x="11628" y="1105"/>
                    </a:lnTo>
                    <a:lnTo>
                      <a:pt x="11609" y="1105"/>
                    </a:lnTo>
                    <a:lnTo>
                      <a:pt x="11609" y="1123"/>
                    </a:lnTo>
                    <a:lnTo>
                      <a:pt x="11609" y="1142"/>
                    </a:lnTo>
                    <a:lnTo>
                      <a:pt x="11590" y="1142"/>
                    </a:lnTo>
                    <a:lnTo>
                      <a:pt x="11590" y="1160"/>
                    </a:lnTo>
                    <a:lnTo>
                      <a:pt x="11590" y="1179"/>
                    </a:lnTo>
                    <a:lnTo>
                      <a:pt x="11571" y="1197"/>
                    </a:lnTo>
                    <a:lnTo>
                      <a:pt x="11571" y="1197"/>
                    </a:lnTo>
                    <a:lnTo>
                      <a:pt x="11344" y="1419"/>
                    </a:lnTo>
                    <a:lnTo>
                      <a:pt x="5832" y="1419"/>
                    </a:lnTo>
                    <a:lnTo>
                      <a:pt x="5946" y="1345"/>
                    </a:lnTo>
                    <a:lnTo>
                      <a:pt x="5775" y="1419"/>
                    </a:lnTo>
                    <a:lnTo>
                      <a:pt x="3680" y="1419"/>
                    </a:lnTo>
                    <a:lnTo>
                      <a:pt x="4378" y="829"/>
                    </a:lnTo>
                    <a:lnTo>
                      <a:pt x="3585" y="1179"/>
                    </a:lnTo>
                    <a:lnTo>
                      <a:pt x="3566" y="1179"/>
                    </a:lnTo>
                    <a:lnTo>
                      <a:pt x="3530" y="1179"/>
                    </a:lnTo>
                    <a:lnTo>
                      <a:pt x="3511" y="1160"/>
                    </a:lnTo>
                    <a:lnTo>
                      <a:pt x="3492" y="1142"/>
                    </a:lnTo>
                    <a:lnTo>
                      <a:pt x="3473" y="1123"/>
                    </a:lnTo>
                    <a:lnTo>
                      <a:pt x="3473" y="1105"/>
                    </a:lnTo>
                    <a:lnTo>
                      <a:pt x="3454" y="1088"/>
                    </a:lnTo>
                    <a:lnTo>
                      <a:pt x="3435" y="1069"/>
                    </a:lnTo>
                    <a:lnTo>
                      <a:pt x="3435" y="1032"/>
                    </a:lnTo>
                    <a:lnTo>
                      <a:pt x="3416" y="1014"/>
                    </a:lnTo>
                    <a:lnTo>
                      <a:pt x="3416" y="977"/>
                    </a:lnTo>
                    <a:lnTo>
                      <a:pt x="3397" y="940"/>
                    </a:lnTo>
                    <a:lnTo>
                      <a:pt x="3378" y="921"/>
                    </a:lnTo>
                    <a:lnTo>
                      <a:pt x="3378" y="884"/>
                    </a:lnTo>
                    <a:lnTo>
                      <a:pt x="3359" y="866"/>
                    </a:lnTo>
                    <a:lnTo>
                      <a:pt x="3340" y="829"/>
                    </a:lnTo>
                    <a:lnTo>
                      <a:pt x="3340" y="810"/>
                    </a:lnTo>
                    <a:lnTo>
                      <a:pt x="3340" y="792"/>
                    </a:lnTo>
                    <a:lnTo>
                      <a:pt x="3340" y="773"/>
                    </a:lnTo>
                    <a:lnTo>
                      <a:pt x="3359" y="755"/>
                    </a:lnTo>
                    <a:lnTo>
                      <a:pt x="3359" y="737"/>
                    </a:lnTo>
                    <a:lnTo>
                      <a:pt x="3359" y="701"/>
                    </a:lnTo>
                    <a:lnTo>
                      <a:pt x="3359" y="682"/>
                    </a:lnTo>
                    <a:lnTo>
                      <a:pt x="3359" y="664"/>
                    </a:lnTo>
                    <a:lnTo>
                      <a:pt x="3246" y="497"/>
                    </a:lnTo>
                    <a:lnTo>
                      <a:pt x="3982" y="0"/>
                    </a:lnTo>
                    <a:lnTo>
                      <a:pt x="10948" y="0"/>
                    </a:lnTo>
                    <a:close/>
                    <a:moveTo>
                      <a:pt x="3020" y="0"/>
                    </a:moveTo>
                    <a:lnTo>
                      <a:pt x="3001" y="19"/>
                    </a:lnTo>
                    <a:lnTo>
                      <a:pt x="2982" y="19"/>
                    </a:lnTo>
                    <a:lnTo>
                      <a:pt x="2963" y="37"/>
                    </a:lnTo>
                    <a:lnTo>
                      <a:pt x="2944" y="37"/>
                    </a:lnTo>
                    <a:lnTo>
                      <a:pt x="2925" y="55"/>
                    </a:lnTo>
                    <a:lnTo>
                      <a:pt x="2906" y="55"/>
                    </a:lnTo>
                    <a:lnTo>
                      <a:pt x="2906" y="73"/>
                    </a:lnTo>
                    <a:lnTo>
                      <a:pt x="2887" y="92"/>
                    </a:lnTo>
                    <a:lnTo>
                      <a:pt x="2868" y="92"/>
                    </a:lnTo>
                    <a:lnTo>
                      <a:pt x="2849" y="110"/>
                    </a:lnTo>
                    <a:lnTo>
                      <a:pt x="2831" y="110"/>
                    </a:lnTo>
                    <a:lnTo>
                      <a:pt x="2812" y="129"/>
                    </a:lnTo>
                    <a:lnTo>
                      <a:pt x="2793" y="147"/>
                    </a:lnTo>
                    <a:lnTo>
                      <a:pt x="2774" y="147"/>
                    </a:lnTo>
                    <a:lnTo>
                      <a:pt x="2774" y="166"/>
                    </a:lnTo>
                    <a:lnTo>
                      <a:pt x="2756" y="166"/>
                    </a:lnTo>
                    <a:lnTo>
                      <a:pt x="2737" y="184"/>
                    </a:lnTo>
                    <a:lnTo>
                      <a:pt x="2718" y="203"/>
                    </a:lnTo>
                    <a:lnTo>
                      <a:pt x="2718" y="203"/>
                    </a:lnTo>
                    <a:lnTo>
                      <a:pt x="2699" y="221"/>
                    </a:lnTo>
                    <a:lnTo>
                      <a:pt x="2699" y="221"/>
                    </a:lnTo>
                    <a:lnTo>
                      <a:pt x="2680" y="240"/>
                    </a:lnTo>
                    <a:lnTo>
                      <a:pt x="2680" y="240"/>
                    </a:lnTo>
                    <a:lnTo>
                      <a:pt x="2661" y="258"/>
                    </a:lnTo>
                    <a:lnTo>
                      <a:pt x="2661" y="258"/>
                    </a:lnTo>
                    <a:lnTo>
                      <a:pt x="2642" y="277"/>
                    </a:lnTo>
                    <a:lnTo>
                      <a:pt x="2642" y="277"/>
                    </a:lnTo>
                    <a:lnTo>
                      <a:pt x="2623" y="277"/>
                    </a:lnTo>
                    <a:lnTo>
                      <a:pt x="2623" y="295"/>
                    </a:lnTo>
                    <a:lnTo>
                      <a:pt x="2604" y="295"/>
                    </a:lnTo>
                    <a:lnTo>
                      <a:pt x="2585" y="314"/>
                    </a:lnTo>
                    <a:lnTo>
                      <a:pt x="2585" y="314"/>
                    </a:lnTo>
                    <a:lnTo>
                      <a:pt x="2566" y="314"/>
                    </a:lnTo>
                    <a:lnTo>
                      <a:pt x="2566" y="314"/>
                    </a:lnTo>
                    <a:lnTo>
                      <a:pt x="2547" y="314"/>
                    </a:lnTo>
                    <a:lnTo>
                      <a:pt x="2528" y="314"/>
                    </a:lnTo>
                    <a:lnTo>
                      <a:pt x="2509" y="314"/>
                    </a:lnTo>
                    <a:lnTo>
                      <a:pt x="2509" y="295"/>
                    </a:lnTo>
                    <a:lnTo>
                      <a:pt x="2492" y="295"/>
                    </a:lnTo>
                    <a:lnTo>
                      <a:pt x="2473" y="295"/>
                    </a:lnTo>
                    <a:lnTo>
                      <a:pt x="2095" y="516"/>
                    </a:lnTo>
                    <a:lnTo>
                      <a:pt x="1906" y="0"/>
                    </a:lnTo>
                    <a:lnTo>
                      <a:pt x="3020" y="0"/>
                    </a:lnTo>
                    <a:close/>
                    <a:moveTo>
                      <a:pt x="1811" y="0"/>
                    </a:moveTo>
                    <a:lnTo>
                      <a:pt x="302" y="921"/>
                    </a:lnTo>
                    <a:lnTo>
                      <a:pt x="264" y="921"/>
                    </a:lnTo>
                    <a:lnTo>
                      <a:pt x="245" y="884"/>
                    </a:lnTo>
                    <a:lnTo>
                      <a:pt x="226" y="866"/>
                    </a:lnTo>
                    <a:lnTo>
                      <a:pt x="207" y="829"/>
                    </a:lnTo>
                    <a:lnTo>
                      <a:pt x="188" y="792"/>
                    </a:lnTo>
                    <a:lnTo>
                      <a:pt x="169" y="755"/>
                    </a:lnTo>
                    <a:lnTo>
                      <a:pt x="150" y="719"/>
                    </a:lnTo>
                    <a:lnTo>
                      <a:pt x="131" y="682"/>
                    </a:lnTo>
                    <a:lnTo>
                      <a:pt x="131" y="645"/>
                    </a:lnTo>
                    <a:lnTo>
                      <a:pt x="112" y="590"/>
                    </a:lnTo>
                    <a:lnTo>
                      <a:pt x="112" y="553"/>
                    </a:lnTo>
                    <a:lnTo>
                      <a:pt x="112" y="497"/>
                    </a:lnTo>
                    <a:lnTo>
                      <a:pt x="93" y="460"/>
                    </a:lnTo>
                    <a:lnTo>
                      <a:pt x="93" y="405"/>
                    </a:lnTo>
                    <a:lnTo>
                      <a:pt x="93" y="350"/>
                    </a:lnTo>
                    <a:lnTo>
                      <a:pt x="74" y="314"/>
                    </a:lnTo>
                    <a:lnTo>
                      <a:pt x="74" y="295"/>
                    </a:lnTo>
                    <a:lnTo>
                      <a:pt x="74" y="295"/>
                    </a:lnTo>
                    <a:lnTo>
                      <a:pt x="56" y="277"/>
                    </a:lnTo>
                    <a:lnTo>
                      <a:pt x="56" y="277"/>
                    </a:lnTo>
                    <a:lnTo>
                      <a:pt x="37" y="258"/>
                    </a:lnTo>
                    <a:lnTo>
                      <a:pt x="18" y="240"/>
                    </a:lnTo>
                    <a:lnTo>
                      <a:pt x="18" y="240"/>
                    </a:lnTo>
                    <a:lnTo>
                      <a:pt x="0" y="221"/>
                    </a:lnTo>
                    <a:lnTo>
                      <a:pt x="18" y="203"/>
                    </a:lnTo>
                    <a:lnTo>
                      <a:pt x="37" y="184"/>
                    </a:lnTo>
                    <a:lnTo>
                      <a:pt x="37" y="166"/>
                    </a:lnTo>
                    <a:lnTo>
                      <a:pt x="56" y="147"/>
                    </a:lnTo>
                    <a:lnTo>
                      <a:pt x="56" y="129"/>
                    </a:lnTo>
                    <a:lnTo>
                      <a:pt x="74" y="110"/>
                    </a:lnTo>
                    <a:lnTo>
                      <a:pt x="93" y="110"/>
                    </a:lnTo>
                    <a:lnTo>
                      <a:pt x="93" y="92"/>
                    </a:lnTo>
                    <a:lnTo>
                      <a:pt x="112" y="73"/>
                    </a:lnTo>
                    <a:lnTo>
                      <a:pt x="131" y="73"/>
                    </a:lnTo>
                    <a:lnTo>
                      <a:pt x="150" y="55"/>
                    </a:lnTo>
                    <a:lnTo>
                      <a:pt x="150" y="37"/>
                    </a:lnTo>
                    <a:lnTo>
                      <a:pt x="169" y="37"/>
                    </a:lnTo>
                    <a:lnTo>
                      <a:pt x="188" y="19"/>
                    </a:lnTo>
                    <a:lnTo>
                      <a:pt x="207" y="19"/>
                    </a:lnTo>
                    <a:lnTo>
                      <a:pt x="207" y="0"/>
                    </a:lnTo>
                    <a:lnTo>
                      <a:pt x="181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27" name="Freeform 192"/>
              <p:cNvSpPr/>
              <p:nvPr/>
            </p:nvSpPr>
            <p:spPr>
              <a:xfrm>
                <a:off x="2716920" y="5564880"/>
                <a:ext cx="2279160" cy="125640"/>
              </a:xfrm>
              <a:custGeom>
                <a:avLst/>
                <a:gdLst/>
                <a:ahLst/>
                <a:rect l="l" t="t" r="r" b="b"/>
                <a:pathLst>
                  <a:path w="11496" h="1436">
                    <a:moveTo>
                      <a:pt x="10458" y="0"/>
                    </a:moveTo>
                    <a:lnTo>
                      <a:pt x="10269" y="165"/>
                    </a:lnTo>
                    <a:lnTo>
                      <a:pt x="10062" y="294"/>
                    </a:lnTo>
                    <a:lnTo>
                      <a:pt x="10062" y="294"/>
                    </a:lnTo>
                    <a:lnTo>
                      <a:pt x="10062" y="313"/>
                    </a:lnTo>
                    <a:lnTo>
                      <a:pt x="10062" y="313"/>
                    </a:lnTo>
                    <a:lnTo>
                      <a:pt x="10062" y="331"/>
                    </a:lnTo>
                    <a:lnTo>
                      <a:pt x="10062" y="331"/>
                    </a:lnTo>
                    <a:lnTo>
                      <a:pt x="10062" y="331"/>
                    </a:lnTo>
                    <a:lnTo>
                      <a:pt x="10062" y="350"/>
                    </a:lnTo>
                    <a:lnTo>
                      <a:pt x="10062" y="368"/>
                    </a:lnTo>
                    <a:lnTo>
                      <a:pt x="10100" y="368"/>
                    </a:lnTo>
                    <a:lnTo>
                      <a:pt x="10136" y="368"/>
                    </a:lnTo>
                    <a:lnTo>
                      <a:pt x="10155" y="368"/>
                    </a:lnTo>
                    <a:lnTo>
                      <a:pt x="10193" y="368"/>
                    </a:lnTo>
                    <a:lnTo>
                      <a:pt x="10231" y="350"/>
                    </a:lnTo>
                    <a:lnTo>
                      <a:pt x="10269" y="350"/>
                    </a:lnTo>
                    <a:lnTo>
                      <a:pt x="10288" y="350"/>
                    </a:lnTo>
                    <a:lnTo>
                      <a:pt x="10326" y="331"/>
                    </a:lnTo>
                    <a:lnTo>
                      <a:pt x="10364" y="331"/>
                    </a:lnTo>
                    <a:lnTo>
                      <a:pt x="10383" y="313"/>
                    </a:lnTo>
                    <a:lnTo>
                      <a:pt x="10420" y="313"/>
                    </a:lnTo>
                    <a:lnTo>
                      <a:pt x="10458" y="294"/>
                    </a:lnTo>
                    <a:lnTo>
                      <a:pt x="10495" y="294"/>
                    </a:lnTo>
                    <a:lnTo>
                      <a:pt x="10514" y="294"/>
                    </a:lnTo>
                    <a:lnTo>
                      <a:pt x="10552" y="276"/>
                    </a:lnTo>
                    <a:lnTo>
                      <a:pt x="10590" y="276"/>
                    </a:lnTo>
                    <a:lnTo>
                      <a:pt x="10609" y="257"/>
                    </a:lnTo>
                    <a:lnTo>
                      <a:pt x="10647" y="257"/>
                    </a:lnTo>
                    <a:lnTo>
                      <a:pt x="10684" y="239"/>
                    </a:lnTo>
                    <a:lnTo>
                      <a:pt x="10703" y="239"/>
                    </a:lnTo>
                    <a:lnTo>
                      <a:pt x="10741" y="239"/>
                    </a:lnTo>
                    <a:lnTo>
                      <a:pt x="10779" y="220"/>
                    </a:lnTo>
                    <a:lnTo>
                      <a:pt x="10817" y="220"/>
                    </a:lnTo>
                    <a:lnTo>
                      <a:pt x="10835" y="220"/>
                    </a:lnTo>
                    <a:lnTo>
                      <a:pt x="10873" y="220"/>
                    </a:lnTo>
                    <a:lnTo>
                      <a:pt x="10911" y="220"/>
                    </a:lnTo>
                    <a:lnTo>
                      <a:pt x="10930" y="220"/>
                    </a:lnTo>
                    <a:lnTo>
                      <a:pt x="10967" y="220"/>
                    </a:lnTo>
                    <a:lnTo>
                      <a:pt x="11005" y="239"/>
                    </a:lnTo>
                    <a:lnTo>
                      <a:pt x="11043" y="239"/>
                    </a:lnTo>
                    <a:lnTo>
                      <a:pt x="11062" y="239"/>
                    </a:lnTo>
                    <a:lnTo>
                      <a:pt x="11100" y="257"/>
                    </a:lnTo>
                    <a:lnTo>
                      <a:pt x="11138" y="257"/>
                    </a:lnTo>
                    <a:lnTo>
                      <a:pt x="11157" y="239"/>
                    </a:lnTo>
                    <a:lnTo>
                      <a:pt x="11176" y="239"/>
                    </a:lnTo>
                    <a:lnTo>
                      <a:pt x="11212" y="239"/>
                    </a:lnTo>
                    <a:lnTo>
                      <a:pt x="11231" y="239"/>
                    </a:lnTo>
                    <a:lnTo>
                      <a:pt x="11250" y="239"/>
                    </a:lnTo>
                    <a:lnTo>
                      <a:pt x="11288" y="239"/>
                    </a:lnTo>
                    <a:lnTo>
                      <a:pt x="11307" y="239"/>
                    </a:lnTo>
                    <a:lnTo>
                      <a:pt x="11326" y="239"/>
                    </a:lnTo>
                    <a:lnTo>
                      <a:pt x="11345" y="257"/>
                    </a:lnTo>
                    <a:lnTo>
                      <a:pt x="11383" y="257"/>
                    </a:lnTo>
                    <a:lnTo>
                      <a:pt x="11402" y="257"/>
                    </a:lnTo>
                    <a:lnTo>
                      <a:pt x="11421" y="257"/>
                    </a:lnTo>
                    <a:lnTo>
                      <a:pt x="11440" y="276"/>
                    </a:lnTo>
                    <a:lnTo>
                      <a:pt x="11478" y="276"/>
                    </a:lnTo>
                    <a:lnTo>
                      <a:pt x="11496" y="276"/>
                    </a:lnTo>
                    <a:lnTo>
                      <a:pt x="11496" y="294"/>
                    </a:lnTo>
                    <a:lnTo>
                      <a:pt x="11496" y="313"/>
                    </a:lnTo>
                    <a:lnTo>
                      <a:pt x="11496" y="331"/>
                    </a:lnTo>
                    <a:lnTo>
                      <a:pt x="11496" y="350"/>
                    </a:lnTo>
                    <a:lnTo>
                      <a:pt x="11478" y="368"/>
                    </a:lnTo>
                    <a:lnTo>
                      <a:pt x="11478" y="368"/>
                    </a:lnTo>
                    <a:lnTo>
                      <a:pt x="11478" y="387"/>
                    </a:lnTo>
                    <a:lnTo>
                      <a:pt x="11478" y="404"/>
                    </a:lnTo>
                    <a:lnTo>
                      <a:pt x="11459" y="404"/>
                    </a:lnTo>
                    <a:lnTo>
                      <a:pt x="11459" y="422"/>
                    </a:lnTo>
                    <a:lnTo>
                      <a:pt x="11459" y="441"/>
                    </a:lnTo>
                    <a:lnTo>
                      <a:pt x="11440" y="441"/>
                    </a:lnTo>
                    <a:lnTo>
                      <a:pt x="11440" y="459"/>
                    </a:lnTo>
                    <a:lnTo>
                      <a:pt x="11440" y="478"/>
                    </a:lnTo>
                    <a:lnTo>
                      <a:pt x="11421" y="496"/>
                    </a:lnTo>
                    <a:lnTo>
                      <a:pt x="11421" y="496"/>
                    </a:lnTo>
                    <a:lnTo>
                      <a:pt x="10986" y="902"/>
                    </a:lnTo>
                    <a:lnTo>
                      <a:pt x="10986" y="920"/>
                    </a:lnTo>
                    <a:lnTo>
                      <a:pt x="10986" y="939"/>
                    </a:lnTo>
                    <a:lnTo>
                      <a:pt x="10986" y="939"/>
                    </a:lnTo>
                    <a:lnTo>
                      <a:pt x="10986" y="957"/>
                    </a:lnTo>
                    <a:lnTo>
                      <a:pt x="10986" y="976"/>
                    </a:lnTo>
                    <a:lnTo>
                      <a:pt x="11005" y="994"/>
                    </a:lnTo>
                    <a:lnTo>
                      <a:pt x="11005" y="1013"/>
                    </a:lnTo>
                    <a:lnTo>
                      <a:pt x="11005" y="1031"/>
                    </a:lnTo>
                    <a:lnTo>
                      <a:pt x="10967" y="1031"/>
                    </a:lnTo>
                    <a:lnTo>
                      <a:pt x="10930" y="1050"/>
                    </a:lnTo>
                    <a:lnTo>
                      <a:pt x="10873" y="1068"/>
                    </a:lnTo>
                    <a:lnTo>
                      <a:pt x="10835" y="1086"/>
                    </a:lnTo>
                    <a:lnTo>
                      <a:pt x="10798" y="1086"/>
                    </a:lnTo>
                    <a:lnTo>
                      <a:pt x="10741" y="1104"/>
                    </a:lnTo>
                    <a:lnTo>
                      <a:pt x="10703" y="1123"/>
                    </a:lnTo>
                    <a:lnTo>
                      <a:pt x="10666" y="1123"/>
                    </a:lnTo>
                    <a:lnTo>
                      <a:pt x="10609" y="1141"/>
                    </a:lnTo>
                    <a:lnTo>
                      <a:pt x="10571" y="1160"/>
                    </a:lnTo>
                    <a:lnTo>
                      <a:pt x="10533" y="1160"/>
                    </a:lnTo>
                    <a:lnTo>
                      <a:pt x="10477" y="1178"/>
                    </a:lnTo>
                    <a:lnTo>
                      <a:pt x="10439" y="1196"/>
                    </a:lnTo>
                    <a:lnTo>
                      <a:pt x="10402" y="1196"/>
                    </a:lnTo>
                    <a:lnTo>
                      <a:pt x="10345" y="1215"/>
                    </a:lnTo>
                    <a:lnTo>
                      <a:pt x="10307" y="1233"/>
                    </a:lnTo>
                    <a:lnTo>
                      <a:pt x="10269" y="1233"/>
                    </a:lnTo>
                    <a:lnTo>
                      <a:pt x="10212" y="1252"/>
                    </a:lnTo>
                    <a:lnTo>
                      <a:pt x="10174" y="1270"/>
                    </a:lnTo>
                    <a:lnTo>
                      <a:pt x="10136" y="1270"/>
                    </a:lnTo>
                    <a:lnTo>
                      <a:pt x="10081" y="1289"/>
                    </a:lnTo>
                    <a:lnTo>
                      <a:pt x="10043" y="1307"/>
                    </a:lnTo>
                    <a:lnTo>
                      <a:pt x="10005" y="1326"/>
                    </a:lnTo>
                    <a:lnTo>
                      <a:pt x="9948" y="1326"/>
                    </a:lnTo>
                    <a:lnTo>
                      <a:pt x="9910" y="1344"/>
                    </a:lnTo>
                    <a:lnTo>
                      <a:pt x="9872" y="1363"/>
                    </a:lnTo>
                    <a:lnTo>
                      <a:pt x="9816" y="1363"/>
                    </a:lnTo>
                    <a:lnTo>
                      <a:pt x="9778" y="1381"/>
                    </a:lnTo>
                    <a:lnTo>
                      <a:pt x="9741" y="1400"/>
                    </a:lnTo>
                    <a:lnTo>
                      <a:pt x="9684" y="1400"/>
                    </a:lnTo>
                    <a:lnTo>
                      <a:pt x="9646" y="1418"/>
                    </a:lnTo>
                    <a:lnTo>
                      <a:pt x="9608" y="1436"/>
                    </a:lnTo>
                    <a:lnTo>
                      <a:pt x="6626" y="1436"/>
                    </a:lnTo>
                    <a:lnTo>
                      <a:pt x="7268" y="994"/>
                    </a:lnTo>
                    <a:lnTo>
                      <a:pt x="7230" y="994"/>
                    </a:lnTo>
                    <a:lnTo>
                      <a:pt x="7211" y="994"/>
                    </a:lnTo>
                    <a:lnTo>
                      <a:pt x="7174" y="1013"/>
                    </a:lnTo>
                    <a:lnTo>
                      <a:pt x="7136" y="1013"/>
                    </a:lnTo>
                    <a:lnTo>
                      <a:pt x="7117" y="1013"/>
                    </a:lnTo>
                    <a:lnTo>
                      <a:pt x="7079" y="1031"/>
                    </a:lnTo>
                    <a:lnTo>
                      <a:pt x="7041" y="1031"/>
                    </a:lnTo>
                    <a:lnTo>
                      <a:pt x="7003" y="1050"/>
                    </a:lnTo>
                    <a:lnTo>
                      <a:pt x="6965" y="1050"/>
                    </a:lnTo>
                    <a:lnTo>
                      <a:pt x="6946" y="1068"/>
                    </a:lnTo>
                    <a:lnTo>
                      <a:pt x="6910" y="1068"/>
                    </a:lnTo>
                    <a:lnTo>
                      <a:pt x="6872" y="1086"/>
                    </a:lnTo>
                    <a:lnTo>
                      <a:pt x="6834" y="1104"/>
                    </a:lnTo>
                    <a:lnTo>
                      <a:pt x="6796" y="1123"/>
                    </a:lnTo>
                    <a:lnTo>
                      <a:pt x="6758" y="1123"/>
                    </a:lnTo>
                    <a:lnTo>
                      <a:pt x="6739" y="1141"/>
                    </a:lnTo>
                    <a:lnTo>
                      <a:pt x="6701" y="1160"/>
                    </a:lnTo>
                    <a:lnTo>
                      <a:pt x="6663" y="1178"/>
                    </a:lnTo>
                    <a:lnTo>
                      <a:pt x="6626" y="1196"/>
                    </a:lnTo>
                    <a:lnTo>
                      <a:pt x="6588" y="1215"/>
                    </a:lnTo>
                    <a:lnTo>
                      <a:pt x="6551" y="1233"/>
                    </a:lnTo>
                    <a:lnTo>
                      <a:pt x="6513" y="1252"/>
                    </a:lnTo>
                    <a:lnTo>
                      <a:pt x="6494" y="1270"/>
                    </a:lnTo>
                    <a:lnTo>
                      <a:pt x="6456" y="1289"/>
                    </a:lnTo>
                    <a:lnTo>
                      <a:pt x="6418" y="1307"/>
                    </a:lnTo>
                    <a:lnTo>
                      <a:pt x="6380" y="1326"/>
                    </a:lnTo>
                    <a:lnTo>
                      <a:pt x="6343" y="1344"/>
                    </a:lnTo>
                    <a:lnTo>
                      <a:pt x="6305" y="1363"/>
                    </a:lnTo>
                    <a:lnTo>
                      <a:pt x="6267" y="1381"/>
                    </a:lnTo>
                    <a:lnTo>
                      <a:pt x="6230" y="1400"/>
                    </a:lnTo>
                    <a:lnTo>
                      <a:pt x="6211" y="1418"/>
                    </a:lnTo>
                    <a:lnTo>
                      <a:pt x="6173" y="1436"/>
                    </a:lnTo>
                    <a:lnTo>
                      <a:pt x="4644" y="1436"/>
                    </a:lnTo>
                    <a:lnTo>
                      <a:pt x="5796" y="644"/>
                    </a:lnTo>
                    <a:lnTo>
                      <a:pt x="4078" y="1436"/>
                    </a:lnTo>
                    <a:lnTo>
                      <a:pt x="3247" y="1436"/>
                    </a:lnTo>
                    <a:lnTo>
                      <a:pt x="3152" y="1141"/>
                    </a:lnTo>
                    <a:lnTo>
                      <a:pt x="3134" y="1141"/>
                    </a:lnTo>
                    <a:lnTo>
                      <a:pt x="3134" y="1141"/>
                    </a:lnTo>
                    <a:lnTo>
                      <a:pt x="3134" y="1141"/>
                    </a:lnTo>
                    <a:lnTo>
                      <a:pt x="3134" y="1123"/>
                    </a:lnTo>
                    <a:lnTo>
                      <a:pt x="3134" y="1123"/>
                    </a:lnTo>
                    <a:lnTo>
                      <a:pt x="3115" y="1104"/>
                    </a:lnTo>
                    <a:lnTo>
                      <a:pt x="3115" y="1086"/>
                    </a:lnTo>
                    <a:lnTo>
                      <a:pt x="3115" y="1086"/>
                    </a:lnTo>
                    <a:lnTo>
                      <a:pt x="4228" y="128"/>
                    </a:lnTo>
                    <a:lnTo>
                      <a:pt x="3435" y="478"/>
                    </a:lnTo>
                    <a:lnTo>
                      <a:pt x="3416" y="478"/>
                    </a:lnTo>
                    <a:lnTo>
                      <a:pt x="3380" y="478"/>
                    </a:lnTo>
                    <a:lnTo>
                      <a:pt x="3361" y="459"/>
                    </a:lnTo>
                    <a:lnTo>
                      <a:pt x="3342" y="441"/>
                    </a:lnTo>
                    <a:lnTo>
                      <a:pt x="3323" y="422"/>
                    </a:lnTo>
                    <a:lnTo>
                      <a:pt x="3323" y="404"/>
                    </a:lnTo>
                    <a:lnTo>
                      <a:pt x="3304" y="387"/>
                    </a:lnTo>
                    <a:lnTo>
                      <a:pt x="3285" y="368"/>
                    </a:lnTo>
                    <a:lnTo>
                      <a:pt x="3285" y="331"/>
                    </a:lnTo>
                    <a:lnTo>
                      <a:pt x="3266" y="313"/>
                    </a:lnTo>
                    <a:lnTo>
                      <a:pt x="3266" y="276"/>
                    </a:lnTo>
                    <a:lnTo>
                      <a:pt x="3247" y="239"/>
                    </a:lnTo>
                    <a:lnTo>
                      <a:pt x="3228" y="220"/>
                    </a:lnTo>
                    <a:lnTo>
                      <a:pt x="3228" y="183"/>
                    </a:lnTo>
                    <a:lnTo>
                      <a:pt x="3209" y="165"/>
                    </a:lnTo>
                    <a:lnTo>
                      <a:pt x="3190" y="128"/>
                    </a:lnTo>
                    <a:lnTo>
                      <a:pt x="3190" y="109"/>
                    </a:lnTo>
                    <a:lnTo>
                      <a:pt x="3190" y="109"/>
                    </a:lnTo>
                    <a:lnTo>
                      <a:pt x="3190" y="91"/>
                    </a:lnTo>
                    <a:lnTo>
                      <a:pt x="3190" y="72"/>
                    </a:lnTo>
                    <a:lnTo>
                      <a:pt x="3209" y="54"/>
                    </a:lnTo>
                    <a:lnTo>
                      <a:pt x="3209" y="36"/>
                    </a:lnTo>
                    <a:lnTo>
                      <a:pt x="3209" y="18"/>
                    </a:lnTo>
                    <a:lnTo>
                      <a:pt x="3209" y="0"/>
                    </a:lnTo>
                    <a:lnTo>
                      <a:pt x="10458" y="0"/>
                    </a:lnTo>
                    <a:close/>
                    <a:moveTo>
                      <a:pt x="491" y="0"/>
                    </a:moveTo>
                    <a:lnTo>
                      <a:pt x="152" y="220"/>
                    </a:lnTo>
                    <a:lnTo>
                      <a:pt x="133" y="220"/>
                    </a:lnTo>
                    <a:lnTo>
                      <a:pt x="114" y="220"/>
                    </a:lnTo>
                    <a:lnTo>
                      <a:pt x="114" y="202"/>
                    </a:lnTo>
                    <a:lnTo>
                      <a:pt x="95" y="202"/>
                    </a:lnTo>
                    <a:lnTo>
                      <a:pt x="76" y="183"/>
                    </a:lnTo>
                    <a:lnTo>
                      <a:pt x="76" y="165"/>
                    </a:lnTo>
                    <a:lnTo>
                      <a:pt x="57" y="165"/>
                    </a:lnTo>
                    <a:lnTo>
                      <a:pt x="57" y="146"/>
                    </a:lnTo>
                    <a:lnTo>
                      <a:pt x="38" y="128"/>
                    </a:lnTo>
                    <a:lnTo>
                      <a:pt x="38" y="109"/>
                    </a:lnTo>
                    <a:lnTo>
                      <a:pt x="38" y="91"/>
                    </a:lnTo>
                    <a:lnTo>
                      <a:pt x="19" y="72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49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28" name="Freeform 193"/>
              <p:cNvSpPr/>
              <p:nvPr/>
            </p:nvSpPr>
            <p:spPr>
              <a:xfrm>
                <a:off x="3335400" y="5628600"/>
                <a:ext cx="1600920" cy="121680"/>
              </a:xfrm>
              <a:custGeom>
                <a:avLst/>
                <a:gdLst/>
                <a:ahLst/>
                <a:rect l="l" t="t" r="r" b="b"/>
                <a:pathLst>
                  <a:path w="8079" h="1418">
                    <a:moveTo>
                      <a:pt x="8079" y="0"/>
                    </a:moveTo>
                    <a:lnTo>
                      <a:pt x="7871" y="184"/>
                    </a:lnTo>
                    <a:lnTo>
                      <a:pt x="7871" y="202"/>
                    </a:lnTo>
                    <a:lnTo>
                      <a:pt x="7871" y="221"/>
                    </a:lnTo>
                    <a:lnTo>
                      <a:pt x="7871" y="221"/>
                    </a:lnTo>
                    <a:lnTo>
                      <a:pt x="7871" y="239"/>
                    </a:lnTo>
                    <a:lnTo>
                      <a:pt x="7871" y="258"/>
                    </a:lnTo>
                    <a:lnTo>
                      <a:pt x="7890" y="276"/>
                    </a:lnTo>
                    <a:lnTo>
                      <a:pt x="7890" y="295"/>
                    </a:lnTo>
                    <a:lnTo>
                      <a:pt x="7890" y="313"/>
                    </a:lnTo>
                    <a:lnTo>
                      <a:pt x="7796" y="332"/>
                    </a:lnTo>
                    <a:lnTo>
                      <a:pt x="7683" y="368"/>
                    </a:lnTo>
                    <a:lnTo>
                      <a:pt x="7569" y="405"/>
                    </a:lnTo>
                    <a:lnTo>
                      <a:pt x="7456" y="442"/>
                    </a:lnTo>
                    <a:lnTo>
                      <a:pt x="7362" y="460"/>
                    </a:lnTo>
                    <a:lnTo>
                      <a:pt x="7249" y="497"/>
                    </a:lnTo>
                    <a:lnTo>
                      <a:pt x="7135" y="534"/>
                    </a:lnTo>
                    <a:lnTo>
                      <a:pt x="7021" y="552"/>
                    </a:lnTo>
                    <a:lnTo>
                      <a:pt x="6928" y="589"/>
                    </a:lnTo>
                    <a:lnTo>
                      <a:pt x="6814" y="626"/>
                    </a:lnTo>
                    <a:lnTo>
                      <a:pt x="6701" y="645"/>
                    </a:lnTo>
                    <a:lnTo>
                      <a:pt x="6588" y="682"/>
                    </a:lnTo>
                    <a:lnTo>
                      <a:pt x="6493" y="718"/>
                    </a:lnTo>
                    <a:lnTo>
                      <a:pt x="6380" y="736"/>
                    </a:lnTo>
                    <a:lnTo>
                      <a:pt x="6267" y="773"/>
                    </a:lnTo>
                    <a:lnTo>
                      <a:pt x="6154" y="810"/>
                    </a:lnTo>
                    <a:lnTo>
                      <a:pt x="6059" y="847"/>
                    </a:lnTo>
                    <a:lnTo>
                      <a:pt x="5947" y="865"/>
                    </a:lnTo>
                    <a:lnTo>
                      <a:pt x="5833" y="902"/>
                    </a:lnTo>
                    <a:lnTo>
                      <a:pt x="5719" y="939"/>
                    </a:lnTo>
                    <a:lnTo>
                      <a:pt x="5625" y="976"/>
                    </a:lnTo>
                    <a:lnTo>
                      <a:pt x="5512" y="1013"/>
                    </a:lnTo>
                    <a:lnTo>
                      <a:pt x="5399" y="1050"/>
                    </a:lnTo>
                    <a:lnTo>
                      <a:pt x="5285" y="1086"/>
                    </a:lnTo>
                    <a:lnTo>
                      <a:pt x="5172" y="1123"/>
                    </a:lnTo>
                    <a:lnTo>
                      <a:pt x="5078" y="1160"/>
                    </a:lnTo>
                    <a:lnTo>
                      <a:pt x="4964" y="1197"/>
                    </a:lnTo>
                    <a:lnTo>
                      <a:pt x="4852" y="1253"/>
                    </a:lnTo>
                    <a:lnTo>
                      <a:pt x="4738" y="1289"/>
                    </a:lnTo>
                    <a:lnTo>
                      <a:pt x="4643" y="1326"/>
                    </a:lnTo>
                    <a:lnTo>
                      <a:pt x="4531" y="1382"/>
                    </a:lnTo>
                    <a:lnTo>
                      <a:pt x="4417" y="1418"/>
                    </a:lnTo>
                    <a:lnTo>
                      <a:pt x="2567" y="1418"/>
                    </a:lnTo>
                    <a:lnTo>
                      <a:pt x="2567" y="1418"/>
                    </a:lnTo>
                    <a:lnTo>
                      <a:pt x="2567" y="1418"/>
                    </a:lnTo>
                    <a:lnTo>
                      <a:pt x="2548" y="1399"/>
                    </a:lnTo>
                    <a:lnTo>
                      <a:pt x="2548" y="1399"/>
                    </a:lnTo>
                    <a:lnTo>
                      <a:pt x="2548" y="1399"/>
                    </a:lnTo>
                    <a:lnTo>
                      <a:pt x="2548" y="1399"/>
                    </a:lnTo>
                    <a:lnTo>
                      <a:pt x="2548" y="1382"/>
                    </a:lnTo>
                    <a:lnTo>
                      <a:pt x="2529" y="1382"/>
                    </a:lnTo>
                    <a:lnTo>
                      <a:pt x="4153" y="276"/>
                    </a:lnTo>
                    <a:lnTo>
                      <a:pt x="4115" y="276"/>
                    </a:lnTo>
                    <a:lnTo>
                      <a:pt x="4059" y="295"/>
                    </a:lnTo>
                    <a:lnTo>
                      <a:pt x="4021" y="295"/>
                    </a:lnTo>
                    <a:lnTo>
                      <a:pt x="3964" y="295"/>
                    </a:lnTo>
                    <a:lnTo>
                      <a:pt x="3926" y="313"/>
                    </a:lnTo>
                    <a:lnTo>
                      <a:pt x="3869" y="332"/>
                    </a:lnTo>
                    <a:lnTo>
                      <a:pt x="3831" y="350"/>
                    </a:lnTo>
                    <a:lnTo>
                      <a:pt x="3776" y="368"/>
                    </a:lnTo>
                    <a:lnTo>
                      <a:pt x="3738" y="386"/>
                    </a:lnTo>
                    <a:lnTo>
                      <a:pt x="3681" y="405"/>
                    </a:lnTo>
                    <a:lnTo>
                      <a:pt x="3624" y="423"/>
                    </a:lnTo>
                    <a:lnTo>
                      <a:pt x="3586" y="442"/>
                    </a:lnTo>
                    <a:lnTo>
                      <a:pt x="3529" y="460"/>
                    </a:lnTo>
                    <a:lnTo>
                      <a:pt x="3473" y="497"/>
                    </a:lnTo>
                    <a:lnTo>
                      <a:pt x="3436" y="515"/>
                    </a:lnTo>
                    <a:lnTo>
                      <a:pt x="3379" y="534"/>
                    </a:lnTo>
                    <a:lnTo>
                      <a:pt x="3341" y="571"/>
                    </a:lnTo>
                    <a:lnTo>
                      <a:pt x="3284" y="589"/>
                    </a:lnTo>
                    <a:lnTo>
                      <a:pt x="3228" y="626"/>
                    </a:lnTo>
                    <a:lnTo>
                      <a:pt x="3190" y="645"/>
                    </a:lnTo>
                    <a:lnTo>
                      <a:pt x="3133" y="663"/>
                    </a:lnTo>
                    <a:lnTo>
                      <a:pt x="3077" y="700"/>
                    </a:lnTo>
                    <a:lnTo>
                      <a:pt x="3039" y="718"/>
                    </a:lnTo>
                    <a:lnTo>
                      <a:pt x="2983" y="755"/>
                    </a:lnTo>
                    <a:lnTo>
                      <a:pt x="2926" y="773"/>
                    </a:lnTo>
                    <a:lnTo>
                      <a:pt x="2888" y="792"/>
                    </a:lnTo>
                    <a:lnTo>
                      <a:pt x="2831" y="810"/>
                    </a:lnTo>
                    <a:lnTo>
                      <a:pt x="2793" y="829"/>
                    </a:lnTo>
                    <a:lnTo>
                      <a:pt x="2737" y="865"/>
                    </a:lnTo>
                    <a:lnTo>
                      <a:pt x="2700" y="884"/>
                    </a:lnTo>
                    <a:lnTo>
                      <a:pt x="2643" y="884"/>
                    </a:lnTo>
                    <a:lnTo>
                      <a:pt x="2605" y="902"/>
                    </a:lnTo>
                    <a:lnTo>
                      <a:pt x="2567" y="921"/>
                    </a:lnTo>
                    <a:lnTo>
                      <a:pt x="2548" y="939"/>
                    </a:lnTo>
                    <a:lnTo>
                      <a:pt x="2529" y="958"/>
                    </a:lnTo>
                    <a:lnTo>
                      <a:pt x="2491" y="976"/>
                    </a:lnTo>
                    <a:lnTo>
                      <a:pt x="2472" y="995"/>
                    </a:lnTo>
                    <a:lnTo>
                      <a:pt x="2453" y="1013"/>
                    </a:lnTo>
                    <a:lnTo>
                      <a:pt x="2435" y="1032"/>
                    </a:lnTo>
                    <a:lnTo>
                      <a:pt x="2398" y="1050"/>
                    </a:lnTo>
                    <a:lnTo>
                      <a:pt x="2379" y="1068"/>
                    </a:lnTo>
                    <a:lnTo>
                      <a:pt x="2360" y="1086"/>
                    </a:lnTo>
                    <a:lnTo>
                      <a:pt x="2322" y="1105"/>
                    </a:lnTo>
                    <a:lnTo>
                      <a:pt x="2303" y="1123"/>
                    </a:lnTo>
                    <a:lnTo>
                      <a:pt x="2284" y="1142"/>
                    </a:lnTo>
                    <a:lnTo>
                      <a:pt x="2246" y="1160"/>
                    </a:lnTo>
                    <a:lnTo>
                      <a:pt x="2227" y="1179"/>
                    </a:lnTo>
                    <a:lnTo>
                      <a:pt x="2208" y="1179"/>
                    </a:lnTo>
                    <a:lnTo>
                      <a:pt x="2171" y="1197"/>
                    </a:lnTo>
                    <a:lnTo>
                      <a:pt x="2152" y="1216"/>
                    </a:lnTo>
                    <a:lnTo>
                      <a:pt x="2133" y="1234"/>
                    </a:lnTo>
                    <a:lnTo>
                      <a:pt x="2095" y="1253"/>
                    </a:lnTo>
                    <a:lnTo>
                      <a:pt x="2076" y="1271"/>
                    </a:lnTo>
                    <a:lnTo>
                      <a:pt x="2058" y="1289"/>
                    </a:lnTo>
                    <a:lnTo>
                      <a:pt x="2020" y="1289"/>
                    </a:lnTo>
                    <a:lnTo>
                      <a:pt x="2001" y="1308"/>
                    </a:lnTo>
                    <a:lnTo>
                      <a:pt x="1982" y="1326"/>
                    </a:lnTo>
                    <a:lnTo>
                      <a:pt x="1944" y="1345"/>
                    </a:lnTo>
                    <a:lnTo>
                      <a:pt x="1925" y="1363"/>
                    </a:lnTo>
                    <a:lnTo>
                      <a:pt x="1888" y="1363"/>
                    </a:lnTo>
                    <a:lnTo>
                      <a:pt x="1869" y="1382"/>
                    </a:lnTo>
                    <a:lnTo>
                      <a:pt x="1850" y="1399"/>
                    </a:lnTo>
                    <a:lnTo>
                      <a:pt x="1812" y="1418"/>
                    </a:lnTo>
                    <a:lnTo>
                      <a:pt x="1793" y="1418"/>
                    </a:lnTo>
                    <a:lnTo>
                      <a:pt x="1680" y="1418"/>
                    </a:lnTo>
                    <a:lnTo>
                      <a:pt x="1529" y="1142"/>
                    </a:lnTo>
                    <a:lnTo>
                      <a:pt x="1529" y="1123"/>
                    </a:lnTo>
                    <a:lnTo>
                      <a:pt x="1529" y="1105"/>
                    </a:lnTo>
                    <a:lnTo>
                      <a:pt x="1529" y="1086"/>
                    </a:lnTo>
                    <a:lnTo>
                      <a:pt x="1529" y="1068"/>
                    </a:lnTo>
                    <a:lnTo>
                      <a:pt x="1510" y="1050"/>
                    </a:lnTo>
                    <a:lnTo>
                      <a:pt x="1510" y="1050"/>
                    </a:lnTo>
                    <a:lnTo>
                      <a:pt x="1491" y="1032"/>
                    </a:lnTo>
                    <a:lnTo>
                      <a:pt x="1491" y="1013"/>
                    </a:lnTo>
                    <a:lnTo>
                      <a:pt x="1491" y="1013"/>
                    </a:lnTo>
                    <a:lnTo>
                      <a:pt x="1472" y="995"/>
                    </a:lnTo>
                    <a:lnTo>
                      <a:pt x="1472" y="976"/>
                    </a:lnTo>
                    <a:lnTo>
                      <a:pt x="1472" y="958"/>
                    </a:lnTo>
                    <a:lnTo>
                      <a:pt x="1453" y="939"/>
                    </a:lnTo>
                    <a:lnTo>
                      <a:pt x="1453" y="939"/>
                    </a:lnTo>
                    <a:lnTo>
                      <a:pt x="1472" y="921"/>
                    </a:lnTo>
                    <a:lnTo>
                      <a:pt x="1472" y="884"/>
                    </a:lnTo>
                    <a:lnTo>
                      <a:pt x="1472" y="884"/>
                    </a:lnTo>
                    <a:lnTo>
                      <a:pt x="1472" y="865"/>
                    </a:lnTo>
                    <a:lnTo>
                      <a:pt x="1453" y="847"/>
                    </a:lnTo>
                    <a:lnTo>
                      <a:pt x="1453" y="847"/>
                    </a:lnTo>
                    <a:lnTo>
                      <a:pt x="1434" y="847"/>
                    </a:lnTo>
                    <a:lnTo>
                      <a:pt x="1434" y="829"/>
                    </a:lnTo>
                    <a:lnTo>
                      <a:pt x="1434" y="810"/>
                    </a:lnTo>
                    <a:lnTo>
                      <a:pt x="1434" y="792"/>
                    </a:lnTo>
                    <a:lnTo>
                      <a:pt x="2567" y="0"/>
                    </a:lnTo>
                    <a:lnTo>
                      <a:pt x="8079" y="0"/>
                    </a:lnTo>
                    <a:close/>
                    <a:moveTo>
                      <a:pt x="2510" y="0"/>
                    </a:moveTo>
                    <a:lnTo>
                      <a:pt x="246" y="1050"/>
                    </a:lnTo>
                    <a:lnTo>
                      <a:pt x="37" y="423"/>
                    </a:lnTo>
                    <a:lnTo>
                      <a:pt x="19" y="423"/>
                    </a:lnTo>
                    <a:lnTo>
                      <a:pt x="19" y="423"/>
                    </a:lnTo>
                    <a:lnTo>
                      <a:pt x="19" y="423"/>
                    </a:lnTo>
                    <a:lnTo>
                      <a:pt x="19" y="405"/>
                    </a:lnTo>
                    <a:lnTo>
                      <a:pt x="19" y="405"/>
                    </a:lnTo>
                    <a:lnTo>
                      <a:pt x="0" y="386"/>
                    </a:lnTo>
                    <a:lnTo>
                      <a:pt x="0" y="368"/>
                    </a:lnTo>
                    <a:lnTo>
                      <a:pt x="0" y="368"/>
                    </a:lnTo>
                    <a:lnTo>
                      <a:pt x="415" y="0"/>
                    </a:lnTo>
                    <a:lnTo>
                      <a:pt x="251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29" name="Freeform 194"/>
              <p:cNvSpPr/>
              <p:nvPr/>
            </p:nvSpPr>
            <p:spPr>
              <a:xfrm>
                <a:off x="3363120" y="5690880"/>
                <a:ext cx="1260360" cy="114120"/>
              </a:xfrm>
              <a:custGeom>
                <a:avLst/>
                <a:gdLst/>
                <a:ahLst/>
                <a:rect l="l" t="t" r="r" b="b"/>
                <a:pathLst>
                  <a:path w="6361" h="1327">
                    <a:moveTo>
                      <a:pt x="6361" y="0"/>
                    </a:moveTo>
                    <a:lnTo>
                      <a:pt x="6267" y="18"/>
                    </a:lnTo>
                    <a:lnTo>
                      <a:pt x="6172" y="37"/>
                    </a:lnTo>
                    <a:lnTo>
                      <a:pt x="6097" y="74"/>
                    </a:lnTo>
                    <a:lnTo>
                      <a:pt x="6003" y="92"/>
                    </a:lnTo>
                    <a:lnTo>
                      <a:pt x="5927" y="129"/>
                    </a:lnTo>
                    <a:lnTo>
                      <a:pt x="5832" y="147"/>
                    </a:lnTo>
                    <a:lnTo>
                      <a:pt x="5739" y="166"/>
                    </a:lnTo>
                    <a:lnTo>
                      <a:pt x="5663" y="203"/>
                    </a:lnTo>
                    <a:lnTo>
                      <a:pt x="5568" y="221"/>
                    </a:lnTo>
                    <a:lnTo>
                      <a:pt x="5493" y="258"/>
                    </a:lnTo>
                    <a:lnTo>
                      <a:pt x="5399" y="295"/>
                    </a:lnTo>
                    <a:lnTo>
                      <a:pt x="5304" y="314"/>
                    </a:lnTo>
                    <a:lnTo>
                      <a:pt x="5229" y="350"/>
                    </a:lnTo>
                    <a:lnTo>
                      <a:pt x="5134" y="368"/>
                    </a:lnTo>
                    <a:lnTo>
                      <a:pt x="5059" y="405"/>
                    </a:lnTo>
                    <a:lnTo>
                      <a:pt x="4965" y="442"/>
                    </a:lnTo>
                    <a:lnTo>
                      <a:pt x="4870" y="461"/>
                    </a:lnTo>
                    <a:lnTo>
                      <a:pt x="4794" y="498"/>
                    </a:lnTo>
                    <a:lnTo>
                      <a:pt x="4701" y="535"/>
                    </a:lnTo>
                    <a:lnTo>
                      <a:pt x="4606" y="571"/>
                    </a:lnTo>
                    <a:lnTo>
                      <a:pt x="4530" y="608"/>
                    </a:lnTo>
                    <a:lnTo>
                      <a:pt x="4436" y="645"/>
                    </a:lnTo>
                    <a:lnTo>
                      <a:pt x="4361" y="681"/>
                    </a:lnTo>
                    <a:lnTo>
                      <a:pt x="4266" y="718"/>
                    </a:lnTo>
                    <a:lnTo>
                      <a:pt x="4172" y="755"/>
                    </a:lnTo>
                    <a:lnTo>
                      <a:pt x="4096" y="792"/>
                    </a:lnTo>
                    <a:lnTo>
                      <a:pt x="4002" y="829"/>
                    </a:lnTo>
                    <a:lnTo>
                      <a:pt x="3908" y="866"/>
                    </a:lnTo>
                    <a:lnTo>
                      <a:pt x="3832" y="903"/>
                    </a:lnTo>
                    <a:lnTo>
                      <a:pt x="3737" y="958"/>
                    </a:lnTo>
                    <a:lnTo>
                      <a:pt x="3644" y="995"/>
                    </a:lnTo>
                    <a:lnTo>
                      <a:pt x="3568" y="1050"/>
                    </a:lnTo>
                    <a:lnTo>
                      <a:pt x="3530" y="1050"/>
                    </a:lnTo>
                    <a:lnTo>
                      <a:pt x="3492" y="1068"/>
                    </a:lnTo>
                    <a:lnTo>
                      <a:pt x="3473" y="1087"/>
                    </a:lnTo>
                    <a:lnTo>
                      <a:pt x="3435" y="1105"/>
                    </a:lnTo>
                    <a:lnTo>
                      <a:pt x="3397" y="1124"/>
                    </a:lnTo>
                    <a:lnTo>
                      <a:pt x="3379" y="1142"/>
                    </a:lnTo>
                    <a:lnTo>
                      <a:pt x="3341" y="1161"/>
                    </a:lnTo>
                    <a:lnTo>
                      <a:pt x="3323" y="1161"/>
                    </a:lnTo>
                    <a:lnTo>
                      <a:pt x="3285" y="1179"/>
                    </a:lnTo>
                    <a:lnTo>
                      <a:pt x="3266" y="1198"/>
                    </a:lnTo>
                    <a:lnTo>
                      <a:pt x="3228" y="1216"/>
                    </a:lnTo>
                    <a:lnTo>
                      <a:pt x="3209" y="1216"/>
                    </a:lnTo>
                    <a:lnTo>
                      <a:pt x="3171" y="1235"/>
                    </a:lnTo>
                    <a:lnTo>
                      <a:pt x="3133" y="1253"/>
                    </a:lnTo>
                    <a:lnTo>
                      <a:pt x="3115" y="1253"/>
                    </a:lnTo>
                    <a:lnTo>
                      <a:pt x="3077" y="1272"/>
                    </a:lnTo>
                    <a:lnTo>
                      <a:pt x="3058" y="1290"/>
                    </a:lnTo>
                    <a:lnTo>
                      <a:pt x="3020" y="1290"/>
                    </a:lnTo>
                    <a:lnTo>
                      <a:pt x="3001" y="1309"/>
                    </a:lnTo>
                    <a:lnTo>
                      <a:pt x="2964" y="1309"/>
                    </a:lnTo>
                    <a:lnTo>
                      <a:pt x="2945" y="1309"/>
                    </a:lnTo>
                    <a:lnTo>
                      <a:pt x="2907" y="1327"/>
                    </a:lnTo>
                    <a:lnTo>
                      <a:pt x="2888" y="1327"/>
                    </a:lnTo>
                    <a:lnTo>
                      <a:pt x="2851" y="1327"/>
                    </a:lnTo>
                    <a:lnTo>
                      <a:pt x="2832" y="1327"/>
                    </a:lnTo>
                    <a:lnTo>
                      <a:pt x="2794" y="1327"/>
                    </a:lnTo>
                    <a:lnTo>
                      <a:pt x="2775" y="1327"/>
                    </a:lnTo>
                    <a:lnTo>
                      <a:pt x="2737" y="1327"/>
                    </a:lnTo>
                    <a:lnTo>
                      <a:pt x="2699" y="1327"/>
                    </a:lnTo>
                    <a:lnTo>
                      <a:pt x="2680" y="1309"/>
                    </a:lnTo>
                    <a:lnTo>
                      <a:pt x="2642" y="1309"/>
                    </a:lnTo>
                    <a:lnTo>
                      <a:pt x="2605" y="1290"/>
                    </a:lnTo>
                    <a:lnTo>
                      <a:pt x="2454" y="737"/>
                    </a:lnTo>
                    <a:lnTo>
                      <a:pt x="2454" y="737"/>
                    </a:lnTo>
                    <a:lnTo>
                      <a:pt x="2435" y="718"/>
                    </a:lnTo>
                    <a:lnTo>
                      <a:pt x="2435" y="718"/>
                    </a:lnTo>
                    <a:lnTo>
                      <a:pt x="2435" y="700"/>
                    </a:lnTo>
                    <a:lnTo>
                      <a:pt x="2435" y="700"/>
                    </a:lnTo>
                    <a:lnTo>
                      <a:pt x="2416" y="681"/>
                    </a:lnTo>
                    <a:lnTo>
                      <a:pt x="2416" y="681"/>
                    </a:lnTo>
                    <a:lnTo>
                      <a:pt x="2397" y="664"/>
                    </a:lnTo>
                    <a:lnTo>
                      <a:pt x="3379" y="0"/>
                    </a:lnTo>
                    <a:lnTo>
                      <a:pt x="6361" y="0"/>
                    </a:lnTo>
                    <a:close/>
                    <a:moveTo>
                      <a:pt x="2926" y="0"/>
                    </a:moveTo>
                    <a:lnTo>
                      <a:pt x="2888" y="0"/>
                    </a:lnTo>
                    <a:lnTo>
                      <a:pt x="2869" y="18"/>
                    </a:lnTo>
                    <a:lnTo>
                      <a:pt x="2832" y="37"/>
                    </a:lnTo>
                    <a:lnTo>
                      <a:pt x="2813" y="55"/>
                    </a:lnTo>
                    <a:lnTo>
                      <a:pt x="2775" y="74"/>
                    </a:lnTo>
                    <a:lnTo>
                      <a:pt x="2756" y="74"/>
                    </a:lnTo>
                    <a:lnTo>
                      <a:pt x="2718" y="92"/>
                    </a:lnTo>
                    <a:lnTo>
                      <a:pt x="2699" y="111"/>
                    </a:lnTo>
                    <a:lnTo>
                      <a:pt x="2661" y="111"/>
                    </a:lnTo>
                    <a:lnTo>
                      <a:pt x="2642" y="129"/>
                    </a:lnTo>
                    <a:lnTo>
                      <a:pt x="2605" y="147"/>
                    </a:lnTo>
                    <a:lnTo>
                      <a:pt x="2568" y="147"/>
                    </a:lnTo>
                    <a:lnTo>
                      <a:pt x="2549" y="166"/>
                    </a:lnTo>
                    <a:lnTo>
                      <a:pt x="2511" y="166"/>
                    </a:lnTo>
                    <a:lnTo>
                      <a:pt x="2492" y="184"/>
                    </a:lnTo>
                    <a:lnTo>
                      <a:pt x="2473" y="184"/>
                    </a:lnTo>
                    <a:lnTo>
                      <a:pt x="2435" y="203"/>
                    </a:lnTo>
                    <a:lnTo>
                      <a:pt x="2416" y="221"/>
                    </a:lnTo>
                    <a:lnTo>
                      <a:pt x="2378" y="240"/>
                    </a:lnTo>
                    <a:lnTo>
                      <a:pt x="2359" y="277"/>
                    </a:lnTo>
                    <a:lnTo>
                      <a:pt x="2321" y="295"/>
                    </a:lnTo>
                    <a:lnTo>
                      <a:pt x="2303" y="314"/>
                    </a:lnTo>
                    <a:lnTo>
                      <a:pt x="2284" y="332"/>
                    </a:lnTo>
                    <a:lnTo>
                      <a:pt x="2247" y="350"/>
                    </a:lnTo>
                    <a:lnTo>
                      <a:pt x="2228" y="368"/>
                    </a:lnTo>
                    <a:lnTo>
                      <a:pt x="2190" y="387"/>
                    </a:lnTo>
                    <a:lnTo>
                      <a:pt x="2171" y="405"/>
                    </a:lnTo>
                    <a:lnTo>
                      <a:pt x="2133" y="424"/>
                    </a:lnTo>
                    <a:lnTo>
                      <a:pt x="2114" y="442"/>
                    </a:lnTo>
                    <a:lnTo>
                      <a:pt x="2076" y="461"/>
                    </a:lnTo>
                    <a:lnTo>
                      <a:pt x="2057" y="479"/>
                    </a:lnTo>
                    <a:lnTo>
                      <a:pt x="2039" y="498"/>
                    </a:lnTo>
                    <a:lnTo>
                      <a:pt x="2001" y="516"/>
                    </a:lnTo>
                    <a:lnTo>
                      <a:pt x="1982" y="535"/>
                    </a:lnTo>
                    <a:lnTo>
                      <a:pt x="1944" y="553"/>
                    </a:lnTo>
                    <a:lnTo>
                      <a:pt x="1926" y="571"/>
                    </a:lnTo>
                    <a:lnTo>
                      <a:pt x="1888" y="590"/>
                    </a:lnTo>
                    <a:lnTo>
                      <a:pt x="1869" y="608"/>
                    </a:lnTo>
                    <a:lnTo>
                      <a:pt x="1831" y="608"/>
                    </a:lnTo>
                    <a:lnTo>
                      <a:pt x="1812" y="627"/>
                    </a:lnTo>
                    <a:lnTo>
                      <a:pt x="1775" y="645"/>
                    </a:lnTo>
                    <a:lnTo>
                      <a:pt x="1737" y="664"/>
                    </a:lnTo>
                    <a:lnTo>
                      <a:pt x="1718" y="681"/>
                    </a:lnTo>
                    <a:lnTo>
                      <a:pt x="1680" y="681"/>
                    </a:lnTo>
                    <a:lnTo>
                      <a:pt x="1661" y="700"/>
                    </a:lnTo>
                    <a:lnTo>
                      <a:pt x="1623" y="718"/>
                    </a:lnTo>
                    <a:lnTo>
                      <a:pt x="1604" y="737"/>
                    </a:lnTo>
                    <a:lnTo>
                      <a:pt x="1567" y="737"/>
                    </a:lnTo>
                    <a:lnTo>
                      <a:pt x="1397" y="424"/>
                    </a:lnTo>
                    <a:lnTo>
                      <a:pt x="1397" y="405"/>
                    </a:lnTo>
                    <a:lnTo>
                      <a:pt x="1397" y="387"/>
                    </a:lnTo>
                    <a:lnTo>
                      <a:pt x="1397" y="368"/>
                    </a:lnTo>
                    <a:lnTo>
                      <a:pt x="1397" y="350"/>
                    </a:lnTo>
                    <a:lnTo>
                      <a:pt x="1378" y="332"/>
                    </a:lnTo>
                    <a:lnTo>
                      <a:pt x="1378" y="332"/>
                    </a:lnTo>
                    <a:lnTo>
                      <a:pt x="1359" y="314"/>
                    </a:lnTo>
                    <a:lnTo>
                      <a:pt x="1359" y="295"/>
                    </a:lnTo>
                    <a:lnTo>
                      <a:pt x="1359" y="295"/>
                    </a:lnTo>
                    <a:lnTo>
                      <a:pt x="1340" y="277"/>
                    </a:lnTo>
                    <a:lnTo>
                      <a:pt x="1340" y="258"/>
                    </a:lnTo>
                    <a:lnTo>
                      <a:pt x="1340" y="240"/>
                    </a:lnTo>
                    <a:lnTo>
                      <a:pt x="1321" y="221"/>
                    </a:lnTo>
                    <a:lnTo>
                      <a:pt x="1321" y="221"/>
                    </a:lnTo>
                    <a:lnTo>
                      <a:pt x="1340" y="203"/>
                    </a:lnTo>
                    <a:lnTo>
                      <a:pt x="1340" y="166"/>
                    </a:lnTo>
                    <a:lnTo>
                      <a:pt x="1340" y="166"/>
                    </a:lnTo>
                    <a:lnTo>
                      <a:pt x="1340" y="147"/>
                    </a:lnTo>
                    <a:lnTo>
                      <a:pt x="1321" y="129"/>
                    </a:lnTo>
                    <a:lnTo>
                      <a:pt x="1321" y="129"/>
                    </a:lnTo>
                    <a:lnTo>
                      <a:pt x="1302" y="129"/>
                    </a:lnTo>
                    <a:lnTo>
                      <a:pt x="1302" y="111"/>
                    </a:lnTo>
                    <a:lnTo>
                      <a:pt x="1302" y="92"/>
                    </a:lnTo>
                    <a:lnTo>
                      <a:pt x="1302" y="74"/>
                    </a:lnTo>
                    <a:lnTo>
                      <a:pt x="1397" y="0"/>
                    </a:lnTo>
                    <a:lnTo>
                      <a:pt x="2926" y="0"/>
                    </a:lnTo>
                    <a:close/>
                    <a:moveTo>
                      <a:pt x="831" y="0"/>
                    </a:moveTo>
                    <a:lnTo>
                      <a:pt x="114" y="332"/>
                    </a:lnTo>
                    <a:lnTo>
                      <a:pt x="0" y="0"/>
                    </a:lnTo>
                    <a:lnTo>
                      <a:pt x="83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30" name="Freeform 195"/>
              <p:cNvSpPr/>
              <p:nvPr/>
            </p:nvSpPr>
            <p:spPr>
              <a:xfrm>
                <a:off x="3668040" y="5750640"/>
                <a:ext cx="542880" cy="54360"/>
              </a:xfrm>
              <a:custGeom>
                <a:avLst/>
                <a:gdLst/>
                <a:ahLst/>
                <a:rect l="l" t="t" r="r" b="b"/>
                <a:pathLst>
                  <a:path w="2737" h="627">
                    <a:moveTo>
                      <a:pt x="2737" y="0"/>
                    </a:moveTo>
                    <a:lnTo>
                      <a:pt x="2718" y="18"/>
                    </a:lnTo>
                    <a:lnTo>
                      <a:pt x="2699" y="18"/>
                    </a:lnTo>
                    <a:lnTo>
                      <a:pt x="2661" y="37"/>
                    </a:lnTo>
                    <a:lnTo>
                      <a:pt x="2643" y="37"/>
                    </a:lnTo>
                    <a:lnTo>
                      <a:pt x="2624" y="55"/>
                    </a:lnTo>
                    <a:lnTo>
                      <a:pt x="2605" y="55"/>
                    </a:lnTo>
                    <a:lnTo>
                      <a:pt x="2586" y="74"/>
                    </a:lnTo>
                    <a:lnTo>
                      <a:pt x="2548" y="74"/>
                    </a:lnTo>
                    <a:lnTo>
                      <a:pt x="2529" y="92"/>
                    </a:lnTo>
                    <a:lnTo>
                      <a:pt x="2510" y="111"/>
                    </a:lnTo>
                    <a:lnTo>
                      <a:pt x="2492" y="111"/>
                    </a:lnTo>
                    <a:lnTo>
                      <a:pt x="2473" y="129"/>
                    </a:lnTo>
                    <a:lnTo>
                      <a:pt x="2435" y="129"/>
                    </a:lnTo>
                    <a:lnTo>
                      <a:pt x="2416" y="148"/>
                    </a:lnTo>
                    <a:lnTo>
                      <a:pt x="2397" y="148"/>
                    </a:lnTo>
                    <a:lnTo>
                      <a:pt x="2379" y="166"/>
                    </a:lnTo>
                    <a:lnTo>
                      <a:pt x="2360" y="185"/>
                    </a:lnTo>
                    <a:lnTo>
                      <a:pt x="2322" y="185"/>
                    </a:lnTo>
                    <a:lnTo>
                      <a:pt x="2303" y="203"/>
                    </a:lnTo>
                    <a:lnTo>
                      <a:pt x="2284" y="203"/>
                    </a:lnTo>
                    <a:lnTo>
                      <a:pt x="2265" y="222"/>
                    </a:lnTo>
                    <a:lnTo>
                      <a:pt x="2246" y="222"/>
                    </a:lnTo>
                    <a:lnTo>
                      <a:pt x="2227" y="240"/>
                    </a:lnTo>
                    <a:lnTo>
                      <a:pt x="2189" y="258"/>
                    </a:lnTo>
                    <a:lnTo>
                      <a:pt x="2170" y="258"/>
                    </a:lnTo>
                    <a:lnTo>
                      <a:pt x="2151" y="277"/>
                    </a:lnTo>
                    <a:lnTo>
                      <a:pt x="2133" y="277"/>
                    </a:lnTo>
                    <a:lnTo>
                      <a:pt x="2096" y="295"/>
                    </a:lnTo>
                    <a:lnTo>
                      <a:pt x="2077" y="314"/>
                    </a:lnTo>
                    <a:lnTo>
                      <a:pt x="2058" y="314"/>
                    </a:lnTo>
                    <a:lnTo>
                      <a:pt x="2039" y="331"/>
                    </a:lnTo>
                    <a:lnTo>
                      <a:pt x="2020" y="350"/>
                    </a:lnTo>
                    <a:lnTo>
                      <a:pt x="1982" y="350"/>
                    </a:lnTo>
                    <a:lnTo>
                      <a:pt x="1944" y="368"/>
                    </a:lnTo>
                    <a:lnTo>
                      <a:pt x="1925" y="387"/>
                    </a:lnTo>
                    <a:lnTo>
                      <a:pt x="1887" y="405"/>
                    </a:lnTo>
                    <a:lnTo>
                      <a:pt x="1849" y="424"/>
                    </a:lnTo>
                    <a:lnTo>
                      <a:pt x="1831" y="442"/>
                    </a:lnTo>
                    <a:lnTo>
                      <a:pt x="1793" y="461"/>
                    </a:lnTo>
                    <a:lnTo>
                      <a:pt x="1775" y="461"/>
                    </a:lnTo>
                    <a:lnTo>
                      <a:pt x="1737" y="479"/>
                    </a:lnTo>
                    <a:lnTo>
                      <a:pt x="1718" y="498"/>
                    </a:lnTo>
                    <a:lnTo>
                      <a:pt x="1680" y="516"/>
                    </a:lnTo>
                    <a:lnTo>
                      <a:pt x="1661" y="516"/>
                    </a:lnTo>
                    <a:lnTo>
                      <a:pt x="1623" y="535"/>
                    </a:lnTo>
                    <a:lnTo>
                      <a:pt x="1585" y="553"/>
                    </a:lnTo>
                    <a:lnTo>
                      <a:pt x="1567" y="553"/>
                    </a:lnTo>
                    <a:lnTo>
                      <a:pt x="1529" y="572"/>
                    </a:lnTo>
                    <a:lnTo>
                      <a:pt x="1510" y="590"/>
                    </a:lnTo>
                    <a:lnTo>
                      <a:pt x="1472" y="590"/>
                    </a:lnTo>
                    <a:lnTo>
                      <a:pt x="1453" y="609"/>
                    </a:lnTo>
                    <a:lnTo>
                      <a:pt x="1416" y="609"/>
                    </a:lnTo>
                    <a:lnTo>
                      <a:pt x="1397" y="609"/>
                    </a:lnTo>
                    <a:lnTo>
                      <a:pt x="1359" y="627"/>
                    </a:lnTo>
                    <a:lnTo>
                      <a:pt x="1340" y="627"/>
                    </a:lnTo>
                    <a:lnTo>
                      <a:pt x="1303" y="627"/>
                    </a:lnTo>
                    <a:lnTo>
                      <a:pt x="1284" y="627"/>
                    </a:lnTo>
                    <a:lnTo>
                      <a:pt x="1246" y="627"/>
                    </a:lnTo>
                    <a:lnTo>
                      <a:pt x="1227" y="627"/>
                    </a:lnTo>
                    <a:lnTo>
                      <a:pt x="1189" y="627"/>
                    </a:lnTo>
                    <a:lnTo>
                      <a:pt x="1151" y="627"/>
                    </a:lnTo>
                    <a:lnTo>
                      <a:pt x="1132" y="609"/>
                    </a:lnTo>
                    <a:lnTo>
                      <a:pt x="1094" y="609"/>
                    </a:lnTo>
                    <a:lnTo>
                      <a:pt x="1057" y="590"/>
                    </a:lnTo>
                    <a:lnTo>
                      <a:pt x="906" y="37"/>
                    </a:lnTo>
                    <a:lnTo>
                      <a:pt x="906" y="37"/>
                    </a:lnTo>
                    <a:lnTo>
                      <a:pt x="906" y="37"/>
                    </a:lnTo>
                    <a:lnTo>
                      <a:pt x="887" y="37"/>
                    </a:lnTo>
                    <a:lnTo>
                      <a:pt x="887" y="18"/>
                    </a:lnTo>
                    <a:lnTo>
                      <a:pt x="887" y="18"/>
                    </a:lnTo>
                    <a:lnTo>
                      <a:pt x="887" y="18"/>
                    </a:lnTo>
                    <a:lnTo>
                      <a:pt x="887" y="0"/>
                    </a:lnTo>
                    <a:lnTo>
                      <a:pt x="887" y="0"/>
                    </a:lnTo>
                    <a:lnTo>
                      <a:pt x="2737" y="0"/>
                    </a:lnTo>
                    <a:close/>
                    <a:moveTo>
                      <a:pt x="113" y="0"/>
                    </a:moveTo>
                    <a:lnTo>
                      <a:pt x="94" y="0"/>
                    </a:lnTo>
                    <a:lnTo>
                      <a:pt x="94" y="18"/>
                    </a:lnTo>
                    <a:lnTo>
                      <a:pt x="75" y="18"/>
                    </a:lnTo>
                    <a:lnTo>
                      <a:pt x="56" y="18"/>
                    </a:lnTo>
                    <a:lnTo>
                      <a:pt x="56" y="37"/>
                    </a:lnTo>
                    <a:lnTo>
                      <a:pt x="37" y="37"/>
                    </a:lnTo>
                    <a:lnTo>
                      <a:pt x="37" y="37"/>
                    </a:lnTo>
                    <a:lnTo>
                      <a:pt x="19" y="37"/>
                    </a:lnTo>
                    <a:lnTo>
                      <a:pt x="0" y="0"/>
                    </a:lnTo>
                    <a:lnTo>
                      <a:pt x="11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31" name="Freeform 196"/>
              <p:cNvSpPr/>
              <p:nvPr/>
            </p:nvSpPr>
            <p:spPr>
              <a:xfrm>
                <a:off x="4060800" y="533160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38" h="1">
                    <a:moveTo>
                      <a:pt x="0" y="0"/>
                    </a:move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38" y="0"/>
                    </a:lnTo>
                    <a:lnTo>
                      <a:pt x="19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32" name="Freeform 197"/>
              <p:cNvSpPr/>
              <p:nvPr/>
            </p:nvSpPr>
            <p:spPr>
              <a:xfrm>
                <a:off x="4056480" y="5331600"/>
                <a:ext cx="12240" cy="144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0"/>
                    </a:move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57" y="0"/>
                    </a:lnTo>
                    <a:lnTo>
                      <a:pt x="19" y="18"/>
                    </a:lnTo>
                    <a:lnTo>
                      <a:pt x="0" y="18"/>
                    </a:lnTo>
                    <a:lnTo>
                      <a:pt x="1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33" name="Freeform 198"/>
              <p:cNvSpPr/>
              <p:nvPr/>
            </p:nvSpPr>
            <p:spPr>
              <a:xfrm>
                <a:off x="4052880" y="5331600"/>
                <a:ext cx="11520" cy="144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18"/>
                    </a:moveTo>
                    <a:lnTo>
                      <a:pt x="57" y="0"/>
                    </a:lnTo>
                    <a:lnTo>
                      <a:pt x="38" y="0"/>
                    </a:lnTo>
                    <a:lnTo>
                      <a:pt x="0" y="18"/>
                    </a:lnTo>
                    <a:lnTo>
                      <a:pt x="19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34" name="Freeform 199"/>
              <p:cNvSpPr/>
              <p:nvPr/>
            </p:nvSpPr>
            <p:spPr>
              <a:xfrm>
                <a:off x="4052880" y="5333400"/>
                <a:ext cx="7920" cy="180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35" name="Freeform 200"/>
              <p:cNvSpPr/>
              <p:nvPr/>
            </p:nvSpPr>
            <p:spPr>
              <a:xfrm>
                <a:off x="4049280" y="5333400"/>
                <a:ext cx="6840" cy="180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36" name="Freeform 201"/>
              <p:cNvSpPr/>
              <p:nvPr/>
            </p:nvSpPr>
            <p:spPr>
              <a:xfrm>
                <a:off x="4044600" y="5335560"/>
                <a:ext cx="11520" cy="144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18"/>
                    </a:moveTo>
                    <a:lnTo>
                      <a:pt x="57" y="0"/>
                    </a:lnTo>
                    <a:lnTo>
                      <a:pt x="38" y="0"/>
                    </a:lnTo>
                    <a:lnTo>
                      <a:pt x="0" y="18"/>
                    </a:lnTo>
                    <a:lnTo>
                      <a:pt x="19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37" name="Freeform 202"/>
              <p:cNvSpPr/>
              <p:nvPr/>
            </p:nvSpPr>
            <p:spPr>
              <a:xfrm>
                <a:off x="4041000" y="5335560"/>
                <a:ext cx="11520" cy="144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18"/>
                    </a:moveTo>
                    <a:lnTo>
                      <a:pt x="57" y="0"/>
                    </a:lnTo>
                    <a:lnTo>
                      <a:pt x="38" y="0"/>
                    </a:lnTo>
                    <a:lnTo>
                      <a:pt x="0" y="18"/>
                    </a:lnTo>
                    <a:lnTo>
                      <a:pt x="19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38" name="Freeform 203"/>
              <p:cNvSpPr/>
              <p:nvPr/>
            </p:nvSpPr>
            <p:spPr>
              <a:xfrm>
                <a:off x="4041000" y="5337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39" name="Freeform 204"/>
              <p:cNvSpPr/>
              <p:nvPr/>
            </p:nvSpPr>
            <p:spPr>
              <a:xfrm>
                <a:off x="4033080" y="5338800"/>
                <a:ext cx="7920" cy="1800"/>
              </a:xfrm>
              <a:custGeom>
                <a:avLst/>
                <a:gdLst/>
                <a:ahLst/>
                <a:rect l="l" t="t" r="r" b="b"/>
                <a:pathLst>
                  <a:path w="56" h="18">
                    <a:moveTo>
                      <a:pt x="18" y="18"/>
                    </a:moveTo>
                    <a:lnTo>
                      <a:pt x="56" y="0"/>
                    </a:lnTo>
                    <a:lnTo>
                      <a:pt x="37" y="0"/>
                    </a:lnTo>
                    <a:lnTo>
                      <a:pt x="0" y="18"/>
                    </a:lnTo>
                    <a:lnTo>
                      <a:pt x="18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40" name="Freeform 205"/>
              <p:cNvSpPr/>
              <p:nvPr/>
            </p:nvSpPr>
            <p:spPr>
              <a:xfrm>
                <a:off x="4024800" y="5340960"/>
                <a:ext cx="7920" cy="504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38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41" name="Freeform 206"/>
              <p:cNvSpPr/>
              <p:nvPr/>
            </p:nvSpPr>
            <p:spPr>
              <a:xfrm>
                <a:off x="4013280" y="5342400"/>
                <a:ext cx="7920" cy="180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38" y="0"/>
                    </a:moveTo>
                    <a:lnTo>
                      <a:pt x="0" y="19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42" name="Freeform 207"/>
              <p:cNvSpPr/>
              <p:nvPr/>
            </p:nvSpPr>
            <p:spPr>
              <a:xfrm>
                <a:off x="4013280" y="53445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19" h="1">
                    <a:moveTo>
                      <a:pt x="19" y="0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</p:grpSp>
        <p:sp>
          <p:nvSpPr>
            <p:cNvPr id="443" name="Rectangle 208"/>
            <p:cNvSpPr/>
            <p:nvPr/>
          </p:nvSpPr>
          <p:spPr>
            <a:xfrm>
              <a:off x="2639880" y="4762080"/>
              <a:ext cx="216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f5494"/>
                  </a:solidFill>
                  <a:latin typeface="Verdana"/>
                </a:rPr>
                <a:t> </a:t>
              </a:r>
              <a:r>
                <a:rPr b="1" lang="fr-FR" sz="2000" spc="-1" strike="noStrike">
                  <a:solidFill>
                    <a:srgbClr val="0f5494"/>
                  </a:solidFill>
                  <a:latin typeface="Verdana"/>
                </a:rPr>
                <a:t>l’action collective</a:t>
              </a:r>
              <a:endParaRPr b="0" lang="en-US" sz="20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sp>
        <p:nvSpPr>
          <p:cNvPr id="444" name="Rectangle 2"/>
          <p:cNvSpPr/>
          <p:nvPr/>
        </p:nvSpPr>
        <p:spPr>
          <a:xfrm>
            <a:off x="304920" y="685800"/>
            <a:ext cx="82296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Verdana"/>
              </a:rPr>
              <a:t>COMPRENDRE POURQUOI LES POTENTIALITES NE SE LIBERENT PAS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46" name="Picture 4" descr="C:\Users\rodrigo\AppData\Local\Microsoft\Windows\Temporary Internet Files\Content.Outlook\OY1YG202\les mains lies.jpg"/>
          <p:cNvPicPr/>
          <p:nvPr/>
        </p:nvPicPr>
        <p:blipFill>
          <a:blip r:embed="rId1"/>
          <a:srcRect l="-40900" t="0" r="-40900" b="0"/>
          <a:stretch/>
        </p:blipFill>
        <p:spPr>
          <a:xfrm>
            <a:off x="457200" y="2492280"/>
            <a:ext cx="822960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Verdana"/>
              </a:rPr>
              <a:t>MESSAGE 1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f5494"/>
                </a:solidFill>
                <a:latin typeface="Verdana"/>
              </a:rPr>
              <a:t>BESOIN DE SE METTRE D’ACCORD SUR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              </a:t>
            </a: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LE   “DNA”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DES APPROCHES TERRITORIALES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2" descr="4. porte entreouverte (1).jpg"/>
          <p:cNvPicPr/>
          <p:nvPr/>
        </p:nvPicPr>
        <p:blipFill>
          <a:blip r:embed="rId1"/>
          <a:stretch/>
        </p:blipFill>
        <p:spPr>
          <a:xfrm>
            <a:off x="533520" y="0"/>
            <a:ext cx="7696080" cy="5300640"/>
          </a:xfrm>
          <a:prstGeom prst="rect">
            <a:avLst/>
          </a:prstGeom>
          <a:ln w="0">
            <a:noFill/>
          </a:ln>
        </p:spPr>
      </p:pic>
      <p:sp>
        <p:nvSpPr>
          <p:cNvPr id="448" name="TextBox 3"/>
          <p:cNvSpPr/>
          <p:nvPr/>
        </p:nvSpPr>
        <p:spPr>
          <a:xfrm>
            <a:off x="611280" y="551664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MIEUX COMPRENDRE LES OPPORTUNITES ET LEVIERS DE CHANGEMENT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Shape 465"/>
          <p:cNvSpPr/>
          <p:nvPr/>
        </p:nvSpPr>
        <p:spPr>
          <a:xfrm>
            <a:off x="673200" y="1701720"/>
            <a:ext cx="7632720" cy="628560"/>
          </a:xfrm>
          <a:prstGeom prst="rect">
            <a:avLst/>
          </a:prstGeom>
          <a:solidFill>
            <a:srgbClr val="f3f3f3"/>
          </a:solidFill>
          <a:ln w="38160">
            <a:solidFill>
              <a:srgbClr val="1155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marL="914400" indent="4572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Développement Local/Territorial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0" name="Shape 468"/>
          <p:cNvSpPr/>
          <p:nvPr/>
        </p:nvSpPr>
        <p:spPr>
          <a:xfrm>
            <a:off x="5924520" y="2644920"/>
            <a:ext cx="2381400" cy="2425680"/>
          </a:xfrm>
          <a:prstGeom prst="rect">
            <a:avLst/>
          </a:prstGeom>
          <a:solidFill>
            <a:srgbClr val="f3f3f3"/>
          </a:solidFill>
          <a:ln w="38160">
            <a:solidFill>
              <a:srgbClr val="1155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1" name="Shape 467"/>
          <p:cNvSpPr/>
          <p:nvPr/>
        </p:nvSpPr>
        <p:spPr>
          <a:xfrm>
            <a:off x="3327480" y="2644920"/>
            <a:ext cx="2381040" cy="2425680"/>
          </a:xfrm>
          <a:prstGeom prst="rect">
            <a:avLst/>
          </a:prstGeom>
          <a:solidFill>
            <a:srgbClr val="f3f3f3"/>
          </a:solidFill>
          <a:ln w="38160">
            <a:solidFill>
              <a:srgbClr val="1155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2" name="Shape 466"/>
          <p:cNvSpPr/>
          <p:nvPr/>
        </p:nvSpPr>
        <p:spPr>
          <a:xfrm>
            <a:off x="730080" y="2644920"/>
            <a:ext cx="2381400" cy="2425680"/>
          </a:xfrm>
          <a:prstGeom prst="rect">
            <a:avLst/>
          </a:prstGeom>
          <a:solidFill>
            <a:srgbClr val="f3f3f3"/>
          </a:solidFill>
          <a:ln w="38160">
            <a:solidFill>
              <a:srgbClr val="1155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3" name="Shape 470"/>
          <p:cNvSpPr/>
          <p:nvPr/>
        </p:nvSpPr>
        <p:spPr>
          <a:xfrm>
            <a:off x="760320" y="2754360"/>
            <a:ext cx="2320920" cy="21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f5494"/>
                </a:solidFill>
                <a:latin typeface="Verdana"/>
              </a:rPr>
              <a:t>Résultats politiques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Verdana"/>
              </a:rPr>
              <a:t>Décentralisation &amp; politiques de développement territorial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Verdana"/>
              </a:rPr>
              <a:t>Programmes et stratégies de mise en œuvre des réformes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00000"/>
              </a:buClr>
              <a:buSzPct val="92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Verdana"/>
              </a:rPr>
              <a:t>Cadres constitutionnel, législatif et réglementaire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4" name="Shape 471"/>
          <p:cNvSpPr/>
          <p:nvPr/>
        </p:nvSpPr>
        <p:spPr>
          <a:xfrm>
            <a:off x="3446640" y="2754360"/>
            <a:ext cx="214308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f5494"/>
                </a:solidFill>
                <a:latin typeface="Verdana"/>
              </a:rPr>
              <a:t>Résultats sectoriels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Verdana"/>
              </a:rPr>
              <a:t>Provision de services publics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Verdana"/>
              </a:rPr>
              <a:t>Protection et gestion  l’environnement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00000"/>
              </a:buClr>
              <a:buSzPct val="92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Verdana"/>
              </a:rPr>
              <a:t>Développement économique et promotion de l’emploi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5" name="Shape 472"/>
          <p:cNvSpPr/>
          <p:nvPr/>
        </p:nvSpPr>
        <p:spPr>
          <a:xfrm>
            <a:off x="5924520" y="2598840"/>
            <a:ext cx="243828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f5494"/>
                </a:solidFill>
                <a:latin typeface="Verdana"/>
              </a:rPr>
              <a:t>Résultats institutionnels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Verdana"/>
              </a:rPr>
              <a:t>Institutions de gouvernance multi-acteurs et multi-niveau (2D): Institutions favorisant le leadership et capacités administratives des AL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Verdana"/>
              </a:rPr>
              <a:t>Institutions facilitant la citoyenneté active, et les partenariats public-privée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6" name="Shape 474"/>
          <p:cNvSpPr/>
          <p:nvPr/>
        </p:nvSpPr>
        <p:spPr>
          <a:xfrm>
            <a:off x="4378320" y="2376360"/>
            <a:ext cx="222120" cy="222480"/>
          </a:xfrm>
          <a:prstGeom prst="upArrow">
            <a:avLst>
              <a:gd name="adj1" fmla="val 50000"/>
              <a:gd name="adj2" fmla="val 49947"/>
            </a:avLst>
          </a:prstGeom>
          <a:solidFill>
            <a:srgbClr val="0b539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75960" bIns="75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7" name="Shape 475"/>
          <p:cNvSpPr/>
          <p:nvPr/>
        </p:nvSpPr>
        <p:spPr>
          <a:xfrm>
            <a:off x="1758960" y="2376360"/>
            <a:ext cx="222120" cy="222480"/>
          </a:xfrm>
          <a:prstGeom prst="upArrow">
            <a:avLst>
              <a:gd name="adj1" fmla="val 50000"/>
              <a:gd name="adj2" fmla="val 49947"/>
            </a:avLst>
          </a:prstGeom>
          <a:solidFill>
            <a:srgbClr val="0b539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75960" bIns="75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8" name="Shape 476"/>
          <p:cNvSpPr/>
          <p:nvPr/>
        </p:nvSpPr>
        <p:spPr>
          <a:xfrm>
            <a:off x="6921360" y="2376360"/>
            <a:ext cx="222480" cy="222480"/>
          </a:xfrm>
          <a:prstGeom prst="upArrow">
            <a:avLst>
              <a:gd name="adj1" fmla="val 50000"/>
              <a:gd name="adj2" fmla="val 49866"/>
            </a:avLst>
          </a:prstGeom>
          <a:solidFill>
            <a:srgbClr val="0b539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75960" bIns="75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9" name="Shape 469"/>
          <p:cNvSpPr/>
          <p:nvPr/>
        </p:nvSpPr>
        <p:spPr>
          <a:xfrm>
            <a:off x="730080" y="5425920"/>
            <a:ext cx="7632720" cy="628920"/>
          </a:xfrm>
          <a:prstGeom prst="rect">
            <a:avLst/>
          </a:prstGeom>
          <a:solidFill>
            <a:srgbClr val="f3f3f3"/>
          </a:solidFill>
          <a:ln w="38160">
            <a:solidFill>
              <a:srgbClr val="1155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   </a:t>
            </a:r>
            <a:r>
              <a:rPr b="1" lang="fr-BE" sz="2200" spc="-1" strike="noStrike">
                <a:solidFill>
                  <a:srgbClr val="0f5494"/>
                </a:solidFill>
                <a:latin typeface="Verdana"/>
              </a:rPr>
              <a:t>Contributions financières et non-financières</a:t>
            </a:r>
            <a:endParaRPr b="0" lang="en-US" sz="22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200" spc="-1" strike="noStrike">
                <a:solidFill>
                  <a:srgbClr val="0f5494"/>
                </a:solidFill>
                <a:latin typeface="Verdana"/>
              </a:rPr>
              <a:t>         </a:t>
            </a:r>
            <a:r>
              <a:rPr b="1" lang="fr-BE" sz="2200" spc="-1" strike="noStrike">
                <a:solidFill>
                  <a:srgbClr val="0f5494"/>
                </a:solidFill>
                <a:latin typeface="Verdana"/>
              </a:rPr>
              <a:t>(</a:t>
            </a:r>
            <a:r>
              <a:rPr b="1" i="1" lang="fr-BE" sz="1400" spc="-1" strike="noStrike">
                <a:solidFill>
                  <a:srgbClr val="0f5494"/>
                </a:solidFill>
                <a:latin typeface="Verdana"/>
              </a:rPr>
              <a:t>AT, dialogue politique, renforcement de capacités…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0" name="Shape 477"/>
          <p:cNvSpPr/>
          <p:nvPr/>
        </p:nvSpPr>
        <p:spPr>
          <a:xfrm>
            <a:off x="1809720" y="5146560"/>
            <a:ext cx="222120" cy="222480"/>
          </a:xfrm>
          <a:prstGeom prst="upArrow">
            <a:avLst>
              <a:gd name="adj1" fmla="val 50000"/>
              <a:gd name="adj2" fmla="val 49947"/>
            </a:avLst>
          </a:prstGeom>
          <a:solidFill>
            <a:srgbClr val="0b539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75960" bIns="75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1" name="Shape 478"/>
          <p:cNvSpPr/>
          <p:nvPr/>
        </p:nvSpPr>
        <p:spPr>
          <a:xfrm>
            <a:off x="4435560" y="5137200"/>
            <a:ext cx="222120" cy="222120"/>
          </a:xfrm>
          <a:prstGeom prst="upArrow">
            <a:avLst>
              <a:gd name="adj1" fmla="val 50000"/>
              <a:gd name="adj2" fmla="val 49866"/>
            </a:avLst>
          </a:prstGeom>
          <a:solidFill>
            <a:srgbClr val="0b539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75600" bIns="75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2" name="Shape 479"/>
          <p:cNvSpPr/>
          <p:nvPr/>
        </p:nvSpPr>
        <p:spPr>
          <a:xfrm>
            <a:off x="7004160" y="5137200"/>
            <a:ext cx="222120" cy="222120"/>
          </a:xfrm>
          <a:prstGeom prst="upArrow">
            <a:avLst>
              <a:gd name="adj1" fmla="val 50000"/>
              <a:gd name="adj2" fmla="val 49866"/>
            </a:avLst>
          </a:prstGeom>
          <a:solidFill>
            <a:srgbClr val="0b539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75600" bIns="75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3" name="Oval 19"/>
          <p:cNvSpPr/>
          <p:nvPr/>
        </p:nvSpPr>
        <p:spPr>
          <a:xfrm rot="10800000">
            <a:off x="3274920" y="2120760"/>
            <a:ext cx="2486160" cy="3316320"/>
          </a:xfrm>
          <a:prstGeom prst="ellipse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4" name="Oval 19"/>
          <p:cNvSpPr/>
          <p:nvPr/>
        </p:nvSpPr>
        <p:spPr>
          <a:xfrm rot="10800000">
            <a:off x="848880" y="2120400"/>
            <a:ext cx="2297160" cy="3449880"/>
          </a:xfrm>
          <a:prstGeom prst="ellipse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5" name="Oval 19"/>
          <p:cNvSpPr/>
          <p:nvPr/>
        </p:nvSpPr>
        <p:spPr>
          <a:xfrm rot="10800000">
            <a:off x="5970240" y="2120400"/>
            <a:ext cx="2335320" cy="3365640"/>
          </a:xfrm>
          <a:prstGeom prst="ellipse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Picture 2" descr="Screen Shot 2015-11-26 at 13.51.03.png"/>
          <p:cNvPicPr/>
          <p:nvPr/>
        </p:nvPicPr>
        <p:blipFill>
          <a:blip r:embed="rId1"/>
          <a:stretch/>
        </p:blipFill>
        <p:spPr>
          <a:xfrm>
            <a:off x="1727280" y="1079640"/>
            <a:ext cx="5676840" cy="46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/>
          </p:nvPr>
        </p:nvSpPr>
        <p:spPr>
          <a:xfrm>
            <a:off x="684360" y="2565000"/>
            <a:ext cx="79200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title"/>
          </p:nvPr>
        </p:nvSpPr>
        <p:spPr>
          <a:xfrm>
            <a:off x="394920" y="981000"/>
            <a:ext cx="74898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7c892b"/>
                </a:solidFill>
                <a:latin typeface="Verdana"/>
                <a:ea typeface="ＭＳ Ｐゴシック"/>
              </a:rPr>
              <a:t>DETECTER LES “DECLENCHEURS”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69" name="Picture 3" descr="Macintosh HD:Users:mm:Desktop:Screen Shot 2015-11-26 at 12.22.00.png"/>
          <p:cNvPicPr/>
          <p:nvPr/>
        </p:nvPicPr>
        <p:blipFill>
          <a:blip r:embed="rId1"/>
          <a:stretch/>
        </p:blipFill>
        <p:spPr>
          <a:xfrm>
            <a:off x="971640" y="1844640"/>
            <a:ext cx="7129440" cy="36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755640" y="1474560"/>
            <a:ext cx="7920000" cy="48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Verdana"/>
              </a:rPr>
              <a:t>DECLENCHEURS POSSIBLES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*  LEADERSHIP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*  DIALOGUE MULTI-ACTEURS ABOUTISSANT A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DES CO-PRODUCTIONS 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*  CONTRACTUALISATION D’OBJECTIFS PARTAGES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*  LOCALISATION DES RESULTATS/INDICATEURS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*  UTILISATION CREATIVE DES OUTILS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DISPONIBLES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* RENFORCER POUVOIR D’INFLUENCE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* ENLEVER LES PESANTEURS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c892b"/>
              </a:solidFill>
              <a:latin typeface="Verdana"/>
              <a:ea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  <a:ea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7854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Page </a:t>
            </a:r>
            <a:fld id="{A69ECBAD-CE35-4B50-8FC6-1F5FEF4E5D93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75" name="Picture 4" descr="Attachment-1 (2)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6" name="Title 1"/>
          <p:cNvSpPr/>
          <p:nvPr/>
        </p:nvSpPr>
        <p:spPr>
          <a:xfrm rot="16200000">
            <a:off x="-792000" y="3679200"/>
            <a:ext cx="3024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8920" indent="-358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ECENTRALISATION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7" name="Title 1"/>
          <p:cNvSpPr/>
          <p:nvPr/>
        </p:nvSpPr>
        <p:spPr>
          <a:xfrm rot="16200000">
            <a:off x="5761080" y="4428720"/>
            <a:ext cx="25923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8920" indent="-358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IVIL SOCIETE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8" name="Title 1"/>
          <p:cNvSpPr/>
          <p:nvPr/>
        </p:nvSpPr>
        <p:spPr>
          <a:xfrm rot="16200000">
            <a:off x="5383800" y="1994040"/>
            <a:ext cx="2016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8920" indent="-358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ECTEUR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Content Placeholder 2"/>
          <p:cNvSpPr/>
          <p:nvPr/>
        </p:nvSpPr>
        <p:spPr>
          <a:xfrm>
            <a:off x="6659640" y="3500280"/>
            <a:ext cx="414000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0" name="Content Placeholder 2"/>
          <p:cNvSpPr/>
          <p:nvPr/>
        </p:nvSpPr>
        <p:spPr>
          <a:xfrm>
            <a:off x="5003640" y="1413000"/>
            <a:ext cx="395136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349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spcBef>
                <a:spcPts val="349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spcBef>
                <a:spcPts val="349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81" name="Image 5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5256000" cy="1943280"/>
          </a:xfrm>
          <a:prstGeom prst="rect">
            <a:avLst/>
          </a:prstGeom>
          <a:ln w="0">
            <a:noFill/>
          </a:ln>
        </p:spPr>
      </p:pic>
      <p:pic>
        <p:nvPicPr>
          <p:cNvPr id="482" name="Shape 146" descr=""/>
          <p:cNvPicPr/>
          <p:nvPr/>
        </p:nvPicPr>
        <p:blipFill>
          <a:blip r:embed="rId2"/>
          <a:stretch/>
        </p:blipFill>
        <p:spPr>
          <a:xfrm>
            <a:off x="108000" y="2924280"/>
            <a:ext cx="849636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SalesMountainComic.jpg"/>
          <p:cNvPicPr/>
          <p:nvPr/>
        </p:nvPicPr>
        <p:blipFill>
          <a:blip r:embed="rId1"/>
          <a:stretch/>
        </p:blipFill>
        <p:spPr>
          <a:xfrm>
            <a:off x="1208160" y="1538280"/>
            <a:ext cx="6723000" cy="4941720"/>
          </a:xfrm>
          <a:prstGeom prst="rect">
            <a:avLst/>
          </a:prstGeom>
          <a:ln w="0">
            <a:noFill/>
          </a:ln>
        </p:spPr>
      </p:pic>
      <p:sp>
        <p:nvSpPr>
          <p:cNvPr id="484" name="Rectangle 7"/>
          <p:cNvSpPr/>
          <p:nvPr/>
        </p:nvSpPr>
        <p:spPr>
          <a:xfrm>
            <a:off x="1295280" y="1892160"/>
            <a:ext cx="2427480" cy="3747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f5494"/>
                </a:solidFill>
                <a:latin typeface="Verdana"/>
              </a:rPr>
              <a:t>MISE EN OEUVRE ?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Shape 409"/>
          <p:cNvSpPr/>
          <p:nvPr/>
        </p:nvSpPr>
        <p:spPr>
          <a:xfrm>
            <a:off x="8410680" y="4437000"/>
            <a:ext cx="44280" cy="71640"/>
          </a:xfrm>
          <a:prstGeom prst="rightArrow">
            <a:avLst>
              <a:gd name="adj1" fmla="val 50000"/>
              <a:gd name="adj2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9720" bIns="-9720" anchor="ctr">
            <a:noAutofit/>
          </a:bodyPr>
          <a:p>
            <a:pPr marL="324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6" name="Shape 410"/>
          <p:cNvSpPr/>
          <p:nvPr/>
        </p:nvSpPr>
        <p:spPr>
          <a:xfrm>
            <a:off x="31680" y="0"/>
            <a:ext cx="8742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d624"/>
                </a:solidFill>
                <a:latin typeface="Verdana"/>
              </a:rPr>
              <a:t>PRINCIPES DIRECTEURS (1)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7" name="Shape 411"/>
          <p:cNvSpPr/>
          <p:nvPr/>
        </p:nvSpPr>
        <p:spPr>
          <a:xfrm>
            <a:off x="130320" y="957240"/>
            <a:ext cx="9013680" cy="55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800" spc="-1" strike="noStrike">
                <a:solidFill>
                  <a:srgbClr val="000000"/>
                </a:solidFill>
                <a:latin typeface="Verdana"/>
                <a:ea typeface="Verdana"/>
              </a:rPr>
              <a:t>1) Connaissance de dynamiques territoriales porteuses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00000"/>
              </a:buClr>
              <a:buSzPct val="25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800" spc="-1" strike="noStrike">
                <a:solidFill>
                  <a:srgbClr val="000000"/>
                </a:solidFill>
                <a:latin typeface="Verdana"/>
                <a:ea typeface="Verdana"/>
              </a:rPr>
              <a:t>2) Incitations pour une action collective des acteurs publics et privés sur un territoire donné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800" spc="-1" strike="noStrike">
                <a:solidFill>
                  <a:srgbClr val="000000"/>
                </a:solidFill>
                <a:latin typeface="Verdana"/>
                <a:ea typeface="Verdana"/>
              </a:rPr>
              <a:t>3) Vision intégré de développement territorial –avec un fondement économique pour assurer viabilité)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070c0"/>
              </a:buClr>
              <a:buSzPct val="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8" name="Shape 412"/>
          <p:cNvSpPr/>
          <p:nvPr/>
        </p:nvSpPr>
        <p:spPr>
          <a:xfrm>
            <a:off x="250920" y="5643720"/>
            <a:ext cx="860580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95280" y="119664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PRINCIPES DIRECTEURS (2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57200" y="184464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00000"/>
                </a:solidFill>
                <a:latin typeface="Verdana"/>
                <a:ea typeface="Verdana"/>
              </a:rPr>
              <a:t>4) Reconnaissance de la nature « non-linéaire » des processus TALD (= besoin d’une mise en œuvre itérative dans la durée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SzPct val="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00000"/>
                </a:solidFill>
                <a:latin typeface="Verdana"/>
                <a:ea typeface="Verdana"/>
              </a:rPr>
              <a:t>5) Systèmes de S&amp;E intelligents pouvant mesurer progrès TALD (comme processus de changement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SzPct val="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00000"/>
                </a:solidFill>
                <a:latin typeface="Verdana"/>
                <a:ea typeface="Verdana"/>
              </a:rPr>
              <a:t>6)  Appuis cohérents (politiques nationales, PTF, autres acteurs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SzPct val="25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7)  Besoin de “facilitateurs” de processus TALD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LE TALD :  ON REGARDE QUEL FILM ?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46" name="Picture 3" descr="movie-theater.jpg"/>
          <p:cNvPicPr/>
          <p:nvPr/>
        </p:nvPicPr>
        <p:blipFill>
          <a:blip r:embed="rId1"/>
          <a:stretch/>
        </p:blipFill>
        <p:spPr>
          <a:xfrm>
            <a:off x="395280" y="2276640"/>
            <a:ext cx="8229600" cy="43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95280" y="1125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Questions clé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108000" y="1844640"/>
            <a:ext cx="8578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1)   Comment repérer les dynamiques et acteurs de changement au niveau local/territorial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2)  Par où commencer?  Comment initier et propulser des dynamiques territoriales? Comment renforcer capacité de “leadership” des AL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3)  Comment faire les choses autrement du côté des gouvernements nationaux et PTFs (UE)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*   Pistes REALISTES pour les autorités nationales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*   Pistes REALISTES pour l’UE (11ieme FED)?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94920" y="2133720"/>
            <a:ext cx="820908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ar-AE" sz="4000" spc="-1" strike="noStrike">
                <a:solidFill>
                  <a:srgbClr val="ff9900"/>
                </a:solidFill>
                <a:latin typeface="Arial"/>
                <a:ea typeface="Arial"/>
              </a:rPr>
              <a:t> </a:t>
            </a:r>
            <a:br>
              <a:rPr sz="4000"/>
            </a:br>
            <a:r>
              <a:rPr b="1" lang="fr-BE" sz="4000" spc="-1" strike="noStrike">
                <a:solidFill>
                  <a:srgbClr val="ff9900"/>
                </a:solidFill>
                <a:latin typeface="Arial"/>
                <a:ea typeface="Arial"/>
              </a:rPr>
              <a:t> </a:t>
            </a:r>
            <a:r>
              <a:rPr b="1" lang="fr-BE" sz="4000" spc="-1" strike="noStrike">
                <a:solidFill>
                  <a:srgbClr val="ffd624"/>
                </a:solidFill>
                <a:latin typeface="Verdana"/>
                <a:ea typeface="Arial"/>
              </a:rPr>
              <a:t>MERCI</a:t>
            </a:r>
            <a:br>
              <a:rPr sz="4000"/>
            </a:br>
            <a:endParaRPr b="1" lang="en-US" sz="4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834920" y="1474920"/>
            <a:ext cx="68403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590400" y="0"/>
            <a:ext cx="80964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CELA NE MANQUE PAS DE CONFUSION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7885080" y="6237360"/>
            <a:ext cx="1079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BA74D625-82B7-4F02-8933-E8673D1854B1}" type="slidenum">
              <a:rPr b="0" lang="nl-B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Footer Placeholder 4"/>
          <p:cNvSpPr/>
          <p:nvPr/>
        </p:nvSpPr>
        <p:spPr>
          <a:xfrm>
            <a:off x="179280" y="6237360"/>
            <a:ext cx="187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ECDPM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51" name="Picture 5" descr="tower of babel (1).jpg"/>
          <p:cNvPicPr/>
          <p:nvPr/>
        </p:nvPicPr>
        <p:blipFill>
          <a:blip r:embed="rId1"/>
          <a:stretch/>
        </p:blipFill>
        <p:spPr>
          <a:xfrm>
            <a:off x="738360" y="1049400"/>
            <a:ext cx="778176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23640" y="2708280"/>
            <a:ext cx="835164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Verdana"/>
              </a:rPr>
              <a:t>LOGIQUES DESCENDANTES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APPROCHES CLASSIQUES 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PREFEREES PAR LES AUTORITES NATIONALES / PTFs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MAIS RESULTATS PEU PROBANTS 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RECENTRALISATION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324000" y="1341000"/>
            <a:ext cx="8362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c892b"/>
                </a:solidFill>
                <a:latin typeface="Verdana"/>
                <a:ea typeface="ＭＳ Ｐゴシック"/>
              </a:rPr>
              <a:t>DEUX LOGIQUES DE DEVELOPPEMENT TERRITORIAL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99640" y="1474920"/>
            <a:ext cx="777564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LOGIQUES D’EN BAS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EMERGENCE DE VISIONS INTEGREES DE DEVELOPPEMENT TERRITORIAL POUSSEES PAR ACTEURS LOCAUX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c892b"/>
              </a:solidFill>
              <a:latin typeface="Verdana"/>
              <a:ea typeface="ＭＳ Ｐゴシック"/>
            </a:endParaRPr>
          </a:p>
        </p:txBody>
      </p:sp>
      <p:pic>
        <p:nvPicPr>
          <p:cNvPr id="156" name="7. Marmiet (2).jpeg" descr="/Users/JB/Downloads/7. Marmiet (2).jpeg"/>
          <p:cNvPicPr/>
          <p:nvPr/>
        </p:nvPicPr>
        <p:blipFill>
          <a:blip r:embed="rId1"/>
          <a:srcRect l="-64097" t="0" r="-64097" b="0"/>
          <a:stretch/>
        </p:blipFill>
        <p:spPr>
          <a:xfrm>
            <a:off x="1835280" y="2133720"/>
            <a:ext cx="60498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893124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Shape 400"/>
          <p:cNvSpPr/>
          <p:nvPr/>
        </p:nvSpPr>
        <p:spPr>
          <a:xfrm>
            <a:off x="36360" y="7920"/>
            <a:ext cx="88678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d624"/>
                </a:solidFill>
                <a:latin typeface="Verdana"/>
              </a:rPr>
              <a:t>INGREDIENTS CLEFS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Shape 401"/>
          <p:cNvSpPr/>
          <p:nvPr/>
        </p:nvSpPr>
        <p:spPr>
          <a:xfrm>
            <a:off x="4788000" y="616572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Shape 402"/>
          <p:cNvSpPr/>
          <p:nvPr/>
        </p:nvSpPr>
        <p:spPr>
          <a:xfrm>
            <a:off x="324000" y="1268280"/>
            <a:ext cx="84960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Shape 403"/>
          <p:cNvSpPr/>
          <p:nvPr/>
        </p:nvSpPr>
        <p:spPr>
          <a:xfrm>
            <a:off x="324000" y="1341360"/>
            <a:ext cx="8496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57200" indent="-457200">
              <a:buClr>
                <a:srgbClr val="0f5494"/>
              </a:buClr>
              <a:buSzPct val="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*   Une TALD n’est pas un projet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buClr>
                <a:srgbClr val="0f5494"/>
              </a:buClr>
              <a:buSzPct val="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(on ne peut pas « faire » un TALD)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buClr>
                <a:srgbClr val="0f5494"/>
              </a:buClr>
              <a:buSzPct val="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buClr>
                <a:srgbClr val="0f5494"/>
              </a:buClr>
              <a:buSzPct val="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*   Développement territorial comme processus endogène de mobilisation de potentialités « locales » poussée par les différentes familles d’acteurs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buClr>
                <a:srgbClr val="0f5494"/>
              </a:buClr>
              <a:buSzPct val="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buClr>
                <a:srgbClr val="0f5494"/>
              </a:buClr>
              <a:buSzPct val="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*  Responsabilité spécifique des AL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buClr>
                <a:srgbClr val="0f5494"/>
              </a:buClr>
              <a:buSzPct val="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buClr>
                <a:srgbClr val="0f5494"/>
              </a:buClr>
              <a:buSzPct val="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*   Pour libérer ce potentiel :  besoin d’un ensemble de politiques nationales que les </a:t>
            </a: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partenaires de développement internationaux pourraient vouloir soutenir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901800" y="2128680"/>
          <a:ext cx="7061040" cy="2146320"/>
        </p:xfrm>
        <a:graphic>
          <a:graphicData uri="http://schemas.openxmlformats.org/drawingml/2006/table">
            <a:tbl>
              <a:tblPr/>
              <a:tblGrid>
                <a:gridCol w="7061040"/>
              </a:tblGrid>
              <a:tr h="21463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ystèmes améliorés de planification du développement local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0ef"/>
                    </a:solidFill>
                  </a:tcPr>
                </a:tc>
              </a:tr>
            </a:tbl>
          </a:graphicData>
        </a:graphic>
      </p:graphicFrame>
      <p:grpSp>
        <p:nvGrpSpPr>
          <p:cNvPr id="163" name="Shape 419"/>
          <p:cNvGrpSpPr/>
          <p:nvPr/>
        </p:nvGrpSpPr>
        <p:grpSpPr>
          <a:xfrm>
            <a:off x="1187280" y="2776680"/>
            <a:ext cx="6769440" cy="1293840"/>
            <a:chOff x="1187280" y="2776680"/>
            <a:chExt cx="6769440" cy="1293840"/>
          </a:xfrm>
        </p:grpSpPr>
        <p:sp>
          <p:nvSpPr>
            <p:cNvPr id="164" name="Shape 420"/>
            <p:cNvSpPr/>
            <p:nvPr/>
          </p:nvSpPr>
          <p:spPr>
            <a:xfrm>
              <a:off x="1187280" y="2776680"/>
              <a:ext cx="1431000" cy="1293840"/>
            </a:xfrm>
            <a:prstGeom prst="roundRect">
              <a:avLst>
                <a:gd name="adj" fmla="val 10000"/>
              </a:avLst>
            </a:prstGeom>
            <a:solidFill>
              <a:srgbClr val="165aa2"/>
            </a:solidFill>
            <a:ln w="9360">
              <a:solidFill>
                <a:srgbClr val="bdd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65" name="Shape 421"/>
            <p:cNvSpPr/>
            <p:nvPr/>
          </p:nvSpPr>
          <p:spPr>
            <a:xfrm>
              <a:off x="1226160" y="2814480"/>
              <a:ext cx="1352520" cy="12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noAutofit/>
            </a:bodyPr>
            <a:p>
              <a:pPr algn="ctr">
                <a:lnSpc>
                  <a:spcPct val="90000"/>
                </a:lnSpc>
                <a:spcAft>
                  <a:spcPts val="4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Verdana"/>
                </a:rPr>
                <a:t>Large compréhension de l'étendue du développement local </a:t>
              </a: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66" name="Shape 422"/>
            <p:cNvSpPr/>
            <p:nvPr/>
          </p:nvSpPr>
          <p:spPr>
            <a:xfrm>
              <a:off x="2876760" y="2776680"/>
              <a:ext cx="1522800" cy="1293840"/>
            </a:xfrm>
            <a:prstGeom prst="roundRect">
              <a:avLst>
                <a:gd name="adj" fmla="val 10000"/>
              </a:avLst>
            </a:prstGeom>
            <a:solidFill>
              <a:srgbClr val="165a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67" name="Shape 423"/>
            <p:cNvSpPr/>
            <p:nvPr/>
          </p:nvSpPr>
          <p:spPr>
            <a:xfrm>
              <a:off x="2916000" y="2814480"/>
              <a:ext cx="1443960" cy="12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noAutofit/>
            </a:bodyPr>
            <a:p>
              <a:pPr algn="ctr">
                <a:lnSpc>
                  <a:spcPct val="90000"/>
                </a:lnSpc>
                <a:spcAft>
                  <a:spcPts val="4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Verdana"/>
                </a:rPr>
                <a:t>Systèmes de planification locale améliorés </a:t>
              </a: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68" name="Shape 424"/>
            <p:cNvSpPr/>
            <p:nvPr/>
          </p:nvSpPr>
          <p:spPr>
            <a:xfrm>
              <a:off x="4655520" y="2776680"/>
              <a:ext cx="1522800" cy="1293840"/>
            </a:xfrm>
            <a:prstGeom prst="roundRect">
              <a:avLst>
                <a:gd name="adj" fmla="val 10000"/>
              </a:avLst>
            </a:prstGeom>
            <a:solidFill>
              <a:srgbClr val="165a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69" name="Shape 425"/>
            <p:cNvSpPr/>
            <p:nvPr/>
          </p:nvSpPr>
          <p:spPr>
            <a:xfrm>
              <a:off x="4694760" y="2814480"/>
              <a:ext cx="1443960" cy="12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noAutofit/>
            </a:bodyPr>
            <a:p>
              <a:pPr algn="ctr">
                <a:lnSpc>
                  <a:spcPct val="90000"/>
                </a:lnSpc>
                <a:spcAft>
                  <a:spcPts val="4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Verdana"/>
                </a:rPr>
                <a:t>Instruments diversifiés de financement du développement local</a:t>
              </a: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70" name="Shape 426"/>
            <p:cNvSpPr/>
            <p:nvPr/>
          </p:nvSpPr>
          <p:spPr>
            <a:xfrm>
              <a:off x="6433920" y="2776680"/>
              <a:ext cx="1522800" cy="1293840"/>
            </a:xfrm>
            <a:prstGeom prst="roundRect">
              <a:avLst>
                <a:gd name="adj" fmla="val 10000"/>
              </a:avLst>
            </a:prstGeom>
            <a:solidFill>
              <a:srgbClr val="165aa2"/>
            </a:solidFill>
            <a:ln w="9360">
              <a:solidFill>
                <a:srgbClr val="bdd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71" name="Shape 427"/>
            <p:cNvSpPr/>
            <p:nvPr/>
          </p:nvSpPr>
          <p:spPr>
            <a:xfrm>
              <a:off x="6433920" y="2814480"/>
              <a:ext cx="1443960" cy="12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noAutofit/>
            </a:bodyPr>
            <a:p>
              <a:pPr algn="ctr">
                <a:lnSpc>
                  <a:spcPct val="90000"/>
                </a:lnSpc>
                <a:spcAft>
                  <a:spcPts val="4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Verdana"/>
                </a:rPr>
                <a:t>Institutions et capacités améliorées pour la mise en oeuvre du développement local </a:t>
              </a: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graphicFrame>
        <p:nvGraphicFramePr>
          <p:cNvPr id="172" name=""/>
          <p:cNvGraphicFramePr/>
          <p:nvPr/>
        </p:nvGraphicFramePr>
        <p:xfrm>
          <a:off x="511200" y="4694400"/>
          <a:ext cx="3911400" cy="2028600"/>
        </p:xfrm>
        <a:graphic>
          <a:graphicData uri="http://schemas.openxmlformats.org/drawingml/2006/table">
            <a:tbl>
              <a:tblPr/>
              <a:tblGrid>
                <a:gridCol w="3911400"/>
              </a:tblGrid>
              <a:tr h="20286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litiques national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</a:tr>
            </a:tbl>
          </a:graphicData>
        </a:graphic>
      </p:graphicFrame>
      <p:grpSp>
        <p:nvGrpSpPr>
          <p:cNvPr id="173" name="Shape 429"/>
          <p:cNvGrpSpPr/>
          <p:nvPr/>
        </p:nvGrpSpPr>
        <p:grpSpPr>
          <a:xfrm>
            <a:off x="633240" y="5281560"/>
            <a:ext cx="3648240" cy="1293840"/>
            <a:chOff x="633240" y="5281560"/>
            <a:chExt cx="3648240" cy="1293840"/>
          </a:xfrm>
        </p:grpSpPr>
        <p:sp>
          <p:nvSpPr>
            <p:cNvPr id="174" name="Shape 430"/>
            <p:cNvSpPr/>
            <p:nvPr/>
          </p:nvSpPr>
          <p:spPr>
            <a:xfrm>
              <a:off x="633240" y="5281560"/>
              <a:ext cx="1053360" cy="1293840"/>
            </a:xfrm>
            <a:custGeom>
              <a:avLst/>
              <a:gdLst>
                <a:gd name="textAreaLeft" fmla="*/ 30600 w 1053360"/>
                <a:gd name="textAreaRight" fmla="*/ 1022760 w 1053360"/>
                <a:gd name="textAreaTop" fmla="*/ 30600 h 1293840"/>
                <a:gd name="textAreaBottom" fmla="*/ 1263240 h 1293840"/>
              </a:gdLst>
              <a:ahLst/>
              <a:rect l="textAreaLeft" t="textAreaTop" r="textAreaRight" b="textAreaBottom"/>
              <a:pathLst>
                <a:path w="21600" h="26530">
                  <a:moveTo>
                    <a:pt x="2160" y="0"/>
                  </a:moveTo>
                  <a:arcTo wR="2160" hR="2160" stAng="16200000" swAng="-5400000"/>
                  <a:lnTo>
                    <a:pt x="0" y="24370"/>
                  </a:lnTo>
                  <a:arcTo wR="2160" hR="2160" stAng="10800000" swAng="-5400000"/>
                  <a:lnTo>
                    <a:pt x="19440" y="26530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165a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75" name="Shape 431"/>
            <p:cNvSpPr/>
            <p:nvPr/>
          </p:nvSpPr>
          <p:spPr>
            <a:xfrm>
              <a:off x="663840" y="5312160"/>
              <a:ext cx="991800" cy="12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4200" rIns="34200" tIns="34200" bIns="34200" anchor="ctr">
              <a:noAutofit/>
            </a:bodyPr>
            <a:p>
              <a:pPr algn="ctr">
                <a:lnSpc>
                  <a:spcPct val="90000"/>
                </a:lnSpc>
                <a:spcAft>
                  <a:spcPts val="3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ff"/>
                  </a:solidFill>
                  <a:latin typeface="Verdana"/>
                </a:rPr>
                <a:t>Politique de décentralisation appuyant l’autonomie et la redevabilité des AL </a:t>
              </a:r>
              <a:endParaRPr b="0" lang="en-US" sz="9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76" name="Shape 432"/>
            <p:cNvSpPr/>
            <p:nvPr/>
          </p:nvSpPr>
          <p:spPr>
            <a:xfrm>
              <a:off x="1851120" y="5281560"/>
              <a:ext cx="1121040" cy="1293840"/>
            </a:xfrm>
            <a:custGeom>
              <a:avLst/>
              <a:gdLst>
                <a:gd name="textAreaLeft" fmla="*/ 32760 w 1121040"/>
                <a:gd name="textAreaRight" fmla="*/ 1088280 w 1121040"/>
                <a:gd name="textAreaTop" fmla="*/ 32760 h 1293840"/>
                <a:gd name="textAreaBottom" fmla="*/ 1261080 h 1293840"/>
              </a:gdLst>
              <a:ahLst/>
              <a:rect l="textAreaLeft" t="textAreaTop" r="textAreaRight" b="textAreaBottom"/>
              <a:pathLst>
                <a:path w="21600" h="24928">
                  <a:moveTo>
                    <a:pt x="2160" y="0"/>
                  </a:moveTo>
                  <a:arcTo wR="2160" hR="2160" stAng="16200000" swAng="-5400000"/>
                  <a:lnTo>
                    <a:pt x="0" y="22768"/>
                  </a:lnTo>
                  <a:arcTo wR="2160" hR="2160" stAng="10800000" swAng="-5400000"/>
                  <a:lnTo>
                    <a:pt x="19440" y="24928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165a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77" name="Shape 433"/>
            <p:cNvSpPr/>
            <p:nvPr/>
          </p:nvSpPr>
          <p:spPr>
            <a:xfrm>
              <a:off x="1883880" y="5314320"/>
              <a:ext cx="1055160" cy="12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4200" rIns="34200" tIns="34200" bIns="34200" anchor="ctr">
              <a:noAutofit/>
            </a:bodyPr>
            <a:p>
              <a:pPr algn="ctr">
                <a:lnSpc>
                  <a:spcPct val="90000"/>
                </a:lnSpc>
                <a:spcAft>
                  <a:spcPts val="3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ff"/>
                  </a:solidFill>
                  <a:latin typeface="Verdana"/>
                </a:rPr>
                <a:t>Agenda national urbain appuyant un rôle accru des AL </a:t>
              </a:r>
              <a:endParaRPr b="0" lang="en-US" sz="9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78" name="Shape 434"/>
            <p:cNvSpPr/>
            <p:nvPr/>
          </p:nvSpPr>
          <p:spPr>
            <a:xfrm>
              <a:off x="3160440" y="5281560"/>
              <a:ext cx="1121040" cy="1293840"/>
            </a:xfrm>
            <a:custGeom>
              <a:avLst/>
              <a:gdLst>
                <a:gd name="textAreaLeft" fmla="*/ 32760 w 1121040"/>
                <a:gd name="textAreaRight" fmla="*/ 1088280 w 1121040"/>
                <a:gd name="textAreaTop" fmla="*/ 32760 h 1293840"/>
                <a:gd name="textAreaBottom" fmla="*/ 1261080 h 1293840"/>
              </a:gdLst>
              <a:ahLst/>
              <a:rect l="textAreaLeft" t="textAreaTop" r="textAreaRight" b="textAreaBottom"/>
              <a:pathLst>
                <a:path w="21600" h="24928">
                  <a:moveTo>
                    <a:pt x="2160" y="0"/>
                  </a:moveTo>
                  <a:arcTo wR="2160" hR="2160" stAng="16200000" swAng="-5400000"/>
                  <a:lnTo>
                    <a:pt x="0" y="22768"/>
                  </a:lnTo>
                  <a:arcTo wR="2160" hR="2160" stAng="10800000" swAng="-5400000"/>
                  <a:lnTo>
                    <a:pt x="19440" y="24928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165a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79" name="Shape 435"/>
            <p:cNvSpPr/>
            <p:nvPr/>
          </p:nvSpPr>
          <p:spPr>
            <a:xfrm>
              <a:off x="3193200" y="5314320"/>
              <a:ext cx="1055160" cy="12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4200" rIns="34200" tIns="34200" bIns="34200" anchor="ctr">
              <a:noAutofit/>
            </a:bodyPr>
            <a:p>
              <a:pPr algn="ctr">
                <a:lnSpc>
                  <a:spcPct val="90000"/>
                </a:lnSpc>
                <a:spcAft>
                  <a:spcPts val="3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ff"/>
                  </a:solidFill>
                  <a:latin typeface="Verdana"/>
                </a:rPr>
                <a:t>Politique nationale  de développement rural donnant un rôle accru aux AL </a:t>
              </a:r>
              <a:endParaRPr b="0" lang="en-US" sz="9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sp>
        <p:nvSpPr>
          <p:cNvPr id="180" name="Shape 436"/>
          <p:cNvSpPr/>
          <p:nvPr/>
        </p:nvSpPr>
        <p:spPr>
          <a:xfrm flipH="1" rot="10800000">
            <a:off x="547560" y="5316480"/>
            <a:ext cx="1262160" cy="1224000"/>
          </a:xfrm>
          <a:prstGeom prst="ellipse">
            <a:avLst/>
          </a:prstGeom>
          <a:noFill/>
          <a:ln w="57240">
            <a:solidFill>
              <a:srgbClr val="9ef75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1" name="Shape 437"/>
          <p:cNvSpPr/>
          <p:nvPr/>
        </p:nvSpPr>
        <p:spPr>
          <a:xfrm flipH="1" rot="10800000">
            <a:off x="1808640" y="5268960"/>
            <a:ext cx="1260360" cy="1224000"/>
          </a:xfrm>
          <a:prstGeom prst="ellipse">
            <a:avLst/>
          </a:prstGeom>
          <a:noFill/>
          <a:ln w="57240">
            <a:solidFill>
              <a:srgbClr val="9ef75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2" name="Shape 438"/>
          <p:cNvSpPr/>
          <p:nvPr/>
        </p:nvSpPr>
        <p:spPr>
          <a:xfrm flipH="1" rot="10800000">
            <a:off x="3051000" y="5268960"/>
            <a:ext cx="1262160" cy="1224000"/>
          </a:xfrm>
          <a:prstGeom prst="ellipse">
            <a:avLst/>
          </a:prstGeom>
          <a:noFill/>
          <a:ln w="57240">
            <a:solidFill>
              <a:srgbClr val="9ef75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727520" y="4694400"/>
          <a:ext cx="3895920" cy="2028600"/>
        </p:xfrm>
        <a:graphic>
          <a:graphicData uri="http://schemas.openxmlformats.org/drawingml/2006/table">
            <a:tbl>
              <a:tblPr/>
              <a:tblGrid>
                <a:gridCol w="3895920"/>
              </a:tblGrid>
              <a:tr h="20286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itutions et capacités 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national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</a:tr>
            </a:tbl>
          </a:graphicData>
        </a:graphic>
      </p:graphicFrame>
      <p:grpSp>
        <p:nvGrpSpPr>
          <p:cNvPr id="184" name="Shape 440"/>
          <p:cNvGrpSpPr/>
          <p:nvPr/>
        </p:nvGrpSpPr>
        <p:grpSpPr>
          <a:xfrm>
            <a:off x="4846680" y="5305320"/>
            <a:ext cx="3632040" cy="1292400"/>
            <a:chOff x="4846680" y="5305320"/>
            <a:chExt cx="3632040" cy="1292400"/>
          </a:xfrm>
        </p:grpSpPr>
        <p:sp>
          <p:nvSpPr>
            <p:cNvPr id="185" name="Shape 441"/>
            <p:cNvSpPr/>
            <p:nvPr/>
          </p:nvSpPr>
          <p:spPr>
            <a:xfrm>
              <a:off x="4846680" y="5305320"/>
              <a:ext cx="1049040" cy="1292400"/>
            </a:xfrm>
            <a:custGeom>
              <a:avLst/>
              <a:gdLst>
                <a:gd name="textAreaLeft" fmla="*/ 30600 w 1049040"/>
                <a:gd name="textAreaRight" fmla="*/ 1018440 w 1049040"/>
                <a:gd name="textAreaTop" fmla="*/ 30600 h 1292400"/>
                <a:gd name="textAreaBottom" fmla="*/ 1261800 h 1292400"/>
              </a:gdLst>
              <a:ahLst/>
              <a:rect l="textAreaLeft" t="textAreaTop" r="textAreaRight" b="textAreaBottom"/>
              <a:pathLst>
                <a:path w="21600" h="26609">
                  <a:moveTo>
                    <a:pt x="2160" y="0"/>
                  </a:moveTo>
                  <a:arcTo wR="2160" hR="2160" stAng="16200000" swAng="-5400000"/>
                  <a:lnTo>
                    <a:pt x="0" y="24449"/>
                  </a:lnTo>
                  <a:arcTo wR="2160" hR="2160" stAng="10800000" swAng="-5400000"/>
                  <a:lnTo>
                    <a:pt x="19440" y="26609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165a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86" name="Shape 442"/>
            <p:cNvSpPr/>
            <p:nvPr/>
          </p:nvSpPr>
          <p:spPr>
            <a:xfrm>
              <a:off x="4877280" y="5335920"/>
              <a:ext cx="987480" cy="12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90000"/>
                </a:lnSpc>
                <a:spcAft>
                  <a:spcPts val="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</a:rPr>
                <a:t>Institutions efficientes multiniveaux de coopération intergouvernementale </a:t>
              </a:r>
              <a:endParaRPr b="0" lang="en-US" sz="1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87" name="Shape 443"/>
            <p:cNvSpPr/>
            <p:nvPr/>
          </p:nvSpPr>
          <p:spPr>
            <a:xfrm>
              <a:off x="6059160" y="5305320"/>
              <a:ext cx="1116000" cy="1292400"/>
            </a:xfrm>
            <a:custGeom>
              <a:avLst/>
              <a:gdLst>
                <a:gd name="textAreaLeft" fmla="*/ 32400 w 1116000"/>
                <a:gd name="textAreaRight" fmla="*/ 1083600 w 1116000"/>
                <a:gd name="textAreaTop" fmla="*/ 32400 h 1292400"/>
                <a:gd name="textAreaBottom" fmla="*/ 1260000 h 1292400"/>
              </a:gdLst>
              <a:ahLst/>
              <a:rect l="textAreaLeft" t="textAreaTop" r="textAreaRight" b="textAreaBottom"/>
              <a:pathLst>
                <a:path w="21600" h="25013">
                  <a:moveTo>
                    <a:pt x="2160" y="0"/>
                  </a:moveTo>
                  <a:arcTo wR="2160" hR="2160" stAng="16200000" swAng="-5400000"/>
                  <a:lnTo>
                    <a:pt x="0" y="22853"/>
                  </a:lnTo>
                  <a:arcTo wR="2160" hR="2160" stAng="10800000" swAng="-5400000"/>
                  <a:lnTo>
                    <a:pt x="19440" y="25013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165a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88" name="Shape 444"/>
            <p:cNvSpPr/>
            <p:nvPr/>
          </p:nvSpPr>
          <p:spPr>
            <a:xfrm>
              <a:off x="6028200" y="5337720"/>
              <a:ext cx="1261440" cy="12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90000"/>
                </a:lnSpc>
                <a:spcAft>
                  <a:spcPts val="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</a:rPr>
                <a:t>Développement du leadership et des capacités administratives des AL</a:t>
              </a:r>
              <a:endParaRPr b="0" lang="en-US" sz="1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89" name="Shape 445"/>
            <p:cNvSpPr/>
            <p:nvPr/>
          </p:nvSpPr>
          <p:spPr>
            <a:xfrm>
              <a:off x="7362720" y="5305320"/>
              <a:ext cx="1116000" cy="1292400"/>
            </a:xfrm>
            <a:custGeom>
              <a:avLst/>
              <a:gdLst>
                <a:gd name="textAreaLeft" fmla="*/ 32400 w 1116000"/>
                <a:gd name="textAreaRight" fmla="*/ 1083600 w 1116000"/>
                <a:gd name="textAreaTop" fmla="*/ 32400 h 1292400"/>
                <a:gd name="textAreaBottom" fmla="*/ 1260000 h 1292400"/>
              </a:gdLst>
              <a:ahLst/>
              <a:rect l="textAreaLeft" t="textAreaTop" r="textAreaRight" b="textAreaBottom"/>
              <a:pathLst>
                <a:path w="21600" h="25013">
                  <a:moveTo>
                    <a:pt x="2160" y="0"/>
                  </a:moveTo>
                  <a:arcTo wR="2160" hR="2160" stAng="16200000" swAng="-5400000"/>
                  <a:lnTo>
                    <a:pt x="0" y="22853"/>
                  </a:lnTo>
                  <a:arcTo wR="2160" hR="2160" stAng="10800000" swAng="-5400000"/>
                  <a:lnTo>
                    <a:pt x="19440" y="25013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165a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90" name="Shape 446"/>
            <p:cNvSpPr/>
            <p:nvPr/>
          </p:nvSpPr>
          <p:spPr>
            <a:xfrm>
              <a:off x="7395480" y="5337720"/>
              <a:ext cx="1050840" cy="12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90000"/>
                </a:lnSpc>
                <a:spcAft>
                  <a:spcPts val="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</a:rPr>
                <a:t>Citoyenneté active et Partenariat Public-Privé </a:t>
              </a:r>
              <a:endParaRPr b="0" lang="en-US" sz="10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sp>
        <p:nvSpPr>
          <p:cNvPr id="191" name="Shape 447"/>
          <p:cNvSpPr/>
          <p:nvPr/>
        </p:nvSpPr>
        <p:spPr>
          <a:xfrm flipH="1" rot="10800000">
            <a:off x="4775040" y="5329080"/>
            <a:ext cx="1262160" cy="1224000"/>
          </a:xfrm>
          <a:prstGeom prst="ellipse">
            <a:avLst/>
          </a:prstGeom>
          <a:noFill/>
          <a:ln w="57240">
            <a:solidFill>
              <a:srgbClr val="9ef75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2" name="Shape 448"/>
          <p:cNvSpPr/>
          <p:nvPr/>
        </p:nvSpPr>
        <p:spPr>
          <a:xfrm flipH="1" rot="10800000">
            <a:off x="5972040" y="5329080"/>
            <a:ext cx="1260720" cy="1224000"/>
          </a:xfrm>
          <a:prstGeom prst="ellipse">
            <a:avLst/>
          </a:prstGeom>
          <a:noFill/>
          <a:ln w="57240">
            <a:solidFill>
              <a:srgbClr val="9ef75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3" name="Shape 449"/>
          <p:cNvSpPr/>
          <p:nvPr/>
        </p:nvSpPr>
        <p:spPr>
          <a:xfrm flipH="1" rot="10800000">
            <a:off x="7231680" y="5329080"/>
            <a:ext cx="1261800" cy="1224000"/>
          </a:xfrm>
          <a:prstGeom prst="ellipse">
            <a:avLst/>
          </a:prstGeom>
          <a:noFill/>
          <a:ln w="57240">
            <a:solidFill>
              <a:srgbClr val="9ef75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4" name="Shape 450"/>
          <p:cNvSpPr/>
          <p:nvPr/>
        </p:nvSpPr>
        <p:spPr>
          <a:xfrm rot="10800000">
            <a:off x="2344320" y="4328640"/>
            <a:ext cx="244440" cy="312840"/>
          </a:xfrm>
          <a:prstGeom prst="upArrow">
            <a:avLst>
              <a:gd name="adj1" fmla="val 50000"/>
              <a:gd name="adj2" fmla="val 50097"/>
            </a:avLst>
          </a:prstGeom>
          <a:gradFill rotWithShape="0">
            <a:gsLst>
              <a:gs pos="0">
                <a:srgbClr val="ca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5da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5" name="Shape 451"/>
          <p:cNvSpPr/>
          <p:nvPr/>
        </p:nvSpPr>
        <p:spPr>
          <a:xfrm rot="10800000">
            <a:off x="6540120" y="4334040"/>
            <a:ext cx="244440" cy="312480"/>
          </a:xfrm>
          <a:prstGeom prst="upArrow">
            <a:avLst>
              <a:gd name="adj1" fmla="val 50000"/>
              <a:gd name="adj2" fmla="val 50039"/>
            </a:avLst>
          </a:prstGeom>
          <a:gradFill rotWithShape="0">
            <a:gsLst>
              <a:gs pos="0">
                <a:srgbClr val="ca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5da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6" name="Shape 452"/>
          <p:cNvSpPr/>
          <p:nvPr/>
        </p:nvSpPr>
        <p:spPr>
          <a:xfrm rot="151200">
            <a:off x="109440" y="2502000"/>
            <a:ext cx="592200" cy="2181240"/>
          </a:xfrm>
          <a:custGeom>
            <a:avLst/>
            <a:gdLst>
              <a:gd name="textAreaLeft" fmla="*/ 79200 w 592200"/>
              <a:gd name="textAreaRight" fmla="*/ 513000 w 592200"/>
              <a:gd name="textAreaTop" fmla="*/ 492480 h 2181240"/>
              <a:gd name="textAreaBottom" fmla="*/ 1625760 h 21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753" stAng="-5400000" swAng="-5400000"/>
                <a:lnTo>
                  <a:pt x="0" y="11221"/>
                </a:lnTo>
                <a:arcTo wR="21600" hR="9753" stAng="10800000" swAng="-3614181"/>
                <a:lnTo>
                  <a:pt x="16200" y="21290"/>
                </a:lnTo>
                <a:lnTo>
                  <a:pt x="21600" y="20239"/>
                </a:lnTo>
                <a:lnTo>
                  <a:pt x="16200" y="18568"/>
                </a:lnTo>
                <a:lnTo>
                  <a:pt x="16200" y="19195"/>
                </a:lnTo>
                <a:arcTo wR="21600" hR="9753" stAng="7185819" swAng="3497074"/>
                <a:lnTo>
                  <a:pt x="61" y="10487"/>
                </a:lnTo>
                <a:arcTo wR="21600" hR="9753" stAng="-10682893" swAng="5282893"/>
                <a:close/>
              </a:path>
              <a:path fill="darkenLess" w="21600" h="21600">
                <a:moveTo>
                  <a:pt x="21600" y="0"/>
                </a:moveTo>
                <a:arcTo wR="21600" hR="9753" stAng="-5400000" swAng="-5400000"/>
                <a:lnTo>
                  <a:pt x="0" y="9753"/>
                </a:lnTo>
                <a:arcTo wR="21600" hR="9753" stAng="10800000" swAng="-117107"/>
                <a:lnTo>
                  <a:pt x="61" y="10487"/>
                </a:lnTo>
                <a:arcTo wR="21600" hR="9753" stAng="-10682893" swAng="5282893"/>
                <a:close/>
              </a:path>
            </a:pathLst>
          </a:custGeom>
          <a:gradFill rotWithShape="0">
            <a:gsLst>
              <a:gs pos="0">
                <a:srgbClr val="ca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5da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7" name="Shape 453"/>
          <p:cNvSpPr/>
          <p:nvPr/>
        </p:nvSpPr>
        <p:spPr>
          <a:xfrm>
            <a:off x="8115480" y="2532240"/>
            <a:ext cx="544320" cy="2162160"/>
          </a:xfrm>
          <a:custGeom>
            <a:avLst/>
            <a:gdLst>
              <a:gd name="textAreaLeft" fmla="*/ 72720 w 544320"/>
              <a:gd name="textAreaRight" fmla="*/ 471600 w 544320"/>
              <a:gd name="textAreaTop" fmla="*/ 489600 h 2162160"/>
              <a:gd name="textAreaBottom" fmla="*/ 1604520 h 216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781" stAng="-5400000" swAng="5400000"/>
                <a:lnTo>
                  <a:pt x="21600" y="11139"/>
                </a:lnTo>
                <a:arcTo wR="21600" hR="9781" stAng="0" swAng="4768781"/>
                <a:lnTo>
                  <a:pt x="1810" y="21566"/>
                </a:lnTo>
                <a:lnTo>
                  <a:pt x="0" y="20241"/>
                </a:lnTo>
                <a:lnTo>
                  <a:pt x="1810" y="18848"/>
                </a:lnTo>
                <a:lnTo>
                  <a:pt x="1810" y="19528"/>
                </a:lnTo>
                <a:arcTo wR="21600" hR="9781" stAng="4768781" swAng="-4660489"/>
                <a:lnTo>
                  <a:pt x="21548" y="10460"/>
                </a:lnTo>
                <a:arcTo wR="21600" hR="9781" stAng="-108292" swAng="-5291708"/>
                <a:close/>
              </a:path>
              <a:path fill="darkenLess" w="21600" h="21600">
                <a:moveTo>
                  <a:pt x="0" y="0"/>
                </a:moveTo>
                <a:arcTo wR="21600" hR="9781" stAng="-5400000" swAng="5400000"/>
                <a:lnTo>
                  <a:pt x="21600" y="11139"/>
                </a:lnTo>
                <a:arcTo wR="21600" hR="9781" stAng="0" swAng="-108292"/>
                <a:lnTo>
                  <a:pt x="21548" y="10460"/>
                </a:lnTo>
                <a:arcTo wR="21600" hR="9781" stAng="-108292" swAng="-5291708"/>
                <a:close/>
              </a:path>
            </a:pathLst>
          </a:custGeom>
          <a:gradFill rotWithShape="0">
            <a:gsLst>
              <a:gs pos="0">
                <a:srgbClr val="ca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5da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8" name="Shape 454"/>
          <p:cNvSpPr/>
          <p:nvPr/>
        </p:nvSpPr>
        <p:spPr>
          <a:xfrm flipH="1" rot="10800000">
            <a:off x="1113480" y="2664000"/>
            <a:ext cx="1584360" cy="1520640"/>
          </a:xfrm>
          <a:prstGeom prst="ellipse">
            <a:avLst/>
          </a:prstGeom>
          <a:noFill/>
          <a:ln w="57240">
            <a:solidFill>
              <a:srgbClr val="9ef75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9" name="Shape 455"/>
          <p:cNvSpPr/>
          <p:nvPr/>
        </p:nvSpPr>
        <p:spPr>
          <a:xfrm flipH="1" rot="10800000">
            <a:off x="2832480" y="2664000"/>
            <a:ext cx="1584360" cy="1520640"/>
          </a:xfrm>
          <a:prstGeom prst="ellipse">
            <a:avLst/>
          </a:prstGeom>
          <a:noFill/>
          <a:ln w="57240">
            <a:solidFill>
              <a:srgbClr val="9ef75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0" name="Shape 456"/>
          <p:cNvSpPr/>
          <p:nvPr/>
        </p:nvSpPr>
        <p:spPr>
          <a:xfrm flipH="1" rot="10800000">
            <a:off x="4582080" y="2664000"/>
            <a:ext cx="1584360" cy="1520640"/>
          </a:xfrm>
          <a:prstGeom prst="ellipse">
            <a:avLst/>
          </a:prstGeom>
          <a:noFill/>
          <a:ln w="57240">
            <a:solidFill>
              <a:srgbClr val="9ef75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1" name="Shape 457"/>
          <p:cNvSpPr/>
          <p:nvPr/>
        </p:nvSpPr>
        <p:spPr>
          <a:xfrm flipH="1" rot="10800000">
            <a:off x="6350040" y="2664000"/>
            <a:ext cx="1582560" cy="1520640"/>
          </a:xfrm>
          <a:prstGeom prst="ellipse">
            <a:avLst/>
          </a:prstGeom>
          <a:noFill/>
          <a:ln w="57240">
            <a:solidFill>
              <a:srgbClr val="9ef75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grpSp>
        <p:nvGrpSpPr>
          <p:cNvPr id="202" name="Group 1"/>
          <p:cNvGrpSpPr/>
          <p:nvPr/>
        </p:nvGrpSpPr>
        <p:grpSpPr>
          <a:xfrm>
            <a:off x="895320" y="115920"/>
            <a:ext cx="7061400" cy="1628640"/>
            <a:chOff x="895320" y="115920"/>
            <a:chExt cx="7061400" cy="1628640"/>
          </a:xfrm>
        </p:grpSpPr>
        <p:pic>
          <p:nvPicPr>
            <p:cNvPr id="203" name="Shape 418" descr=""/>
            <p:cNvPicPr/>
            <p:nvPr/>
          </p:nvPicPr>
          <p:blipFill>
            <a:blip r:embed="rId1"/>
            <a:stretch/>
          </p:blipFill>
          <p:spPr>
            <a:xfrm>
              <a:off x="895320" y="115920"/>
              <a:ext cx="7061400" cy="162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Shape 424"/>
            <p:cNvSpPr/>
            <p:nvPr/>
          </p:nvSpPr>
          <p:spPr>
            <a:xfrm>
              <a:off x="3704400" y="669240"/>
              <a:ext cx="1442520" cy="783360"/>
            </a:xfrm>
            <a:prstGeom prst="roundRect">
              <a:avLst>
                <a:gd name="adj" fmla="val 10000"/>
              </a:avLst>
            </a:prstGeom>
            <a:solidFill>
              <a:srgbClr val="165a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205" name="Shape 423"/>
            <p:cNvSpPr/>
            <p:nvPr/>
          </p:nvSpPr>
          <p:spPr>
            <a:xfrm>
              <a:off x="3709080" y="767520"/>
              <a:ext cx="1441800" cy="6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noAutofit/>
            </a:bodyPr>
            <a:p>
              <a:pPr algn="ctr">
                <a:lnSpc>
                  <a:spcPct val="90000"/>
                </a:lnSpc>
                <a:spcAft>
                  <a:spcPts val="4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Verdana"/>
                </a:rPr>
                <a:t>Gestion locale de l'environnement</a:t>
              </a: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206" name="Shape 424"/>
            <p:cNvSpPr/>
            <p:nvPr/>
          </p:nvSpPr>
          <p:spPr>
            <a:xfrm>
              <a:off x="6064560" y="669240"/>
              <a:ext cx="1442520" cy="783360"/>
            </a:xfrm>
            <a:prstGeom prst="roundRect">
              <a:avLst>
                <a:gd name="adj" fmla="val 10000"/>
              </a:avLst>
            </a:prstGeom>
            <a:solidFill>
              <a:srgbClr val="165a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207" name="Shape 423"/>
            <p:cNvSpPr/>
            <p:nvPr/>
          </p:nvSpPr>
          <p:spPr>
            <a:xfrm>
              <a:off x="6064560" y="734760"/>
              <a:ext cx="1441800" cy="64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noAutofit/>
            </a:bodyPr>
            <a:p>
              <a:pPr algn="ctr">
                <a:lnSpc>
                  <a:spcPct val="90000"/>
                </a:lnSpc>
                <a:spcAft>
                  <a:spcPts val="4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Verdana"/>
                </a:rPr>
                <a:t>Développement économique local</a:t>
              </a: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208" name="Shape 424"/>
            <p:cNvSpPr/>
            <p:nvPr/>
          </p:nvSpPr>
          <p:spPr>
            <a:xfrm>
              <a:off x="1323720" y="669240"/>
              <a:ext cx="1442520" cy="783360"/>
            </a:xfrm>
            <a:prstGeom prst="roundRect">
              <a:avLst>
                <a:gd name="adj" fmla="val 10000"/>
              </a:avLst>
            </a:prstGeom>
            <a:solidFill>
              <a:srgbClr val="165a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209" name="Shape 423"/>
            <p:cNvSpPr/>
            <p:nvPr/>
          </p:nvSpPr>
          <p:spPr>
            <a:xfrm>
              <a:off x="1323360" y="776520"/>
              <a:ext cx="144180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noAutofit/>
            </a:bodyPr>
            <a:p>
              <a:pPr algn="ctr">
                <a:lnSpc>
                  <a:spcPct val="90000"/>
                </a:lnSpc>
                <a:spcAft>
                  <a:spcPts val="4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Verdana"/>
                </a:rPr>
                <a:t>Fourniture de services locaux</a:t>
              </a: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sp>
        <p:nvSpPr>
          <p:cNvPr id="210" name="Shape 450"/>
          <p:cNvSpPr/>
          <p:nvPr/>
        </p:nvSpPr>
        <p:spPr>
          <a:xfrm rot="10800000">
            <a:off x="4308120" y="1767960"/>
            <a:ext cx="244440" cy="312840"/>
          </a:xfrm>
          <a:prstGeom prst="upArrow">
            <a:avLst>
              <a:gd name="adj1" fmla="val 50000"/>
              <a:gd name="adj2" fmla="val 50097"/>
            </a:avLst>
          </a:prstGeom>
          <a:gradFill rotWithShape="0">
            <a:gsLst>
              <a:gs pos="0">
                <a:srgbClr val="ca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5da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1" name="Shape 436"/>
          <p:cNvSpPr/>
          <p:nvPr/>
        </p:nvSpPr>
        <p:spPr>
          <a:xfrm flipH="1" rot="10800000">
            <a:off x="3670920" y="414360"/>
            <a:ext cx="1476360" cy="1370160"/>
          </a:xfrm>
          <a:prstGeom prst="ellipse">
            <a:avLst/>
          </a:prstGeom>
          <a:noFill/>
          <a:ln w="57240">
            <a:solidFill>
              <a:srgbClr val="9ef75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2" name="Shape 436"/>
          <p:cNvSpPr/>
          <p:nvPr/>
        </p:nvSpPr>
        <p:spPr>
          <a:xfrm flipH="1" rot="10800000">
            <a:off x="1284840" y="372960"/>
            <a:ext cx="1476360" cy="1370160"/>
          </a:xfrm>
          <a:prstGeom prst="ellipse">
            <a:avLst/>
          </a:prstGeom>
          <a:noFill/>
          <a:ln w="57240">
            <a:solidFill>
              <a:srgbClr val="9ef75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3" name="Shape 436"/>
          <p:cNvSpPr/>
          <p:nvPr/>
        </p:nvSpPr>
        <p:spPr>
          <a:xfrm flipH="1" rot="10800000">
            <a:off x="6026760" y="360360"/>
            <a:ext cx="1476360" cy="1371600"/>
          </a:xfrm>
          <a:prstGeom prst="ellipse">
            <a:avLst/>
          </a:prstGeom>
          <a:noFill/>
          <a:ln w="57240">
            <a:solidFill>
              <a:srgbClr val="9ef75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Verdana"/>
              </a:rPr>
              <a:t>TALD EST UN OUTIL D’ORIENTATIO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15" name="pharo (1).png" descr="/Users/JB/Downloads/pharo (1).png"/>
          <p:cNvPicPr/>
          <p:nvPr/>
        </p:nvPicPr>
        <p:blipFill>
          <a:blip r:embed="rId1"/>
          <a:srcRect l="0" t="13338" r="0" b="13338"/>
          <a:stretch/>
        </p:blipFill>
        <p:spPr>
          <a:xfrm>
            <a:off x="457200" y="2492280"/>
            <a:ext cx="822960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5T08:08:08Z</dcterms:created>
  <dc:creator>turneem</dc:creator>
  <dc:description/>
  <dc:language>en-US</dc:language>
  <cp:lastModifiedBy>Jean Bossuyt</cp:lastModifiedBy>
  <cp:lastPrinted>2012-11-16T16:22:50Z</cp:lastPrinted>
  <dcterms:modified xsi:type="dcterms:W3CDTF">2015-11-26T13:26:29Z</dcterms:modified>
  <cp:revision>652</cp:revision>
  <dc:subject/>
  <dc:title>Slide 1</dc:title>
</cp:coreProperties>
</file>