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7092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9280" y="4260960"/>
            <a:ext cx="7092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928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35384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17240" y="198864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15200" y="198864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9280" y="426096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17240" y="426096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15200" y="426096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19280" y="115920"/>
            <a:ext cx="7092720" cy="56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1928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5384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9280" y="4260960"/>
            <a:ext cx="7092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7092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9280" y="4260960"/>
            <a:ext cx="7092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928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5384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17240" y="198864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515200" y="198864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19280" y="426096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17240" y="426096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515200" y="426096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19280" y="115920"/>
            <a:ext cx="7092720" cy="56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1928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35384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19280" y="4260960"/>
            <a:ext cx="7092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7092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9280" y="4260960"/>
            <a:ext cx="7092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1928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35384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17240" y="198864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515200" y="198864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719280" y="426096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117240" y="426096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515200" y="426096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19280" y="115920"/>
            <a:ext cx="7092720" cy="56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1928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35384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9280" y="4260960"/>
            <a:ext cx="7092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7092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19280" y="4260960"/>
            <a:ext cx="7092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928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35384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17240" y="198864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15200" y="198864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719280" y="426096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17240" y="426096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15200" y="4260960"/>
            <a:ext cx="22834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19280" y="115920"/>
            <a:ext cx="7092720" cy="56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1928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53840" y="426096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928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3840" y="1988640"/>
            <a:ext cx="3461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9280" y="4260960"/>
            <a:ext cx="7092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achtergrond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achtergrond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achtergrond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116" name="Afbeelding 1" descr="PP-PAG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9280" y="1988640"/>
            <a:ext cx="709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ts val="43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43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sociations (nationales) de Gouvernements Locaux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ubtitle 6"/>
          <p:cNvSpPr/>
          <p:nvPr/>
        </p:nvSpPr>
        <p:spPr>
          <a:xfrm>
            <a:off x="457200" y="4508640"/>
            <a:ext cx="807732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25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Une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ALD atelier Bénin </a:t>
            </a:r>
            <a:br>
              <a:rPr sz="2000"/>
            </a:b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6 novembre 2015</a:t>
            </a:r>
            <a:br>
              <a:rPr sz="2000"/>
            </a:b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nne-Lies Risseeu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ans un contexte en développemen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l y a différents facteurs qui nécessitent la création d’une association de gouvernements locaux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ur avoir un point principal pour tous les enjeux avec le gouvernement cen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ur fournir des services aux gouvernements locaux (memb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ur offrir un ‘format de bonne gouvernanc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ur canaliser l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s caractéristiques d’une Association de Gouvernements Locau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’indépendence / l’autonom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organisation de memb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sée dans les cotisations de membres - redevabil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égi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n ancrage dans le niveau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caractère politique et tech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nique / monop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Une reconnaissance legal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es fonc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7640" y="1773360"/>
            <a:ext cx="40813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l’exter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ésenter les memb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-à-vis le gouvernement cen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égocier avec le gouvernement cen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idoyer vis-à-vis les législate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mouvoir la gouvernance locale et la décentral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341600" y="1773360"/>
            <a:ext cx="46940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l’inter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ormer et communiqu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frir une plateforme d’échange et d’apprenti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urnir des services aux memb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ompagnement / assistance /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forcement de capaci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es opportunités / potentialité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sées dans la réconnaissance de l’autonom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onnaître les forces et les faiblesses (assessment tool de la V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ne source d’information (consul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fonction de plaidoyer: un contrepoids vis-à-vis le gouvernement cen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 fonction de plateforme: diffusion des leç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s ressources humaines: lead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es opportunités / potentialité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fonction de plaidoyer: le contrepo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fonction de rendre des services aux membres: souvent trop difficile / chère - manque de ressources – important pour la visibilité pour l’AGL + la volonté parmi les membres à payer la cot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durabilité des résultats (ancrage local dans le pay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9280" y="115920"/>
            <a:ext cx="70927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elques sourc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19280" y="1988640"/>
            <a:ext cx="7092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NG International publications pour les AG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stituer une AG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ification stratég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ido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urniture de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gestion de fin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499"/>
              </a:spcBef>
              <a:buClr>
                <a:srgbClr val="2e5196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2e5196"/>
                </a:solidFill>
                <a:uFillTx/>
                <a:latin typeface="Arial"/>
              </a:rPr>
              <a:t>http://www.vng-international.nl/communication/publications-tools/other-language-publication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u:        anne-lies.risseeuw@vng.n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83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0:03:08Z</dcterms:created>
  <dc:creator>Antony du Sautoy</dc:creator>
  <dc:description/>
  <dc:language>en-US</dc:language>
  <cp:lastModifiedBy>Anne-Lies Risseeuw</cp:lastModifiedBy>
  <dcterms:modified xsi:type="dcterms:W3CDTF">2015-11-25T19:35:15Z</dcterms:modified>
  <cp:revision>39</cp:revision>
  <dc:subject/>
  <dc:title>PowerPoint Presentation</dc:title>
</cp:coreProperties>
</file>