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D44C-D6AD-484D-81DA-875A6CF36CED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2FED-F3DD-42DC-ABCD-CA4828DAF2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hape 119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0189-7BD4-40BD-B268-AA8D0A3D46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hape 40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A5E0-44BC-4089-824F-8A9A39CC4F0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hape 414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4330-6BCB-455D-9972-9B8D43A2D1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4924-25B5-40AC-ACFC-3F59428A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DC4-1170-4662-8D44-71A46865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6C8-BEC9-4F22-9930-A7BF1B8E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FD1-E0A7-449E-AE60-B9C2FA6F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12BB-1457-4012-8F45-0519467A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5894-3E36-4DAC-9E01-5B6ADC8C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7EC5-8896-4837-A58D-3E4DF301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768E-1C54-460B-9CD1-C5882C36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A133-A06D-4917-813C-3D7F8D63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52F9-D4DB-4C32-8E79-EACF6D1F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D635-9512-408F-BB04-7229766A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64B-4AB1-4679-A505-0614F804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F334-2F30-4CBE-A24F-82653F8B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7A84-1ECD-4384-8CA1-02A8D6BA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A7CF-A2B8-41EF-ABC2-56BFDBEA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F7EA-1F9F-4E5C-942D-6771BF28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6DE0-6E47-4483-9747-1A33B2D9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7C7-81ED-4EBE-915B-8C703991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61B-E4DD-4D87-AE53-0FDC97ED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BEE-039A-484A-850D-C3616130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972-AB3D-43E5-BAAD-C254098C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3E2-1149-4ED0-844B-386B4E4A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DBD-69C2-4268-8AA6-3C7BE86F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7F9-8D9A-4FD2-B862-D13BA211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D046-2499-412E-BFC3-AEE7C7AE28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EE34-8FE6-4CD5-B93E-2C2EB0C1269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1268280"/>
            <a:ext cx="8862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Session 3.1. 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Principes directeurs et questions clés à se poser concernant la mise en place de processus TALD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par Jean Bossuyt (ECDPM)</a:t>
            </a:r>
            <a:br>
              <a:rPr sz="2000"/>
            </a:br>
            <a:br>
              <a:rPr sz="20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Séminaire régional approche territoriale du développement local pour les pays d’Afrique Centrale et de l’Ouest</a:t>
            </a:r>
            <a:br>
              <a:rPr sz="1800"/>
            </a:br>
            <a:br>
              <a:rPr sz="18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Cotonou, 24-26 novembre 20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hape 112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hape 113"/>
          <p:cNvSpPr/>
          <p:nvPr/>
        </p:nvSpPr>
        <p:spPr>
          <a:xfrm>
            <a:off x="31680" y="0"/>
            <a:ext cx="6747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Un développement spatial inég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Shape 114"/>
          <p:cNvSpPr/>
          <p:nvPr/>
        </p:nvSpPr>
        <p:spPr>
          <a:xfrm>
            <a:off x="-9360" y="2133720"/>
            <a:ext cx="3497040" cy="272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492360" y="2349360"/>
          <a:ext cx="5334120" cy="3024360"/>
        </p:xfrm>
        <a:graphic>
          <a:graphicData uri="http://schemas.openxmlformats.org/drawingml/2006/table">
            <a:tbl>
              <a:tblPr/>
              <a:tblGrid>
                <a:gridCol w="3571920"/>
                <a:gridCol w="1762200"/>
              </a:tblGrid>
              <a:tr h="69552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s sur dix 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issance mais pas d'amélioration au niveau de la pauvreté ni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issance et réduction de la paureté et/ou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s de croissance mais réduction de la paureté et/ou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cune amélioration dans aucune dimensio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Shape 116"/>
          <p:cNvSpPr/>
          <p:nvPr/>
        </p:nvSpPr>
        <p:spPr>
          <a:xfrm>
            <a:off x="3502080" y="1398600"/>
            <a:ext cx="45990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2432e"/>
                </a:solidFill>
                <a:latin typeface="Verdana"/>
              </a:rPr>
              <a:t>Dynamiques territoriales, 9064 municipalités, 9 pay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Shape 117"/>
          <p:cNvSpPr/>
          <p:nvPr/>
        </p:nvSpPr>
        <p:spPr>
          <a:xfrm>
            <a:off x="6300720" y="6448320"/>
            <a:ext cx="381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Source: Julio Berdegue (RIMISP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hape 400"/>
          <p:cNvSpPr/>
          <p:nvPr/>
        </p:nvSpPr>
        <p:spPr>
          <a:xfrm>
            <a:off x="36360" y="7920"/>
            <a:ext cx="8867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QUELQUES RAPPEL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Shape 401"/>
          <p:cNvSpPr/>
          <p:nvPr/>
        </p:nvSpPr>
        <p:spPr>
          <a:xfrm>
            <a:off x="478800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hape 402"/>
          <p:cNvSpPr/>
          <p:nvPr/>
        </p:nvSpPr>
        <p:spPr>
          <a:xfrm>
            <a:off x="324000" y="1268280"/>
            <a:ext cx="8496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hape 403"/>
          <p:cNvSpPr/>
          <p:nvPr/>
        </p:nvSpPr>
        <p:spPr>
          <a:xfrm>
            <a:off x="324000" y="1341360"/>
            <a:ext cx="8496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Une TALD n’est pas un proje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(on ne peut pas « faire » un TALD)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Développement territorial comme processus endogène de mobilisation de potentialités « locales » poussée par les différentes familles d’acteur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Responsabilité spécifique des 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Pour libérer ce potentiel :  besoin d’un ensemble de politiques nationales que les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partenaires de développement internationaux pourraient vouloir soutenir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hape 409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Shape 410"/>
          <p:cNvSpPr/>
          <p:nvPr/>
        </p:nvSpPr>
        <p:spPr>
          <a:xfrm>
            <a:off x="31680" y="0"/>
            <a:ext cx="8742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PRINCIPES DIRECTEURS (1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hape 411"/>
          <p:cNvSpPr/>
          <p:nvPr/>
        </p:nvSpPr>
        <p:spPr>
          <a:xfrm>
            <a:off x="130320" y="957240"/>
            <a:ext cx="901368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1) Connaissance de dynamiques territoriales porteus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SzPct val="2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2) Incitations pour une action collective des acteurs publics et privés sur un territoire donné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3) Vision intégré de développement territorial –avec un fondement économique pour assurer viabilité)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70c0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hape 412"/>
          <p:cNvSpPr/>
          <p:nvPr/>
        </p:nvSpPr>
        <p:spPr>
          <a:xfrm>
            <a:off x="250920" y="5643720"/>
            <a:ext cx="860580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INCIPES DIRECTEU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4) Reconnaissance de la nature « non-linéaire » des processus TALD (= besoin d’une mise en œuvre itérative dans la duré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5) Systèmes de S&amp;E intelligents pouvant mesurer progrès TALD (comme processus de chang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6)  Appuis cohérents (politiques nationales, PTF, autres acteur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2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7)  Besoin de “facilitateurs” de processus TAL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Questions cl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1844640"/>
            <a:ext cx="8578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1)   Comment repérer les dynamiques et acteurs de changement au niveau local/territori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2)  Par où commencer?  Comment initier et propulser des dynamiques territoriales? Comment renforcer capacité de “leadership” des 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3)  Comment faire les choses autrement du côté des gouvernements nationaux et PTFs (UE)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*   Pistes REALISTES pour les autorités national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*   Pistes REALISTES pour l’UE (11ieme FED)?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A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fr-B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fr-BE" sz="4000" spc="-1" strike="noStrike">
                <a:solidFill>
                  <a:srgbClr val="ffd624"/>
                </a:solidFill>
                <a:latin typeface="Verdana"/>
                <a:ea typeface="Arial"/>
              </a:rPr>
              <a:t>MERCI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08:08Z</dcterms:created>
  <dc:creator>turneem</dc:creator>
  <dc:description/>
  <dc:language>en-US</dc:language>
  <cp:lastModifiedBy>Jean Bossuyt</cp:lastModifiedBy>
  <cp:lastPrinted>2012-11-16T16:22:50Z</cp:lastPrinted>
  <dcterms:modified xsi:type="dcterms:W3CDTF">2015-11-26T07:32:11Z</dcterms:modified>
  <cp:revision>629</cp:revision>
  <dc:subject/>
  <dc:title>Slide 1</dc:title>
</cp:coreProperties>
</file>