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3F1F-3234-420F-8FF9-DE8EE13E0A7D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397A-44EE-4351-8171-DDF89B109D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hape 119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3E7B-5D4D-4451-94CE-79E51BCF5D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hape 40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5161-C329-4CF4-91F9-7B1DC48B267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hape 414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7AC2-B8AB-46CB-A72F-B26B50C3EE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9E7-BB7F-4F53-A485-6904C21B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50AD-48C3-4D98-AC31-F13FFB1E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29F-EBF1-4510-A4BE-FAE7D988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550-2CBB-4235-957D-C5151B14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0661-6682-4854-A13F-2F3031FA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3F7E-3138-40CC-94CC-AF5072E4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7394-7D87-43B6-AB53-461C15F2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FB59-6F51-47B8-8CB0-0CDDE2E1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9EBB-A7E1-41D2-8DCA-47727C63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EEB3-A0F9-4B20-AA11-EC01F06A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4BFE-3E8F-4EF8-B0E8-25A30B04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580-DB46-4E9B-BFF6-92FA5B81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C042-61C0-4197-8BB7-50FA3BDA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FE21-6F3E-4CA7-ACB2-0C06BD6E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D75A-32D7-4238-A0C8-608DA1AF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1917-FCA3-48D0-BD12-2D14E0A8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54CD-DDBC-4E64-9A2F-66DDC704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CC3A-8563-4BC6-AC79-38F90359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78FF-4480-41AA-B5A1-CD6785B8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0A3-A62D-4E63-B8CF-6CE9E5E9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0E6-9C3F-49F3-B429-0C488C80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C44-EAF9-42BE-8347-9B526398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88C-DC0F-44FD-928E-EC88B2F4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4872-006F-4E4A-A19E-14AB2C45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696D-6378-4ED3-915E-6DF7238F04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7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AA78-6C58-4A62-AFF2-2BBA2D45F34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1268280"/>
            <a:ext cx="88628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Session 3.1. 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Principes directeurs et questions clés à se poser concernant la mise en place de processus TALD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par Jean Bossuyt (ECDPM)</a:t>
            </a:r>
            <a:br>
              <a:rPr sz="2000"/>
            </a:br>
            <a:br>
              <a:rPr sz="20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Séminaire régional approche territoriale du développement local pour les pays d’Afrique Centrale et de l’Ouest</a:t>
            </a:r>
            <a:br>
              <a:rPr sz="1800"/>
            </a:br>
            <a:br>
              <a:rPr sz="18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Cotonou, 24-26 novembre 2015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hape 112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hape 113"/>
          <p:cNvSpPr/>
          <p:nvPr/>
        </p:nvSpPr>
        <p:spPr>
          <a:xfrm>
            <a:off x="31680" y="0"/>
            <a:ext cx="67471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Un développement spatial inég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Shape 114"/>
          <p:cNvSpPr/>
          <p:nvPr/>
        </p:nvSpPr>
        <p:spPr>
          <a:xfrm>
            <a:off x="-9360" y="2133720"/>
            <a:ext cx="3497040" cy="272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492360" y="2349360"/>
          <a:ext cx="5334120" cy="3024360"/>
        </p:xfrm>
        <a:graphic>
          <a:graphicData uri="http://schemas.openxmlformats.org/drawingml/2006/table">
            <a:tbl>
              <a:tblPr/>
              <a:tblGrid>
                <a:gridCol w="3571920"/>
                <a:gridCol w="1762200"/>
              </a:tblGrid>
              <a:tr h="69552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s sur dix an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dada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issance mais pas d'amélioration au niveau de la pauvreté ni des inég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oissance et réduction de la paureté et/ou des inég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s de croissance mais réduction de la paureté et/ou des inégalité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0" rIns="0" tIns="0" bIns="0" anchor="t">
                      <a:noAutofit/>
                    </a:bodyPr>
                    <a:p>
                      <a:pPr marL="84240" indent="-7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cune amélioration dans aucune dimension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Shape 116"/>
          <p:cNvSpPr/>
          <p:nvPr/>
        </p:nvSpPr>
        <p:spPr>
          <a:xfrm>
            <a:off x="3502080" y="1398600"/>
            <a:ext cx="45990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2432e"/>
                </a:solidFill>
                <a:latin typeface="Verdana"/>
              </a:rPr>
              <a:t>Dynamiques territoriales, 9064 municipalités, 9 pays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Shape 117"/>
          <p:cNvSpPr/>
          <p:nvPr/>
        </p:nvSpPr>
        <p:spPr>
          <a:xfrm>
            <a:off x="6300720" y="6448320"/>
            <a:ext cx="38102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Verdana"/>
              </a:rPr>
              <a:t>Source: Julio Berdegue (RIMISP)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12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hape 400"/>
          <p:cNvSpPr/>
          <p:nvPr/>
        </p:nvSpPr>
        <p:spPr>
          <a:xfrm>
            <a:off x="36360" y="7920"/>
            <a:ext cx="8867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QUELQUES RAPPEL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Shape 401"/>
          <p:cNvSpPr/>
          <p:nvPr/>
        </p:nvSpPr>
        <p:spPr>
          <a:xfrm>
            <a:off x="4788000" y="61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Shape 402"/>
          <p:cNvSpPr/>
          <p:nvPr/>
        </p:nvSpPr>
        <p:spPr>
          <a:xfrm>
            <a:off x="324000" y="1268280"/>
            <a:ext cx="8496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Shape 403"/>
          <p:cNvSpPr/>
          <p:nvPr/>
        </p:nvSpPr>
        <p:spPr>
          <a:xfrm>
            <a:off x="324000" y="1341360"/>
            <a:ext cx="8496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 Une TALD n’est pas un projet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(on ne peut pas « faire » un TALD)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 Développement territorial comme processus endogène de mobilisation de potentialités « locales » poussée par les différentes familles d’acteur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Responsabilité spécifique des 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buClr>
                <a:srgbClr val="0f5494"/>
              </a:buClr>
              <a:buSzPct val="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*   Pour libérer ce potentiel :  besoin d’un ensemble de politiques nationales que les 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partenaires de développement internationaux pourraient vouloir soutenir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hape 409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Shape 410"/>
          <p:cNvSpPr/>
          <p:nvPr/>
        </p:nvSpPr>
        <p:spPr>
          <a:xfrm>
            <a:off x="31680" y="0"/>
            <a:ext cx="8742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PRINCIPES DIRECTEURS (1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Shape 411"/>
          <p:cNvSpPr/>
          <p:nvPr/>
        </p:nvSpPr>
        <p:spPr>
          <a:xfrm>
            <a:off x="130320" y="957240"/>
            <a:ext cx="901368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Verdana"/>
                <a:ea typeface="Verdana"/>
              </a:rPr>
              <a:t>1) Connaissance de dynamiques territoriales porteuses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0000"/>
              </a:buClr>
              <a:buSzPct val="2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Verdana"/>
                <a:ea typeface="Verdana"/>
              </a:rPr>
              <a:t>2) Incitations pour une action collective des acteurs publics et privés sur un territoire donné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Verdana"/>
                <a:ea typeface="Verdana"/>
              </a:rPr>
              <a:t>3) Vision intégré de développement territorial –avec un fondement économique pour assurer viabilité)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070c0"/>
              </a:buClr>
              <a:buSzPct val="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Shape 412"/>
          <p:cNvSpPr/>
          <p:nvPr/>
        </p:nvSpPr>
        <p:spPr>
          <a:xfrm>
            <a:off x="250920" y="5643720"/>
            <a:ext cx="860580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PRINCIPES DIRECTEURS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4) Reconnaissance de la nature « non-linéaire » des processus TALD (= besoin d’une mise en œuvre itérative dans la duré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5) Systèmes de S&amp;E intelligents pouvant mesurer progrès TALD (comme processus de chang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6)  Appuis cohérents (politiques nationales, PTF, autres acteur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2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7)  Besoin de “facilitateurs” de processus TAL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Questions clé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8000" y="1844640"/>
            <a:ext cx="8578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1)   Comment repérer les dynamiques et acteurs de changement au niveau local/territorial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2)  Par où commencer?  Comment initier et propulser des dynamiques territoriales? Comment renforcer capacité de “leadership” des AL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3)  Comment faire les choses autrement du côté des gouvernements nationaux et PTFs (UE)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*   Pistes REALISTES pour les autorités nationale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*   Pistes REALISTES pour l’UE (11ieme FED)?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A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fr-B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fr-BE" sz="4000" spc="-1" strike="noStrike">
                <a:solidFill>
                  <a:srgbClr val="ffd624"/>
                </a:solidFill>
                <a:latin typeface="Verdana"/>
                <a:ea typeface="Arial"/>
              </a:rPr>
              <a:t>MERCI</a:t>
            </a:r>
            <a:br>
              <a:rPr sz="40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08:08Z</dcterms:created>
  <dc:creator>turneem</dc:creator>
  <dc:description/>
  <dc:language>en-US</dc:language>
  <cp:lastModifiedBy>Jean Bossuyt</cp:lastModifiedBy>
  <cp:lastPrinted>2012-11-16T16:22:50Z</cp:lastPrinted>
  <dcterms:modified xsi:type="dcterms:W3CDTF">2015-11-26T07:32:11Z</dcterms:modified>
  <cp:revision>629</cp:revision>
  <dc:subject/>
  <dc:title>Slide 1</dc:title>
</cp:coreProperties>
</file>