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416F-8CFD-478B-8F00-E2EA5C8D2CD5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EE5D-9C2A-4568-98AF-10F011C1F2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hape 119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4827-159C-4793-A05C-C3E55FE8CF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hape 40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799A-DC6E-4129-BB5B-6066A16F0AB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hape 414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3081-4AD8-41D0-8ACF-965B9B8B18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2F12-1371-4589-A7FA-75C2D70A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8A3-80B9-4437-92B2-156F15EC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5EE-EB23-4A6A-9561-11802A97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1CA-9197-46A1-9837-3CDBBF22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EBD5-E1EF-43CA-8D22-97C29993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797A-A61E-45F8-8E72-3DA4C917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CD08-6786-4FAE-9928-E66120C7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178B-C5DF-4372-AB29-BFA7D04E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260B-3F45-4CBA-B84C-222FB31B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C507-F4E5-4B40-9B28-2F452AC4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B061-5884-4496-A498-04055DC4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36F-95D8-4CDB-973F-DE77919E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06DD-763A-41F5-87AA-419F246F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9D4B-3CC8-45A7-AE6A-57625804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0EC4-AC72-4CE7-A83C-00C1C5E3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B874-EFF7-41E8-AF0A-AC33B176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F765-45F1-489D-B10D-565F02F7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6F8-E992-4B4B-AC9A-DFD93695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8AB-CFDB-4476-BD3D-75D6D36B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A449-9387-430A-812A-BE6A92CE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E4EF-B348-4B61-ACA7-84486C9D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859-375E-456D-8B75-623C1591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887-3380-4CE5-BE8C-AAF6B225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144-6758-4E32-B117-59B1BA61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190A-DC9F-49FE-8A2B-AF89978314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7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F6DE-DD0C-4EFA-BCD1-C46059088DA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1268280"/>
            <a:ext cx="88628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Session 3.1. 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Principes directeurs et questions clés à se poser concernant la mise en place de processus TALD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par Jean Bossuyt (ECDPM)</a:t>
            </a:r>
            <a:br>
              <a:rPr sz="2000"/>
            </a:br>
            <a:br>
              <a:rPr sz="20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Séminaire régional approche territoriale du développement local pour les pays d’Afrique Centrale et de l’Ouest</a:t>
            </a:r>
            <a:br>
              <a:rPr sz="1800"/>
            </a:br>
            <a:br>
              <a:rPr sz="18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Cotonou, 24-26 novembre 2015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hape 112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hape 113"/>
          <p:cNvSpPr/>
          <p:nvPr/>
        </p:nvSpPr>
        <p:spPr>
          <a:xfrm>
            <a:off x="31680" y="0"/>
            <a:ext cx="67471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Un développement spatial inég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Shape 114"/>
          <p:cNvSpPr/>
          <p:nvPr/>
        </p:nvSpPr>
        <p:spPr>
          <a:xfrm>
            <a:off x="-9360" y="2133720"/>
            <a:ext cx="3497040" cy="272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492360" y="2349360"/>
          <a:ext cx="5334120" cy="3024360"/>
        </p:xfrm>
        <a:graphic>
          <a:graphicData uri="http://schemas.openxmlformats.org/drawingml/2006/table">
            <a:tbl>
              <a:tblPr/>
              <a:tblGrid>
                <a:gridCol w="3571920"/>
                <a:gridCol w="1762200"/>
              </a:tblGrid>
              <a:tr h="69552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s sur dix 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issance mais pas d'amélioration au niveau de la pauvreté ni des inég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issance et réduction de la paureté et/ou des inég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s de croissance mais réduction de la paureté et/ou des inég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cune amélioration dans aucune dimensio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Shape 116"/>
          <p:cNvSpPr/>
          <p:nvPr/>
        </p:nvSpPr>
        <p:spPr>
          <a:xfrm>
            <a:off x="3502080" y="1398600"/>
            <a:ext cx="45990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2432e"/>
                </a:solidFill>
                <a:latin typeface="Verdana"/>
              </a:rPr>
              <a:t>Dynamiques territoriales, 9064 municipalités, 9 pay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Shape 117"/>
          <p:cNvSpPr/>
          <p:nvPr/>
        </p:nvSpPr>
        <p:spPr>
          <a:xfrm>
            <a:off x="6300720" y="6448320"/>
            <a:ext cx="3810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Source: Julio Berdegue (RIMISP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12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hape 400"/>
          <p:cNvSpPr/>
          <p:nvPr/>
        </p:nvSpPr>
        <p:spPr>
          <a:xfrm>
            <a:off x="36360" y="7920"/>
            <a:ext cx="8867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QUELQUES RAPPEL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Shape 401"/>
          <p:cNvSpPr/>
          <p:nvPr/>
        </p:nvSpPr>
        <p:spPr>
          <a:xfrm>
            <a:off x="4788000" y="61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hape 402"/>
          <p:cNvSpPr/>
          <p:nvPr/>
        </p:nvSpPr>
        <p:spPr>
          <a:xfrm>
            <a:off x="324000" y="1268280"/>
            <a:ext cx="8496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hape 403"/>
          <p:cNvSpPr/>
          <p:nvPr/>
        </p:nvSpPr>
        <p:spPr>
          <a:xfrm>
            <a:off x="324000" y="1341360"/>
            <a:ext cx="8496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 Une TALD n’est pas un proje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(on ne peut pas « faire » un TALD)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 Développement territorial comme processus endogène de mobilisation de potentialités « locales » poussée par les différentes familles d’acteur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Responsabilité spécifique des 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 Pour libérer ce potentiel :  besoin d’un ensemble de politiques nationales que les 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partenaires de développement internationaux pourraient vouloir soutenir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hape 409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Shape 410"/>
          <p:cNvSpPr/>
          <p:nvPr/>
        </p:nvSpPr>
        <p:spPr>
          <a:xfrm>
            <a:off x="31680" y="0"/>
            <a:ext cx="8742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PRINCIPES DIRECTEURS (1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hape 411"/>
          <p:cNvSpPr/>
          <p:nvPr/>
        </p:nvSpPr>
        <p:spPr>
          <a:xfrm>
            <a:off x="130320" y="957240"/>
            <a:ext cx="901368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Verdana"/>
                <a:ea typeface="Verdana"/>
              </a:rPr>
              <a:t>1) Connaissance de dynamiques territoriales porteus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SzPct val="2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Verdana"/>
                <a:ea typeface="Verdana"/>
              </a:rPr>
              <a:t>2) Incitations pour une action collective des acteurs publics et privés sur un territoire donné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Verdana"/>
                <a:ea typeface="Verdana"/>
              </a:rPr>
              <a:t>3) Vision intégré de développement territorial –avec un fondement économique pour assurer viabilité)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70c0"/>
              </a:buClr>
              <a:buSzPct val="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Shape 412"/>
          <p:cNvSpPr/>
          <p:nvPr/>
        </p:nvSpPr>
        <p:spPr>
          <a:xfrm>
            <a:off x="250920" y="5643720"/>
            <a:ext cx="860580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INCIPES DIRECTEU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4) Reconnaissance de la nature « non-linéaire » des processus TALD (= besoin d’une mise en œuvre itérative dans la duré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5) Systèmes de S&amp;E intelligents pouvant mesurer progrès TALD (comme processus de chang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6)  Appuis cohérents (politiques nationales, PTF, autres acteur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2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7)  Besoin de “facilitateurs” de processus TAL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Questions clé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8000" y="1844640"/>
            <a:ext cx="8578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1)   Comment repérer les dynamiques et acteurs de changement au niveau local/territorial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2)  Par où commencer?  Comment initier et propulser des dynamiques territoriales? Comment renforcer capacité de “leadership” des AL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3)  Comment faire les choses autrement du côté des gouvernements nationaux et PTFs (UE)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*   Pistes REALISTES pour les autorités nationale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*   Pistes REALISTES pour l’UE (11ieme FED)?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A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fr-B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fr-BE" sz="4000" spc="-1" strike="noStrike">
                <a:solidFill>
                  <a:srgbClr val="ffd624"/>
                </a:solidFill>
                <a:latin typeface="Verdana"/>
                <a:ea typeface="Arial"/>
              </a:rPr>
              <a:t>MERCI</a:t>
            </a:r>
            <a:br>
              <a:rPr sz="40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08:08Z</dcterms:created>
  <dc:creator>turneem</dc:creator>
  <dc:description/>
  <dc:language>en-US</dc:language>
  <cp:lastModifiedBy>Jean Bossuyt</cp:lastModifiedBy>
  <cp:lastPrinted>2012-11-16T16:22:50Z</cp:lastPrinted>
  <dcterms:modified xsi:type="dcterms:W3CDTF">2015-11-26T07:32:11Z</dcterms:modified>
  <cp:revision>629</cp:revision>
  <dc:subject/>
  <dc:title>Slide 1</dc:title>
</cp:coreProperties>
</file>