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05CE-6B19-4AAE-9C19-1E4936A3763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6CA4-FC15-4F37-ABE5-34AFAB3618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F14-41EC-4227-AD39-AB42678527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37B9-F118-4D03-BB71-ACE1F2130C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F78-26D2-4411-A05A-85C3B0429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6F49-AE9C-4E28-9CD0-BB55699242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7A5A-C261-416C-9451-004380ACD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AC2D-3F7C-463D-8945-0E1175D73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 Leoan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dad para mobilizar recursos financieros y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r siner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gurar el vinculo entre el Estadony losciudad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r la construccion democrat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B6B-BC3E-457E-B00A-A380FA3F69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9361-E604-411C-881A-3D751DA1A1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3FA-0C27-4E57-84B9-A2E7CEA8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298-19E2-4716-B90B-8A23D598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0F6-31FC-443A-B01F-5AC415A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CCF-F29F-4D4E-81E4-7EACF43D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76FB-49F8-4926-B475-8CD45115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A939-FF8D-4B29-AE00-9D0BFCAB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B3D4-9309-4715-B44F-8AC37C4E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4045-3D8F-4895-AC3F-B8418EE0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661C-F0BE-48B7-BBAE-CE40F6A0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4651-AC0E-464C-BC2E-8F07CDF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BCA4-D7F5-43BB-9814-310E5CF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71B-E2B5-4A72-B181-330CDBD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26DA-16C7-4233-A2EA-4CFA01D4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EB61-1DEC-4109-8910-76F0BD1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F5E1-612D-4D8D-85ED-21677DDA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087-FC6C-402B-9F43-538F9475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310C-CF59-480F-BB40-D64763F6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579-C8AC-4BEB-980A-135A5B91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190E-CEDC-449E-ACD1-46A8823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389-3689-4DDC-9768-2D44DD4A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43FB-3B41-494B-91F7-79E65850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370-4C64-4D6E-AB94-8FCDB51B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5BA-EDB3-49CE-B2F5-F133CED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AE1-ED8C-4A05-A6D5-B5FEEB0E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CBD4-55A8-4696-BAF3-C0AD0D674D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6EC-A338-483E-BBD9-520E30F0F0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90972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600" spc="-1" strike="noStrike">
                <a:solidFill>
                  <a:srgbClr val="ffd624"/>
                </a:solidFill>
                <a:latin typeface="Verdana"/>
              </a:rPr>
              <a:t>Toile de fond du séminaire régional </a:t>
            </a:r>
            <a:br>
              <a:rPr sz="3200"/>
            </a:br>
            <a:br>
              <a:rPr sz="32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Jorge Rodríguez Bilbao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“ SOCIETE CIVILE ET AUTORITES LOCALES” </a:t>
            </a: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ISION EUROPEENE - DG DEVCO UNITE B2 </a:t>
            </a: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06200" y="1079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 but du séminaire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79360" y="884160"/>
            <a:ext cx="8207280" cy="54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'objectif principal de ce séminaire est d'explorer / partager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concept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 développement territorial et approche territoriale du développement local;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es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implications pratiques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ans le contexte de la région pour la coopération de l'UE dans ses diverses formes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travers l'utilisation de la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igne thématiqu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râce à l'appui dans le cadre de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l'aide bilatérale</a:t>
            </a:r>
            <a:r>
              <a:rPr b="1" lang="fr-FR" sz="1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fba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 travers une </a:t>
            </a:r>
            <a:r>
              <a:rPr b="1" lang="fr-FR" sz="1800" spc="-1" strike="noStrike" u="sng">
                <a:solidFill>
                  <a:srgbClr val="0070c0"/>
                </a:solidFill>
                <a:uFillTx/>
                <a:latin typeface="Verdana"/>
              </a:rPr>
              <a:t>combinaison intelligente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 des deux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1258920" y="5157720"/>
            <a:ext cx="588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séminaire  est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destiné au personnel de l'UE en délég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187280" y="6081840"/>
            <a:ext cx="67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ais le séminaire est 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ouvert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à des personnes de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différents horizons</a:t>
            </a:r>
            <a:r>
              <a:rPr b="0" lang="fr-FR" sz="2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 BEAUCOUP? ET PROFITEZ BIEN DU SEMINAIRE!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9360" y="981000"/>
            <a:ext cx="4108680" cy="587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9" name="Group 1"/>
          <p:cNvGrpSpPr/>
          <p:nvPr/>
        </p:nvGrpSpPr>
        <p:grpSpPr>
          <a:xfrm>
            <a:off x="4164120" y="981000"/>
            <a:ext cx="4979880" cy="5877000"/>
            <a:chOff x="4164120" y="981000"/>
            <a:chExt cx="4979880" cy="5877000"/>
          </a:xfrm>
        </p:grpSpPr>
        <p:grpSp>
          <p:nvGrpSpPr>
            <p:cNvPr id="100" name="Grouper 2"/>
            <p:cNvGrpSpPr/>
            <p:nvPr/>
          </p:nvGrpSpPr>
          <p:grpSpPr>
            <a:xfrm>
              <a:off x="4164120" y="2420640"/>
              <a:ext cx="792000" cy="2952720"/>
              <a:chOff x="4164120" y="2420640"/>
              <a:chExt cx="792000" cy="2952720"/>
            </a:xfrm>
          </p:grpSpPr>
          <p:sp>
            <p:nvSpPr>
              <p:cNvPr id="101" name="Flèche vers la droite 6"/>
              <p:cNvSpPr/>
              <p:nvPr/>
            </p:nvSpPr>
            <p:spPr>
              <a:xfrm>
                <a:off x="4164120" y="4869360"/>
                <a:ext cx="792000" cy="50400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02" name="Flèche vers la droite 7"/>
              <p:cNvSpPr/>
              <p:nvPr/>
            </p:nvSpPr>
            <p:spPr>
              <a:xfrm>
                <a:off x="4164120" y="2420640"/>
                <a:ext cx="792000" cy="504000"/>
              </a:xfrm>
              <a:prstGeom prst="rightArrow">
                <a:avLst>
                  <a:gd name="adj1" fmla="val 50000"/>
                  <a:gd name="adj2" fmla="val 50002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pic>
          <p:nvPicPr>
            <p:cNvPr id="103" name="Picture 10" descr=""/>
            <p:cNvPicPr/>
            <p:nvPr/>
          </p:nvPicPr>
          <p:blipFill>
            <a:blip r:embed="rId2"/>
            <a:stretch/>
          </p:blipFill>
          <p:spPr>
            <a:xfrm>
              <a:off x="5006880" y="981000"/>
              <a:ext cx="4137120" cy="5877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04" name="Oval 19"/>
          <p:cNvSpPr/>
          <p:nvPr/>
        </p:nvSpPr>
        <p:spPr>
          <a:xfrm rot="10800000">
            <a:off x="611280" y="2421000"/>
            <a:ext cx="302400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Oval 19"/>
          <p:cNvSpPr/>
          <p:nvPr/>
        </p:nvSpPr>
        <p:spPr>
          <a:xfrm rot="10800000">
            <a:off x="5562360" y="2313000"/>
            <a:ext cx="3025800" cy="720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1120680" y="44604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851280" y="1700280"/>
            <a:ext cx="1857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Connecteur droit 15"/>
          <p:cNvSpPr/>
          <p:nvPr/>
        </p:nvSpPr>
        <p:spPr>
          <a:xfrm>
            <a:off x="2556000" y="162864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Connecteur droit 24"/>
          <p:cNvSpPr/>
          <p:nvPr/>
        </p:nvSpPr>
        <p:spPr>
          <a:xfrm>
            <a:off x="4932360" y="134136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Connecteur droit 28"/>
          <p:cNvSpPr/>
          <p:nvPr/>
        </p:nvSpPr>
        <p:spPr>
          <a:xfrm>
            <a:off x="3348000" y="1628640"/>
            <a:ext cx="0" cy="1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11" name="Grouper 1049"/>
          <p:cNvGrpSpPr/>
          <p:nvPr/>
        </p:nvGrpSpPr>
        <p:grpSpPr>
          <a:xfrm>
            <a:off x="0" y="1009800"/>
            <a:ext cx="1560600" cy="3024000"/>
            <a:chOff x="0" y="1009800"/>
            <a:chExt cx="1560600" cy="3024000"/>
          </a:xfrm>
        </p:grpSpPr>
        <p:sp>
          <p:nvSpPr>
            <p:cNvPr id="112" name="Rectangle 13"/>
            <p:cNvSpPr/>
            <p:nvPr/>
          </p:nvSpPr>
          <p:spPr>
            <a:xfrm>
              <a:off x="98640" y="1009800"/>
              <a:ext cx="1315800" cy="302400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13" name="ZoneTexte 5" descr=""/>
            <p:cNvPicPr/>
            <p:nvPr/>
          </p:nvPicPr>
          <p:blipFill>
            <a:blip r:embed="rId1"/>
            <a:stretch/>
          </p:blipFill>
          <p:spPr>
            <a:xfrm>
              <a:off x="0" y="1493640"/>
              <a:ext cx="1560600" cy="13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44"/>
            <p:cNvSpPr/>
            <p:nvPr/>
          </p:nvSpPr>
          <p:spPr>
            <a:xfrm>
              <a:off x="170640" y="2997360"/>
              <a:ext cx="11404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ppui aux groupes communautaires,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NG locales ...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5" name="Text Box 44"/>
            <p:cNvSpPr/>
            <p:nvPr/>
          </p:nvSpPr>
          <p:spPr>
            <a:xfrm>
              <a:off x="377640" y="1123920"/>
              <a:ext cx="57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80’-90’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16" name="Grouper 1052"/>
          <p:cNvGrpSpPr/>
          <p:nvPr/>
        </p:nvGrpSpPr>
        <p:grpSpPr>
          <a:xfrm>
            <a:off x="5365440" y="1917720"/>
            <a:ext cx="3527640" cy="855360"/>
            <a:chOff x="5365440" y="1917720"/>
            <a:chExt cx="3527640" cy="855360"/>
          </a:xfrm>
        </p:grpSpPr>
        <p:cxnSp>
          <p:nvCxnSpPr>
            <p:cNvPr id="117" name="Connecteur droit avec flèche 79"/>
            <p:cNvCxnSpPr/>
            <p:nvPr/>
          </p:nvCxnSpPr>
          <p:spPr>
            <a:xfrm flipV="1">
              <a:off x="5365440" y="2347920"/>
              <a:ext cx="551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8" name="Rectangle 44"/>
            <p:cNvSpPr/>
            <p:nvPr/>
          </p:nvSpPr>
          <p:spPr>
            <a:xfrm>
              <a:off x="6083280" y="1917720"/>
              <a:ext cx="28098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a capacité des gouvernements locaux à promouvoir de meilleurs résultats de développement dépend du contexte intergouvernemental dans lequel ils opèrent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19" name="Flèche à trois pointes 55"/>
          <p:cNvSpPr/>
          <p:nvPr/>
        </p:nvSpPr>
        <p:spPr>
          <a:xfrm>
            <a:off x="4788000" y="1484280"/>
            <a:ext cx="1079280" cy="649440"/>
          </a:xfrm>
          <a:custGeom>
            <a:avLst/>
            <a:gdLst/>
            <a:ahLst/>
            <a:rect l="l" t="t" r="r" b="b"/>
            <a:pathLst>
              <a:path w="1079500" h="649287">
                <a:moveTo>
                  <a:pt x="0" y="486965"/>
                </a:moveTo>
                <a:lnTo>
                  <a:pt x="162322" y="324644"/>
                </a:lnTo>
                <a:lnTo>
                  <a:pt x="162322" y="405804"/>
                </a:lnTo>
                <a:lnTo>
                  <a:pt x="458589" y="405804"/>
                </a:lnTo>
                <a:lnTo>
                  <a:pt x="458589" y="162322"/>
                </a:lnTo>
                <a:lnTo>
                  <a:pt x="377428" y="162322"/>
                </a:lnTo>
                <a:lnTo>
                  <a:pt x="539750" y="0"/>
                </a:lnTo>
                <a:lnTo>
                  <a:pt x="702072" y="162322"/>
                </a:lnTo>
                <a:lnTo>
                  <a:pt x="620911" y="162322"/>
                </a:lnTo>
                <a:lnTo>
                  <a:pt x="620911" y="405804"/>
                </a:lnTo>
                <a:lnTo>
                  <a:pt x="917178" y="405804"/>
                </a:lnTo>
                <a:lnTo>
                  <a:pt x="917178" y="324644"/>
                </a:lnTo>
                <a:lnTo>
                  <a:pt x="1079500" y="486965"/>
                </a:lnTo>
                <a:lnTo>
                  <a:pt x="917178" y="649287"/>
                </a:lnTo>
                <a:lnTo>
                  <a:pt x="917178" y="568126"/>
                </a:lnTo>
                <a:lnTo>
                  <a:pt x="162322" y="568126"/>
                </a:lnTo>
                <a:lnTo>
                  <a:pt x="162322" y="649287"/>
                </a:lnTo>
                <a:lnTo>
                  <a:pt x="0" y="48696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20" name="Connecteur en angle 59"/>
          <p:cNvCxnSpPr/>
          <p:nvPr/>
        </p:nvCxnSpPr>
        <p:spPr>
          <a:xfrm flipV="1">
            <a:off x="4211640" y="1557000"/>
            <a:ext cx="1513440" cy="720000"/>
          </a:xfrm>
          <a:prstGeom prst="bentConnector3">
            <a:avLst>
              <a:gd name="adj1" fmla="val 49988"/>
            </a:avLst>
          </a:prstGeom>
          <a:ln w="0">
            <a:noFill/>
          </a:ln>
        </p:spPr>
      </p:cxnSp>
      <p:cxnSp>
        <p:nvCxnSpPr>
          <p:cNvPr id="121" name="Connecteur en angle 61"/>
          <p:cNvCxnSpPr/>
          <p:nvPr/>
        </p:nvCxnSpPr>
        <p:spPr>
          <a:xfrm>
            <a:off x="4211640" y="2276280"/>
            <a:ext cx="1224720" cy="13320"/>
          </a:xfrm>
          <a:prstGeom prst="bentConnector3">
            <a:avLst>
              <a:gd name="adj1" fmla="val 49985"/>
            </a:avLst>
          </a:prstGeom>
          <a:ln w="0">
            <a:noFill/>
          </a:ln>
        </p:spPr>
      </p:cxnSp>
      <p:grpSp>
        <p:nvGrpSpPr>
          <p:cNvPr id="122" name="Grouper 1053"/>
          <p:cNvGrpSpPr/>
          <p:nvPr/>
        </p:nvGrpSpPr>
        <p:grpSpPr>
          <a:xfrm>
            <a:off x="4932000" y="2349000"/>
            <a:ext cx="3321360" cy="1379520"/>
            <a:chOff x="4932000" y="2349000"/>
            <a:chExt cx="3321360" cy="1379520"/>
          </a:xfrm>
        </p:grpSpPr>
        <p:sp>
          <p:nvSpPr>
            <p:cNvPr id="123" name="Text Box 44"/>
            <p:cNvSpPr/>
            <p:nvPr/>
          </p:nvSpPr>
          <p:spPr>
            <a:xfrm>
              <a:off x="6092640" y="2873160"/>
              <a:ext cx="216072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Besoin de travailler dans l'architecture institutionnelle de la gouvernance multi-acteurs et multi-niveaux pour la livraison des politiques publique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24" name="Connecteur en angle 75"/>
            <p:cNvCxnSpPr/>
            <p:nvPr/>
          </p:nvCxnSpPr>
          <p:spPr>
            <a:xfrm>
              <a:off x="4932000" y="2349000"/>
              <a:ext cx="1152360" cy="1081080"/>
            </a:xfrm>
            <a:prstGeom prst="bentConnector3">
              <a:avLst>
                <a:gd name="adj1" fmla="val 38968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</p:grpSp>
      <p:grpSp>
        <p:nvGrpSpPr>
          <p:cNvPr id="125" name="Grouper 1051"/>
          <p:cNvGrpSpPr/>
          <p:nvPr/>
        </p:nvGrpSpPr>
        <p:grpSpPr>
          <a:xfrm>
            <a:off x="4911840" y="1146240"/>
            <a:ext cx="3112920" cy="1199880"/>
            <a:chOff x="4911840" y="1146240"/>
            <a:chExt cx="3112920" cy="1199880"/>
          </a:xfrm>
        </p:grpSpPr>
        <p:sp>
          <p:nvSpPr>
            <p:cNvPr id="126" name="Text Box 44"/>
            <p:cNvSpPr/>
            <p:nvPr/>
          </p:nvSpPr>
          <p:spPr>
            <a:xfrm>
              <a:off x="5865840" y="1447920"/>
              <a:ext cx="21589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Compréhension progressive des AL comme partie intégrante d'un  "système" (réseau d'acteurs)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cxnSp>
          <p:nvCxnSpPr>
            <p:cNvPr id="127" name="Connecteur en angle 1023"/>
            <p:cNvCxnSpPr/>
            <p:nvPr/>
          </p:nvCxnSpPr>
          <p:spPr>
            <a:xfrm flipV="1">
              <a:off x="4911840" y="1703880"/>
              <a:ext cx="937440" cy="64260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128" name="Text Box 44"/>
            <p:cNvSpPr/>
            <p:nvPr/>
          </p:nvSpPr>
          <p:spPr>
            <a:xfrm>
              <a:off x="6074280" y="1146240"/>
              <a:ext cx="81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2000-2010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9" name="Text Box 44"/>
          <p:cNvSpPr/>
          <p:nvPr/>
        </p:nvSpPr>
        <p:spPr>
          <a:xfrm>
            <a:off x="1603440" y="1035000"/>
            <a:ext cx="1224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Arial"/>
                <a:ea typeface="SimSun"/>
              </a:rPr>
              <a:t>Réformes de décentralisation faisant place à un nouvel acteur dans l'arène locale:  ALs élues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30" name="Grouper 1054"/>
          <p:cNvGrpSpPr/>
          <p:nvPr/>
        </p:nvGrpSpPr>
        <p:grpSpPr>
          <a:xfrm>
            <a:off x="6012000" y="3933720"/>
            <a:ext cx="2736720" cy="2727360"/>
            <a:chOff x="6012000" y="3933720"/>
            <a:chExt cx="2736720" cy="2727360"/>
          </a:xfrm>
        </p:grpSpPr>
        <p:sp>
          <p:nvSpPr>
            <p:cNvPr id="131" name="Rectangle 13"/>
            <p:cNvSpPr/>
            <p:nvPr/>
          </p:nvSpPr>
          <p:spPr>
            <a:xfrm>
              <a:off x="6012000" y="4573440"/>
              <a:ext cx="2736720" cy="2087640"/>
            </a:xfrm>
            <a:prstGeom prst="rect">
              <a:avLst/>
            </a:prstGeom>
            <a:solidFill>
              <a:srgbClr val="f2f2f2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pic>
          <p:nvPicPr>
            <p:cNvPr id="132" name="ZoneTexte 5" descr=""/>
            <p:cNvPicPr/>
            <p:nvPr/>
          </p:nvPicPr>
          <p:blipFill>
            <a:blip r:embed="rId2"/>
            <a:stretch/>
          </p:blipFill>
          <p:spPr>
            <a:xfrm>
              <a:off x="6595920" y="4535280"/>
              <a:ext cx="15728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51"/>
            <p:cNvSpPr/>
            <p:nvPr/>
          </p:nvSpPr>
          <p:spPr>
            <a:xfrm>
              <a:off x="6093360" y="5498280"/>
              <a:ext cx="265536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a décentralisation comme un processus de réforme du secteur public visant à transférer les responsabilités, les ressources et l'autorité générale des niveaux supérieurs à des niveaux inferieures du gouvernement nouvellement capacités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Flèche vers la droite 85"/>
            <p:cNvSpPr/>
            <p:nvPr/>
          </p:nvSpPr>
          <p:spPr>
            <a:xfrm rot="5400000">
              <a:off x="6876360" y="4005360"/>
              <a:ext cx="647640" cy="504000"/>
            </a:xfrm>
            <a:prstGeom prst="rightArrow">
              <a:avLst>
                <a:gd name="adj1" fmla="val 50000"/>
                <a:gd name="adj2" fmla="val 49972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35" name="Grouper 67"/>
          <p:cNvGrpSpPr/>
          <p:nvPr/>
        </p:nvGrpSpPr>
        <p:grpSpPr>
          <a:xfrm>
            <a:off x="1692360" y="1052640"/>
            <a:ext cx="3240000" cy="3024000"/>
            <a:chOff x="1692360" y="1052640"/>
            <a:chExt cx="3240000" cy="3024000"/>
          </a:xfrm>
        </p:grpSpPr>
        <p:sp>
          <p:nvSpPr>
            <p:cNvPr id="136" name="Flèche vers la droite 1037"/>
            <p:cNvSpPr/>
            <p:nvPr/>
          </p:nvSpPr>
          <p:spPr>
            <a:xfrm>
              <a:off x="1692360" y="2204640"/>
              <a:ext cx="1152000" cy="5040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grpSp>
          <p:nvGrpSpPr>
            <p:cNvPr id="137" name="Grouper 1050"/>
            <p:cNvGrpSpPr/>
            <p:nvPr/>
          </p:nvGrpSpPr>
          <p:grpSpPr>
            <a:xfrm>
              <a:off x="2708640" y="1052640"/>
              <a:ext cx="2223720" cy="3024000"/>
              <a:chOff x="2708640" y="1052640"/>
              <a:chExt cx="2223720" cy="3024000"/>
            </a:xfrm>
          </p:grpSpPr>
          <p:sp>
            <p:nvSpPr>
              <p:cNvPr id="138" name="Rectangle 13"/>
              <p:cNvSpPr/>
              <p:nvPr/>
            </p:nvSpPr>
            <p:spPr>
              <a:xfrm>
                <a:off x="2916000" y="1052640"/>
                <a:ext cx="2016360" cy="3024000"/>
              </a:xfrm>
              <a:prstGeom prst="rect">
                <a:avLst/>
              </a:prstGeom>
              <a:solidFill>
                <a:srgbClr val="f2f2f2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pic>
            <p:nvPicPr>
              <p:cNvPr id="139" name="ZoneText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25720" y="1316520"/>
                <a:ext cx="1969200" cy="96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Text Box 44"/>
              <p:cNvSpPr/>
              <p:nvPr/>
            </p:nvSpPr>
            <p:spPr>
              <a:xfrm>
                <a:off x="3095640" y="2238480"/>
                <a:ext cx="16560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Accent sur la promotion de l'action conjointe AL-OSC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Reconnaissance progressive des AL comme acteur clé du développement local 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41" name="Text Box 44"/>
              <p:cNvSpPr/>
              <p:nvPr/>
            </p:nvSpPr>
            <p:spPr>
              <a:xfrm>
                <a:off x="3177720" y="1095480"/>
                <a:ext cx="157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Milieu des années 19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90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42" name="Connecteur droit 89"/>
              <p:cNvSpPr/>
              <p:nvPr/>
            </p:nvSpPr>
            <p:spPr>
              <a:xfrm>
                <a:off x="2708640" y="1780920"/>
                <a:ext cx="91440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143" name="Grouper 63"/>
          <p:cNvGrpSpPr/>
          <p:nvPr/>
        </p:nvGrpSpPr>
        <p:grpSpPr>
          <a:xfrm>
            <a:off x="4932360" y="3555720"/>
            <a:ext cx="1639080" cy="1116000"/>
            <a:chOff x="4932360" y="3555720"/>
            <a:chExt cx="1639080" cy="1116000"/>
          </a:xfrm>
        </p:grpSpPr>
        <p:sp>
          <p:nvSpPr>
            <p:cNvPr id="144" name="Double flèche horizontale 1048"/>
            <p:cNvSpPr/>
            <p:nvPr/>
          </p:nvSpPr>
          <p:spPr>
            <a:xfrm rot="1737000">
              <a:off x="4932000" y="3933720"/>
              <a:ext cx="1655640" cy="359640"/>
            </a:xfrm>
            <a:prstGeom prst="leftRightArrow">
              <a:avLst>
                <a:gd name="adj1" fmla="val 50000"/>
                <a:gd name="adj2" fmla="val 78283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2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5" name="Text Box 44"/>
            <p:cNvSpPr/>
            <p:nvPr/>
          </p:nvSpPr>
          <p:spPr>
            <a:xfrm>
              <a:off x="4932360" y="4149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?????</a:t>
              </a:r>
              <a:endParaRPr b="0" lang="en-US" sz="16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pic>
        <p:nvPicPr>
          <p:cNvPr id="146" name="Text Box 44" descr=""/>
          <p:cNvPicPr/>
          <p:nvPr/>
        </p:nvPicPr>
        <p:blipFill>
          <a:blip r:embed="rId5"/>
          <a:stretch/>
        </p:blipFill>
        <p:spPr>
          <a:xfrm>
            <a:off x="3560760" y="4591080"/>
            <a:ext cx="1968480" cy="119376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er 69"/>
          <p:cNvGrpSpPr/>
          <p:nvPr/>
        </p:nvGrpSpPr>
        <p:grpSpPr>
          <a:xfrm>
            <a:off x="1406160" y="3424680"/>
            <a:ext cx="4102200" cy="2862720"/>
            <a:chOff x="1406160" y="3424680"/>
            <a:chExt cx="4102200" cy="2862720"/>
          </a:xfrm>
        </p:grpSpPr>
        <p:grpSp>
          <p:nvGrpSpPr>
            <p:cNvPr id="148" name="Grouper 65"/>
            <p:cNvGrpSpPr/>
            <p:nvPr/>
          </p:nvGrpSpPr>
          <p:grpSpPr>
            <a:xfrm>
              <a:off x="3852000" y="5517720"/>
              <a:ext cx="1656360" cy="769680"/>
              <a:chOff x="3852000" y="5517720"/>
              <a:chExt cx="1656360" cy="769680"/>
            </a:xfrm>
          </p:grpSpPr>
          <p:sp>
            <p:nvSpPr>
              <p:cNvPr id="149" name="Double flèche horizontale 105"/>
              <p:cNvSpPr/>
              <p:nvPr/>
            </p:nvSpPr>
            <p:spPr>
              <a:xfrm rot="10800000">
                <a:off x="3852000" y="5517720"/>
                <a:ext cx="1656360" cy="360000"/>
              </a:xfrm>
              <a:prstGeom prst="leftRightArrow">
                <a:avLst>
                  <a:gd name="adj1" fmla="val 50000"/>
                  <a:gd name="adj2" fmla="val 78238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0" name="Text Box 44"/>
              <p:cNvSpPr/>
              <p:nvPr/>
            </p:nvSpPr>
            <p:spPr>
              <a:xfrm>
                <a:off x="4213440" y="5950080"/>
                <a:ext cx="88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?????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er 66"/>
            <p:cNvGrpSpPr/>
            <p:nvPr/>
          </p:nvGrpSpPr>
          <p:grpSpPr>
            <a:xfrm>
              <a:off x="1406160" y="3424680"/>
              <a:ext cx="1747080" cy="1256400"/>
              <a:chOff x="1406160" y="3424680"/>
              <a:chExt cx="1747080" cy="1256400"/>
            </a:xfrm>
          </p:grpSpPr>
          <p:sp>
            <p:nvSpPr>
              <p:cNvPr id="152" name="Double flèche horizontale 104"/>
              <p:cNvSpPr/>
              <p:nvPr/>
            </p:nvSpPr>
            <p:spPr>
              <a:xfrm rot="19614000">
                <a:off x="1386000" y="3843000"/>
                <a:ext cx="1657080" cy="419400"/>
              </a:xfrm>
              <a:prstGeom prst="leftRightArrow">
                <a:avLst>
                  <a:gd name="adj1" fmla="val 50000"/>
                  <a:gd name="adj2" fmla="val 7829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marL="324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53" name="Text Box 44"/>
              <p:cNvSpPr/>
              <p:nvPr/>
            </p:nvSpPr>
            <p:spPr>
              <a:xfrm>
                <a:off x="2267280" y="4078080"/>
                <a:ext cx="885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?????</a:t>
                </a:r>
                <a:endParaRPr b="0" lang="en-US" sz="16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</p:grpSp>
      <p:grpSp>
        <p:nvGrpSpPr>
          <p:cNvPr id="154" name="Grouper 68"/>
          <p:cNvGrpSpPr/>
          <p:nvPr/>
        </p:nvGrpSpPr>
        <p:grpSpPr>
          <a:xfrm>
            <a:off x="468360" y="4581360"/>
            <a:ext cx="2770920" cy="2087640"/>
            <a:chOff x="468360" y="4581360"/>
            <a:chExt cx="2770920" cy="2087640"/>
          </a:xfrm>
        </p:grpSpPr>
        <p:grpSp>
          <p:nvGrpSpPr>
            <p:cNvPr id="155" name="Grouper 64"/>
            <p:cNvGrpSpPr/>
            <p:nvPr/>
          </p:nvGrpSpPr>
          <p:grpSpPr>
            <a:xfrm>
              <a:off x="468360" y="4581360"/>
              <a:ext cx="2734920" cy="2087640"/>
              <a:chOff x="468360" y="4581360"/>
              <a:chExt cx="2734920" cy="2087640"/>
            </a:xfrm>
          </p:grpSpPr>
          <p:sp>
            <p:nvSpPr>
              <p:cNvPr id="156" name="Rectangle 13"/>
              <p:cNvSpPr/>
              <p:nvPr/>
            </p:nvSpPr>
            <p:spPr>
              <a:xfrm>
                <a:off x="468360" y="4581360"/>
                <a:ext cx="2734920" cy="2087640"/>
              </a:xfrm>
              <a:prstGeom prst="rect">
                <a:avLst/>
              </a:prstGeom>
              <a:solidFill>
                <a:srgbClr val="f2f2f2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pic>
            <p:nvPicPr>
              <p:cNvPr id="157" name="ZoneTexte 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1720" y="4602240"/>
                <a:ext cx="185904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Text Box 44"/>
              <p:cNvSpPr/>
              <p:nvPr/>
            </p:nvSpPr>
            <p:spPr>
              <a:xfrm>
                <a:off x="974520" y="5295600"/>
                <a:ext cx="133164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BE" sz="1000" spc="-1" strike="noStrike">
                    <a:solidFill>
                      <a:srgbClr val="000000"/>
                    </a:solidFill>
                    <a:latin typeface="Arial"/>
                    <a:ea typeface="SimSun"/>
                  </a:rPr>
                  <a:t>Libérer le potentiel des territoires pour favoriser la croissance, la cohésion sociale et la viabilité environnementale</a:t>
                </a:r>
                <a:endParaRPr b="0" lang="en-US" sz="10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159" name="Text Box 44"/>
            <p:cNvSpPr/>
            <p:nvPr/>
          </p:nvSpPr>
          <p:spPr>
            <a:xfrm>
              <a:off x="2340720" y="4725720"/>
              <a:ext cx="89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Récemment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C:\Users\rodrigo\AppData\Local\Microsoft\Windows\Temporary Internet Files\Content.Outlook\W0RICHK7\West Africa 2000-2014.png"/>
          <p:cNvPicPr/>
          <p:nvPr/>
        </p:nvPicPr>
        <p:blipFill>
          <a:blip r:embed="rId1"/>
          <a:stretch/>
        </p:blipFill>
        <p:spPr>
          <a:xfrm>
            <a:off x="-3636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Users\rodrigo\AppData\Local\Microsoft\Windows\Temporary Internet Files\Content.Outlook\W0RICHK7\Central Africa 2000-201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68360" y="134136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Résumé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des </a:t>
            </a: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appuis UE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à la décentralisation et au développement local (2000-2015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</a:rPr>
              <a:t>Afrique (1,3 b euros, 68,86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Afrique  de l'Ouest (538,5 m€, 26,62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Central Afrique Centrale  (92,1 Me, 4,55 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MS PGothic"/>
              </a:rPr>
              <a:t>Afrique de l'Est (532,6 me, 26,33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628560" indent="-17136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MS PGothic"/>
              </a:rPr>
              <a:t>Southern African (229,9 me, 11,36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sia and Pacific (289,1 m€; 14,29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Latin America (252,4m€; 12,48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Neighbourhood South Countries (88,3 m€; 4,37%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692360" y="4221000"/>
          <a:ext cx="5472000" cy="2448000"/>
        </p:xfrm>
        <a:graphic>
          <a:graphicData uri="http://schemas.openxmlformats.org/drawingml/2006/table">
            <a:tbl>
              <a:tblPr/>
              <a:tblGrid>
                <a:gridCol w="1712880"/>
                <a:gridCol w="1930320"/>
                <a:gridCol w="1828800"/>
              </a:tblGrid>
              <a:tr h="54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que de l'Ouest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uthern Afric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frique de l'Est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98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nin (66,1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hana (64,7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li (155,9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uritanie (60,4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iger (33,8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dagascar (59, 2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zambique (25,9 me 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uth Africa (104,1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hiopie (312,5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ya (43,1 m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nzanie (22,7 m€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108000" y="119700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e concept de développement territorial n'est pas nouveau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9640" y="2133720"/>
            <a:ext cx="8209080" cy="53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u cours des dernières années, ce sujet a reçu une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attention particulière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dans les différents domaines (politiques publiques, donateurs, chercheurs ...) en raison de différents facteurs: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rocessu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d'urbanisation rapid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coûts sociaux et politiques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iés à une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croissance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qui génère d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inégalité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limites des approches </a:t>
            </a:r>
            <a:r>
              <a:rPr b="1" lang="fr-BE" sz="2400" spc="-1" strike="noStrike" u="sng">
                <a:solidFill>
                  <a:srgbClr val="0070c0"/>
                </a:solidFill>
                <a:uFillTx/>
                <a:latin typeface="Verdana"/>
              </a:rPr>
              <a:t>sectorielles</a:t>
            </a:r>
            <a:r>
              <a:rPr b="0" lang="fr-BE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raditionnel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0" y="2556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Pourquoi un séminaire sur "l'approche territoriale au développement local"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08000" y="97956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La Communication “</a:t>
            </a:r>
            <a:r>
              <a:rPr b="1" lang="fr-BE" sz="2000" spc="-1" strike="noStrike" u="sng">
                <a:solidFill>
                  <a:srgbClr val="0070c0"/>
                </a:solidFill>
                <a:uFillTx/>
                <a:latin typeface="Verdana"/>
              </a:rPr>
              <a:t>Accorder une autonomie accrue aux autorités locales dans les pays partenaires pour une meilleure gouvernance et des résultats plus concrets en matière de développement</a:t>
            </a:r>
            <a:r>
              <a:rPr b="0" lang="fr-BE" sz="16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140360" y="979560"/>
            <a:ext cx="4946400" cy="58784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12600" y="5773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gage l’UE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à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promouvoir l’approche territoriale du développement local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12680" y="3538440"/>
            <a:ext cx="3686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connait les 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AL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comme 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« </a:t>
            </a:r>
            <a:r>
              <a:rPr b="1" lang="fr-FR" sz="2000" spc="-1" strike="noStrike" u="sng">
                <a:solidFill>
                  <a:srgbClr val="0070c0"/>
                </a:solidFill>
                <a:uFillTx/>
                <a:latin typeface="Verdana"/>
              </a:rPr>
              <a:t>gouvernements locaux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"(et pas seulement comme gestionnaires de politiques publiques nationales dans la localité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"/>
          <p:cNvGrpSpPr/>
          <p:nvPr/>
        </p:nvGrpSpPr>
        <p:grpSpPr>
          <a:xfrm>
            <a:off x="52560" y="1916280"/>
            <a:ext cx="4519440" cy="4707000"/>
            <a:chOff x="52560" y="1916280"/>
            <a:chExt cx="4519440" cy="4707000"/>
          </a:xfrm>
        </p:grpSpPr>
        <p:sp>
          <p:nvSpPr>
            <p:cNvPr id="172" name="Rectangle 2"/>
            <p:cNvSpPr/>
            <p:nvPr/>
          </p:nvSpPr>
          <p:spPr>
            <a:xfrm>
              <a:off x="179280" y="1916280"/>
              <a:ext cx="439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QUESTIONS ESSENTIELES </a:t>
              </a:r>
              <a:r>
                <a:rPr b="0" i="1" lang="es-ES_tradnl" sz="2000" spc="-1" strike="noStrike">
                  <a:solidFill>
                    <a:srgbClr val="0f5494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3" name="Rectangle 3"/>
            <p:cNvSpPr/>
            <p:nvPr/>
          </p:nvSpPr>
          <p:spPr>
            <a:xfrm>
              <a:off x="52560" y="2565360"/>
              <a:ext cx="388764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'entend-on par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développement loc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elle est la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différence</a:t>
              </a:r>
              <a:r>
                <a:rPr b="0" lang="fr-BE" sz="20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entre le développement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local</a:t>
              </a:r>
              <a:r>
                <a:rPr b="0" lang="fr-BE" sz="20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et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territori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'entendons-nous par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approche territoriale du développement local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Quelles sont les implications du DT et ATDL pour la </a:t>
              </a:r>
              <a:r>
                <a:rPr b="1" lang="fr-BE" sz="2000" spc="-1" strike="noStrike" u="sng">
                  <a:solidFill>
                    <a:srgbClr val="0070c0"/>
                  </a:solidFill>
                  <a:uFillTx/>
                  <a:latin typeface="Verdana"/>
                </a:rPr>
                <a:t>coopération de l'Union</a:t>
              </a:r>
              <a:r>
                <a:rPr b="0" lang="fr-BE" sz="2000" spc="-1" strike="noStrike">
                  <a:solidFill>
                    <a:srgbClr val="000000"/>
                  </a:solidFill>
                  <a:latin typeface="Verdana"/>
                </a:rPr>
                <a:t>?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74" name="Group 2"/>
          <p:cNvGrpSpPr/>
          <p:nvPr/>
        </p:nvGrpSpPr>
        <p:grpSpPr>
          <a:xfrm>
            <a:off x="3924360" y="1916280"/>
            <a:ext cx="5219640" cy="4325040"/>
            <a:chOff x="3924360" y="1916280"/>
            <a:chExt cx="5219640" cy="4325040"/>
          </a:xfrm>
        </p:grpSpPr>
        <p:sp>
          <p:nvSpPr>
            <p:cNvPr id="175" name="Rectangle 4"/>
            <p:cNvSpPr/>
            <p:nvPr/>
          </p:nvSpPr>
          <p:spPr>
            <a:xfrm>
              <a:off x="4000320" y="2270160"/>
              <a:ext cx="5143680" cy="39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Elaboration d'un "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Concept Paper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" (Mars-Juin 2014)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70c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Discussion interne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(Décembre 2014) dans un debat ouvert à des experts de différents horizons, différents services dans DEVCO, et d'autres DG, comme la DG Agri, DEG Regio et le Comité des Régions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70c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Présentation</a:t>
              </a:r>
              <a:r>
                <a:rPr b="0" lang="fr-BE" sz="1800" spc="-1" strike="noStrike">
                  <a:solidFill>
                    <a:srgbClr val="0070c0"/>
                  </a:solidFill>
                  <a:latin typeface="Verdana"/>
                </a:rPr>
                <a:t>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de l'approche "ATDL" et ses implications aux niveaux stratégiques et opérationnels dans un 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séminaire à Bruxelles 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(4,5 jours-65 participants);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Traduction "</a:t>
              </a:r>
              <a:r>
                <a:rPr b="1" lang="fr-BE" sz="1800" spc="-1" strike="noStrike" u="sng">
                  <a:solidFill>
                    <a:srgbClr val="0070c0"/>
                  </a:solidFill>
                  <a:uFillTx/>
                  <a:latin typeface="Verdana"/>
                </a:rPr>
                <a:t>contextualisé</a:t>
              </a:r>
              <a:r>
                <a:rPr b="0" lang="fr-BE" sz="1800" spc="-1" strike="noStrike">
                  <a:solidFill>
                    <a:srgbClr val="000000"/>
                  </a:solidFill>
                  <a:latin typeface="Verdana"/>
                </a:rPr>
                <a:t>" à travers divers séminaires régionaux</a:t>
              </a: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  <a:p>
              <a:pPr marL="343080" indent="-343080">
                <a:buClr>
                  <a:srgbClr val="000000"/>
                </a:buClr>
                <a:buFont typeface="Lucida Grand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3924360" y="1916280"/>
              <a:ext cx="46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	</a:t>
              </a: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	</a:t>
              </a:r>
              <a:r>
                <a:rPr b="1" lang="fr-BE" sz="2000" spc="-1" strike="noStrike">
                  <a:solidFill>
                    <a:srgbClr val="0070c0"/>
                  </a:solidFill>
                  <a:latin typeface="Verdana"/>
                </a:rPr>
                <a:t>POUR  RÉPONDRE</a:t>
              </a:r>
              <a:r>
                <a:rPr b="0" i="1" lang="fr-BE" sz="2000" spc="-1" strike="noStrike">
                  <a:solidFill>
                    <a:srgbClr val="0f5494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77" name="Rectangle 1"/>
          <p:cNvSpPr/>
          <p:nvPr/>
        </p:nvSpPr>
        <p:spPr>
          <a:xfrm>
            <a:off x="189000" y="10857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Verdana"/>
              </a:rPr>
              <a:t>DEVCO a lancé une réflexion plus structurée suivant le défi posé par la Communicatio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 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Rectangle 16"/>
          <p:cNvSpPr/>
          <p:nvPr/>
        </p:nvSpPr>
        <p:spPr>
          <a:xfrm flipH="1"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624"/>
                </a:solidFill>
                <a:latin typeface="Verdana"/>
              </a:rPr>
              <a:t>Promouvoir le TALD: étapes clé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RODRIGUEZ BILBAO Jorge (DEVCO)</cp:lastModifiedBy>
  <cp:lastPrinted>2012-11-16T16:22:50Z</cp:lastPrinted>
  <dcterms:modified xsi:type="dcterms:W3CDTF">2015-11-16T14:44:32Z</dcterms:modified>
  <cp:revision>595</cp:revision>
  <dc:subject/>
  <dc:title>Slide 1</dc:title>
</cp:coreProperties>
</file>