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045E-1E5C-4D6E-A434-F964322ADF3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9D6F-E90A-4A38-BC6A-81D00E0A3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575-B3F0-4D5C-BBB7-51E9E86FE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8723-7B87-4383-9537-6A67D1DEE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E1D1-6D45-4D16-BD17-BF5FEF36D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6BA-72D8-4B86-9EB9-4C69B3393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3385-C69B-4E8F-9E8B-13F8A4352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EB4-EABC-4594-B222-CEFD0CAB9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Leoan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dad para mobilizar recursos financieros y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r siner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gurar el vinculo entre el Estadony losciudad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r la construccion democrat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F9BA-C533-4246-B860-C17D214C4C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953-14D3-40EF-8C9F-F34794CD8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9D1-5DE6-4019-B65E-EDF058B8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4E7-4B09-4BDE-B73E-9BFCCB74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3DD-8793-4370-A276-4F1B958F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0DB-3743-4777-9490-2A086200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F31E-D91E-4D4B-9BBE-14921A40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2D38-74AB-4F67-AC15-883DAACA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CBBD-6334-4847-99DC-66DE5C5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676B-1EDD-4670-8988-848A7611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FEB1-9A94-450F-9E5E-9EA64F7E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9E06-6893-4221-8152-A413BAB7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C699-8EAF-4E86-A496-FDE2073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321-09C7-43F7-AD7D-8E7D76F9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D75-4374-4AB9-BBB9-E25DAD57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7C05-8485-4BF0-8893-3E9C3CC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706F-C47D-4A26-8662-1E434236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0873-72C8-4FD2-9486-69BD8DF2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3AA8-A17E-4752-BA72-3BEB94C4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ACF-943A-4FE7-9159-009F0CB5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C5B-F92E-4516-8175-AAA6A99C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A1A-3B96-4E9A-BF63-494FC806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BC3-B56A-41C6-ADB0-0A27CCF6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9CA-8E96-43E2-87D7-DAB22D0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412-2DC0-4F5A-8127-992740A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43B-45DE-497D-8E74-E0A74CA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1477-5ED0-4E42-AE35-8934D75F3D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F66F-C2DD-4676-BCB5-90FB2495EB4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90972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600" spc="-1" strike="noStrike">
                <a:solidFill>
                  <a:srgbClr val="ffd624"/>
                </a:solidFill>
                <a:latin typeface="Verdana"/>
              </a:rPr>
              <a:t>Toile de fond du séminaire régional </a:t>
            </a:r>
            <a:br>
              <a:rPr sz="3200"/>
            </a:br>
            <a:br>
              <a:rPr sz="32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Jorge Rodríguez Bilbao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“ SOCIETE CIVILE ET AUTORITES LOCALES”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ISION EUROPEENE - DG DEVCO UNITE B2 </a:t>
            </a: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06200" y="1079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 but du séminair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79360" y="884160"/>
            <a:ext cx="820728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'objectif principal de ce séminaire est d'explorer / partager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concept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 développement territorial et approche territoriale du développement local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es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implications pratiques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ans le contexte de la région pour la coopération de l'UE dans ses diverses formes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travers l'utilisation de la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igne thématiqu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râce à l'appui dans le cadre de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'aide bilatérale</a:t>
            </a:r>
            <a:r>
              <a:rPr b="1" lang="fr-FR" sz="1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travers une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combinaison intelligente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des deux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1258920" y="5157720"/>
            <a:ext cx="588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séminaire  est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destiné au personnel de l'UE en délég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6081840"/>
            <a:ext cx="67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s le séminaire est 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ouvert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à des personnes de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différents horizons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 BEAUCOUP? ET PROFITEZ BIEN DU SEMINAIRE!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9360" y="981000"/>
            <a:ext cx="410868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9" name="Group 1"/>
          <p:cNvGrpSpPr/>
          <p:nvPr/>
        </p:nvGrpSpPr>
        <p:grpSpPr>
          <a:xfrm>
            <a:off x="4164120" y="981000"/>
            <a:ext cx="4979880" cy="5877000"/>
            <a:chOff x="4164120" y="981000"/>
            <a:chExt cx="4979880" cy="5877000"/>
          </a:xfrm>
        </p:grpSpPr>
        <p:grpSp>
          <p:nvGrpSpPr>
            <p:cNvPr id="100" name="Grouper 2"/>
            <p:cNvGrpSpPr/>
            <p:nvPr/>
          </p:nvGrpSpPr>
          <p:grpSpPr>
            <a:xfrm>
              <a:off x="4164120" y="2420640"/>
              <a:ext cx="792000" cy="2952720"/>
              <a:chOff x="4164120" y="2420640"/>
              <a:chExt cx="792000" cy="2952720"/>
            </a:xfrm>
          </p:grpSpPr>
          <p:sp>
            <p:nvSpPr>
              <p:cNvPr id="101" name="Flèche vers la droite 6"/>
              <p:cNvSpPr/>
              <p:nvPr/>
            </p:nvSpPr>
            <p:spPr>
              <a:xfrm>
                <a:off x="4164120" y="4869360"/>
                <a:ext cx="792000" cy="50400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02" name="Flèche vers la droite 7"/>
              <p:cNvSpPr/>
              <p:nvPr/>
            </p:nvSpPr>
            <p:spPr>
              <a:xfrm>
                <a:off x="4164120" y="2420640"/>
                <a:ext cx="792000" cy="50400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pic>
          <p:nvPicPr>
            <p:cNvPr id="103" name="Picture 10" descr=""/>
            <p:cNvPicPr/>
            <p:nvPr/>
          </p:nvPicPr>
          <p:blipFill>
            <a:blip r:embed="rId2"/>
            <a:stretch/>
          </p:blipFill>
          <p:spPr>
            <a:xfrm>
              <a:off x="5006880" y="981000"/>
              <a:ext cx="4137120" cy="5877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4" name="Oval 19"/>
          <p:cNvSpPr/>
          <p:nvPr/>
        </p:nvSpPr>
        <p:spPr>
          <a:xfrm rot="10800000">
            <a:off x="611280" y="2421000"/>
            <a:ext cx="302400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Oval 19"/>
          <p:cNvSpPr/>
          <p:nvPr/>
        </p:nvSpPr>
        <p:spPr>
          <a:xfrm rot="10800000">
            <a:off x="5562360" y="2313000"/>
            <a:ext cx="302580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120680" y="446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851280" y="1700280"/>
            <a:ext cx="185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Connecteur droit 15"/>
          <p:cNvSpPr/>
          <p:nvPr/>
        </p:nvSpPr>
        <p:spPr>
          <a:xfrm>
            <a:off x="2556000" y="16286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Connecteur droit 24"/>
          <p:cNvSpPr/>
          <p:nvPr/>
        </p:nvSpPr>
        <p:spPr>
          <a:xfrm>
            <a:off x="4932360" y="134136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Connecteur droit 28"/>
          <p:cNvSpPr/>
          <p:nvPr/>
        </p:nvSpPr>
        <p:spPr>
          <a:xfrm>
            <a:off x="3348000" y="1628640"/>
            <a:ext cx="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11" name="Grouper 1049"/>
          <p:cNvGrpSpPr/>
          <p:nvPr/>
        </p:nvGrpSpPr>
        <p:grpSpPr>
          <a:xfrm>
            <a:off x="0" y="1009800"/>
            <a:ext cx="1560600" cy="3024000"/>
            <a:chOff x="0" y="1009800"/>
            <a:chExt cx="1560600" cy="3024000"/>
          </a:xfrm>
        </p:grpSpPr>
        <p:sp>
          <p:nvSpPr>
            <p:cNvPr id="112" name="Rectangle 13"/>
            <p:cNvSpPr/>
            <p:nvPr/>
          </p:nvSpPr>
          <p:spPr>
            <a:xfrm>
              <a:off x="98640" y="1009800"/>
              <a:ext cx="1315800" cy="302400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13" name="ZoneTexte 5" descr=""/>
            <p:cNvPicPr/>
            <p:nvPr/>
          </p:nvPicPr>
          <p:blipFill>
            <a:blip r:embed="rId1"/>
            <a:stretch/>
          </p:blipFill>
          <p:spPr>
            <a:xfrm>
              <a:off x="0" y="1493640"/>
              <a:ext cx="156060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44"/>
            <p:cNvSpPr/>
            <p:nvPr/>
          </p:nvSpPr>
          <p:spPr>
            <a:xfrm>
              <a:off x="170640" y="2997360"/>
              <a:ext cx="11404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ppui aux groupes communautaires,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NG locales ...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77640" y="1123920"/>
              <a:ext cx="57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0’-90’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16" name="Grouper 1052"/>
          <p:cNvGrpSpPr/>
          <p:nvPr/>
        </p:nvGrpSpPr>
        <p:grpSpPr>
          <a:xfrm>
            <a:off x="5365440" y="1917720"/>
            <a:ext cx="3527640" cy="855360"/>
            <a:chOff x="5365440" y="1917720"/>
            <a:chExt cx="3527640" cy="855360"/>
          </a:xfrm>
        </p:grpSpPr>
        <p:cxnSp>
          <p:nvCxnSpPr>
            <p:cNvPr id="117" name="Connecteur droit avec flèche 79"/>
            <p:cNvCxnSpPr/>
            <p:nvPr/>
          </p:nvCxnSpPr>
          <p:spPr>
            <a:xfrm flipV="1">
              <a:off x="5365440" y="2347920"/>
              <a:ext cx="55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8" name="Rectangle 44"/>
            <p:cNvSpPr/>
            <p:nvPr/>
          </p:nvSpPr>
          <p:spPr>
            <a:xfrm>
              <a:off x="6083280" y="1917720"/>
              <a:ext cx="2809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a capacité des gouvernements locaux à promouvoir de meilleurs résultats de développement dépend du contexte intergouvernemental dans lequel ils opèrent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19" name="Flèche à trois pointes 55"/>
          <p:cNvSpPr/>
          <p:nvPr/>
        </p:nvSpPr>
        <p:spPr>
          <a:xfrm>
            <a:off x="4788000" y="1484280"/>
            <a:ext cx="1079280" cy="649440"/>
          </a:xfrm>
          <a:custGeom>
            <a:avLst/>
            <a:gdLst/>
            <a:ahLst/>
            <a:rect l="l" t="t" r="r" b="b"/>
            <a:pathLst>
              <a:path w="1079500" h="649287">
                <a:moveTo>
                  <a:pt x="0" y="486965"/>
                </a:moveTo>
                <a:lnTo>
                  <a:pt x="162322" y="324644"/>
                </a:lnTo>
                <a:lnTo>
                  <a:pt x="162322" y="405804"/>
                </a:lnTo>
                <a:lnTo>
                  <a:pt x="458589" y="405804"/>
                </a:lnTo>
                <a:lnTo>
                  <a:pt x="458589" y="162322"/>
                </a:lnTo>
                <a:lnTo>
                  <a:pt x="377428" y="162322"/>
                </a:lnTo>
                <a:lnTo>
                  <a:pt x="539750" y="0"/>
                </a:lnTo>
                <a:lnTo>
                  <a:pt x="702072" y="162322"/>
                </a:lnTo>
                <a:lnTo>
                  <a:pt x="620911" y="162322"/>
                </a:lnTo>
                <a:lnTo>
                  <a:pt x="620911" y="405804"/>
                </a:lnTo>
                <a:lnTo>
                  <a:pt x="917178" y="405804"/>
                </a:lnTo>
                <a:lnTo>
                  <a:pt x="917178" y="324644"/>
                </a:lnTo>
                <a:lnTo>
                  <a:pt x="1079500" y="486965"/>
                </a:lnTo>
                <a:lnTo>
                  <a:pt x="917178" y="649287"/>
                </a:lnTo>
                <a:lnTo>
                  <a:pt x="917178" y="568126"/>
                </a:lnTo>
                <a:lnTo>
                  <a:pt x="162322" y="568126"/>
                </a:lnTo>
                <a:lnTo>
                  <a:pt x="162322" y="649287"/>
                </a:lnTo>
                <a:lnTo>
                  <a:pt x="0" y="4869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20" name="Connecteur en angle 59"/>
          <p:cNvCxnSpPr/>
          <p:nvPr/>
        </p:nvCxnSpPr>
        <p:spPr>
          <a:xfrm flipV="1">
            <a:off x="4211640" y="1557000"/>
            <a:ext cx="1513440" cy="720000"/>
          </a:xfrm>
          <a:prstGeom prst="bentConnector3">
            <a:avLst>
              <a:gd name="adj1" fmla="val 49988"/>
            </a:avLst>
          </a:prstGeom>
          <a:ln w="0">
            <a:noFill/>
          </a:ln>
        </p:spPr>
      </p:cxnSp>
      <p:cxnSp>
        <p:nvCxnSpPr>
          <p:cNvPr id="121" name="Connecteur en angle 61"/>
          <p:cNvCxnSpPr/>
          <p:nvPr/>
        </p:nvCxnSpPr>
        <p:spPr>
          <a:xfrm>
            <a:off x="4211640" y="2276280"/>
            <a:ext cx="1224720" cy="13320"/>
          </a:xfrm>
          <a:prstGeom prst="bentConnector3">
            <a:avLst>
              <a:gd name="adj1" fmla="val 49985"/>
            </a:avLst>
          </a:prstGeom>
          <a:ln w="0">
            <a:noFill/>
          </a:ln>
        </p:spPr>
      </p:cxnSp>
      <p:grpSp>
        <p:nvGrpSpPr>
          <p:cNvPr id="122" name="Grouper 1053"/>
          <p:cNvGrpSpPr/>
          <p:nvPr/>
        </p:nvGrpSpPr>
        <p:grpSpPr>
          <a:xfrm>
            <a:off x="4932000" y="2349000"/>
            <a:ext cx="3321360" cy="1379520"/>
            <a:chOff x="4932000" y="2349000"/>
            <a:chExt cx="3321360" cy="1379520"/>
          </a:xfrm>
        </p:grpSpPr>
        <p:sp>
          <p:nvSpPr>
            <p:cNvPr id="123" name="Text Box 44"/>
            <p:cNvSpPr/>
            <p:nvPr/>
          </p:nvSpPr>
          <p:spPr>
            <a:xfrm>
              <a:off x="6092640" y="2873160"/>
              <a:ext cx="2160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esoin de travailler dans l'architecture institutionnelle de la gouvernance multi-acteurs et multi-niveaux pour la livraison des politiques publique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24" name="Connecteur en angle 75"/>
            <p:cNvCxnSpPr/>
            <p:nvPr/>
          </p:nvCxnSpPr>
          <p:spPr>
            <a:xfrm>
              <a:off x="4932000" y="2349000"/>
              <a:ext cx="1152360" cy="1081080"/>
            </a:xfrm>
            <a:prstGeom prst="bentConnector3">
              <a:avLst>
                <a:gd name="adj1" fmla="val 38968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125" name="Grouper 1051"/>
          <p:cNvGrpSpPr/>
          <p:nvPr/>
        </p:nvGrpSpPr>
        <p:grpSpPr>
          <a:xfrm>
            <a:off x="4911840" y="1146240"/>
            <a:ext cx="3112920" cy="1199880"/>
            <a:chOff x="4911840" y="1146240"/>
            <a:chExt cx="3112920" cy="1199880"/>
          </a:xfrm>
        </p:grpSpPr>
        <p:sp>
          <p:nvSpPr>
            <p:cNvPr id="126" name="Text Box 44"/>
            <p:cNvSpPr/>
            <p:nvPr/>
          </p:nvSpPr>
          <p:spPr>
            <a:xfrm>
              <a:off x="5865840" y="1447920"/>
              <a:ext cx="2158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mpréhension progressive des AL comme partie intégrante d'un  "système" (réseau d'acteurs)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27" name="Connecteur en angle 1023"/>
            <p:cNvCxnSpPr/>
            <p:nvPr/>
          </p:nvCxnSpPr>
          <p:spPr>
            <a:xfrm flipV="1">
              <a:off x="4911840" y="1703880"/>
              <a:ext cx="937440" cy="64260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8" name="Text Box 44"/>
            <p:cNvSpPr/>
            <p:nvPr/>
          </p:nvSpPr>
          <p:spPr>
            <a:xfrm>
              <a:off x="6074280" y="114624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000-2010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9" name="Text Box 44"/>
          <p:cNvSpPr/>
          <p:nvPr/>
        </p:nvSpPr>
        <p:spPr>
          <a:xfrm>
            <a:off x="1603440" y="1035000"/>
            <a:ext cx="122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  <a:ea typeface="SimSun"/>
              </a:rPr>
              <a:t>Réformes de décentralisation faisant place à un nouvel acteur dans l'arène locale:  ALs élues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0" name="Grouper 1054"/>
          <p:cNvGrpSpPr/>
          <p:nvPr/>
        </p:nvGrpSpPr>
        <p:grpSpPr>
          <a:xfrm>
            <a:off x="6012000" y="3933720"/>
            <a:ext cx="2736720" cy="2727360"/>
            <a:chOff x="6012000" y="3933720"/>
            <a:chExt cx="2736720" cy="2727360"/>
          </a:xfrm>
        </p:grpSpPr>
        <p:sp>
          <p:nvSpPr>
            <p:cNvPr id="131" name="Rectangle 13"/>
            <p:cNvSpPr/>
            <p:nvPr/>
          </p:nvSpPr>
          <p:spPr>
            <a:xfrm>
              <a:off x="6012000" y="4573440"/>
              <a:ext cx="2736720" cy="20876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32" name="ZoneTexte 5" descr=""/>
            <p:cNvPicPr/>
            <p:nvPr/>
          </p:nvPicPr>
          <p:blipFill>
            <a:blip r:embed="rId2"/>
            <a:stretch/>
          </p:blipFill>
          <p:spPr>
            <a:xfrm>
              <a:off x="6595920" y="4535280"/>
              <a:ext cx="15728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51"/>
            <p:cNvSpPr/>
            <p:nvPr/>
          </p:nvSpPr>
          <p:spPr>
            <a:xfrm>
              <a:off x="6093360" y="5498280"/>
              <a:ext cx="26553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a décentralisation comme un processus de réforme du secteur public visant à transférer les responsabilités, les ressources et l'autorité générale des niveaux supérieurs à des niveaux inferieures du gouvernement nouvellement capacité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Flèche vers la droite 85"/>
            <p:cNvSpPr/>
            <p:nvPr/>
          </p:nvSpPr>
          <p:spPr>
            <a:xfrm rot="5400000">
              <a:off x="6876360" y="4005360"/>
              <a:ext cx="647640" cy="504000"/>
            </a:xfrm>
            <a:prstGeom prst="rightArrow">
              <a:avLst>
                <a:gd name="adj1" fmla="val 50000"/>
                <a:gd name="adj2" fmla="val 49972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5" name="Grouper 67"/>
          <p:cNvGrpSpPr/>
          <p:nvPr/>
        </p:nvGrpSpPr>
        <p:grpSpPr>
          <a:xfrm>
            <a:off x="1692360" y="1052640"/>
            <a:ext cx="3240000" cy="3024000"/>
            <a:chOff x="1692360" y="1052640"/>
            <a:chExt cx="3240000" cy="3024000"/>
          </a:xfrm>
        </p:grpSpPr>
        <p:sp>
          <p:nvSpPr>
            <p:cNvPr id="136" name="Flèche vers la droite 1037"/>
            <p:cNvSpPr/>
            <p:nvPr/>
          </p:nvSpPr>
          <p:spPr>
            <a:xfrm>
              <a:off x="1692360" y="2204640"/>
              <a:ext cx="1152000" cy="504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37" name="Grouper 1050"/>
            <p:cNvGrpSpPr/>
            <p:nvPr/>
          </p:nvGrpSpPr>
          <p:grpSpPr>
            <a:xfrm>
              <a:off x="2708640" y="1052640"/>
              <a:ext cx="2223720" cy="3024000"/>
              <a:chOff x="2708640" y="1052640"/>
              <a:chExt cx="2223720" cy="3024000"/>
            </a:xfrm>
          </p:grpSpPr>
          <p:sp>
            <p:nvSpPr>
              <p:cNvPr id="138" name="Rectangle 13"/>
              <p:cNvSpPr/>
              <p:nvPr/>
            </p:nvSpPr>
            <p:spPr>
              <a:xfrm>
                <a:off x="2916000" y="1052640"/>
                <a:ext cx="2016360" cy="3024000"/>
              </a:xfrm>
              <a:prstGeom prst="rect">
                <a:avLst/>
              </a:prstGeom>
              <a:solidFill>
                <a:srgbClr val="f2f2f2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pic>
            <p:nvPicPr>
              <p:cNvPr id="139" name="ZoneText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5720" y="1316520"/>
                <a:ext cx="1969200" cy="96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44"/>
              <p:cNvSpPr/>
              <p:nvPr/>
            </p:nvSpPr>
            <p:spPr>
              <a:xfrm>
                <a:off x="3095640" y="2238480"/>
                <a:ext cx="16560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Accent sur la promotion de l'action conjointe AL-OSC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Reconnaissance progressive des AL comme acteur clé du développement local 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41" name="Text Box 44"/>
              <p:cNvSpPr/>
              <p:nvPr/>
            </p:nvSpPr>
            <p:spPr>
              <a:xfrm>
                <a:off x="3177720" y="1095480"/>
                <a:ext cx="157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Milieu des années 19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90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42" name="Connecteur droit 89"/>
              <p:cNvSpPr/>
              <p:nvPr/>
            </p:nvSpPr>
            <p:spPr>
              <a:xfrm>
                <a:off x="2708640" y="1780920"/>
                <a:ext cx="91440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143" name="Grouper 63"/>
          <p:cNvGrpSpPr/>
          <p:nvPr/>
        </p:nvGrpSpPr>
        <p:grpSpPr>
          <a:xfrm>
            <a:off x="4932360" y="3555720"/>
            <a:ext cx="1639080" cy="1116000"/>
            <a:chOff x="4932360" y="3555720"/>
            <a:chExt cx="1639080" cy="1116000"/>
          </a:xfrm>
        </p:grpSpPr>
        <p:sp>
          <p:nvSpPr>
            <p:cNvPr id="144" name="Double flèche horizontale 1048"/>
            <p:cNvSpPr/>
            <p:nvPr/>
          </p:nvSpPr>
          <p:spPr>
            <a:xfrm rot="1737000">
              <a:off x="4932000" y="3933720"/>
              <a:ext cx="1655640" cy="359640"/>
            </a:xfrm>
            <a:prstGeom prst="leftRightArrow">
              <a:avLst>
                <a:gd name="adj1" fmla="val 50000"/>
                <a:gd name="adj2" fmla="val 7828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5" name="Text Box 44"/>
            <p:cNvSpPr/>
            <p:nvPr/>
          </p:nvSpPr>
          <p:spPr>
            <a:xfrm>
              <a:off x="4932360" y="4149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?????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pic>
        <p:nvPicPr>
          <p:cNvPr id="146" name="Text Box 44" descr=""/>
          <p:cNvPicPr/>
          <p:nvPr/>
        </p:nvPicPr>
        <p:blipFill>
          <a:blip r:embed="rId5"/>
          <a:stretch/>
        </p:blipFill>
        <p:spPr>
          <a:xfrm>
            <a:off x="3560760" y="4591080"/>
            <a:ext cx="1968480" cy="11937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er 69"/>
          <p:cNvGrpSpPr/>
          <p:nvPr/>
        </p:nvGrpSpPr>
        <p:grpSpPr>
          <a:xfrm>
            <a:off x="1406160" y="3424680"/>
            <a:ext cx="4102200" cy="2862720"/>
            <a:chOff x="1406160" y="3424680"/>
            <a:chExt cx="4102200" cy="2862720"/>
          </a:xfrm>
        </p:grpSpPr>
        <p:grpSp>
          <p:nvGrpSpPr>
            <p:cNvPr id="148" name="Grouper 65"/>
            <p:cNvGrpSpPr/>
            <p:nvPr/>
          </p:nvGrpSpPr>
          <p:grpSpPr>
            <a:xfrm>
              <a:off x="3852000" y="5517720"/>
              <a:ext cx="1656360" cy="769680"/>
              <a:chOff x="3852000" y="5517720"/>
              <a:chExt cx="1656360" cy="769680"/>
            </a:xfrm>
          </p:grpSpPr>
          <p:sp>
            <p:nvSpPr>
              <p:cNvPr id="149" name="Double flèche horizontale 105"/>
              <p:cNvSpPr/>
              <p:nvPr/>
            </p:nvSpPr>
            <p:spPr>
              <a:xfrm rot="10800000">
                <a:off x="3852000" y="5517720"/>
                <a:ext cx="1656360" cy="360000"/>
              </a:xfrm>
              <a:prstGeom prst="leftRightArrow">
                <a:avLst>
                  <a:gd name="adj1" fmla="val 50000"/>
                  <a:gd name="adj2" fmla="val 78238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0" name="Text Box 44"/>
              <p:cNvSpPr/>
              <p:nvPr/>
            </p:nvSpPr>
            <p:spPr>
              <a:xfrm>
                <a:off x="4213440" y="5950080"/>
                <a:ext cx="88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?????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er 66"/>
            <p:cNvGrpSpPr/>
            <p:nvPr/>
          </p:nvGrpSpPr>
          <p:grpSpPr>
            <a:xfrm>
              <a:off x="1406160" y="3424680"/>
              <a:ext cx="1747080" cy="1256400"/>
              <a:chOff x="1406160" y="3424680"/>
              <a:chExt cx="1747080" cy="1256400"/>
            </a:xfrm>
          </p:grpSpPr>
          <p:sp>
            <p:nvSpPr>
              <p:cNvPr id="152" name="Double flèche horizontale 104"/>
              <p:cNvSpPr/>
              <p:nvPr/>
            </p:nvSpPr>
            <p:spPr>
              <a:xfrm rot="19614000">
                <a:off x="1386000" y="3843000"/>
                <a:ext cx="1657080" cy="419400"/>
              </a:xfrm>
              <a:prstGeom prst="leftRightArrow">
                <a:avLst>
                  <a:gd name="adj1" fmla="val 50000"/>
                  <a:gd name="adj2" fmla="val 7829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3" name="Text Box 44"/>
              <p:cNvSpPr/>
              <p:nvPr/>
            </p:nvSpPr>
            <p:spPr>
              <a:xfrm>
                <a:off x="2267280" y="4078080"/>
                <a:ext cx="88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?????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154" name="Grouper 68"/>
          <p:cNvGrpSpPr/>
          <p:nvPr/>
        </p:nvGrpSpPr>
        <p:grpSpPr>
          <a:xfrm>
            <a:off x="468360" y="4581360"/>
            <a:ext cx="2770920" cy="2087640"/>
            <a:chOff x="468360" y="4581360"/>
            <a:chExt cx="2770920" cy="2087640"/>
          </a:xfrm>
        </p:grpSpPr>
        <p:grpSp>
          <p:nvGrpSpPr>
            <p:cNvPr id="155" name="Grouper 64"/>
            <p:cNvGrpSpPr/>
            <p:nvPr/>
          </p:nvGrpSpPr>
          <p:grpSpPr>
            <a:xfrm>
              <a:off x="468360" y="4581360"/>
              <a:ext cx="2734920" cy="2087640"/>
              <a:chOff x="468360" y="4581360"/>
              <a:chExt cx="2734920" cy="2087640"/>
            </a:xfrm>
          </p:grpSpPr>
          <p:sp>
            <p:nvSpPr>
              <p:cNvPr id="156" name="Rectangle 13"/>
              <p:cNvSpPr/>
              <p:nvPr/>
            </p:nvSpPr>
            <p:spPr>
              <a:xfrm>
                <a:off x="468360" y="4581360"/>
                <a:ext cx="2734920" cy="2087640"/>
              </a:xfrm>
              <a:prstGeom prst="rect">
                <a:avLst/>
              </a:prstGeom>
              <a:solidFill>
                <a:srgbClr val="f2f2f2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pic>
            <p:nvPicPr>
              <p:cNvPr id="157" name="ZoneText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720" y="4602240"/>
                <a:ext cx="185904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44"/>
              <p:cNvSpPr/>
              <p:nvPr/>
            </p:nvSpPr>
            <p:spPr>
              <a:xfrm>
                <a:off x="974520" y="5295600"/>
                <a:ext cx="133164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Libérer le potentiel des territoires pour favoriser la croissance, la cohésion sociale et la viabilité environnementale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159" name="Text Box 44"/>
            <p:cNvSpPr/>
            <p:nvPr/>
          </p:nvSpPr>
          <p:spPr>
            <a:xfrm>
              <a:off x="2340720" y="472572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écemment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rodrigo\AppData\Local\Microsoft\Windows\Temporary Internet Files\Content.Outlook\W0RICHK7\West Africa 2000-2014.png"/>
          <p:cNvPicPr/>
          <p:nvPr/>
        </p:nvPicPr>
        <p:blipFill>
          <a:blip r:embed="rId1"/>
          <a:stretch/>
        </p:blipFill>
        <p:spPr>
          <a:xfrm>
            <a:off x="-36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rodrigo\AppData\Local\Microsoft\Windows\Temporary Internet Files\Content.Outlook\W0RICHK7\Central Africa 2000-20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1341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Résumé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des </a:t>
            </a: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appuis UE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à la décentralisation et au développement local (2000-2015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Afrique (1,3 b euros, 68,86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Afrique  de l'Ouest (538,5 m€, 26,62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Central Afrique Centrale  (92,1 Me, 4,55 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Afrique de l'Est (532,6 me, 26,33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S PGothic"/>
              </a:rPr>
              <a:t>Southern African (229,9 me, 11,36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sia and Pacific (289,1 m€; 14,29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atin America (252,4m€; 12,48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eighbourhood South Countries (88,3 m€; 4,37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92360" y="4221000"/>
          <a:ext cx="5472000" cy="2448000"/>
        </p:xfrm>
        <a:graphic>
          <a:graphicData uri="http://schemas.openxmlformats.org/drawingml/2006/table">
            <a:tbl>
              <a:tblPr/>
              <a:tblGrid>
                <a:gridCol w="1712880"/>
                <a:gridCol w="1930320"/>
                <a:gridCol w="1828800"/>
              </a:tblGrid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que de l'Ouest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uthern Afric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que de l'Est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98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nin (66,1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hana (64,7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i (155,9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uritanie (60,4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ger (33,8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dagascar (59, 2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zambique (25,9 me 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uth Africa (104,1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iopie (312,5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ya (43,1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zanie (22,7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108000" y="11970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 concept de développement territorial n'est pas nouveau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9640" y="2133720"/>
            <a:ext cx="820908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u cours des dernières années, ce sujet a reçu une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attention particulière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dans les différents domaines (politiques publiques, donateurs, chercheurs ...) en raison de différents facteurs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rocessu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d'urbanisation rapid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coûts sociaux et politiques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iés à une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croissance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qui génère d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inégalité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limites des approch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sectorielles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raditionnel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0" y="25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Pourquoi un séminaire sur "l'approche territoriale au développement local"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08000" y="9795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a Communication “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Accorder une autonomie accrue aux autorités locales dans les pays partenaires pour une meilleure gouvernance et des résultats plus concrets en matière de développement</a:t>
            </a:r>
            <a:r>
              <a:rPr b="0" lang="fr-BE" sz="1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140360" y="979560"/>
            <a:ext cx="4946400" cy="58784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12600" y="5773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gage l’UE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à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promouvoir l’approche territoriale du développement local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2680" y="3538440"/>
            <a:ext cx="368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connait les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AL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comme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« 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gouvernements locaux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"(et pas seulement comme gestionnaires de politiques publiques nationales dans la localité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"/>
          <p:cNvGrpSpPr/>
          <p:nvPr/>
        </p:nvGrpSpPr>
        <p:grpSpPr>
          <a:xfrm>
            <a:off x="52560" y="1916280"/>
            <a:ext cx="4519440" cy="4707000"/>
            <a:chOff x="52560" y="1916280"/>
            <a:chExt cx="4519440" cy="4707000"/>
          </a:xfrm>
        </p:grpSpPr>
        <p:sp>
          <p:nvSpPr>
            <p:cNvPr id="172" name="Rectangle 2"/>
            <p:cNvSpPr/>
            <p:nvPr/>
          </p:nvSpPr>
          <p:spPr>
            <a:xfrm>
              <a:off x="179280" y="1916280"/>
              <a:ext cx="43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QUESTIONS ESSENTIELES </a:t>
              </a:r>
              <a:r>
                <a:rPr b="0" i="1" lang="es-ES_tradnl" sz="2000" spc="-1" strike="noStrike">
                  <a:solidFill>
                    <a:srgbClr val="0f5494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3" name="Rectangle 3"/>
            <p:cNvSpPr/>
            <p:nvPr/>
          </p:nvSpPr>
          <p:spPr>
            <a:xfrm>
              <a:off x="52560" y="2565360"/>
              <a:ext cx="388764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'entend-on par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développement loc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elle est la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différence</a:t>
              </a:r>
              <a:r>
                <a:rPr b="0" lang="fr-BE" sz="20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entre le développement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local</a:t>
              </a:r>
              <a:r>
                <a:rPr b="0" lang="fr-BE" sz="20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et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territori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'entendons-nous par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approche territoriale du développement loc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elles sont les implications du DT et ATDL pour la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coopération de l'Union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74" name="Group 2"/>
          <p:cNvGrpSpPr/>
          <p:nvPr/>
        </p:nvGrpSpPr>
        <p:grpSpPr>
          <a:xfrm>
            <a:off x="3924360" y="1916280"/>
            <a:ext cx="5219640" cy="4325040"/>
            <a:chOff x="3924360" y="1916280"/>
            <a:chExt cx="5219640" cy="4325040"/>
          </a:xfrm>
        </p:grpSpPr>
        <p:sp>
          <p:nvSpPr>
            <p:cNvPr id="175" name="Rectangle 4"/>
            <p:cNvSpPr/>
            <p:nvPr/>
          </p:nvSpPr>
          <p:spPr>
            <a:xfrm>
              <a:off x="4000320" y="2270160"/>
              <a:ext cx="5143680" cy="39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Elaboration d'un "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Concept Paper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" (Mars-Juin 2014)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70c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Discussion interne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(Décembre 2014) dans un debat ouvert à des experts de différents horizons, différents services dans DEVCO, et d'autres DG, comme la DG Agri, DEG Regio et le Comité des Régions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70c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Présentation</a:t>
              </a:r>
              <a:r>
                <a:rPr b="0" lang="fr-BE" sz="18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de l'approche "ATDL" et ses implications aux niveaux stratégiques et opérationnels dans un 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séminaire à Bruxelles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(4,5 jours-65 participants)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Traduction "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contextualisé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" à travers divers séminaires régionaux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3924360" y="1916280"/>
              <a:ext cx="46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	</a:t>
              </a: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	</a:t>
              </a: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POUR  RÉPONDRE</a:t>
              </a:r>
              <a:r>
                <a:rPr b="0" i="1" lang="fr-BE" sz="2000" spc="-1" strike="noStrike">
                  <a:solidFill>
                    <a:srgbClr val="0f5494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77" name="Rectangle 1"/>
          <p:cNvSpPr/>
          <p:nvPr/>
        </p:nvSpPr>
        <p:spPr>
          <a:xfrm>
            <a:off x="189000" y="10857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DEVCO a lancé une réflexion plus structurée suivant le défi posé par la Communicatio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 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Rectangle 16"/>
          <p:cNvSpPr/>
          <p:nvPr/>
        </p:nvSpPr>
        <p:spPr>
          <a:xfrm flipH="1"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624"/>
                </a:solidFill>
                <a:latin typeface="Verdana"/>
              </a:rPr>
              <a:t>Promouvoir le TALD: étapes clé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RODRIGUEZ BILBAO Jorge (DEVCO)</cp:lastModifiedBy>
  <cp:lastPrinted>2012-11-16T16:22:50Z</cp:lastPrinted>
  <dcterms:modified xsi:type="dcterms:W3CDTF">2015-11-16T14:44:32Z</dcterms:modified>
  <cp:revision>595</cp:revision>
  <dc:subject/>
  <dc:title>Slide 1</dc:title>
</cp:coreProperties>
</file>