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A41DF-137A-4BA6-A88E-D822B38FC4C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EDE448-2335-429C-BAB1-B47E4B295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308E-5E15-4F88-902C-792620DD0E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A698-93AC-49E0-B457-4CA5B8E9FD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9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C427C8-C28D-43C4-BB38-3F10D2280E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0D59-3C83-4688-AD2B-AFD285103B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9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liennummernplatzhalt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C70294-DE9C-41FE-9A6A-2461A2E5E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Fußzeilenplatzhalter 4"/>
          <p:cNvSpPr/>
          <p:nvPr/>
        </p:nvSpPr>
        <p:spPr>
          <a:xfrm>
            <a:off x="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hgcj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5BF3-EB5C-4667-84F4-8125663F1D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9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308-3E1B-4E64-961F-36CEA6F8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091-4530-4433-BFA3-F8B07B5A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009-8A31-42A3-813E-3CECC2A3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605-EC3C-409A-A16D-125C8383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7820-0650-4DA4-AD28-559A46BB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8EBE-2082-45BA-A1B5-3CE0B829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856F-7DA4-49C6-973D-8D7E4EAC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E2F3-3AC3-4248-A324-B91854ED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0353-9FDC-4010-9086-B3B19767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A131-F309-4899-84E9-A6150E2B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063C-9305-452F-BC44-3B8139EF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52D-E9E7-4764-8523-8E8AB5CC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151E-10CB-4F23-A68A-DF1160D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E123-1BEE-477F-A549-0DD30958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7353-24EE-418A-827B-1499ECAA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1525-F344-4F22-BE00-578C0ABF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BF0E-A93C-4E43-A177-B5E2D056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27E-880D-416F-8DC0-116E1A79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1CF-0BC3-4A86-BAD5-31C31498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6B1-453F-4B1B-A39A-5098605D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7C1-A9F7-46D2-8E8A-2AAF1A0D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898-31CB-4D15-A9C8-48DE5871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EA8-483E-4DDE-998A-FBC738DD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FA2-DDE8-4F06-95AB-2BEE49A8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AFA2-7D24-49B4-9B9B-C3917301ED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7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CD50-8539-4A45-8AAF-72FFD6B132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680" y="2911320"/>
            <a:ext cx="88632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Session 2.2. </a:t>
            </a: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Note méthodologique</a:t>
            </a: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Fournir un appui budgétaire</a:t>
            </a: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dans des pays décentralisés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4797000"/>
            <a:ext cx="8532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7b400"/>
                </a:solidFill>
                <a:latin typeface="Verdana"/>
              </a:rPr>
              <a:t>Seminaire 2015 Présentation de Jorge Rodriguez, DEVCO B2</a:t>
            </a: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8" descr="pak0020 - Election observation in Pakistan © 2002 EC/O.Lehner"/>
          <p:cNvPicPr/>
          <p:nvPr/>
        </p:nvPicPr>
        <p:blipFill>
          <a:blip r:embed="rId1"/>
          <a:stretch/>
        </p:blipFill>
        <p:spPr>
          <a:xfrm>
            <a:off x="187200" y="1057320"/>
            <a:ext cx="1708200" cy="12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al0013 - Mechanic (Mali) © 2003  EC/G.Barton"/>
          <p:cNvPicPr/>
          <p:nvPr/>
        </p:nvPicPr>
        <p:blipFill>
          <a:blip r:embed="rId2"/>
          <a:stretch/>
        </p:blipFill>
        <p:spPr>
          <a:xfrm>
            <a:off x="1895400" y="1052640"/>
            <a:ext cx="171468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mong0003 - Mongolia © EC/M.Mercier"/>
          <p:cNvPicPr/>
          <p:nvPr/>
        </p:nvPicPr>
        <p:blipFill>
          <a:blip r:embed="rId3"/>
          <a:stretch/>
        </p:blipFill>
        <p:spPr>
          <a:xfrm>
            <a:off x="5580000" y="1052640"/>
            <a:ext cx="1812960" cy="12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nica0009 - Nicaragua © 2004 EC/R. Canessa"/>
          <p:cNvPicPr/>
          <p:nvPr/>
        </p:nvPicPr>
        <p:blipFill>
          <a:blip r:embed="rId4"/>
          <a:stretch/>
        </p:blipFill>
        <p:spPr>
          <a:xfrm>
            <a:off x="7389720" y="1052640"/>
            <a:ext cx="16606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bambi_godzilla_edited_small"/>
          <p:cNvPicPr/>
          <p:nvPr/>
        </p:nvPicPr>
        <p:blipFill>
          <a:blip r:embed="rId1"/>
          <a:stretch/>
        </p:blipFill>
        <p:spPr>
          <a:xfrm>
            <a:off x="2771640" y="1052640"/>
            <a:ext cx="3745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Block Arc 3"/>
          <p:cNvSpPr/>
          <p:nvPr/>
        </p:nvSpPr>
        <p:spPr>
          <a:xfrm>
            <a:off x="2284560" y="2711520"/>
            <a:ext cx="5287680" cy="3454200"/>
          </a:xfrm>
          <a:custGeom>
            <a:avLst/>
            <a:gdLst/>
            <a:ahLst/>
            <a:rect l="l" t="t" r="r" b="b"/>
            <a:pathLst>
              <a:path w="5287962" h="3454400">
                <a:moveTo>
                  <a:pt x="0" y="1727200"/>
                </a:moveTo>
                <a:cubicBezTo>
                  <a:pt x="0" y="773294"/>
                  <a:pt x="1183751" y="0"/>
                  <a:pt x="2643981" y="0"/>
                </a:cubicBezTo>
                <a:lnTo>
                  <a:pt x="2643981" y="175380"/>
                </a:lnTo>
                <a:cubicBezTo>
                  <a:pt x="1280610" y="175380"/>
                  <a:pt x="175380" y="870153"/>
                  <a:pt x="175380" y="1727200"/>
                </a:cubicBezTo>
                <a:lnTo>
                  <a:pt x="0" y="17272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Block Arc 4"/>
          <p:cNvSpPr/>
          <p:nvPr/>
        </p:nvSpPr>
        <p:spPr>
          <a:xfrm>
            <a:off x="2124000" y="2832120"/>
            <a:ext cx="5288040" cy="3405240"/>
          </a:xfrm>
          <a:custGeom>
            <a:avLst/>
            <a:gdLst/>
            <a:ahLst/>
            <a:rect l="l" t="t" r="r" b="b"/>
            <a:pathLst>
              <a:path w="5287963" h="3405188">
                <a:moveTo>
                  <a:pt x="3160693" y="3372358"/>
                </a:moveTo>
                <a:cubicBezTo>
                  <a:pt x="2602763" y="3443952"/>
                  <a:pt x="2023852" y="3397754"/>
                  <a:pt x="1509940" y="3240624"/>
                </a:cubicBezTo>
                <a:cubicBezTo>
                  <a:pt x="587730" y="2958656"/>
                  <a:pt x="0" y="2359993"/>
                  <a:pt x="0" y="1702594"/>
                </a:cubicBezTo>
                <a:lnTo>
                  <a:pt x="158069" y="1702594"/>
                </a:lnTo>
                <a:cubicBezTo>
                  <a:pt x="158069" y="2306618"/>
                  <a:pt x="724780" y="2855214"/>
                  <a:pt x="1608625" y="3106784"/>
                </a:cubicBezTo>
                <a:cubicBezTo>
                  <a:pt x="2079114" y="3240700"/>
                  <a:pt x="2605140" y="3280047"/>
                  <a:pt x="3113342" y="3219339"/>
                </a:cubicBezTo>
                <a:lnTo>
                  <a:pt x="3160693" y="337235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Block Arc 5"/>
          <p:cNvSpPr/>
          <p:nvPr/>
        </p:nvSpPr>
        <p:spPr>
          <a:xfrm>
            <a:off x="2265480" y="2786040"/>
            <a:ext cx="5133960" cy="3451320"/>
          </a:xfrm>
          <a:custGeom>
            <a:avLst/>
            <a:gdLst/>
            <a:ahLst/>
            <a:rect l="l" t="t" r="r" b="b"/>
            <a:pathLst>
              <a:path w="5133975" h="3451225">
                <a:moveTo>
                  <a:pt x="5133975" y="1725613"/>
                </a:moveTo>
                <a:cubicBezTo>
                  <a:pt x="5133975" y="2636917"/>
                  <a:pt x="4079844" y="3391129"/>
                  <a:pt x="2726836" y="3447877"/>
                </a:cubicBezTo>
                <a:lnTo>
                  <a:pt x="2711283" y="3280296"/>
                </a:lnTo>
                <a:cubicBezTo>
                  <a:pt x="3977809" y="3230743"/>
                  <a:pt x="4965865" y="2549414"/>
                  <a:pt x="4965865" y="1725613"/>
                </a:cubicBezTo>
                <a:lnTo>
                  <a:pt x="5133975" y="1725613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Block Arc 6"/>
          <p:cNvSpPr/>
          <p:nvPr/>
        </p:nvSpPr>
        <p:spPr>
          <a:xfrm>
            <a:off x="2259000" y="2717640"/>
            <a:ext cx="5288040" cy="3405240"/>
          </a:xfrm>
          <a:custGeom>
            <a:avLst/>
            <a:gdLst/>
            <a:ahLst/>
            <a:rect l="l" t="t" r="r" b="b"/>
            <a:pathLst>
              <a:path w="5287962" h="3405188">
                <a:moveTo>
                  <a:pt x="2643981" y="0"/>
                </a:moveTo>
                <a:cubicBezTo>
                  <a:pt x="4104211" y="0"/>
                  <a:pt x="5287962" y="762277"/>
                  <a:pt x="5287962" y="1702594"/>
                </a:cubicBezTo>
                <a:lnTo>
                  <a:pt x="5129893" y="1702594"/>
                </a:lnTo>
                <a:cubicBezTo>
                  <a:pt x="5129893" y="849576"/>
                  <a:pt x="4016912" y="158069"/>
                  <a:pt x="2643981" y="158069"/>
                </a:cubicBezTo>
                <a:lnTo>
                  <a:pt x="2643981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3995640" y="2093760"/>
            <a:ext cx="1676520" cy="1020960"/>
          </a:xfrm>
          <a:prstGeom prst="pi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040" rIns="176040" tIns="176040" bIns="176040" anchor="ctr">
            <a:norm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Verdana"/>
              </a:rPr>
              <a:t>Communauté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reeform 8"/>
          <p:cNvSpPr/>
          <p:nvPr/>
        </p:nvSpPr>
        <p:spPr>
          <a:xfrm>
            <a:off x="6775560" y="3962520"/>
            <a:ext cx="1704960" cy="1098360"/>
          </a:xfrm>
          <a:prstGeom prst="pie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040" rIns="176040" tIns="176040" bIns="17604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Verdana"/>
              </a:rPr>
              <a:t>OS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Freeform 10"/>
          <p:cNvSpPr/>
          <p:nvPr/>
        </p:nvSpPr>
        <p:spPr>
          <a:xfrm>
            <a:off x="874800" y="4087800"/>
            <a:ext cx="1703160" cy="1096920"/>
          </a:xfrm>
          <a:prstGeom prst="pie">
            <a:avLst/>
          </a:prstGeom>
          <a:solidFill>
            <a:srgbClr val="22226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040" rIns="176040" tIns="176040" bIns="176040" anchor="ctr">
            <a:norm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Verdana"/>
              </a:rPr>
              <a:t>Secteur privé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952800" y="3157560"/>
            <a:ext cx="1833480" cy="1527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Oval 35"/>
          <p:cNvSpPr/>
          <p:nvPr/>
        </p:nvSpPr>
        <p:spPr>
          <a:xfrm>
            <a:off x="4284720" y="3441600"/>
            <a:ext cx="1135080" cy="814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2d2d8a"/>
                </a:solidFill>
                <a:latin typeface="Verdana"/>
              </a:rPr>
              <a:t>Citoyen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Oval 36"/>
          <p:cNvSpPr/>
          <p:nvPr/>
        </p:nvSpPr>
        <p:spPr>
          <a:xfrm>
            <a:off x="3076560" y="4319640"/>
            <a:ext cx="1833480" cy="1527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Oval 37"/>
          <p:cNvSpPr/>
          <p:nvPr/>
        </p:nvSpPr>
        <p:spPr>
          <a:xfrm>
            <a:off x="3419640" y="4626000"/>
            <a:ext cx="1141200" cy="814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2d2d8a"/>
                </a:solidFill>
                <a:latin typeface="Verdana"/>
              </a:rPr>
              <a:t>Financement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Oval 38"/>
          <p:cNvSpPr/>
          <p:nvPr/>
        </p:nvSpPr>
        <p:spPr>
          <a:xfrm>
            <a:off x="4830840" y="4268880"/>
            <a:ext cx="1832040" cy="15285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Freeform 40"/>
          <p:cNvSpPr/>
          <p:nvPr/>
        </p:nvSpPr>
        <p:spPr>
          <a:xfrm>
            <a:off x="4140360" y="4149720"/>
            <a:ext cx="1531800" cy="614520"/>
          </a:xfrm>
          <a:prstGeom prst="pie">
            <a:avLst/>
          </a:prstGeom>
          <a:solidFill>
            <a:srgbClr val="cbcbc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440" rIns="163440" tIns="163440" bIns="16344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Verdana"/>
              </a:rPr>
              <a:t>Gouvernement local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Oval 41"/>
          <p:cNvSpPr/>
          <p:nvPr/>
        </p:nvSpPr>
        <p:spPr>
          <a:xfrm>
            <a:off x="2340000" y="6576840"/>
            <a:ext cx="255600" cy="2368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Oval 42"/>
          <p:cNvSpPr/>
          <p:nvPr/>
        </p:nvSpPr>
        <p:spPr>
          <a:xfrm>
            <a:off x="2340000" y="6210360"/>
            <a:ext cx="25560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TextBox 43"/>
          <p:cNvSpPr/>
          <p:nvPr/>
        </p:nvSpPr>
        <p:spPr>
          <a:xfrm>
            <a:off x="2704320" y="6210360"/>
            <a:ext cx="119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Ressources étatiques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TextBox 44"/>
          <p:cNvSpPr/>
          <p:nvPr/>
        </p:nvSpPr>
        <p:spPr>
          <a:xfrm>
            <a:off x="2713320" y="6576840"/>
            <a:ext cx="141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Ressources non-étatiques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52"/>
          <p:cNvSpPr/>
          <p:nvPr/>
        </p:nvSpPr>
        <p:spPr>
          <a:xfrm>
            <a:off x="5510520" y="6610320"/>
            <a:ext cx="3356640" cy="169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f5494"/>
                </a:solidFill>
                <a:latin typeface="Verdana"/>
              </a:rPr>
              <a:t>Adapted from the Institute for Government. “The Big Society: </a:t>
            </a:r>
            <a:r>
              <a:rPr b="0" i="1" lang="fr-BE" sz="500" spc="-1" strike="noStrike">
                <a:solidFill>
                  <a:srgbClr val="0f5494"/>
                </a:solidFill>
                <a:latin typeface="Verdana"/>
              </a:rPr>
              <a:t>A framework for policymakers”. April 2011. UK </a:t>
            </a:r>
            <a:endParaRPr b="0" lang="en-US" sz="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3166cf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d624"/>
                </a:solidFill>
                <a:latin typeface="Verdana"/>
              </a:rPr>
              <a:t>Au coeur du TALD: </a:t>
            </a:r>
            <a:br>
              <a:rPr sz="2000"/>
            </a:br>
            <a:r>
              <a:rPr b="1" lang="fr-BE" sz="2000" spc="-1" strike="noStrike">
                <a:solidFill>
                  <a:srgbClr val="ffd624"/>
                </a:solidFill>
                <a:latin typeface="Verdana"/>
              </a:rPr>
              <a:t>Promotion d'une action conjointe entre les AL, les communautés, et les OSC afin de rentabiliser les ressources propres au territoi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ectangular Callout 21"/>
          <p:cNvSpPr/>
          <p:nvPr/>
        </p:nvSpPr>
        <p:spPr>
          <a:xfrm>
            <a:off x="168120" y="1341360"/>
            <a:ext cx="1866960" cy="1816200"/>
          </a:xfrm>
          <a:prstGeom prst="wedgeRectCallout">
            <a:avLst>
              <a:gd name="adj1" fmla="val 164370"/>
              <a:gd name="adj2" fmla="val 75212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Personnes en dehors du secteur public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Citoyens solidair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Volontair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Personnes travaillant dans des associations caritativ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ectangular Callout 22"/>
          <p:cNvSpPr/>
          <p:nvPr/>
        </p:nvSpPr>
        <p:spPr>
          <a:xfrm>
            <a:off x="61920" y="5343480"/>
            <a:ext cx="2027160" cy="1514520"/>
          </a:xfrm>
          <a:prstGeom prst="wedgeRectCallout">
            <a:avLst>
              <a:gd name="adj1" fmla="val 121731"/>
              <a:gd name="adj2" fmla="val -53004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Nouvelles sources de financemen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Philanthrop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RS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Contributions de la communauté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ectangular Callout 23"/>
          <p:cNvSpPr/>
          <p:nvPr/>
        </p:nvSpPr>
        <p:spPr>
          <a:xfrm>
            <a:off x="7020000" y="1257480"/>
            <a:ext cx="2104920" cy="2100240"/>
          </a:xfrm>
          <a:prstGeom prst="wedgeRectCallout">
            <a:avLst>
              <a:gd name="adj1" fmla="val -97888"/>
              <a:gd name="adj2" fmla="val 113388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Nouveaux atou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Utiliser les atouts non-publics (ex. églises, matériel local, propriété communale)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Remettre les atouts publics aux communautés, associations caritatives, groupes privé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ectangular Callout 24"/>
          <p:cNvSpPr/>
          <p:nvPr/>
        </p:nvSpPr>
        <p:spPr>
          <a:xfrm>
            <a:off x="7209000" y="5189400"/>
            <a:ext cx="1915920" cy="1392480"/>
          </a:xfrm>
          <a:prstGeom prst="wedgeRectCallout">
            <a:avLst>
              <a:gd name="adj1" fmla="val -142541"/>
              <a:gd name="adj2" fmla="val -104717"/>
            </a:avLst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Les LG ont le pouvoir de: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Réguler, revoir, amender, réfuter ou faire respecte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Augmenter les impô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Oval 39"/>
          <p:cNvSpPr/>
          <p:nvPr/>
        </p:nvSpPr>
        <p:spPr>
          <a:xfrm>
            <a:off x="5207040" y="4608360"/>
            <a:ext cx="1079640" cy="814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2d2d8a"/>
                </a:solidFill>
                <a:latin typeface="Verdana"/>
              </a:rPr>
              <a:t>Atou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ight Arrow 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95280" y="907920"/>
            <a:ext cx="820908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B aux politiques nationales et sectoriell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attention à porter sur l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rôle que les 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pourraient jouer, en tant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qu'éléments clés du secteur public loca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l, pour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délivrer de telles politiques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B aux réformes de décentralisation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Aider les autorités nationales à articuler et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opérationnaliser les politiques et stratégies nationales de décentralisation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, à développer l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cadre lég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du système d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gouvernance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et d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l'administration publique infranationale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, à construire les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nstitutions et les capacités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pour un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gouvernance locale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effective et la promotion d'un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développement loc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B aux politiques locales / territoriale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lorsqu'il y a un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engagement politique nation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clair pour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promouvoir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un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développement local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, appuyer les politiques locales / territoriales et faciliter l'établissement de "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contrats de développement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"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central-loc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en appui aux stratégies de développement territorial formulées et mises en œuvre par les AL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-15840" y="-3240"/>
            <a:ext cx="8508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d624"/>
                </a:solidFill>
                <a:latin typeface="Verdana"/>
              </a:rPr>
              <a:t>AB dans les pays décentralisés </a:t>
            </a: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: option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541800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L'objectif de ces trois types d'opérations </a:t>
            </a:r>
            <a:r>
              <a:rPr b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n'est pas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'induire l'adoption d'une politique particulière, mais d'aider les pays partenaires à opérationnaliser et mettre en oeuvre les choix politiques de base qu'ils ont déjà faits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Oval 19"/>
          <p:cNvSpPr/>
          <p:nvPr/>
        </p:nvSpPr>
        <p:spPr>
          <a:xfrm rot="10800000">
            <a:off x="68400" y="3507840"/>
            <a:ext cx="8424720" cy="192888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lèche vers le haut 15"/>
          <p:cNvSpPr/>
          <p:nvPr/>
        </p:nvSpPr>
        <p:spPr>
          <a:xfrm flipH="1">
            <a:off x="7308720" y="1812960"/>
            <a:ext cx="216000" cy="60012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Flèche vers le haut 16"/>
          <p:cNvSpPr/>
          <p:nvPr/>
        </p:nvSpPr>
        <p:spPr>
          <a:xfrm flipH="1">
            <a:off x="4413240" y="1812960"/>
            <a:ext cx="216000" cy="60012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èche vers le haut 14"/>
          <p:cNvSpPr/>
          <p:nvPr/>
        </p:nvSpPr>
        <p:spPr>
          <a:xfrm flipH="1">
            <a:off x="1403280" y="1812960"/>
            <a:ext cx="216000" cy="60012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èche vers le haut 12"/>
          <p:cNvSpPr/>
          <p:nvPr/>
        </p:nvSpPr>
        <p:spPr>
          <a:xfrm flipH="1">
            <a:off x="7454880" y="4905360"/>
            <a:ext cx="216000" cy="601560"/>
          </a:xfrm>
          <a:prstGeom prst="upArrow">
            <a:avLst>
              <a:gd name="adj1" fmla="val 50000"/>
              <a:gd name="adj2" fmla="val 49962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èche vers le haut 13"/>
          <p:cNvSpPr/>
          <p:nvPr/>
        </p:nvSpPr>
        <p:spPr>
          <a:xfrm flipH="1">
            <a:off x="4356000" y="4821120"/>
            <a:ext cx="216000" cy="60192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Flèche vers le haut 11"/>
          <p:cNvSpPr/>
          <p:nvPr/>
        </p:nvSpPr>
        <p:spPr>
          <a:xfrm flipH="1">
            <a:off x="1295280" y="4782960"/>
            <a:ext cx="216000" cy="60192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46160" y="120600"/>
            <a:ext cx="89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Nouvelle génération de programmes d'AB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ZoneTexte 6"/>
          <p:cNvSpPr/>
          <p:nvPr/>
        </p:nvSpPr>
        <p:spPr>
          <a:xfrm>
            <a:off x="228600" y="1413000"/>
            <a:ext cx="871380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Obectif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7"/>
          <p:cNvSpPr/>
          <p:nvPr/>
        </p:nvSpPr>
        <p:spPr>
          <a:xfrm>
            <a:off x="422280" y="2413080"/>
            <a:ext cx="2376360" cy="210276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Calibri"/>
              </a:rPr>
              <a:t>Résultats politiqu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Améliorer le </a:t>
            </a:r>
            <a:r>
              <a:rPr b="0" lang="fr-BE" sz="1600" spc="-1" strike="noStrike" u="sng">
                <a:solidFill>
                  <a:srgbClr val="0f5494"/>
                </a:solidFill>
                <a:uFillTx/>
                <a:latin typeface="Calibri"/>
              </a:rPr>
              <a:t>cadre politique, constitutionnel, légal et régulateur </a:t>
            </a: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au sein duquel des AL autonomes et redevables pourraient opérer.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ZoneTexte 8"/>
          <p:cNvSpPr/>
          <p:nvPr/>
        </p:nvSpPr>
        <p:spPr>
          <a:xfrm>
            <a:off x="6243480" y="2413080"/>
            <a:ext cx="2668680" cy="258948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Calibri"/>
              </a:rPr>
              <a:t>Résultats institutionn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Améliorer les institutions de gouvernance et l'administration publique sub-nationales, afin de remplir le rôle développemental potentiel des AL, dans le cadre d'accords constitutionnels et juridiques.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ZoneTexte 9"/>
          <p:cNvSpPr/>
          <p:nvPr/>
        </p:nvSpPr>
        <p:spPr>
          <a:xfrm>
            <a:off x="2990880" y="2421000"/>
            <a:ext cx="2952720" cy="271332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1800" spc="-1" strike="noStrike">
                <a:solidFill>
                  <a:srgbClr val="0f5494"/>
                </a:solidFill>
                <a:latin typeface="Calibri"/>
              </a:rPr>
              <a:t>Résultats en matière de développem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Calibri"/>
              </a:rPr>
              <a:t>Appuyer des AL mieux équipées et plus capables, y compris </a:t>
            </a:r>
            <a:r>
              <a:rPr b="0" lang="fr-BE" sz="1800" spc="-1" strike="noStrike" u="sng">
                <a:solidFill>
                  <a:srgbClr val="0f5494"/>
                </a:solidFill>
                <a:uFillTx/>
                <a:latin typeface="Calibri"/>
              </a:rPr>
              <a:t>l'autonomisation des AL </a:t>
            </a:r>
            <a:r>
              <a:rPr b="0" lang="fr-BE" sz="1800" spc="-1" strike="noStrike">
                <a:solidFill>
                  <a:srgbClr val="0f5494"/>
                </a:solidFill>
                <a:latin typeface="Calibri"/>
              </a:rPr>
              <a:t>afin </a:t>
            </a: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de (i) localiser et mettre en œuvre les programmes sectoriels nationaux  et (ii) fournir leurs propres politiques de développement local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ZoneTexte 10"/>
          <p:cNvSpPr/>
          <p:nvPr/>
        </p:nvSpPr>
        <p:spPr>
          <a:xfrm>
            <a:off x="235080" y="5121360"/>
            <a:ext cx="8640720" cy="149616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Appor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Calibri"/>
              </a:rPr>
              <a:t>Appui budgétaire </a:t>
            </a:r>
            <a:r>
              <a:rPr b="1" lang="fr-BE" sz="3200" spc="-1" strike="noStrike">
                <a:solidFill>
                  <a:srgbClr val="0f5494"/>
                </a:solidFill>
                <a:latin typeface="Calibri"/>
              </a:rPr>
              <a:t>+</a:t>
            </a: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1" lang="fr-BE" sz="2800" spc="-1" strike="noStrike">
                <a:solidFill>
                  <a:srgbClr val="0f5494"/>
                </a:solidFill>
                <a:latin typeface="Calibri"/>
              </a:rPr>
              <a:t>Mesures complémentaires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e.g. appui direct aux AL et OSC, soutien aux AALs en tant que partenaires du dialogue politique…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ight Arrow 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785880" y="256536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Les opérations d'appui budgétaire (AB) </a:t>
            </a:r>
            <a:r>
              <a:rPr b="0" lang="fr-BE" sz="2800" spc="-1" strike="noStrike">
                <a:solidFill>
                  <a:srgbClr val="0f5494"/>
                </a:solidFill>
                <a:latin typeface="Verdana"/>
              </a:rPr>
              <a:t>visent à aider un pays partenaire à développer et mettre en œuvre sa </a:t>
            </a: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propre politique de développement efficace.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f5494"/>
                </a:solidFill>
                <a:latin typeface="Verdana"/>
              </a:rPr>
              <a:t>L'impact réel sur le développement dépend principalement des systèmes de mise en œuvre: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6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52280" y="1341360"/>
            <a:ext cx="9026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1080" indent="-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1 – Donner la même attention aux politiques et aux instituti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" y="980640"/>
            <a:ext cx="88693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Ce qui est nécessaire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1116000" y="1773360"/>
            <a:ext cx="6359400" cy="4897440"/>
            <a:chOff x="1116000" y="1773360"/>
            <a:chExt cx="6359400" cy="4897440"/>
          </a:xfrm>
        </p:grpSpPr>
        <p:pic>
          <p:nvPicPr>
            <p:cNvPr id="108" name="Picture 3" descr="bicycle-silouette-t9835"/>
            <p:cNvPicPr/>
            <p:nvPr/>
          </p:nvPicPr>
          <p:blipFill>
            <a:blip r:embed="rId1"/>
            <a:stretch/>
          </p:blipFill>
          <p:spPr>
            <a:xfrm>
              <a:off x="1116000" y="1773360"/>
              <a:ext cx="6359400" cy="48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5"/>
            <p:cNvSpPr/>
            <p:nvPr/>
          </p:nvSpPr>
          <p:spPr>
            <a:xfrm>
              <a:off x="5223240" y="4557960"/>
              <a:ext cx="192420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  <a:ea typeface="MS PGothic"/>
                </a:rPr>
                <a:t>Institutions</a:t>
              </a:r>
              <a:endParaRPr b="0" lang="en-US" sz="2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1690920" y="4557960"/>
              <a:ext cx="154332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Stratégie</a:t>
              </a:r>
              <a:endParaRPr b="0" lang="en-US" sz="2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bici-nieve"/>
          <p:cNvPicPr/>
          <p:nvPr/>
        </p:nvPicPr>
        <p:blipFill>
          <a:blip r:embed="rId1"/>
          <a:stretch/>
        </p:blipFill>
        <p:spPr>
          <a:xfrm>
            <a:off x="5508720" y="1566720"/>
            <a:ext cx="3475080" cy="279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bike_tobias_jakobs_"/>
          <p:cNvPicPr/>
          <p:nvPr/>
        </p:nvPicPr>
        <p:blipFill>
          <a:blip r:embed="rId2"/>
          <a:stretch/>
        </p:blipFill>
        <p:spPr>
          <a:xfrm>
            <a:off x="179280" y="1566720"/>
            <a:ext cx="3108600" cy="2635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bike_boy_small-4718b6dab8db5"/>
          <p:cNvPicPr/>
          <p:nvPr/>
        </p:nvPicPr>
        <p:blipFill>
          <a:blip r:embed="rId3"/>
          <a:stretch/>
        </p:blipFill>
        <p:spPr>
          <a:xfrm>
            <a:off x="3375000" y="4173480"/>
            <a:ext cx="2540160" cy="265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920" y="1004400"/>
            <a:ext cx="83203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Ce qu'on trouve souven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número de diapositiva"/>
          <p:cNvSpPr/>
          <p:nvPr/>
        </p:nvSpPr>
        <p:spPr>
          <a:xfrm>
            <a:off x="7920000" y="640080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D7B7-80F3-455B-AEBE-8C287433D59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1680" y="1295280"/>
            <a:ext cx="81406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pies de politiques développées ailleur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ucune adaptation préalable aux conditions local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Dans des cadres institutionnels inadéqu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4" descr="bike_tobias_jakobs_"/>
          <p:cNvPicPr/>
          <p:nvPr/>
        </p:nvPicPr>
        <p:blipFill>
          <a:blip r:embed="rId1"/>
          <a:stretch/>
        </p:blipFill>
        <p:spPr>
          <a:xfrm>
            <a:off x="3387600" y="3038400"/>
            <a:ext cx="2468520" cy="2094120"/>
          </a:xfrm>
          <a:prstGeom prst="rect">
            <a:avLst/>
          </a:prstGeom>
          <a:ln w="0">
            <a:noFill/>
          </a:ln>
        </p:spPr>
      </p:pic>
      <p:sp>
        <p:nvSpPr>
          <p:cNvPr id="118" name="2 Rectángulo"/>
          <p:cNvSpPr/>
          <p:nvPr/>
        </p:nvSpPr>
        <p:spPr>
          <a:xfrm>
            <a:off x="468360" y="3625920"/>
            <a:ext cx="2768400" cy="1027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2 Rectángulo"/>
          <p:cNvSpPr/>
          <p:nvPr/>
        </p:nvSpPr>
        <p:spPr>
          <a:xfrm>
            <a:off x="6099120" y="4632480"/>
            <a:ext cx="2954520" cy="78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3 CuadroTexto"/>
          <p:cNvSpPr/>
          <p:nvPr/>
        </p:nvSpPr>
        <p:spPr>
          <a:xfrm>
            <a:off x="0" y="3755880"/>
            <a:ext cx="374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Verdana"/>
              </a:rPr>
              <a:t>Stratégie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Verdana"/>
              </a:rPr>
              <a:t>ambitieus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3 CuadroTexto"/>
          <p:cNvSpPr/>
          <p:nvPr/>
        </p:nvSpPr>
        <p:spPr>
          <a:xfrm>
            <a:off x="5711760" y="4632480"/>
            <a:ext cx="374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Verdana"/>
              </a:rPr>
              <a:t>Institutions locales inadéquat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08000" y="1413000"/>
            <a:ext cx="8734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Right Arrow 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395280" y="12304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2 – Evaluer le changement induit par la décentralis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0" y="2060640"/>
            <a:ext cx="5415120" cy="4537080"/>
          </a:xfrm>
          <a:prstGeom prst="rect">
            <a:avLst/>
          </a:prstGeom>
          <a:ln w="0">
            <a:noFill/>
          </a:ln>
        </p:spPr>
      </p:pic>
      <p:sp>
        <p:nvSpPr>
          <p:cNvPr id="126" name="Content Placeholder 2"/>
          <p:cNvSpPr/>
          <p:nvPr/>
        </p:nvSpPr>
        <p:spPr>
          <a:xfrm>
            <a:off x="5003640" y="2133720"/>
            <a:ext cx="388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Les réformes de décentralisation modifient la gouvernance d'un pays et son administration publique  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et les  changent en un système multi-niveaux dans lequel les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responsabilités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pour la planification, le financement et la mise en oeuvre du développement doivent être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partagées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entre les autorités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nationale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et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locales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480" y="9360"/>
            <a:ext cx="89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64000" y="2636640"/>
            <a:ext cx="3649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Les autorités locales sont de plus en plus reconnues en tant </a:t>
            </a: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qu'acteurs politiques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(i.e. mécanismes d'auto-gouvernement d'une entité politique locale) et </a:t>
            </a: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pas seulement comme entités gestionnaires 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en charge de la provision de services spécifiqu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25416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3 - Cohérence avec la nouvelle vision de l'UE (et de la communauté internationale) concernant les ALs comme acteurs de développ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524720" y="1413000"/>
            <a:ext cx="4572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-181080" y="2602080"/>
            <a:ext cx="482292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lvl="1" marL="586800" indent="-2257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méliorer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l'efficience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redistributive et productive des ressources du secteur public dans une localité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86800" indent="-2257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Mobiliser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et ajouter à l'effort de développement national des </a:t>
            </a: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ressources additionnelles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locales (y compris celles des communautés locales et du secteur privé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Flèche vers la droite 2"/>
          <p:cNvSpPr/>
          <p:nvPr/>
        </p:nvSpPr>
        <p:spPr>
          <a:xfrm>
            <a:off x="4643280" y="3860640"/>
            <a:ext cx="433440" cy="289080"/>
          </a:xfrm>
          <a:prstGeom prst="rightArrow">
            <a:avLst>
              <a:gd name="adj1" fmla="val 50000"/>
              <a:gd name="adj2" fmla="val 499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Flèche vers la droite 4"/>
          <p:cNvSpPr/>
          <p:nvPr/>
        </p:nvSpPr>
        <p:spPr>
          <a:xfrm>
            <a:off x="4788000" y="3645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e6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4400" y="-1260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Oval 19"/>
          <p:cNvSpPr/>
          <p:nvPr/>
        </p:nvSpPr>
        <p:spPr>
          <a:xfrm rot="10800000">
            <a:off x="5651640" y="3215880"/>
            <a:ext cx="3316320" cy="85716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Oval 19"/>
          <p:cNvSpPr/>
          <p:nvPr/>
        </p:nvSpPr>
        <p:spPr>
          <a:xfrm rot="10800000">
            <a:off x="108000" y="3782520"/>
            <a:ext cx="3240000" cy="15908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Oval 19"/>
          <p:cNvSpPr/>
          <p:nvPr/>
        </p:nvSpPr>
        <p:spPr>
          <a:xfrm rot="10800000">
            <a:off x="253800" y="2565360"/>
            <a:ext cx="2711160" cy="936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7840" y="112536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faut repenser la décentralisation et élargir sa définition 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84360" y="357336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301680" y="3097080"/>
            <a:ext cx="4257720" cy="3257280"/>
            <a:chOff x="301680" y="3097080"/>
            <a:chExt cx="4257720" cy="3257280"/>
          </a:xfrm>
        </p:grpSpPr>
        <p:sp>
          <p:nvSpPr>
            <p:cNvPr id="141" name="ZoneTexte 8"/>
            <p:cNvSpPr/>
            <p:nvPr/>
          </p:nvSpPr>
          <p:spPr>
            <a:xfrm>
              <a:off x="1387440" y="30970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D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2" name="ZoneTexte 9"/>
            <p:cNvSpPr/>
            <p:nvPr/>
          </p:nvSpPr>
          <p:spPr>
            <a:xfrm>
              <a:off x="301680" y="3516120"/>
              <a:ext cx="42577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f5494"/>
                  </a:solidFill>
                  <a:latin typeface="Verdana"/>
                </a:rPr>
                <a:t>Une réforme du secteur public visant à transférer des responsabilités, ressources et une autorité du niveau supérieur aux niveaux inférieurs du gouvernement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f5494"/>
                  </a:solidFill>
                  <a:latin typeface="Verdana"/>
                </a:rPr>
                <a:t>(insistant sur les dimensions administratives / fiscales des réform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43" name="Group 3"/>
          <p:cNvGrpSpPr/>
          <p:nvPr/>
        </p:nvGrpSpPr>
        <p:grpSpPr>
          <a:xfrm>
            <a:off x="4782960" y="3124080"/>
            <a:ext cx="4176720" cy="3207960"/>
            <a:chOff x="4782960" y="3124080"/>
            <a:chExt cx="4176720" cy="3207960"/>
          </a:xfrm>
        </p:grpSpPr>
        <p:sp>
          <p:nvSpPr>
            <p:cNvPr id="144" name="ZoneTexte 11"/>
            <p:cNvSpPr/>
            <p:nvPr/>
          </p:nvSpPr>
          <p:spPr>
            <a:xfrm>
              <a:off x="4782960" y="3493800"/>
              <a:ext cx="41767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f5494"/>
                  </a:solidFill>
                  <a:latin typeface="Verdana"/>
                </a:rPr>
                <a:t>Un processus politique de transfert de pouvoir aux populations sur les politiques publiques à travers leurs gouvernements locaux élu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f5494"/>
                  </a:solidFill>
                  <a:latin typeface="Verdana"/>
                </a:rPr>
                <a:t>(insistant sur les dimensions politiques / sociales des réform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5" name="ZoneTexte 12"/>
            <p:cNvSpPr/>
            <p:nvPr/>
          </p:nvSpPr>
          <p:spPr>
            <a:xfrm>
              <a:off x="5364000" y="31240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46" name="Rectangle 1"/>
          <p:cNvSpPr/>
          <p:nvPr/>
        </p:nvSpPr>
        <p:spPr>
          <a:xfrm>
            <a:off x="108000" y="1197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4 - Re-penser la décentralisation et le rôle développemental des autorités local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06280" y="63360"/>
            <a:ext cx="88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3"/>
          <p:cNvSpPr/>
          <p:nvPr/>
        </p:nvSpPr>
        <p:spPr>
          <a:xfrm>
            <a:off x="179280" y="-243000"/>
            <a:ext cx="4753080" cy="38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276720" y="-603360"/>
            <a:ext cx="4464000" cy="374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-22320" y="2205000"/>
            <a:ext cx="4307040" cy="36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1187280" y="3141720"/>
            <a:ext cx="4321440" cy="38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3924360" y="2852640"/>
            <a:ext cx="4680000" cy="360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4788000" y="1052640"/>
            <a:ext cx="4356000" cy="36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1626840" y="141300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Santé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57960" y="38419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élécommunication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923840" y="47242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oopération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4590720" y="450864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Environnement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308560" y="2349360"/>
            <a:ext cx="31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Infrastructure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4225320" y="83664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Education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7637400" y="5589720"/>
            <a:ext cx="1552320" cy="183168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FEDERER?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AL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Straight Connector 19"/>
          <p:cNvSpPr/>
          <p:nvPr/>
        </p:nvSpPr>
        <p:spPr>
          <a:xfrm>
            <a:off x="4643280" y="3213000"/>
            <a:ext cx="3003840" cy="24256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028200" y="-22320"/>
            <a:ext cx="29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MINISTERES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25"/>
          <p:cNvSpPr/>
          <p:nvPr/>
        </p:nvSpPr>
        <p:spPr>
          <a:xfrm>
            <a:off x="4284720" y="3068640"/>
            <a:ext cx="431640" cy="216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3959280" y="303048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SimSun"/>
              </a:rPr>
              <a:t>AL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09:44:20Z</dcterms:created>
  <dc:creator>turneem</dc:creator>
  <dc:description/>
  <dc:language>en-US</dc:language>
  <cp:lastModifiedBy>RODRIGUEZ BILBAO Jorge (DEVCO)</cp:lastModifiedBy>
  <cp:lastPrinted>2015-02-10T08:57:33Z</cp:lastPrinted>
  <dcterms:modified xsi:type="dcterms:W3CDTF">2015-11-19T11:02:13Z</dcterms:modified>
  <cp:revision>423</cp:revision>
  <dc:subject/>
  <dc:title>Slide 1</dc:title>
</cp:coreProperties>
</file>