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30DF-8E57-442B-978C-2A7561591059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40CA-A995-4848-B3D5-44B8EFB5B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2" name="Shape 352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A014-42EF-4C63-A713-8E923AA10AF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hape 39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A65-82D8-4C58-A997-FA8F024AFDC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45C0-4045-4497-87E4-072AD27497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0E1F-F15E-4CC3-A3AA-3C33BA0DEE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hape 46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098-A0A3-40D3-947B-EFCE35387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hape 51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5DAE-FB34-4D0E-9F40-23D1843AAFF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hape 108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419-3D98-497C-B9DC-AEE7BC98D2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hape 11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92BC-9BCD-4B30-B611-452C6FB43E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hape 12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E995-D48A-4A7E-B317-C16395E2E8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hape 139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1F20-59CA-4F0B-B697-CB6A0C508B1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hape 305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0E1F-4C47-4D8D-A506-732FDEAD6E0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hape 31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D7F2-B7BE-48AF-A37E-BCA09513ED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hape 341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C363-B262-40BF-99B5-DC322BF6DB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794-3B8A-4538-A010-7205E72E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00F-9F32-4B7A-824F-A67F398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076E-9F59-49B1-8031-0246B588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7A1-496E-43BF-A8EB-8A89C661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9150-3F02-44EE-8E82-B3CAA83B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3CBF-C591-4A5F-9017-FEA36CE7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DA14-1F02-4442-AAD0-F1F8DBCC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131B-16F0-449D-BB2A-95E9ADDE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586E-384B-413C-BE0E-02BE151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E2A2-46B5-47B8-8BC4-D93E24F0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FB35-B8CD-42A5-836B-78FC1CF8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DC7-C746-4618-92AC-6FB92CA5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FBD0-D67E-4909-88EB-CB9E3AA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9971-3B96-47E9-8830-F04D2C4A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2885-AEEA-496F-90C7-A2C90B02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517E-7770-4F20-85EA-FCB2403B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B864-2C82-4FCB-8553-4E9AF8FF6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178-B98C-40F8-BA80-C86E1BD1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143-D50F-4DAE-BB95-69C01B21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F54-07F5-4363-88FF-FF9320F9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115-649C-4624-A9AA-AEA921D0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EC0-070F-4BB3-8BAA-47C6F81B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4DB-46DA-4BEE-A97D-3792D523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8EE-B364-492D-A08C-6C1D5566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ED51-0F7C-4582-ABE1-6DBEE3D863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CCC3-2ACD-414F-89C4-423353EC81D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Session 1.1.  Le changement de paradigme de l'approche territoriale du développement local (TALD): Contenu, implications et réponses émergentes de l'UE </a:t>
            </a:r>
            <a:br>
              <a:rPr sz="3600"/>
            </a:br>
            <a:br>
              <a:rPr sz="32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Jorge Rodríguez Bilbao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“ SOCIETE CIVILE ET AUTORITES LOCALES”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COMISION EUROPEENE - DG DEVCO UNITE B2 </a:t>
            </a: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97000" y="1267920"/>
            <a:ext cx="835344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e terme “local” ne se réfère pas uniquement à un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où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mais davantage aux spécifiques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ommen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et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par qu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i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est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 prom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Shape 347"/>
          <p:cNvSpPr/>
          <p:nvPr/>
        </p:nvSpPr>
        <p:spPr>
          <a:xfrm>
            <a:off x="31680" y="0"/>
            <a:ext cx="6808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Retour sur le développement loc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95" name="Group 2"/>
          <p:cNvGrpSpPr/>
          <p:nvPr/>
        </p:nvGrpSpPr>
        <p:grpSpPr>
          <a:xfrm>
            <a:off x="324000" y="2357280"/>
            <a:ext cx="8802360" cy="3011760"/>
            <a:chOff x="324000" y="2357280"/>
            <a:chExt cx="8802360" cy="3011760"/>
          </a:xfrm>
        </p:grpSpPr>
        <p:pic>
          <p:nvPicPr>
            <p:cNvPr id="296" name="Shape 345" descr=""/>
            <p:cNvPicPr/>
            <p:nvPr/>
          </p:nvPicPr>
          <p:blipFill>
            <a:blip r:embed="rId1"/>
            <a:stretch/>
          </p:blipFill>
          <p:spPr>
            <a:xfrm>
              <a:off x="324000" y="2781000"/>
              <a:ext cx="2737080" cy="258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Shape 348"/>
            <p:cNvSpPr/>
            <p:nvPr/>
          </p:nvSpPr>
          <p:spPr>
            <a:xfrm>
              <a:off x="2738520" y="2357280"/>
              <a:ext cx="6387840" cy="17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rmAutofit/>
            </a:bodyPr>
            <a:p>
              <a:pPr marL="343080" indent="-343080"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La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mobilisation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 d'un large éventail de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ressources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propres au territoire 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(ex. le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capital social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, et plus généralement toutes </a:t>
              </a:r>
              <a:r>
                <a:rPr b="1" lang="fr-FR" sz="1800" spc="-1" strike="noStrike" u="sng">
                  <a:solidFill>
                    <a:srgbClr val="0070c0"/>
                  </a:solidFill>
                  <a:uFillTx/>
                  <a:latin typeface="Verdana"/>
                  <a:ea typeface="Verdana"/>
                </a:rPr>
                <a:t>les ressources humaines, physiques, financières, politiques, institutionnelles et culturelles</a:t>
              </a:r>
              <a:r>
                <a:rPr b="0" lang="fr-FR" sz="18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98" name="Rectangle 1"/>
          <p:cNvSpPr/>
          <p:nvPr/>
        </p:nvSpPr>
        <p:spPr>
          <a:xfrm>
            <a:off x="-270000" y="5589720"/>
            <a:ext cx="939636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Un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éveloppement Local/territorial génuine 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t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a simpl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“localisation”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d’objectifs et de programmes de développement nationaux, régionaux ou globaux.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2987640" y="4292640"/>
            <a:ext cx="61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  <a:ea typeface="MS PGothic"/>
              </a:rPr>
              <a:t>À travers des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mécanismes appropriés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  <a:ea typeface="MS PGothic"/>
              </a:rPr>
              <a:t>(politiques et institutionnels) d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gouvernance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  <a:ea typeface="MS PGothic"/>
              </a:rPr>
              <a:t> et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'administration publiqu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hape 367"/>
          <p:cNvSpPr/>
          <p:nvPr/>
        </p:nvSpPr>
        <p:spPr>
          <a:xfrm>
            <a:off x="36360" y="13500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Shape 368"/>
          <p:cNvSpPr/>
          <p:nvPr/>
        </p:nvSpPr>
        <p:spPr>
          <a:xfrm>
            <a:off x="179280" y="1628640"/>
            <a:ext cx="21384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Shape 369"/>
          <p:cNvSpPr/>
          <p:nvPr/>
        </p:nvSpPr>
        <p:spPr>
          <a:xfrm>
            <a:off x="611280" y="255600"/>
            <a:ext cx="3671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H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Shape 370"/>
          <p:cNvSpPr/>
          <p:nvPr/>
        </p:nvSpPr>
        <p:spPr>
          <a:xfrm>
            <a:off x="539640" y="0"/>
            <a:ext cx="80535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Le Développement Territorial, une meilleure compréhension du développement loc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Shape 371"/>
          <p:cNvSpPr/>
          <p:nvPr/>
        </p:nvSpPr>
        <p:spPr>
          <a:xfrm>
            <a:off x="324000" y="1268280"/>
            <a:ext cx="84232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Le développement local coordonné spatialemen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qui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stimule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 les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interaction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ntre les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acteurs opérants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à de </a:t>
            </a:r>
            <a:r>
              <a:rPr b="1" i="1" lang="en-GB" sz="1600" spc="-1" strike="noStrike" u="sng">
                <a:solidFill>
                  <a:srgbClr val="0070c0"/>
                </a:solidFill>
                <a:uFillTx/>
                <a:latin typeface="Verdana"/>
              </a:rPr>
              <a:t>multiples échelles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our la planification du développement et son administr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Shape 373"/>
          <p:cNvSpPr/>
          <p:nvPr/>
        </p:nvSpPr>
        <p:spPr>
          <a:xfrm>
            <a:off x="4665600" y="2100240"/>
            <a:ext cx="3764160" cy="159696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Shape 392"/>
          <p:cNvSpPr/>
          <p:nvPr/>
        </p:nvSpPr>
        <p:spPr>
          <a:xfrm>
            <a:off x="5430960" y="3757680"/>
            <a:ext cx="183960" cy="1666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fc5e8"/>
          </a:solidFill>
          <a:ln w="9360">
            <a:solidFill>
              <a:srgbClr val="9fc5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3840" bIns="338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Shape 393"/>
          <p:cNvSpPr/>
          <p:nvPr/>
        </p:nvSpPr>
        <p:spPr>
          <a:xfrm>
            <a:off x="7288200" y="3789360"/>
            <a:ext cx="184320" cy="159696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9fc5e8"/>
          </a:solidFill>
          <a:ln w="9360">
            <a:solidFill>
              <a:srgbClr val="9fc5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8120" y="3978360"/>
            <a:ext cx="6369120" cy="1149120"/>
            <a:chOff x="168120" y="3978360"/>
            <a:chExt cx="6369120" cy="1149120"/>
          </a:xfrm>
        </p:grpSpPr>
        <p:sp>
          <p:nvSpPr>
            <p:cNvPr id="310" name="Shape 383"/>
            <p:cNvSpPr/>
            <p:nvPr/>
          </p:nvSpPr>
          <p:spPr>
            <a:xfrm>
              <a:off x="4665600" y="3978360"/>
              <a:ext cx="1871640" cy="114912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311" name="Group 6"/>
            <p:cNvGrpSpPr/>
            <p:nvPr/>
          </p:nvGrpSpPr>
          <p:grpSpPr>
            <a:xfrm>
              <a:off x="168120" y="3992400"/>
              <a:ext cx="6255000" cy="1017360"/>
              <a:chOff x="168120" y="3992400"/>
              <a:chExt cx="6255000" cy="1017360"/>
            </a:xfrm>
          </p:grpSpPr>
          <p:sp>
            <p:nvSpPr>
              <p:cNvPr id="312" name="Shape 384"/>
              <p:cNvSpPr/>
              <p:nvPr/>
            </p:nvSpPr>
            <p:spPr>
              <a:xfrm>
                <a:off x="4854960" y="4125960"/>
                <a:ext cx="1568160" cy="360360"/>
              </a:xfrm>
              <a:prstGeom prst="rect">
                <a:avLst/>
              </a:prstGeom>
              <a:solidFill>
                <a:srgbClr val="3d85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 fontScale="8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Spatialement intégré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3" name="Shape 385"/>
              <p:cNvSpPr/>
              <p:nvPr/>
            </p:nvSpPr>
            <p:spPr>
              <a:xfrm>
                <a:off x="4854960" y="4649400"/>
                <a:ext cx="1568160" cy="360360"/>
              </a:xfrm>
              <a:prstGeom prst="rect">
                <a:avLst/>
              </a:prstGeom>
              <a:solidFill>
                <a:srgbClr val="3d85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Multi-niveaux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4" name="Shape 390"/>
              <p:cNvSpPr/>
              <p:nvPr/>
            </p:nvSpPr>
            <p:spPr>
              <a:xfrm>
                <a:off x="4057920" y="4378680"/>
                <a:ext cx="477720" cy="270360"/>
              </a:xfrm>
              <a:prstGeom prst="rightArrow">
                <a:avLst>
                  <a:gd name="adj1" fmla="val 50000"/>
                  <a:gd name="adj2" fmla="val 50064"/>
                </a:avLst>
              </a:prstGeom>
              <a:solidFill>
                <a:srgbClr val="9fc5e8"/>
              </a:solidFill>
              <a:ln w="9360">
                <a:solidFill>
                  <a:srgbClr val="9fc5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920" bIns="4392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5" name="Rectangle 5"/>
              <p:cNvSpPr/>
              <p:nvPr/>
            </p:nvSpPr>
            <p:spPr>
              <a:xfrm>
                <a:off x="168120" y="3992400"/>
                <a:ext cx="3929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L’accent est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davantage 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sur dimension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multi-niveaux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 et le caractère ouverte du développement local et sur l’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intégration spatiale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 et de ses multiples composants sectoriels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316" name="Group 8"/>
          <p:cNvGrpSpPr/>
          <p:nvPr/>
        </p:nvGrpSpPr>
        <p:grpSpPr>
          <a:xfrm>
            <a:off x="422280" y="2066760"/>
            <a:ext cx="7878600" cy="1543320"/>
            <a:chOff x="422280" y="2066760"/>
            <a:chExt cx="7878600" cy="1543320"/>
          </a:xfrm>
        </p:grpSpPr>
        <p:sp>
          <p:nvSpPr>
            <p:cNvPr id="317" name="Shape 374"/>
            <p:cNvSpPr/>
            <p:nvPr/>
          </p:nvSpPr>
          <p:spPr>
            <a:xfrm>
              <a:off x="4854600" y="2763720"/>
              <a:ext cx="1568160" cy="36036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18" name="Shape 376"/>
            <p:cNvSpPr/>
            <p:nvPr/>
          </p:nvSpPr>
          <p:spPr>
            <a:xfrm>
              <a:off x="4854600" y="3248280"/>
              <a:ext cx="1568160" cy="36180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19" name="Shape 377"/>
            <p:cNvSpPr/>
            <p:nvPr/>
          </p:nvSpPr>
          <p:spPr>
            <a:xfrm>
              <a:off x="6700680" y="3248280"/>
              <a:ext cx="1568160" cy="36180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422280" y="2066760"/>
              <a:ext cx="7878600" cy="1543320"/>
              <a:chOff x="422280" y="2066760"/>
              <a:chExt cx="7878600" cy="1543320"/>
            </a:xfrm>
          </p:grpSpPr>
          <p:grpSp>
            <p:nvGrpSpPr>
              <p:cNvPr id="321" name="Group 8"/>
              <p:cNvGrpSpPr/>
              <p:nvPr/>
            </p:nvGrpSpPr>
            <p:grpSpPr>
              <a:xfrm>
                <a:off x="422280" y="2066760"/>
                <a:ext cx="7846920" cy="1543320"/>
                <a:chOff x="422280" y="2066760"/>
                <a:chExt cx="7846920" cy="1543320"/>
              </a:xfrm>
            </p:grpSpPr>
            <p:sp>
              <p:nvSpPr>
                <p:cNvPr id="322" name="Shape 372"/>
                <p:cNvSpPr/>
                <p:nvPr/>
              </p:nvSpPr>
              <p:spPr>
                <a:xfrm>
                  <a:off x="422280" y="2273400"/>
                  <a:ext cx="3674880" cy="133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BE" sz="1200" spc="-1" strike="noStrike">
                      <a:solidFill>
                        <a:srgbClr val="0f5494"/>
                      </a:solidFill>
                      <a:latin typeface="Verdana"/>
                    </a:rPr>
                    <a:t>La définition la </a:t>
                  </a:r>
                  <a:r>
                    <a:rPr b="1" lang="fr-BE" sz="1200" spc="-1" strike="noStrike" u="sng">
                      <a:solidFill>
                        <a:srgbClr val="0f5494"/>
                      </a:solidFill>
                      <a:uFillTx/>
                      <a:latin typeface="Verdana"/>
                    </a:rPr>
                    <a:t>plus complète </a:t>
                  </a:r>
                  <a:r>
                    <a:rPr b="0" lang="fr-BE" sz="1200" spc="-1" strike="noStrike">
                      <a:solidFill>
                        <a:srgbClr val="0f5494"/>
                      </a:solidFill>
                      <a:latin typeface="Verdana"/>
                    </a:rPr>
                    <a:t>du développement territorial en tant que développement local qui est endogène, additionnel, multi-niveaux et spatialement intégré 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3" name="Shape 375"/>
                <p:cNvSpPr/>
                <p:nvPr/>
              </p:nvSpPr>
              <p:spPr>
                <a:xfrm>
                  <a:off x="6701400" y="2764800"/>
                  <a:ext cx="1567800" cy="360720"/>
                </a:xfrm>
                <a:prstGeom prst="rect">
                  <a:avLst/>
                </a:prstGeom>
                <a:solidFill>
                  <a:srgbClr val="3d85c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4" name="Shape 378"/>
                <p:cNvSpPr/>
                <p:nvPr/>
              </p:nvSpPr>
              <p:spPr>
                <a:xfrm>
                  <a:off x="5079960" y="2066760"/>
                  <a:ext cx="3189240" cy="67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Développement Territorial </a:t>
                  </a:r>
                  <a:r>
                    <a:rPr b="1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=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Développement Local </a:t>
                  </a:r>
                  <a:r>
                    <a:rPr b="0" i="1" lang="en-GB" sz="1200" spc="-1" strike="noStrike">
                      <a:solidFill>
                        <a:srgbClr val="0f5494"/>
                      </a:solidFill>
                      <a:latin typeface="Verdana"/>
                    </a:rPr>
                    <a:t>(qui est)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5" name="Shape 379"/>
                <p:cNvSpPr/>
                <p:nvPr/>
              </p:nvSpPr>
              <p:spPr>
                <a:xfrm>
                  <a:off x="4901760" y="2716560"/>
                  <a:ext cx="147240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 fontScale="5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3f9fa"/>
                      </a:solidFill>
                      <a:latin typeface="Verdana"/>
                    </a:rPr>
                    <a:t>Endogène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6" name="Shape 380"/>
                <p:cNvSpPr/>
                <p:nvPr/>
              </p:nvSpPr>
              <p:spPr>
                <a:xfrm>
                  <a:off x="4854240" y="3211920"/>
                  <a:ext cx="147240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 fontScale="5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200" spc="-1" strike="noStrike">
                      <a:solidFill>
                        <a:srgbClr val="f3f9fa"/>
                      </a:solidFill>
                      <a:latin typeface="Verdana"/>
                    </a:rPr>
                    <a:t>Multi-niveaux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7" name="Shape 382"/>
                <p:cNvSpPr/>
                <p:nvPr/>
              </p:nvSpPr>
              <p:spPr>
                <a:xfrm>
                  <a:off x="6701400" y="3211920"/>
                  <a:ext cx="147240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1440" bIns="91440" anchor="t">
                  <a:normAutofit fontScale="52000"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BE" sz="1200" spc="-1" strike="noStrike">
                      <a:solidFill>
                        <a:srgbClr val="f3f9fa"/>
                      </a:solidFill>
                      <a:latin typeface="Verdana"/>
                    </a:rPr>
                    <a:t>Additionnel</a:t>
                  </a: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  <p:sp>
              <p:nvSpPr>
                <p:cNvPr id="328" name="Shape 389"/>
                <p:cNvSpPr/>
                <p:nvPr/>
              </p:nvSpPr>
              <p:spPr>
                <a:xfrm>
                  <a:off x="4057560" y="2817000"/>
                  <a:ext cx="477720" cy="308520"/>
                </a:xfrm>
                <a:prstGeom prst="rightArrow">
                  <a:avLst>
                    <a:gd name="adj1" fmla="val 50000"/>
                    <a:gd name="adj2" fmla="val 49965"/>
                  </a:avLst>
                </a:prstGeom>
                <a:solidFill>
                  <a:srgbClr val="9fc5e8"/>
                </a:solidFill>
                <a:ln w="9360">
                  <a:solidFill>
                    <a:srgbClr val="9fc5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63000" bIns="630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f5494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9" name="Shape 381"/>
              <p:cNvSpPr/>
              <p:nvPr/>
            </p:nvSpPr>
            <p:spPr>
              <a:xfrm>
                <a:off x="6675480" y="2692440"/>
                <a:ext cx="1625400" cy="5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t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Spatialement intégré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330" name="Group 40"/>
          <p:cNvGrpSpPr/>
          <p:nvPr/>
        </p:nvGrpSpPr>
        <p:grpSpPr>
          <a:xfrm>
            <a:off x="46080" y="5386320"/>
            <a:ext cx="8383680" cy="1006560"/>
            <a:chOff x="46080" y="5386320"/>
            <a:chExt cx="8383680" cy="1006560"/>
          </a:xfrm>
        </p:grpSpPr>
        <p:grpSp>
          <p:nvGrpSpPr>
            <p:cNvPr id="331" name="Group 41"/>
            <p:cNvGrpSpPr/>
            <p:nvPr/>
          </p:nvGrpSpPr>
          <p:grpSpPr>
            <a:xfrm>
              <a:off x="46080" y="5386320"/>
              <a:ext cx="8383680" cy="1006560"/>
              <a:chOff x="46080" y="5386320"/>
              <a:chExt cx="8383680" cy="1006560"/>
            </a:xfrm>
          </p:grpSpPr>
          <p:sp>
            <p:nvSpPr>
              <p:cNvPr id="332" name="Shape 386"/>
              <p:cNvSpPr/>
              <p:nvPr/>
            </p:nvSpPr>
            <p:spPr>
              <a:xfrm>
                <a:off x="4666320" y="5487840"/>
                <a:ext cx="3763440" cy="677160"/>
              </a:xfrm>
              <a:prstGeom prst="rect">
                <a:avLst/>
              </a:prstGeom>
              <a:solidFill>
                <a:srgbClr val="cfe2f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3" name="Shape 387"/>
              <p:cNvSpPr/>
              <p:nvPr/>
            </p:nvSpPr>
            <p:spPr>
              <a:xfrm>
                <a:off x="4854600" y="5616720"/>
                <a:ext cx="1567800" cy="360720"/>
              </a:xfrm>
              <a:prstGeom prst="rect">
                <a:avLst/>
              </a:prstGeom>
              <a:solidFill>
                <a:srgbClr val="3d85c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rmAutofit fontScale="97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200" spc="-1" strike="noStrike">
                    <a:solidFill>
                      <a:srgbClr val="f3f9fa"/>
                    </a:solidFill>
                    <a:latin typeface="Verdana"/>
                  </a:rPr>
                  <a:t>Endogène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4" name="Shape 391"/>
              <p:cNvSpPr/>
              <p:nvPr/>
            </p:nvSpPr>
            <p:spPr>
              <a:xfrm>
                <a:off x="4097520" y="5749920"/>
                <a:ext cx="477720" cy="270720"/>
              </a:xfrm>
              <a:prstGeom prst="rightArrow">
                <a:avLst>
                  <a:gd name="adj1" fmla="val 50000"/>
                  <a:gd name="adj2" fmla="val 50006"/>
                </a:avLst>
              </a:prstGeom>
              <a:solidFill>
                <a:srgbClr val="9fc5e8"/>
              </a:solidFill>
              <a:ln w="9360">
                <a:solidFill>
                  <a:srgbClr val="9fc5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3920" bIns="4392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5" name="Rectangle 3"/>
              <p:cNvSpPr/>
              <p:nvPr/>
            </p:nvSpPr>
            <p:spPr>
              <a:xfrm>
                <a:off x="46080" y="5386320"/>
                <a:ext cx="401184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L’accent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initial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 est mis sur l'aspect </a:t>
                </a:r>
                <a:r>
                  <a:rPr b="1" lang="fr-BE" sz="1200" spc="-1" strike="noStrike" u="sng">
                    <a:solidFill>
                      <a:srgbClr val="0f5494"/>
                    </a:solidFill>
                    <a:uFillTx/>
                    <a:latin typeface="Verdana"/>
                  </a:rPr>
                  <a:t>endogène </a:t>
                </a: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du développement local et 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BE" sz="1200" spc="-1" strike="noStrike">
                    <a:solidFill>
                      <a:srgbClr val="0f5494"/>
                    </a:solidFill>
                    <a:latin typeface="Verdana"/>
                  </a:rPr>
                  <a:t>sur la reconnaissance de son potentiel additionnel par rapport  aux efforts nationaux du développement</a:t>
                </a: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36" name="Shape 377"/>
            <p:cNvSpPr/>
            <p:nvPr/>
          </p:nvSpPr>
          <p:spPr>
            <a:xfrm>
              <a:off x="6732720" y="5617800"/>
              <a:ext cx="1568520" cy="360360"/>
            </a:xfrm>
            <a:prstGeom prst="rect">
              <a:avLst/>
            </a:prstGeom>
            <a:solidFill>
              <a:srgbClr val="3d85c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 fontScale="97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200" spc="-1" strike="noStrike">
                  <a:solidFill>
                    <a:srgbClr val="f3f9fa"/>
                  </a:solidFill>
                  <a:latin typeface="Verdana"/>
                </a:rPr>
                <a:t>    </a:t>
              </a:r>
              <a:r>
                <a:rPr b="1" lang="fr-BE" sz="1200" spc="-1" strike="noStrike">
                  <a:solidFill>
                    <a:srgbClr val="f3f9fa"/>
                  </a:solidFill>
                  <a:latin typeface="Verdana"/>
                </a:rPr>
                <a:t>Additionne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L’Approche Territoriale du Développement Local (TALD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f5494"/>
                </a:solidFill>
                <a:latin typeface="Verdana"/>
              </a:rPr>
              <a:t>Qu’est ce que le TALD (“Approche Territoriale du Développement Local”)?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Shape 403"/>
          <p:cNvSpPr/>
          <p:nvPr/>
        </p:nvSpPr>
        <p:spPr>
          <a:xfrm>
            <a:off x="324000" y="2486160"/>
            <a:ext cx="84960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Une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litique nationale</a:t>
            </a:r>
            <a:r>
              <a:rPr b="1" lang="fr-BE" sz="27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multidimensionnelle que les gouvernements nationaux dans les pays partenaires pourraient vouloir adopter, et que des partenaires de développement internationaux pourraient vouloir soutenir/promouvoir, dans le but d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ibére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l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tentiel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du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Développement Local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pou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a croissance économique nationale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t la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cohésion social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Comprendre le Développement Local/Territorial (2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Shape 411"/>
          <p:cNvSpPr/>
          <p:nvPr/>
        </p:nvSpPr>
        <p:spPr>
          <a:xfrm>
            <a:off x="130320" y="957240"/>
            <a:ext cx="90136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Le TALD permet trois chos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omprend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tel que précédemment défini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Valoris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en tant que composant majeur d’une politique nationale de développement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econnaît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a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sponsabilité première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des </a:t>
            </a:r>
            <a:r>
              <a:rPr b="1" lang="fr-BE" sz="2200" spc="-1" strike="noStrike">
                <a:solidFill>
                  <a:srgbClr val="4a86e8"/>
                </a:solidFill>
                <a:latin typeface="Verdana"/>
                <a:ea typeface="Verdana"/>
              </a:rPr>
              <a:t>AL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autonomes et redevables  pou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romouvoir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s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nforcer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pour qu’elles puissen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lanifi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financ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gérer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TALD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représente en fait le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“lien manquant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”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ntre les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réformes de décentralisation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t 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les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effets du développement.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901800" y="2128680"/>
          <a:ext cx="7061040" cy="2146320"/>
        </p:xfrm>
        <a:graphic>
          <a:graphicData uri="http://schemas.openxmlformats.org/drawingml/2006/table">
            <a:tbl>
              <a:tblPr/>
              <a:tblGrid>
                <a:gridCol w="7061040"/>
              </a:tblGrid>
              <a:tr h="21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èmes améliorés de planification du développement loc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f"/>
                    </a:solidFill>
                  </a:tcPr>
                </a:tc>
              </a:tr>
            </a:tbl>
          </a:graphicData>
        </a:graphic>
      </p:graphicFrame>
      <p:grpSp>
        <p:nvGrpSpPr>
          <p:cNvPr id="347" name="Shape 419"/>
          <p:cNvGrpSpPr/>
          <p:nvPr/>
        </p:nvGrpSpPr>
        <p:grpSpPr>
          <a:xfrm>
            <a:off x="1187280" y="2776680"/>
            <a:ext cx="6769440" cy="1293840"/>
            <a:chOff x="1187280" y="2776680"/>
            <a:chExt cx="6769440" cy="1293840"/>
          </a:xfrm>
        </p:grpSpPr>
        <p:sp>
          <p:nvSpPr>
            <p:cNvPr id="348" name="Shape 420"/>
            <p:cNvSpPr/>
            <p:nvPr/>
          </p:nvSpPr>
          <p:spPr>
            <a:xfrm>
              <a:off x="1187280" y="2776680"/>
              <a:ext cx="14310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49" name="Shape 421"/>
            <p:cNvSpPr/>
            <p:nvPr/>
          </p:nvSpPr>
          <p:spPr>
            <a:xfrm>
              <a:off x="1226160" y="2814480"/>
              <a:ext cx="13525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Large compréhension de l'étendu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0" name="Shape 422"/>
            <p:cNvSpPr/>
            <p:nvPr/>
          </p:nvSpPr>
          <p:spPr>
            <a:xfrm>
              <a:off x="287676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1" name="Shape 423"/>
            <p:cNvSpPr/>
            <p:nvPr/>
          </p:nvSpPr>
          <p:spPr>
            <a:xfrm>
              <a:off x="291600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ystèmes de planification locale amélioré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2" name="Shape 424"/>
            <p:cNvSpPr/>
            <p:nvPr/>
          </p:nvSpPr>
          <p:spPr>
            <a:xfrm>
              <a:off x="46555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3" name="Shape 425"/>
            <p:cNvSpPr/>
            <p:nvPr/>
          </p:nvSpPr>
          <p:spPr>
            <a:xfrm>
              <a:off x="469476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ruments diversifiés de financement du développement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4" name="Shape 426"/>
            <p:cNvSpPr/>
            <p:nvPr/>
          </p:nvSpPr>
          <p:spPr>
            <a:xfrm>
              <a:off x="64339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5" name="Shape 427"/>
            <p:cNvSpPr/>
            <p:nvPr/>
          </p:nvSpPr>
          <p:spPr>
            <a:xfrm>
              <a:off x="643392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itutions et capacités améliorées pour la mise en oeuvr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aphicFrame>
        <p:nvGraphicFramePr>
          <p:cNvPr id="356" name=""/>
          <p:cNvGraphicFramePr/>
          <p:nvPr/>
        </p:nvGraphicFramePr>
        <p:xfrm>
          <a:off x="511200" y="4694400"/>
          <a:ext cx="3911400" cy="202860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tiques 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357" name="Shape 429"/>
          <p:cNvGrpSpPr/>
          <p:nvPr/>
        </p:nvGrpSpPr>
        <p:grpSpPr>
          <a:xfrm>
            <a:off x="633240" y="5281560"/>
            <a:ext cx="3648240" cy="1293840"/>
            <a:chOff x="633240" y="5281560"/>
            <a:chExt cx="3648240" cy="1293840"/>
          </a:xfrm>
        </p:grpSpPr>
        <p:sp>
          <p:nvSpPr>
            <p:cNvPr id="358" name="Shape 430"/>
            <p:cNvSpPr/>
            <p:nvPr/>
          </p:nvSpPr>
          <p:spPr>
            <a:xfrm>
              <a:off x="633240" y="5281560"/>
              <a:ext cx="1053360" cy="1293840"/>
            </a:xfrm>
            <a:custGeom>
              <a:avLst/>
              <a:gdLst>
                <a:gd name="textAreaLeft" fmla="*/ 30600 w 1053360"/>
                <a:gd name="textAreaRight" fmla="*/ 1022760 w 1053360"/>
                <a:gd name="textAreaTop" fmla="*/ 30600 h 1293840"/>
                <a:gd name="textAreaBottom" fmla="*/ 1263240 h 1293840"/>
              </a:gdLst>
              <a:ahLst/>
              <a:rect l="textAreaLeft" t="textAreaTop" r="textAreaRight" b="textAreaBottom"/>
              <a:pathLst>
                <a:path w="21600" h="26530">
                  <a:moveTo>
                    <a:pt x="2160" y="0"/>
                  </a:moveTo>
                  <a:arcTo wR="2160" hR="2160" stAng="16200000" swAng="-5400000"/>
                  <a:lnTo>
                    <a:pt x="0" y="24370"/>
                  </a:lnTo>
                  <a:arcTo wR="2160" hR="2160" stAng="10800000" swAng="-5400000"/>
                  <a:lnTo>
                    <a:pt x="19440" y="2653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59" name="Shape 431"/>
            <p:cNvSpPr/>
            <p:nvPr/>
          </p:nvSpPr>
          <p:spPr>
            <a:xfrm>
              <a:off x="663840" y="5312160"/>
              <a:ext cx="9918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rm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de décentralisation appuyant l’autonomie et la redevabilité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0" name="Shape 432"/>
            <p:cNvSpPr/>
            <p:nvPr/>
          </p:nvSpPr>
          <p:spPr>
            <a:xfrm>
              <a:off x="185112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1" name="Shape 433"/>
            <p:cNvSpPr/>
            <p:nvPr/>
          </p:nvSpPr>
          <p:spPr>
            <a:xfrm>
              <a:off x="188388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rm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Agenda national urbain appuyant un rôle accru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2" name="Shape 434"/>
            <p:cNvSpPr/>
            <p:nvPr/>
          </p:nvSpPr>
          <p:spPr>
            <a:xfrm>
              <a:off x="316044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63" name="Shape 435"/>
            <p:cNvSpPr/>
            <p:nvPr/>
          </p:nvSpPr>
          <p:spPr>
            <a:xfrm>
              <a:off x="319320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rm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nationale  de développement rural donnant un rôle accru aux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64" name="Shape 436"/>
          <p:cNvSpPr/>
          <p:nvPr/>
        </p:nvSpPr>
        <p:spPr>
          <a:xfrm flipH="1" rot="10800000">
            <a:off x="547560" y="53164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Shape 437"/>
          <p:cNvSpPr/>
          <p:nvPr/>
        </p:nvSpPr>
        <p:spPr>
          <a:xfrm flipH="1" rot="10800000">
            <a:off x="1808640" y="5268960"/>
            <a:ext cx="12603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Shape 438"/>
          <p:cNvSpPr/>
          <p:nvPr/>
        </p:nvSpPr>
        <p:spPr>
          <a:xfrm flipH="1" rot="10800000">
            <a:off x="3051000" y="526896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4727520" y="4694400"/>
          <a:ext cx="3895920" cy="202860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s et capacité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368" name="Shape 440"/>
          <p:cNvGrpSpPr/>
          <p:nvPr/>
        </p:nvGrpSpPr>
        <p:grpSpPr>
          <a:xfrm>
            <a:off x="4846680" y="5305320"/>
            <a:ext cx="3632040" cy="1292400"/>
            <a:chOff x="4846680" y="5305320"/>
            <a:chExt cx="3632040" cy="1292400"/>
          </a:xfrm>
        </p:grpSpPr>
        <p:sp>
          <p:nvSpPr>
            <p:cNvPr id="369" name="Shape 441"/>
            <p:cNvSpPr/>
            <p:nvPr/>
          </p:nvSpPr>
          <p:spPr>
            <a:xfrm>
              <a:off x="4846680" y="5305320"/>
              <a:ext cx="1049040" cy="1292400"/>
            </a:xfrm>
            <a:custGeom>
              <a:avLst/>
              <a:gdLst>
                <a:gd name="textAreaLeft" fmla="*/ 30600 w 1049040"/>
                <a:gd name="textAreaRight" fmla="*/ 1018440 w 1049040"/>
                <a:gd name="textAreaTop" fmla="*/ 30600 h 1292400"/>
                <a:gd name="textAreaBottom" fmla="*/ 1261800 h 1292400"/>
              </a:gdLst>
              <a:ahLst/>
              <a:rect l="textAreaLeft" t="textAreaTop" r="textAreaRight" b="textAreaBottom"/>
              <a:pathLst>
                <a:path w="21600" h="26609">
                  <a:moveTo>
                    <a:pt x="2160" y="0"/>
                  </a:moveTo>
                  <a:arcTo wR="2160" hR="2160" stAng="16200000" swAng="-5400000"/>
                  <a:lnTo>
                    <a:pt x="0" y="24449"/>
                  </a:lnTo>
                  <a:arcTo wR="2160" hR="2160" stAng="10800000" swAng="-5400000"/>
                  <a:lnTo>
                    <a:pt x="19440" y="2660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0" name="Shape 442"/>
            <p:cNvSpPr/>
            <p:nvPr/>
          </p:nvSpPr>
          <p:spPr>
            <a:xfrm>
              <a:off x="4877280" y="5335920"/>
              <a:ext cx="98748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Institutions efficientes multiniveaux de coopération intergouvernementale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1" name="Shape 443"/>
            <p:cNvSpPr/>
            <p:nvPr/>
          </p:nvSpPr>
          <p:spPr>
            <a:xfrm>
              <a:off x="605916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2" name="Shape 444"/>
            <p:cNvSpPr/>
            <p:nvPr/>
          </p:nvSpPr>
          <p:spPr>
            <a:xfrm>
              <a:off x="6028200" y="5337720"/>
              <a:ext cx="12614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Développement du leadership et des capacités administratives des A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3" name="Shape 445"/>
            <p:cNvSpPr/>
            <p:nvPr/>
          </p:nvSpPr>
          <p:spPr>
            <a:xfrm>
              <a:off x="736272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74" name="Shape 446"/>
            <p:cNvSpPr/>
            <p:nvPr/>
          </p:nvSpPr>
          <p:spPr>
            <a:xfrm>
              <a:off x="7395480" y="5337720"/>
              <a:ext cx="10508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itoyenneté active et Partenariat Public-Privé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75" name="Shape 447"/>
          <p:cNvSpPr/>
          <p:nvPr/>
        </p:nvSpPr>
        <p:spPr>
          <a:xfrm flipH="1" rot="10800000">
            <a:off x="4775040" y="53290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Shape 448"/>
          <p:cNvSpPr/>
          <p:nvPr/>
        </p:nvSpPr>
        <p:spPr>
          <a:xfrm flipH="1" rot="10800000">
            <a:off x="5972040" y="5329080"/>
            <a:ext cx="126072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Shape 449"/>
          <p:cNvSpPr/>
          <p:nvPr/>
        </p:nvSpPr>
        <p:spPr>
          <a:xfrm flipH="1" rot="10800000">
            <a:off x="7231680" y="5329080"/>
            <a:ext cx="126180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Shape 450"/>
          <p:cNvSpPr/>
          <p:nvPr/>
        </p:nvSpPr>
        <p:spPr>
          <a:xfrm rot="10800000">
            <a:off x="2344320" y="432864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Shape 451"/>
          <p:cNvSpPr/>
          <p:nvPr/>
        </p:nvSpPr>
        <p:spPr>
          <a:xfrm rot="10800000">
            <a:off x="6540120" y="4334040"/>
            <a:ext cx="244440" cy="31248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Shape 452"/>
          <p:cNvSpPr/>
          <p:nvPr/>
        </p:nvSpPr>
        <p:spPr>
          <a:xfrm rot="151200">
            <a:off x="109440" y="2502000"/>
            <a:ext cx="592200" cy="2181240"/>
          </a:xfrm>
          <a:custGeom>
            <a:avLst/>
            <a:gdLst>
              <a:gd name="textAreaLeft" fmla="*/ 79200 w 592200"/>
              <a:gd name="textAreaRight" fmla="*/ 513000 w 592200"/>
              <a:gd name="textAreaTop" fmla="*/ 492480 h 2181240"/>
              <a:gd name="textAreaBottom" fmla="*/ 16257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3" stAng="-5400000" swAng="-5400000"/>
                <a:lnTo>
                  <a:pt x="0" y="11221"/>
                </a:lnTo>
                <a:arcTo wR="21600" hR="9753" stAng="10800000" swAng="-3614181"/>
                <a:lnTo>
                  <a:pt x="16200" y="21290"/>
                </a:lnTo>
                <a:lnTo>
                  <a:pt x="21600" y="20239"/>
                </a:lnTo>
                <a:lnTo>
                  <a:pt x="16200" y="18568"/>
                </a:lnTo>
                <a:lnTo>
                  <a:pt x="16200" y="19195"/>
                </a:lnTo>
                <a:arcTo wR="21600" hR="9753" stAng="7185819" swAng="3497074"/>
                <a:lnTo>
                  <a:pt x="61" y="10487"/>
                </a:lnTo>
                <a:arcTo wR="21600" hR="9753" stAng="-10682893" swAng="5282893"/>
                <a:close/>
              </a:path>
              <a:path fill="darkenLess" w="21600" h="21600">
                <a:moveTo>
                  <a:pt x="21600" y="0"/>
                </a:moveTo>
                <a:arcTo wR="21600" hR="9753" stAng="-5400000" swAng="-5400000"/>
                <a:lnTo>
                  <a:pt x="0" y="9753"/>
                </a:lnTo>
                <a:arcTo wR="21600" hR="9753" stAng="10800000" swAng="-117107"/>
                <a:lnTo>
                  <a:pt x="61" y="10487"/>
                </a:lnTo>
                <a:arcTo wR="21600" hR="9753" stAng="-10682893" swAng="5282893"/>
                <a:close/>
              </a:path>
            </a:pathLst>
          </a:cu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Shape 453"/>
          <p:cNvSpPr/>
          <p:nvPr/>
        </p:nvSpPr>
        <p:spPr>
          <a:xfrm>
            <a:off x="8115480" y="2532240"/>
            <a:ext cx="544320" cy="2162160"/>
          </a:xfrm>
          <a:custGeom>
            <a:avLst/>
            <a:gdLst>
              <a:gd name="textAreaLeft" fmla="*/ 72720 w 544320"/>
              <a:gd name="textAreaRight" fmla="*/ 471600 w 544320"/>
              <a:gd name="textAreaTop" fmla="*/ 489600 h 2162160"/>
              <a:gd name="textAreaBottom" fmla="*/ 160452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4768781"/>
                <a:lnTo>
                  <a:pt x="1810" y="21566"/>
                </a:lnTo>
                <a:lnTo>
                  <a:pt x="0" y="20241"/>
                </a:lnTo>
                <a:lnTo>
                  <a:pt x="1810" y="18848"/>
                </a:lnTo>
                <a:lnTo>
                  <a:pt x="1810" y="19528"/>
                </a:lnTo>
                <a:arcTo wR="21600" hR="9781" stAng="4768781" swAng="-4660489"/>
                <a:lnTo>
                  <a:pt x="21548" y="10460"/>
                </a:lnTo>
                <a:arcTo wR="21600" hR="9781" stAng="-108292" swAng="-5291708"/>
                <a:close/>
              </a:path>
              <a:path fill="darkenLess"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-108292"/>
                <a:lnTo>
                  <a:pt x="21548" y="10460"/>
                </a:lnTo>
                <a:arcTo wR="21600" hR="9781" stAng="-108292" swAng="-5291708"/>
                <a:close/>
              </a:path>
            </a:pathLst>
          </a:cu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Shape 454"/>
          <p:cNvSpPr/>
          <p:nvPr/>
        </p:nvSpPr>
        <p:spPr>
          <a:xfrm flipH="1" rot="10800000">
            <a:off x="1113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Shape 455"/>
          <p:cNvSpPr/>
          <p:nvPr/>
        </p:nvSpPr>
        <p:spPr>
          <a:xfrm flipH="1" rot="10800000">
            <a:off x="2832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Shape 456"/>
          <p:cNvSpPr/>
          <p:nvPr/>
        </p:nvSpPr>
        <p:spPr>
          <a:xfrm flipH="1" rot="10800000">
            <a:off x="45820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Shape 457"/>
          <p:cNvSpPr/>
          <p:nvPr/>
        </p:nvSpPr>
        <p:spPr>
          <a:xfrm flipH="1" rot="10800000">
            <a:off x="6350040" y="2664000"/>
            <a:ext cx="15825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895320" y="115920"/>
            <a:ext cx="7061400" cy="1628640"/>
            <a:chOff x="895320" y="115920"/>
            <a:chExt cx="7061400" cy="1628640"/>
          </a:xfrm>
        </p:grpSpPr>
        <p:pic>
          <p:nvPicPr>
            <p:cNvPr id="387" name="Shape 418" descr=""/>
            <p:cNvPicPr/>
            <p:nvPr/>
          </p:nvPicPr>
          <p:blipFill>
            <a:blip r:embed="rId1"/>
            <a:stretch/>
          </p:blipFill>
          <p:spPr>
            <a:xfrm>
              <a:off x="895320" y="115920"/>
              <a:ext cx="706140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Shape 424"/>
            <p:cNvSpPr/>
            <p:nvPr/>
          </p:nvSpPr>
          <p:spPr>
            <a:xfrm>
              <a:off x="3704400" y="688680"/>
              <a:ext cx="1442520" cy="7689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89" name="Shape 423"/>
            <p:cNvSpPr/>
            <p:nvPr/>
          </p:nvSpPr>
          <p:spPr>
            <a:xfrm>
              <a:off x="3709080" y="785520"/>
              <a:ext cx="14418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Gestion locale de l'environnement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0" name="Shape 424"/>
            <p:cNvSpPr/>
            <p:nvPr/>
          </p:nvSpPr>
          <p:spPr>
            <a:xfrm>
              <a:off x="6064560" y="688680"/>
              <a:ext cx="1442520" cy="7689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1" name="Shape 423"/>
            <p:cNvSpPr/>
            <p:nvPr/>
          </p:nvSpPr>
          <p:spPr>
            <a:xfrm>
              <a:off x="6064560" y="753120"/>
              <a:ext cx="14418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Développement économique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2" name="Shape 424"/>
            <p:cNvSpPr/>
            <p:nvPr/>
          </p:nvSpPr>
          <p:spPr>
            <a:xfrm>
              <a:off x="1323720" y="688680"/>
              <a:ext cx="1442520" cy="7689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393" name="Shape 423"/>
            <p:cNvSpPr/>
            <p:nvPr/>
          </p:nvSpPr>
          <p:spPr>
            <a:xfrm>
              <a:off x="1323360" y="794160"/>
              <a:ext cx="144180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rm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Fourniture de services locaux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94" name="Shape 450"/>
          <p:cNvSpPr/>
          <p:nvPr/>
        </p:nvSpPr>
        <p:spPr>
          <a:xfrm rot="10800000">
            <a:off x="4308120" y="176796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b5e5e9"/>
              </a:gs>
              <a:gs pos="100000">
                <a:srgbClr val="caffff"/>
              </a:gs>
            </a:gsLst>
            <a:lin ang="162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Shape 436"/>
          <p:cNvSpPr/>
          <p:nvPr/>
        </p:nvSpPr>
        <p:spPr>
          <a:xfrm flipH="1" rot="10800000">
            <a:off x="3670920" y="4143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Shape 436"/>
          <p:cNvSpPr/>
          <p:nvPr/>
        </p:nvSpPr>
        <p:spPr>
          <a:xfrm flipH="1" rot="10800000">
            <a:off x="1284840" y="3729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Shape 436"/>
          <p:cNvSpPr/>
          <p:nvPr/>
        </p:nvSpPr>
        <p:spPr>
          <a:xfrm flipH="1" rot="10800000">
            <a:off x="6026760" y="360360"/>
            <a:ext cx="1476360" cy="13716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Shape 498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Shape 501"/>
          <p:cNvSpPr/>
          <p:nvPr/>
        </p:nvSpPr>
        <p:spPr>
          <a:xfrm>
            <a:off x="1258920" y="1341360"/>
            <a:ext cx="633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6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f5494"/>
                </a:solidFill>
                <a:latin typeface="Verdana"/>
              </a:rPr>
              <a:t>Quatre mises en garde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Shape 503"/>
          <p:cNvSpPr/>
          <p:nvPr/>
        </p:nvSpPr>
        <p:spPr>
          <a:xfrm>
            <a:off x="971640" y="2055960"/>
            <a:ext cx="74880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n’y a pas de solution idéale: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haque territoir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oit trouver sa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propre combinaison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Shape 504"/>
          <p:cNvSpPr/>
          <p:nvPr/>
        </p:nvSpPr>
        <p:spPr>
          <a:xfrm>
            <a:off x="971640" y="3019320"/>
            <a:ext cx="7129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est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impossibl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e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déclencher ce type de processu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e façon technocratique ou bureaucratique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Shape 505"/>
          <p:cNvSpPr/>
          <p:nvPr/>
        </p:nvSpPr>
        <p:spPr>
          <a:xfrm>
            <a:off x="960480" y="4076640"/>
            <a:ext cx="728352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Cela prend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beaucoup de temp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!: si vous ne pouvez-vous investir sur le long terme, svp, n’y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llez pa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!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Shape 506"/>
          <p:cNvSpPr/>
          <p:nvPr/>
        </p:nvSpPr>
        <p:spPr>
          <a:xfrm>
            <a:off x="938160" y="5157720"/>
            <a:ext cx="71629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est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très difficil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d’impulser cette dynamique dans le 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adre limité d’un seul projet,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même bien construit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hape 104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hape 105"/>
          <p:cNvSpPr/>
          <p:nvPr/>
        </p:nvSpPr>
        <p:spPr>
          <a:xfrm>
            <a:off x="31680" y="0"/>
            <a:ext cx="6724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hape 106"/>
          <p:cNvSpPr/>
          <p:nvPr/>
        </p:nvSpPr>
        <p:spPr>
          <a:xfrm>
            <a:off x="1039680" y="1179360"/>
            <a:ext cx="7074000" cy="551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hape 11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hape 113"/>
          <p:cNvSpPr/>
          <p:nvPr/>
        </p:nvSpPr>
        <p:spPr>
          <a:xfrm>
            <a:off x="31680" y="0"/>
            <a:ext cx="6747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Shape 114"/>
          <p:cNvSpPr/>
          <p:nvPr/>
        </p:nvSpPr>
        <p:spPr>
          <a:xfrm>
            <a:off x="-9360" y="2133720"/>
            <a:ext cx="3497040" cy="272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492360" y="2349360"/>
          <a:ext cx="5334120" cy="3024360"/>
        </p:xfrm>
        <a:graphic>
          <a:graphicData uri="http://schemas.openxmlformats.org/drawingml/2006/table">
            <a:tbl>
              <a:tblPr/>
              <a:tblGrid>
                <a:gridCol w="3571920"/>
                <a:gridCol w="1762200"/>
              </a:tblGrid>
              <a:tr h="69552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s sur dix 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mais pas d'amélioration au niveau de la pauvreté ni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et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 de croissance mais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cune amélioration dans aucune dimensio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Shape 116"/>
          <p:cNvSpPr/>
          <p:nvPr/>
        </p:nvSpPr>
        <p:spPr>
          <a:xfrm>
            <a:off x="3502080" y="1398600"/>
            <a:ext cx="4599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2432e"/>
                </a:solidFill>
                <a:latin typeface="Verdana"/>
              </a:rPr>
              <a:t>Dynamiques territoriales, 9064 municipalités, 9 pay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hape 117"/>
          <p:cNvSpPr/>
          <p:nvPr/>
        </p:nvSpPr>
        <p:spPr>
          <a:xfrm>
            <a:off x="6300720" y="6448320"/>
            <a:ext cx="381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Source: Julio Berdegue (RIMIS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hape 123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hape 124"/>
          <p:cNvSpPr/>
          <p:nvPr/>
        </p:nvSpPr>
        <p:spPr>
          <a:xfrm>
            <a:off x="31680" y="0"/>
            <a:ext cx="6494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Shape 125"/>
          <p:cNvSpPr/>
          <p:nvPr/>
        </p:nvSpPr>
        <p:spPr>
          <a:xfrm>
            <a:off x="6300720" y="6448320"/>
            <a:ext cx="381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Source: Julio Berdegue (RIMIS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0" name="Shape 126" descr=""/>
          <p:cNvPicPr/>
          <p:nvPr/>
        </p:nvPicPr>
        <p:blipFill>
          <a:blip r:embed="rId1"/>
          <a:stretch/>
        </p:blipFill>
        <p:spPr>
          <a:xfrm>
            <a:off x="0" y="546120"/>
            <a:ext cx="9144000" cy="574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08000" y="620640"/>
          <a:ext cx="4392720" cy="280836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2808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'espérance de vie varie d'une station à l'autre selon le lieu de naissance de l'enfant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ifférence de 20 ans entre l'espérance de vie de ceux nés près d'Oxford Circus et ceux nés proches des stations sur le Docklands Light Railway (DLR).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 nouveaux-nés autour de Star Lane ont une espérance de vie d'en moyenne 75.3 ans, contre 96.4 ans pour ceux nés près d'Oxford Circus</a:t>
                      </a:r>
                      <a:endParaRPr b="0" lang="en-US" sz="12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e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Shape 134"/>
          <p:cNvSpPr/>
          <p:nvPr/>
        </p:nvSpPr>
        <p:spPr>
          <a:xfrm>
            <a:off x="0" y="9360"/>
            <a:ext cx="83026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urquoi un Développement Territorial? Inégalités croissantes et réponses inefficac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7627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INEGALITES CROISSANTES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39640" y="306864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38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Entre les zones 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urbaines</a:t>
            </a: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 et 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rurales</a:t>
            </a: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 et </a:t>
            </a: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au sein des zones urbaines, qui menacent la stabilité politique, la cohésion sociale et la croissance économique</a:t>
            </a: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hape 142"/>
          <p:cNvSpPr/>
          <p:nvPr/>
        </p:nvSpPr>
        <p:spPr>
          <a:xfrm>
            <a:off x="933480" y="5216400"/>
            <a:ext cx="1822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2432e"/>
                </a:solidFill>
                <a:latin typeface="Verdana"/>
              </a:rPr>
              <a:t>Rural profond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Shape 143"/>
          <p:cNvSpPr/>
          <p:nvPr/>
        </p:nvSpPr>
        <p:spPr>
          <a:xfrm>
            <a:off x="3624120" y="5226120"/>
            <a:ext cx="1930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2432e"/>
                </a:solidFill>
                <a:latin typeface="Verdana"/>
              </a:rPr>
              <a:t>Grandes vill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Shape 144"/>
          <p:cNvSpPr/>
          <p:nvPr/>
        </p:nvSpPr>
        <p:spPr>
          <a:xfrm>
            <a:off x="6688080" y="5224320"/>
            <a:ext cx="20638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 indent="-1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2432e"/>
                </a:solidFill>
                <a:latin typeface="Verdana"/>
              </a:rPr>
              <a:t>Villes petites et moyenne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Shape 145"/>
          <p:cNvSpPr/>
          <p:nvPr/>
        </p:nvSpPr>
        <p:spPr>
          <a:xfrm>
            <a:off x="631800" y="411804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Shape 146"/>
          <p:cNvSpPr/>
          <p:nvPr/>
        </p:nvSpPr>
        <p:spPr>
          <a:xfrm>
            <a:off x="631800" y="386712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Shape 147"/>
          <p:cNvSpPr/>
          <p:nvPr/>
        </p:nvSpPr>
        <p:spPr>
          <a:xfrm>
            <a:off x="631800" y="361800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Shape 148"/>
          <p:cNvSpPr/>
          <p:nvPr/>
        </p:nvSpPr>
        <p:spPr>
          <a:xfrm>
            <a:off x="631800" y="336708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Shape 149"/>
          <p:cNvSpPr/>
          <p:nvPr/>
        </p:nvSpPr>
        <p:spPr>
          <a:xfrm>
            <a:off x="631800" y="311616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Shape 150"/>
          <p:cNvSpPr/>
          <p:nvPr/>
        </p:nvSpPr>
        <p:spPr>
          <a:xfrm>
            <a:off x="631800" y="286704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Shape 151"/>
          <p:cNvSpPr/>
          <p:nvPr/>
        </p:nvSpPr>
        <p:spPr>
          <a:xfrm>
            <a:off x="631800" y="261612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Shape 152"/>
          <p:cNvSpPr/>
          <p:nvPr/>
        </p:nvSpPr>
        <p:spPr>
          <a:xfrm>
            <a:off x="631800" y="236700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hape 153"/>
          <p:cNvSpPr/>
          <p:nvPr/>
        </p:nvSpPr>
        <p:spPr>
          <a:xfrm>
            <a:off x="631800" y="211608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hape 154"/>
          <p:cNvSpPr/>
          <p:nvPr/>
        </p:nvSpPr>
        <p:spPr>
          <a:xfrm>
            <a:off x="631800" y="186696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Shape 155"/>
          <p:cNvSpPr/>
          <p:nvPr/>
        </p:nvSpPr>
        <p:spPr>
          <a:xfrm>
            <a:off x="671400" y="1866960"/>
            <a:ext cx="360" cy="2538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Shape 156"/>
          <p:cNvSpPr/>
          <p:nvPr/>
        </p:nvSpPr>
        <p:spPr>
          <a:xfrm>
            <a:off x="631800" y="4367160"/>
            <a:ext cx="206532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19999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Shape 157"/>
          <p:cNvSpPr/>
          <p:nvPr/>
        </p:nvSpPr>
        <p:spPr>
          <a:xfrm>
            <a:off x="7682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Shape 158"/>
          <p:cNvSpPr/>
          <p:nvPr/>
        </p:nvSpPr>
        <p:spPr>
          <a:xfrm>
            <a:off x="8636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Shape 159"/>
          <p:cNvSpPr/>
          <p:nvPr/>
        </p:nvSpPr>
        <p:spPr>
          <a:xfrm>
            <a:off x="9604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hape 160"/>
          <p:cNvSpPr/>
          <p:nvPr/>
        </p:nvSpPr>
        <p:spPr>
          <a:xfrm>
            <a:off x="10573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Shape 161"/>
          <p:cNvSpPr/>
          <p:nvPr/>
        </p:nvSpPr>
        <p:spPr>
          <a:xfrm>
            <a:off x="115416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Shape 162"/>
          <p:cNvSpPr/>
          <p:nvPr/>
        </p:nvSpPr>
        <p:spPr>
          <a:xfrm>
            <a:off x="12492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Shape 163"/>
          <p:cNvSpPr/>
          <p:nvPr/>
        </p:nvSpPr>
        <p:spPr>
          <a:xfrm>
            <a:off x="13478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hape 164"/>
          <p:cNvSpPr/>
          <p:nvPr/>
        </p:nvSpPr>
        <p:spPr>
          <a:xfrm>
            <a:off x="14428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hape 165"/>
          <p:cNvSpPr/>
          <p:nvPr/>
        </p:nvSpPr>
        <p:spPr>
          <a:xfrm>
            <a:off x="15397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hape 166"/>
          <p:cNvSpPr/>
          <p:nvPr/>
        </p:nvSpPr>
        <p:spPr>
          <a:xfrm>
            <a:off x="163656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hape 167"/>
          <p:cNvSpPr/>
          <p:nvPr/>
        </p:nvSpPr>
        <p:spPr>
          <a:xfrm>
            <a:off x="17334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Shape 168"/>
          <p:cNvSpPr/>
          <p:nvPr/>
        </p:nvSpPr>
        <p:spPr>
          <a:xfrm>
            <a:off x="18288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hape 169"/>
          <p:cNvSpPr/>
          <p:nvPr/>
        </p:nvSpPr>
        <p:spPr>
          <a:xfrm>
            <a:off x="19242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hape 170"/>
          <p:cNvSpPr/>
          <p:nvPr/>
        </p:nvSpPr>
        <p:spPr>
          <a:xfrm>
            <a:off x="20224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Shape 171"/>
          <p:cNvSpPr/>
          <p:nvPr/>
        </p:nvSpPr>
        <p:spPr>
          <a:xfrm>
            <a:off x="21178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Shape 172"/>
          <p:cNvSpPr/>
          <p:nvPr/>
        </p:nvSpPr>
        <p:spPr>
          <a:xfrm>
            <a:off x="22147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Shape 173"/>
          <p:cNvSpPr/>
          <p:nvPr/>
        </p:nvSpPr>
        <p:spPr>
          <a:xfrm>
            <a:off x="231156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Shape 174"/>
          <p:cNvSpPr/>
          <p:nvPr/>
        </p:nvSpPr>
        <p:spPr>
          <a:xfrm>
            <a:off x="240840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hape 175"/>
          <p:cNvSpPr/>
          <p:nvPr/>
        </p:nvSpPr>
        <p:spPr>
          <a:xfrm>
            <a:off x="250344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Shape 176"/>
          <p:cNvSpPr/>
          <p:nvPr/>
        </p:nvSpPr>
        <p:spPr>
          <a:xfrm>
            <a:off x="260208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Shape 177"/>
          <p:cNvSpPr/>
          <p:nvPr/>
        </p:nvSpPr>
        <p:spPr>
          <a:xfrm>
            <a:off x="2697120" y="436716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Shape 178"/>
          <p:cNvSpPr/>
          <p:nvPr/>
        </p:nvSpPr>
        <p:spPr>
          <a:xfrm>
            <a:off x="719280" y="2178000"/>
            <a:ext cx="1928520" cy="118116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120000" h="120000">
                <a:moveTo>
                  <a:pt x="0" y="0"/>
                </a:moveTo>
                <a:lnTo>
                  <a:pt x="6066" y="4180"/>
                </a:lnTo>
                <a:lnTo>
                  <a:pt x="12037" y="10064"/>
                </a:lnTo>
                <a:lnTo>
                  <a:pt x="18009" y="15948"/>
                </a:lnTo>
                <a:lnTo>
                  <a:pt x="23981" y="21058"/>
                </a:lnTo>
                <a:lnTo>
                  <a:pt x="30047" y="25238"/>
                </a:lnTo>
                <a:lnTo>
                  <a:pt x="36018" y="29729"/>
                </a:lnTo>
                <a:lnTo>
                  <a:pt x="41990" y="34219"/>
                </a:lnTo>
                <a:lnTo>
                  <a:pt x="48056" y="40103"/>
                </a:lnTo>
                <a:lnTo>
                  <a:pt x="54028" y="45677"/>
                </a:lnTo>
                <a:lnTo>
                  <a:pt x="59999" y="51096"/>
                </a:lnTo>
                <a:lnTo>
                  <a:pt x="65971" y="56825"/>
                </a:lnTo>
                <a:lnTo>
                  <a:pt x="72037" y="62709"/>
                </a:lnTo>
                <a:lnTo>
                  <a:pt x="78009" y="68593"/>
                </a:lnTo>
                <a:lnTo>
                  <a:pt x="83981" y="75096"/>
                </a:lnTo>
                <a:lnTo>
                  <a:pt x="90047" y="81909"/>
                </a:lnTo>
                <a:lnTo>
                  <a:pt x="96018" y="89187"/>
                </a:lnTo>
                <a:lnTo>
                  <a:pt x="101990" y="96774"/>
                </a:lnTo>
                <a:lnTo>
                  <a:pt x="108056" y="104516"/>
                </a:lnTo>
                <a:lnTo>
                  <a:pt x="114028" y="112258"/>
                </a:lnTo>
                <a:lnTo>
                  <a:pt x="119999" y="12000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Shape 179"/>
          <p:cNvSpPr/>
          <p:nvPr/>
        </p:nvSpPr>
        <p:spPr>
          <a:xfrm>
            <a:off x="719280" y="2933640"/>
            <a:ext cx="1928520" cy="118908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120000" h="120000">
                <a:moveTo>
                  <a:pt x="0" y="0"/>
                </a:moveTo>
                <a:lnTo>
                  <a:pt x="6066" y="10923"/>
                </a:lnTo>
                <a:lnTo>
                  <a:pt x="12037" y="22000"/>
                </a:lnTo>
                <a:lnTo>
                  <a:pt x="18009" y="32615"/>
                </a:lnTo>
                <a:lnTo>
                  <a:pt x="23981" y="42615"/>
                </a:lnTo>
                <a:lnTo>
                  <a:pt x="30047" y="52307"/>
                </a:lnTo>
                <a:lnTo>
                  <a:pt x="36018" y="61692"/>
                </a:lnTo>
                <a:lnTo>
                  <a:pt x="41990" y="69846"/>
                </a:lnTo>
                <a:lnTo>
                  <a:pt x="48056" y="77230"/>
                </a:lnTo>
                <a:lnTo>
                  <a:pt x="54028" y="83846"/>
                </a:lnTo>
                <a:lnTo>
                  <a:pt x="59999" y="89846"/>
                </a:lnTo>
                <a:lnTo>
                  <a:pt x="65971" y="95230"/>
                </a:lnTo>
                <a:lnTo>
                  <a:pt x="72037" y="99692"/>
                </a:lnTo>
                <a:lnTo>
                  <a:pt x="78009" y="103384"/>
                </a:lnTo>
                <a:lnTo>
                  <a:pt x="83981" y="106461"/>
                </a:lnTo>
                <a:lnTo>
                  <a:pt x="90047" y="109076"/>
                </a:lnTo>
                <a:lnTo>
                  <a:pt x="96018" y="111384"/>
                </a:lnTo>
                <a:lnTo>
                  <a:pt x="101990" y="113692"/>
                </a:lnTo>
                <a:lnTo>
                  <a:pt x="108056" y="116000"/>
                </a:lnTo>
                <a:lnTo>
                  <a:pt x="114028" y="118000"/>
                </a:lnTo>
                <a:lnTo>
                  <a:pt x="119999" y="12000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hape 180"/>
          <p:cNvSpPr/>
          <p:nvPr/>
        </p:nvSpPr>
        <p:spPr>
          <a:xfrm>
            <a:off x="719280" y="2217600"/>
            <a:ext cx="1928520" cy="1230480"/>
          </a:xfrm>
          <a:custGeom>
            <a:avLst/>
            <a:gdLst>
              <a:gd name="textAreaLeft" fmla="*/ 0 w 1928520"/>
              <a:gd name="textAreaRight" fmla="*/ 1928880 w 1928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120000" h="120000">
                <a:moveTo>
                  <a:pt x="0" y="0"/>
                </a:moveTo>
                <a:lnTo>
                  <a:pt x="6066" y="3568"/>
                </a:lnTo>
                <a:lnTo>
                  <a:pt x="12037" y="7286"/>
                </a:lnTo>
                <a:lnTo>
                  <a:pt x="18009" y="10855"/>
                </a:lnTo>
                <a:lnTo>
                  <a:pt x="23981" y="11747"/>
                </a:lnTo>
                <a:lnTo>
                  <a:pt x="30047" y="14275"/>
                </a:lnTo>
                <a:lnTo>
                  <a:pt x="36018" y="19479"/>
                </a:lnTo>
                <a:lnTo>
                  <a:pt x="41990" y="26022"/>
                </a:lnTo>
                <a:lnTo>
                  <a:pt x="48056" y="32565"/>
                </a:lnTo>
                <a:lnTo>
                  <a:pt x="54028" y="39405"/>
                </a:lnTo>
                <a:lnTo>
                  <a:pt x="59999" y="46840"/>
                </a:lnTo>
                <a:lnTo>
                  <a:pt x="65971" y="55167"/>
                </a:lnTo>
                <a:lnTo>
                  <a:pt x="72037" y="61412"/>
                </a:lnTo>
                <a:lnTo>
                  <a:pt x="78009" y="67806"/>
                </a:lnTo>
                <a:lnTo>
                  <a:pt x="83981" y="74646"/>
                </a:lnTo>
                <a:lnTo>
                  <a:pt x="90047" y="81933"/>
                </a:lnTo>
                <a:lnTo>
                  <a:pt x="96018" y="89516"/>
                </a:lnTo>
                <a:lnTo>
                  <a:pt x="101990" y="97249"/>
                </a:lnTo>
                <a:lnTo>
                  <a:pt x="108056" y="104981"/>
                </a:lnTo>
                <a:lnTo>
                  <a:pt x="114028" y="112565"/>
                </a:lnTo>
                <a:lnTo>
                  <a:pt x="119999" y="12000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Shape 181"/>
          <p:cNvSpPr/>
          <p:nvPr/>
        </p:nvSpPr>
        <p:spPr>
          <a:xfrm>
            <a:off x="353880" y="4292640"/>
            <a:ext cx="2224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Shape 182"/>
          <p:cNvSpPr/>
          <p:nvPr/>
        </p:nvSpPr>
        <p:spPr>
          <a:xfrm>
            <a:off x="282600" y="404172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hape 183"/>
          <p:cNvSpPr/>
          <p:nvPr/>
        </p:nvSpPr>
        <p:spPr>
          <a:xfrm>
            <a:off x="282600" y="379260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hape 184"/>
          <p:cNvSpPr/>
          <p:nvPr/>
        </p:nvSpPr>
        <p:spPr>
          <a:xfrm>
            <a:off x="282600" y="35416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Shape 185"/>
          <p:cNvSpPr/>
          <p:nvPr/>
        </p:nvSpPr>
        <p:spPr>
          <a:xfrm>
            <a:off x="282600" y="329256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hape 186"/>
          <p:cNvSpPr/>
          <p:nvPr/>
        </p:nvSpPr>
        <p:spPr>
          <a:xfrm>
            <a:off x="282600" y="304164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5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Shape 187"/>
          <p:cNvSpPr/>
          <p:nvPr/>
        </p:nvSpPr>
        <p:spPr>
          <a:xfrm>
            <a:off x="282600" y="2792520"/>
            <a:ext cx="291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6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Shape 188"/>
          <p:cNvSpPr/>
          <p:nvPr/>
        </p:nvSpPr>
        <p:spPr>
          <a:xfrm>
            <a:off x="282600" y="254160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7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Shape 189"/>
          <p:cNvSpPr/>
          <p:nvPr/>
        </p:nvSpPr>
        <p:spPr>
          <a:xfrm>
            <a:off x="282600" y="2292480"/>
            <a:ext cx="291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8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Shape 190"/>
          <p:cNvSpPr/>
          <p:nvPr/>
        </p:nvSpPr>
        <p:spPr>
          <a:xfrm>
            <a:off x="282600" y="204156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9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Shape 191"/>
          <p:cNvSpPr/>
          <p:nvPr/>
        </p:nvSpPr>
        <p:spPr>
          <a:xfrm>
            <a:off x="209520" y="1792440"/>
            <a:ext cx="3668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Shape 192"/>
          <p:cNvSpPr/>
          <p:nvPr/>
        </p:nvSpPr>
        <p:spPr>
          <a:xfrm rot="16200000">
            <a:off x="1528920" y="3551040"/>
            <a:ext cx="31716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15000"/>
          </a:bodyPr>
          <a:p>
            <a:pPr marL="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3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4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80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Shape 193"/>
          <p:cNvSpPr/>
          <p:nvPr/>
        </p:nvSpPr>
        <p:spPr>
          <a:xfrm>
            <a:off x="512640" y="49244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Shape 194"/>
          <p:cNvSpPr/>
          <p:nvPr/>
        </p:nvSpPr>
        <p:spPr>
          <a:xfrm>
            <a:off x="768240" y="4849920"/>
            <a:ext cx="453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FRIC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Shape 195"/>
          <p:cNvSpPr/>
          <p:nvPr/>
        </p:nvSpPr>
        <p:spPr>
          <a:xfrm>
            <a:off x="1338120" y="49244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hape 196"/>
          <p:cNvSpPr/>
          <p:nvPr/>
        </p:nvSpPr>
        <p:spPr>
          <a:xfrm>
            <a:off x="1595520" y="4849920"/>
            <a:ext cx="2458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LAC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Shape 197"/>
          <p:cNvSpPr/>
          <p:nvPr/>
        </p:nvSpPr>
        <p:spPr>
          <a:xfrm>
            <a:off x="1957320" y="49244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Shape 198"/>
          <p:cNvSpPr/>
          <p:nvPr/>
        </p:nvSpPr>
        <p:spPr>
          <a:xfrm>
            <a:off x="2214720" y="4849920"/>
            <a:ext cx="306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SI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Shape 199"/>
          <p:cNvSpPr/>
          <p:nvPr/>
        </p:nvSpPr>
        <p:spPr>
          <a:xfrm>
            <a:off x="3335400" y="402588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hape 200"/>
          <p:cNvSpPr/>
          <p:nvPr/>
        </p:nvSpPr>
        <p:spPr>
          <a:xfrm>
            <a:off x="3335400" y="376092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Shape 201"/>
          <p:cNvSpPr/>
          <p:nvPr/>
        </p:nvSpPr>
        <p:spPr>
          <a:xfrm>
            <a:off x="3335400" y="349416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Shape 202"/>
          <p:cNvSpPr/>
          <p:nvPr/>
        </p:nvSpPr>
        <p:spPr>
          <a:xfrm>
            <a:off x="3335400" y="322884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Shape 203"/>
          <p:cNvSpPr/>
          <p:nvPr/>
        </p:nvSpPr>
        <p:spPr>
          <a:xfrm>
            <a:off x="3335400" y="296244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Shape 204"/>
          <p:cNvSpPr/>
          <p:nvPr/>
        </p:nvSpPr>
        <p:spPr>
          <a:xfrm>
            <a:off x="3335400" y="269712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Shape 205"/>
          <p:cNvSpPr/>
          <p:nvPr/>
        </p:nvSpPr>
        <p:spPr>
          <a:xfrm>
            <a:off x="5148360" y="2421000"/>
            <a:ext cx="23763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Shape 206"/>
          <p:cNvSpPr/>
          <p:nvPr/>
        </p:nvSpPr>
        <p:spPr>
          <a:xfrm>
            <a:off x="3335400" y="216540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Shape 207"/>
          <p:cNvSpPr/>
          <p:nvPr/>
        </p:nvSpPr>
        <p:spPr>
          <a:xfrm>
            <a:off x="3335400" y="190008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hape 208"/>
          <p:cNvSpPr/>
          <p:nvPr/>
        </p:nvSpPr>
        <p:spPr>
          <a:xfrm>
            <a:off x="3373560" y="1900080"/>
            <a:ext cx="360" cy="243072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Shape 209"/>
          <p:cNvSpPr/>
          <p:nvPr/>
        </p:nvSpPr>
        <p:spPr>
          <a:xfrm>
            <a:off x="3335400" y="4292640"/>
            <a:ext cx="237816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Shape 210"/>
          <p:cNvSpPr/>
          <p:nvPr/>
        </p:nvSpPr>
        <p:spPr>
          <a:xfrm>
            <a:off x="35211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Shape 211"/>
          <p:cNvSpPr/>
          <p:nvPr/>
        </p:nvSpPr>
        <p:spPr>
          <a:xfrm>
            <a:off x="36669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hape 212"/>
          <p:cNvSpPr/>
          <p:nvPr/>
        </p:nvSpPr>
        <p:spPr>
          <a:xfrm>
            <a:off x="381312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Shape 213"/>
          <p:cNvSpPr/>
          <p:nvPr/>
        </p:nvSpPr>
        <p:spPr>
          <a:xfrm>
            <a:off x="395928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Shape 214"/>
          <p:cNvSpPr/>
          <p:nvPr/>
        </p:nvSpPr>
        <p:spPr>
          <a:xfrm>
            <a:off x="410544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Shape 215"/>
          <p:cNvSpPr/>
          <p:nvPr/>
        </p:nvSpPr>
        <p:spPr>
          <a:xfrm>
            <a:off x="424980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hape 216"/>
          <p:cNvSpPr/>
          <p:nvPr/>
        </p:nvSpPr>
        <p:spPr>
          <a:xfrm>
            <a:off x="439740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Shape 217"/>
          <p:cNvSpPr/>
          <p:nvPr/>
        </p:nvSpPr>
        <p:spPr>
          <a:xfrm>
            <a:off x="45435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Shape 218"/>
          <p:cNvSpPr/>
          <p:nvPr/>
        </p:nvSpPr>
        <p:spPr>
          <a:xfrm>
            <a:off x="46893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hape 219"/>
          <p:cNvSpPr/>
          <p:nvPr/>
        </p:nvSpPr>
        <p:spPr>
          <a:xfrm>
            <a:off x="483552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hape 220"/>
          <p:cNvSpPr/>
          <p:nvPr/>
        </p:nvSpPr>
        <p:spPr>
          <a:xfrm>
            <a:off x="498168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Shape 221"/>
          <p:cNvSpPr/>
          <p:nvPr/>
        </p:nvSpPr>
        <p:spPr>
          <a:xfrm>
            <a:off x="512748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Shape 222"/>
          <p:cNvSpPr/>
          <p:nvPr/>
        </p:nvSpPr>
        <p:spPr>
          <a:xfrm>
            <a:off x="527544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Shape 223"/>
          <p:cNvSpPr/>
          <p:nvPr/>
        </p:nvSpPr>
        <p:spPr>
          <a:xfrm>
            <a:off x="542124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Shape 224"/>
          <p:cNvSpPr/>
          <p:nvPr/>
        </p:nvSpPr>
        <p:spPr>
          <a:xfrm>
            <a:off x="556740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hape 225"/>
          <p:cNvSpPr/>
          <p:nvPr/>
        </p:nvSpPr>
        <p:spPr>
          <a:xfrm>
            <a:off x="5713560" y="4292640"/>
            <a:ext cx="360" cy="381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Shape 226"/>
          <p:cNvSpPr/>
          <p:nvPr/>
        </p:nvSpPr>
        <p:spPr>
          <a:xfrm>
            <a:off x="3448080" y="3436920"/>
            <a:ext cx="2192400" cy="5716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120000" h="120000">
                <a:moveTo>
                  <a:pt x="0" y="119999"/>
                </a:moveTo>
                <a:lnTo>
                  <a:pt x="8005" y="112959"/>
                </a:lnTo>
                <a:lnTo>
                  <a:pt x="16011" y="102719"/>
                </a:lnTo>
                <a:lnTo>
                  <a:pt x="24016" y="91839"/>
                </a:lnTo>
                <a:lnTo>
                  <a:pt x="32022" y="81279"/>
                </a:lnTo>
                <a:lnTo>
                  <a:pt x="40027" y="72959"/>
                </a:lnTo>
                <a:lnTo>
                  <a:pt x="47949" y="63039"/>
                </a:lnTo>
                <a:lnTo>
                  <a:pt x="55955" y="54719"/>
                </a:lnTo>
                <a:lnTo>
                  <a:pt x="63961" y="46079"/>
                </a:lnTo>
                <a:lnTo>
                  <a:pt x="71966" y="39999"/>
                </a:lnTo>
                <a:lnTo>
                  <a:pt x="79972" y="33279"/>
                </a:lnTo>
                <a:lnTo>
                  <a:pt x="87977" y="25599"/>
                </a:lnTo>
                <a:lnTo>
                  <a:pt x="95983" y="18559"/>
                </a:lnTo>
                <a:lnTo>
                  <a:pt x="103988" y="12159"/>
                </a:lnTo>
                <a:lnTo>
                  <a:pt x="111994" y="6079"/>
                </a:lnTo>
                <a:lnTo>
                  <a:pt x="119999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hape 227"/>
          <p:cNvSpPr/>
          <p:nvPr/>
        </p:nvSpPr>
        <p:spPr>
          <a:xfrm>
            <a:off x="3448080" y="2162160"/>
            <a:ext cx="2192400" cy="104292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8005" y="108070"/>
                </a:lnTo>
                <a:lnTo>
                  <a:pt x="16011" y="93859"/>
                </a:lnTo>
                <a:lnTo>
                  <a:pt x="24016" y="80175"/>
                </a:lnTo>
                <a:lnTo>
                  <a:pt x="32022" y="63157"/>
                </a:lnTo>
                <a:lnTo>
                  <a:pt x="40027" y="50701"/>
                </a:lnTo>
                <a:lnTo>
                  <a:pt x="47949" y="36666"/>
                </a:lnTo>
                <a:lnTo>
                  <a:pt x="55955" y="32280"/>
                </a:lnTo>
                <a:lnTo>
                  <a:pt x="63961" y="26666"/>
                </a:lnTo>
                <a:lnTo>
                  <a:pt x="71966" y="22280"/>
                </a:lnTo>
                <a:lnTo>
                  <a:pt x="79972" y="17368"/>
                </a:lnTo>
                <a:lnTo>
                  <a:pt x="87977" y="11227"/>
                </a:lnTo>
                <a:lnTo>
                  <a:pt x="95983" y="3508"/>
                </a:lnTo>
                <a:lnTo>
                  <a:pt x="103988" y="0"/>
                </a:lnTo>
                <a:lnTo>
                  <a:pt x="111994" y="1578"/>
                </a:lnTo>
                <a:lnTo>
                  <a:pt x="119999" y="4912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Shape 228"/>
          <p:cNvSpPr/>
          <p:nvPr/>
        </p:nvSpPr>
        <p:spPr>
          <a:xfrm>
            <a:off x="3448080" y="3289320"/>
            <a:ext cx="2192400" cy="64764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20000" h="120000">
                <a:moveTo>
                  <a:pt x="0" y="119999"/>
                </a:moveTo>
                <a:lnTo>
                  <a:pt x="8005" y="112658"/>
                </a:lnTo>
                <a:lnTo>
                  <a:pt x="16011" y="105035"/>
                </a:lnTo>
                <a:lnTo>
                  <a:pt x="24016" y="101364"/>
                </a:lnTo>
                <a:lnTo>
                  <a:pt x="32022" y="99952"/>
                </a:lnTo>
                <a:lnTo>
                  <a:pt x="40027" y="95717"/>
                </a:lnTo>
                <a:lnTo>
                  <a:pt x="47949" y="89505"/>
                </a:lnTo>
                <a:lnTo>
                  <a:pt x="55955" y="83293"/>
                </a:lnTo>
                <a:lnTo>
                  <a:pt x="63961" y="76235"/>
                </a:lnTo>
                <a:lnTo>
                  <a:pt x="71966" y="64093"/>
                </a:lnTo>
                <a:lnTo>
                  <a:pt x="79972" y="47152"/>
                </a:lnTo>
                <a:lnTo>
                  <a:pt x="87977" y="32752"/>
                </a:lnTo>
                <a:lnTo>
                  <a:pt x="95983" y="23435"/>
                </a:lnTo>
                <a:lnTo>
                  <a:pt x="103988" y="15811"/>
                </a:lnTo>
                <a:lnTo>
                  <a:pt x="111994" y="7623"/>
                </a:lnTo>
                <a:lnTo>
                  <a:pt x="119999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Shape 229"/>
          <p:cNvSpPr/>
          <p:nvPr/>
        </p:nvSpPr>
        <p:spPr>
          <a:xfrm>
            <a:off x="3059280" y="4216320"/>
            <a:ext cx="222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Shape 230"/>
          <p:cNvSpPr/>
          <p:nvPr/>
        </p:nvSpPr>
        <p:spPr>
          <a:xfrm>
            <a:off x="3059280" y="3951360"/>
            <a:ext cx="22212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Shape 231"/>
          <p:cNvSpPr/>
          <p:nvPr/>
        </p:nvSpPr>
        <p:spPr>
          <a:xfrm>
            <a:off x="2986200" y="368460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Shape 232"/>
          <p:cNvSpPr/>
          <p:nvPr/>
        </p:nvSpPr>
        <p:spPr>
          <a:xfrm>
            <a:off x="2986200" y="3419640"/>
            <a:ext cx="2919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Shape 233"/>
          <p:cNvSpPr/>
          <p:nvPr/>
        </p:nvSpPr>
        <p:spPr>
          <a:xfrm>
            <a:off x="2986200" y="31528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Shape 234"/>
          <p:cNvSpPr/>
          <p:nvPr/>
        </p:nvSpPr>
        <p:spPr>
          <a:xfrm>
            <a:off x="2986200" y="2887560"/>
            <a:ext cx="291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Shape 235"/>
          <p:cNvSpPr/>
          <p:nvPr/>
        </p:nvSpPr>
        <p:spPr>
          <a:xfrm>
            <a:off x="2986200" y="2620800"/>
            <a:ext cx="29196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Shape 236"/>
          <p:cNvSpPr/>
          <p:nvPr/>
        </p:nvSpPr>
        <p:spPr>
          <a:xfrm>
            <a:off x="2986200" y="235584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hape 237"/>
          <p:cNvSpPr/>
          <p:nvPr/>
        </p:nvSpPr>
        <p:spPr>
          <a:xfrm>
            <a:off x="2986200" y="20890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Shape 238"/>
          <p:cNvSpPr/>
          <p:nvPr/>
        </p:nvSpPr>
        <p:spPr>
          <a:xfrm>
            <a:off x="2986200" y="182412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Shape 239"/>
          <p:cNvSpPr/>
          <p:nvPr/>
        </p:nvSpPr>
        <p:spPr>
          <a:xfrm rot="16200000">
            <a:off x="4390200" y="3344040"/>
            <a:ext cx="316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14000"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Shape 240"/>
          <p:cNvSpPr/>
          <p:nvPr/>
        </p:nvSpPr>
        <p:spPr>
          <a:xfrm>
            <a:off x="3484440" y="48578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Shape 241"/>
          <p:cNvSpPr/>
          <p:nvPr/>
        </p:nvSpPr>
        <p:spPr>
          <a:xfrm>
            <a:off x="3741840" y="4781520"/>
            <a:ext cx="45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FRIC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Shape 242"/>
          <p:cNvSpPr/>
          <p:nvPr/>
        </p:nvSpPr>
        <p:spPr>
          <a:xfrm>
            <a:off x="4241880" y="4857840"/>
            <a:ext cx="2426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Shape 243"/>
          <p:cNvSpPr/>
          <p:nvPr/>
        </p:nvSpPr>
        <p:spPr>
          <a:xfrm>
            <a:off x="4497480" y="4781520"/>
            <a:ext cx="24768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LAC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Shape 244"/>
          <p:cNvSpPr/>
          <p:nvPr/>
        </p:nvSpPr>
        <p:spPr>
          <a:xfrm>
            <a:off x="4789440" y="4857840"/>
            <a:ext cx="2444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Shape 245"/>
          <p:cNvSpPr/>
          <p:nvPr/>
        </p:nvSpPr>
        <p:spPr>
          <a:xfrm>
            <a:off x="5046840" y="4781520"/>
            <a:ext cx="307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SI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Shape 246"/>
          <p:cNvSpPr/>
          <p:nvPr/>
        </p:nvSpPr>
        <p:spPr>
          <a:xfrm>
            <a:off x="6477120" y="40194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Shape 247"/>
          <p:cNvSpPr/>
          <p:nvPr/>
        </p:nvSpPr>
        <p:spPr>
          <a:xfrm>
            <a:off x="6477120" y="37512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Shape 248"/>
          <p:cNvSpPr/>
          <p:nvPr/>
        </p:nvSpPr>
        <p:spPr>
          <a:xfrm>
            <a:off x="6477120" y="34830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Shape 249"/>
          <p:cNvSpPr/>
          <p:nvPr/>
        </p:nvSpPr>
        <p:spPr>
          <a:xfrm>
            <a:off x="6477120" y="32130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Shape 250"/>
          <p:cNvSpPr/>
          <p:nvPr/>
        </p:nvSpPr>
        <p:spPr>
          <a:xfrm>
            <a:off x="6477120" y="29448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Shape 251"/>
          <p:cNvSpPr/>
          <p:nvPr/>
        </p:nvSpPr>
        <p:spPr>
          <a:xfrm>
            <a:off x="6477120" y="26766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Shape 252"/>
          <p:cNvSpPr/>
          <p:nvPr/>
        </p:nvSpPr>
        <p:spPr>
          <a:xfrm>
            <a:off x="6477120" y="24066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Shape 253"/>
          <p:cNvSpPr/>
          <p:nvPr/>
        </p:nvSpPr>
        <p:spPr>
          <a:xfrm>
            <a:off x="6477120" y="21384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Shape 254"/>
          <p:cNvSpPr/>
          <p:nvPr/>
        </p:nvSpPr>
        <p:spPr>
          <a:xfrm>
            <a:off x="6477120" y="187020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Shape 255"/>
          <p:cNvSpPr/>
          <p:nvPr/>
        </p:nvSpPr>
        <p:spPr>
          <a:xfrm>
            <a:off x="6515280" y="1870200"/>
            <a:ext cx="360" cy="24555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Shape 256"/>
          <p:cNvSpPr/>
          <p:nvPr/>
        </p:nvSpPr>
        <p:spPr>
          <a:xfrm>
            <a:off x="6477120" y="4287960"/>
            <a:ext cx="234468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Shape 257"/>
          <p:cNvSpPr/>
          <p:nvPr/>
        </p:nvSpPr>
        <p:spPr>
          <a:xfrm>
            <a:off x="665964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Shape 258"/>
          <p:cNvSpPr/>
          <p:nvPr/>
        </p:nvSpPr>
        <p:spPr>
          <a:xfrm>
            <a:off x="680256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Shape 259"/>
          <p:cNvSpPr/>
          <p:nvPr/>
        </p:nvSpPr>
        <p:spPr>
          <a:xfrm>
            <a:off x="694836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Shape 260"/>
          <p:cNvSpPr/>
          <p:nvPr/>
        </p:nvSpPr>
        <p:spPr>
          <a:xfrm>
            <a:off x="709308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Shape 261"/>
          <p:cNvSpPr/>
          <p:nvPr/>
        </p:nvSpPr>
        <p:spPr>
          <a:xfrm>
            <a:off x="72360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Shape 262"/>
          <p:cNvSpPr/>
          <p:nvPr/>
        </p:nvSpPr>
        <p:spPr>
          <a:xfrm>
            <a:off x="738036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Shape 263"/>
          <p:cNvSpPr/>
          <p:nvPr/>
        </p:nvSpPr>
        <p:spPr>
          <a:xfrm>
            <a:off x="752472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Shape 264"/>
          <p:cNvSpPr/>
          <p:nvPr/>
        </p:nvSpPr>
        <p:spPr>
          <a:xfrm>
            <a:off x="766908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Shape 265"/>
          <p:cNvSpPr/>
          <p:nvPr/>
        </p:nvSpPr>
        <p:spPr>
          <a:xfrm>
            <a:off x="78138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Shape 266"/>
          <p:cNvSpPr/>
          <p:nvPr/>
        </p:nvSpPr>
        <p:spPr>
          <a:xfrm>
            <a:off x="795672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Shape 267"/>
          <p:cNvSpPr/>
          <p:nvPr/>
        </p:nvSpPr>
        <p:spPr>
          <a:xfrm>
            <a:off x="810108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Shape 268"/>
          <p:cNvSpPr/>
          <p:nvPr/>
        </p:nvSpPr>
        <p:spPr>
          <a:xfrm>
            <a:off x="824544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Shape 269"/>
          <p:cNvSpPr/>
          <p:nvPr/>
        </p:nvSpPr>
        <p:spPr>
          <a:xfrm>
            <a:off x="83898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Shape 270"/>
          <p:cNvSpPr/>
          <p:nvPr/>
        </p:nvSpPr>
        <p:spPr>
          <a:xfrm>
            <a:off x="853452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Shape 271"/>
          <p:cNvSpPr/>
          <p:nvPr/>
        </p:nvSpPr>
        <p:spPr>
          <a:xfrm>
            <a:off x="867744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Shape 272"/>
          <p:cNvSpPr/>
          <p:nvPr/>
        </p:nvSpPr>
        <p:spPr>
          <a:xfrm>
            <a:off x="8821800" y="4287960"/>
            <a:ext cx="360" cy="3780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0" y="120000"/>
                </a:lnTo>
              </a:path>
            </a:pathLst>
          </a:custGeom>
          <a:noFill/>
          <a:ln w="9360">
            <a:solidFill>
              <a:srgbClr val="87878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Shape 273"/>
          <p:cNvSpPr/>
          <p:nvPr/>
        </p:nvSpPr>
        <p:spPr>
          <a:xfrm>
            <a:off x="6588000" y="3057480"/>
            <a:ext cx="2162160" cy="65412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7949" y="108251"/>
                </a:lnTo>
                <a:lnTo>
                  <a:pt x="15983" y="97902"/>
                </a:lnTo>
                <a:lnTo>
                  <a:pt x="23932" y="80839"/>
                </a:lnTo>
                <a:lnTo>
                  <a:pt x="31966" y="77762"/>
                </a:lnTo>
                <a:lnTo>
                  <a:pt x="40000" y="71328"/>
                </a:lnTo>
                <a:lnTo>
                  <a:pt x="47949" y="64615"/>
                </a:lnTo>
                <a:lnTo>
                  <a:pt x="55983" y="67972"/>
                </a:lnTo>
                <a:lnTo>
                  <a:pt x="63932" y="57622"/>
                </a:lnTo>
                <a:lnTo>
                  <a:pt x="71966" y="46153"/>
                </a:lnTo>
                <a:lnTo>
                  <a:pt x="80000" y="36083"/>
                </a:lnTo>
                <a:lnTo>
                  <a:pt x="87949" y="27412"/>
                </a:lnTo>
                <a:lnTo>
                  <a:pt x="95983" y="25454"/>
                </a:lnTo>
                <a:lnTo>
                  <a:pt x="103932" y="18461"/>
                </a:lnTo>
                <a:lnTo>
                  <a:pt x="111966" y="7552"/>
                </a:ln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Shape 274"/>
          <p:cNvSpPr/>
          <p:nvPr/>
        </p:nvSpPr>
        <p:spPr>
          <a:xfrm>
            <a:off x="6588000" y="2087640"/>
            <a:ext cx="2162160" cy="6364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7949" y="106794"/>
                </a:lnTo>
                <a:lnTo>
                  <a:pt x="15983" y="80956"/>
                </a:lnTo>
                <a:lnTo>
                  <a:pt x="23932" y="71196"/>
                </a:lnTo>
                <a:lnTo>
                  <a:pt x="31966" y="71483"/>
                </a:lnTo>
                <a:lnTo>
                  <a:pt x="40000" y="58851"/>
                </a:lnTo>
                <a:lnTo>
                  <a:pt x="47949" y="48516"/>
                </a:lnTo>
                <a:lnTo>
                  <a:pt x="55983" y="37894"/>
                </a:lnTo>
                <a:lnTo>
                  <a:pt x="63932" y="36459"/>
                </a:lnTo>
                <a:lnTo>
                  <a:pt x="71966" y="31578"/>
                </a:lnTo>
                <a:lnTo>
                  <a:pt x="80000" y="26411"/>
                </a:lnTo>
                <a:lnTo>
                  <a:pt x="87949" y="24401"/>
                </a:lnTo>
                <a:lnTo>
                  <a:pt x="95983" y="26124"/>
                </a:lnTo>
                <a:lnTo>
                  <a:pt x="103932" y="24114"/>
                </a:lnTo>
                <a:lnTo>
                  <a:pt x="111966" y="12631"/>
                </a:ln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Shape 275"/>
          <p:cNvSpPr/>
          <p:nvPr/>
        </p:nvSpPr>
        <p:spPr>
          <a:xfrm>
            <a:off x="6588000" y="3059280"/>
            <a:ext cx="2162160" cy="69192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120000" h="120000">
                <a:moveTo>
                  <a:pt x="0" y="120000"/>
                </a:moveTo>
                <a:lnTo>
                  <a:pt x="7949" y="112863"/>
                </a:lnTo>
                <a:lnTo>
                  <a:pt x="15983" y="104669"/>
                </a:lnTo>
                <a:lnTo>
                  <a:pt x="23932" y="98061"/>
                </a:lnTo>
                <a:lnTo>
                  <a:pt x="31966" y="99647"/>
                </a:lnTo>
                <a:lnTo>
                  <a:pt x="40000" y="96211"/>
                </a:lnTo>
                <a:lnTo>
                  <a:pt x="47949" y="86167"/>
                </a:lnTo>
                <a:lnTo>
                  <a:pt x="55983" y="69515"/>
                </a:lnTo>
                <a:lnTo>
                  <a:pt x="63932" y="53920"/>
                </a:lnTo>
                <a:lnTo>
                  <a:pt x="71966" y="43348"/>
                </a:lnTo>
                <a:lnTo>
                  <a:pt x="80000" y="40440"/>
                </a:lnTo>
                <a:lnTo>
                  <a:pt x="87949" y="32511"/>
                </a:lnTo>
                <a:lnTo>
                  <a:pt x="95983" y="27224"/>
                </a:lnTo>
                <a:lnTo>
                  <a:pt x="103932" y="20088"/>
                </a:lnTo>
                <a:lnTo>
                  <a:pt x="111966" y="11101"/>
                </a:ln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Shape 276"/>
          <p:cNvSpPr/>
          <p:nvPr/>
        </p:nvSpPr>
        <p:spPr>
          <a:xfrm>
            <a:off x="6199200" y="4213080"/>
            <a:ext cx="2221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Shape 277"/>
          <p:cNvSpPr/>
          <p:nvPr/>
        </p:nvSpPr>
        <p:spPr>
          <a:xfrm>
            <a:off x="6199200" y="3943440"/>
            <a:ext cx="2221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Shape 278"/>
          <p:cNvSpPr/>
          <p:nvPr/>
        </p:nvSpPr>
        <p:spPr>
          <a:xfrm>
            <a:off x="6127920" y="367524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Shape 279"/>
          <p:cNvSpPr/>
          <p:nvPr/>
        </p:nvSpPr>
        <p:spPr>
          <a:xfrm>
            <a:off x="6127920" y="34066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Shape 280"/>
          <p:cNvSpPr/>
          <p:nvPr/>
        </p:nvSpPr>
        <p:spPr>
          <a:xfrm>
            <a:off x="6127920" y="3138480"/>
            <a:ext cx="2919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Shape 281"/>
          <p:cNvSpPr/>
          <p:nvPr/>
        </p:nvSpPr>
        <p:spPr>
          <a:xfrm>
            <a:off x="6127920" y="28684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Shape 282"/>
          <p:cNvSpPr/>
          <p:nvPr/>
        </p:nvSpPr>
        <p:spPr>
          <a:xfrm>
            <a:off x="6127920" y="26002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Shape 283"/>
          <p:cNvSpPr/>
          <p:nvPr/>
        </p:nvSpPr>
        <p:spPr>
          <a:xfrm>
            <a:off x="6127920" y="23320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3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Shape 284"/>
          <p:cNvSpPr/>
          <p:nvPr/>
        </p:nvSpPr>
        <p:spPr>
          <a:xfrm>
            <a:off x="6127920" y="20620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0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Shape 285"/>
          <p:cNvSpPr/>
          <p:nvPr/>
        </p:nvSpPr>
        <p:spPr>
          <a:xfrm>
            <a:off x="6127920" y="1793880"/>
            <a:ext cx="291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45%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Shape 286"/>
          <p:cNvSpPr/>
          <p:nvPr/>
        </p:nvSpPr>
        <p:spPr>
          <a:xfrm rot="16200000">
            <a:off x="7514280" y="3355200"/>
            <a:ext cx="31752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14000"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5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6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7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8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199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0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1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0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  <a:p>
            <a:pPr marL="1440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2025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Shape 287"/>
          <p:cNvSpPr/>
          <p:nvPr/>
        </p:nvSpPr>
        <p:spPr>
          <a:xfrm>
            <a:off x="6575400" y="4883040"/>
            <a:ext cx="2444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416f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Shape 288"/>
          <p:cNvSpPr/>
          <p:nvPr/>
        </p:nvSpPr>
        <p:spPr>
          <a:xfrm>
            <a:off x="6832440" y="4808520"/>
            <a:ext cx="45432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FRIC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Shape 289"/>
          <p:cNvSpPr/>
          <p:nvPr/>
        </p:nvSpPr>
        <p:spPr>
          <a:xfrm>
            <a:off x="7419960" y="4883040"/>
            <a:ext cx="24444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a842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Shape 290"/>
          <p:cNvSpPr/>
          <p:nvPr/>
        </p:nvSpPr>
        <p:spPr>
          <a:xfrm>
            <a:off x="7677000" y="4808520"/>
            <a:ext cx="2462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LAC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Shape 291"/>
          <p:cNvSpPr/>
          <p:nvPr/>
        </p:nvSpPr>
        <p:spPr>
          <a:xfrm>
            <a:off x="8056440" y="4883040"/>
            <a:ext cx="243000" cy="360"/>
          </a:xfrm>
          <a:custGeom>
            <a:avLst/>
            <a:gdLst/>
            <a:ahLst/>
            <a:rect l="l" t="t" r="r" b="b"/>
            <a:pathLst>
              <a:path w="120000" h="120000">
                <a:moveTo>
                  <a:pt x="0" y="0"/>
                </a:moveTo>
                <a:lnTo>
                  <a:pt x="120000" y="0"/>
                </a:lnTo>
              </a:path>
            </a:pathLst>
          </a:custGeom>
          <a:noFill/>
          <a:ln w="27360">
            <a:solidFill>
              <a:srgbClr val="86a4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Shape 292"/>
          <p:cNvSpPr/>
          <p:nvPr/>
        </p:nvSpPr>
        <p:spPr>
          <a:xfrm>
            <a:off x="8312040" y="4808520"/>
            <a:ext cx="3081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f5494"/>
                </a:solidFill>
                <a:latin typeface="Verdana"/>
              </a:rPr>
              <a:t>ASIA</a:t>
            </a:r>
            <a:endParaRPr b="0" lang="en-US" sz="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Shape 293"/>
          <p:cNvSpPr/>
          <p:nvPr/>
        </p:nvSpPr>
        <p:spPr>
          <a:xfrm>
            <a:off x="507960" y="6041880"/>
            <a:ext cx="319896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Source: UN World Urbanization Prospec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84391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  <a:ea typeface="Verdana"/>
              </a:rPr>
              <a:t>URBANISATION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Shape 300"/>
          <p:cNvSpPr/>
          <p:nvPr/>
        </p:nvSpPr>
        <p:spPr>
          <a:xfrm>
            <a:off x="0" y="9360"/>
            <a:ext cx="830268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urquoi un Développement Territorial? Inégalités croissantes et réponses inefficaces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Les limites des politiques </a:t>
            </a: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t</a:t>
            </a: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aditionnell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Verdana"/>
              </a:rPr>
              <a:t>qui visaient à corriger les disparités territoriales</a:t>
            </a:r>
            <a:r>
              <a:rPr b="0" i="1" lang="en-GB" sz="2000" spc="-1" strike="noStrike">
                <a:solidFill>
                  <a:srgbClr val="0070c0"/>
                </a:solidFill>
                <a:latin typeface="Verdana"/>
              </a:rPr>
              <a:t>, à traver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ne variété de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programmes de développement régionaux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(surtout concentrés sur des dépenses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’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infrastructures dans les zones les moins développées)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es dépenses pour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améliorer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</a:rPr>
              <a:t>les conditions sanitaires et de logement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ans les zones c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roissante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d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’habitat informel.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Verdana"/>
              </a:rPr>
              <a:t>Les problèmes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de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  <a:ea typeface="Verdana"/>
              </a:rPr>
              <a:t> ces politiques sont à la fois conceptuels et pratiques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strict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ement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top-down,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</a:rPr>
              <a:t>selon une logique sectorielle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,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au lieu d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’un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ensemble intégré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et l’absence d’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attention stratégique sur l’espace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00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des ressources nécessaires 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au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</a:rPr>
              <a:t>-</a:t>
            </a:r>
            <a:r>
              <a:rPr b="1" lang="en-GB" sz="18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élà des possibilités de dépense publique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 selon les contraintes de la discipline fiscale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hape 307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Shape 308"/>
          <p:cNvSpPr/>
          <p:nvPr/>
        </p:nvSpPr>
        <p:spPr>
          <a:xfrm>
            <a:off x="31680" y="0"/>
            <a:ext cx="86900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large consensus sur les caractéristiques de base du développement territori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Shape 309"/>
          <p:cNvSpPr/>
          <p:nvPr/>
        </p:nvSpPr>
        <p:spPr>
          <a:xfrm>
            <a:off x="250920" y="2060640"/>
            <a:ext cx="40114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Concerne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le développement du potentiel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global des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territoir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Shape 310"/>
          <p:cNvSpPr/>
          <p:nvPr/>
        </p:nvSpPr>
        <p:spPr>
          <a:xfrm>
            <a:off x="1760400" y="1190520"/>
            <a:ext cx="55040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Le concept de Développement Territorial (DT) n’est pas nouveau!!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Shape 311"/>
          <p:cNvSpPr/>
          <p:nvPr/>
        </p:nvSpPr>
        <p:spPr>
          <a:xfrm>
            <a:off x="5148360" y="2021040"/>
            <a:ext cx="35226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C’est une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approche basée sur le lieu: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le Territoire en tant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qu’ingrédient actif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, et non en tant que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éceptacle passif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du développement;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Ne vise pas à accomplir un seul objectif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  <a:ea typeface="Verdana"/>
              </a:rPr>
              <a:t>: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il ne s’agit pas de promouvoir uniquement la croissance économique, de développer des infrastructures ou  d’améliorer l’éducation .. Mais de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gérer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 stratégiquement les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elations (échanges et synergies) 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entre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roissance économique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,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inclusion sociale </a:t>
            </a:r>
            <a:r>
              <a:rPr b="0" lang="fr-BE" sz="1400" spc="-1" strike="noStrike">
                <a:solidFill>
                  <a:srgbClr val="000000"/>
                </a:solidFill>
                <a:latin typeface="Verdana"/>
                <a:ea typeface="Verdana"/>
              </a:rPr>
              <a:t>et </a:t>
            </a:r>
            <a:r>
              <a:rPr b="1" lang="fr-BE" sz="1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éveloppement durable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  <a:ea typeface="Verdana"/>
              </a:rPr>
              <a:t> 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77" name="Group 1"/>
          <p:cNvGrpSpPr/>
          <p:nvPr/>
        </p:nvGrpSpPr>
        <p:grpSpPr>
          <a:xfrm>
            <a:off x="4278240" y="3284640"/>
            <a:ext cx="459000" cy="2495520"/>
            <a:chOff x="4278240" y="3284640"/>
            <a:chExt cx="459000" cy="2495520"/>
          </a:xfrm>
        </p:grpSpPr>
        <p:sp>
          <p:nvSpPr>
            <p:cNvPr id="278" name="Shape 312"/>
            <p:cNvSpPr/>
            <p:nvPr/>
          </p:nvSpPr>
          <p:spPr>
            <a:xfrm rot="16200000">
              <a:off x="4226040" y="4052880"/>
              <a:ext cx="557280" cy="410760"/>
            </a:xfrm>
            <a:prstGeom prst="downArrow">
              <a:avLst>
                <a:gd name="adj1" fmla="val 50000"/>
                <a:gd name="adj2" fmla="val 43042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marL="3240" indent="-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279" name="Shape 313" descr=""/>
            <p:cNvPicPr/>
            <p:nvPr/>
          </p:nvPicPr>
          <p:blipFill>
            <a:blip r:embed="rId1"/>
            <a:stretch/>
          </p:blipFill>
          <p:spPr>
            <a:xfrm>
              <a:off x="4286880" y="3284640"/>
              <a:ext cx="45036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Shape 314" descr=""/>
            <p:cNvPicPr/>
            <p:nvPr/>
          </p:nvPicPr>
          <p:blipFill>
            <a:blip r:embed="rId2"/>
            <a:stretch/>
          </p:blipFill>
          <p:spPr>
            <a:xfrm>
              <a:off x="4284000" y="5085000"/>
              <a:ext cx="450360" cy="69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Shape 315" descr=""/>
            <p:cNvPicPr/>
            <p:nvPr/>
          </p:nvPicPr>
          <p:blipFill>
            <a:blip r:embed="rId3"/>
            <a:stretch/>
          </p:blipFill>
          <p:spPr>
            <a:xfrm>
              <a:off x="4278240" y="4523760"/>
              <a:ext cx="45036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Shape 316"/>
          <p:cNvSpPr/>
          <p:nvPr/>
        </p:nvSpPr>
        <p:spPr>
          <a:xfrm>
            <a:off x="174600" y="5219640"/>
            <a:ext cx="401148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our permettre des améliorations en matièr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d’inclusion sociale, de croissance économique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et d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développement durable.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Shape 317"/>
          <p:cNvSpPr/>
          <p:nvPr/>
        </p:nvSpPr>
        <p:spPr>
          <a:xfrm>
            <a:off x="179280" y="2892600"/>
            <a:ext cx="401184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fournissant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l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conditions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our un développement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authentique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,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bottom-up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t</a:t>
            </a:r>
            <a:r>
              <a:rPr b="1" lang="fr-BE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piloté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par les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acteurs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de ce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territoire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, 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qui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agissent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d</a:t>
            </a:r>
            <a:r>
              <a:rPr b="0" lang="fr-BE" sz="1800" spc="-1" strike="noStrike">
                <a:solidFill>
                  <a:srgbClr val="000000"/>
                </a:solidFill>
                <a:latin typeface="Verdana"/>
              </a:rPr>
              <a:t>e la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1800" spc="-1" strike="noStrike" u="sng">
                <a:solidFill>
                  <a:srgbClr val="0070c0"/>
                </a:solidFill>
                <a:uFillTx/>
                <a:latin typeface="Verdana"/>
              </a:rPr>
              <a:t>façon qu’ils préfèr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hape 333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rm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Shape 334"/>
          <p:cNvSpPr/>
          <p:nvPr/>
        </p:nvSpPr>
        <p:spPr>
          <a:xfrm>
            <a:off x="3024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L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’adjectif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“</a:t>
            </a:r>
            <a:r>
              <a:rPr b="1" lang="en-GB" sz="2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territorial”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 se réfère généralement au (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et/ou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) 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Shape 335"/>
          <p:cNvSpPr/>
          <p:nvPr/>
        </p:nvSpPr>
        <p:spPr>
          <a:xfrm>
            <a:off x="31680" y="0"/>
            <a:ext cx="8553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rincipales définitions actuelles du Développement Territori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Shape 336"/>
          <p:cNvSpPr/>
          <p:nvPr/>
        </p:nvSpPr>
        <p:spPr>
          <a:xfrm>
            <a:off x="282600" y="2241720"/>
            <a:ext cx="8424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Développement qui est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spatialement intégré</a:t>
            </a:r>
            <a:r>
              <a:rPr b="0" lang="fr-BE" sz="2400" spc="-1" strike="noStrike" u="sng">
                <a:solidFill>
                  <a:srgbClr val="0f5494"/>
                </a:solidFill>
                <a:uFillTx/>
                <a:latin typeface="Verdana"/>
                <a:ea typeface="Verdana"/>
              </a:rPr>
              <a:t>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Shape 337"/>
          <p:cNvSpPr/>
          <p:nvPr/>
        </p:nvSpPr>
        <p:spPr>
          <a:xfrm>
            <a:off x="395280" y="4197240"/>
            <a:ext cx="84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Développement 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  <a:ea typeface="Verdana"/>
              </a:rPr>
              <a:t>d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en-GB" sz="24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différents lieux à plusieurs échell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800280">
              <a:lnSpc>
                <a:spcPct val="100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Shape 338"/>
          <p:cNvSpPr/>
          <p:nvPr/>
        </p:nvSpPr>
        <p:spPr>
          <a:xfrm>
            <a:off x="142920" y="2712960"/>
            <a:ext cx="89298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[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en insistant sur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l’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importance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  <a:ea typeface="Verdana"/>
              </a:rPr>
              <a:t>de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prendre en compte les considérations physiques/environnementales et économiques/sociales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Verdana"/>
              </a:rPr>
              <a:t>et de dépasser la fragmentation entre les secteur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Shape 339"/>
          <p:cNvSpPr/>
          <p:nvPr/>
        </p:nvSpPr>
        <p:spPr>
          <a:xfrm>
            <a:off x="30240" y="4964040"/>
            <a:ext cx="84247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lvl="2" marL="26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[en insistant sur la</a:t>
            </a:r>
            <a:r>
              <a:rPr b="1" lang="fr-BE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multiplicité des échelles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à auxquelles le développement local peut être encouragé (local, urbain, métropolitain, régional, national, ou supranational) et sur leur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interdépendance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]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213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5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Oval 19"/>
          <p:cNvSpPr/>
          <p:nvPr/>
        </p:nvSpPr>
        <p:spPr>
          <a:xfrm rot="10800000">
            <a:off x="3924000" y="2133360"/>
            <a:ext cx="388764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Oval 19"/>
          <p:cNvSpPr/>
          <p:nvPr/>
        </p:nvSpPr>
        <p:spPr>
          <a:xfrm rot="10800000">
            <a:off x="2663640" y="4844880"/>
            <a:ext cx="388764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RODRIGUEZ BILBAO Jorge (DEVCO)</cp:lastModifiedBy>
  <cp:lastPrinted>2012-11-16T16:22:50Z</cp:lastPrinted>
  <dcterms:modified xsi:type="dcterms:W3CDTF">2015-11-20T16:03:01Z</dcterms:modified>
  <cp:revision>609</cp:revision>
  <dc:subject/>
  <dc:title>Slide 1</dc:title>
</cp:coreProperties>
</file>