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f6fc6"/>
                </a:solidFill>
                <a:latin typeface="Calibri"/>
              </a:rPr>
              <a:t>Click to move the slide</a:t>
            </a: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D1C4-8B0F-42BB-97A2-7265713649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E15A-50AE-42A0-827D-97570A54F4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03C5-2993-4D5B-9316-CBC2C110B7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0D70-997D-463C-8228-231EBF827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96BD-B3A4-452C-AF1C-6C7AF1DE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3EF1-1877-4808-BB61-AF0387F2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D556-CD8A-4AFB-8D93-F902252B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A57F-48EC-48C9-94B9-452EE42A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18AC-89F8-48EE-8927-DD6DF631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6CBC-DB47-4A9E-958A-F38D0681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B886-4585-4EBF-B561-0F5DA1A6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45CB-1242-40A1-87CC-DECE9CDF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82B5-D500-4F7F-9131-6BD1CFD3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9183-B0B1-4D58-AE2E-852697E4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811E-A229-44CB-A482-8789EE33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B004-B288-4B15-8629-53C64BA3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E916-69DF-4BEB-9772-4359F79D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A8A2-5DC8-4452-8F62-80561977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8642-6521-4176-8E0A-FB2C5A30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2922-BA2C-42F4-B6A2-5DD468E6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E17D-6442-49CF-BB53-6DEE83D1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9E50-49CE-487A-A015-2C6276F8C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36D3C-E064-4974-A019-4C4BBCA4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59798-3A59-4D49-8965-59F49A3B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45192-A1CD-471B-8D82-31B63053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C97B-10BC-4521-8318-CACB0AF0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F44F2-ADCC-46D4-AECA-D84EFCC4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AD467-A164-4399-BE5B-32D37872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F2B05-3103-4D9F-91E4-3E2CEEBF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4A005-3D59-4C23-9C42-4C4F4342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0FF6F-8EAA-44BE-B6D1-251FA8F5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B6423-3035-46BC-9995-BE6BF7A4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542C5-C0A7-4075-855B-7AA0B6F6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1436A-DC01-4A0F-960F-8E3E0AD9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206F9-2435-4B6F-A071-645AA2BE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7FF61-E436-4C8B-9BF7-C18D38F1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73DF-9A8B-4492-83B1-A14895FB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6C10E-E38D-49F6-886E-5CB14211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1037B-B28A-4012-8C45-EA0D73D7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0FFBE-642C-4AD5-B568-2C3B4246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A6E1B-B39C-4DD0-A106-076524B7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01CA4-F798-4B71-B61C-167AEE24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590DF-3795-4664-8F4B-74C60846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FCCF6-216B-42BD-855C-85A3E548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95129-9474-4F57-96F0-725768DF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144E3-7636-433E-A93D-CF88E513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69A69-4430-4133-9955-B9B8343F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E900-AF82-4397-8295-DFC4AD8B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F31A6-7470-4F13-A185-5D894DE2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3D19F-619C-4C9F-A1D6-A783B1A0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3138E-B65D-4C65-9AB6-64F36B66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0899A-2C36-4297-B40C-1AA6420F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69397-C1F8-41EA-A1A3-387983A0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D4281-728E-44EA-B333-D387C8F5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0A2A7-6BDD-4AE6-BF94-F7BADB88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F4769-9BBA-43B2-B872-B91CB2D6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4768E-6D7B-4E8D-8093-923B990D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DDC63-1003-4F89-A639-E7B1EB6B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910B-6B70-482D-B41C-10C71541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C2DF6-FB34-406E-8C19-52163292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73947-EBD6-4F5D-90E5-EA57A7B6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433F5-D38F-4A2C-BC2F-FFA1CA42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16E09-FA9E-457E-95C6-09249AB8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30FCC-04D8-4A91-87B1-E7C916F6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E6E7C-6B08-4C00-ABC1-5C9BD75B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A5971-4D00-435D-BEC9-6F137F4F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6DDDC-93AD-44A5-A308-28E0BACA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45777-6A9C-4B1C-9EFA-28879BF6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F1785-1018-422D-A6C0-E59361EB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8315-D540-4A10-9490-D7B6E31E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104D5-5224-4F23-9AFD-F51743E8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E74E7-9289-4B06-8154-C13112A8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1D54F-60B3-48D0-94C8-4700B7AF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4D282-3D66-4610-B101-86A62A56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CA220-A0AA-413B-B202-B41E48BC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6111-04FD-4BE8-8163-1829597F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f6fc6"/>
                </a:solidFill>
                <a:latin typeface="Calibri"/>
              </a:rPr>
              <a:t>Click to edit the title text format</a:t>
            </a: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461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4733-F322-4608-9762-9F56901CD6B1}" type="slidenum">
              <a:rPr b="0" lang="en-GB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800px-Flag_of_Europe_svg"/>
          <p:cNvPicPr/>
          <p:nvPr/>
        </p:nvPicPr>
        <p:blipFill>
          <a:blip r:embed="rId3"/>
          <a:stretch/>
        </p:blipFill>
        <p:spPr>
          <a:xfrm>
            <a:off x="7956720" y="6093000"/>
            <a:ext cx="841320" cy="563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" name="Picture 8" descr=""/>
          <p:cNvPicPr/>
          <p:nvPr/>
        </p:nvPicPr>
        <p:blipFill>
          <a:blip r:embed="rId4"/>
          <a:stretch/>
        </p:blipFill>
        <p:spPr>
          <a:xfrm>
            <a:off x="0" y="6199200"/>
            <a:ext cx="7308720" cy="45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f6fc6"/>
                </a:solidFill>
                <a:latin typeface="Calibri"/>
              </a:rPr>
              <a:t>Click to edit the title text format</a:t>
            </a: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461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lowchart: Document 9"/>
          <p:cNvSpPr/>
          <p:nvPr/>
        </p:nvSpPr>
        <p:spPr>
          <a:xfrm>
            <a:off x="0" y="0"/>
            <a:ext cx="9144000" cy="162864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76a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f6fc6"/>
                </a:solidFill>
                <a:latin typeface="Calibri"/>
              </a:rPr>
              <a:t>Click to edit the title text format</a:t>
            </a: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461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937D-474D-4E88-9607-2CEAC0CCDD3B}" type="slidenum">
              <a:rPr b="0" lang="en-GB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lowchart: Document 7"/>
          <p:cNvSpPr/>
          <p:nvPr/>
        </p:nvSpPr>
        <p:spPr>
          <a:xfrm>
            <a:off x="0" y="0"/>
            <a:ext cx="9144000" cy="1628640"/>
          </a:xfrm>
          <a:prstGeom prst="flowChartDocument">
            <a:avLst/>
          </a:prstGeom>
          <a:solidFill>
            <a:srgbClr val="c8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f6fc6"/>
                </a:solidFill>
                <a:latin typeface="Calibri"/>
              </a:rPr>
              <a:t>Click to edit the title text format</a:t>
            </a: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461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0E3D-6F8E-4A7D-9716-46B24CEA51D9}" type="slidenum">
              <a:rPr b="0" lang="en-GB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lowchart: Document 9"/>
          <p:cNvSpPr/>
          <p:nvPr/>
        </p:nvSpPr>
        <p:spPr>
          <a:xfrm>
            <a:off x="0" y="0"/>
            <a:ext cx="9144000" cy="1628640"/>
          </a:xfrm>
          <a:prstGeom prst="flowChartDocument">
            <a:avLst/>
          </a:prstGeom>
          <a:solidFill>
            <a:srgbClr val="c8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f6fc6"/>
                </a:solidFill>
                <a:latin typeface="Calibri"/>
              </a:rPr>
              <a:t>Click to edit the title text format</a:t>
            </a: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461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22E7-14EA-43FB-9981-27FD5C178F04}" type="slidenum">
              <a:rPr b="0" lang="en-GB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lowchart: Document 5"/>
          <p:cNvSpPr/>
          <p:nvPr/>
        </p:nvSpPr>
        <p:spPr>
          <a:xfrm>
            <a:off x="0" y="0"/>
            <a:ext cx="9144000" cy="1628640"/>
          </a:xfrm>
          <a:prstGeom prst="flowChartDocument">
            <a:avLst/>
          </a:prstGeom>
          <a:solidFill>
            <a:srgbClr val="c8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f6fc6"/>
                </a:solidFill>
                <a:latin typeface="Calibri"/>
              </a:rPr>
              <a:t>Click to edit the title text format</a:t>
            </a: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461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4F69-ABE9-471E-9E81-F3DA5994E04C}" type="slidenum">
              <a:rPr b="0" lang="en-GB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f6fc6"/>
                </a:solidFill>
                <a:latin typeface="Calibri"/>
              </a:rPr>
              <a:t>Click to edit the title text format</a:t>
            </a: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461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BDEA-E043-41F2-824C-6CD0DE8A900E}" type="slidenum">
              <a:rPr b="0" lang="cs-CZ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79280" y="4652640"/>
            <a:ext cx="878544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спользование экономических инструментов для обеспечения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устойчивого развития  транспорта в городах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Кишинев, Молдова, 21-22 сентября 2014 г.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8" name="Title 7" descr=""/>
          <p:cNvPicPr/>
          <p:nvPr/>
        </p:nvPicPr>
        <p:blipFill>
          <a:blip r:embed="rId1"/>
          <a:stretch/>
        </p:blipFill>
        <p:spPr>
          <a:xfrm>
            <a:off x="139680" y="249120"/>
            <a:ext cx="8974080" cy="4073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b5395"/>
                </a:solidFill>
                <a:latin typeface="Calibri"/>
              </a:rPr>
              <a:t>Выбросы загрязняющих веществ в атмосферный воздух по регионам</a:t>
            </a:r>
            <a:endParaRPr b="0" i="1" lang="en-US" sz="2900" spc="-1" strike="noStrike">
              <a:solidFill>
                <a:srgbClr val="0f6fc6"/>
              </a:solidFill>
              <a:latin typeface="Calibri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58920" y="1341360"/>
          <a:ext cx="6481800" cy="5405400"/>
        </p:xfrm>
        <a:graphic>
          <a:graphicData uri="http://schemas.openxmlformats.org/drawingml/2006/table">
            <a:tbl>
              <a:tblPr/>
              <a:tblGrid>
                <a:gridCol w="2195640"/>
                <a:gridCol w="1141200"/>
                <a:gridCol w="1143000"/>
                <a:gridCol w="1049400"/>
                <a:gridCol w="952560"/>
              </a:tblGrid>
              <a:tr h="185760"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гион, обла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ационарные источники выброс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втомобильный тран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ыс. тон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к ито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ыс. тон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к ито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кра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9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6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втономная Республика Кры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нниц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лын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непропетр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6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нец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Житомир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карпат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6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порож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вано-Франк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ие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6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ировоград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уган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ьв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иколае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6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дес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та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овен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6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ум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рнополь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ьк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6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ерсон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мельниц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еркас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ерновиц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6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ерниг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. Кие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. Севастопол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920" y="1170000"/>
            <a:ext cx="8229600" cy="41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b5395"/>
                </a:solidFill>
                <a:latin typeface="Calibri"/>
              </a:rPr>
              <a:t>Украина присоединилась к Женевскому соглашению                                                  1958 года в 2000 году. </a:t>
            </a:r>
            <a:br>
              <a:rPr sz="1800"/>
            </a:br>
            <a:endParaRPr b="0" i="1" lang="en-US" sz="18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17840"/>
            <a:ext cx="82296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2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4617b"/>
                </a:solidFill>
                <a:latin typeface="Calibri"/>
              </a:rPr>
              <a:t>Согласно Закона  Украины «О некоторых вопросах ввоза на таможенную территорию Украины и регистрации транспортных средств»:</a:t>
            </a:r>
            <a:r>
              <a:rPr b="0" lang="en-US" sz="13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4617b"/>
                </a:solidFill>
                <a:latin typeface="Calibri"/>
              </a:rPr>
              <a:t>Пропуск на таможенную территорию Украины с целью свободного обращения и первую регистрацию в Украине транспортных средств по кодам товарных позиций 8701 20, 8702, 8703, 8704, 8705 согласно УКТ ВЭД как произведенных в Украине, так и ввезенных на таможенную территорию Украины, новых и бывших в  употреблении, осуществляется при условии их соответствия экологическим нормам:</a:t>
            </a:r>
            <a:endParaRPr b="0" lang="en-US" sz="13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 algn="just">
              <a:spcBef>
                <a:spcPts val="32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4617b"/>
                </a:solidFill>
                <a:latin typeface="Calibri"/>
              </a:rPr>
              <a:t>не ниже уровня </a:t>
            </a:r>
            <a:r>
              <a:rPr b="1" lang="ru-RU" sz="1300" spc="-1" strike="noStrike">
                <a:solidFill>
                  <a:srgbClr val="04617b"/>
                </a:solidFill>
                <a:latin typeface="Calibri"/>
              </a:rPr>
              <a:t>«ЕВРО-3» - с 1 января 2013 года</a:t>
            </a:r>
            <a:r>
              <a:rPr b="0" lang="ru-RU" sz="1300" spc="-1" strike="noStrike">
                <a:solidFill>
                  <a:srgbClr val="04617b"/>
                </a:solidFill>
                <a:latin typeface="Calibri"/>
              </a:rPr>
              <a:t>, за исключением транспортных средств, произведенных в Украине или ввезенных на таможенную территорию Украины до даты введения экологических норм не ниже уровня "ЕВРО-3" в качестве обязательных;</a:t>
            </a:r>
            <a:endParaRPr b="0" lang="en-US" sz="13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 algn="just">
              <a:spcBef>
                <a:spcPts val="32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4617b"/>
                </a:solidFill>
                <a:latin typeface="Calibri"/>
              </a:rPr>
              <a:t>не ниже уровня </a:t>
            </a:r>
            <a:r>
              <a:rPr b="1" lang="ru-RU" sz="1300" spc="-1" strike="noStrike">
                <a:solidFill>
                  <a:srgbClr val="04617b"/>
                </a:solidFill>
                <a:latin typeface="Calibri"/>
              </a:rPr>
              <a:t>«ЕВРО-4» - с 1 января 2014 года</a:t>
            </a:r>
            <a:r>
              <a:rPr b="0" lang="ru-RU" sz="1300" spc="-1" strike="noStrike">
                <a:solidFill>
                  <a:srgbClr val="04617b"/>
                </a:solidFill>
                <a:latin typeface="Calibri"/>
              </a:rPr>
              <a:t>, за исключением транспортных средств, произведенных в Украине или ввезенных на таможенную территорию Украины до даты введения экологических норм не ниже уровня "ЕВРО-4" в качестве обязательных;</a:t>
            </a:r>
            <a:endParaRPr b="0" lang="en-US" sz="13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 algn="just">
              <a:spcBef>
                <a:spcPts val="32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4617b"/>
                </a:solidFill>
                <a:latin typeface="Calibri"/>
              </a:rPr>
              <a:t>не ниже уровня </a:t>
            </a:r>
            <a:r>
              <a:rPr b="1" lang="ru-RU" sz="1300" spc="-1" strike="noStrike">
                <a:solidFill>
                  <a:srgbClr val="04617b"/>
                </a:solidFill>
                <a:latin typeface="Calibri"/>
              </a:rPr>
              <a:t>«ЕВРО-5»- с 1 января 2016 года</a:t>
            </a:r>
            <a:r>
              <a:rPr b="0" lang="ru-RU" sz="1300" spc="-1" strike="noStrike">
                <a:solidFill>
                  <a:srgbClr val="04617b"/>
                </a:solidFill>
                <a:latin typeface="Calibri"/>
              </a:rPr>
              <a:t>, за исключением транспортных средств, произведенных в Украине или ввезенных на таможенную территорию Украины до 31 декабря 2015 года включительно;</a:t>
            </a:r>
            <a:endParaRPr b="0" lang="en-US" sz="13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 algn="just">
              <a:spcBef>
                <a:spcPts val="32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4617b"/>
                </a:solidFill>
                <a:latin typeface="Calibri"/>
              </a:rPr>
              <a:t>не ниже уровня </a:t>
            </a:r>
            <a:r>
              <a:rPr b="1" lang="ru-RU" sz="1300" spc="-1" strike="noStrike">
                <a:solidFill>
                  <a:srgbClr val="04617b"/>
                </a:solidFill>
                <a:latin typeface="Calibri"/>
              </a:rPr>
              <a:t>«ЕВРО-6» - с 1 января 2018 года</a:t>
            </a:r>
            <a:r>
              <a:rPr b="0" lang="ru-RU" sz="1300" spc="-1" strike="noStrike">
                <a:solidFill>
                  <a:srgbClr val="04617b"/>
                </a:solidFill>
                <a:latin typeface="Calibri"/>
              </a:rPr>
              <a:t>, за исключением транспортных средств, произведенных в Украине или ввезенных на таможенную территорию Украины до 31 декабря 2017 года включительно».</a:t>
            </a:r>
            <a:endParaRPr b="0" lang="en-US" sz="13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79600" y="1488600"/>
            <a:ext cx="8229600" cy="19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b5395"/>
                </a:solidFill>
                <a:latin typeface="Calibri"/>
              </a:rPr>
              <a:t>Постановлением Кабинета Министров Украины от 1 августа 2013 года (№ 927) утвержден Технический регламент в отношении требований к автомобильным бензинам, дизельному, судовому и котельному топливам и план мероприятий по его применению, который устанавливает требования ко всем вышеперечисленным видам топлив, которые производятся, вводятся в обращение и реализуются на территории Украины </a:t>
            </a:r>
            <a:br>
              <a:rPr sz="1800"/>
            </a:br>
            <a:endParaRPr b="0" i="1" lang="en-US" sz="18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400" y="3288960"/>
            <a:ext cx="822960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Регламент устанавливает следующие конечные сроки введения в обращение автомобильных бензинов и дизельного топлива: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экологического класса «Евро-3» - до 31 декабря 2015 года;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экологического класса «Евро-4» - до 31 декабря 2017 года;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экологического класса «Евро-5» - пока не ограничен.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684360" y="620640"/>
            <a:ext cx="82296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Запрещается использование в автомобильных бензинах добавок, имеющих в своем составе хотя бы один из следующих компонентов: фосфор, соединения свинца и железа, ароматические амины (монометиланилины, моноэтиланилины и т.п.)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01680" indent="-301680" algn="just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Также запрещается с 1 января 2017 года использование в автомобильных бензинах экологического класса Евро-5 добавок с концентрацией марганца более 6 мг/дм</a:t>
            </a:r>
            <a:r>
              <a:rPr b="0" lang="ru-RU" sz="2000" spc="-1" strike="noStrike" baseline="30000">
                <a:solidFill>
                  <a:srgbClr val="04617b"/>
                </a:solidFill>
                <a:latin typeface="Calibri"/>
              </a:rPr>
              <a:t>3 </a:t>
            </a: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01680" indent="-30168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Регламент вводит требование, согласно которому новые виды добавок к моторным топливам для автотранспорта могут вводиться при условии, что они не ухудшают эксплуатационных показателей топлива, не влияют отрицательно на экологические, энергетические и экономические показатели двигателей, что должно быть подтверждено результатами испытаний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01680" indent="-301680" algn="just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Также вводится новая маркировка топлив с целью надлежащего информирования потребителей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01680" indent="-301680" algn="just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Регламент вступит в силу с 10 июля 2014 года.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Контроль, государственный учет и  мониторинг</a:t>
            </a:r>
            <a:br>
              <a:rPr sz="2800"/>
            </a:br>
            <a:endParaRPr b="0" i="1" lang="en-US" sz="2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dd9"/>
                </a:solidFill>
                <a:latin typeface="Calibri"/>
              </a:rPr>
              <a:t>Мониторинг качества атмосферного воздуха проводится на базовой сети наблюдений Госкомгидромета  в 53 городах Украины на 162 стационарных постах.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dd9"/>
                </a:solidFill>
                <a:latin typeface="Calibri"/>
              </a:rPr>
              <a:t>Программа обязательного мониторинга предусматривает ежедневный 4-х кратный </a:t>
            </a:r>
            <a:r>
              <a:rPr b="0" i="1" lang="ru-RU" sz="1800" spc="-1" strike="noStrike">
                <a:solidFill>
                  <a:srgbClr val="009dd9"/>
                </a:solidFill>
                <a:latin typeface="Calibri"/>
              </a:rPr>
              <a:t>(1, 7, 13, 19 часов)</a:t>
            </a:r>
            <a:r>
              <a:rPr b="0" lang="ru-RU" sz="1800" spc="-1" strike="noStrike">
                <a:solidFill>
                  <a:srgbClr val="009dd9"/>
                </a:solidFill>
                <a:latin typeface="Calibri"/>
              </a:rPr>
              <a:t> отбор проб и контроль состояния атмосферного воздуха по 31 веществу.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dd9"/>
                </a:solidFill>
                <a:latin typeface="Calibri"/>
              </a:rPr>
              <a:t>Следует отметить, что в последнее время возрастает интерес местных органов власти к вопросам качества атмосферного воздуха. Так, в 2009 году муниципальными властями г. Одессы приобретен и введен в действие автоматический пост наблюдения за состоянием атмосферного воздуха в городе. 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dd9"/>
                </a:solidFill>
                <a:latin typeface="Calibri"/>
              </a:rPr>
              <a:t>В соответствии с действующим законодательством предусмотрено проведение беспрерывного мониторинга на стационарных источниках больших энергетических установок новых, реконструированных и модернизированных, с 2007 года, а для существующих источников с 2014 года. На сегодняшний день беспрерывный мониторинг существует на двух крупных ТЭЦ (Бурштынская, Змиевская)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f6fc6"/>
                </a:solidFill>
                <a:latin typeface="Calibri"/>
              </a:rPr>
              <a:t>Станции метрополитена, г.Киев</a:t>
            </a:r>
            <a:endParaRPr b="0" i="1" lang="en-US" sz="3600" spc="-1" strike="noStrike">
              <a:solidFill>
                <a:srgbClr val="0f6fc6"/>
              </a:solidFill>
              <a:latin typeface="Calibri"/>
            </a:endParaRPr>
          </a:p>
        </p:txBody>
      </p:sp>
      <p:pic>
        <p:nvPicPr>
          <p:cNvPr id="335" name="Місце для вмісту 6" descr=""/>
          <p:cNvPicPr/>
          <p:nvPr/>
        </p:nvPicPr>
        <p:blipFill>
          <a:blip r:embed="rId1"/>
          <a:stretch/>
        </p:blipFill>
        <p:spPr>
          <a:xfrm>
            <a:off x="4427640" y="2349360"/>
            <a:ext cx="4543200" cy="3029040"/>
          </a:xfrm>
          <a:prstGeom prst="rect">
            <a:avLst/>
          </a:prstGeom>
          <a:ln w="0">
            <a:noFill/>
          </a:ln>
        </p:spPr>
      </p:pic>
      <p:pic>
        <p:nvPicPr>
          <p:cNvPr id="336" name="Місце для вмісту 7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f6fc6"/>
                </a:solidFill>
                <a:latin typeface="Calibri"/>
              </a:rPr>
              <a:t>Станции метрополитена, г.Киев</a:t>
            </a:r>
            <a:endParaRPr b="0" i="1" lang="en-US" sz="3600" spc="-1" strike="noStrike">
              <a:solidFill>
                <a:srgbClr val="0f6fc6"/>
              </a:solidFill>
              <a:latin typeface="Calibri"/>
            </a:endParaRPr>
          </a:p>
        </p:txBody>
      </p:sp>
      <p:pic>
        <p:nvPicPr>
          <p:cNvPr id="338" name="Місце для вмісту 4" descr=""/>
          <p:cNvPicPr/>
          <p:nvPr/>
        </p:nvPicPr>
        <p:blipFill>
          <a:blip r:embed="rId1"/>
          <a:stretch/>
        </p:blipFill>
        <p:spPr>
          <a:xfrm>
            <a:off x="250920" y="2521080"/>
            <a:ext cx="4182840" cy="2779560"/>
          </a:xfrm>
          <a:prstGeom prst="rect">
            <a:avLst/>
          </a:prstGeom>
          <a:ln w="0">
            <a:noFill/>
          </a:ln>
        </p:spPr>
      </p:pic>
      <p:pic>
        <p:nvPicPr>
          <p:cNvPr id="339" name="Місце для вмісту 5" descr=""/>
          <p:cNvPicPr/>
          <p:nvPr/>
        </p:nvPicPr>
        <p:blipFill>
          <a:blip r:embed="rId2"/>
          <a:stretch/>
        </p:blipFill>
        <p:spPr>
          <a:xfrm>
            <a:off x="4643280" y="2546280"/>
            <a:ext cx="42498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f6fc6"/>
                </a:solidFill>
                <a:latin typeface="Calibri"/>
              </a:rPr>
              <a:t>Почтовая площадь г.Киев</a:t>
            </a:r>
            <a:endParaRPr b="0" i="1" lang="en-US" sz="3600" spc="-1" strike="noStrike">
              <a:solidFill>
                <a:srgbClr val="0f6fc6"/>
              </a:solidFill>
              <a:latin typeface="Calibri"/>
            </a:endParaRPr>
          </a:p>
        </p:txBody>
      </p:sp>
      <p:pic>
        <p:nvPicPr>
          <p:cNvPr id="341" name="Місце для вмісту 2" descr=""/>
          <p:cNvPicPr/>
          <p:nvPr/>
        </p:nvPicPr>
        <p:blipFill>
          <a:blip r:embed="rId1"/>
          <a:stretch/>
        </p:blipFill>
        <p:spPr>
          <a:xfrm>
            <a:off x="179280" y="234792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342" name="Місце для вмісту 5" descr=""/>
          <p:cNvPicPr/>
          <p:nvPr/>
        </p:nvPicPr>
        <p:blipFill>
          <a:blip r:embed="rId2"/>
          <a:stretch/>
        </p:blipFill>
        <p:spPr>
          <a:xfrm>
            <a:off x="4319640" y="2347920"/>
            <a:ext cx="4695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f6fc6"/>
                </a:solidFill>
                <a:latin typeface="Calibri"/>
              </a:rPr>
              <a:t>Развязка «Турбина» у моста Патона г.Киев</a:t>
            </a:r>
            <a:endParaRPr b="0" i="1" lang="en-US" sz="3600" spc="-1" strike="noStrike">
              <a:solidFill>
                <a:srgbClr val="0f6fc6"/>
              </a:solidFill>
              <a:latin typeface="Calibri"/>
            </a:endParaRPr>
          </a:p>
        </p:txBody>
      </p:sp>
      <p:pic>
        <p:nvPicPr>
          <p:cNvPr id="344" name="Місце для вмісту 4" descr=""/>
          <p:cNvPicPr/>
          <p:nvPr/>
        </p:nvPicPr>
        <p:blipFill>
          <a:blip r:embed="rId1"/>
          <a:stretch/>
        </p:blipFill>
        <p:spPr>
          <a:xfrm>
            <a:off x="457200" y="2525760"/>
            <a:ext cx="4038480" cy="2674800"/>
          </a:xfrm>
          <a:prstGeom prst="rect">
            <a:avLst/>
          </a:prstGeom>
          <a:ln w="0">
            <a:noFill/>
          </a:ln>
        </p:spPr>
      </p:pic>
      <p:pic>
        <p:nvPicPr>
          <p:cNvPr id="345" name="Місце для вмісту 5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b5395"/>
                </a:solidFill>
                <a:latin typeface="Calibri"/>
              </a:rPr>
              <a:t>Московская площадь, г.Киев</a:t>
            </a:r>
            <a:br>
              <a:rPr sz="4000"/>
            </a:br>
            <a:r>
              <a:rPr b="0" i="1" lang="ru-RU" sz="3200" spc="-1" strike="noStrike">
                <a:solidFill>
                  <a:srgbClr val="0b5395"/>
                </a:solidFill>
                <a:latin typeface="Calibri"/>
              </a:rPr>
              <a:t>(после реконструкции)</a:t>
            </a:r>
            <a:endParaRPr b="0" i="1" lang="en-US" sz="3200" spc="-1" strike="noStrike">
              <a:solidFill>
                <a:srgbClr val="0f6fc6"/>
              </a:solidFill>
              <a:latin typeface="Calibri"/>
            </a:endParaRPr>
          </a:p>
        </p:txBody>
      </p:sp>
      <p:pic>
        <p:nvPicPr>
          <p:cNvPr id="347" name="Місце для вмісту 6" descr=""/>
          <p:cNvPicPr/>
          <p:nvPr/>
        </p:nvPicPr>
        <p:blipFill>
          <a:blip r:embed="rId1"/>
          <a:stretch/>
        </p:blipFill>
        <p:spPr>
          <a:xfrm>
            <a:off x="966960" y="1773360"/>
            <a:ext cx="721008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5"/>
          <p:cNvSpPr/>
          <p:nvPr/>
        </p:nvSpPr>
        <p:spPr>
          <a:xfrm>
            <a:off x="585720" y="477720"/>
            <a:ext cx="7920000" cy="642600"/>
          </a:xfrm>
          <a:prstGeom prst="rect">
            <a:avLst/>
          </a:prstGeom>
          <a:gradFill rotWithShape="0">
            <a:gsLst>
              <a:gs pos="0">
                <a:srgbClr val="acd4f9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Bookman Old Style"/>
              </a:rPr>
              <a:t>Укра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848304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10BE-F890-4121-8F84-24E3AC2C2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468360" y="1125360"/>
            <a:ext cx="887580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Население -  45,426 млн. человек 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(75,3 чел./кв. км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Из них городское население – 31,336 млн. человек 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(69 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Город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900000" y="3213000"/>
          <a:ext cx="6167520" cy="2529000"/>
        </p:xfrm>
        <a:graphic>
          <a:graphicData uri="http://schemas.openxmlformats.org/drawingml/2006/table">
            <a:tbl>
              <a:tblPr/>
              <a:tblGrid>
                <a:gridCol w="3083040"/>
                <a:gridCol w="308448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селение (диапазон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ыс.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городов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ьше 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Киев, Харьков, Одесс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500 до 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100 до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Днепропетровск, Днепродзержинск, Запорожье, Кривой Рог, Льв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f6fc6"/>
                </a:solidFill>
                <a:latin typeface="Calibri"/>
              </a:rPr>
              <a:t>Транспортная развязка у моста Метро </a:t>
            </a:r>
            <a:r>
              <a:rPr b="0" i="1" lang="ru-RU" sz="2800" spc="-1" strike="noStrike">
                <a:solidFill>
                  <a:srgbClr val="0f6fc6"/>
                </a:solidFill>
                <a:latin typeface="Calibri"/>
              </a:rPr>
              <a:t>(правый берег)</a:t>
            </a:r>
            <a:endParaRPr b="0" i="1" lang="en-US" sz="2800" spc="-1" strike="noStrike">
              <a:solidFill>
                <a:srgbClr val="0f6fc6"/>
              </a:solidFill>
              <a:latin typeface="Calibri"/>
            </a:endParaRPr>
          </a:p>
        </p:txBody>
      </p:sp>
      <p:pic>
        <p:nvPicPr>
          <p:cNvPr id="349" name="Місце для вмісту 5" descr=""/>
          <p:cNvPicPr/>
          <p:nvPr/>
        </p:nvPicPr>
        <p:blipFill>
          <a:blip r:embed="rId1"/>
          <a:stretch/>
        </p:blipFill>
        <p:spPr>
          <a:xfrm>
            <a:off x="1554120" y="1844640"/>
            <a:ext cx="603576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f6fc6"/>
                </a:solidFill>
                <a:latin typeface="Calibri"/>
              </a:rPr>
              <a:t>Перспектива: реконструкция развязки на пересечении просп.Победы и ул.Е.Телиги возле станции метро </a:t>
            </a:r>
            <a:r>
              <a:rPr b="0" i="1" lang="en-US" sz="2400" spc="-1" strike="noStrike">
                <a:solidFill>
                  <a:srgbClr val="0f6fc6"/>
                </a:solidFill>
                <a:latin typeface="Calibri"/>
              </a:rPr>
              <a:t>“</a:t>
            </a:r>
            <a:r>
              <a:rPr b="0" i="1" lang="uk-UA" sz="2400" spc="-1" strike="noStrike">
                <a:solidFill>
                  <a:srgbClr val="0f6fc6"/>
                </a:solidFill>
                <a:latin typeface="Calibri"/>
              </a:rPr>
              <a:t>Шулявка</a:t>
            </a:r>
            <a:r>
              <a:rPr b="0" i="1" lang="en-US" sz="2400" spc="-1" strike="noStrike">
                <a:solidFill>
                  <a:srgbClr val="0f6fc6"/>
                </a:solidFill>
                <a:latin typeface="Calibri"/>
              </a:rPr>
              <a:t>”</a:t>
            </a:r>
            <a:endParaRPr b="0" i="1" lang="en-US" sz="2400" spc="-1" strike="noStrike">
              <a:solidFill>
                <a:srgbClr val="0f6fc6"/>
              </a:solidFill>
              <a:latin typeface="Calibri"/>
            </a:endParaRPr>
          </a:p>
        </p:txBody>
      </p:sp>
      <p:pic>
        <p:nvPicPr>
          <p:cNvPr id="351" name="Місце для вмісту 3" descr=""/>
          <p:cNvPicPr/>
          <p:nvPr/>
        </p:nvPicPr>
        <p:blipFill>
          <a:blip r:embed="rId1"/>
          <a:stretch/>
        </p:blipFill>
        <p:spPr>
          <a:xfrm>
            <a:off x="1511280" y="1989000"/>
            <a:ext cx="612144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b5395"/>
                </a:solidFill>
                <a:latin typeface="Times New Roman"/>
              </a:rPr>
              <a:t>Пути решения проблем загрязнения окружающей среды передвижными источниками</a:t>
            </a:r>
            <a:r>
              <a:rPr b="0" i="1" lang="uk-UA" sz="4000" spc="-1" strike="noStrike">
                <a:solidFill>
                  <a:srgbClr val="0b5395"/>
                </a:solidFill>
                <a:latin typeface="Calibri"/>
              </a:rPr>
              <a:t> </a:t>
            </a:r>
            <a:endParaRPr b="0" i="1" lang="en-US" sz="40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Комплекс мероприятий, в частности: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регулирование двигателей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переход на экологическое топливо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dd9"/>
                </a:solidFill>
                <a:latin typeface="Times New Roman"/>
              </a:rPr>
              <a:t>увеличение доли альтернативных топли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полное исключение использования этилированного бензина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использование нейтрализаторов токсичных выхлопо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внедрение экологических норм автомобильны</a:t>
            </a:r>
            <a:r>
              <a:rPr b="0" lang="ru-RU" sz="2000" spc="-1" strike="noStrike">
                <a:solidFill>
                  <a:srgbClr val="009dd9"/>
                </a:solidFill>
                <a:latin typeface="Times New Roman"/>
              </a:rPr>
              <a:t>х</a:t>
            </a: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 бензин</a:t>
            </a:r>
            <a:r>
              <a:rPr b="0" lang="ru-RU" sz="2000" spc="-1" strike="noStrike">
                <a:solidFill>
                  <a:srgbClr val="009dd9"/>
                </a:solidFill>
                <a:latin typeface="Times New Roman"/>
              </a:rPr>
              <a:t>ов </a:t>
            </a: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и дизельны</a:t>
            </a:r>
            <a:r>
              <a:rPr b="0" lang="ru-RU" sz="2000" spc="-1" strike="noStrike">
                <a:solidFill>
                  <a:srgbClr val="009dd9"/>
                </a:solidFill>
                <a:latin typeface="Times New Roman"/>
              </a:rPr>
              <a:t>х</a:t>
            </a: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 топлив уровня Евро-3, Евро-4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dd9"/>
                </a:solidFill>
                <a:latin typeface="Times New Roman"/>
              </a:rPr>
              <a:t>усиление контроля за </a:t>
            </a: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соблюдением установленных нормативов содержания загрязняющих веществ в отработанных газах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471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e1"/>
                </a:solidFill>
                <a:latin typeface="Eras Light ITC"/>
              </a:rPr>
              <a:t>Спасибо за внимание.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e1"/>
                </a:solidFill>
                <a:latin typeface="Eras Light ITC"/>
              </a:rPr>
              <a:t>Вопросы</a:t>
            </a:r>
            <a:r>
              <a:rPr b="1" lang="en-US" sz="4000" spc="-1" strike="noStrike">
                <a:solidFill>
                  <a:srgbClr val="ffffe1"/>
                </a:solidFill>
                <a:latin typeface="Eras Light ITC"/>
              </a:rPr>
              <a:t>?</a:t>
            </a:r>
            <a:endParaRPr b="0" i="1" lang="en-US" sz="4000" spc="-1" strike="noStrike">
              <a:solidFill>
                <a:srgbClr val="0f6fc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f6fc6"/>
                </a:solidFill>
                <a:latin typeface="Calibri"/>
              </a:rPr>
              <a:t>Города Украины с количеством населения более 200 тыс. человек</a:t>
            </a:r>
            <a:endParaRPr b="0" i="1" lang="en-US" sz="3200" spc="-1" strike="noStrike">
              <a:solidFill>
                <a:srgbClr val="0f6fc6"/>
              </a:solidFill>
              <a:latin typeface="Calibri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457200" y="1839960"/>
          <a:ext cx="4038480" cy="41101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45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ичество населения, тыс.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и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Харь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де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непропетров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онец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апорож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Ль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ривой Р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икола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ариуп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Луган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ин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акее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евастоп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имфероп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Херс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4572000" y="1839960"/>
          <a:ext cx="4038480" cy="41101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456120"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населения, тыс.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та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рни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рк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ито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мельниц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рнов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рло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в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нипродзержинс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ирово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о-Франков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еменч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ноп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уц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лая Церков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b5395"/>
                </a:solidFill>
                <a:latin typeface="Calibri"/>
              </a:rPr>
              <a:t>Подвижной состав по видам транспорта и назначению</a:t>
            </a:r>
            <a:br>
              <a:rPr sz="3600"/>
            </a:br>
            <a:endParaRPr b="0" i="1" lang="en-US" sz="3200" spc="-1" strike="noStrike">
              <a:solidFill>
                <a:srgbClr val="0f6fc6"/>
              </a:solidFill>
              <a:latin typeface="Calibri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514520" y="2322360"/>
          <a:ext cx="6114960" cy="3667320"/>
        </p:xfrm>
        <a:graphic>
          <a:graphicData uri="http://schemas.openxmlformats.org/drawingml/2006/table">
            <a:tbl>
              <a:tblPr/>
              <a:tblGrid>
                <a:gridCol w="3057480"/>
                <a:gridCol w="3057480"/>
              </a:tblGrid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мобильный транспорт, тыс. 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зовые автомоб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10cf9b"/>
                      </a:solidFill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3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10cf9b"/>
                      </a:solidFill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</a:tr>
              <a:tr h="261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личной собств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ссажирские автобу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</a:tr>
              <a:tr h="261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личной собств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гковые автомоб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личной собств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втомоб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отран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личной собств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</a:tr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ектротранспорт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ллейбу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</a:tr>
              <a:tr h="261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мвайные ваг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гоны метрополит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b5395"/>
                </a:solidFill>
                <a:latin typeface="Calibri"/>
              </a:rPr>
              <a:t>Обеспеченность населения частными легковыми автомобилями (ед. на 1000 чел.)</a:t>
            </a:r>
            <a:endParaRPr b="0" i="1" lang="en-US" sz="3200" spc="-1" strike="noStrike">
              <a:solidFill>
                <a:srgbClr val="0f6fc6"/>
              </a:solidFill>
              <a:latin typeface="Calibri"/>
            </a:endParaRPr>
          </a:p>
        </p:txBody>
      </p:sp>
      <p:graphicFrame>
        <p:nvGraphicFramePr>
          <p:cNvPr id="309" name="Місце для вмісту 15"/>
          <p:cNvGraphicFramePr/>
          <p:nvPr/>
        </p:nvGraphicFramePr>
        <p:xfrm>
          <a:off x="406440" y="1865160"/>
          <a:ext cx="8331120" cy="45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0" name="Місце для вмісту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865160"/>
                    <a:ext cx="833112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f6fc6"/>
                </a:solidFill>
                <a:latin typeface="Calibri"/>
              </a:rPr>
              <a:t>Подвижной состав городского электротранспорта по времени эксплуатации (метрополитен)</a:t>
            </a:r>
            <a:br>
              <a:rPr sz="4000"/>
            </a:br>
            <a:endParaRPr b="0" i="1" lang="en-US" sz="2400" spc="-1" strike="noStrike">
              <a:solidFill>
                <a:srgbClr val="0f6fc6"/>
              </a:solidFill>
              <a:latin typeface="Calibri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95280" y="1916280"/>
          <a:ext cx="8137440" cy="1330200"/>
        </p:xfrm>
        <a:graphic>
          <a:graphicData uri="http://schemas.openxmlformats.org/drawingml/2006/table">
            <a:tbl>
              <a:tblPr/>
              <a:tblGrid>
                <a:gridCol w="1990800"/>
                <a:gridCol w="1409760"/>
                <a:gridCol w="1154160"/>
                <a:gridCol w="1153800"/>
                <a:gridCol w="1214640"/>
                <a:gridCol w="1214280"/>
              </a:tblGrid>
              <a:tr h="21348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4320">
                      <a:solidFill>
                        <a:srgbClr val="009cd9"/>
                      </a:solidFill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5760">
                      <a:solidFill>
                        <a:srgbClr val="21b2c9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Количество вагонов, ед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5760">
                      <a:solidFill>
                        <a:srgbClr val="21b2c9"/>
                      </a:solidFill>
                    </a:lnB>
                    <a:noFill/>
                  </a:tcPr>
                </a:tc>
                <a:tc gridSpan="4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в том числе по времени эксплуа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>
                      <a:noFill/>
                    </a:lnL>
                    <a:lnR w="4320">
                      <a:solidFill>
                        <a:srgbClr val="009cd9"/>
                      </a:solidFill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5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5 до 10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10 до 15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ьше 15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 w="4320">
                      <a:solidFill>
                        <a:srgbClr val="009cd9"/>
                      </a:solidFill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4320">
                      <a:solidFill>
                        <a:srgbClr val="009cd9"/>
                      </a:solidFill>
                    </a:lnL>
                    <a:lnR>
                      <a:noFill/>
                    </a:lnR>
                    <a:lnT w="5760">
                      <a:solidFill>
                        <a:srgbClr val="21b2c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1b2c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 w="4320">
                      <a:solidFill>
                        <a:srgbClr val="009cd9"/>
                      </a:solidFill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 Ки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4320">
                      <a:solidFill>
                        <a:srgbClr val="009cd9"/>
                      </a:solidFill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 w="4320">
                      <a:solidFill>
                        <a:srgbClr val="009cd9"/>
                      </a:solidFill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 Днепропетров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4320">
                      <a:solidFill>
                        <a:srgbClr val="009cd9"/>
                      </a:solidFill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 w="4320">
                      <a:solidFill>
                        <a:srgbClr val="009cd9"/>
                      </a:solidFill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 Харь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4320">
                      <a:solidFill>
                        <a:srgbClr val="009cd9"/>
                      </a:solidFill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 w="4320">
                      <a:solidFill>
                        <a:srgbClr val="009cd9"/>
                      </a:solidFill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3" name="Місце для вмісту 16"/>
          <p:cNvGraphicFramePr/>
          <p:nvPr/>
        </p:nvGraphicFramePr>
        <p:xfrm>
          <a:off x="-158760" y="3017880"/>
          <a:ext cx="8393040" cy="315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4" name="Місце для вмісту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8760" y="3017880"/>
                    <a:ext cx="8393040" cy="31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f6fc6"/>
                </a:solidFill>
                <a:latin typeface="Calibri"/>
              </a:rPr>
              <a:t>Подвижной состав городского электротранспорта по времени эксплуатации (троллейбусы)</a:t>
            </a:r>
            <a:br>
              <a:rPr sz="4000"/>
            </a:br>
            <a:endParaRPr b="0" i="1" lang="en-US" sz="2800" spc="-1" strike="noStrike">
              <a:solidFill>
                <a:srgbClr val="0f6fc6"/>
              </a:solidFill>
              <a:latin typeface="Calibri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79280" y="1600200"/>
          <a:ext cx="4145040" cy="4245120"/>
        </p:xfrm>
        <a:graphic>
          <a:graphicData uri="http://schemas.openxmlformats.org/drawingml/2006/table">
            <a:tbl>
              <a:tblPr/>
              <a:tblGrid>
                <a:gridCol w="1297080"/>
                <a:gridCol w="792000"/>
                <a:gridCol w="327240"/>
                <a:gridCol w="539640"/>
                <a:gridCol w="612720"/>
                <a:gridCol w="576360"/>
              </a:tblGrid>
              <a:tr h="39204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-ство, ед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4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 по времени эксплуа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15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 15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560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5380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Ки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416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Днепропетров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5380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Донец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416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Харь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5380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Од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416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Вин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5560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Житоми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380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Ль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5416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Полт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380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Черниг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5416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Хмельниц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416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Херс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7" name="Місце для вмісту 11"/>
          <p:cNvGraphicFramePr/>
          <p:nvPr/>
        </p:nvGraphicFramePr>
        <p:xfrm>
          <a:off x="4597560" y="1549440"/>
          <a:ext cx="427356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8" name="Місце для вмісту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97560" y="1549440"/>
                    <a:ext cx="427356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f6fc6"/>
                </a:solidFill>
                <a:latin typeface="Calibri"/>
              </a:rPr>
              <a:t>Подвижной состав городского электротранспорта по времени эксплуатации (трамвайные вагоны)</a:t>
            </a:r>
            <a:br>
              <a:rPr sz="2500"/>
            </a:br>
            <a:br>
              <a:rPr sz="4000"/>
            </a:br>
            <a:endParaRPr b="0" i="1" lang="en-US" sz="2500" spc="-1" strike="noStrike">
              <a:solidFill>
                <a:srgbClr val="0f6fc6"/>
              </a:solidFill>
              <a:latin typeface="Calibri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79280" y="1600200"/>
          <a:ext cx="4145040" cy="4021200"/>
        </p:xfrm>
        <a:graphic>
          <a:graphicData uri="http://schemas.openxmlformats.org/drawingml/2006/table">
            <a:tbl>
              <a:tblPr/>
              <a:tblGrid>
                <a:gridCol w="1368360"/>
                <a:gridCol w="720720"/>
                <a:gridCol w="327240"/>
                <a:gridCol w="539640"/>
                <a:gridCol w="612720"/>
                <a:gridCol w="576360"/>
              </a:tblGrid>
              <a:tr h="42228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-ство, ед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4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 по времени эксплуа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15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 15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7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. Ки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. Днепропетров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. Кривой Р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7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. Донец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. Харь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7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. Од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. Вин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7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. Житоми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. Ль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. Запорожь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1" name="Місце для вмісту 11"/>
          <p:cNvGraphicFramePr/>
          <p:nvPr/>
        </p:nvGraphicFramePr>
        <p:xfrm>
          <a:off x="4592520" y="1649520"/>
          <a:ext cx="4275360" cy="495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Місце для вмісту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92520" y="1649520"/>
                    <a:ext cx="42753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b5395"/>
                </a:solidFill>
                <a:latin typeface="Calibri"/>
              </a:rPr>
              <a:t>Выбросы загрязняющих веществ в атмосферный воздух</a:t>
            </a:r>
            <a:endParaRPr b="0" i="1" lang="en-US" sz="3600" spc="-1" strike="noStrike">
              <a:solidFill>
                <a:srgbClr val="0f6fc6"/>
              </a:solidFill>
              <a:latin typeface="Calibri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684360" y="2205000"/>
          <a:ext cx="8002440" cy="3587760"/>
        </p:xfrm>
        <a:graphic>
          <a:graphicData uri="http://schemas.openxmlformats.org/drawingml/2006/table">
            <a:tbl>
              <a:tblPr/>
              <a:tblGrid>
                <a:gridCol w="4535280"/>
                <a:gridCol w="1589040"/>
                <a:gridCol w="1878120"/>
              </a:tblGrid>
              <a:tr h="26064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>
                      <a:noFill/>
                    </a:lnB>
                    <a:solidFill>
                      <a:srgbClr val="21b2c9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мы выброс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21b2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ыс. тон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21b2c9"/>
                    </a:solidFill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ра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b3ea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1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b3ea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b3eaf2"/>
                    </a:solidFill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ционарные источ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b3ea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9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b3ea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b3eaf2"/>
                    </a:solidFill>
                  </a:tcPr>
                </a:tc>
              </a:tr>
              <a:tr h="261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движные источ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b3ea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2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b3ea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b3eaf2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мобильный 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транспорт субъектов хозяйствен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транспорт на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45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езнодорожный, авиационный, водный транспорт и производственная тех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езнодорожный 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иационный 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ный 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ственная тех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5:30:18Z</dcterms:created>
  <dc:creator>Barbara de Campos</dc:creator>
  <dc:description/>
  <dc:language>en-US</dc:language>
  <cp:lastModifiedBy>Customer</cp:lastModifiedBy>
  <cp:lastPrinted>2013-02-19T13:53:57Z</cp:lastPrinted>
  <dcterms:modified xsi:type="dcterms:W3CDTF">2014-10-22T06:22:38Z</dcterms:modified>
  <cp:revision>498</cp:revision>
  <dc:subject/>
  <dc:title>Slide 1</dc:title>
</cp:coreProperties>
</file>