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move the slide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F0C1-0240-4910-A300-A2EA93796E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D61C-1F47-4CFD-B459-3744907744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4CBE-7A71-49E3-AE4D-C78368E18E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AE97-DFD5-4D71-994D-1512F36AF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52FD-BDB3-4B45-AE42-9CE672E3E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587-1C69-4A1B-BCB4-369F161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78C-2120-4FC0-A6F3-64055964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000-0004-4720-B7AB-72DED2E5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AE5-1A80-498A-8474-D84F604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BA9E-1B4A-4EEA-BC97-8DE71923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8E43-474B-4F96-8DF3-42A4F8EE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E2F-E3C7-461A-A214-5925C0C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E63F-F362-429D-9999-5325609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52F2-593A-4880-8240-80973483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6DA-2BB4-47EF-B011-ED5761D3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633D-55E4-441D-AB14-60DDD646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627-B554-4DB8-A453-619E165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258-959E-4C81-A64C-B559DBFE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FFD5-6857-4BF8-AF7F-83E9EC13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BF97-8853-4269-9FB4-B7ACCEF3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3F1F-E056-4DFC-B0E7-776E2265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1F9F-9CE3-41F4-BCA9-D32446D1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51B7-4232-467A-9A68-EC3AB5D9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E70A-F882-40FA-BA21-B163E553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6F47-2B6B-4C75-9154-FA4A6A8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22D3-F10E-4079-AEA4-D935EFBC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7D94-19D2-4E46-90C4-63C6070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9587-C982-49D7-8F08-2AF1569B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875F-3458-4B37-8295-70ADFF3A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AF30-4DCE-4378-AFA1-EE179B7C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55CF-5EBC-4EC9-A4F0-EC6D7FF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8238-2409-4BE6-B376-989D034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B02D-6552-4F5F-BFF9-FF74A94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9C1B-FFEF-43E9-97B2-F0D3938D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6C73F-D2BB-48B9-AA40-F82B229B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0A96-E2C8-4283-A110-04D5D66E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D66-361F-44E0-A478-C44E00BC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A1AA-B402-44FD-9735-F60F9747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8450B-42F5-4931-A603-FEADF79D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9B7C-91C7-475C-8BB6-F4E2C3EF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50D1-A2E0-48F5-8A07-B95D9BF3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F290-6915-4E73-A32A-F33EBCC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CDA5C-6AF8-4DD8-88A1-A86E28B3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317F0-9ACE-48DE-B743-BC759CD3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12A9-E87F-4D0B-97E0-5273BAB0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C481D-30E0-4566-91A4-484C3904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0804-B08A-4071-A185-49C63555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B5F-B34F-4529-AFF1-E51386C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7073C-9248-4B64-81B8-3A90FAC0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3D5AB-04B0-462F-846D-56C32F3F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BA9E3-65B5-4DF8-A0E3-8FEBA003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5B026-CBBE-4B7D-B9F7-5CCC60DA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98A12-8F50-4A1E-BD11-A75A9311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C1BD3-9BF7-4587-958C-D1939A81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56789-C02B-4B15-B317-133B319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3BD82-9940-4275-8379-E254EAF3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03B2-5983-4FC1-B67D-7034F229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788B5-E37B-4743-916D-8D54840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8A1-5BA7-4424-A2ED-7FA3C1C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B8E7-17D0-4F0F-88E8-1C20683D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1A0B8-AC94-4863-AED3-0F599199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99BE-4F1D-4C91-A57D-19911729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B2E8F-B1BD-41D0-8489-14AEA766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A533-13D4-4E12-9810-D7E37D16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488B7-6966-413E-A063-D7C167A0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29C3C-5826-4020-9A8F-9879BF46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4B8FD-86E1-4206-B1CF-EC8910E9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A6477-B844-4FC7-9932-6C4C126E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0C4C7-7DAE-4A03-B855-9740581B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B6B-BBF4-463E-AC9A-1B31291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017B-FAB6-464D-8F77-53D6A4CD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A65F-3E50-4CAF-B3B4-5B5D4A45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3C9F4-7BDD-4836-9350-94D1748C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DFD7-E441-46F2-802C-F040BAF4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7B048-2169-42C6-810F-C8866B7F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FD7-9C1A-4BA1-B246-FFBCB5B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6942-088F-4FA5-9FFC-9B29138D51EA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px-Flag_of_Europe_svg"/>
          <p:cNvPicPr/>
          <p:nvPr/>
        </p:nvPicPr>
        <p:blipFill>
          <a:blip r:embed="rId3"/>
          <a:stretch/>
        </p:blipFill>
        <p:spPr>
          <a:xfrm>
            <a:off x="7956720" y="6093000"/>
            <a:ext cx="841320" cy="56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Picture 8" descr=""/>
          <p:cNvPicPr/>
          <p:nvPr/>
        </p:nvPicPr>
        <p:blipFill>
          <a:blip r:embed="rId4"/>
          <a:stretch/>
        </p:blipFill>
        <p:spPr>
          <a:xfrm>
            <a:off x="0" y="6199200"/>
            <a:ext cx="7308720" cy="45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lowchart: Document 9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76a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CEE9-FEAF-4AE4-881F-5873A4386466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lowchart: Document 7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E943-3A2A-4A1E-9B83-5985DCC16BE5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lowchart: Document 9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346-4CF7-4E4D-A6A4-4D4685E45C1D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lowchart: Document 5"/>
          <p:cNvSpPr/>
          <p:nvPr/>
        </p:nvSpPr>
        <p:spPr>
          <a:xfrm>
            <a:off x="0" y="0"/>
            <a:ext cx="9144000" cy="1628640"/>
          </a:xfrm>
          <a:prstGeom prst="flowChartDocumen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7F16-FF93-4E18-869B-704FE90542B1}" type="slidenum">
              <a:rPr b="0" lang="en-GB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f6fc6"/>
                </a:solidFill>
                <a:latin typeface="Calibri"/>
              </a:rPr>
              <a:t>Click to edit the title text format</a:t>
            </a:r>
            <a:endParaRPr b="0" i="1" lang="en-US" sz="4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9D07-259B-4489-A9DF-340A3A45BFA6}" type="slidenum">
              <a:rPr b="0" lang="cs-CZ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79280" y="465264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спользование экономических инструментов для обеспечения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стойчивого развития  транспорта в городах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</a:rPr>
              <a:t>Кишинев, Молдова, 21-22 сентября 2014 г.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Title 7" descr=""/>
          <p:cNvPicPr/>
          <p:nvPr/>
        </p:nvPicPr>
        <p:blipFill>
          <a:blip r:embed="rId1"/>
          <a:stretch/>
        </p:blipFill>
        <p:spPr>
          <a:xfrm>
            <a:off x="139680" y="249120"/>
            <a:ext cx="8974080" cy="407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b5395"/>
                </a:solidFill>
                <a:latin typeface="Calibri"/>
              </a:rPr>
              <a:t>Выбросы загрязняющих веществ в атмосферный воздух по регионам</a:t>
            </a:r>
            <a:endParaRPr b="0" i="1" lang="en-US" sz="29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58920" y="1341360"/>
          <a:ext cx="6481800" cy="5405400"/>
        </p:xfrm>
        <a:graphic>
          <a:graphicData uri="http://schemas.openxmlformats.org/drawingml/2006/table">
            <a:tbl>
              <a:tblPr/>
              <a:tblGrid>
                <a:gridCol w="2195640"/>
                <a:gridCol w="1141200"/>
                <a:gridCol w="1143000"/>
                <a:gridCol w="1049400"/>
                <a:gridCol w="952560"/>
              </a:tblGrid>
              <a:tr h="185760"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егион, обла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ционарные источники выбро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к ито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втономная Республика Кры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нн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ы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непропетр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не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Житомир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арпат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порож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вано-Франк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е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ировоград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уга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ьв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иколае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ес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та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ве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рнополь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ьк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ерсон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мельн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кас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новиц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6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ерниг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. Ки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79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. Севастопо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920" y="117000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alibri"/>
              </a:rPr>
              <a:t>Украина присоединилась к Женевскому соглашению                                                  1958 года в 2000 году. </a:t>
            </a:r>
            <a:br>
              <a:rPr sz="1800"/>
            </a:br>
            <a:endParaRPr b="0" i="1" lang="en-US" sz="18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17840"/>
            <a:ext cx="82296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Согласно Закона  Украины «О некоторых вопросах ввоза на таможенную территорию Украины и регистрации транспортных средств»:</a:t>
            </a:r>
            <a:r>
              <a:rPr b="0" lang="en-US" sz="13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Пропуск на таможенную территорию Украины с целью свободного обращения и первую регистрацию в Украине транспортных средств по кодам товарных позиций 8701 20, 8702, 8703, 8704, 8705 согласно УКТ ВЭД как произведенных в Украине, так и ввезенных на таможенную территорию Украины, новых и бывших в  употреблении, осуществляется при условии их соответствия экологическим нормам: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3» - с 1 января 2013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даты введения экологических норм не ниже уровня "ЕВРО-3" в качестве обязательных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4» - с 1 января 2014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даты введения экологических норм не ниже уровня "ЕВРО-4" в качестве обязательных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5»- с 1 января 2016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31 декабря 2015 года включительно;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не ниже уровня </a:t>
            </a:r>
            <a:r>
              <a:rPr b="1" lang="ru-RU" sz="1300" spc="-1" strike="noStrike">
                <a:solidFill>
                  <a:srgbClr val="04617b"/>
                </a:solidFill>
                <a:latin typeface="Calibri"/>
              </a:rPr>
              <a:t>«ЕВРО-6» - с 1 января 2018 года</a:t>
            </a:r>
            <a:r>
              <a:rPr b="0" lang="ru-RU" sz="1300" spc="-1" strike="noStrike">
                <a:solidFill>
                  <a:srgbClr val="04617b"/>
                </a:solidFill>
                <a:latin typeface="Calibri"/>
              </a:rPr>
              <a:t>, за исключением транспортных средств, произведенных в Украине или ввезенных на таможенную территорию Украины до 31 декабря 2017 года включительно».</a:t>
            </a:r>
            <a:endParaRPr b="0" lang="en-US" sz="1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9600" y="14886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b5395"/>
                </a:solidFill>
                <a:latin typeface="Calibri"/>
              </a:rPr>
              <a:t>Постановлением Кабинета Министров Украины от 1 августа 2013 года (№ 927) утвержден Технический регламент в отношении требований к автомобильным бензинам, дизельному, судовому и котельному топливам и план мероприятий по его применению, который устанавливает требования ко всем вышеперечисленным видам топлив, которые производятся, вводятся в обращение и реализуются на территории Украины </a:t>
            </a:r>
            <a:br>
              <a:rPr sz="1800"/>
            </a:br>
            <a:endParaRPr b="0" i="1" lang="en-US" sz="18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328896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Регламент устанавливает следующие конечные сроки введения в обращение автомобильных бензинов и дизельного топлива: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3» - до 31 декабря 2015 года;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4» - до 31 декабря 2017 года;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Calibri"/>
              </a:rPr>
              <a:t>экологического класса «Евро-5» - пока не ограничен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84360" y="620640"/>
            <a:ext cx="82296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прещается использование в автомобильных бензинах добавок, имеющих в своем составе хотя бы один из следующих компонентов: фосфор, соединения свинца и железа, ароматические амины (монометиланилины, моноэтиланилины и т.п.)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кже запрещается с 1 января 2017 года использование в автомобильных бензинах экологического класса Евро-5 добавок с концентрацией марганца более 6 мг/дм</a:t>
            </a:r>
            <a:r>
              <a:rPr b="0" lang="ru-RU" sz="2000" spc="-1" strike="noStrike" baseline="30000">
                <a:solidFill>
                  <a:srgbClr val="04617b"/>
                </a:solidFill>
                <a:latin typeface="Calibri"/>
              </a:rPr>
              <a:t>3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Регламент вводит требование, согласно которому новые виды добавок к моторным топливам для автотранспорта могут вводиться при условии, что они не ухудшают эксплуатационных показателей топлива, не влияют отрицательно на экологические, энергетические и экономические показатели двигателей, что должно быть подтверждено результатами испытаний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акже вводится новая маркировка топлив с целью надлежащего информирования потребителей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01680" indent="-301680" algn="just">
              <a:spcBef>
                <a:spcPts val="499"/>
              </a:spcBef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Регламент вступит в силу с 10 июля 2014 года.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Контроль, государственный учет и  мониторинг</a:t>
            </a:r>
            <a:br>
              <a:rPr sz="2800"/>
            </a:b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Мониторинг качества атмосферного воздуха проводится на базовой сети наблюдений Госкомгидромета  в 53 городах Украины на 162 стационарных постах.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Программа обязательного мониторинга предусматривает ежедневный 4-х кратный </a:t>
            </a:r>
            <a:r>
              <a:rPr b="0" i="1" lang="ru-RU" sz="1800" spc="-1" strike="noStrike">
                <a:solidFill>
                  <a:srgbClr val="009dd9"/>
                </a:solidFill>
                <a:latin typeface="Calibri"/>
              </a:rPr>
              <a:t>(1, 7, 13, 19 часов)</a:t>
            </a: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 отбор проб и контроль состояния атмосферного воздуха по 31 веществу.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Следует отметить, что в последнее время возрастает интерес местных органов власти к вопросам качества атмосферного воздуха. Так, в 2009 году муниципальными властями г. Одессы приобретен и введен в действие автоматический пост наблюдения за состоянием атмосферного воздуха в городе.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Calibri"/>
              </a:rPr>
              <a:t>В соответствии с действующим законодательством предусмотрено проведение беспрерывного мониторинга на стационарных источниках больших энергетических установок новых, реконструированных и модернизированных, с 2007 года, а для существующих источников с 2014 года. На сегодняшний день беспрерывный мониторинг существует на двух крупных ТЭЦ (Бурштынская, Змиевская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Станции метрополитена,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35" name="Місце для вмісту 6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543200" cy="3029040"/>
          </a:xfrm>
          <a:prstGeom prst="rect">
            <a:avLst/>
          </a:prstGeom>
          <a:ln w="0">
            <a:noFill/>
          </a:ln>
        </p:spPr>
      </p:pic>
      <p:pic>
        <p:nvPicPr>
          <p:cNvPr id="336" name="Місце для вмісту 7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Станции метрополитена,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38" name="Місце для вмісту 4" descr=""/>
          <p:cNvPicPr/>
          <p:nvPr/>
        </p:nvPicPr>
        <p:blipFill>
          <a:blip r:embed="rId1"/>
          <a:stretch/>
        </p:blipFill>
        <p:spPr>
          <a:xfrm>
            <a:off x="250920" y="2521080"/>
            <a:ext cx="4182840" cy="2779560"/>
          </a:xfrm>
          <a:prstGeom prst="rect">
            <a:avLst/>
          </a:prstGeom>
          <a:ln w="0">
            <a:noFill/>
          </a:ln>
        </p:spPr>
      </p:pic>
      <p:pic>
        <p:nvPicPr>
          <p:cNvPr id="339" name="Місце для вмісту 5" descr=""/>
          <p:cNvPicPr/>
          <p:nvPr/>
        </p:nvPicPr>
        <p:blipFill>
          <a:blip r:embed="rId2"/>
          <a:stretch/>
        </p:blipFill>
        <p:spPr>
          <a:xfrm>
            <a:off x="4643280" y="2546280"/>
            <a:ext cx="4249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Почтовая площадь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1" name="Місце для вмісту 2" descr=""/>
          <p:cNvPicPr/>
          <p:nvPr/>
        </p:nvPicPr>
        <p:blipFill>
          <a:blip r:embed="rId1"/>
          <a:stretch/>
        </p:blipFill>
        <p:spPr>
          <a:xfrm>
            <a:off x="179280" y="234792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342" name="Місце для вмісту 5" descr=""/>
          <p:cNvPicPr/>
          <p:nvPr/>
        </p:nvPicPr>
        <p:blipFill>
          <a:blip r:embed="rId2"/>
          <a:stretch/>
        </p:blipFill>
        <p:spPr>
          <a:xfrm>
            <a:off x="4319640" y="2347920"/>
            <a:ext cx="4695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Развязка «Турбина» у моста Патона г.Киев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4" name="Місце для вмісту 4" descr=""/>
          <p:cNvPicPr/>
          <p:nvPr/>
        </p:nvPicPr>
        <p:blipFill>
          <a:blip r:embed="rId1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345" name="Місце для вмісту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b5395"/>
                </a:solidFill>
                <a:latin typeface="Calibri"/>
              </a:rPr>
              <a:t>Московская площадь, г.Киев</a:t>
            </a:r>
            <a:br>
              <a:rPr sz="4000"/>
            </a:b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(после реконструкции)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7" name="Місце для вмісту 6" descr=""/>
          <p:cNvPicPr/>
          <p:nvPr/>
        </p:nvPicPr>
        <p:blipFill>
          <a:blip r:embed="rId1"/>
          <a:stretch/>
        </p:blipFill>
        <p:spPr>
          <a:xfrm>
            <a:off x="966960" y="1773360"/>
            <a:ext cx="721008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5"/>
          <p:cNvSpPr/>
          <p:nvPr/>
        </p:nvSpPr>
        <p:spPr>
          <a:xfrm>
            <a:off x="585720" y="477720"/>
            <a:ext cx="7920000" cy="642600"/>
          </a:xfrm>
          <a:prstGeom prst="rect">
            <a:avLst/>
          </a:prstGeom>
          <a:gradFill rotWithShape="0">
            <a:gsLst>
              <a:gs pos="0">
                <a:srgbClr val="acd4f9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5395"/>
                </a:solidFill>
                <a:latin typeface="Bookman Old Style"/>
              </a:rPr>
              <a:t>Укра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48304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75B-584C-488D-A536-63E9683D8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468360" y="1125360"/>
            <a:ext cx="88758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Население -  45,426 млн. человек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(75,3 чел./кв. км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з них городское население – 31,336 млн. человек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(69 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Calibri"/>
              </a:rPr>
              <a:t>Город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00000" y="3213000"/>
          <a:ext cx="6167520" cy="2529000"/>
        </p:xfrm>
        <a:graphic>
          <a:graphicData uri="http://schemas.openxmlformats.org/drawingml/2006/table">
            <a:tbl>
              <a:tblPr/>
              <a:tblGrid>
                <a:gridCol w="3083040"/>
                <a:gridCol w="308448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селение (диапазон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город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иев, Харьков, Одесс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00 до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0 до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Днепропетровск, Днепродзержинск, Запорожье, Кривой Рог, Льв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f6fc6"/>
                </a:solidFill>
                <a:latin typeface="Calibri"/>
              </a:rPr>
              <a:t>Транспортная развязка у моста Метро </a:t>
            </a:r>
            <a:r>
              <a:rPr b="0" i="1" lang="ru-RU" sz="2800" spc="-1" strike="noStrike">
                <a:solidFill>
                  <a:srgbClr val="0f6fc6"/>
                </a:solidFill>
                <a:latin typeface="Calibri"/>
              </a:rPr>
              <a:t>(правый берег)</a:t>
            </a:r>
            <a:endParaRPr b="0" i="1" lang="en-US" sz="28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49" name="Місце для вмісту 5" descr=""/>
          <p:cNvPicPr/>
          <p:nvPr/>
        </p:nvPicPr>
        <p:blipFill>
          <a:blip r:embed="rId1"/>
          <a:stretch/>
        </p:blipFill>
        <p:spPr>
          <a:xfrm>
            <a:off x="1554120" y="1844640"/>
            <a:ext cx="603576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f6fc6"/>
                </a:solidFill>
                <a:latin typeface="Calibri"/>
              </a:rPr>
              <a:t>Перспектива: реконструкция развязки на пересечении просп.Победы и ул.Е.Телиги возле станции метро </a:t>
            </a:r>
            <a:r>
              <a:rPr b="0" i="1" lang="en-US" sz="2400" spc="-1" strike="noStrike">
                <a:solidFill>
                  <a:srgbClr val="0f6fc6"/>
                </a:solidFill>
                <a:latin typeface="Calibri"/>
              </a:rPr>
              <a:t>“</a:t>
            </a:r>
            <a:r>
              <a:rPr b="0" i="1" lang="uk-UA" sz="2400" spc="-1" strike="noStrike">
                <a:solidFill>
                  <a:srgbClr val="0f6fc6"/>
                </a:solidFill>
                <a:latin typeface="Calibri"/>
              </a:rPr>
              <a:t>Шулявка</a:t>
            </a:r>
            <a:r>
              <a:rPr b="0" i="1" lang="en-US" sz="2400" spc="-1" strike="noStrike">
                <a:solidFill>
                  <a:srgbClr val="0f6fc6"/>
                </a:solidFill>
                <a:latin typeface="Calibri"/>
              </a:rPr>
              <a:t>”</a:t>
            </a: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pic>
        <p:nvPicPr>
          <p:cNvPr id="351" name="Місце для вмісту 3" descr=""/>
          <p:cNvPicPr/>
          <p:nvPr/>
        </p:nvPicPr>
        <p:blipFill>
          <a:blip r:embed="rId1"/>
          <a:stretch/>
        </p:blipFill>
        <p:spPr>
          <a:xfrm>
            <a:off x="1511280" y="1989000"/>
            <a:ext cx="61214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b5395"/>
                </a:solidFill>
                <a:latin typeface="Times New Roman"/>
              </a:rPr>
              <a:t>Пути решения проблем загрязнения окружающей среды передвижными источниками</a:t>
            </a:r>
            <a:r>
              <a:rPr b="0" i="1" lang="uk-UA" sz="4000" spc="-1" strike="noStrike">
                <a:solidFill>
                  <a:srgbClr val="0b5395"/>
                </a:solidFill>
                <a:latin typeface="Calibri"/>
              </a:rPr>
              <a:t> </a:t>
            </a:r>
            <a:endParaRPr b="0" i="1" lang="en-US" sz="4000" spc="-1" strike="noStrike">
              <a:solidFill>
                <a:srgbClr val="0f6fc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Комплекс мероприятий, в частности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регулирование двигателе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переход на экологическое топливо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увеличение доли альтернативных топли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полное исключение использования этилированного бензина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использование нейтрализаторов токсичных выхлоп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внедрение экологических норм автомобильны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бензин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ов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и дизельны</a:t>
            </a: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х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 топлив уровня Евро-3, Евро-4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dd9"/>
                </a:solidFill>
                <a:latin typeface="Times New Roman"/>
              </a:rPr>
              <a:t>усиление контроля за </a:t>
            </a:r>
            <a:r>
              <a:rPr b="0" lang="uk-UA" sz="2000" spc="-1" strike="noStrike">
                <a:solidFill>
                  <a:srgbClr val="009dd9"/>
                </a:solidFill>
                <a:latin typeface="Times New Roman"/>
              </a:rPr>
              <a:t>соблюдением установленных нормативов содержания загрязняющих веществ в отработанных газах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4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e1"/>
                </a:solidFill>
                <a:latin typeface="Eras Light ITC"/>
              </a:rPr>
              <a:t>Спасибо за внимание.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e1"/>
                </a:solidFill>
                <a:latin typeface="Eras Light ITC"/>
              </a:rPr>
              <a:t>Вопросы</a:t>
            </a:r>
            <a:r>
              <a:rPr b="1" lang="en-US" sz="4000" spc="-1" strike="noStrike">
                <a:solidFill>
                  <a:srgbClr val="ffffe1"/>
                </a:solidFill>
                <a:latin typeface="Eras Light ITC"/>
              </a:rPr>
              <a:t>?</a:t>
            </a:r>
            <a:endParaRPr b="0" i="1" lang="en-US" sz="4000" spc="-1" strike="noStrike">
              <a:solidFill>
                <a:srgbClr val="0f6fc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f6fc6"/>
                </a:solidFill>
                <a:latin typeface="Calibri"/>
              </a:rPr>
              <a:t>Города Украины с количеством населения более 200 тыс. человек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57200" y="1839960"/>
          <a:ext cx="4038480" cy="4110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ичество населения, тыс.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арь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д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непропетр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онец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Запорож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ь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ривой Р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ико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риу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уган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и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акее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еваст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имфер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ерс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4572000" y="1839960"/>
          <a:ext cx="4038480" cy="41101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5612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населения, тыс.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т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и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к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то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мельниц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нов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рл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продзерж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иров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вано-Франк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менч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ноп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уц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2824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лая Церков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Подвижной состав по видам транспорта и назначению</a:t>
            </a:r>
            <a:br>
              <a:rPr sz="3600"/>
            </a:b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514520" y="2322360"/>
          <a:ext cx="6114960" cy="3667320"/>
        </p:xfrm>
        <a:graphic>
          <a:graphicData uri="http://schemas.openxmlformats.org/drawingml/2006/table">
            <a:tbl>
              <a:tblPr/>
              <a:tblGrid>
                <a:gridCol w="3057480"/>
                <a:gridCol w="305748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, тыс.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овы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10cf9b"/>
                      </a:solidFill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сажирские автобу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гковы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втомоб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о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 личной собств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ротранспорт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е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ллейбу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мвайные ваг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гоны метрополит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10cf9b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b5395"/>
                </a:solidFill>
                <a:latin typeface="Calibri"/>
              </a:rPr>
              <a:t>Обеспеченность населения частными легковыми автомобилями (ед. на 1000 чел.)</a:t>
            </a:r>
            <a:endParaRPr b="0" i="1" lang="en-US" sz="32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09" name="Місце для вмісту 15"/>
          <p:cNvGraphicFramePr/>
          <p:nvPr/>
        </p:nvGraphicFramePr>
        <p:xfrm>
          <a:off x="406440" y="1865160"/>
          <a:ext cx="833112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0" name="Місце для вмісту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1865160"/>
                    <a:ext cx="833112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метрополитен)</a:t>
            </a:r>
            <a:br>
              <a:rPr sz="4000"/>
            </a:br>
            <a:endParaRPr b="0" i="1" lang="en-US" sz="24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95280" y="1916280"/>
          <a:ext cx="8137440" cy="1330200"/>
        </p:xfrm>
        <a:graphic>
          <a:graphicData uri="http://schemas.openxmlformats.org/drawingml/2006/table">
            <a:tbl>
              <a:tblPr/>
              <a:tblGrid>
                <a:gridCol w="1990800"/>
                <a:gridCol w="1409760"/>
                <a:gridCol w="1154160"/>
                <a:gridCol w="1153800"/>
                <a:gridCol w="1214640"/>
                <a:gridCol w="1214280"/>
              </a:tblGrid>
              <a:tr h="21348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5760">
                      <a:solidFill>
                        <a:srgbClr val="21b2c9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Количество вагонов, е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5760">
                      <a:solidFill>
                        <a:srgbClr val="21b2c9"/>
                      </a:solidFill>
                    </a:lnB>
                    <a:noFill/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в том числе по времени эксплуа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 до 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 до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 1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5760">
                      <a:solidFill>
                        <a:srgbClr val="21b2c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21b2c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Днепропетров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Харь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4320">
                      <a:solidFill>
                        <a:srgbClr val="009cd9"/>
                      </a:solidFill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4320">
                      <a:solidFill>
                        <a:srgbClr val="009cd9"/>
                      </a:solidFill>
                    </a:lnR>
                    <a:lnT w="4320">
                      <a:solidFill>
                        <a:srgbClr val="009cd9"/>
                      </a:solidFill>
                    </a:lnT>
                    <a:lnB w="4320">
                      <a:solidFill>
                        <a:srgbClr val="009cd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Місце для вмісту 16"/>
          <p:cNvGraphicFramePr/>
          <p:nvPr/>
        </p:nvGraphicFramePr>
        <p:xfrm>
          <a:off x="-158760" y="3017880"/>
          <a:ext cx="8393040" cy="315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Місце для вмісту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8760" y="3017880"/>
                    <a:ext cx="839304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троллейбусы)</a:t>
            </a:r>
            <a:br>
              <a:rPr sz="4000"/>
            </a:br>
            <a:endParaRPr b="0" i="1" lang="en-US" sz="28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79280" y="1600200"/>
          <a:ext cx="4145040" cy="4245120"/>
        </p:xfrm>
        <a:graphic>
          <a:graphicData uri="http://schemas.openxmlformats.org/drawingml/2006/table">
            <a:tbl>
              <a:tblPr/>
              <a:tblGrid>
                <a:gridCol w="1297080"/>
                <a:gridCol w="792000"/>
                <a:gridCol w="327240"/>
                <a:gridCol w="539640"/>
                <a:gridCol w="612720"/>
                <a:gridCol w="576360"/>
              </a:tblGrid>
              <a:tr h="3920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-ство, 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ремени эксплуа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5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К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Днепропет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Дон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арь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Од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Вин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56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Жито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Ль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Пол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380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Черниг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мельни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5416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 Херс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7" name="Місце для вмісту 11"/>
          <p:cNvGraphicFramePr/>
          <p:nvPr/>
        </p:nvGraphicFramePr>
        <p:xfrm>
          <a:off x="4597560" y="1549440"/>
          <a:ext cx="4273560" cy="462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8" name="Місце для вмісту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1549440"/>
                    <a:ext cx="427356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f6fc6"/>
                </a:solidFill>
                <a:latin typeface="Calibri"/>
              </a:rPr>
              <a:t>Подвижной состав городского электротранспорта по времени эксплуатации (трамвайные вагоны)</a:t>
            </a:r>
            <a:br>
              <a:rPr sz="2500"/>
            </a:br>
            <a:br>
              <a:rPr sz="4000"/>
            </a:br>
            <a:endParaRPr b="0" i="1" lang="en-US" sz="25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79280" y="1600200"/>
          <a:ext cx="4145040" cy="4021200"/>
        </p:xfrm>
        <a:graphic>
          <a:graphicData uri="http://schemas.openxmlformats.org/drawingml/2006/table">
            <a:tbl>
              <a:tblPr/>
              <a:tblGrid>
                <a:gridCol w="1368360"/>
                <a:gridCol w="720720"/>
                <a:gridCol w="327240"/>
                <a:gridCol w="539640"/>
                <a:gridCol w="612720"/>
                <a:gridCol w="576360"/>
              </a:tblGrid>
              <a:tr h="42228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rowSpan="2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-ство, е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gridSpan="4"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 по времени эксплуа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 15 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Ки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Днепропетров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Кривой Р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Доне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Харь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Од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Вин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Житом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Ль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г. Запорожь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1" name="Місце для вмісту 11"/>
          <p:cNvGraphicFramePr/>
          <p:nvPr/>
        </p:nvGraphicFramePr>
        <p:xfrm>
          <a:off x="4592520" y="1649520"/>
          <a:ext cx="427536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Місце для вмісту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2520" y="1649520"/>
                    <a:ext cx="42753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b5395"/>
                </a:solidFill>
                <a:latin typeface="Calibri"/>
              </a:rPr>
              <a:t>Выбросы загрязняющих веществ в атмосферный воздух</a:t>
            </a:r>
            <a:endParaRPr b="0" i="1" lang="en-US" sz="3600" spc="-1" strike="noStrike">
              <a:solidFill>
                <a:srgbClr val="0f6fc6"/>
              </a:solidFill>
              <a:latin typeface="Calibri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684360" y="2205000"/>
          <a:ext cx="8002440" cy="3587760"/>
        </p:xfrm>
        <a:graphic>
          <a:graphicData uri="http://schemas.openxmlformats.org/drawingml/2006/table">
            <a:tbl>
              <a:tblPr/>
              <a:tblGrid>
                <a:gridCol w="4535280"/>
                <a:gridCol w="1589040"/>
                <a:gridCol w="1878120"/>
              </a:tblGrid>
              <a:tr h="2606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>
                      <a:noFill/>
                    </a:lnB>
                    <a:solidFill>
                      <a:srgbClr val="21b2c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ы выбро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с. тон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21b2c9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ционар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9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61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вижные источ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обиль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транспорт субъектов хозяйствен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транспорт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45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, авиационный, водный транспорт и производственная тех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езнодорож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иацион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ный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  <a:tr h="228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енная тех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05d0d9"/>
                      </a:solidFill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05d0d9"/>
                      </a:solidFill>
                    </a:lnR>
                    <a:lnT w="4320">
                      <a:solidFill>
                        <a:srgbClr val="05d0d9"/>
                      </a:solidFill>
                    </a:lnT>
                    <a:lnB w="4320">
                      <a:solidFill>
                        <a:srgbClr val="05d0d9"/>
                      </a:solidFill>
                    </a:lnB>
                    <a:solidFill>
                      <a:srgbClr val="db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30:18Z</dcterms:created>
  <dc:creator>Barbara de Campos</dc:creator>
  <dc:description/>
  <dc:language>en-US</dc:language>
  <cp:lastModifiedBy>Customer</cp:lastModifiedBy>
  <cp:lastPrinted>2013-02-19T13:53:57Z</cp:lastPrinted>
  <dcterms:modified xsi:type="dcterms:W3CDTF">2014-10-22T06:22:38Z</dcterms:modified>
  <cp:revision>498</cp:revision>
  <dc:subject/>
  <dc:title>Slide 1</dc:title>
</cp:coreProperties>
</file>