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move the slide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5557-E9CC-443E-A6AF-EA2A21C3BB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6BD1-B246-485F-8446-B8B1A5398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AD15-4B6A-4B07-B294-078C55513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1C2-056A-4C27-966A-178C78830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A30-8141-4B90-AC0F-ED86F6FF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A3A-9E15-4D59-BA6A-6F9D26AF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2D4-942D-4C78-97AC-06421E0D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8C9-36C7-4222-A92F-1D961F2D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03A-1CBF-47BF-8126-329B38F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25EA-DEC3-4B15-85A3-07BD04C9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9E91-33A2-4C22-B7C7-D370A41F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A1C-0B73-44F8-9BE5-E41D830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A8B6-FEA2-4414-B364-77C21DAC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1FA-8C00-40D4-BFC8-A4D3610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83B-AAE8-46D0-A924-5220658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1058-3A9D-442B-A4A5-09DE303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6EAD-8A85-4200-B9B0-006C1949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00AD-03AA-4760-9076-D2B2C51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A4D-BC50-45E8-8697-30675FF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FE3D-1CD3-480D-8529-AA9DA0E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903-CD1E-454B-93DE-0CE9A80C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030-5FCC-4B04-ABB3-4346CBEA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B900-DA80-4826-84E2-7C12BF4E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0F9D-138D-422F-A6BB-07452A3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09EB-8790-401D-BFAF-74B6CEA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C1C-A0D9-446D-A28C-E9DD3CD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61B2-E8FD-4606-BAD4-6029E5A1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1944-04DA-4C25-A2C6-D2461B0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1087-B486-4D1F-9EDE-0A9B338E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ADE5-8FC5-451C-B3F8-3068E37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A6DE-1923-4815-856E-C82DE8A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239F-2D99-4B49-8124-10D4B90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05D2-2ADB-40F7-B0FE-0270B5E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C08A-BF17-4032-AC5D-60B63494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39D8-F68E-4C22-91D2-DA72B121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731F-F853-4520-8EB1-4DF55A6B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F74-5358-4484-A901-62F64976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7864-A441-4D9C-A974-E8E6843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73E36-EA8C-4E76-9276-ED75D4F5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E20E-A073-4E0C-A082-B125132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68F0-1D6D-471C-856F-0C5E8A6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05A2-92EB-400D-85AE-EBFC732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C4BC-A9A9-4267-B162-676DCB3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DB51-F87E-4654-9B76-A38A0AF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DF02-AD06-4841-8D63-D4E8294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2514-65C0-4E6F-9D26-F458747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7AA3-6829-4089-B2AB-1C69E984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B6F-5DB3-4459-A951-0161008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B42B-3A2F-473E-8CE2-214DD920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111C-6EC4-41D9-A568-9E6E05EF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7937-F025-45EA-841D-99D8AFF0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6837-75AC-4094-9CCC-98776E2E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F0DF-CE83-4AEA-927E-AF8F1FE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9CFF-B595-4C8D-8552-76878B0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1873-94A7-41FB-9013-35B0B5D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608E-906F-426D-9F2A-0823603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25B4-FADE-4231-BE66-0C393A9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BE9D-0106-42D2-A455-605A6D36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E76-F506-4A52-BB1E-CB7269E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C0E1-F7C8-463C-BD80-9578868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615BA-1C0D-43F2-9F98-E0343C5A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97AF-A317-4194-BEBB-6EF4286C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2D768-DE42-4625-9D03-761F52A7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5714-B29A-423F-A8B8-5570EAA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19AF-B6A9-455F-86A4-13535BD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1BD5-8E96-488B-BD0B-27D95036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5701-0FE3-46AE-9D13-3B7A31DD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9C1A7-64EA-486B-8949-9F59879E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F9D2C-F5F3-48A1-94D8-81E2881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6D3-D200-474D-B637-2D8357C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330F-2F5C-4729-B3A3-5536381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33C8-7ED2-4B8F-A0A2-9C25D17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5458-51AF-44DC-996B-B86A5F9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D2F4-C2CF-4AA8-9568-35556F65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F4BF-E614-4C57-A99A-65A6F7E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022-7318-4EC3-82A3-35F92545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24EB-7B6C-4255-BB98-111E3B30CE89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px-Flag_of_Europe_svg"/>
          <p:cNvPicPr/>
          <p:nvPr/>
        </p:nvPicPr>
        <p:blipFill>
          <a:blip r:embed="rId3"/>
          <a:stretch/>
        </p:blipFill>
        <p:spPr>
          <a:xfrm>
            <a:off x="7956720" y="6093000"/>
            <a:ext cx="841320" cy="56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Picture 8" descr=""/>
          <p:cNvPicPr/>
          <p:nvPr/>
        </p:nvPicPr>
        <p:blipFill>
          <a:blip r:embed="rId4"/>
          <a:stretch/>
        </p:blipFill>
        <p:spPr>
          <a:xfrm>
            <a:off x="0" y="6199200"/>
            <a:ext cx="730872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76a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4BC-68DD-43A1-9BB6-D7629BF4C2A7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lowchart: Document 7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F599-4CA5-4B8E-9303-111E4E1BDDAA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3BDE-3188-4303-8F17-DC84C542EDA8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lowchart: Document 5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D9C9-4663-476F-AD6B-06B5D672FC13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4B8-6251-4E8D-8D58-B86EE88C5C6E}" type="slidenum">
              <a:rPr b="0" lang="cs-CZ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79280" y="465264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ишинев, Молдова, 21-22 сентября 2014 г.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Title 7" descr=""/>
          <p:cNvPicPr/>
          <p:nvPr/>
        </p:nvPicPr>
        <p:blipFill>
          <a:blip r:embed="rId1"/>
          <a:stretch/>
        </p:blipFill>
        <p:spPr>
          <a:xfrm>
            <a:off x="139680" y="249120"/>
            <a:ext cx="8974080" cy="407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 по регионам</a:t>
            </a:r>
            <a:endParaRPr b="0" i="1" lang="en-US" sz="29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58920" y="1341360"/>
          <a:ext cx="6481800" cy="5405400"/>
        </p:xfrm>
        <a:graphic>
          <a:graphicData uri="http://schemas.openxmlformats.org/drawingml/2006/table">
            <a:tbl>
              <a:tblPr/>
              <a:tblGrid>
                <a:gridCol w="2195640"/>
                <a:gridCol w="1141200"/>
                <a:gridCol w="1143000"/>
                <a:gridCol w="1049400"/>
                <a:gridCol w="952560"/>
              </a:tblGrid>
              <a:tr h="185760"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гион, обла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ционарные источники выбро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номная Республика Кры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н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ы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непропетр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не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томир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арпат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орож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вано-Фран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ровоград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уга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ьв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кола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е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та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ве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нополь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ь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рсо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мель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ка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ов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иг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Ки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Севастопо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920" y="117000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Украина присоединилась к Женевскому соглашению                                                  1958 года в 2000 году.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1784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Согласно Закона  Украины «О некоторых вопросах ввоза на таможенную территорию Украины и регистрации транспортных средств»:</a:t>
            </a:r>
            <a:r>
              <a:rPr b="0" lang="en-US" sz="1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Пропуск на таможенную территорию Украины с целью свободного обращения и первую регистрацию в Украине транспортных средств по кодам товарных позиций 8701 20, 8702, 8703, 8704, 8705 согласно УКТ ВЭД как произведенных в Украине, так и ввезенных на таможенную территорию Украины, новых и бывших в  употреблении, осуществляется при условии их соответствия экологическим нормам: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3» - с 1 января 2013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3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4» - с 1 января 2014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4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5»- с 1 января 2016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5 года включительно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6» - с 1 января 2018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7 года включительно».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9600" y="14886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Постановлением Кабинета Министров Украины от 1 августа 2013 года (№ 927) утвержден Технический регламент в отношении требований к автомобильным бензинам, дизельному, судовому и котельному топливам и план мероприятий по его применению, который устанавливает требования ко всем вышеперечисленным видам топлив, которые производятся, вводятся в обращение и реализуются на территории Украины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32889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Регламент устанавливает следующие конечные сроки введения в обращение автомобильных бензинов и дизельного топлива: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3» - до 31 декабря 2015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4» - до 31 декабря 2017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5» - пока не ограничен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4360" y="620640"/>
            <a:ext cx="8229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прещается использование в автомобильных бензинах добавок, имеющих в своем составе хотя бы один из следующих компонентов: фосфор, соединения свинца и железа, ароматические амины (монометиланилины, моноэтиланилины и т.п.)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запрещается с 1 января 2017 года использование в автомобильных бензинах экологического класса Евро-5 добавок с концентрацией марганца более 6 мг/дм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3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водит требование, согласно которому новые виды добавок к моторным топливам для автотранспорта могут вводиться при условии, что они не ухудшают эксплуатационных показателей топлива, не влияют отрицательно на экологические, энергетические и экономические показатели двигателей, что должно быть подтверждено результатами испытани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вводится новая маркировка топлив с целью надлежащего информирования потребителе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ступит в силу с 10 июля 2014 года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Контроль, государственный учет и  мониторинг</a:t>
            </a:r>
            <a:br>
              <a:rPr sz="28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Мониторинг качества атмосферного воздуха проводится на базовой сети наблюдений Госкомгидромета  в 53 городах Украины на 162 стационарных постах.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Программа обязательного мониторинга предусматривает ежедневный 4-х кратный </a:t>
            </a:r>
            <a:r>
              <a:rPr b="0" i="1" lang="ru-RU" sz="1800" spc="-1" strike="noStrike">
                <a:solidFill>
                  <a:srgbClr val="009dd9"/>
                </a:solidFill>
                <a:latin typeface="Calibri"/>
              </a:rPr>
              <a:t>(1, 7, 13, 19 часов)</a:t>
            </a: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 отбор проб и контроль состояния атмосферного воздуха по 31 веществу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Следует отметить, что в последнее время возрастает интерес местных органов власти к вопросам качества атмосферного воздуха. Так, в 2009 году муниципальными властями г. Одессы приобретен и введен в действие автоматический пост наблюдения за состоянием атмосферного воздуха в городе.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В соответствии с действующим законодательством предусмотрено проведение беспрерывного мониторинга на стационарных источниках больших энергетических установок новых, реконструированных и модернизированных, с 2007 года, а для существующих источников с 2014 года. На сегодняшний день беспрерывный мониторинг существует на двух крупных ТЭЦ (Бурштынская, Змиевская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5" name="Місце для вмісту 6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543200" cy="3029040"/>
          </a:xfrm>
          <a:prstGeom prst="rect">
            <a:avLst/>
          </a:prstGeom>
          <a:ln w="0">
            <a:noFill/>
          </a:ln>
        </p:spPr>
      </p:pic>
      <p:pic>
        <p:nvPicPr>
          <p:cNvPr id="336" name="Місце для вмісту 7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8" name="Місце для вмісту 4" descr=""/>
          <p:cNvPicPr/>
          <p:nvPr/>
        </p:nvPicPr>
        <p:blipFill>
          <a:blip r:embed="rId1"/>
          <a:stretch/>
        </p:blipFill>
        <p:spPr>
          <a:xfrm>
            <a:off x="250920" y="2521080"/>
            <a:ext cx="4182840" cy="2779560"/>
          </a:xfrm>
          <a:prstGeom prst="rect">
            <a:avLst/>
          </a:prstGeom>
          <a:ln w="0">
            <a:noFill/>
          </a:ln>
        </p:spPr>
      </p:pic>
      <p:pic>
        <p:nvPicPr>
          <p:cNvPr id="339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3280" y="2546280"/>
            <a:ext cx="4249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Почтовая площадь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1" name="Місце для вмісту 2" descr=""/>
          <p:cNvPicPr/>
          <p:nvPr/>
        </p:nvPicPr>
        <p:blipFill>
          <a:blip r:embed="rId1"/>
          <a:stretch/>
        </p:blipFill>
        <p:spPr>
          <a:xfrm>
            <a:off x="179280" y="23479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342" name="Місце для вмісту 5" descr=""/>
          <p:cNvPicPr/>
          <p:nvPr/>
        </p:nvPicPr>
        <p:blipFill>
          <a:blip r:embed="rId2"/>
          <a:stretch/>
        </p:blipFill>
        <p:spPr>
          <a:xfrm>
            <a:off x="4319640" y="2347920"/>
            <a:ext cx="4695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Развязка «Турбина» у моста Патона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4" name="Місце для вмісту 4" descr=""/>
          <p:cNvPicPr/>
          <p:nvPr/>
        </p:nvPicPr>
        <p:blipFill>
          <a:blip r:embed="rId1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345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b5395"/>
                </a:solidFill>
                <a:latin typeface="Calibri"/>
              </a:rPr>
              <a:t>Московская площадь, г.Киев</a:t>
            </a:r>
            <a:br>
              <a:rPr sz="4000"/>
            </a:b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(после реконструкции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7" name="Місце для вмісту 6" descr=""/>
          <p:cNvPicPr/>
          <p:nvPr/>
        </p:nvPicPr>
        <p:blipFill>
          <a:blip r:embed="rId1"/>
          <a:stretch/>
        </p:blipFill>
        <p:spPr>
          <a:xfrm>
            <a:off x="966960" y="1773360"/>
            <a:ext cx="721008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585720" y="477720"/>
            <a:ext cx="7920000" cy="642600"/>
          </a:xfrm>
          <a:prstGeom prst="rect">
            <a:avLst/>
          </a:prstGeom>
          <a:gradFill rotWithShape="0">
            <a:gsLst>
              <a:gs pos="0">
                <a:srgbClr val="acd4f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Bookman Old Style"/>
              </a:rPr>
              <a:t>Укра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48304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F2AA-C5F1-42DB-AD38-3AB0675E5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68360" y="1125360"/>
            <a:ext cx="8875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Население -  45,42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75,3 чел./кв. км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 них городское население – 31,33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69 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Горо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00000" y="3213000"/>
          <a:ext cx="6167520" cy="2529000"/>
        </p:xfrm>
        <a:graphic>
          <a:graphicData uri="http://schemas.openxmlformats.org/drawingml/2006/table">
            <a:tbl>
              <a:tblPr/>
              <a:tblGrid>
                <a:gridCol w="3083040"/>
                <a:gridCol w="30844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еление (диапазон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город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иев, Харьков, Оде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0 до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0 до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непропетровск, Днепродзержинск, Запорожье, Кривой Рог, Льв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Транспортная развязка у моста Метро </a:t>
            </a: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(правый берег)</a:t>
            </a: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9" name="Місце для вмісту 5" descr=""/>
          <p:cNvPicPr/>
          <p:nvPr/>
        </p:nvPicPr>
        <p:blipFill>
          <a:blip r:embed="rId1"/>
          <a:stretch/>
        </p:blipFill>
        <p:spPr>
          <a:xfrm>
            <a:off x="1554120" y="184464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Перспектива: реконструкция развязки на пересечении просп.Победы и ул.Е.Телиги возле станции метро 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“</a:t>
            </a: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Шулявка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”</a:t>
            </a: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51" name="Місце для вмісту 3" descr=""/>
          <p:cNvPicPr/>
          <p:nvPr/>
        </p:nvPicPr>
        <p:blipFill>
          <a:blip r:embed="rId1"/>
          <a:stretch/>
        </p:blipFill>
        <p:spPr>
          <a:xfrm>
            <a:off x="1511280" y="1989000"/>
            <a:ext cx="61214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5395"/>
                </a:solidFill>
                <a:latin typeface="Times New Roman"/>
              </a:rPr>
              <a:t>Пути решения проблем загрязнения окружающей среды передвижными источниками</a:t>
            </a:r>
            <a:r>
              <a:rPr b="0" i="1" lang="uk-UA" sz="4000" spc="-1" strike="noStrike">
                <a:solidFill>
                  <a:srgbClr val="0b5395"/>
                </a:solidFill>
                <a:latin typeface="Calibri"/>
              </a:rPr>
              <a:t> 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Комплекс мероприятий, в частности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регулирование двигателе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ереход на экологическое топливо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величение доли альтернативных топли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олное исключение использования этилированного бензина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спользование нейтрализаторов токсичных выхлоп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внедрение экологических норм автомоби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бензин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ов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 дизе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топлив уровня Евро-3, Евро-4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силение контроля за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соблюдением установленных нормативов содержания загрязняющих веществ в отработанных газах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4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Спасибо за внимание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Вопросы</a:t>
            </a:r>
            <a:r>
              <a:rPr b="1" lang="en-US" sz="4000" spc="-1" strike="noStrike">
                <a:solidFill>
                  <a:srgbClr val="ffffe1"/>
                </a:solidFill>
                <a:latin typeface="Eras Light ITC"/>
              </a:rPr>
              <a:t>?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f6fc6"/>
                </a:solidFill>
                <a:latin typeface="Calibri"/>
              </a:rPr>
              <a:t>Города Украины с количеством населения более 200 тыс. человек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д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не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порож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ь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ивой 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ико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риу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уга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и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е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васт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имфе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ер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т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и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к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то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мельн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ов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л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продзерж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ров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о-Франк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менч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н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у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ая Церк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Подвижной состав по видам транспорта и назначению</a:t>
            </a:r>
            <a:br>
              <a:rPr sz="3600"/>
            </a:b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14520" y="2322360"/>
          <a:ext cx="6114960" cy="366732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, тыс.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сажирские авто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о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транспорт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ллей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мвайные ваг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гоны метрополит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Обеспеченность населения частными легковыми автомобилями (ед. на 1000 чел.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9" name="Місце для вмісту 15"/>
          <p:cNvGraphicFramePr/>
          <p:nvPr/>
        </p:nvGraphicFramePr>
        <p:xfrm>
          <a:off x="406440" y="1865160"/>
          <a:ext cx="833112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Місце для вмісту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65160"/>
                    <a:ext cx="833112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метрополитен)</a:t>
            </a:r>
            <a:br>
              <a:rPr sz="40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95280" y="1916280"/>
          <a:ext cx="8137440" cy="1330200"/>
        </p:xfrm>
        <a:graphic>
          <a:graphicData uri="http://schemas.openxmlformats.org/drawingml/2006/table">
            <a:tbl>
              <a:tblPr/>
              <a:tblGrid>
                <a:gridCol w="1990800"/>
                <a:gridCol w="1409760"/>
                <a:gridCol w="1154160"/>
                <a:gridCol w="1153800"/>
                <a:gridCol w="1214640"/>
                <a:gridCol w="1214280"/>
              </a:tblGrid>
              <a:tr h="2134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оличество вагонов, е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том числе по времени эксплуа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 до 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 до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Місце для вмісту 16"/>
          <p:cNvGraphicFramePr/>
          <p:nvPr/>
        </p:nvGraphicFramePr>
        <p:xfrm>
          <a:off x="-158760" y="3017880"/>
          <a:ext cx="8393040" cy="31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Місце для вмісту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3017880"/>
                    <a:ext cx="839304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оллейбусы)</a:t>
            </a:r>
            <a:br>
              <a:rPr sz="4000"/>
            </a:b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79280" y="1600200"/>
          <a:ext cx="4145040" cy="4245120"/>
        </p:xfrm>
        <a:graphic>
          <a:graphicData uri="http://schemas.openxmlformats.org/drawingml/2006/table">
            <a:tbl>
              <a:tblPr/>
              <a:tblGrid>
                <a:gridCol w="1297080"/>
                <a:gridCol w="792000"/>
                <a:gridCol w="327240"/>
                <a:gridCol w="539640"/>
                <a:gridCol w="612720"/>
                <a:gridCol w="576360"/>
              </a:tblGrid>
              <a:tr h="3920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Пол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Черни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мельни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ерс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Місце для вмісту 11"/>
          <p:cNvGraphicFramePr/>
          <p:nvPr/>
        </p:nvGraphicFramePr>
        <p:xfrm>
          <a:off x="4597560" y="1549440"/>
          <a:ext cx="427356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549440"/>
                    <a:ext cx="427356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амвайные вагоны)</a:t>
            </a:r>
            <a:br>
              <a:rPr sz="2500"/>
            </a:br>
            <a:br>
              <a:rPr sz="4000"/>
            </a:br>
            <a:endParaRPr b="0" i="1" lang="en-US" sz="25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1600200"/>
          <a:ext cx="4145040" cy="4021200"/>
        </p:xfrm>
        <a:graphic>
          <a:graphicData uri="http://schemas.openxmlformats.org/drawingml/2006/table">
            <a:tbl>
              <a:tblPr/>
              <a:tblGrid>
                <a:gridCol w="1368360"/>
                <a:gridCol w="720720"/>
                <a:gridCol w="327240"/>
                <a:gridCol w="539640"/>
                <a:gridCol w="612720"/>
                <a:gridCol w="576360"/>
              </a:tblGrid>
              <a:tr h="4222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ривой 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Запорож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Місце для вмісту 11"/>
          <p:cNvGraphicFramePr/>
          <p:nvPr/>
        </p:nvGraphicFramePr>
        <p:xfrm>
          <a:off x="4592520" y="1649520"/>
          <a:ext cx="42753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2520" y="1649520"/>
                    <a:ext cx="4275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84360" y="2205000"/>
          <a:ext cx="8002440" cy="3587760"/>
        </p:xfrm>
        <a:graphic>
          <a:graphicData uri="http://schemas.openxmlformats.org/drawingml/2006/table">
            <a:tbl>
              <a:tblPr/>
              <a:tblGrid>
                <a:gridCol w="4535280"/>
                <a:gridCol w="1589040"/>
                <a:gridCol w="1878120"/>
              </a:tblGrid>
              <a:tr h="2606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>
                      <a:noFill/>
                    </a:lnB>
                    <a:solidFill>
                      <a:srgbClr val="21b2c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ы выбро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ционар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субъектов хозяйстве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, авиационный, водный транспорт и 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иацион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30:18Z</dcterms:created>
  <dc:creator>Barbara de Campos</dc:creator>
  <dc:description/>
  <dc:language>en-US</dc:language>
  <cp:lastModifiedBy>Customer</cp:lastModifiedBy>
  <cp:lastPrinted>2013-02-19T13:53:57Z</cp:lastPrinted>
  <dcterms:modified xsi:type="dcterms:W3CDTF">2014-10-22T06:22:38Z</dcterms:modified>
  <cp:revision>498</cp:revision>
  <dc:subject/>
  <dc:title>Slide 1</dc:title>
</cp:coreProperties>
</file>