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63200"/>
            <a:ext cx="497196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F822-0A6A-4CE5-8666-7F4AEDF9C3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2E0-5CB5-46A0-8A1A-3F6B7AD58C16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C523-E24D-44FF-B4CB-ECC44ABAA25E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B181-CD38-483A-9CB1-0314703CB1B8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3C09-D659-4F29-8E2C-082643F18A22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D9D8-3DA6-4761-8B2B-1666CB8B220C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FA6-F5B3-4999-8826-CDD80F6EAB20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06A1-7DC3-4F58-B612-70B91D8A81B7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2847-39ED-4AD3-876F-306E931FA1B6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D951-FE31-44F5-B389-78625BBD60E0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7F2-0E57-4DBF-ADF0-C234C25DB32E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772D-3803-4D76-8F25-1020CD730F49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3BFD-C7DA-4BDD-82B3-2A8BFA599075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4AB6-C99F-497F-A23D-2BED0515EB77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9F66-4E1F-4E1B-9654-500EDFC44D02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EE98-451B-4511-B537-3710F153EDBB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0C6A-3883-4E2E-AF06-CB7D9086A871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010D-E670-4C47-AF28-1DA1D269A51B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1AAA-8543-4980-86A8-3BB662AD902B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502A-E06D-458D-83B0-7FF33488AB27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2971-CA24-4BEB-B6C6-66D10F4A361E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6DBB-3B6A-46FB-9DB9-9069ACC8D5E9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1C91-C0D1-48A0-8D86-9586E19C4A86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DC1-3CAE-4F6A-BE8E-8EC59C7A104D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52F1-4B33-4437-B814-F6ED4F95D7C4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1D04-61E8-4C6A-844E-74ABB729E717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0E90-F73D-49A4-8D73-E5D7F5BFC090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8AF-0921-4077-A28F-1245BB8F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69D-4B0F-4B94-82C2-416AC6F7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8AD-20B0-471D-B6A5-42E90896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035-4A1D-4260-BD27-03C93103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ACB-222C-4965-9C79-9A5F2B3D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915-B21F-44EA-8B64-01C27180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292-57FD-4C4A-BF7A-DF344338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176-A095-4AE6-AB00-A89C2232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43B-7713-402B-989F-AD5CAC26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572-5313-4B7C-AE8D-A7AFB431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329-4FCB-44E7-87CA-374D6C30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62A-9F26-4E6E-A245-DAE51C9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7DA0-C8C3-4CC7-8E84-247806BF440A}" type="datetime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26D9-F258-4143-B7D6-4CE54E9E449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2E5E-5E5E-45E4-8B32-4C48A826348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ir Quality Governance in the ENPI EAST Countries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pplication of Actions on Reduction of Transport-related Emissions at municipal level (Russian Federatio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e of Economic Instruments to Support Sustainable Development of Transport in Citi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hisinau, Moldova,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21-22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eptember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2014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Dynamics of Number of Automobi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cenario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:1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, 2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Automobil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2" name="Диаграмма 75" descr=""/>
          <p:cNvPicPr/>
          <p:nvPr/>
        </p:nvPicPr>
        <p:blipFill>
          <a:blip r:embed="rId1"/>
          <a:srcRect l="-206" t="-1192" r="-4211" b="-5436"/>
          <a:stretch/>
        </p:blipFill>
        <p:spPr>
          <a:xfrm>
            <a:off x="0" y="1197000"/>
            <a:ext cx="946800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Automobil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Диаграмма 85" descr=""/>
          <p:cNvPicPr/>
          <p:nvPr/>
        </p:nvPicPr>
        <p:blipFill>
          <a:blip r:embed="rId1"/>
          <a:srcRect l="-227" t="-1835" r="-4021" b="-5470"/>
          <a:stretch/>
        </p:blipFill>
        <p:spPr>
          <a:xfrm>
            <a:off x="0" y="1125360"/>
            <a:ext cx="9468000" cy="597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Dynamics of Number of Trucks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cenarios: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, 2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Truck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2" name="Диаграмма 79" descr=""/>
          <p:cNvPicPr/>
          <p:nvPr/>
        </p:nvPicPr>
        <p:blipFill>
          <a:blip r:embed="rId1"/>
          <a:srcRect l="-203" t="-1196" r="-4152" b="-1486"/>
          <a:stretch/>
        </p:blipFill>
        <p:spPr>
          <a:xfrm>
            <a:off x="0" y="1052640"/>
            <a:ext cx="94680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3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Trucks per Ecological Class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Диаграмма 80" descr=""/>
          <p:cNvPicPr/>
          <p:nvPr/>
        </p:nvPicPr>
        <p:blipFill>
          <a:blip r:embed="rId1"/>
          <a:srcRect l="-207" t="-1196" r="-4152" b="-1486"/>
          <a:stretch/>
        </p:blipFill>
        <p:spPr>
          <a:xfrm>
            <a:off x="0" y="1125360"/>
            <a:ext cx="954072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Dynamics of Number of Bus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cenarios: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, 2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74" descr=""/>
          <p:cNvPicPr/>
          <p:nvPr/>
        </p:nvPicPr>
        <p:blipFill>
          <a:blip r:embed="rId3"/>
          <a:srcRect l="-1534" t="-2164" r="-2935" b="-2795"/>
          <a:stretch/>
        </p:blipFill>
        <p:spPr>
          <a:xfrm>
            <a:off x="0" y="1413000"/>
            <a:ext cx="932508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Bus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Диаграмма 83" descr=""/>
          <p:cNvPicPr/>
          <p:nvPr/>
        </p:nvPicPr>
        <p:blipFill>
          <a:blip r:embed="rId1"/>
          <a:srcRect l="-201" t="-1401" r="-3779" b="-4304"/>
          <a:stretch/>
        </p:blipFill>
        <p:spPr>
          <a:xfrm>
            <a:off x="0" y="1125360"/>
            <a:ext cx="9468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Bus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Диаграмма 84" descr=""/>
          <p:cNvPicPr/>
          <p:nvPr/>
        </p:nvPicPr>
        <p:blipFill>
          <a:blip r:embed="rId1"/>
          <a:srcRect l="-204" t="-1355" r="-3656" b="-1258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Length of State Company “Autodor” Roads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2403-72CC-482B-B835-6879F254A2BA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Диаграмма 1" descr=""/>
          <p:cNvPicPr/>
          <p:nvPr/>
        </p:nvPicPr>
        <p:blipFill>
          <a:blip r:embed="rId1"/>
          <a:srcRect l="-3487" t="-3374" r="-3502" b="-3807"/>
          <a:stretch/>
        </p:blipFill>
        <p:spPr>
          <a:xfrm>
            <a:off x="-252360" y="692280"/>
            <a:ext cx="964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Main Social and Economic Inform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otal area of territory is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1709824,6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ousand ha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Population</a:t>
            </a: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 - 143,7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mln. peopl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pulation densit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ersons per 1 km -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2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Russian Federation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- 8,4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Central Federal Okrug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- 59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North Caucasian 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56,3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Southern 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33,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Privolzhsk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28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North Western 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8,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Uralsk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6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Sibyrsk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3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Dal’nevostochny (Far East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1,0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 of general use roads is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283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sand k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19A2-7F5E-4229-B399-A28FDF1BD6F0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Traffic Intensity of Roads of State Company “Autodor”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67A1-F4A3-45FB-8B02-44A483F88021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Диаграмма 2" descr=""/>
          <p:cNvPicPr/>
          <p:nvPr/>
        </p:nvPicPr>
        <p:blipFill>
          <a:blip r:embed="rId1"/>
          <a:srcRect l="-1828" t="-4305" r="-3493" b="-4829"/>
          <a:stretch/>
        </p:blipFill>
        <p:spPr>
          <a:xfrm>
            <a:off x="0" y="692280"/>
            <a:ext cx="946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7B6B-5A0D-4BAA-AEC2-4A75E8232CD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65400"/>
            <a:ext cx="9144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ssessment of indicator of pollutant emissions from transport flows on the road network of State Company “Autodor” for each scenario has been carried out according to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EMEP/EEA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Methodology, which is being used for these purposes in 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7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untries, under implementation of the Project UNDP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GEF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inistry of Transport of Russia “Reduction of Green-house Gas Emissions from Road Transport in the Cities of Russia”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ssessment of emissions of carbon dioxid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arbon oxid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СО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than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n-methane hydrocarbon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НМУ)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tal hydrocarbons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Н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inu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itrogen oxide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en-GB" sz="2400" spc="-1" strike="noStrike" baseline="-25000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itrous oxide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itrogen dioxid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ulphur dioxide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articulate matter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M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mmonia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y transport flows on all roads of the State Company has been carried out using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PERT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4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oftware, version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11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63120" cy="52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395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C7FE-EF18-4A74-8AAC-C48863AD47E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Диаграмма 105" descr=""/>
          <p:cNvPicPr/>
          <p:nvPr/>
        </p:nvPicPr>
        <p:blipFill>
          <a:blip r:embed="rId1"/>
          <a:srcRect l="-1481" t="-3802" r="-3475" b="-2239"/>
          <a:stretch/>
        </p:blipFill>
        <p:spPr>
          <a:xfrm>
            <a:off x="0" y="907920"/>
            <a:ext cx="9396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Hydrocarbon 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C93-3D81-4C3D-B42C-843FEC9E9900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Диаграмма 106" descr=""/>
          <p:cNvPicPr/>
          <p:nvPr/>
        </p:nvPicPr>
        <p:blipFill>
          <a:blip r:embed="rId1"/>
          <a:srcRect l="-2167" t="-3995" r="-4029" b="-6032"/>
          <a:stretch/>
        </p:blipFill>
        <p:spPr>
          <a:xfrm>
            <a:off x="-181080" y="836640"/>
            <a:ext cx="957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Nitrogen Oxide 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AC48-A8EC-49BE-A161-C54D6CA190A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Диаграмма 109" descr=""/>
          <p:cNvPicPr/>
          <p:nvPr/>
        </p:nvPicPr>
        <p:blipFill>
          <a:blip r:embed="rId1"/>
          <a:srcRect l="-1004" t="-2755" r="-4263" b="-5155"/>
          <a:stretch/>
        </p:blipFill>
        <p:spPr>
          <a:xfrm>
            <a:off x="0" y="620640"/>
            <a:ext cx="946800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PM 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7E72-CB1E-4BDE-BAE2-35B665EE9F9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Диаграмма 110" descr=""/>
          <p:cNvPicPr/>
          <p:nvPr/>
        </p:nvPicPr>
        <p:blipFill>
          <a:blip r:embed="rId1"/>
          <a:srcRect l="-1349" t="-3170" r="-4001" b="-5370"/>
          <a:stretch/>
        </p:blipFill>
        <p:spPr>
          <a:xfrm>
            <a:off x="0" y="765000"/>
            <a:ext cx="939636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Green-house Gas Emissions on Roads of State Company “Rosautodor”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F597-2CD1-4999-933C-3E30CE536A77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Диаграмма 120" descr=""/>
          <p:cNvPicPr/>
          <p:nvPr/>
        </p:nvPicPr>
        <p:blipFill>
          <a:blip r:embed="rId1"/>
          <a:srcRect l="-2137" t="-3179" r="-3332" b="-4800"/>
          <a:stretch/>
        </p:blipFill>
        <p:spPr>
          <a:xfrm>
            <a:off x="-181080" y="907920"/>
            <a:ext cx="957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Thanks for your attention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Questions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missions of Pollutants into Air in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2007 – 2013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n the Russian Federation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housand tons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EDD3-B5D2-4636-BBAA-1F44A1BCE994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133720"/>
          <a:ext cx="9134640" cy="4248000"/>
        </p:xfrm>
        <a:graphic>
          <a:graphicData uri="http://schemas.openxmlformats.org/drawingml/2006/table">
            <a:tbl>
              <a:tblPr/>
              <a:tblGrid>
                <a:gridCol w="218880"/>
                <a:gridCol w="2657520"/>
                <a:gridCol w="1643040"/>
                <a:gridCol w="1522080"/>
                <a:gridCol w="1582560"/>
                <a:gridCol w="1510560"/>
              </a:tblGrid>
              <a:tr h="1415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41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mission from all sourc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530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559,8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487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179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Road transport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666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538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25,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47,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0" y="4046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ransport Strategy of the Russian Federation until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2030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as adopted by the Resolution of the Government of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vember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2008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#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734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t defines the main directions of state transport policy for the long-term period, including the goals of development of transport system and principles of state regulation of transport activity. The transport strategy covers all modes of transport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ad, rail, air, marine and inland river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s well as road economy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It was adjusted by the Resolution of the Government of the Russian Federation of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11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June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2014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#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 1032-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65AF-DBE8-4C57-A6A2-3E91E23AA9AC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201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a number of car fleet was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36,4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ln. vehicles that exceeds the level of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000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y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79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t the bus transportation in the country reduced by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4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uburban railway transportation decreased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     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nce the start of economic reform programme the private sector prevails in transport sector. The non-state enterprises in the road transport are currently shipping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95,8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% of cargoes and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0,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 of passengers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F96B-0D5E-463E-8710-7A33BFBAA683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0" y="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o speed up construction in the Russian Federation of new generation motorways and to attract additional extra-budget sources into the road sector the State Company “Russian Automobile Roads” was established in 2009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s of 1 January 2012 about 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601,7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m of federal automobile roads of general use were transferred to the said State Company into trust management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7401-9267-4796-BFEA-6D110C5D7765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0" y="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nnovation option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nvisages an accelerated and balanced development of transport sector of the country, which, in addition to achieving the goals being provided when implementing the basic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onservative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option, would allow to ensuring the transport conditions for development of innovation component of economy, improvement of living standards of population, switching to a polycentric model of spatial development of Russi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hen implementing this option the actions related to development of transport system will be also focused, besides the metropolitan agglomerations , in cities where the considerable innovation and human resources are concentrated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7DAB-9D36-4A84-8831-DDF9F8FA85A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0" y="0"/>
            <a:ext cx="914400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urpose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Decrease of Negative Impact of Transport System on Environment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Main tasks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odernize motor vehicles and transport infrastructure facilities focused on decrease of their negative impact on environment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crease a share of use of ecologically friendly fuels, hybrid and electrically-driven engines of motor vehicles, materials and technologies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troduce the systems of ecological management and quality control in environment protection and ensure ecological safety in trans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B9C4-F1A2-4990-9444-2018A7243865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0"/>
            <a:ext cx="9144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esult of Transport Strategy Implementa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mount of emissions of pollutants into air from motor vehicles will reduce under the innovation option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45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, under the basic (inertial) option –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4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mount of specific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O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s from motor vehicles will reduce under the innovation option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, under the basic (inertial) option –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247-0872-4D01-A34B-7D2F60370257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0:06:48Z</dcterms:created>
  <dc:creator>a</dc:creator>
  <dc:description/>
  <dc:language>en-US</dc:language>
  <cp:lastModifiedBy>Galina</cp:lastModifiedBy>
  <cp:lastPrinted>2013-10-11T11:42:42Z</cp:lastPrinted>
  <dcterms:modified xsi:type="dcterms:W3CDTF">2014-10-21T06:53:08Z</dcterms:modified>
  <cp:revision>379</cp:revision>
  <dc:subject/>
  <dc:title>Малые и средние ТЭЦ  практическая конференция, Голицыно, 7-8 сентября 2005 г.</dc:title>
</cp:coreProperties>
</file>