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4680" y="763200"/>
            <a:ext cx="4971960" cy="37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22D7-AEDD-4A70-9D89-17672134BF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EC9F-48B1-4257-B886-A872B50CBD11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3BFA-F47A-4775-A6E0-2EB0F34FC250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80FB-FEB3-44B5-AA5B-BAF5427ECD6A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FA25-29B8-47A2-A195-006D9A663A06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FBAE-6129-4F1A-9446-9046B9A4AF6C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939E-4822-4539-8FC1-D9B93C6E5EE2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F817-C268-4E2B-9674-FF2319492F21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6A74-3CCE-479F-BCE0-CAA600B269B6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5DA7-3606-4456-A41E-F2A094F55BF6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6175-4F81-4B16-B9EB-8BBB90B87518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F15E-F077-4A42-BE4E-776336415836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F17B-9BD7-4E87-957F-CDF98CB96785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E042-0050-4461-B22B-6683A7252AAC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56A0-0ADD-4D52-BB1D-3972021BF2DA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17AE-86DD-47E1-B781-61E638BD0AF0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1025-A15A-4E4E-B44F-D80729E9CE01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9248-A2B0-491E-B546-506B4E1F61EF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1E02-29C6-482D-A172-19BBD8128669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D315-3A34-48A4-B700-88F0B7D72567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4D52-0414-4524-B3F0-347F03B74067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CCD9-3D93-415B-AC23-D612DFB2C6DE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769B-7085-4511-9F1A-2FD78D9EB270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C03D-2649-4639-906D-03873309FA56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E75C-03DA-466C-92C5-5B4B1BC73CFB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C7D6-3E7D-4EDE-80E9-0690B702B6FD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128C-51E2-4B40-B6DC-339DAC080BC7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6663-71B8-4757-B694-BBC4C1A3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C14-3775-40C3-933D-EEC75A2C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629-EB1E-48B3-A981-E216662E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13A-CEFB-42E3-A1C4-F1290C6F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E47B-91A8-4531-9823-FF3125D6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482-FD85-4485-8CDB-007CBBC1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CB9-FEB4-4252-8668-C405BD0C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5D7-D69F-4F4A-8E66-D135B520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776-8E87-4E67-8ABD-481F4B80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C49-F43A-4A59-A661-B9B57539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25F-7AB1-4EFA-B9B5-10EEBB89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231D-D6CD-44D2-8599-44CC239C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F41A-96C3-404B-BF18-EDD3A7866DB5}" type="datetime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9169-FE72-49E1-A2B8-3A4DBBE336D8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4404-1BFB-42DD-9EF2-02AC9F5748FC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Air Quality Governance in the ENPI EAST Countries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pplication of Actions on Reduction of Transport-related Emissions at municipal level (Russian Federatio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e of Economic Instruments to Support Sustainable Development of Transport in Citi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hisinau, Moldova,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21-22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September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2014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8" name="Диаграмма 72" descr=""/>
          <p:cNvPicPr/>
          <p:nvPr/>
        </p:nvPicPr>
        <p:blipFill>
          <a:blip r:embed="rId1"/>
          <a:srcRect l="-1639" t="-1914" r="-2911" b="-3354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Dynamics of Number of Automobil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scenarios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:1 –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novation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, 2 –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ertial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lative Number of Automobiles per Ecological Class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novation Scenario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2" name="Диаграмма 75" descr=""/>
          <p:cNvPicPr/>
          <p:nvPr/>
        </p:nvPicPr>
        <p:blipFill>
          <a:blip r:embed="rId1"/>
          <a:srcRect l="-206" t="-1192" r="-4211" b="-5436"/>
          <a:stretch/>
        </p:blipFill>
        <p:spPr>
          <a:xfrm>
            <a:off x="0" y="1197000"/>
            <a:ext cx="9468000" cy="590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lative Number of Automobiles per Ecological Class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ertial Scenario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5" name="Диаграмма 85" descr=""/>
          <p:cNvPicPr/>
          <p:nvPr/>
        </p:nvPicPr>
        <p:blipFill>
          <a:blip r:embed="rId1"/>
          <a:srcRect l="-227" t="-1835" r="-4021" b="-5470"/>
          <a:stretch/>
        </p:blipFill>
        <p:spPr>
          <a:xfrm>
            <a:off x="0" y="1125360"/>
            <a:ext cx="9468000" cy="597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7" name="Диаграмма 72" descr=""/>
          <p:cNvPicPr/>
          <p:nvPr/>
        </p:nvPicPr>
        <p:blipFill>
          <a:blip r:embed="rId1"/>
          <a:srcRect l="-1639" t="-1914" r="-2911" b="-3354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Dynamics of Number of Trucks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scenarios: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1 –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novation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, 2 –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ertia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9" name="Диаграмма 73" descr=""/>
          <p:cNvPicPr/>
          <p:nvPr/>
        </p:nvPicPr>
        <p:blipFill>
          <a:blip r:embed="rId2"/>
          <a:srcRect l="-1110" t="-2161" r="-2912" b="-5570"/>
          <a:stretch/>
        </p:blipFill>
        <p:spPr>
          <a:xfrm>
            <a:off x="0" y="1413000"/>
            <a:ext cx="939636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lative Number of Trucks per Ecological Class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novation Scenario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2" name="Диаграмма 79" descr=""/>
          <p:cNvPicPr/>
          <p:nvPr/>
        </p:nvPicPr>
        <p:blipFill>
          <a:blip r:embed="rId1"/>
          <a:srcRect l="-203" t="-1196" r="-4152" b="-1486"/>
          <a:stretch/>
        </p:blipFill>
        <p:spPr>
          <a:xfrm>
            <a:off x="0" y="1052640"/>
            <a:ext cx="9468000" cy="580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136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lative Number of Trucks per Ecological Class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ertial Scenario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Диаграмма 80" descr=""/>
          <p:cNvPicPr/>
          <p:nvPr/>
        </p:nvPicPr>
        <p:blipFill>
          <a:blip r:embed="rId1"/>
          <a:srcRect l="-207" t="-1196" r="-4152" b="-1486"/>
          <a:stretch/>
        </p:blipFill>
        <p:spPr>
          <a:xfrm>
            <a:off x="0" y="1125360"/>
            <a:ext cx="954072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Диаграмма 72" descr=""/>
          <p:cNvPicPr/>
          <p:nvPr/>
        </p:nvPicPr>
        <p:blipFill>
          <a:blip r:embed="rId1"/>
          <a:srcRect l="-1639" t="-1914" r="-2911" b="-3354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Dynamics of Number of Bus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scenarios: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1 –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novation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, 2 –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ertial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Диаграмма 73" descr=""/>
          <p:cNvPicPr/>
          <p:nvPr/>
        </p:nvPicPr>
        <p:blipFill>
          <a:blip r:embed="rId2"/>
          <a:srcRect l="-1110" t="-2161" r="-2912" b="-5570"/>
          <a:stretch/>
        </p:blipFill>
        <p:spPr>
          <a:xfrm>
            <a:off x="0" y="1413000"/>
            <a:ext cx="9396360" cy="5445000"/>
          </a:xfrm>
          <a:prstGeom prst="rect">
            <a:avLst/>
          </a:prstGeom>
          <a:ln w="0">
            <a:noFill/>
          </a:ln>
        </p:spPr>
      </p:pic>
      <p:pic>
        <p:nvPicPr>
          <p:cNvPr id="90" name="Диаграмма 74" descr=""/>
          <p:cNvPicPr/>
          <p:nvPr/>
        </p:nvPicPr>
        <p:blipFill>
          <a:blip r:embed="rId3"/>
          <a:srcRect l="-1534" t="-2164" r="-2935" b="-2795"/>
          <a:stretch/>
        </p:blipFill>
        <p:spPr>
          <a:xfrm>
            <a:off x="0" y="1413000"/>
            <a:ext cx="932508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lative Number of Buses per Ecological Class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novation Scenario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3" name="Диаграмма 83" descr=""/>
          <p:cNvPicPr/>
          <p:nvPr/>
        </p:nvPicPr>
        <p:blipFill>
          <a:blip r:embed="rId1"/>
          <a:srcRect l="-201" t="-1401" r="-3779" b="-4304"/>
          <a:stretch/>
        </p:blipFill>
        <p:spPr>
          <a:xfrm>
            <a:off x="0" y="1125360"/>
            <a:ext cx="9468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136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lative Number of Buses per Ecological Class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ertial Scenario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Диаграмма 84" descr=""/>
          <p:cNvPicPr/>
          <p:nvPr/>
        </p:nvPicPr>
        <p:blipFill>
          <a:blip r:embed="rId1"/>
          <a:srcRect l="-204" t="-1355" r="-3656" b="-1258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Length of State Company “Autodor” Roads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52B4-483B-45BF-B903-F8667F4653F2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9" name="Диаграмма 1" descr=""/>
          <p:cNvPicPr/>
          <p:nvPr/>
        </p:nvPicPr>
        <p:blipFill>
          <a:blip r:embed="rId1"/>
          <a:srcRect l="-3487" t="-3374" r="-3502" b="-3807"/>
          <a:stretch/>
        </p:blipFill>
        <p:spPr>
          <a:xfrm>
            <a:off x="-252360" y="692280"/>
            <a:ext cx="9648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0" y="0"/>
            <a:ext cx="91440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Main Social and Economic Inform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otal area of territory is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1709824,6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housand ha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Population</a:t>
            </a:r>
            <a:r>
              <a:rPr b="1" lang="ru-RU" sz="2400" spc="-1" strike="noStrike">
                <a:solidFill>
                  <a:srgbClr val="004c2b"/>
                </a:solidFill>
                <a:latin typeface="Times New Roman"/>
              </a:rPr>
              <a:t> - 143,7 </a:t>
            </a: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mln. people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opulation density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ersons per 1 km -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2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Russian Federation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- 8,4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Central Federal Okrug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- 59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North Caucasian Federal Okrug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 56,3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Southern Federal Okrug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 33,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Privolzhsky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ederal Okrug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 28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North Western Federal Okrug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 8,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Uralsky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ederal Okrug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 6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Sibyrsky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ederal Okrug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 3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Dal’nevostochny (Far East)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ederal Okrug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 1,0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ngth of general use roads is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283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sand k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8E8B-CBC7-42F8-A018-F7550F81BED7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Traffic Intensity of Roads of State Company “Autodor” 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7733-8058-4DE4-A52E-3E3824F2869D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2" name="Диаграмма 2" descr=""/>
          <p:cNvPicPr/>
          <p:nvPr/>
        </p:nvPicPr>
        <p:blipFill>
          <a:blip r:embed="rId1"/>
          <a:srcRect l="-1828" t="-4305" r="-3493" b="-4829"/>
          <a:stretch/>
        </p:blipFill>
        <p:spPr>
          <a:xfrm>
            <a:off x="0" y="692280"/>
            <a:ext cx="9468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99F0-BF8C-45C8-AE6C-AE7113172B9B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365400"/>
            <a:ext cx="9144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ssessment of indicator of pollutant emissions from transport flows on the road network of State Company “Autodor” for each scenario has been carried out according to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EMEP/EEA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Methodology, which is being used for these purposes in 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7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ountries, under implementation of the Project UNDP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GEF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inistry of Transport of Russia “Reduction of Green-house Gas Emissions from Road Transport in the Cities of Russia”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ssessment of emissions of carbon dioxide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O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arbon oxide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СО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ethane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H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on-methane hydrocarbons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НМУ) (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otal hydrocarbons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Н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inus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H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itrogen oxides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NO</a:t>
            </a:r>
            <a:r>
              <a:rPr b="1" lang="en-GB" sz="2400" spc="-1" strike="noStrike" baseline="-25000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itrous oxides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itrogen dioxide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O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ulphur dioxide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SO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articulate matters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M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mmonia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NH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by transport flows on all roads of the State Company has been carried out using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OPERT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4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software, version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11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8763120" cy="52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Symbol"/>
                <a:ea typeface="Symbol"/>
              </a:rPr>
              <a:t>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395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ross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О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Emissions on Roads of State Company “Autodor”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141A-3FFA-4EE0-8B59-BD0D3F0BB2B9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8" name="Диаграмма 105" descr=""/>
          <p:cNvPicPr/>
          <p:nvPr/>
        </p:nvPicPr>
        <p:blipFill>
          <a:blip r:embed="rId1"/>
          <a:srcRect l="-1481" t="-3802" r="-3475" b="-2239"/>
          <a:stretch/>
        </p:blipFill>
        <p:spPr>
          <a:xfrm>
            <a:off x="0" y="907920"/>
            <a:ext cx="9396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ross Hydrocarbon Emissions on Roads of State Company “Autodor”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1816-BDDB-4BEF-B250-DB4072C01665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Диаграмма 106" descr=""/>
          <p:cNvPicPr/>
          <p:nvPr/>
        </p:nvPicPr>
        <p:blipFill>
          <a:blip r:embed="rId1"/>
          <a:srcRect l="-2167" t="-3995" r="-4029" b="-6032"/>
          <a:stretch/>
        </p:blipFill>
        <p:spPr>
          <a:xfrm>
            <a:off x="-181080" y="836640"/>
            <a:ext cx="9577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ross Nitrogen Oxide Emissions on Roads of State Company “Autodor”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CF67-E5D5-4EF4-8DE4-732C826B1F1F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Диаграмма 109" descr=""/>
          <p:cNvPicPr/>
          <p:nvPr/>
        </p:nvPicPr>
        <p:blipFill>
          <a:blip r:embed="rId1"/>
          <a:srcRect l="-1004" t="-2755" r="-4263" b="-5155"/>
          <a:stretch/>
        </p:blipFill>
        <p:spPr>
          <a:xfrm>
            <a:off x="0" y="620640"/>
            <a:ext cx="946800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ross PM Emissions on Roads of State Company “Autodor”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1CAC-DC2F-4C7E-BC2A-3EDF12756BAE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Диаграмма 110" descr=""/>
          <p:cNvPicPr/>
          <p:nvPr/>
        </p:nvPicPr>
        <p:blipFill>
          <a:blip r:embed="rId1"/>
          <a:srcRect l="-1349" t="-3170" r="-4001" b="-5370"/>
          <a:stretch/>
        </p:blipFill>
        <p:spPr>
          <a:xfrm>
            <a:off x="0" y="765000"/>
            <a:ext cx="939636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ross Green-house Gas Emissions on Roads of State Company “Rosautodor”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7657-19E3-4294-9424-D45D107C5E83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Диаграмма 120" descr=""/>
          <p:cNvPicPr/>
          <p:nvPr/>
        </p:nvPicPr>
        <p:blipFill>
          <a:blip r:embed="rId1"/>
          <a:srcRect l="-2137" t="-3179" r="-3332" b="-4800"/>
          <a:stretch/>
        </p:blipFill>
        <p:spPr>
          <a:xfrm>
            <a:off x="-181080" y="907920"/>
            <a:ext cx="9577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Thanks for your attention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Questions?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missions of Pollutants into Air in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2007 – 2013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n the Russian Federation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thousand tons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yea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D9DC-DC3F-40FA-BA0D-F9DF334E8359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2133720"/>
          <a:ext cx="9134640" cy="4248000"/>
        </p:xfrm>
        <a:graphic>
          <a:graphicData uri="http://schemas.openxmlformats.org/drawingml/2006/table">
            <a:tbl>
              <a:tblPr/>
              <a:tblGrid>
                <a:gridCol w="218880"/>
                <a:gridCol w="2657520"/>
                <a:gridCol w="1643040"/>
                <a:gridCol w="1522080"/>
                <a:gridCol w="1582560"/>
                <a:gridCol w="1510560"/>
              </a:tblGrid>
              <a:tr h="1415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Sourc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1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41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Emission from all sources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5303,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2559,8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2487,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1793,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Road transport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4666,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3538,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3325,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3347,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0" y="40464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Transport Strategy of the Russian Federation until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2030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as adopted by the Resolution of the Government of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22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vember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2008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#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734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t defines the main directions of state transport policy for the long-term period, including the goals of development of transport system and principles of state regulation of transport activity. The transport strategy covers all modes of transport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oad, rail, air, marine and inland river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as well as road economy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It was adjusted by the Resolution of the Government of the Russian Federation of </a:t>
            </a: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11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June </a:t>
            </a: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2014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#</a:t>
            </a: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 1032-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BB2B-D6A9-40B2-9964-08C5A8E346D4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0" y="0"/>
            <a:ext cx="9144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n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201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a number of car fleet was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36,4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ln. vehicles that exceeds the level of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2000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y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79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%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t the bus transportation in the country reduced by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42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%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uburban railway transportation decreased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     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 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ince the start of economic reform programme the private sector prevails in transport sector. The non-state enterprises in the road transport are currently shipping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95,8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% of cargoes and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20,8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% of passengers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2FF8-A2D5-4BE4-B63B-63F4B6E15214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0" y="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o speed up construction in the Russian Federation of new generation motorways and to attract additional extra-budget sources into the road sector the State Company “Russian Automobile Roads” was established in 2009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s of 1 January 2012 about 2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601,7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km of federal automobile roads of general use were transferred to the said State Company into trust management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FFD3-A205-48CE-9368-C18280575874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0" y="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nnovation option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nvisages an accelerated and balanced development of transport sector of the country, which, in addition to achieving the goals being provided when implementing the basic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onservative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option, would allow to ensuring the transport conditions for development of innovation component of economy, improvement of living standards of population, switching to a polycentric model of spatial development of Russia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hen implementing this option the actions related to development of transport system will be also focused, besides the metropolitan agglomerations , in cities where the considerable innovation and human resources are concentrated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C3B8-F646-4E7E-AADE-D0CC1A826470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0" y="0"/>
            <a:ext cx="914400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urpose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“Decrease of Negative Impact of Transport System on Environment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Main tasks</a:t>
            </a: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:</a:t>
            </a:r>
            <a:br>
              <a:rPr sz="28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odernize motor vehicles and transport infrastructure facilities focused on decrease of their negative impact on environment 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crease a share of use of ecologically friendly fuels, hybrid and electrically-driven engines of motor vehicles, materials and technologies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troduce the systems of ecological management and quality control in environment protection and ensure ecological safety in transpor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8F89-0FC6-4747-984A-20AA5035B952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0" y="0"/>
            <a:ext cx="914400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Result of Transport Strategy Implementation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mount of emissions of pollutants into air from motor vehicles will reduce under the innovation option by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45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%, under the basic (inertial) option – by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40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%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mount of specific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O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missions from motor vehicles will reduce under the innovation option by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22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%, under the basic (inertial) option – by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20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%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88B3-29DE-45FF-B419-07EC1DD021F6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0:06:48Z</dcterms:created>
  <dc:creator>a</dc:creator>
  <dc:description/>
  <dc:language>en-US</dc:language>
  <cp:lastModifiedBy>Galina</cp:lastModifiedBy>
  <cp:lastPrinted>2013-10-11T11:42:42Z</cp:lastPrinted>
  <dcterms:modified xsi:type="dcterms:W3CDTF">2014-10-21T06:53:08Z</dcterms:modified>
  <cp:revision>379</cp:revision>
  <dc:subject/>
  <dc:title>Малые и средние ТЭЦ  практическая конференция, Голицыно, 7-8 сентября 2005 г.</dc:title>
</cp:coreProperties>
</file>