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63200"/>
            <a:ext cx="497196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FCD4-B0E6-44D7-898E-AB9FAE5EED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2F18-E248-4F72-9C78-B6B30F6F0184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8B7C-6CF3-4B07-8415-D6A647F86997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921D-EFF7-44FD-B4D5-2541DD852D3B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D7F2-DBB7-4B3A-9A75-643719580CAC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02CA-8128-4D0B-9A7F-6DF9A7A4C5FE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D828-F4A1-4E40-8BE3-B4400581A21A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4F17-D7F0-4207-9323-25DFF84E786D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F1FA-72FC-4D53-9736-1C6BC93DA1BC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7621-7AFE-4D0E-B8B3-E149DC431BBE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11EE-1EBA-447E-BFB7-2C54BA7EA271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ED3F-8BDD-4E6F-8441-3483FFDD42BE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3714-E7CB-4B98-B363-FA0A69E662BC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FB63-F03B-4768-A5F3-4DCAEB210082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93D0-EFBC-4087-96DA-7EFABA9EF5E6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74E6-AE1F-4D31-9560-77EBE1A9EFA9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C8B8-534C-422A-9623-F885D25E3863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42C8-C354-4C5F-AF77-760A73D4B39C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C35B-98BB-4495-A9F8-EFC60B0341EE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A0ED-B201-4A40-9965-804BD55565A3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F1FF-2C9D-482B-802D-0F030834A7D1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C825-6DB8-4FFA-A1B8-5C1970EA6F65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7ED7-4EF7-4BF7-8380-4604F5B53ACC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97F-5EA6-4F55-B10F-DA6F28B0F7D3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5D34-7DE8-4F6D-9F98-EB90862A8F46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ED98-99E3-4D48-B1AA-C5C579CAD5BA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1A9F-641F-42E4-8B7D-87B9F084CF08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431-4D20-482F-B9D3-A1BA006B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0C4-3EE6-4290-8391-8AD1A672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910-5E9F-48EB-93CC-AA3424FA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85C-35A0-42A1-98FE-10D7DFFF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071-6347-431B-A5EF-D8DAA83B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4F7-1E44-458C-BB90-E656D6C8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7F5-CCB8-4217-99BB-FB0E8FCB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418-1D9C-4277-B6BB-CDDC96CD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A55-7F41-406E-A3FC-FE2BB7D3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4D3-0568-462D-AEB1-B4B2BA29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E44-C7CB-470E-A062-EB43ECE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E63-4C79-47FC-ADF2-591F93B9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837-1238-4B0D-868D-A36BC6CC9A14}" type="datetime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FF7E-0B0D-4B0B-968E-B4175C12C0AE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2C07-8BD3-405B-96E0-C2C0C92C0BF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8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Управление качеством воздуха в странах Восточного региона ЕИС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менение мероприятий по снижению выбросов от транспорта на городском уровне (Российская Федерация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пользование экономических инструментов для обеспечени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стойчивого развития  транспорта в города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ишинев, Молдова, 21-22 сентября 2014 г.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инамика численности легковых автомобиле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сценарии:1 – инновационный, 2 – инерционны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 легковых автомобилей по экологическом классу (иннова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2" name="Диаграмма 75" descr=""/>
          <p:cNvPicPr/>
          <p:nvPr/>
        </p:nvPicPr>
        <p:blipFill>
          <a:blip r:embed="rId1"/>
          <a:srcRect l="-206" t="-1192" r="-4211" b="-5436"/>
          <a:stretch/>
        </p:blipFill>
        <p:spPr>
          <a:xfrm>
            <a:off x="0" y="1197000"/>
            <a:ext cx="946800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легковых автомобилей по экологическом классу (инер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Диаграмма 85" descr=""/>
          <p:cNvPicPr/>
          <p:nvPr/>
        </p:nvPicPr>
        <p:blipFill>
          <a:blip r:embed="rId1"/>
          <a:srcRect l="-227" t="-1835" r="-4021" b="-5470"/>
          <a:stretch/>
        </p:blipFill>
        <p:spPr>
          <a:xfrm>
            <a:off x="0" y="1125360"/>
            <a:ext cx="9468000" cy="597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инамика численности грузовых автомобиле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сценарии:1 – инновационный, 2 – инерционны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рузовых автомобилей по экологическом классу (иннова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2" name="Диаграмма 79" descr=""/>
          <p:cNvPicPr/>
          <p:nvPr/>
        </p:nvPicPr>
        <p:blipFill>
          <a:blip r:embed="rId1"/>
          <a:srcRect l="-203" t="-1196" r="-4152" b="-1486"/>
          <a:stretch/>
        </p:blipFill>
        <p:spPr>
          <a:xfrm>
            <a:off x="0" y="1052640"/>
            <a:ext cx="94680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рузовых автомобилей по экологическом классу (инер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Диаграмма 80" descr=""/>
          <p:cNvPicPr/>
          <p:nvPr/>
        </p:nvPicPr>
        <p:blipFill>
          <a:blip r:embed="rId1"/>
          <a:srcRect l="-207" t="-1196" r="-4152" b="-1486"/>
          <a:stretch/>
        </p:blipFill>
        <p:spPr>
          <a:xfrm>
            <a:off x="0" y="1125360"/>
            <a:ext cx="954072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инамика численности автобус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сценарии:1 – инновационный, 2 – инерционны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74" descr=""/>
          <p:cNvPicPr/>
          <p:nvPr/>
        </p:nvPicPr>
        <p:blipFill>
          <a:blip r:embed="rId3"/>
          <a:srcRect l="-1534" t="-2164" r="-2935" b="-2795"/>
          <a:stretch/>
        </p:blipFill>
        <p:spPr>
          <a:xfrm>
            <a:off x="0" y="1413000"/>
            <a:ext cx="932508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втобусов по экологическом классу (иннова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Диаграмма 83" descr=""/>
          <p:cNvPicPr/>
          <p:nvPr/>
        </p:nvPicPr>
        <p:blipFill>
          <a:blip r:embed="rId1"/>
          <a:srcRect l="-201" t="-1401" r="-3779" b="-4304"/>
          <a:stretch/>
        </p:blipFill>
        <p:spPr>
          <a:xfrm>
            <a:off x="0" y="1125360"/>
            <a:ext cx="9468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втобусов по экологическом классу (инер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Диаграмма 84" descr=""/>
          <p:cNvPicPr/>
          <p:nvPr/>
        </p:nvPicPr>
        <p:blipFill>
          <a:blip r:embed="rId1"/>
          <a:srcRect l="-204" t="-1355" r="-3656" b="-1258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2400" spc="-1" strike="noStrike">
                <a:solidFill>
                  <a:srgbClr val="a50021"/>
                </a:solidFill>
                <a:latin typeface="Times New Roman"/>
              </a:rPr>
              <a:t>Протяженность дорог ГК “Автодор”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BFCE-6A75-4A91-AB19-C7105E462E3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Диаграмма 1" descr=""/>
          <p:cNvPicPr/>
          <p:nvPr/>
        </p:nvPicPr>
        <p:blipFill>
          <a:blip r:embed="rId1"/>
          <a:srcRect l="-3487" t="-3374" r="-3502" b="-3807"/>
          <a:stretch/>
        </p:blipFill>
        <p:spPr>
          <a:xfrm>
            <a:off x="-252360" y="692280"/>
            <a:ext cx="964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сновные социально-экономические сведен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бщая площадь территории  1709824,6 тыс. га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Численность населения - 143,7 млн. человек 1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лотность населения, чел. на 1 км 2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Российской Федерации - 8,4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Центральном федеральном округе - 59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Северо-Кавказском федеральном округе - 56,3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Южном федеральном округе - 33,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Приволжском федеральном округе - 28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Северо-Западном федеральном округе - 8,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Уральском федеральном округе - 6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Сибирском федеральном округе - 3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Дальневосточном федеральном округе - 1,0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отяженность автомобильных дорог общего пользования  1283 тыс. к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4CF8-92A1-43D3-8576-A7BEC2C5EE4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0021"/>
                </a:solidFill>
                <a:latin typeface="Times New Roman"/>
              </a:rPr>
              <a:t>Интенсивность движения на дорогах ГК “Автодор”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C348-F3AB-4C45-99F5-CE0DC77BC0E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Диаграмма 2" descr=""/>
          <p:cNvPicPr/>
          <p:nvPr/>
        </p:nvPicPr>
        <p:blipFill>
          <a:blip r:embed="rId1"/>
          <a:srcRect l="-1828" t="-4305" r="-3493" b="-4829"/>
          <a:stretch/>
        </p:blipFill>
        <p:spPr>
          <a:xfrm>
            <a:off x="0" y="692280"/>
            <a:ext cx="946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552B-57B9-40EC-85D9-E498548E40FA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18252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ценка значения валовых выбросов загрязняющих веществ транспортными потоками на дорожной сети ГК «Автодор» для каждого сценария осуществлялась по методике EMEP/EEA, которую используют для этих целей в 27 странах мира, в рамках реализации Проект ПРООН/ГЭФ – Минтранс России «Сокращение выбросов парниковых газов от автомобильного транспорта в городах России»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ценка выбросов диоксида углерод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оксида углерода (СО), метан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неметановых углеводородов (НМУ) (суммарные углеводороды СН минус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оксидов азот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en-GB" sz="2400" spc="-1" strike="noStrike" baseline="-25000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закиси азот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диоксида азота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диоксида серы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твердых частиц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M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аммиак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 транспортными потоками на всех дорогах Государственной компании проводилась с использованием компьютерной программы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PERT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4, версия 11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63120" cy="52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395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F758-2FC6-4454-A12A-F94224EB5B2B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Диаграмма 105" descr=""/>
          <p:cNvPicPr/>
          <p:nvPr/>
        </p:nvPicPr>
        <p:blipFill>
          <a:blip r:embed="rId1"/>
          <a:srcRect l="-1481" t="-3802" r="-3475" b="-2239"/>
          <a:stretch/>
        </p:blipFill>
        <p:spPr>
          <a:xfrm>
            <a:off x="0" y="907920"/>
            <a:ext cx="9396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углеводородов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B675-A2F8-411E-9BDE-D531B053C89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Диаграмма 106" descr=""/>
          <p:cNvPicPr/>
          <p:nvPr/>
        </p:nvPicPr>
        <p:blipFill>
          <a:blip r:embed="rId1"/>
          <a:srcRect l="-2167" t="-3995" r="-4029" b="-6032"/>
          <a:stretch/>
        </p:blipFill>
        <p:spPr>
          <a:xfrm>
            <a:off x="-181080" y="836640"/>
            <a:ext cx="957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ксидов азота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AF28-3E19-40B6-9F66-2FD277DE8A2D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Диаграмма 109" descr=""/>
          <p:cNvPicPr/>
          <p:nvPr/>
        </p:nvPicPr>
        <p:blipFill>
          <a:blip r:embed="rId1"/>
          <a:srcRect l="-1004" t="-2755" r="-4263" b="-5155"/>
          <a:stretch/>
        </p:blipFill>
        <p:spPr>
          <a:xfrm>
            <a:off x="0" y="620640"/>
            <a:ext cx="946800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звешенных частиц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0580-4120-47BC-A73D-AB830F0BAB2D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Диаграмма 110" descr=""/>
          <p:cNvPicPr/>
          <p:nvPr/>
        </p:nvPicPr>
        <p:blipFill>
          <a:blip r:embed="rId1"/>
          <a:srcRect l="-1349" t="-3170" r="-4001" b="-5370"/>
          <a:stretch/>
        </p:blipFill>
        <p:spPr>
          <a:xfrm>
            <a:off x="0" y="765000"/>
            <a:ext cx="939636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 парниковых газов на дорогах ГК «Росавтодор»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8DB9-AF57-4561-86C6-00382D5E325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Диаграмма 120" descr=""/>
          <p:cNvPicPr/>
          <p:nvPr/>
        </p:nvPicPr>
        <p:blipFill>
          <a:blip r:embed="rId1"/>
          <a:srcRect l="-2137" t="-3179" r="-3332" b="-4800"/>
          <a:stretch/>
        </p:blipFill>
        <p:spPr>
          <a:xfrm>
            <a:off x="-181080" y="907920"/>
            <a:ext cx="957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Спасибо за внимание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опросы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ыбросы загрязняющих веществ в атмосферный воздух в 2007 – 2013 гг. в Российской Федерации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тыс. т/го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E658-060F-4C0C-A634-6D1858790DDC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133720"/>
          <a:ext cx="9134640" cy="4064040"/>
        </p:xfrm>
        <a:graphic>
          <a:graphicData uri="http://schemas.openxmlformats.org/drawingml/2006/table">
            <a:tbl>
              <a:tblPr/>
              <a:tblGrid>
                <a:gridCol w="216000"/>
                <a:gridCol w="2658240"/>
                <a:gridCol w="1643400"/>
                <a:gridCol w="1522800"/>
                <a:gridCol w="1583280"/>
                <a:gridCol w="151092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Выброс от всех источников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530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559,8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487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179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втомобильный транспорт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666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538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25,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47,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Транспортная стратегия Российской Федерации на период до 2030 года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утверждена распоряжением Правительства от 22 ноября 2008 года №1734-р. Она определяет основные направления государственной транспортной политики на долгосрочный период, в том числе цели развития транспортной системы и принципы государственного регулирования транспортной деятельности. Транспортная стратегия охватывает все виды транспорта (автомобильный, железнодорожный, воздушный, морской и внутренний водный), а также дорожное хозяйство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Скорректирована распоряжением Правительства</a:t>
            </a:r>
            <a:br>
              <a:rPr sz="2800"/>
            </a:b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 Российской Федерации  от 11 июня 2014 года № 1032-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30D9-4971-4486-9423-673662C8375A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 2011 году численность парка легковых автомобилей составила 36,4 млн. единиц, что выше уровня 2000 года на 79 процентов. При этом автобусные перевозки в стране сократились на 42 процента, уменьшились пригородные железнодорожные перевозк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     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 начала осуществления программы экономических реформ доминирующее положение в сфере транспорта занял негосударственный сектор. Предприятиями негосударственных форм собственности в настоящее время на автомобильном транспорте выполняется 95,8 процента перевозок грузов и 20,8 процента перевозок пассажир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BC77-3BDA-4B93-B367-2E89F1AE7841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ля ускорения создания в Российской Федерации автомагистралей нового поколения и привлечения в дорожное хозяйство дополнительных внебюджетных источников в 2009 году создана Государственная компания «Российские автомобильные дороги»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 доверительное управление указанной Государственной компании по состоянию на 1 января 2012 года передано 2601,7 км автомобильных дорог общего пользования федерального значе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6C5B-E7EE-4E87-A94B-61C0704E9941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0" y="0"/>
            <a:ext cx="91440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Инновационный вариант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предполагает ускоренное и сбалансированное развитие транспортного комплекса страны, которое наряду с достижением целей, предусматриваемых при реализации базового (консервативного) варианта, позволит обеспечить транспортные условия для развития инновационной составляющей экономики, повышения качества жизни населения, перехода к полицентрической модели пространственного развития Росси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ри реализации этого варианта меры по развитию транспортной системы страны будут сосредоточены наряду со столичными агломерациями также в городах, в которых концентрируется значительный инновационный и человеческий капитал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2DA6-FABE-4140-9840-0AEBDD52E54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0" y="0"/>
            <a:ext cx="9144000" cy="65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Цель «Снижение негативного воздействия транспортной системы на окружающую среду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Основные задачи:</a:t>
            </a:r>
            <a:br>
              <a:rPr sz="28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дернизация транспортных средств и объектов транспортной инфраструктуры, направленная на снижение их негативного воздействия на окружающую среду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вышение доли использования экологически чистых видов топлива, гибридных и электрических двигателей транспортных средств, материалов и технологий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недрение систем экологического менеджмента и управления качеством в области охраны окружающей среды и обеспечения экологической безопасности на транспорт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AE67-E7F2-4EF2-BB3A-6CEE61E4EF43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0"/>
            <a:ext cx="914400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Итоги реализации Транспортной стратеги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м выбросов загрязняющих атмосферу веществ на автомобильном транспорте сократится по инновационному варианту на 45 процентов, по базовому (инерционному) варианту - на 40 процентов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м удельных выбросов СO  на автомобильном транспорте сократится по инновационному варианту на 22 процента, по базовому (инерционному) варианту - на 20 процент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4E4E-68E8-4242-BCE0-2CDFD936CB06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0:06:48Z</dcterms:created>
  <dc:creator>a</dc:creator>
  <dc:description/>
  <dc:language>en-US</dc:language>
  <cp:lastModifiedBy>11</cp:lastModifiedBy>
  <cp:lastPrinted>2013-10-11T11:42:42Z</cp:lastPrinted>
  <dcterms:modified xsi:type="dcterms:W3CDTF">2014-10-16T08:50:27Z</dcterms:modified>
  <cp:revision>369</cp:revision>
  <dc:subject/>
  <dc:title>Малые и средние ТЭЦ  практическая конференция, Голицыно, 7-8 сентября 2005 г.</dc:title>
</cp:coreProperties>
</file>