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4680" y="763200"/>
            <a:ext cx="4971960" cy="37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56A0-22A8-4632-B9D4-10C39ACB08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A953-D198-4ABE-BDA0-D22BAF471B28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6067-52C8-4782-8AA4-A28291FE71B7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13FF-E686-4309-8328-21BB1E630168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220A-1948-4F01-8FB1-BEB0044422D9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682C-22F1-4A4F-A82D-CD108F2D8BF6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54E6-14AF-40BD-B6F7-C25249FED622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DDDB-356C-4F46-813E-5DF7DA413DFE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6E50-73FA-467D-B01F-0DEAA5DEE8B1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06E6-5192-4BAF-A50C-552FADC38170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3FCE-7A70-4BDF-99E8-6D00C4DD7059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D217-0B75-428A-947F-AEA828302418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89C3-CC59-44F4-99E2-D4EED80B82E0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B430-65D4-4710-8284-131FEB4E0C59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076A-1977-4CD6-A5A7-0C747389945F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3852-82E1-4AC1-9C0E-53721C67AABC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AA03-9BC5-417B-9691-1764948AE8F4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42C6-0ADD-4257-B9E8-86CD65BE46FF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0EE1-951D-4200-9ACA-7038AFFA4836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D77F-140B-4B72-9A05-61F47D38BD04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FEFB-AD23-45AB-9EF3-0414573E7585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F87F-8B3F-4D1D-9193-1A00EA26A8C8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9A7C-B090-4FA5-9AA3-D545CC4D7689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99EE-D998-4045-B475-ABB47FE1D15A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D1DF-52DD-4B8F-BFCD-E45F3BD11E2F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A3A2-1EB8-44AA-B6D9-80A162E80413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A181-4C5E-46E4-B7C9-18E005615ED5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CDB-66CF-4271-A200-1ADAF4F0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769-423D-4F31-9BB1-94BA0D5E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1B2-9BE3-46A9-AEA7-4B2CBDF1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737A-B61A-408A-8B29-73C70BB9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F48-0129-4E8A-B51E-2470CDDC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992-751C-4098-B11A-7FD310C4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B1CA-CCAA-455C-8750-E2C270F4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065-8EC4-4571-859C-C1670F7D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963-6059-4201-8A58-1B6FEF47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34D-C5E3-4B7A-AA14-3C42AE26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4991-C005-4283-AF76-DEB8D91C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B14-B68A-405B-807F-9CCA6DE7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1D13-560B-40DF-BB62-7C857EE7A061}" type="datetime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EBA3-4682-4035-BB75-FECD10C51EA2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67C9-872C-4772-AF51-1C2BE27C2730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68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Управление качеством воздуха в странах Восточного региона ЕИСП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рименение мероприятий по снижению выбросов от транспорта на городском уровне (Российская Федерация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спользование экономических инструментов для обеспечения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устойчивого развития  транспорта в города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Кишинев, Молдова, 21-22 сентября 2014 г.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8" name="Диаграмма 72" descr=""/>
          <p:cNvPicPr/>
          <p:nvPr/>
        </p:nvPicPr>
        <p:blipFill>
          <a:blip r:embed="rId1"/>
          <a:srcRect l="-1639" t="-1914" r="-2911" b="-3354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инамика численности легковых автомобиле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сценарии:1 – инновационный, 2 – инерционны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тносительная численность легковых автомобилей по экологическом классу (инновационный сценари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2" name="Диаграмма 75" descr=""/>
          <p:cNvPicPr/>
          <p:nvPr/>
        </p:nvPicPr>
        <p:blipFill>
          <a:blip r:embed="rId1"/>
          <a:srcRect l="-206" t="-1192" r="-4211" b="-5436"/>
          <a:stretch/>
        </p:blipFill>
        <p:spPr>
          <a:xfrm>
            <a:off x="0" y="1197000"/>
            <a:ext cx="9468000" cy="590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тносительная числен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легковых автомобилей по экологическом классу (инерционный сценари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5" name="Диаграмма 85" descr=""/>
          <p:cNvPicPr/>
          <p:nvPr/>
        </p:nvPicPr>
        <p:blipFill>
          <a:blip r:embed="rId1"/>
          <a:srcRect l="-227" t="-1835" r="-4021" b="-5470"/>
          <a:stretch/>
        </p:blipFill>
        <p:spPr>
          <a:xfrm>
            <a:off x="0" y="1125360"/>
            <a:ext cx="9468000" cy="597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7" name="Диаграмма 72" descr=""/>
          <p:cNvPicPr/>
          <p:nvPr/>
        </p:nvPicPr>
        <p:blipFill>
          <a:blip r:embed="rId1"/>
          <a:srcRect l="-1639" t="-1914" r="-2911" b="-3354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инамика численности грузовых автомобиле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сценарии:1 – инновационный, 2 – инерционны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9" name="Диаграмма 73" descr=""/>
          <p:cNvPicPr/>
          <p:nvPr/>
        </p:nvPicPr>
        <p:blipFill>
          <a:blip r:embed="rId2"/>
          <a:srcRect l="-1110" t="-2161" r="-2912" b="-5570"/>
          <a:stretch/>
        </p:blipFill>
        <p:spPr>
          <a:xfrm>
            <a:off x="0" y="1413000"/>
            <a:ext cx="939636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тносительная числен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грузовых автомобилей по экологическом классу (инновационный сценари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2" name="Диаграмма 79" descr=""/>
          <p:cNvPicPr/>
          <p:nvPr/>
        </p:nvPicPr>
        <p:blipFill>
          <a:blip r:embed="rId1"/>
          <a:srcRect l="-203" t="-1196" r="-4152" b="-1486"/>
          <a:stretch/>
        </p:blipFill>
        <p:spPr>
          <a:xfrm>
            <a:off x="0" y="1052640"/>
            <a:ext cx="9468000" cy="580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тносительная числен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грузовых автомобилей по экологическом классу (инерционный сценари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Диаграмма 80" descr=""/>
          <p:cNvPicPr/>
          <p:nvPr/>
        </p:nvPicPr>
        <p:blipFill>
          <a:blip r:embed="rId1"/>
          <a:srcRect l="-207" t="-1196" r="-4152" b="-1486"/>
          <a:stretch/>
        </p:blipFill>
        <p:spPr>
          <a:xfrm>
            <a:off x="0" y="1125360"/>
            <a:ext cx="954072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Диаграмма 72" descr=""/>
          <p:cNvPicPr/>
          <p:nvPr/>
        </p:nvPicPr>
        <p:blipFill>
          <a:blip r:embed="rId1"/>
          <a:srcRect l="-1639" t="-1914" r="-2911" b="-3354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инамика численности автобусов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сценарии:1 – инновационный, 2 – инерционны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Диаграмма 73" descr=""/>
          <p:cNvPicPr/>
          <p:nvPr/>
        </p:nvPicPr>
        <p:blipFill>
          <a:blip r:embed="rId2"/>
          <a:srcRect l="-1110" t="-2161" r="-2912" b="-5570"/>
          <a:stretch/>
        </p:blipFill>
        <p:spPr>
          <a:xfrm>
            <a:off x="0" y="1413000"/>
            <a:ext cx="9396360" cy="5445000"/>
          </a:xfrm>
          <a:prstGeom prst="rect">
            <a:avLst/>
          </a:prstGeom>
          <a:ln w="0">
            <a:noFill/>
          </a:ln>
        </p:spPr>
      </p:pic>
      <p:pic>
        <p:nvPicPr>
          <p:cNvPr id="90" name="Диаграмма 74" descr=""/>
          <p:cNvPicPr/>
          <p:nvPr/>
        </p:nvPicPr>
        <p:blipFill>
          <a:blip r:embed="rId3"/>
          <a:srcRect l="-1534" t="-2164" r="-2935" b="-2795"/>
          <a:stretch/>
        </p:blipFill>
        <p:spPr>
          <a:xfrm>
            <a:off x="0" y="1413000"/>
            <a:ext cx="932508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тносительная числен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автобусов по экологическом классу (инновационный сценари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3" name="Диаграмма 83" descr=""/>
          <p:cNvPicPr/>
          <p:nvPr/>
        </p:nvPicPr>
        <p:blipFill>
          <a:blip r:embed="rId1"/>
          <a:srcRect l="-201" t="-1401" r="-3779" b="-4304"/>
          <a:stretch/>
        </p:blipFill>
        <p:spPr>
          <a:xfrm>
            <a:off x="0" y="1125360"/>
            <a:ext cx="9468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тносительная числен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автобусов по экологическом классу (инерционный сценари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Диаграмма 84" descr=""/>
          <p:cNvPicPr/>
          <p:nvPr/>
        </p:nvPicPr>
        <p:blipFill>
          <a:blip r:embed="rId1"/>
          <a:srcRect l="-204" t="-1355" r="-3656" b="-1258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2400" spc="-1" strike="noStrike">
                <a:solidFill>
                  <a:srgbClr val="a50021"/>
                </a:solidFill>
                <a:latin typeface="Times New Roman"/>
              </a:rPr>
              <a:t>Протяженность дорог ГК “Автодор”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012C-5D37-4D8E-97BA-1EAEC6096102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9" name="Диаграмма 1" descr=""/>
          <p:cNvPicPr/>
          <p:nvPr/>
        </p:nvPicPr>
        <p:blipFill>
          <a:blip r:embed="rId1"/>
          <a:srcRect l="-3487" t="-3374" r="-3502" b="-3807"/>
          <a:stretch/>
        </p:blipFill>
        <p:spPr>
          <a:xfrm>
            <a:off x="-252360" y="692280"/>
            <a:ext cx="9648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0" y="0"/>
            <a:ext cx="91440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Основные социально-экономические сведения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Общая площадь территории  1709824,6 тыс. га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c2b"/>
                </a:solidFill>
                <a:latin typeface="Times New Roman"/>
              </a:rPr>
              <a:t>Численность населения - 143,7 млн. человек 1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лотность населения, чел. на 1 км 2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Российской Федерации - 8,4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Центральном федеральном округе - 59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Северо-Кавказском федеральном округе - 56,3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Южном федеральном округе - 33,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Приволжском федеральном округе - 28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Северо-Западном федеральном округе - 8,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Уральском федеральном округе - 6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Сибирском федеральном округе - 3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Дальневосточном федеральном округе - 1,0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ротяженность автомобильных дорог общего пользования  1283 тыс. к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26D9-ADB4-479F-9425-1A3623EC2727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0021"/>
                </a:solidFill>
                <a:latin typeface="Times New Roman"/>
              </a:rPr>
              <a:t>Интенсивность движения на дорогах ГК “Автодор”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5991-977E-41B5-BB0D-5D3669779141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2" name="Диаграмма 2" descr=""/>
          <p:cNvPicPr/>
          <p:nvPr/>
        </p:nvPicPr>
        <p:blipFill>
          <a:blip r:embed="rId1"/>
          <a:srcRect l="-1828" t="-4305" r="-3493" b="-4829"/>
          <a:stretch/>
        </p:blipFill>
        <p:spPr>
          <a:xfrm>
            <a:off x="0" y="692280"/>
            <a:ext cx="9468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C6FA-179D-4AB0-AB66-0CC85C76E3BE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182520"/>
            <a:ext cx="9144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ценка значения валовых выбросов загрязняющих веществ транспортными потоками на дорожной сети ГК «Автодор» для каждого сценария осуществлялась по методике EMEP/EEA, которую используют для этих целей в 27 странах мира, в рамках реализации Проект ПРООН/ГЭФ – Минтранс России «Сокращение выбросов парниковых газов от автомобильного транспорта в городах России»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ценка выбросов диоксида углерода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O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оксида углерода (СО), метана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H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неметановых углеводородов (НМУ) (суммарные углеводороды СН минус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H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оксидов азота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NO</a:t>
            </a:r>
            <a:r>
              <a:rPr b="1" lang="en-GB" sz="2400" spc="-1" strike="noStrike" baseline="-25000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закиси азота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диоксида азота (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O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диоксида серы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SO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твердых частиц (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M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аммиака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NH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 транспортными потоками на всех дорогах Государственной компании проводилась с использованием компьютерной программы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OPERT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4, версия 11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8763120" cy="52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Symbol"/>
                <a:ea typeface="Symbol"/>
              </a:rPr>
              <a:t>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395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аловые выброс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О на дорогах ГК «Автодор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780E-2DE6-4540-A50C-BE0FBCC442CE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8" name="Диаграмма 105" descr=""/>
          <p:cNvPicPr/>
          <p:nvPr/>
        </p:nvPicPr>
        <p:blipFill>
          <a:blip r:embed="rId1"/>
          <a:srcRect l="-1481" t="-3802" r="-3475" b="-2239"/>
          <a:stretch/>
        </p:blipFill>
        <p:spPr>
          <a:xfrm>
            <a:off x="0" y="907920"/>
            <a:ext cx="9396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аловые выброс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углеводородов на дорогах ГК «Автодор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FE89-3ADB-4E77-AD09-CED7FD833143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Диаграмма 106" descr=""/>
          <p:cNvPicPr/>
          <p:nvPr/>
        </p:nvPicPr>
        <p:blipFill>
          <a:blip r:embed="rId1"/>
          <a:srcRect l="-2167" t="-3995" r="-4029" b="-6032"/>
          <a:stretch/>
        </p:blipFill>
        <p:spPr>
          <a:xfrm>
            <a:off x="-181080" y="836640"/>
            <a:ext cx="9577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аловые выброс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ксидов азота на дорогах ГК «Автодор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0F07-9B65-4AE1-8C41-2580AC71F138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Диаграмма 109" descr=""/>
          <p:cNvPicPr/>
          <p:nvPr/>
        </p:nvPicPr>
        <p:blipFill>
          <a:blip r:embed="rId1"/>
          <a:srcRect l="-1004" t="-2755" r="-4263" b="-5155"/>
          <a:stretch/>
        </p:blipFill>
        <p:spPr>
          <a:xfrm>
            <a:off x="0" y="620640"/>
            <a:ext cx="946800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аловые выброс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звешенных частиц на дорогах ГК «Автодор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6CB0-C43E-468C-A312-FFAA2A1BF24F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Диаграмма 110" descr=""/>
          <p:cNvPicPr/>
          <p:nvPr/>
        </p:nvPicPr>
        <p:blipFill>
          <a:blip r:embed="rId1"/>
          <a:srcRect l="-1349" t="-3170" r="-4001" b="-5370"/>
          <a:stretch/>
        </p:blipFill>
        <p:spPr>
          <a:xfrm>
            <a:off x="0" y="765000"/>
            <a:ext cx="939636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аловые выбросы парниковых газов на дорогах ГК «Росавтодор»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6B2D-DFD3-4191-9B84-D414EF845BD7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Диаграмма 120" descr=""/>
          <p:cNvPicPr/>
          <p:nvPr/>
        </p:nvPicPr>
        <p:blipFill>
          <a:blip r:embed="rId1"/>
          <a:srcRect l="-2137" t="-3179" r="-3332" b="-4800"/>
          <a:stretch/>
        </p:blipFill>
        <p:spPr>
          <a:xfrm>
            <a:off x="-181080" y="907920"/>
            <a:ext cx="9577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Спасибо за внимание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опросы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ыбросы загрязняющих веществ в атмосферный воздух в 2007 – 2013 гг. в Российской Федерации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тыс. т/год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7736-B9B6-4F66-B368-93C1CE8D5CD4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2133720"/>
          <a:ext cx="9134640" cy="4064040"/>
        </p:xfrm>
        <a:graphic>
          <a:graphicData uri="http://schemas.openxmlformats.org/drawingml/2006/table">
            <a:tbl>
              <a:tblPr/>
              <a:tblGrid>
                <a:gridCol w="216000"/>
                <a:gridCol w="2658240"/>
                <a:gridCol w="1643400"/>
                <a:gridCol w="1522800"/>
                <a:gridCol w="1583280"/>
                <a:gridCol w="151092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Источник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1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Выброс от всех источников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5303,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2559,8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2487,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1793,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Автомобильный транспорт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4666,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3538,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3325,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3347,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0" y="4046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Транспортная стратегия Российской Федерации на период до 2030 года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утверждена распоряжением Правительства от 22 ноября 2008 года №1734-р. Она определяет основные направления государственной транспортной политики на долгосрочный период, в том числе цели развития транспортной системы и принципы государственного регулирования транспортной деятельности. Транспортная стратегия охватывает все виды транспорта (автомобильный, железнодорожный, воздушный, морской и внутренний водный), а также дорожное хозяйство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Скорректирована распоряжением Правительства</a:t>
            </a:r>
            <a:br>
              <a:rPr sz="2800"/>
            </a:b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 Российской Федерации  от 11 июня 2014 года № 1032-р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E8BB-5BBF-4B82-B549-D13E946AA4A9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0" y="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В 2011 году численность парка легковых автомобилей составила 36,4 млн. единиц, что выше уровня 2000 года на 79 процентов. При этом автобусные перевозки в стране сократились на 42 процента, уменьшились пригородные железнодорожные перевозки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     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 начала осуществления программы экономических реформ доминирующее положение в сфере транспорта занял негосударственный сектор. Предприятиями негосударственных форм собственности в настоящее время на автомобильном транспорте выполняется 95,8 процента перевозок грузов и 20,8 процента перевозок пассажиров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CE21-1456-4E8A-BEB5-F85A8D40211C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0" y="0"/>
            <a:ext cx="9144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ля ускорения создания в Российской Федерации автомагистралей нового поколения и привлечения в дорожное хозяйство дополнительных внебюджетных источников в 2009 году создана Государственная компания «Российские автомобильные дороги»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В доверительное управление указанной Государственной компании по состоянию на 1 января 2012 года передано 2601,7 км автомобильных дорог общего пользования федерального значения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E4B2-4518-4590-8A95-00E6027545A6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0" y="0"/>
            <a:ext cx="914400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Инновационный вариант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предполагает ускоренное и сбалансированное развитие транспортного комплекса страны, которое наряду с достижением целей, предусматриваемых при реализации базового (консервативного) варианта, позволит обеспечить транспортные условия для развития инновационной составляющей экономики, повышения качества жизни населения, перехода к полицентрической модели пространственного развития России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При реализации этого варианта меры по развитию транспортной системы страны будут сосредоточены наряду со столичными агломерациями также в городах, в которых концентрируется значительный инновационный и человеческий капитал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0919-471A-42CA-B365-267EBDED4E5F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0" y="0"/>
            <a:ext cx="9144000" cy="65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Цель «Снижение негативного воздействия транспортной системы на окружающую среду»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Основные задачи:</a:t>
            </a:r>
            <a:br>
              <a:rPr sz="28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одернизация транспортных средств и объектов транспортной инфраструктуры, направленная на снижение их негативного воздействия на окружающую среду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вышение доли использования экологически чистых видов топлива, гибридных и электрических двигателей транспортных средств, материалов и технологий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недрение систем экологического менеджмента и управления качеством в области охраны окружающей среды и обеспечения экологической безопасности на транспорт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2163-2EB1-4519-93ED-ECDDA91284D9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0" y="0"/>
            <a:ext cx="914400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Итоги реализации Транспортной стратеги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Объем выбросов загрязняющих атмосферу веществ на автомобильном транспорте сократится по инновационному варианту на 45 процентов, по базовому (инерционному) варианту - на 40 процентов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Объем удельных выбросов СO  на автомобильном транспорте сократится по инновационному варианту на 22 процента, по базовому (инерционному) варианту - на 20 процентов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6371-FFA2-4FB1-92BC-F94D2A6295C8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0:06:48Z</dcterms:created>
  <dc:creator>a</dc:creator>
  <dc:description/>
  <dc:language>en-US</dc:language>
  <cp:lastModifiedBy>11</cp:lastModifiedBy>
  <cp:lastPrinted>2013-10-11T11:42:42Z</cp:lastPrinted>
  <dcterms:modified xsi:type="dcterms:W3CDTF">2014-10-16T08:50:27Z</dcterms:modified>
  <cp:revision>369</cp:revision>
  <dc:subject/>
  <dc:title>Малые и средние ТЭЦ  практическая конференция, Голицыно, 7-8 сентября 2005 г.</dc:title>
</cp:coreProperties>
</file>