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4680" y="763200"/>
            <a:ext cx="4971960" cy="37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AB3E-9336-4614-9508-EF90A2B42F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4EA4-8A88-4B7F-9140-80C7C7C7461D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D414-B327-4E29-A55E-8362BF3F8979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DA5E-144D-46C1-AC95-120B60539753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250B-743F-4854-A389-AE827A57244C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0DFC-16BB-4630-A04A-85D891808B1D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9510-B7EC-469B-9226-5CDCDA1091F1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D54C-FFC4-4717-A476-4D7476192E92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FBCF-6E2D-4C7B-85BE-96C3B68C0AED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1471-560A-40DA-859C-0FA6129C666D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CF59-B006-44D2-8C13-B90438C6F0AD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18EE-E957-42A8-B178-B4A373229D96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7C85-4C1F-48AF-AE1E-080FB29E3BEC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3E78-7C63-44D1-A63A-332CC578FE83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64DA-8671-4941-8F15-F593BED4C02E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BBBF-B28A-4EBC-8C4D-357B73F10CA4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55E3-5E60-4AC7-BA6F-58F312658656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AB07-3A13-49AC-89AB-535039C68C6B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92CA-2131-42F2-B657-766455BC0B9E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069B-F61E-4741-B9F9-BE1930915733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6CD9-53DC-4518-9FB0-251AEB1B0A0D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13F7-3048-4F62-A668-ED7E9E6C73F3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4995-85E1-4CB0-B998-FE6D3B7B1E39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50AC-066E-49DD-9A6E-AB43D75342CF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3655-33D0-4271-8088-7878716F2352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50D7-2171-41B0-A06A-48CD0E64176A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917B-3DB8-45B6-9973-8F5A2C2B205A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F250-8ACE-48C3-8098-B3CD17EC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68EE-FC62-4E32-A969-A92F7B60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2602-D1A5-48F8-B247-416167D2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17BA-06B4-4B9F-99C5-CA541C4B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DE6-403D-4DF1-B4BB-AE430D0D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3965-A47C-4D90-B0E6-E0C09EA8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AC9C-2B1C-4FEF-A4E0-D3EB9E9B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75CC-206E-4176-BA5C-C7805D6B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4C26-C8D3-4119-B716-1413B011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CD4A-7980-4F11-82B5-04AD121C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EF98-C075-4BE6-8695-4A96EF10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904B-BAAB-4710-8929-CC6F043D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69C4-3AB8-43A1-821D-CC1186D9147B}" type="datetime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EE1B-2C0C-4EE8-ACB5-25ECAED55C9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6BC3-B2E6-4039-8A34-46163E0E18C6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68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Управление качеством воздуха в странах Восточного региона ЕИСП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рименение мероприятий по снижению выбросов от транспорта на городском уровне (Российская Федерация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спользование экономических инструментов для обеспечения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устойчивого развития  транспорта в городах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Кишинев, Молдова, 21-22 сентября 2014 г.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8" name="Диаграмма 72" descr=""/>
          <p:cNvPicPr/>
          <p:nvPr/>
        </p:nvPicPr>
        <p:blipFill>
          <a:blip r:embed="rId1"/>
          <a:srcRect l="-1639" t="-1914" r="-2911" b="-3354"/>
          <a:stretch/>
        </p:blipFill>
        <p:spPr>
          <a:xfrm>
            <a:off x="0" y="1052640"/>
            <a:ext cx="9396360" cy="5805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Динамика численности легковых автомобиле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(сценарии:1 – инновационный, 2 – инерционны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Относительная численность легковых автомобилей по экологическом классу (инновационный сценари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2" name="Диаграмма 75" descr=""/>
          <p:cNvPicPr/>
          <p:nvPr/>
        </p:nvPicPr>
        <p:blipFill>
          <a:blip r:embed="rId1"/>
          <a:srcRect l="-206" t="-1192" r="-4211" b="-5436"/>
          <a:stretch/>
        </p:blipFill>
        <p:spPr>
          <a:xfrm>
            <a:off x="0" y="1197000"/>
            <a:ext cx="9468000" cy="590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Относительная численност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легковых автомобилей по экологическом классу (инерционный сценари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5" name="Диаграмма 85" descr=""/>
          <p:cNvPicPr/>
          <p:nvPr/>
        </p:nvPicPr>
        <p:blipFill>
          <a:blip r:embed="rId1"/>
          <a:srcRect l="-227" t="-1835" r="-4021" b="-5470"/>
          <a:stretch/>
        </p:blipFill>
        <p:spPr>
          <a:xfrm>
            <a:off x="0" y="1125360"/>
            <a:ext cx="9468000" cy="597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7" name="Диаграмма 72" descr=""/>
          <p:cNvPicPr/>
          <p:nvPr/>
        </p:nvPicPr>
        <p:blipFill>
          <a:blip r:embed="rId1"/>
          <a:srcRect l="-1639" t="-1914" r="-2911" b="-3354"/>
          <a:stretch/>
        </p:blipFill>
        <p:spPr>
          <a:xfrm>
            <a:off x="0" y="1052640"/>
            <a:ext cx="9396360" cy="5805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Динамика численности грузовых автомобилей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(сценарии:1 – инновационный, 2 – инерционны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9" name="Диаграмма 73" descr=""/>
          <p:cNvPicPr/>
          <p:nvPr/>
        </p:nvPicPr>
        <p:blipFill>
          <a:blip r:embed="rId2"/>
          <a:srcRect l="-1110" t="-2161" r="-2912" b="-5570"/>
          <a:stretch/>
        </p:blipFill>
        <p:spPr>
          <a:xfrm>
            <a:off x="0" y="1413000"/>
            <a:ext cx="9396360" cy="544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Относительная численност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грузовых автомобилей по экологическом классу (инновационный сценари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2" name="Диаграмма 79" descr=""/>
          <p:cNvPicPr/>
          <p:nvPr/>
        </p:nvPicPr>
        <p:blipFill>
          <a:blip r:embed="rId1"/>
          <a:srcRect l="-203" t="-1196" r="-4152" b="-1486"/>
          <a:stretch/>
        </p:blipFill>
        <p:spPr>
          <a:xfrm>
            <a:off x="0" y="1052640"/>
            <a:ext cx="9468000" cy="5805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Относительная численност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грузовых автомобилей по экологическом классу (инерционный сценари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Диаграмма 80" descr=""/>
          <p:cNvPicPr/>
          <p:nvPr/>
        </p:nvPicPr>
        <p:blipFill>
          <a:blip r:embed="rId1"/>
          <a:srcRect l="-207" t="-1196" r="-4152" b="-1486"/>
          <a:stretch/>
        </p:blipFill>
        <p:spPr>
          <a:xfrm>
            <a:off x="0" y="1125360"/>
            <a:ext cx="954072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Диаграмма 72" descr=""/>
          <p:cNvPicPr/>
          <p:nvPr/>
        </p:nvPicPr>
        <p:blipFill>
          <a:blip r:embed="rId1"/>
          <a:srcRect l="-1639" t="-1914" r="-2911" b="-3354"/>
          <a:stretch/>
        </p:blipFill>
        <p:spPr>
          <a:xfrm>
            <a:off x="0" y="1052640"/>
            <a:ext cx="9396360" cy="5805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Динамика численности автобусов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(сценарии:1 – инновационный, 2 – инерционны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Диаграмма 73" descr=""/>
          <p:cNvPicPr/>
          <p:nvPr/>
        </p:nvPicPr>
        <p:blipFill>
          <a:blip r:embed="rId2"/>
          <a:srcRect l="-1110" t="-2161" r="-2912" b="-5570"/>
          <a:stretch/>
        </p:blipFill>
        <p:spPr>
          <a:xfrm>
            <a:off x="0" y="1413000"/>
            <a:ext cx="9396360" cy="5445000"/>
          </a:xfrm>
          <a:prstGeom prst="rect">
            <a:avLst/>
          </a:prstGeom>
          <a:ln w="0">
            <a:noFill/>
          </a:ln>
        </p:spPr>
      </p:pic>
      <p:pic>
        <p:nvPicPr>
          <p:cNvPr id="90" name="Диаграмма 74" descr=""/>
          <p:cNvPicPr/>
          <p:nvPr/>
        </p:nvPicPr>
        <p:blipFill>
          <a:blip r:embed="rId3"/>
          <a:srcRect l="-1534" t="-2164" r="-2935" b="-2795"/>
          <a:stretch/>
        </p:blipFill>
        <p:spPr>
          <a:xfrm>
            <a:off x="0" y="1413000"/>
            <a:ext cx="9325080" cy="544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Относительная численност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автобусов по экологическом классу (инновационный сценари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3" name="Диаграмма 83" descr=""/>
          <p:cNvPicPr/>
          <p:nvPr/>
        </p:nvPicPr>
        <p:blipFill>
          <a:blip r:embed="rId1"/>
          <a:srcRect l="-201" t="-1401" r="-3779" b="-4304"/>
          <a:stretch/>
        </p:blipFill>
        <p:spPr>
          <a:xfrm>
            <a:off x="0" y="1125360"/>
            <a:ext cx="946800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Относительная численност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автобусов по экологическом классу (инерционный сценари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Диаграмма 84" descr=""/>
          <p:cNvPicPr/>
          <p:nvPr/>
        </p:nvPicPr>
        <p:blipFill>
          <a:blip r:embed="rId1"/>
          <a:srcRect l="-204" t="-1355" r="-3656" b="-1258"/>
          <a:stretch/>
        </p:blipFill>
        <p:spPr>
          <a:xfrm>
            <a:off x="0" y="1052640"/>
            <a:ext cx="9396360" cy="5805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uk-UA" sz="2400" spc="-1" strike="noStrike">
                <a:solidFill>
                  <a:srgbClr val="a50021"/>
                </a:solidFill>
                <a:latin typeface="Times New Roman"/>
              </a:rPr>
              <a:t>Протяженность дорог ГК “Автодор”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CF6E-5909-45D8-A5FC-E495535ABA4B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9" name="Диаграмма 1" descr=""/>
          <p:cNvPicPr/>
          <p:nvPr/>
        </p:nvPicPr>
        <p:blipFill>
          <a:blip r:embed="rId1"/>
          <a:srcRect l="-3487" t="-3374" r="-3502" b="-3807"/>
          <a:stretch/>
        </p:blipFill>
        <p:spPr>
          <a:xfrm>
            <a:off x="-252360" y="692280"/>
            <a:ext cx="9648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0" y="0"/>
            <a:ext cx="914400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Основные социально-экономические сведения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Общая площадь территории  1709824,6 тыс. га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c2b"/>
                </a:solidFill>
                <a:latin typeface="Times New Roman"/>
              </a:rPr>
              <a:t>Численность населения - 143,7 млн. человек 1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лотность населения, чел. на 1 км 2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 Российской Федерации - 8,4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 Центральном федеральном округе - 59,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 Северо-Кавказском федеральном округе - 56,3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 Южном федеральном округе - 33,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 Приволжском федеральном округе - 28,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 Северо-Западном федеральном округе - 8,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 Уральском федеральном округе - 6,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 Сибирском федеральном округе - 3,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 Дальневосточном федеральном округе - 1,0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ротяженность автомобильных дорог общего пользования  1283 тыс. км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3E32-B51B-4343-9E1F-297FFB7FFFFA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a50021"/>
                </a:solidFill>
                <a:latin typeface="Times New Roman"/>
              </a:rPr>
              <a:t>Интенсивность движения на дорогах ГК “Автодор”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3824-7433-4EF5-B5BE-1095BD48269C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2" name="Диаграмма 2" descr=""/>
          <p:cNvPicPr/>
          <p:nvPr/>
        </p:nvPicPr>
        <p:blipFill>
          <a:blip r:embed="rId1"/>
          <a:srcRect l="-1828" t="-4305" r="-3493" b="-4829"/>
          <a:stretch/>
        </p:blipFill>
        <p:spPr>
          <a:xfrm>
            <a:off x="0" y="692280"/>
            <a:ext cx="9468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F602-0AB3-4210-925F-4633067A325D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182520"/>
            <a:ext cx="91440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ценка значения валовых выбросов загрязняющих веществ транспортными потоками на дорожной сети ГК «Автодор» для каждого сценария осуществлялась по методике EMEP/EEA, которую используют для этих целей в 27 странах мира, в рамках реализации Проект ПРООН/ГЭФ – Минтранс России «Сокращение выбросов парниковых газов от автомобильного транспорта в городах России»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Оценка выбросов диоксида углерода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CO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оксида углерода (СО), метана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CH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неметановых углеводородов (НМУ) (суммарные углеводороды СН минус 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CH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оксидов азота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NO</a:t>
            </a:r>
            <a:r>
              <a:rPr b="1" lang="en-GB" sz="2400" spc="-1" strike="noStrike" baseline="-25000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закиси азота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диоксида азота (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O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диоксида серы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SO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твердых частиц (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M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аммиака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NH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 транспортными потоками на всех дорогах Государственной компании проводилась с использованием компьютерной программы 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COPERT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4, версия 11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197000"/>
            <a:ext cx="8763120" cy="52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Symbol"/>
                <a:ea typeface="Symbol"/>
              </a:rPr>
              <a:t>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395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аловые выбросы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О на дорогах ГК «Автодор»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7F4A-1AA1-4BF5-A935-FC1ADBC467EA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8" name="Диаграмма 105" descr=""/>
          <p:cNvPicPr/>
          <p:nvPr/>
        </p:nvPicPr>
        <p:blipFill>
          <a:blip r:embed="rId1"/>
          <a:srcRect l="-1481" t="-3802" r="-3475" b="-2239"/>
          <a:stretch/>
        </p:blipFill>
        <p:spPr>
          <a:xfrm>
            <a:off x="0" y="907920"/>
            <a:ext cx="9396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аловые выбросы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углеводородов на дорогах ГК «Автодор»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86AF-A06D-475D-BA12-1AD7F7AFA625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1" name="Диаграмма 106" descr=""/>
          <p:cNvPicPr/>
          <p:nvPr/>
        </p:nvPicPr>
        <p:blipFill>
          <a:blip r:embed="rId1"/>
          <a:srcRect l="-2167" t="-3995" r="-4029" b="-6032"/>
          <a:stretch/>
        </p:blipFill>
        <p:spPr>
          <a:xfrm>
            <a:off x="-181080" y="836640"/>
            <a:ext cx="9577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аловые выбросы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оксидов азота на дорогах ГК «Автодор»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3EA6-0BAC-4D7B-BBFE-F74B72B8BA22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Диаграмма 109" descr=""/>
          <p:cNvPicPr/>
          <p:nvPr/>
        </p:nvPicPr>
        <p:blipFill>
          <a:blip r:embed="rId1"/>
          <a:srcRect l="-1004" t="-2755" r="-4263" b="-5155"/>
          <a:stretch/>
        </p:blipFill>
        <p:spPr>
          <a:xfrm>
            <a:off x="0" y="620640"/>
            <a:ext cx="946800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аловые выбросы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звешенных частиц на дорогах ГК «Автодор»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A354-C86B-44D7-A75D-82380CABF198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7" name="Диаграмма 110" descr=""/>
          <p:cNvPicPr/>
          <p:nvPr/>
        </p:nvPicPr>
        <p:blipFill>
          <a:blip r:embed="rId1"/>
          <a:srcRect l="-1349" t="-3170" r="-4001" b="-5370"/>
          <a:stretch/>
        </p:blipFill>
        <p:spPr>
          <a:xfrm>
            <a:off x="0" y="765000"/>
            <a:ext cx="939636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5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Валовые выбросы парниковых газов на дорогах ГК «Росавтодор»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15A5-C009-4A51-AC68-CA39BB557137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0" name="Диаграмма 120" descr=""/>
          <p:cNvPicPr/>
          <p:nvPr/>
        </p:nvPicPr>
        <p:blipFill>
          <a:blip r:embed="rId1"/>
          <a:srcRect l="-2137" t="-3179" r="-3332" b="-4800"/>
          <a:stretch/>
        </p:blipFill>
        <p:spPr>
          <a:xfrm>
            <a:off x="-181080" y="907920"/>
            <a:ext cx="9577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Спасибо за внимание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Вопросы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ыбросы загрязняющих веществ в атмосферный воздух в 2007 – 2013 гг. в Российской Федерации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тыс. т/год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E0DD-6552-417A-AD5B-2076944B40C6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2133720"/>
          <a:ext cx="9134640" cy="4064040"/>
        </p:xfrm>
        <a:graphic>
          <a:graphicData uri="http://schemas.openxmlformats.org/drawingml/2006/table">
            <a:tbl>
              <a:tblPr/>
              <a:tblGrid>
                <a:gridCol w="216000"/>
                <a:gridCol w="2658240"/>
                <a:gridCol w="1643400"/>
                <a:gridCol w="1522800"/>
                <a:gridCol w="1583280"/>
                <a:gridCol w="151092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Источник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007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009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0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01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Выброс от всех источников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5303,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2559,8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2487,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1793,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Автомобильный транспорт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4666,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3538,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3325,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3347,0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0" y="40464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Транспортная стратегия Российской Федерации на период до 2030 года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утверждена распоряжением Правительства от 22 ноября 2008 года №1734-р. Она определяет основные направления государственной транспортной политики на долгосрочный период, в том числе цели развития транспортной системы и принципы государственного регулирования транспортной деятельности. Транспортная стратегия охватывает все виды транспорта (автомобильный, железнодорожный, воздушный, морской и внутренний водный), а также дорожное хозяйство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Скорректирована распоряжением Правительства</a:t>
            </a:r>
            <a:br>
              <a:rPr sz="2800"/>
            </a:b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 Российской Федерации  от 11 июня 2014 года № 1032-р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368B-797E-4352-B4E1-DEF102AAAC16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0" y="0"/>
            <a:ext cx="914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В 2011 году численность парка легковых автомобилей составила 36,4 млн. единиц, что выше уровня 2000 года на 79 процентов. При этом автобусные перевозки в стране сократились на 42 процента, уменьшились пригородные железнодорожные перевозки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     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 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С начала осуществления программы экономических реформ доминирующее положение в сфере транспорта занял негосударственный сектор. Предприятиями негосударственных форм собственности в настоящее время на автомобильном транспорте выполняется 95,8 процента перевозок грузов и 20,8 процента перевозок пассажиров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6B03-81BD-42AD-A8CC-04BEEE39C2F1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0" y="0"/>
            <a:ext cx="9144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Для ускорения создания в Российской Федерации автомагистралей нового поколения и привлечения в дорожное хозяйство дополнительных внебюджетных источников в 2009 году создана Государственная компания «Российские автомобильные дороги»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В доверительное управление указанной Государственной компании по состоянию на 1 января 2012 года передано 2601,7 км автомобильных дорог общего пользования федерального значения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E45D-0A15-4C6C-856D-EBDF28686104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0" y="0"/>
            <a:ext cx="914400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Инновационный вариант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предполагает ускоренное и сбалансированное развитие транспортного комплекса страны, которое наряду с достижением целей, предусматриваемых при реализации базового (консервативного) варианта, позволит обеспечить транспортные условия для развития инновационной составляющей экономики, повышения качества жизни населения, перехода к полицентрической модели пространственного развития России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   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При реализации этого варианта меры по развитию транспортной системы страны будут сосредоточены наряду со столичными агломерациями также в городах, в которых концентрируется значительный инновационный и человеческий капитал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9ADC-6985-4DB0-8C4C-413F6D33F6B1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0" y="0"/>
            <a:ext cx="9144000" cy="65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Цель «Снижение негативного воздействия транспортной системы на окружающую среду»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Основные задачи:</a:t>
            </a:r>
            <a:br>
              <a:rPr sz="28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    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модернизация транспортных средств и объектов транспортной инфраструктуры, направленная на снижение их негативного воздействия на окружающую среду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    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овышение доли использования экологически чистых видов топлива, гибридных и электрических двигателей транспортных средств, материалов и технологий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    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внедрение систем экологического менеджмента и управления качеством в области охраны окружающей среды и обеспечения экологической безопасности на транспорте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514F-0634-48A1-85B4-558DA1930A1D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0" y="0"/>
            <a:ext cx="9144000" cy="50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Итоги реализации Транспортной стратегии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Объем выбросов загрязняющих атмосферу веществ на автомобильном транспорте сократится по инновационному варианту на 45 процентов, по базовому (инерционному) варианту - на 40 процентов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Объем удельных выбросов СO  на автомобильном транспорте сократится по инновационному варианту на 22 процента, по базовому (инерционному) варианту - на 20 процентов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1FA2-5457-4824-836B-D4FD731B690E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0:06:48Z</dcterms:created>
  <dc:creator>a</dc:creator>
  <dc:description/>
  <dc:language>en-US</dc:language>
  <cp:lastModifiedBy>11</cp:lastModifiedBy>
  <cp:lastPrinted>2013-10-11T11:42:42Z</cp:lastPrinted>
  <dcterms:modified xsi:type="dcterms:W3CDTF">2014-10-16T08:50:27Z</dcterms:modified>
  <cp:revision>369</cp:revision>
  <dc:subject/>
  <dc:title>Малые и средние ТЭЦ  практическая конференция, Голицыно, 7-8 сентября 2005 г.</dc:title>
</cp:coreProperties>
</file>