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04025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CF2C-4D18-4391-B88F-540B62252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6159-0B2C-4A46-AB68-9DE5339E2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6A87-B61D-47F0-8C9C-7B27F37E3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53A6-0265-479A-9AF0-CE7ACC078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4E779-D5A3-4394-9DB0-9207B1525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4889F-C34F-4C90-B334-A8C7C0CE1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6D51D-F836-417E-8A7C-B9D6EEB0D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42A6A-D46F-4D2B-A384-847C3BDC6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8B35E-F69F-4EC1-B0E4-5EF89591F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16DF3-9AB8-417A-B360-3C37E1B53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45B07-36F7-4FAC-9334-90B321AB3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9744-24E7-4F29-B719-22CF079B3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25F4B-237C-4071-9F00-96879D14D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E5184-D1C5-4CB7-B4AA-515046886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977A0-AEF3-4BEA-BE80-E796434DF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D9C67-9983-4D5E-BB20-64276674D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57DDB-A615-4809-B735-354D6F73E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89F6-3042-4F68-B56C-16510029B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3574-E746-423A-9E98-0C0F70116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F9BB-560F-4763-84B4-432FE39EC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BAFB-EF82-456A-9D3A-E4971168A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2CD0-E3C7-4523-BA4C-483C4C961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F29B-EBDE-4A91-95EC-B66533C70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9A37-64DB-4905-86AC-98AF86204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60CEA-D48A-4815-91BE-1E5826108DC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7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5" name="Picture 6" descr="LOGO CE-EN-quadri.eps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9986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1"/>
          <p:cNvSpPr/>
          <p:nvPr/>
        </p:nvSpPr>
        <p:spPr>
          <a:xfrm>
            <a:off x="4267080" y="6659640"/>
            <a:ext cx="611280" cy="21600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68905-C005-4CE6-888C-2703C400F634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youtu.be/RJU_wrSVQoo" TargetMode="External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280" y="1341000"/>
            <a:ext cx="849636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7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ffd624"/>
                </a:solidFill>
                <a:latin typeface="Verdana"/>
              </a:rPr>
              <a:t>Module 9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11280" y="3789360"/>
            <a:ext cx="853272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Capacity development through knowledge sharing</a:t>
            </a:r>
            <a:endParaRPr b="0" i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95280" y="1268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f5494"/>
                </a:solidFill>
                <a:latin typeface="Verdana"/>
              </a:rPr>
              <a:t>Knowledge sharing context in DEVCO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24000" y="220464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f5494"/>
                </a:solidFill>
                <a:latin typeface="Verdana"/>
              </a:rPr>
              <a:t>- Staff cuts, simplification exercice ongoing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f5494"/>
                </a:solidFill>
                <a:latin typeface="Verdana"/>
              </a:rPr>
              <a:t>- New Mission statement "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EuropeAid aims at being </a:t>
            </a:r>
            <a:r>
              <a:rPr b="1" lang="en-GB" sz="2400" spc="-1" strike="noStrike">
                <a:solidFill>
                  <a:srgbClr val="0f5494"/>
                </a:solidFill>
                <a:latin typeface="Verdana"/>
              </a:rPr>
              <a:t>a learning organisation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"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f5494"/>
                </a:solidFill>
                <a:latin typeface="Verdana"/>
              </a:rPr>
              <a:t>- Learning and Knowledge development strategy in the making of aid developmen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f5494"/>
                </a:solidFill>
                <a:latin typeface="Verdana"/>
              </a:rPr>
              <a:t>- Management increasingly present on the Knowledge Sharing platform capacity4dev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f5494"/>
                </a:solidFill>
                <a:latin typeface="Verdana"/>
              </a:rPr>
              <a:t>Communities of practice: Group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93" name="Picture 1" descr=""/>
          <p:cNvPicPr/>
          <p:nvPr/>
        </p:nvPicPr>
        <p:blipFill>
          <a:blip r:embed="rId1"/>
          <a:srcRect l="0" t="0" r="0" b="18877"/>
          <a:stretch/>
        </p:blipFill>
        <p:spPr>
          <a:xfrm>
            <a:off x="5170320" y="4027320"/>
            <a:ext cx="3071880" cy="26179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"/>
          <p:cNvPicPr/>
          <p:nvPr/>
        </p:nvPicPr>
        <p:blipFill>
          <a:blip r:embed="rId2"/>
          <a:stretch/>
        </p:blipFill>
        <p:spPr>
          <a:xfrm>
            <a:off x="5148360" y="2230560"/>
            <a:ext cx="3095640" cy="17967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"/>
          <p:cNvPicPr/>
          <p:nvPr/>
        </p:nvPicPr>
        <p:blipFill>
          <a:blip r:embed="rId3"/>
          <a:stretch/>
        </p:blipFill>
        <p:spPr>
          <a:xfrm>
            <a:off x="179280" y="2600280"/>
            <a:ext cx="421668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f5494"/>
                </a:solidFill>
                <a:latin typeface="Verdana"/>
              </a:rPr>
              <a:t>Story telling: Voices &amp; View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2491920"/>
            <a:ext cx="8229600" cy="35290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" descr=""/>
          <p:cNvPicPr/>
          <p:nvPr/>
        </p:nvPicPr>
        <p:blipFill>
          <a:blip r:embed="rId2"/>
          <a:stretch/>
        </p:blipFill>
        <p:spPr>
          <a:xfrm>
            <a:off x="108000" y="2276640"/>
            <a:ext cx="2628720" cy="19573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" descr=""/>
          <p:cNvPicPr/>
          <p:nvPr/>
        </p:nvPicPr>
        <p:blipFill>
          <a:blip r:embed="rId3"/>
          <a:stretch/>
        </p:blipFill>
        <p:spPr>
          <a:xfrm>
            <a:off x="2760840" y="2276640"/>
            <a:ext cx="2104920" cy="20383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" descr=""/>
          <p:cNvPicPr/>
          <p:nvPr/>
        </p:nvPicPr>
        <p:blipFill>
          <a:blip r:embed="rId4"/>
          <a:srcRect l="0" t="8780" r="0" b="11291"/>
          <a:stretch/>
        </p:blipFill>
        <p:spPr>
          <a:xfrm>
            <a:off x="14400" y="4429080"/>
            <a:ext cx="4790880" cy="24289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"/>
          <p:cNvPicPr/>
          <p:nvPr/>
        </p:nvPicPr>
        <p:blipFill>
          <a:blip r:embed="rId5"/>
          <a:stretch/>
        </p:blipFill>
        <p:spPr>
          <a:xfrm>
            <a:off x="5435640" y="2502000"/>
            <a:ext cx="3120840" cy="18129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"/>
          <p:cNvPicPr/>
          <p:nvPr/>
        </p:nvPicPr>
        <p:blipFill>
          <a:blip r:embed="rId6"/>
          <a:stretch/>
        </p:blipFill>
        <p:spPr>
          <a:xfrm>
            <a:off x="4865760" y="4599000"/>
            <a:ext cx="409572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Knowledge sharing platform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04" name="Picture 4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16000" y="2349360"/>
            <a:ext cx="691200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f5494"/>
                </a:solidFill>
                <a:latin typeface="Verdana"/>
              </a:rPr>
              <a:t>Personal Capacity : </a:t>
            </a:r>
            <a:endParaRPr b="1" lang="en-US" sz="3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Learn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: Voices and views, Thematic groups 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Make your work or 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expertise visible :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profile / people section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Get support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from CoP / peers, find expertise in thematic groups 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Online collaboration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tools in groups to 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300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f5494"/>
                </a:solidFill>
                <a:latin typeface="Verdana"/>
              </a:rPr>
              <a:t>Build-up your Knowledge : group site / pages </a:t>
            </a:r>
            <a:endParaRPr b="1" lang="en-US" sz="12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300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f5494"/>
                </a:solidFill>
                <a:latin typeface="Verdana"/>
              </a:rPr>
              <a:t>Share updates, ideas and ask questions:  Blogs </a:t>
            </a:r>
            <a:endParaRPr b="1" lang="en-US" sz="12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300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f5494"/>
                </a:solidFill>
                <a:latin typeface="Verdana"/>
              </a:rPr>
              <a:t>Share your work, documents and files : Document library + Taxonomies / filters</a:t>
            </a:r>
            <a:endParaRPr b="1" lang="en-US" sz="12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300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f5494"/>
                </a:solidFill>
                <a:latin typeface="Verdana"/>
              </a:rPr>
              <a:t>Capitalise on your workshops : events pages</a:t>
            </a:r>
            <a:endParaRPr b="1" lang="en-US" sz="12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300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f5494"/>
                </a:solidFill>
                <a:latin typeface="Verdana"/>
              </a:rPr>
              <a:t>+ Task management, surveys etc</a:t>
            </a:r>
            <a:endParaRPr b="1" lang="en-US" sz="12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Coming up next =&gt; Projects :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Lessons Learned &amp; experiences shared from other projects (March 2014) 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Our Organisation's Capacity: 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2492280"/>
            <a:ext cx="822960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- To 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retain knowledge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/ stop reinventing of the wheel: knowledge online - not on emails : The nightmare 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- Increase 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adaptability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 to change and resilience: retain capacity despite people turn around, reorganisations, staff cuts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- Cross learning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among thematics + among various parts of the institution 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- Open our knowledge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 to and learn from partners, ngos, private sector, governments 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- Capitalise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on the huge 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knowledge and expertise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that stems 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from the implementation of thousands of projects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 : today stays mostly with the consultants and NGOs implementing our programmes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- Re-consolidate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 the knowledge of hundreds of project / programme websites onto capacity4dev 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- Offer an open consultation space : internal and external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Challenges ahead 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2276640"/>
            <a:ext cx="82296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Just started: Redevelopment in 2014 to move to Drupal 7 : an opportunity to re-architecture the site and deliver better on key challenges: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&gt;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Incentives: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build an conducive framework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&gt;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Learning Portal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: scorm compliant, eLearning, catalogues, course list,   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tracking etc – Pilot for the new external LMS of the COM 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&gt;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Projects + links to corporate tools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(pull data from Financial, GIS, PM..) 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&gt;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Online work tools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(spreadsheets, doc based collaboration) 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&gt;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Mobile and Multilingual 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&gt;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Dig out value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: Improved recommendations tool (who recommends)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&gt;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Usability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 improvements across the board : look and feel and workflows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f5494"/>
                </a:solidFill>
                <a:latin typeface="Verdana"/>
              </a:rPr>
              <a:t>&gt;</a:t>
            </a:r>
            <a:r>
              <a:rPr b="1" lang="fr-FR" sz="1600" spc="-1" strike="noStrike">
                <a:solidFill>
                  <a:srgbClr val="0f5494"/>
                </a:solidFill>
                <a:latin typeface="Verdana"/>
              </a:rPr>
              <a:t>Low bandwidth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&gt;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Widen Branding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: DEVCO </a:t>
            </a:r>
            <a:r>
              <a:rPr b="0" lang="en-GB" sz="1600" spc="-1" strike="noStrike">
                <a:solidFill>
                  <a:srgbClr val="0f5494"/>
                </a:solidFill>
                <a:latin typeface="Wingdings"/>
                <a:ea typeface="Wingdings"/>
              </a:rPr>
              <a:t>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 EU ? 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Questions ?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1584360" y="3718080"/>
            <a:ext cx="5975280" cy="107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turneem</dc:creator>
  <dc:description/>
  <dc:language>en-US</dc:language>
  <cp:lastModifiedBy>SANCHO HIDALGA Maria (DEVCO)</cp:lastModifiedBy>
  <cp:lastPrinted>2013-03-25T09:55:49Z</cp:lastPrinted>
  <dcterms:modified xsi:type="dcterms:W3CDTF">2014-03-17T09:49:32Z</dcterms:modified>
  <cp:revision>188</cp:revision>
  <dc:subject/>
  <dc:title>Slide 1</dc:title>
</cp:coreProperties>
</file>