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04A-4FD8-4ED6-9DBA-9B6B12F9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B9E-99D0-4E52-811A-641F686C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A28-D04E-4315-ABE5-8F281E69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D26-E052-45C2-AF3D-BF0650FD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6FC1-8F96-40E7-92CA-A43FC25C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5275-40A1-47DD-8E3B-B213BC37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35C8-E2B0-4B64-9E7B-1E6FB1FE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C3B7-8726-428B-8FB4-5A726B2D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77E2-BE34-44D7-AAB6-60CEC8E0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A35A-4840-4E9A-BC16-3BA777EC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1281-E854-476D-BF4C-68431A88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A1B-0756-4735-A25D-23349042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CDB8-3963-46D8-B72C-441C6527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F87C-D604-44CA-A01B-8C525851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D834-C51B-4316-86B6-2054C262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9472-C2B6-4FB8-95A8-91FE8690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9A5E-8DCB-4879-95FE-E96261F6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93E-06DF-460C-AE01-DBB360FF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735-6F94-4596-833C-EB730894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69F-AFDF-4E4D-83E8-64C4E318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22D-1454-47AF-AA3B-09845518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D65-F12B-434A-BDF9-8E3AF9B8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51E-6158-4544-A029-3F908541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EFC-7646-44CB-8397-776B3E6A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066B-8DED-4826-A92A-CB6767E2D1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AFA5-772F-46A7-8E13-9C13DFCEE03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49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d624"/>
                </a:solidFill>
                <a:latin typeface="Verdana"/>
              </a:rPr>
              <a:t>Module 9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Knowledge sharing context in DEVC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Staff cuts, simplification exercice ongo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New Mission statement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opeAid aims at being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learning organis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Learning and Knowledge development strategy in the making of aid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Management increasingly present on the Knowledge Sharing platform capacity4de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unities of practice: Grou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rcRect l="0" t="0" r="0" b="18877"/>
          <a:stretch/>
        </p:blipFill>
        <p:spPr>
          <a:xfrm>
            <a:off x="5170320" y="402732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48360" y="2230560"/>
            <a:ext cx="3095640" cy="179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79280" y="2600280"/>
            <a:ext cx="421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ory telling: Voices &amp; View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26287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2760840" y="2276640"/>
            <a:ext cx="210492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4"/>
          <a:srcRect l="0" t="8780" r="0" b="11291"/>
          <a:stretch/>
        </p:blipFill>
        <p:spPr>
          <a:xfrm>
            <a:off x="14400" y="4429080"/>
            <a:ext cx="479088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435640" y="2502000"/>
            <a:ext cx="31208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4865760" y="4599000"/>
            <a:ext cx="4095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ing up next =&gt; 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 (March 2014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84360" y="3718080"/>
            <a:ext cx="5975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CHO HIDALGA Maria (DEVCO)</cp:lastModifiedBy>
  <cp:lastPrinted>2013-03-25T09:55:49Z</cp:lastPrinted>
  <dcterms:modified xsi:type="dcterms:W3CDTF">2014-03-17T09:49:32Z</dcterms:modified>
  <cp:revision>188</cp:revision>
  <dc:subject/>
  <dc:title>Slide 1</dc:title>
</cp:coreProperties>
</file>