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6" name="PlaceHolder 2"/>
          <p:cNvSpPr>
            <a:spLocks noGrp="1"/>
          </p:cNvSpPr>
          <p:nvPr>
            <p:ph type="dt" idx="10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5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9" name="PlaceHolder 5"/>
          <p:cNvSpPr>
            <a:spLocks noGrp="1"/>
          </p:cNvSpPr>
          <p:nvPr>
            <p:ph type="ftr" idx="1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90" name="PlaceHolder 6"/>
          <p:cNvSpPr>
            <a:spLocks noGrp="1"/>
          </p:cNvSpPr>
          <p:nvPr>
            <p:ph type="sldNum" idx="1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F45BA0-89EA-4742-8C26-61B94971A74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4440" y="685800"/>
            <a:ext cx="4573800" cy="3429000"/>
          </a:xfrm>
          <a:prstGeom prst="rect">
            <a:avLst/>
          </a:prstGeom>
          <a:ln w="0">
            <a:noFill/>
          </a:ln>
        </p:spPr>
      </p:sp>
      <p:sp>
        <p:nvSpPr>
          <p:cNvPr id="1686"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4440" y="685800"/>
            <a:ext cx="4573800" cy="3429000"/>
          </a:xfrm>
          <a:prstGeom prst="rect">
            <a:avLst/>
          </a:prstGeom>
          <a:ln w="0">
            <a:noFill/>
          </a:ln>
        </p:spPr>
      </p:sp>
      <p:sp>
        <p:nvSpPr>
          <p:cNvPr id="1688"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4440" y="685800"/>
            <a:ext cx="4573800" cy="3429000"/>
          </a:xfrm>
          <a:prstGeom prst="rect">
            <a:avLst/>
          </a:prstGeom>
          <a:ln w="0">
            <a:noFill/>
          </a:ln>
        </p:spPr>
      </p:sp>
      <p:sp>
        <p:nvSpPr>
          <p:cNvPr id="1690"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CF46A-BDCC-4B2C-8AEF-881A9517D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9435D-4813-40F3-8BB5-DF336778B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2A9D17-DE84-4295-BE0D-0622621E8B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7F025C-0655-4564-AF30-CEC9C8C014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6DFAE8-DEF4-4ED6-B837-11B95F1A4D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619708-852A-4A95-9984-478F7D969A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9A432A-764A-4C68-AA98-6F2B86504A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411FF2-4FBC-4FB5-B5F3-9F93807171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CDD010-A19A-4AD9-957B-26D53CC42B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303622-BBE2-4DCC-BC1C-E1912AFCA8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9C7E77-C7E9-4E1F-BC97-BF6910C3C9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8E02DC4-00EC-4199-9FFF-59D0083DB05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B0EBD-AB0F-4A5F-B76C-028B501F4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732926-2E29-4F31-A149-380489C780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544FA8-D829-448C-90FE-522C37714F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197611-0542-4F6E-BE70-445D567B24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BCEAFB-25B3-47F9-B3EE-69592AE5A0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66E5C9-5FC4-4024-B877-B1CACF4E10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CD4434-3351-45AD-93C7-C3F21EB26A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1F4509-A1B6-42ED-A8A2-137B7535CF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EDE5C1-D2E7-4DC0-B00B-02FD057E85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0B8B8B-CA77-46C8-9068-AACB6ABF99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F63FB2-6D48-4310-BD4F-80604486BD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7C06E-13DC-424E-87A8-48DD00B6A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0F72478-D75D-4254-B803-B7272265F13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C89896-EBBA-44D1-9809-AAF9F05CD5F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CACA11-055F-410C-848F-71D8437019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EBA277-0844-4F7A-BC01-AB87D19EBA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341C1C-B928-40D3-8B4B-92675DB449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5A8912-1607-4652-8289-9132C209E3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0C89D7-3698-4B0C-99B1-2B95B530BE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282214-D35C-4DEB-BA23-84022523D7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5C7477-BF87-40BB-B812-4FE05616AC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6BEF0E-C80B-4144-9ED9-A357B2F144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31154C-99D6-4D26-ABBB-4DB76F122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901D3B-AEE7-493F-BD75-7E7FE07FDD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96A04F6-7B32-45A5-B040-B290A3574A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5FD0F7B-F441-49E3-BEED-6C22C81993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9CEA751-3610-4FA0-B111-12240F1D453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D01452-C55D-4C00-A3DB-2A8988F7E2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4B0B8C-C9C1-494D-A9F7-19405E3351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CE5C00-F1B8-4A7C-A783-864EF33EA20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B6ADA9-3F9B-45E7-A76D-1834A299D4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3CDE55-8956-49A4-800D-0752514541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008FDF-A038-42D2-910D-75259FD577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8F67C-6601-493B-B783-1837DDA47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2AAC14-2606-49AA-BE26-B0561E69D5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A423BB-E97E-4B9D-805D-824D09AECA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3CA23C-61E8-4480-A56F-8EAEAD9707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0F6950C-C528-462B-9C1C-12C4F341D80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D3A8E35-AC50-424F-A9D2-B74FD36C73A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448E0F1-2007-408C-8273-60E2BBE19E6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5B29FA-40DC-4EB2-B301-A2A4EFC35A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343C136-9604-4F4D-9036-E6774816F7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9D1ED92-7AA5-4B79-A577-3229A45350F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07990C7-5FF7-406C-8F86-BDAB1737E7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627B0-44C3-4282-BBA2-CC4AEDBC2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C497A31-D8DB-4C96-A4E7-CC7488D3750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F2254C-BC27-4A86-A6BA-04B3C2FDD8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F75D63-D80C-4DE4-BB42-33F972FBF3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E5DD65-E4FC-4B56-A596-BA15F4C7B6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7772AD-3775-4B63-86C8-FB93821D2D8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7D3E2F6-4E40-49F5-9EE8-03AC3AC0345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08CDE31-28B9-415F-BF15-A0F54C9FD60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D022970-6489-4E75-8405-7E61B8F2B10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6D6531C-03D4-4E39-B4FA-EE70AFC88D1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F0D109F-DDFE-4D9A-9F25-AD40271C7F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0A880-4027-4805-9D8E-411891D68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D3A2685-816C-45E0-863D-7BAC448E3F8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198647-EC4A-4936-8B80-7F0789C9D6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9A15111-D70C-417A-88EC-29FAA6786D9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362A3F-90DC-42CF-9875-E04C2D0BA30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01594D-FCEA-487A-98B0-C92F207C77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5872C56-F592-4B5E-AD01-38F93256636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B76AF4B-39E8-4260-902F-0AF3D2848D3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B1D9FFB-61FD-4B63-AD53-B5F43A988A3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A61A942-341C-4151-931B-0331E5F44C0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7AE62B6-5152-4FFA-BE78-2EA2774F906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C9464-4CBE-499F-A192-3F67DB5FC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C1462C0-7252-4F8E-AD65-FD22577DC48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5F2E41F-86C7-4F3B-8C51-BC93EA869FD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470CEFF-ABE3-445A-9D8F-A2D0E21C49E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73085C3-8663-4796-BEC8-661A88B2051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95FDBCA-4535-48BC-9EFF-7379F429A8C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7515474-D906-44C7-A55F-2977CE3A12F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FD27B5-42D0-4CA0-B1D8-FC787A6B8E7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C0BFB74-888C-49AA-8FF0-C4A757173F1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89ADC52-4A57-40EC-9D39-35E8F3EDB26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ED68869-7E94-4389-A875-AB05D053197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1018F-4D19-433E-B272-C15CDA3F7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AA77FEB-442B-498A-8F03-D27D09BC920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3F97413-8B39-4CDB-AD8E-AEAD2497EFA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F9C4AAD-920E-4288-A513-89740A6C00C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DDC87BB-D466-4AF9-B97A-A83DA84908E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D731594-D95E-45FF-8AEB-DDCCE089751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717D548-1DCC-414F-ABCE-064A5DEF2B6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CEEACB8-2815-4C01-9729-A67FBBB95AD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52AAF46-D92A-42C1-B506-264F34B2112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9339CE0-450C-4EC0-A99E-416029B0283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46200DF-A6B1-41E5-9465-804ED632B3C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CB446-B4B6-4988-AEAC-3DF76E38B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5E4B3F8-6553-461A-9DCA-C23C0D994F3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0A1A2D3-5E2B-463A-8210-05CFD2ACC9B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E8CC4E1-1DCC-429C-A037-A81CFE86A52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9173969-A356-486F-81E8-FD0CDF648AC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373250A-EA86-4AE5-B7E9-77D8FA37A66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C9C4E50-99DD-4FC9-B23F-52CBCE5D643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6BC1F99-C2FF-4553-AC26-4F692080409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7FB6202-7594-40BF-B7B7-B056F64392A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87E6583-F9DC-4313-9293-E11C7B833D5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C06A8B9-F092-425E-8888-78ECC0129EA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C70D5-D634-49AF-BF43-302F67EB1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C122F-9520-4EAB-9E07-D75526C8F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A42B114-0183-43F3-92AB-955C57F7C6C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E0A7B0B-4365-45DA-A679-5680725B5F7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4801D6D-74D7-43B0-B0A8-A9190081605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BD3C843-55A7-4BCB-80D0-7D708E8E057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AB2029E-00D7-4F75-B20C-C261CB18346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124D9ED-4A39-44AE-A4DD-90475EE2E7F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7D18EF5-F3D3-4C80-942D-EF957DAA255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64E97CB-7ECE-44DE-AAEE-01C8F2AFDD5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C725AA7-D6B6-4790-91D2-DC35D8DDD26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5832A0E-9C2D-4FE5-A5A1-617987D7D7F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DE37F-E817-40F6-9504-E27057460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AA9CF89-00F9-4A6F-A0A6-E9E5150DEB5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A18AA6A-4956-4556-9853-12455C803D1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019216E-B16F-4412-BA45-16C4FF2FD64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54A0300-8CFA-459B-9289-2B03FA12274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25935D1-A50F-4965-BFDE-FCA61ED6105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8343B1D-27FA-45D4-B363-E783EAD63BA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C4EC85B-1BB6-41FA-8218-F1C3BD60B88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20B68C6-8DA5-498D-8CB6-4002DD2072A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85131C9-AD32-4592-B94A-7614C58FA7F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3621E69-22A3-4D69-BD37-4FB67BBCF80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C40E4-9239-4E6B-AC02-7760AC945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E6C72C9-AFB4-45E8-8CF6-E108047661E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FC20103-744D-4DA7-B2B5-0A2F622DB9A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713FFD3-0887-4E40-A0E0-9C936107649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2454A38-0EA5-4C40-A327-F7F7E0858C0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364FF74-62CF-4D6C-9A4D-3FCA5D1628A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03FE010-6471-40F6-AA84-2BA2C29552D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B03D413-9016-40EE-B508-ED4D6661F53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6F48C70-FCDC-4ED0-BD9E-6A7A92C8F3A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AAF518B-E537-411C-8324-1DE7648B4BC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8680E1B-9125-4980-882B-D617A45E824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12C8A-CAC5-41BA-A2A6-AAC96AC26D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36701E9-EB96-41D8-BBFE-AA9E78121C7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D072E03-294B-4006-B441-7C479F63342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9BC3A3E-9B0F-4447-AFA2-09DBBB0701F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9E8C4E2-50F3-41CF-8373-904A7F33718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A204A62-19F8-400B-842D-BF4C32B4265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27C03F3-0D56-42C8-B1B2-D6CF6767E97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DFB81E4-4A76-49CB-8703-C3012BBF2AF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840389F-FA9D-4D3B-B871-3D2DE22912B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448C6FE-FCED-4019-9A41-CFA4F00305E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0E53576-001F-4B65-85E0-DEFC1A01E80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0EF6D-09D5-442E-800E-28838A6B0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6E7C2DE-3F7A-4F0F-833A-8AE3309836A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E15E8DA-3F8B-4608-8EBB-C640615CFDD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2BDE27F-C734-4EAB-830D-9AE65B59DA3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BE4E489-AB26-41F0-8372-1B693D7FBF8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2B50072-ED0D-4E3B-BCD9-2002B4F6432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A4D42AF-BD7A-4E7D-86BE-FEA25A76436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147EB45-3653-4D8E-AAC5-A508DF5DD38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3859841-DDD5-4D8A-872D-23F833B7BC8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37D907C-E969-4E4A-AAE4-D7518248984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26DC318-AD29-4D5C-9EFC-9D019340AA4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8FB710-FFC9-45AC-A412-C0AA7F45B6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325890F-BCFC-474F-97C1-BEB844DD18C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3DCC35A-8AE7-4AB0-8F32-EF61F0EDB22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C3CCE8A-4A8A-49E6-902D-D2D6317C12F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DD39FC0-1A2B-4BF5-95EA-9312562DB2D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940E013-536C-4AD9-AEB3-DBC97E08FAE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5F82E5F-20BA-4675-A632-3F4F086B3B2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4C08AFA-1695-4232-8AAD-A973EE3ED94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0BB9A14-D536-46CF-B1BA-DC6E9537022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67B2080-89E7-4E1F-8F33-9904043BF03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FEF8149-9B89-4449-82F2-79AC44893EC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FC9C6D-1403-47B7-9C8E-2FF104CA40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3F9F46A-A60A-4F2D-B4A1-B2F722B099D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DC17109-26EA-4262-910C-98954D14AE8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A52D65C-A883-44E4-960C-890E731A3AC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C9B3AFF-1D00-4171-8629-E57C967ABDC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44A8922-90A6-4891-955E-1D5D5431288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6CECE05-4F5B-43C3-ACD3-E9F57603A40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18CBEF9-93CE-4280-9A19-8D86DD41363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D4F16E8-4417-4010-ACD9-0EC8DC20D3D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2F9CA7E-01E2-4DC3-99B6-FC562AFE630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0AD8977-4DF5-4735-A639-344E99FBB4C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1A1583-6990-48E5-B6A8-EB5B472D55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6846A69-E21E-4E1A-A566-53E4EEBC5DA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EB896D2-6E59-4B49-8C26-097D24600D4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29C206B-FBB7-411C-977B-C6FF4748A5B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4584C78-D963-471B-8513-7475DE215AC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C7EDDEC-1408-49EE-A60B-83109222230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E18A3B2-3DD4-41C5-9506-C0CC1DC3FAB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FA8F931-C3DD-4CDC-B51A-DE84D80469E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F5B10AF-655D-40C5-9C39-52C8400CE23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D2ED862-6ED1-4FE9-BEA9-0FAB77CE156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E08CF23-2E56-4478-A2E2-B328EBD91BC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482F4B-CEFC-4084-B4E2-FE792B2BCB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3A5FC04-372A-4D77-9066-A2E0AEC6E8D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1C8A353-4814-424B-ADE0-2A03C86EE60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0B3120D-A380-4847-A106-E09D8F1C497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0298873-8129-4ECF-A684-263B26D08EA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33CBA93-DF25-4CF2-B937-A9C96624F64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82CC4E1-D128-4CFD-8AE0-9553A1834B2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033EEBD-FECA-4B49-8190-CA32B8B10FC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A0FDBF9-1B92-40A9-9ACD-290EB8E042E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5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FC93A18-2E10-44D2-9082-DEF4843619B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0940DCA-741C-4099-BC65-7F62D3E16B8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ECEBDA-4444-425B-98FF-1EC5C898F1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57BE9D9-B039-46BE-9172-94AE9D1B8B1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56A0284-0066-47C4-8B02-0D804C9AA91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144DA20-9B4B-485C-AD75-C4FE5BACC4A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0786F38-22DE-40EC-842D-9C74447CB4D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7559537-0D28-449B-B296-88D340D023C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46554FD-CA52-4FD6-997B-631075E51D4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9307CC4-52E5-4D6F-A7F7-4EFDBB0E6CB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FF8E18C-3D52-4F2B-A601-EF47E0470B9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7305663-72FE-4563-9885-F6EDB003A6D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8B07AB9-B2F8-4223-800E-EFC8A888580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FBBBB-FA74-43A9-A2BD-E188B918F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2D4BFB-9E68-4C09-8426-5EBB0CF648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FFCFAA8-79E2-44F7-B42C-D40C4375B8E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75901332-ECD2-404B-87B6-8068A1451060}"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9498C14-7867-4F63-BC93-E3F8FED83D3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A909EB4-6523-4B79-A4D4-4A5C0928822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9F71654-5EFA-4BFE-AB7C-679F64E0B64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E56D257-C310-4387-8D1D-09E05F4C680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8B6525C-6D92-4F31-9B46-DF530D425EC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BAD0A86-3385-4B73-9772-79999A46828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C145EAE-16A4-4F15-9AA6-0A7D829509A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D87228A-5F59-4BEE-B99A-4A4CF7DC08B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FADE7D-0C14-48E0-85B2-74D4BB3C1E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4830E1E-1B4F-457F-9C2F-6EC528FF4DA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7F514948-F1FE-4A13-8805-FB869BE15BE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9590988-5CDF-4FBA-B9BF-EA6648F3133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15DE290-F994-4FB7-8F6C-8BF362F4E14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0FDC771-5FD4-4239-B2ED-B5215A39995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D6ABFC9-9704-408B-8904-E56D0657946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0AD87DF-C878-458C-81DB-F9B04422413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B0B54DF-2354-4D24-9EF5-F2553210D01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19C75A4-71E4-463F-A8C1-A531CD10AAD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07A7732-39D3-452C-85DB-BD7E3F3FCE1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D99E4-3CF8-4294-92BE-2B3A89681A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00C99E0-F68D-4D01-9CDC-AD17F20AA7C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4B1465E-6335-4770-9E98-B974B8A2A8E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611CB47-6A0C-4FE6-BABA-47CAA69947D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1B834AC-AC95-479F-B975-0871B673047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E3D0F5FE-18FD-4286-BBCD-2AE50EDCBCB9}"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EE71C0E-29B9-4ABA-B4A8-410A2776ECF3}"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5EB9009-66FE-4BCB-8339-F864D430A6E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557C0FD-7FDD-4D76-A6AA-91A89DDFA46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ACB1718-FCCA-4E6B-BAC8-4FCD1E5BD84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4B2FF4B-3DBE-42BB-8420-E117CC74D6C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06461-2821-4CF4-A9AF-A480416A57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1C24E39-933A-4C58-847E-3AEE50317A8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F55AF14-702C-445C-B5CE-5C19C0CCDF3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AA84EF9-A244-469C-A93C-469450E5DA6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ECC85A5-D137-43B5-8CB2-FB999306D37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F498B14-E9D6-4004-A3F4-8265FAB6ACB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558413E6-3026-4630-90AB-3743F1C586DC}"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BC9AC7E6-2DD1-46C3-8078-E0F3F264E88E}"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32E465C4-4DF5-415F-9ED0-7A27DFC5430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02A1112-3225-4059-AF66-2ED4E84AAFF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2E0FE63-329F-4151-871A-E1A844C45D4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F79F56-7676-4595-9708-9ABB23449C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E698544-DA66-42F0-A113-6BDCB6048FE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0D75A0D-7BAD-44C0-B1BC-FE8C8284975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4BDA441-4191-49FA-BF7A-8A8F77646CD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B3AB892-6859-4D1B-8680-8B3A7A67C94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4D2E923-F528-4B73-80F2-9D34BEE0128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9635DA3-2AA2-4ADC-AE64-881E99D424D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2F48EA3-D86E-41A9-8188-830B699D463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1F566A18-6DF9-4337-B845-72853D4AD21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24750B0F-BDD3-4CF3-9579-96BF901C311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E05757D-A092-4E30-92AF-1A03EBDE0E72}"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635E29-D73C-4F1F-9922-35422977A9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6C34CFC-E888-4376-8C6C-D0C771CE849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2A4523F-CC50-4CBC-9F6D-5A1E4A79F86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2466B77-3C35-48D5-910A-5CE39D64DBB5}"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749557F-0F1D-4566-BD1F-C2E41C594CB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D4196B9-80ED-43CD-8EA4-193E1C49137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DC7667A-026B-47CC-8030-F58D6391BAC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608A868-CE4E-4487-94B0-CB8DAB054B4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4CD01DA-A58C-4133-BC89-29502BFED44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C1EBEE5-3534-40A3-914E-0CB1E2386D3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1928869-DB0E-409E-93A3-FD502D45AD8B}"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90EA22-9F88-4AC8-9AC9-3B9F03F78A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A31F6FB9-BE6F-42EF-8E9D-B69616E43292}"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4255DCB5-3901-44EC-AED7-9E8E27599334}"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E7276EA-E74A-46E7-A1C6-C20D457DF07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1F4F7E7-A2AF-4B35-8EC1-BB5A37851FE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063C827-F17E-46E7-B789-DBFA6A08D10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75F1D05-79A6-4983-B6EA-2633187CC6A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486ABBC-80BE-4213-8069-A50D9917F4F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0EF1D67-6A02-47CA-BA21-03A2B944523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66A5561-EEA6-4231-8F27-CAADDA490CA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E288D27-D868-401A-B779-A0F5CC300FF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372575-C28A-440B-B7E4-3FD486750E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E530765-7D47-417B-A65C-54C65985EB4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BAAF0438-2548-4515-A3DB-D11E6D96BBD8}"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0B5D5977-A89D-4041-8E5C-80234BD228C1}"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AFCF00B4-5A34-4A3D-AD0F-41A96811E3D3}"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6ACDA3B-0D60-4DA7-9D98-CEFECE23B74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DDD85A9-449E-4BED-9177-4A12228440B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5A799F8-2FFF-4BCA-B65B-55AB7FEFF9D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FCD8F05-F07C-47FB-AB67-8E3A0F5ACDB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0B2AA07-D186-4929-92A1-15A63CECB2D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6FAA8C7-3F6B-4E5B-AAF9-E1EDE940342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E93E45-15A8-4A5F-A099-AD2AD92D2E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E345BC1-97BA-4495-BB61-8A18D2E55E5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1856FBE-D7B9-4239-BABC-5FBBE94DB0F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9DF5A79-B01F-4310-B5BA-254E4C9DBF2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955361B6-5A65-41C7-9CEA-22CDA4CCA6FA}"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6B95936C-F8D9-4636-B087-83C47C6B4A66}"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2559CBC1-B76E-45B0-913D-C2D9A145E7B9}"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752DC52-5249-4AC4-859E-43FADA5A790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5165445-D63C-42BD-A9C3-422E27488A9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3E76DC4-EC63-4778-B80E-65D43C283E4F}"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F11C354-1829-4919-91A6-E4D11DD979C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C28874-8CA4-4C44-B16E-CA00D3EE3C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2D8A417-DFA9-403B-AD7D-B7918C67B4F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BB775F4-1B66-4EA2-A774-05647DCA6EB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DC9585C-E633-43BC-A284-1EE917F2030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98D2C16-A26B-4ED2-A63C-E01CD5ABE87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D8B6DAE-D311-48BD-AD5B-CD6FC811BA3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4B8C1BE6-3AFC-41E9-B1D3-F64A3F1423B4}"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CFECF98C-F187-465D-99E9-F6280097945E}"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9925EE56-62EF-496B-8F39-80CCA9DA3025}"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0404EEC-D710-46FA-ABF2-B618BFD4AC4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4B319B4-598B-478A-AA3C-CD744A512E4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647FD-3FF1-41CE-8F88-ABABA2DEA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EB6829-F4D7-4220-9729-946C236B07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CB0D999-93F9-4BC2-8A8A-5B87BAE129C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E9C88F8-23A6-4657-9237-8690C805E77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E7FA035-DAB8-46EF-8159-BE66DD1E1F8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74551A2-27CC-41D5-821D-53A39870093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C71D38C-8C9E-4C35-91A7-6196DE14156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0A040B0-37EE-4778-9797-D732800366E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A645367C-59E2-4A49-A935-1556DCCE879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D0C7D552-761E-4D7E-8FE9-E4BD3DD8B31E}"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E3E52979-C528-45B9-984B-B87539BC2A0C}"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8322E3B3-F150-49DE-A3D0-B0B826D5843A}"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5AC9E8-253F-4E55-AF80-8253DB2C28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C399909-576B-466F-9121-03283171462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3EBE998-0D10-4995-BA10-7413012F9D5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EB881A7-2801-41F0-BFF0-0625F1336D7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95D5BB9-44CE-4B43-BD16-6C8FD61001E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1298BCA-1F22-4AE1-B954-DFDA95CF934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5DEC6A1-688A-4DB1-9248-371C6D9AB3B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C5D4731-8120-48B8-82EF-99C17B9A3A5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D12F226-11F8-4D78-9CB8-99916817F99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A9FDC65-4F2C-4924-903F-7B476EC5FB48}"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8EFE444B-2769-4B6D-B45F-143FF99965B0}"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44B381-4F22-4712-AF5C-5163C8D43F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2136AA4D-E035-4A58-B4FC-90A815B86551}"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2B9F810E-06C1-4E51-A0E3-7E30B6A8AACF}"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771192A-D33E-48DC-AA39-D839C52CB64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A04596A-8F56-4409-A319-916ED0B8E13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31EC93F-9AC6-4533-823B-C354C1114F9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DAB8E7F-1776-4C15-A4F8-4AFAE258379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A02981C4-1336-4DF8-9DDF-C2200EEB97B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7C0744F-7B4C-477A-AB3B-6D3C758580F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6B60022-3618-4762-83F7-958B44C1571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E95A65C-984F-4856-AA07-559A48D6C5C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F446D0-CB1A-429E-8153-63673C0E13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94D4869-B828-476E-99CA-4E129DD9D95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5B880490-F8BB-4E20-8B76-1DBF8669E760}"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0CFF8EEC-9A98-4061-BF90-223B51944F03}"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0B5F1E-6B38-44C0-BE64-5D7A18460F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DFAFE0-328D-44ED-B7C4-2F6CA67AC3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947F22-EF86-4431-AE1E-F32C2CBFF2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D4F724-A015-4980-AA6B-EAA249AE8D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82CF48-F0F7-4498-99EF-EE04CCC51E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39D890-0200-4BF3-B6FD-4685ADC904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CD049-D274-4094-ADEF-0C155C558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D3D3FA-2358-490A-A2A3-76585C3A0F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CA9DE8-BBB2-4318-99A7-702A81E4AE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F62BA0-240F-464F-9086-FE919468A0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572FA2-6A71-486C-A6FA-5393E41AED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F4059B-6AF7-4C12-A68F-998F2B7AF8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2D0F3A-10A0-4A9D-9FA0-961C01BAF1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313C82-6369-4F9C-AC4B-973CC7A7AC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2ECB65-2D62-4664-990B-08F0E53226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570183-57A3-446C-85C3-EE229E4312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4ED0B2-1085-4C0B-82A6-CD9E4C3C26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72212-7AEA-41D2-BD68-CD3E34E35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6816E5-6A91-4421-B8C0-5F9AA743B2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4239C1-8A93-48C4-91D6-D3851C1015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243707-8AC0-42AA-A3EB-442C985B9D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F9DD1A-FBDA-45D8-A38E-7996F5D5E9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039A46-0701-4C0C-B2E9-DA69AE7A2F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238C61-3819-4124-A6AE-5008739FE4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7AC9D0-730D-4FEE-8EE6-3DB774FAF0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086AAF-6CC2-428C-93FC-AC42A03AFF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E4B9EE-B2EF-419A-AFC9-87EF1E4060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2C4CBD-1A6A-4EF9-9C3C-EAA01E2206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9F7B8-FE0C-4367-9A1C-1D07D00FC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85CC78-18D2-41C4-B33F-DDABA98276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6AA10E-C465-417C-B1E9-0B8D816E56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2B9AD5-C572-4478-B996-A6038788C5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837AF2-1B0E-4261-8D6A-5628BEE3BA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987C04-9D9E-4B96-B380-5E0009F8FF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1B4BA0-89A4-446A-AC77-8610636B2B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E83CC0-984E-491C-97C7-7FD6CBEF9A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747DC7-E939-4F91-99B2-FB14DF56FC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05AF9D-4E5A-47C8-A649-681E218585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164622-623E-472C-81B3-22C898D890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A08A5-F80F-4679-9DB7-0B607E663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FD52FC-8EBC-4459-B025-20809FDDE3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E8DFF5-EBC9-4BB5-A150-D4C8F3CE3A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561EDC-DB63-46BC-807E-AA2718BFCE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5A1334-0279-495E-B971-F5FC916DAA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56BF50-0B73-4DF6-B839-029E64AABA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FAE6AD-7B63-40CB-8028-8A4A14008A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03FEB9-AB97-4D87-BF61-F4550EDC87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FA1500-ECAB-4B7E-BC65-146E53C212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7662A8-A524-46CD-AD0D-833F8753A1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445698-99DE-440E-9A19-1F54F7AB9B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2543E-4A2B-4A9C-86A2-B031A6150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0E5075-319F-44F0-A64A-2C6A2765BC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4F76F3-B4E9-4AE0-9845-657A8ACC49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4AF3D5-4AE9-4857-B881-83139B25ED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E4A9BD-B47B-4514-B4D4-BA9EB5DDE5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E5190C-F37F-4673-89D0-BBE7A426CE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F93D29-957E-4A50-BE34-DA848CD664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A60CBE-4751-4FE0-8714-1CDC3591F6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AEADE7-C9E3-48F0-9E27-FD70557674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2D58BB-235C-439D-A2BB-46E991E9F4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AFA3A2-A6FA-46C0-AA83-979357A50C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60BC7-FDC3-45FE-AFD3-D360D82F4E40}"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412ECB-6644-4D9E-A5AE-071D44219CE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2FA26-8BF1-400C-9A31-C3E4B8D961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FAF35-8710-4490-9E76-51973D5E925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3CEF4-A15E-4CAD-8CB9-9FBE144F5E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C95E43-9F00-47E6-AAC0-EEE33FF362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7" name="Picture 6" descr="LOGO CE-EN-quadri.eps"/>
          <p:cNvPicPr/>
          <p:nvPr/>
        </p:nvPicPr>
        <p:blipFill>
          <a:blip r:embed="rId2"/>
          <a:stretch/>
        </p:blipFill>
        <p:spPr>
          <a:xfrm>
            <a:off x="3957480" y="258840"/>
            <a:ext cx="1436760" cy="998640"/>
          </a:xfrm>
          <a:prstGeom prst="rect">
            <a:avLst/>
          </a:prstGeom>
          <a:ln w="0">
            <a:noFill/>
          </a:ln>
        </p:spPr>
      </p:pic>
      <p:sp>
        <p:nvSpPr>
          <p:cNvPr id="61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4941F3-5167-4E57-A9F9-F5ABB0EA0D6A}"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9450E-CAA2-4DEB-8C38-97AD5B8EF3A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79B44F-BA3A-4284-9210-8ED9AD783B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3F4C2-01F7-4785-8F6B-5AB33C7A164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FEEEB4-85E4-4E73-B359-1BDA0C5C791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62DF2-AB27-4F85-9E26-7C470D33CCEC}"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D9EF7-296F-42EC-8151-8F17265A708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6"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7"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51C34-45FD-499E-8E3A-4D4166961CB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26" name="Picture 17" descr="LOGO CE_Vertical_EN_NEG_quadri_HR"/>
          <p:cNvPicPr/>
          <p:nvPr/>
        </p:nvPicPr>
        <p:blipFill>
          <a:blip r:embed="rId2"/>
          <a:stretch/>
        </p:blipFill>
        <p:spPr>
          <a:xfrm>
            <a:off x="3957480" y="258840"/>
            <a:ext cx="1436760" cy="1004760"/>
          </a:xfrm>
          <a:prstGeom prst="rect">
            <a:avLst/>
          </a:prstGeom>
          <a:ln w="0">
            <a:noFill/>
          </a:ln>
        </p:spPr>
      </p:pic>
      <p:sp>
        <p:nvSpPr>
          <p:cNvPr id="9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29"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0"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1"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0AACE-F85C-4373-A80B-C690167C0D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70" name="Picture 17" descr="LOGO CE_Vertical_EN_NEG_quadri_HR"/>
          <p:cNvPicPr/>
          <p:nvPr/>
        </p:nvPicPr>
        <p:blipFill>
          <a:blip r:embed="rId2"/>
          <a:stretch/>
        </p:blipFill>
        <p:spPr>
          <a:xfrm>
            <a:off x="3957480" y="258840"/>
            <a:ext cx="1436760" cy="1004760"/>
          </a:xfrm>
          <a:prstGeom prst="rect">
            <a:avLst/>
          </a:prstGeom>
          <a:ln w="0">
            <a:noFill/>
          </a:ln>
        </p:spPr>
      </p:pic>
      <p:sp>
        <p:nvSpPr>
          <p:cNvPr id="9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7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73"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4"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5"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7A9EE-ECA7-4669-97C7-58274537FF1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1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1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1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4E2D22-66B6-4653-9D6D-192D7F0BBCE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5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6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61"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2"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3"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53025-2D79-4D12-A3FC-35DE3BBBBE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01" name="Picture 6" descr="LOGO CE-EN-quadri.eps"/>
          <p:cNvPicPr/>
          <p:nvPr/>
        </p:nvPicPr>
        <p:blipFill>
          <a:blip r:embed="rId2"/>
          <a:stretch/>
        </p:blipFill>
        <p:spPr>
          <a:xfrm>
            <a:off x="3957480" y="258840"/>
            <a:ext cx="1436760" cy="998640"/>
          </a:xfrm>
          <a:prstGeom prst="rect">
            <a:avLst/>
          </a:prstGeom>
          <a:ln w="0">
            <a:noFill/>
          </a:ln>
        </p:spPr>
      </p:pic>
      <p:sp>
        <p:nvSpPr>
          <p:cNvPr id="110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0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05"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6"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7"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4B2AF8-BBC9-46FC-98E9-6A3C6D6F0319}"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4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49"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0"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1"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25DA5-967B-4529-BF70-7FFD876F0C4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9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93"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4"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5"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1852D-AE35-4F65-A108-C39235F86BA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3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3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0C25AC-6940-4CA0-A248-2685E3005C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C3FC2-EA2C-4453-A9A9-B133D05F7079}"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81"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2"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3"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2B1F30-E719-4EC5-B501-085B72E4001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25"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6"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7"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48DEB0-AEDA-4546-A65B-16434154375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69"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0"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1"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0F5C8-8C17-4A90-8AF4-9B88320AA67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13"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4"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5"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5EE1F2-FB1F-4731-A65A-1F09CA4F95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57"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8"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9" name="PlaceHolder 5"/>
          <p:cNvSpPr>
            <a:spLocks noGrp="1"/>
          </p:cNvSpPr>
          <p:nvPr>
            <p:ph type="sldNum" idx="10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F0BF1-469A-435C-8AD2-2FF09D6B1F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01"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2"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3"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AB82F-E6A9-4BF2-A91E-AF29B10724F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45"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6"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7"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CE6BFD-A310-4430-9312-B34D0A2DB0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3" name="Picture 6" descr="LOGO CE-EN-quadri.eps"/>
          <p:cNvPicPr/>
          <p:nvPr/>
        </p:nvPicPr>
        <p:blipFill>
          <a:blip r:embed="rId2"/>
          <a:stretch/>
        </p:blipFill>
        <p:spPr>
          <a:xfrm>
            <a:off x="3957480" y="258840"/>
            <a:ext cx="1436760" cy="998640"/>
          </a:xfrm>
          <a:prstGeom prst="rect">
            <a:avLst/>
          </a:prstGeom>
          <a:ln w="0">
            <a:noFill/>
          </a:ln>
        </p:spPr>
      </p:pic>
      <p:sp>
        <p:nvSpPr>
          <p:cNvPr id="13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61B97D-87FF-4352-A4F5-7102E96667EB}"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1836E-5E27-44EB-8783-27A469A69F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D5623-E624-4569-8D21-B9BD13B180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5EF11-2ED4-418B-8AEA-BDA937546E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14DCF3-0D2B-4AE1-B3D1-972583E3A15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51D5F8-CB3F-49F7-B357-A23397649BF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3"/>
          <p:cNvSpPr/>
          <p:nvPr/>
        </p:nvSpPr>
        <p:spPr>
          <a:xfrm>
            <a:off x="417600" y="4508640"/>
            <a:ext cx="83646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Module 8:</a:t>
            </a:r>
            <a:r>
              <a:rPr b="1" lang="fr-BE" sz="3200" spc="-1" strike="noStrike">
                <a:solidFill>
                  <a:srgbClr val="ffffff"/>
                </a:solidFill>
                <a:latin typeface="Verdana"/>
              </a:rPr>
              <a:t>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Appropriate Programme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Implementation Arrangements</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2" name="PlaceHolder 1"/>
          <p:cNvSpPr>
            <a:spLocks noGrp="1"/>
          </p:cNvSpPr>
          <p:nvPr>
            <p:ph type="title"/>
          </p:nvPr>
        </p:nvSpPr>
        <p:spPr>
          <a:xfrm>
            <a:off x="1402920" y="21654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d624"/>
                </a:solidFill>
                <a:latin typeface="Verdana"/>
              </a:rPr>
              <a:t>Supporting change through </a:t>
            </a:r>
            <a:br>
              <a:rPr sz="3200"/>
            </a:br>
            <a:r>
              <a:rPr b="1" lang="fr-BE" sz="3200" spc="-1" strike="noStrike">
                <a:solidFill>
                  <a:srgbClr val="ffd624"/>
                </a:solidFill>
                <a:latin typeface="Verdana"/>
              </a:rPr>
              <a:t>Capacity Development</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395280" y="112212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nd what about TA?</a:t>
            </a:r>
            <a:endParaRPr b="1" lang="en-US" sz="2800" spc="-1" strike="noStrike">
              <a:solidFill>
                <a:srgbClr val="0f5494"/>
              </a:solidFill>
              <a:latin typeface="Verdana"/>
            </a:endParaRPr>
          </a:p>
        </p:txBody>
      </p:sp>
      <p:grpSp>
        <p:nvGrpSpPr>
          <p:cNvPr id="1612" name="Group 4"/>
          <p:cNvGrpSpPr/>
          <p:nvPr/>
        </p:nvGrpSpPr>
        <p:grpSpPr>
          <a:xfrm>
            <a:off x="1201680" y="1766880"/>
            <a:ext cx="7167600" cy="2773080"/>
            <a:chOff x="1201680" y="1766880"/>
            <a:chExt cx="7167600" cy="2773080"/>
          </a:xfrm>
        </p:grpSpPr>
        <p:sp>
          <p:nvSpPr>
            <p:cNvPr id="1613" name="Oval 6"/>
            <p:cNvSpPr/>
            <p:nvPr/>
          </p:nvSpPr>
          <p:spPr>
            <a:xfrm>
              <a:off x="1517760" y="3747240"/>
              <a:ext cx="953280" cy="79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SimSun"/>
                </a:rPr>
                <a:t>CD</a:t>
              </a:r>
              <a:r>
                <a:rPr b="1" lang="en-GB" sz="1400" spc="-1" strike="noStrike">
                  <a:solidFill>
                    <a:srgbClr val="000000"/>
                  </a:solidFill>
                  <a:latin typeface="Trebuchet MS"/>
                  <a:ea typeface="SimSun"/>
                </a:rPr>
                <a:t> </a:t>
              </a:r>
              <a:r>
                <a:rPr b="1" lang="en-GB" sz="1400" spc="-1" strike="noStrike">
                  <a:solidFill>
                    <a:srgbClr val="ff0000"/>
                  </a:solidFill>
                  <a:latin typeface="Trebuchet MS"/>
                  <a:ea typeface="SimSun"/>
                </a:rPr>
                <a:t>support</a:t>
              </a:r>
              <a:r>
                <a:rPr b="1" lang="da-DK" sz="1000" spc="-1" strike="noStrike">
                  <a:solidFill>
                    <a:srgbClr val="000000"/>
                  </a:solidFill>
                  <a:latin typeface="Trebuchet MS"/>
                  <a:ea typeface="SimSun"/>
                </a:rPr>
                <a:t> </a:t>
              </a:r>
              <a:endParaRPr b="0" lang="en-US" sz="1000" spc="-1" strike="noStrike">
                <a:solidFill>
                  <a:srgbClr val="000000"/>
                </a:solidFill>
                <a:latin typeface="Arial"/>
              </a:endParaRPr>
            </a:p>
          </p:txBody>
        </p:sp>
        <p:sp>
          <p:nvSpPr>
            <p:cNvPr id="1614" name="Oval 7"/>
            <p:cNvSpPr/>
            <p:nvPr/>
          </p:nvSpPr>
          <p:spPr>
            <a:xfrm>
              <a:off x="2385000" y="3052080"/>
              <a:ext cx="1326240" cy="1384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ebuchet MS"/>
                  <a:ea typeface="SimSun"/>
                </a:rPr>
                <a:t>  </a:t>
              </a:r>
              <a:r>
                <a:rPr b="1" lang="da-DK" sz="1200" spc="-1" strike="noStrike">
                  <a:solidFill>
                    <a:srgbClr val="ff0000"/>
                  </a:solidFill>
                  <a:latin typeface="Trebuchet MS"/>
                  <a:ea typeface="SimSun"/>
                </a:rPr>
                <a:t>CD </a:t>
              </a:r>
              <a:r>
                <a:rPr b="1" lang="en-GB" sz="1200" spc="-1" strike="noStrike">
                  <a:solidFill>
                    <a:srgbClr val="ff0000"/>
                  </a:solidFill>
                  <a:latin typeface="Trebuchet MS"/>
                  <a:ea typeface="SimSun"/>
                </a:rPr>
                <a:t>processes</a:t>
              </a:r>
              <a:r>
                <a:rPr b="1" lang="en-GB" sz="1000" spc="-1" strike="noStrike">
                  <a:solidFill>
                    <a:srgbClr val="ff0000"/>
                  </a:solidFill>
                  <a:latin typeface="Trebuchet MS"/>
                  <a:ea typeface="SimSun"/>
                </a:rPr>
                <a:t> </a:t>
              </a:r>
              <a:endParaRPr b="0" lang="en-US" sz="1000" spc="-1" strike="noStrike">
                <a:solidFill>
                  <a:srgbClr val="000000"/>
                </a:solidFill>
                <a:latin typeface="Arial"/>
              </a:endParaRPr>
            </a:p>
          </p:txBody>
        </p:sp>
        <p:sp>
          <p:nvSpPr>
            <p:cNvPr id="1615" name="Oval 8"/>
            <p:cNvSpPr/>
            <p:nvPr/>
          </p:nvSpPr>
          <p:spPr>
            <a:xfrm>
              <a:off x="1201680" y="2179440"/>
              <a:ext cx="1415160" cy="1368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SimSun"/>
                </a:rPr>
                <a:t> </a:t>
              </a:r>
              <a:r>
                <a:rPr b="1" lang="en-US" sz="1400" spc="-1" strike="noStrike">
                  <a:solidFill>
                    <a:srgbClr val="000000"/>
                  </a:solidFill>
                  <a:latin typeface="Trebuchet MS"/>
                  <a:ea typeface="SimSun"/>
                </a:rPr>
                <a:t>Recurrent inputs</a:t>
              </a:r>
              <a:endParaRPr b="0" lang="en-US" sz="1400" spc="-1" strike="noStrike">
                <a:solidFill>
                  <a:srgbClr val="000000"/>
                </a:solidFill>
                <a:latin typeface="Arial"/>
              </a:endParaRPr>
            </a:p>
          </p:txBody>
        </p:sp>
        <p:sp>
          <p:nvSpPr>
            <p:cNvPr id="1616" name="Oval 9"/>
            <p:cNvSpPr/>
            <p:nvPr/>
          </p:nvSpPr>
          <p:spPr>
            <a:xfrm>
              <a:off x="2616840" y="1766880"/>
              <a:ext cx="1766880" cy="178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SimSun"/>
                </a:rPr>
                <a:t>Capacity</a:t>
              </a:r>
              <a:endParaRPr b="0" lang="en-US" sz="1800" spc="-1" strike="noStrike">
                <a:solidFill>
                  <a:srgbClr val="000000"/>
                </a:solidFill>
                <a:latin typeface="Arial"/>
              </a:endParaRPr>
            </a:p>
          </p:txBody>
        </p:sp>
        <p:sp>
          <p:nvSpPr>
            <p:cNvPr id="1617" name="Oval 10"/>
            <p:cNvSpPr/>
            <p:nvPr/>
          </p:nvSpPr>
          <p:spPr>
            <a:xfrm>
              <a:off x="4386600" y="1964520"/>
              <a:ext cx="132768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puts</a:t>
              </a:r>
              <a:endParaRPr b="0" lang="en-US" sz="1600" spc="-1" strike="noStrike">
                <a:solidFill>
                  <a:srgbClr val="000000"/>
                </a:solidFill>
                <a:latin typeface="Arial"/>
              </a:endParaRPr>
            </a:p>
          </p:txBody>
        </p:sp>
        <p:sp>
          <p:nvSpPr>
            <p:cNvPr id="1618" name="Oval 11"/>
            <p:cNvSpPr/>
            <p:nvPr/>
          </p:nvSpPr>
          <p:spPr>
            <a:xfrm>
              <a:off x="571464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comes</a:t>
              </a:r>
              <a:endParaRPr b="0" lang="en-US" sz="1600" spc="-1" strike="noStrike">
                <a:solidFill>
                  <a:srgbClr val="000000"/>
                </a:solidFill>
                <a:latin typeface="Arial"/>
              </a:endParaRPr>
            </a:p>
          </p:txBody>
        </p:sp>
        <p:sp>
          <p:nvSpPr>
            <p:cNvPr id="1619" name="Oval 12"/>
            <p:cNvSpPr/>
            <p:nvPr/>
          </p:nvSpPr>
          <p:spPr>
            <a:xfrm>
              <a:off x="704016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rebuchet MS"/>
                  <a:ea typeface="SimSun"/>
                </a:rPr>
                <a:t>Wider</a:t>
              </a:r>
              <a:r>
                <a:rPr b="1" lang="da-DK" sz="1400" spc="-1" strike="noStrike">
                  <a:solidFill>
                    <a:srgbClr val="000000"/>
                  </a:solidFill>
                  <a:latin typeface="Trebuchet MS"/>
                  <a:ea typeface="SimSun"/>
                </a:rPr>
                <a:t> </a:t>
              </a:r>
              <a:r>
                <a:rPr b="1" lang="da-DK" sz="1600" spc="-1" strike="noStrike">
                  <a:solidFill>
                    <a:srgbClr val="000000"/>
                  </a:solidFill>
                  <a:latin typeface="Trebuchet MS"/>
                  <a:ea typeface="SimSun"/>
                </a:rPr>
                <a:t>impact</a:t>
              </a:r>
              <a:endParaRPr b="0" lang="en-US" sz="1600" spc="-1" strike="noStrike">
                <a:solidFill>
                  <a:srgbClr val="000000"/>
                </a:solidFill>
                <a:latin typeface="Arial"/>
              </a:endParaRPr>
            </a:p>
          </p:txBody>
        </p:sp>
        <p:sp>
          <p:nvSpPr>
            <p:cNvPr id="1620" name="Oval 13"/>
            <p:cNvSpPr/>
            <p:nvPr/>
          </p:nvSpPr>
          <p:spPr>
            <a:xfrm>
              <a:off x="1517760" y="2943360"/>
              <a:ext cx="883440" cy="792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SimSun"/>
                </a:rPr>
                <a:t>Internal resour-ces </a:t>
              </a:r>
              <a:endParaRPr b="0" lang="en-US" sz="1300" spc="-1" strike="noStrike">
                <a:solidFill>
                  <a:srgbClr val="000000"/>
                </a:solidFill>
                <a:latin typeface="Arial"/>
              </a:endParaRPr>
            </a:p>
          </p:txBody>
        </p:sp>
        <p:sp>
          <p:nvSpPr>
            <p:cNvPr id="1621" name="Line 14"/>
            <p:cNvSpPr/>
            <p:nvPr/>
          </p:nvSpPr>
          <p:spPr>
            <a:xfrm flipV="1">
              <a:off x="2321640" y="3747240"/>
              <a:ext cx="29736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2" name="Line 15"/>
            <p:cNvSpPr/>
            <p:nvPr/>
          </p:nvSpPr>
          <p:spPr>
            <a:xfrm flipV="1">
              <a:off x="3206880" y="2955960"/>
              <a:ext cx="29448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3" name="Line 16"/>
            <p:cNvSpPr/>
            <p:nvPr/>
          </p:nvSpPr>
          <p:spPr>
            <a:xfrm>
              <a:off x="2175120" y="3350880"/>
              <a:ext cx="44280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4" name="Line 17"/>
            <p:cNvSpPr/>
            <p:nvPr/>
          </p:nvSpPr>
          <p:spPr>
            <a:xfrm>
              <a:off x="2469960" y="2757240"/>
              <a:ext cx="44172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5" name="Line 18"/>
            <p:cNvSpPr/>
            <p:nvPr/>
          </p:nvSpPr>
          <p:spPr>
            <a:xfrm>
              <a:off x="6746040" y="2757240"/>
              <a:ext cx="44316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6" name="Line 19"/>
            <p:cNvSpPr/>
            <p:nvPr/>
          </p:nvSpPr>
          <p:spPr>
            <a:xfrm>
              <a:off x="541836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7" name="Line 20"/>
            <p:cNvSpPr/>
            <p:nvPr/>
          </p:nvSpPr>
          <p:spPr>
            <a:xfrm>
              <a:off x="409284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grpSp>
      <p:grpSp>
        <p:nvGrpSpPr>
          <p:cNvPr id="1628" name="Group 4"/>
          <p:cNvGrpSpPr/>
          <p:nvPr/>
        </p:nvGrpSpPr>
        <p:grpSpPr>
          <a:xfrm>
            <a:off x="1201680" y="3863880"/>
            <a:ext cx="7385040" cy="3668760"/>
            <a:chOff x="1201680" y="3863880"/>
            <a:chExt cx="7385040" cy="3668760"/>
          </a:xfrm>
        </p:grpSpPr>
        <p:sp>
          <p:nvSpPr>
            <p:cNvPr id="1629" name="AutoShape 5"/>
            <p:cNvSpPr/>
            <p:nvPr/>
          </p:nvSpPr>
          <p:spPr>
            <a:xfrm>
              <a:off x="1201680" y="3863880"/>
              <a:ext cx="7385040" cy="366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Oval 6"/>
            <p:cNvSpPr/>
            <p:nvPr/>
          </p:nvSpPr>
          <p:spPr>
            <a:xfrm>
              <a:off x="4151880" y="5933880"/>
              <a:ext cx="872280" cy="7063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Times New Roman"/>
                </a:rPr>
                <a:t>TC support</a:t>
              </a:r>
              <a:r>
                <a:rPr b="1" lang="da-DK"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1" name="Oval 7"/>
            <p:cNvSpPr/>
            <p:nvPr/>
          </p:nvSpPr>
          <p:spPr>
            <a:xfrm>
              <a:off x="3865320" y="7038000"/>
              <a:ext cx="134280" cy="8784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f5494"/>
                  </a:solidFill>
                  <a:latin typeface="Trebuchet MS"/>
                  <a:ea typeface="Times New Roman"/>
                </a:rPr>
                <a:t>  </a:t>
              </a:r>
              <a:r>
                <a:rPr b="1" lang="en-GB"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2" name="Oval 8"/>
            <p:cNvSpPr/>
            <p:nvPr/>
          </p:nvSpPr>
          <p:spPr>
            <a:xfrm>
              <a:off x="1326240" y="4921920"/>
              <a:ext cx="1596600" cy="14104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00000"/>
                </a:solidFill>
                <a:latin typeface="Arial"/>
              </a:endParaRPr>
            </a:p>
          </p:txBody>
        </p:sp>
        <p:sp>
          <p:nvSpPr>
            <p:cNvPr id="1633" name="Oval 9"/>
            <p:cNvSpPr/>
            <p:nvPr/>
          </p:nvSpPr>
          <p:spPr>
            <a:xfrm>
              <a:off x="2932920" y="4766040"/>
              <a:ext cx="1741320" cy="15886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00000"/>
                </a:solidFill>
                <a:latin typeface="Arial"/>
              </a:endParaRPr>
            </a:p>
          </p:txBody>
        </p:sp>
        <p:sp>
          <p:nvSpPr>
            <p:cNvPr id="1634" name="Oval 10"/>
            <p:cNvSpPr/>
            <p:nvPr/>
          </p:nvSpPr>
          <p:spPr>
            <a:xfrm>
              <a:off x="466524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00000"/>
                </a:solidFill>
                <a:latin typeface="Arial"/>
              </a:endParaRPr>
            </a:p>
          </p:txBody>
        </p:sp>
        <p:sp>
          <p:nvSpPr>
            <p:cNvPr id="1635" name="Oval 11"/>
            <p:cNvSpPr/>
            <p:nvPr/>
          </p:nvSpPr>
          <p:spPr>
            <a:xfrm>
              <a:off x="597168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00000"/>
                </a:solidFill>
                <a:latin typeface="Arial"/>
              </a:endParaRPr>
            </a:p>
          </p:txBody>
        </p:sp>
        <p:sp>
          <p:nvSpPr>
            <p:cNvPr id="1636" name="Oval 12"/>
            <p:cNvSpPr/>
            <p:nvPr/>
          </p:nvSpPr>
          <p:spPr>
            <a:xfrm>
              <a:off x="7278120" y="4921920"/>
              <a:ext cx="130860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00000"/>
                </a:solidFill>
                <a:latin typeface="Arial"/>
              </a:endParaRPr>
            </a:p>
          </p:txBody>
        </p:sp>
        <p:sp>
          <p:nvSpPr>
            <p:cNvPr id="1637" name="Oval 13"/>
            <p:cNvSpPr/>
            <p:nvPr/>
          </p:nvSpPr>
          <p:spPr>
            <a:xfrm flipH="1">
              <a:off x="2709720" y="6259320"/>
              <a:ext cx="44640" cy="24048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b6bcf"/>
                  </a:solidFill>
                  <a:latin typeface="Trebuchet MS"/>
                  <a:ea typeface="Times New Roman"/>
                </a:rPr>
                <a:t> </a:t>
              </a:r>
              <a:endParaRPr b="0" lang="en-US" sz="1300" spc="-1" strike="noStrike">
                <a:solidFill>
                  <a:srgbClr val="000000"/>
                </a:solidFill>
                <a:latin typeface="Arial"/>
              </a:endParaRPr>
            </a:p>
          </p:txBody>
        </p:sp>
        <p:sp>
          <p:nvSpPr>
            <p:cNvPr id="1638" name="Line 14"/>
            <p:cNvSpPr/>
            <p:nvPr/>
          </p:nvSpPr>
          <p:spPr>
            <a:xfrm flipV="1">
              <a:off x="4725000" y="5933520"/>
              <a:ext cx="290520" cy="17676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39" name="Line 15"/>
            <p:cNvSpPr/>
            <p:nvPr/>
          </p:nvSpPr>
          <p:spPr>
            <a:xfrm flipV="1">
              <a:off x="3503520" y="5803920"/>
              <a:ext cx="290160" cy="17604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0" name="Line 16"/>
            <p:cNvSpPr/>
            <p:nvPr/>
          </p:nvSpPr>
          <p:spPr>
            <a:xfrm>
              <a:off x="2487960" y="6157440"/>
              <a:ext cx="434880" cy="17820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1" name="Line 17"/>
            <p:cNvSpPr/>
            <p:nvPr/>
          </p:nvSpPr>
          <p:spPr>
            <a:xfrm>
              <a:off x="27781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2" name="Line 18"/>
            <p:cNvSpPr/>
            <p:nvPr/>
          </p:nvSpPr>
          <p:spPr>
            <a:xfrm>
              <a:off x="6987240" y="5628600"/>
              <a:ext cx="43596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3" name="Line 19"/>
            <p:cNvSpPr/>
            <p:nvPr/>
          </p:nvSpPr>
          <p:spPr>
            <a:xfrm>
              <a:off x="568116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4" name="Line 20"/>
            <p:cNvSpPr/>
            <p:nvPr/>
          </p:nvSpPr>
          <p:spPr>
            <a:xfrm>
              <a:off x="43747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grpSp>
      <p:sp>
        <p:nvSpPr>
          <p:cNvPr id="1645" name="TextBox 1"/>
          <p:cNvSpPr/>
          <p:nvPr/>
        </p:nvSpPr>
        <p:spPr>
          <a:xfrm>
            <a:off x="259560" y="2652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646" name="TextBox 42"/>
          <p:cNvSpPr/>
          <p:nvPr/>
        </p:nvSpPr>
        <p:spPr>
          <a:xfrm>
            <a:off x="259560" y="54259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0" y="1219320"/>
            <a:ext cx="8229600" cy="7617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Balancing </a:t>
            </a:r>
            <a:r>
              <a:rPr b="1" i="1" lang="ja-JP" sz="2400" spc="-1" strike="noStrike">
                <a:solidFill>
                  <a:srgbClr val="0f5494"/>
                </a:solidFill>
                <a:latin typeface="Verdana"/>
              </a:rPr>
              <a:t>“</a:t>
            </a:r>
            <a:r>
              <a:rPr b="1" i="1" lang="en-GB" sz="2400" spc="-1" strike="noStrike">
                <a:solidFill>
                  <a:srgbClr val="0f5494"/>
                </a:solidFill>
                <a:latin typeface="Verdana"/>
              </a:rPr>
              <a:t>Doing</a:t>
            </a:r>
            <a:r>
              <a:rPr b="1" i="1" lang="ja-JP" sz="2400" spc="-1" strike="noStrike">
                <a:solidFill>
                  <a:srgbClr val="0f5494"/>
                </a:solidFill>
                <a:latin typeface="Verdana"/>
              </a:rPr>
              <a:t>”</a:t>
            </a:r>
            <a:r>
              <a:rPr b="1" i="1" lang="en-GB" sz="2400" spc="-1" strike="noStrike">
                <a:solidFill>
                  <a:srgbClr val="0f5494"/>
                </a:solidFill>
                <a:latin typeface="Verdana"/>
              </a:rPr>
              <a:t> and </a:t>
            </a:r>
            <a:r>
              <a:rPr b="1" i="1" lang="ja-JP" sz="2400" spc="-1" strike="noStrike">
                <a:solidFill>
                  <a:srgbClr val="0f5494"/>
                </a:solidFill>
                <a:latin typeface="Verdana"/>
              </a:rPr>
              <a:t>“</a:t>
            </a:r>
            <a:r>
              <a:rPr b="1" i="1" lang="en-GB" sz="2400" spc="-1" strike="noStrike">
                <a:solidFill>
                  <a:srgbClr val="0f5494"/>
                </a:solidFill>
                <a:latin typeface="Verdana"/>
              </a:rPr>
              <a:t>Facilitating</a:t>
            </a:r>
            <a:r>
              <a:rPr b="1" i="1" lang="ja-JP" sz="2400" spc="-1" strike="noStrike">
                <a:solidFill>
                  <a:srgbClr val="0f5494"/>
                </a:solidFill>
                <a:latin typeface="Verdana"/>
              </a:rPr>
              <a:t>”</a:t>
            </a:r>
            <a:endParaRPr b="1" lang="en-US" sz="2400" spc="-1" strike="noStrike">
              <a:solidFill>
                <a:srgbClr val="0f5494"/>
              </a:solidFill>
              <a:latin typeface="Verdana"/>
            </a:endParaRPr>
          </a:p>
        </p:txBody>
      </p:sp>
      <p:sp>
        <p:nvSpPr>
          <p:cNvPr id="1648" name="PlaceHolder 2"/>
          <p:cNvSpPr>
            <a:spLocks noGrp="1"/>
          </p:cNvSpPr>
          <p:nvPr>
            <p:ph/>
          </p:nvPr>
        </p:nvSpPr>
        <p:spPr>
          <a:xfrm>
            <a:off x="228600" y="1980720"/>
            <a:ext cx="868680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Combining service delivery and CD support may appear ideal ….. BUT</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	</a:t>
            </a:r>
            <a:r>
              <a:rPr b="0" i="1" lang="en-GB" sz="2000" spc="-1" strike="noStrike">
                <a:solidFill>
                  <a:srgbClr val="0f5494"/>
                </a:solidFill>
                <a:latin typeface="Verdana"/>
              </a:rPr>
              <a:t>The risk is that strong drivers (disbursement and visible short-term results which politicians on both sides) will overwhelm CD objectives unless there is a strong, articulated demand for it matching the demand for implementation. </a:t>
            </a:r>
            <a:endParaRPr b="0" i="1" lang="en-US" sz="20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In situations where </a:t>
            </a:r>
            <a:r>
              <a:rPr b="1" i="1" lang="ja-JP" sz="2000" spc="-1" strike="noStrike">
                <a:solidFill>
                  <a:srgbClr val="0f5494"/>
                </a:solidFill>
                <a:latin typeface="Verdana"/>
              </a:rPr>
              <a:t>“</a:t>
            </a:r>
            <a:r>
              <a:rPr b="1" i="1" lang="en-GB" sz="2000" spc="-1" strike="noStrike">
                <a:solidFill>
                  <a:srgbClr val="0f5494"/>
                </a:solidFill>
                <a:latin typeface="Verdana"/>
              </a:rPr>
              <a:t>doing</a:t>
            </a:r>
            <a:r>
              <a:rPr b="1" i="1" lang="ja-JP" sz="2000" spc="-1" strike="noStrike">
                <a:solidFill>
                  <a:srgbClr val="0f5494"/>
                </a:solidFill>
                <a:latin typeface="Verdana"/>
              </a:rPr>
              <a:t>”</a:t>
            </a:r>
            <a:r>
              <a:rPr b="1" i="1" lang="en-GB" sz="2000" spc="-1" strike="noStrike">
                <a:solidFill>
                  <a:srgbClr val="0f5494"/>
                </a:solidFill>
                <a:latin typeface="Verdana"/>
              </a:rPr>
              <a:t> takes over, it may end up reducing existing capacity: </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motivating lower remunerated staff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dermining domestic systems and accountabi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oaching</a:t>
            </a:r>
            <a:endParaRPr b="1" lang="en-US" sz="20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4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48">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48">
                                            <p:txEl>
                                              <p:pRg st="4" end="4"/>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48">
                                            <p:txEl>
                                              <p:pRg st="5" end="5"/>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48">
                                            <p:txEl>
                                              <p:pRg st="6" end="6"/>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Text Box 2"/>
          <p:cNvSpPr/>
          <p:nvPr/>
        </p:nvSpPr>
        <p:spPr>
          <a:xfrm rot="16200000">
            <a:off x="-1495440" y="4066200"/>
            <a:ext cx="448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ARTNER GROWTH</a:t>
            </a:r>
            <a:endParaRPr b="0" lang="en-US" sz="2000" spc="-1" strike="noStrike">
              <a:solidFill>
                <a:srgbClr val="000000"/>
              </a:solidFill>
              <a:latin typeface="Arial"/>
            </a:endParaRPr>
          </a:p>
        </p:txBody>
      </p:sp>
      <p:sp>
        <p:nvSpPr>
          <p:cNvPr id="1650" name="Text Box 3"/>
          <p:cNvSpPr/>
          <p:nvPr/>
        </p:nvSpPr>
        <p:spPr>
          <a:xfrm>
            <a:off x="2293920" y="6243480"/>
            <a:ext cx="493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ROGRAMME RESULTS</a:t>
            </a:r>
            <a:endParaRPr b="0" lang="en-US" sz="2000" spc="-1" strike="noStrike">
              <a:solidFill>
                <a:srgbClr val="000000"/>
              </a:solidFill>
              <a:latin typeface="Arial"/>
            </a:endParaRPr>
          </a:p>
        </p:txBody>
      </p:sp>
      <p:sp>
        <p:nvSpPr>
          <p:cNvPr id="1651" name="Line 4"/>
          <p:cNvSpPr/>
          <p:nvPr/>
        </p:nvSpPr>
        <p:spPr>
          <a:xfrm>
            <a:off x="1295280" y="2349360"/>
            <a:ext cx="0" cy="3816360"/>
          </a:xfrm>
          <a:prstGeom prst="line">
            <a:avLst/>
          </a:prstGeom>
          <a:ln w="76320">
            <a:solidFill>
              <a:srgbClr val="a6a6a6"/>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Line 5"/>
          <p:cNvSpPr/>
          <p:nvPr/>
        </p:nvSpPr>
        <p:spPr>
          <a:xfrm>
            <a:off x="1279440" y="6165720"/>
            <a:ext cx="6934320" cy="0"/>
          </a:xfrm>
          <a:prstGeom prst="line">
            <a:avLst/>
          </a:prstGeom>
          <a:ln w="76320">
            <a:solidFill>
              <a:srgbClr val="a6a6a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Text Box 6"/>
          <p:cNvSpPr/>
          <p:nvPr/>
        </p:nvSpPr>
        <p:spPr>
          <a:xfrm>
            <a:off x="1905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unseler</a:t>
            </a:r>
            <a:endParaRPr b="0" lang="en-US" sz="2000" spc="-1" strike="noStrike">
              <a:solidFill>
                <a:srgbClr val="000000"/>
              </a:solidFill>
              <a:latin typeface="Arial"/>
            </a:endParaRPr>
          </a:p>
        </p:txBody>
      </p:sp>
      <p:sp>
        <p:nvSpPr>
          <p:cNvPr id="1654" name="Text Box 7"/>
          <p:cNvSpPr/>
          <p:nvPr/>
        </p:nvSpPr>
        <p:spPr>
          <a:xfrm>
            <a:off x="413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ach</a:t>
            </a:r>
            <a:endParaRPr b="0" lang="en-US" sz="2000" spc="-1" strike="noStrike">
              <a:solidFill>
                <a:srgbClr val="000000"/>
              </a:solidFill>
              <a:latin typeface="Arial"/>
            </a:endParaRPr>
          </a:p>
        </p:txBody>
      </p:sp>
      <p:sp>
        <p:nvSpPr>
          <p:cNvPr id="1655" name="Text Box 8"/>
          <p:cNvSpPr/>
          <p:nvPr/>
        </p:nvSpPr>
        <p:spPr>
          <a:xfrm>
            <a:off x="647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artner</a:t>
            </a:r>
            <a:endParaRPr b="0" lang="en-US" sz="2000" spc="-1" strike="noStrike">
              <a:solidFill>
                <a:srgbClr val="000000"/>
              </a:solidFill>
              <a:latin typeface="Arial"/>
            </a:endParaRPr>
          </a:p>
        </p:txBody>
      </p:sp>
      <p:sp>
        <p:nvSpPr>
          <p:cNvPr id="1656" name="Text Box 9"/>
          <p:cNvSpPr/>
          <p:nvPr/>
        </p:nvSpPr>
        <p:spPr>
          <a:xfrm>
            <a:off x="1752480" y="5313240"/>
            <a:ext cx="195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hilosopher</a:t>
            </a:r>
            <a:endParaRPr b="0" lang="en-US" sz="2000" spc="-1" strike="noStrike">
              <a:solidFill>
                <a:srgbClr val="000000"/>
              </a:solidFill>
              <a:latin typeface="Arial"/>
            </a:endParaRPr>
          </a:p>
        </p:txBody>
      </p:sp>
      <p:sp>
        <p:nvSpPr>
          <p:cNvPr id="1657" name="Text Box 10"/>
          <p:cNvSpPr/>
          <p:nvPr/>
        </p:nvSpPr>
        <p:spPr>
          <a:xfrm>
            <a:off x="198108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facilitator</a:t>
            </a:r>
            <a:endParaRPr b="0" lang="en-US" sz="2000" spc="-1" strike="noStrike">
              <a:solidFill>
                <a:srgbClr val="000000"/>
              </a:solidFill>
              <a:latin typeface="Arial"/>
            </a:endParaRPr>
          </a:p>
        </p:txBody>
      </p:sp>
      <p:sp>
        <p:nvSpPr>
          <p:cNvPr id="1658" name="Text Box 11"/>
          <p:cNvSpPr/>
          <p:nvPr/>
        </p:nvSpPr>
        <p:spPr>
          <a:xfrm>
            <a:off x="3851280" y="53132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chnical adviser</a:t>
            </a:r>
            <a:endParaRPr b="0" lang="en-US" sz="2000" spc="-1" strike="noStrike">
              <a:solidFill>
                <a:srgbClr val="000000"/>
              </a:solidFill>
              <a:latin typeface="Arial"/>
            </a:endParaRPr>
          </a:p>
        </p:txBody>
      </p:sp>
      <p:sp>
        <p:nvSpPr>
          <p:cNvPr id="1659" name="Text Box 12"/>
          <p:cNvSpPr/>
          <p:nvPr/>
        </p:nvSpPr>
        <p:spPr>
          <a:xfrm>
            <a:off x="4191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acher</a:t>
            </a:r>
            <a:endParaRPr b="0" lang="en-US" sz="2000" spc="-1" strike="noStrike">
              <a:solidFill>
                <a:srgbClr val="000000"/>
              </a:solidFill>
              <a:latin typeface="Arial"/>
            </a:endParaRPr>
          </a:p>
        </p:txBody>
      </p:sp>
      <p:sp>
        <p:nvSpPr>
          <p:cNvPr id="1660" name="Text Box 13"/>
          <p:cNvSpPr/>
          <p:nvPr/>
        </p:nvSpPr>
        <p:spPr>
          <a:xfrm>
            <a:off x="6477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model</a:t>
            </a:r>
            <a:endParaRPr b="0" lang="en-US" sz="2000" spc="-1" strike="noStrike">
              <a:solidFill>
                <a:srgbClr val="000000"/>
              </a:solidFill>
              <a:latin typeface="Arial"/>
            </a:endParaRPr>
          </a:p>
        </p:txBody>
      </p:sp>
      <p:sp>
        <p:nvSpPr>
          <p:cNvPr id="1661" name="Text Box 14"/>
          <p:cNvSpPr/>
          <p:nvPr/>
        </p:nvSpPr>
        <p:spPr>
          <a:xfrm>
            <a:off x="6477120" y="53132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expert</a:t>
            </a:r>
            <a:endParaRPr b="0" lang="en-US" sz="2000" spc="-1" strike="noStrike">
              <a:solidFill>
                <a:srgbClr val="000000"/>
              </a:solidFill>
              <a:latin typeface="Arial"/>
            </a:endParaRPr>
          </a:p>
        </p:txBody>
      </p:sp>
      <p:sp>
        <p:nvSpPr>
          <p:cNvPr id="1662" name="Title 1"/>
          <p:cNvSpPr/>
          <p:nvPr/>
        </p:nvSpPr>
        <p:spPr>
          <a:xfrm>
            <a:off x="1814400" y="1484280"/>
            <a:ext cx="5781960" cy="936720"/>
          </a:xfrm>
          <a:prstGeom prst="rect">
            <a:avLst/>
          </a:prstGeom>
          <a:noFill/>
          <a:ln w="0">
            <a:noFill/>
          </a:ln>
        </p:spPr>
        <p:style>
          <a:lnRef idx="0"/>
          <a:fillRef idx="0"/>
          <a:effectRef idx="0"/>
          <a:fontRef idx="minor"/>
        </p:style>
        <p:txBody>
          <a:bodyPr lIns="90000" rIns="90000" tIns="46800" bIns="46800" anchor="t">
            <a:noAutofit/>
          </a:bodyPr>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gree on the TA’s ro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0" y="114264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Partner Management of TA</a:t>
            </a:r>
            <a:endParaRPr b="1" lang="en-US" sz="2400" spc="-1" strike="noStrike">
              <a:solidFill>
                <a:srgbClr val="0f5494"/>
              </a:solidFill>
              <a:latin typeface="Verdana"/>
            </a:endParaRPr>
          </a:p>
        </p:txBody>
      </p:sp>
      <p:sp>
        <p:nvSpPr>
          <p:cNvPr id="1664" name=""/>
          <p:cNvSpPr txBox="1"/>
          <p:nvPr/>
        </p:nvSpPr>
        <p:spPr>
          <a:xfrm>
            <a:off x="228240" y="2285640"/>
            <a:ext cx="8458200" cy="4267080"/>
          </a:xfrm>
          <a:prstGeom prst="rect">
            <a:avLst/>
          </a:prstGeom>
          <a:noFill/>
          <a:ln w="0">
            <a:noFill/>
          </a:ln>
        </p:spPr>
        <p:txBody>
          <a:bodyPr anchor="t">
            <a:normAutofit/>
          </a:bodyPr>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Rs developed with and approved by the partner agenc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ctive partner role in recruitment/procurement process even if not contracting: prepare thoroughl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artner agency lead responsibility for / active engagement in supervision (giving instructions) and reporting</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64">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64">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360" y="1066680"/>
            <a:ext cx="4049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Balance the three-way relationship</a:t>
            </a:r>
            <a:endParaRPr b="1" lang="en-US" sz="2400" spc="-1" strike="noStrike">
              <a:solidFill>
                <a:srgbClr val="0f5494"/>
              </a:solidFill>
              <a:latin typeface="Verdana"/>
            </a:endParaRPr>
          </a:p>
        </p:txBody>
      </p:sp>
      <p:cxnSp>
        <p:nvCxnSpPr>
          <p:cNvPr id="1666" name="Straight Arrow Connector 4"/>
          <p:cNvCxnSpPr/>
          <p:nvPr/>
        </p:nvCxnSpPr>
        <p:spPr>
          <a:xfrm>
            <a:off x="4952880" y="4572000"/>
            <a:ext cx="915120" cy="915120"/>
          </a:xfrm>
          <a:prstGeom prst="straightConnector1">
            <a:avLst/>
          </a:prstGeom>
          <a:ln w="0">
            <a:noFill/>
          </a:ln>
        </p:spPr>
      </p:cxnSp>
      <p:sp>
        <p:nvSpPr>
          <p:cNvPr id="1667" name="Straight Connector 5"/>
          <p:cNvSpPr/>
          <p:nvPr/>
        </p:nvSpPr>
        <p:spPr>
          <a:xfrm>
            <a:off x="6058080" y="396540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68" name="Straight Arrow Connector 7"/>
          <p:cNvCxnSpPr/>
          <p:nvPr/>
        </p:nvCxnSpPr>
        <p:spPr>
          <a:xfrm flipV="1">
            <a:off x="6094800" y="3962160"/>
            <a:ext cx="2520" cy="2160"/>
          </a:xfrm>
          <a:prstGeom prst="straightConnector1">
            <a:avLst/>
          </a:prstGeom>
          <a:ln w="0">
            <a:noFill/>
          </a:ln>
        </p:spPr>
      </p:cxnSp>
      <p:sp>
        <p:nvSpPr>
          <p:cNvPr id="1669" name="Explosion 2 9"/>
          <p:cNvSpPr/>
          <p:nvPr/>
        </p:nvSpPr>
        <p:spPr>
          <a:xfrm>
            <a:off x="6835680" y="3906720"/>
            <a:ext cx="822600" cy="822600"/>
          </a:xfrm>
          <a:prstGeom prst="irregularSeal2">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Explosion 1 11"/>
          <p:cNvSpPr/>
          <p:nvPr/>
        </p:nvSpPr>
        <p:spPr>
          <a:xfrm>
            <a:off x="6516720" y="2949480"/>
            <a:ext cx="824040" cy="824040"/>
          </a:xfrm>
          <a:prstGeom prst="irregularSeal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Direct Access Storage 12"/>
          <p:cNvSpPr/>
          <p:nvPr/>
        </p:nvSpPr>
        <p:spPr>
          <a:xfrm>
            <a:off x="5845320" y="4125960"/>
            <a:ext cx="822240" cy="824040"/>
          </a:xfrm>
          <a:prstGeom prst="flowChartMagneticDrum">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Explosion 1 14"/>
          <p:cNvSpPr/>
          <p:nvPr/>
        </p:nvSpPr>
        <p:spPr>
          <a:xfrm>
            <a:off x="5415120" y="3416400"/>
            <a:ext cx="3379680" cy="3309840"/>
          </a:xfrm>
          <a:prstGeom prst="irregularSeal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m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di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cilit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oller? Spy?</a:t>
            </a:r>
            <a:endParaRPr b="0" lang="en-US" sz="1600" spc="-1" strike="noStrike">
              <a:solidFill>
                <a:srgbClr val="000000"/>
              </a:solidFill>
              <a:latin typeface="Arial"/>
            </a:endParaRPr>
          </a:p>
        </p:txBody>
      </p:sp>
      <p:sp>
        <p:nvSpPr>
          <p:cNvPr id="1673" name="Rectangle 15"/>
          <p:cNvSpPr/>
          <p:nvPr/>
        </p:nvSpPr>
        <p:spPr>
          <a:xfrm>
            <a:off x="4611600" y="3976560"/>
            <a:ext cx="82404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18"/>
          <p:cNvSpPr/>
          <p:nvPr/>
        </p:nvSpPr>
        <p:spPr>
          <a:xfrm>
            <a:off x="4724280" y="4184640"/>
            <a:ext cx="822600" cy="822240"/>
          </a:xfrm>
          <a:prstGeom prst="rect">
            <a:avLst/>
          </a:prstGeom>
          <a:solidFill>
            <a:srgbClr val="ff6600">
              <a:alpha val="42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a:t>
            </a:r>
            <a:endParaRPr b="0" lang="en-US" sz="2400" spc="-1" strike="noStrike">
              <a:solidFill>
                <a:srgbClr val="000000"/>
              </a:solidFill>
              <a:latin typeface="Arial"/>
            </a:endParaRPr>
          </a:p>
        </p:txBody>
      </p:sp>
      <p:sp>
        <p:nvSpPr>
          <p:cNvPr id="1675" name="Rectangle 22"/>
          <p:cNvSpPr/>
          <p:nvPr/>
        </p:nvSpPr>
        <p:spPr>
          <a:xfrm>
            <a:off x="609480" y="4191120"/>
            <a:ext cx="1665360" cy="822240"/>
          </a:xfrm>
          <a:prstGeom prst="rect">
            <a:avLst/>
          </a:prstGeom>
          <a:solidFill>
            <a:srgbClr val="ff6600">
              <a:alpha val="58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or</a:t>
            </a:r>
            <a:endParaRPr b="0" lang="en-US" sz="2400" spc="-1" strike="noStrike">
              <a:solidFill>
                <a:srgbClr val="000000"/>
              </a:solidFill>
              <a:latin typeface="Arial"/>
            </a:endParaRPr>
          </a:p>
        </p:txBody>
      </p:sp>
      <p:sp>
        <p:nvSpPr>
          <p:cNvPr id="1676" name="Oval 23"/>
          <p:cNvSpPr/>
          <p:nvPr/>
        </p:nvSpPr>
        <p:spPr>
          <a:xfrm>
            <a:off x="4530600" y="1212840"/>
            <a:ext cx="2384640" cy="1905120"/>
          </a:xfrm>
          <a:prstGeom prst="ellipse">
            <a:avLst/>
          </a:prstGeom>
          <a:solidFill>
            <a:srgbClr val="0080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stom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nefici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tn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kehol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er?</a:t>
            </a:r>
            <a:endParaRPr b="0" lang="en-US" sz="1600" spc="-1" strike="noStrike">
              <a:solidFill>
                <a:srgbClr val="000000"/>
              </a:solidFill>
              <a:latin typeface="Arial"/>
            </a:endParaRPr>
          </a:p>
        </p:txBody>
      </p:sp>
      <p:sp>
        <p:nvSpPr>
          <p:cNvPr id="1677" name="Rectangle 24"/>
          <p:cNvSpPr/>
          <p:nvPr/>
        </p:nvSpPr>
        <p:spPr>
          <a:xfrm>
            <a:off x="2895480" y="1941480"/>
            <a:ext cx="2057400" cy="822240"/>
          </a:xfrm>
          <a:prstGeom prst="rect">
            <a:avLst/>
          </a:prstGeom>
          <a:solidFill>
            <a:srgbClr val="ff6600">
              <a:alpha val="33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Organisations</a:t>
            </a:r>
            <a:endParaRPr b="0" lang="en-US" sz="2000" spc="-1" strike="noStrike">
              <a:solidFill>
                <a:srgbClr val="000000"/>
              </a:solidFill>
              <a:latin typeface="Arial"/>
            </a:endParaRPr>
          </a:p>
        </p:txBody>
      </p:sp>
      <p:sp>
        <p:nvSpPr>
          <p:cNvPr id="1678" name="Straight Connector 25"/>
          <p:cNvSpPr/>
          <p:nvPr/>
        </p:nvSpPr>
        <p:spPr>
          <a:xfrm>
            <a:off x="4543560" y="2871720"/>
            <a:ext cx="981000" cy="1241640"/>
          </a:xfrm>
          <a:prstGeom prst="line">
            <a:avLst/>
          </a:prstGeom>
          <a:ln cap="rnd" w="76320">
            <a:solidFill>
              <a:srgbClr val="bfbfb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Straight Connector 29"/>
          <p:cNvSpPr/>
          <p:nvPr/>
        </p:nvSpPr>
        <p:spPr>
          <a:xfrm>
            <a:off x="3454560" y="380844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0" name="Straight Arrow Connector 31"/>
          <p:cNvCxnSpPr/>
          <p:nvPr/>
        </p:nvCxnSpPr>
        <p:spPr>
          <a:xfrm>
            <a:off x="2514240" y="4746600"/>
            <a:ext cx="1981800" cy="2160"/>
          </a:xfrm>
          <a:prstGeom prst="straightConnector1">
            <a:avLst/>
          </a:prstGeom>
          <a:ln cap="rnd" w="76320">
            <a:solidFill>
              <a:srgbClr val="bfbfbf"/>
            </a:solidFill>
            <a:miter/>
            <a:headEnd len="med" type="arrow" w="med"/>
            <a:tailEnd len="med" type="arrow" w="med"/>
          </a:ln>
        </p:spPr>
      </p:cxnSp>
      <p:sp>
        <p:nvSpPr>
          <p:cNvPr id="1681" name="Straight Connector 36"/>
          <p:cNvSpPr/>
          <p:nvPr/>
        </p:nvSpPr>
        <p:spPr>
          <a:xfrm>
            <a:off x="2371680" y="3117960"/>
            <a:ext cx="822240" cy="822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2" name="Straight Arrow Connector 38"/>
          <p:cNvCxnSpPr/>
          <p:nvPr/>
        </p:nvCxnSpPr>
        <p:spPr>
          <a:xfrm flipV="1">
            <a:off x="1442880" y="2617560"/>
            <a:ext cx="1254960" cy="1289520"/>
          </a:xfrm>
          <a:prstGeom prst="straightConnector1">
            <a:avLst/>
          </a:prstGeom>
          <a:ln cap="rnd" w="76320">
            <a:solidFill>
              <a:srgbClr val="bfbfbf"/>
            </a:solidFill>
            <a:miter/>
            <a:headEnd len="med" type="arrow" w="med"/>
            <a:tailEnd len="med" type="arrow" w="med"/>
          </a:ln>
        </p:spPr>
      </p:cxnSp>
      <p:sp>
        <p:nvSpPr>
          <p:cNvPr id="1683" name="Parallelogram 1"/>
          <p:cNvSpPr/>
          <p:nvPr/>
        </p:nvSpPr>
        <p:spPr>
          <a:xfrm>
            <a:off x="469800" y="5059440"/>
            <a:ext cx="2352600" cy="1338120"/>
          </a:xfrm>
          <a:prstGeom prst="parallelogram">
            <a:avLst>
              <a:gd name="adj" fmla="val 25005"/>
            </a:avLst>
          </a:prstGeom>
          <a:solidFill>
            <a:srgbClr val="d1d1f0"/>
          </a:solidFill>
          <a:ln w="0">
            <a:noFill/>
          </a:ln>
        </p:spPr>
        <p:style>
          <a:lnRef idx="0"/>
          <a:fillRef idx="0"/>
          <a:effectRef idx="0"/>
          <a:fontRef idx="minor"/>
        </p:style>
        <p:txBody>
          <a:bodyPr lIns="90000" rIns="90000" tIns="46800" bIns="46800" anchor="ctr">
            <a:noAutofit/>
          </a:bodyPr>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Employ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Stakehold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Custom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Partn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Benefactor</a:t>
            </a:r>
            <a:r>
              <a:rPr b="0" lang="en-US" sz="1600" spc="-1" strike="noStrike">
                <a:solidFill>
                  <a:srgbClr val="0f5494"/>
                </a:solidFill>
                <a:latin typeface="Verdana"/>
                <a:ea typeface="ＭＳ Ｐゴシック"/>
              </a:rPr>
              <a:t>?</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684" name="Straight Arrow Connector 3"/>
          <p:cNvCxnSpPr/>
          <p:nvPr/>
        </p:nvCxnSpPr>
        <p:spPr>
          <a:xfrm>
            <a:off x="2697120" y="3416400"/>
            <a:ext cx="915120" cy="915120"/>
          </a:xfrm>
          <a:prstGeom prst="straightConnector1">
            <a:avLst/>
          </a:prstGeom>
          <a:ln w="0">
            <a:noFill/>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5494"/>
                </a:solidFill>
                <a:latin typeface="Verdana"/>
              </a:rPr>
              <a:t>This Module</a:t>
            </a:r>
            <a:endParaRPr b="1" lang="en-US" sz="3000" spc="-1" strike="noStrike">
              <a:solidFill>
                <a:srgbClr val="0f5494"/>
              </a:solidFill>
              <a:latin typeface="Verdana"/>
            </a:endParaRPr>
          </a:p>
        </p:txBody>
      </p:sp>
      <p:sp>
        <p:nvSpPr>
          <p:cNvPr id="1594" name=""/>
          <p:cNvSpPr txBox="1"/>
          <p:nvPr/>
        </p:nvSpPr>
        <p:spPr>
          <a:xfrm>
            <a:off x="457200" y="2491920"/>
            <a:ext cx="8229600" cy="352908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plains why the design of programme implementation arrangements is important for capacity development</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vides an overview of key considerations for designing effective implementation arrangements</a:t>
            </a:r>
            <a:endParaRPr b="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f5494"/>
                </a:solidFill>
                <a:latin typeface="Verdana"/>
              </a:rPr>
              <a:t>CD Quality grid requirements: </a:t>
            </a:r>
            <a:br>
              <a:rPr sz="2700"/>
            </a:br>
            <a:r>
              <a:rPr b="1" lang="en-GB" sz="2700" spc="-1" strike="noStrike">
                <a:solidFill>
                  <a:srgbClr val="0f5494"/>
                </a:solidFill>
                <a:latin typeface="Verdana"/>
              </a:rPr>
              <a:t>5. Appropriate PIA</a:t>
            </a:r>
            <a:endParaRPr b="1" lang="en-US" sz="2700" spc="-1" strike="noStrike">
              <a:solidFill>
                <a:srgbClr val="0f5494"/>
              </a:solidFill>
              <a:latin typeface="Verdana"/>
            </a:endParaRPr>
          </a:p>
        </p:txBody>
      </p:sp>
      <p:sp>
        <p:nvSpPr>
          <p:cNvPr id="1596" name=""/>
          <p:cNvSpPr txBox="1"/>
          <p:nvPr/>
        </p:nvSpPr>
        <p:spPr>
          <a:xfrm>
            <a:off x="324000" y="2420640"/>
            <a:ext cx="8557920" cy="3887640"/>
          </a:xfrm>
          <a:prstGeom prst="rect">
            <a:avLst/>
          </a:prstGeom>
          <a:solidFill>
            <a:srgbClr val="9ed3d7"/>
          </a:solid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1</a:t>
            </a:r>
            <a:r>
              <a:rPr b="0" lang="en-US" sz="2000" spc="-1" strike="noStrike">
                <a:solidFill>
                  <a:srgbClr val="0f5494"/>
                </a:solidFill>
                <a:latin typeface="Verdana"/>
              </a:rPr>
              <a:t> Briefly describe the Project Implementation Arrangement. Will </a:t>
            </a:r>
            <a:r>
              <a:rPr b="0" lang="en-US" sz="2000" spc="-1" strike="noStrike">
                <a:solidFill>
                  <a:srgbClr val="ff0000"/>
                </a:solidFill>
                <a:latin typeface="Verdana"/>
              </a:rPr>
              <a:t>country partners lead and manage </a:t>
            </a:r>
            <a:r>
              <a:rPr b="0" lang="en-US" sz="2000" spc="-1" strike="noStrike">
                <a:solidFill>
                  <a:srgbClr val="0f5494"/>
                </a:solidFill>
                <a:latin typeface="Verdana"/>
              </a:rPr>
              <a:t>the programme? Is primary accountability of the programme appointed to domestic stakeholde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2 </a:t>
            </a:r>
            <a:r>
              <a:rPr b="0" lang="en-US" sz="2000" spc="-1" strike="noStrike">
                <a:solidFill>
                  <a:srgbClr val="0f5494"/>
                </a:solidFill>
                <a:latin typeface="Verdana"/>
              </a:rPr>
              <a:t>Will </a:t>
            </a:r>
            <a:r>
              <a:rPr b="0" lang="en-US" sz="2000" spc="-1" strike="noStrike">
                <a:solidFill>
                  <a:srgbClr val="ff0000"/>
                </a:solidFill>
                <a:latin typeface="Verdana"/>
              </a:rPr>
              <a:t>civil servants working in the programme </a:t>
            </a:r>
            <a:r>
              <a:rPr b="0" lang="en-US" sz="2000" spc="-1" strike="noStrike">
                <a:solidFill>
                  <a:srgbClr val="0f5494"/>
                </a:solidFill>
                <a:latin typeface="Verdana"/>
              </a:rPr>
              <a:t>receive topping-up (salary supplements, special allowances etc.) funded by the EU? Are they linked to clear performance targets? If these incentives are not following government regulations, which steps will be taken to align them, diminish any negative distortion and/or abandon the use of donor-funded topping-up?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GB" sz="3000" spc="-1" strike="noStrike">
                <a:solidFill>
                  <a:srgbClr val="0f5494"/>
                </a:solidFill>
                <a:latin typeface="Verdana"/>
              </a:rPr>
              <a:t> </a:t>
            </a:r>
            <a:r>
              <a:rPr b="1" lang="en-GB" sz="3000" spc="-1" strike="noStrike">
                <a:solidFill>
                  <a:srgbClr val="0f5494"/>
                </a:solidFill>
                <a:latin typeface="Verdana"/>
              </a:rPr>
              <a:t>continued</a:t>
            </a:r>
            <a:endParaRPr b="1" lang="en-US" sz="3000" spc="-1" strike="noStrike">
              <a:solidFill>
                <a:srgbClr val="0f5494"/>
              </a:solidFill>
              <a:latin typeface="Verdana"/>
            </a:endParaRPr>
          </a:p>
        </p:txBody>
      </p:sp>
      <p:sp>
        <p:nvSpPr>
          <p:cNvPr id="1598" name=""/>
          <p:cNvSpPr txBox="1"/>
          <p:nvPr/>
        </p:nvSpPr>
        <p:spPr>
          <a:xfrm>
            <a:off x="457200" y="2491920"/>
            <a:ext cx="8229600" cy="3529080"/>
          </a:xfrm>
          <a:prstGeom prst="rect">
            <a:avLst/>
          </a:prstGeom>
          <a:solidFill>
            <a:srgbClr val="9ed3d7"/>
          </a:solid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3</a:t>
            </a:r>
            <a:r>
              <a:rPr b="0" lang="en-US" sz="2400" spc="-1" strike="noStrike">
                <a:solidFill>
                  <a:srgbClr val="0f5494"/>
                </a:solidFill>
                <a:latin typeface="Verdana"/>
              </a:rPr>
              <a:t>. Given the nature of the programme and of the expected results, explain its level of </a:t>
            </a:r>
            <a:r>
              <a:rPr b="0" lang="en-US" sz="2400" spc="-1" strike="noStrike">
                <a:solidFill>
                  <a:srgbClr val="ff0000"/>
                </a:solidFill>
                <a:latin typeface="Verdana"/>
              </a:rPr>
              <a:t>integration in the broader structure </a:t>
            </a:r>
            <a:r>
              <a:rPr b="0" lang="en-US" sz="2400" spc="-1" strike="noStrike">
                <a:solidFill>
                  <a:srgbClr val="0f5494"/>
                </a:solidFill>
                <a:latin typeface="Verdana"/>
              </a:rPr>
              <a:t>or its level of autonom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4</a:t>
            </a:r>
            <a:r>
              <a:rPr b="0" lang="en-US" sz="2400" spc="-1" strike="noStrike">
                <a:solidFill>
                  <a:srgbClr val="0f5494"/>
                </a:solidFill>
                <a:latin typeface="Verdana"/>
              </a:rPr>
              <a:t> Are the EU’s and/or other donors’ role in the governance of the programme limited to </a:t>
            </a:r>
            <a:r>
              <a:rPr b="0" lang="en-US" sz="2400" spc="-1" strike="noStrike">
                <a:solidFill>
                  <a:srgbClr val="ff0000"/>
                </a:solidFill>
                <a:latin typeface="Verdana"/>
              </a:rPr>
              <a:t>oversight functions</a:t>
            </a:r>
            <a:r>
              <a:rPr b="0" lang="en-US"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68360" y="981000"/>
            <a:ext cx="7786800" cy="1008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Orientation</a:t>
            </a:r>
            <a:endParaRPr b="1" lang="en-US" sz="3000" spc="-1" strike="noStrike">
              <a:solidFill>
                <a:srgbClr val="0f5494"/>
              </a:solidFill>
              <a:latin typeface="Verdana"/>
            </a:endParaRPr>
          </a:p>
        </p:txBody>
      </p:sp>
      <p:sp>
        <p:nvSpPr>
          <p:cNvPr id="1600" name="PlaceHolder 2"/>
          <p:cNvSpPr>
            <a:spLocks noGrp="1"/>
          </p:cNvSpPr>
          <p:nvPr>
            <p:ph/>
          </p:nvPr>
        </p:nvSpPr>
        <p:spPr>
          <a:xfrm>
            <a:off x="324000" y="1844280"/>
            <a:ext cx="8291520" cy="4032360"/>
          </a:xfrm>
          <a:prstGeom prst="rect">
            <a:avLst/>
          </a:prstGeom>
          <a:noFill/>
          <a:ln w="0">
            <a:noFill/>
          </a:ln>
        </p:spPr>
        <p:txBody>
          <a:bodyPr anchor="t">
            <a:normAutofit fontScale="94000"/>
          </a:bodyPr>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Avoid </a:t>
            </a:r>
            <a:r>
              <a:rPr b="0" i="1" lang="fr-BE" sz="2000" spc="-1" strike="noStrike">
                <a:solidFill>
                  <a:srgbClr val="ff0000"/>
                </a:solidFill>
                <a:latin typeface="Verdana"/>
              </a:rPr>
              <a:t>Parallel Project Implementation Units</a:t>
            </a:r>
            <a:r>
              <a:rPr b="0" i="1" lang="fr-BE" sz="2000" spc="-1" strike="noStrike">
                <a:solidFill>
                  <a:srgbClr val="0f5494"/>
                </a:solidFill>
                <a:latin typeface="Verdana"/>
              </a:rPr>
              <a:t>, unless perfectly justified, and desired by 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Primary accountability is to </a:t>
            </a:r>
            <a:r>
              <a:rPr b="0" i="1" lang="en-GB" sz="2000" spc="-1" strike="noStrike">
                <a:solidFill>
                  <a:srgbClr val="ff0000"/>
                </a:solidFill>
                <a:latin typeface="Verdana"/>
              </a:rPr>
              <a:t>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ow well is the support integrated into the country </a:t>
            </a:r>
            <a:r>
              <a:rPr b="0" i="1" lang="en-GB" sz="2000" spc="-1" strike="noStrike">
                <a:solidFill>
                  <a:srgbClr val="ff0000"/>
                </a:solidFill>
                <a:latin typeface="Verdana"/>
              </a:rPr>
              <a:t>institutional set-up </a:t>
            </a:r>
            <a:r>
              <a:rPr b="0" i="1" lang="en-GB" sz="2000" spc="-1" strike="noStrike">
                <a:solidFill>
                  <a:srgbClr val="0f5494"/>
                </a:solidFill>
                <a:latin typeface="Verdana"/>
              </a:rPr>
              <a:t>?</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Can the implementation mechanisms be </a:t>
            </a:r>
            <a:r>
              <a:rPr b="0" i="1" lang="fr-BE" sz="2000" spc="-1" strike="noStrike">
                <a:solidFill>
                  <a:srgbClr val="ff0000"/>
                </a:solidFill>
                <a:latin typeface="Verdana"/>
              </a:rPr>
              <a:t>closer to country systems</a:t>
            </a:r>
            <a:r>
              <a:rPr b="0" i="1" lang="fr-BE" sz="2000" spc="-1" strike="noStrike">
                <a:solidFill>
                  <a:srgbClr val="0f5494"/>
                </a:solidFill>
                <a:latin typeface="Verdana"/>
              </a:rPr>
              <a:t> ? Procurement, accountability mechanisms (Budget, Parliament, Court of Auditors)</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Issue of salary </a:t>
            </a:r>
            <a:r>
              <a:rPr b="0" i="1" lang="en-GB" sz="2000" spc="-1" strike="noStrike">
                <a:solidFill>
                  <a:srgbClr val="ff0000"/>
                </a:solidFill>
                <a:latin typeface="Verdana"/>
              </a:rPr>
              <a:t>top-ups </a:t>
            </a:r>
            <a:r>
              <a:rPr b="0" i="1" lang="en-GB" sz="2000" spc="-1" strike="noStrike">
                <a:solidFill>
                  <a:srgbClr val="0f5494"/>
                </a:solidFill>
                <a:latin typeface="Verdana"/>
              </a:rPr>
              <a:t>and related incentives has been addressed</a:t>
            </a:r>
            <a:r>
              <a:rPr b="0" i="1" lang="en-GB" sz="2000" spc="-1" strike="noStrike">
                <a:solidFill>
                  <a:srgbClr val="0f5494"/>
                </a:solidFill>
                <a:latin typeface="Verdana"/>
              </a:rPr>
              <a:t>	</a:t>
            </a:r>
            <a:r>
              <a:rPr b="0" i="1" lang="en-GB" sz="2000" spc="-1" strike="noStrike">
                <a:solidFill>
                  <a:srgbClr val="0f5494"/>
                </a:solidFill>
                <a:latin typeface="Verdana"/>
              </a:rPr>
              <a:t>	</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U/donor role is limited to </a:t>
            </a:r>
            <a:r>
              <a:rPr b="0" i="1" lang="en-GB" sz="2000" spc="-1" strike="noStrike">
                <a:solidFill>
                  <a:srgbClr val="ff0000"/>
                </a:solidFill>
                <a:latin typeface="Verdana"/>
              </a:rPr>
              <a:t>oversight</a:t>
            </a:r>
            <a:r>
              <a:rPr b="0" i="1" lang="en-GB" sz="2000" spc="-1" strike="noStrike">
                <a:solidFill>
                  <a:srgbClr val="0f5494"/>
                </a:solidFill>
                <a:latin typeface="Verdana"/>
              </a:rPr>
              <a:t>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394920" y="1283760"/>
            <a:ext cx="7777080" cy="489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rPr>
              <a:t>Importance of proper arrangements</a:t>
            </a:r>
            <a:endParaRPr b="1" lang="en-US" sz="3200" spc="-1" strike="noStrike">
              <a:solidFill>
                <a:srgbClr val="0f5494"/>
              </a:solidFill>
              <a:latin typeface="Verdana"/>
            </a:endParaRPr>
          </a:p>
        </p:txBody>
      </p:sp>
      <p:sp>
        <p:nvSpPr>
          <p:cNvPr id="1602" name=""/>
          <p:cNvSpPr txBox="1"/>
          <p:nvPr/>
        </p:nvSpPr>
        <p:spPr>
          <a:xfrm>
            <a:off x="457200" y="2068560"/>
            <a:ext cx="8229600" cy="4192560"/>
          </a:xfrm>
          <a:prstGeom prst="rect">
            <a:avLst/>
          </a:prstGeom>
          <a:noFill/>
          <a:ln w="0">
            <a:noFill/>
          </a:ln>
        </p:spPr>
        <p:txBody>
          <a:bodyPr anchor="t">
            <a:normAutofit fontScale="93000"/>
          </a:bodyPr>
          <a:p>
            <a:pPr lvl="1" marL="690840" indent="-265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orly designed arrangements can undermine the integrity of a CD intervention</a:t>
            </a:r>
            <a:endParaRPr b="1" lang="en-US" sz="2000" spc="-1" strike="noStrike">
              <a:solidFill>
                <a:srgbClr val="0f5494"/>
              </a:solidFill>
              <a:latin typeface="Verdana"/>
            </a:endParaRPr>
          </a:p>
          <a:p>
            <a:pPr marL="318960" indent="-318960">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agmented management and governance</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raw on scarce resources</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sustainable and can create perverse incentives</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Well conceived PIAs can make an important contribution to sustainable capacity development</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ackle CD as a key design consideration</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rPr>
              <a:t>Make ownership operational in day-to-day working relations</a:t>
            </a: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2">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02">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02">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02">
                                            <p:txEl>
                                              <p:pRg st="6" end="6"/>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02">
                                            <p:txEl>
                                              <p:pRg st="8" end="8"/>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602">
                                            <p:txEl>
                                              <p:pRg st="10" end="1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02">
                                            <p:txEl>
                                              <p:pRg st="12" end="1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0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41C750-7DAD-4C9D-9D30-3C8EF82B7F3B}"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4" name="PlaceHolder 1"/>
          <p:cNvSpPr>
            <a:spLocks noGrp="1"/>
          </p:cNvSpPr>
          <p:nvPr>
            <p:ph type="title"/>
          </p:nvPr>
        </p:nvSpPr>
        <p:spPr>
          <a:xfrm>
            <a:off x="611280" y="1302840"/>
            <a:ext cx="742608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IA characteristics</a:t>
            </a:r>
            <a:endParaRPr b="1" lang="en-US" sz="3000" spc="-1" strike="noStrike">
              <a:solidFill>
                <a:srgbClr val="0f5494"/>
              </a:solidFill>
              <a:latin typeface="Verdana"/>
            </a:endParaRPr>
          </a:p>
        </p:txBody>
      </p:sp>
      <p:sp>
        <p:nvSpPr>
          <p:cNvPr id="1605" name="PlaceHolder 2"/>
          <p:cNvSpPr>
            <a:spLocks noGrp="1"/>
          </p:cNvSpPr>
          <p:nvPr>
            <p:ph/>
          </p:nvPr>
        </p:nvSpPr>
        <p:spPr>
          <a:xfrm>
            <a:off x="539640" y="1773360"/>
            <a:ext cx="7726320" cy="4751280"/>
          </a:xfrm>
          <a:prstGeom prst="rect">
            <a:avLst/>
          </a:prstGeom>
          <a:noFill/>
          <a:ln w="0">
            <a:noFill/>
          </a:ln>
        </p:spPr>
        <p:txBody>
          <a:bodyPr anchor="t">
            <a:normAutofit/>
          </a:bodyPr>
          <a:p>
            <a:pPr marL="343080" indent="0">
              <a:lnSpc>
                <a:spcPct val="110000"/>
              </a:lnSpc>
              <a:spcBef>
                <a:spcPts val="224"/>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Partner-</a:t>
            </a:r>
            <a:r>
              <a:rPr b="1" i="1" lang="en-GB" sz="1800" spc="-1" strike="noStrike">
                <a:solidFill>
                  <a:srgbClr val="ff0000"/>
                </a:solidFill>
                <a:latin typeface="Verdana"/>
              </a:rPr>
              <a:t>owned</a:t>
            </a:r>
            <a:r>
              <a:rPr b="1" i="1" lang="en-GB" sz="1800" spc="-1" strike="noStrike">
                <a:solidFill>
                  <a:srgbClr val="0f5494"/>
                </a:solidFill>
                <a:latin typeface="Verdana"/>
              </a:rPr>
              <a:t> and partner </a:t>
            </a:r>
            <a:r>
              <a:rPr b="1" i="1" lang="en-GB" sz="1800" spc="-1" strike="noStrike">
                <a:solidFill>
                  <a:srgbClr val="ff0000"/>
                </a:solidFill>
                <a:latin typeface="Verdana"/>
              </a:rPr>
              <a:t>managed</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Verdana"/>
              </a:rPr>
              <a:t>Designed/ decided</a:t>
            </a:r>
            <a:r>
              <a:rPr b="1" i="1" lang="en-GB" sz="1800" spc="-1" strike="noStrike">
                <a:solidFill>
                  <a:srgbClr val="0f5494"/>
                </a:solidFill>
                <a:latin typeface="Verdana"/>
              </a:rPr>
              <a:t> by the partner with donor input</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Embedded in the </a:t>
            </a:r>
            <a:r>
              <a:rPr b="1" i="1" lang="en-GB" sz="1800" spc="-1" strike="noStrike">
                <a:solidFill>
                  <a:srgbClr val="ff0000"/>
                </a:solidFill>
                <a:latin typeface="Verdana"/>
              </a:rPr>
              <a:t>local institutional context</a:t>
            </a: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Balancing programme autonomy vs. integration. Depends on type of result envisaged:</a:t>
            </a:r>
            <a:endParaRPr b="0" i="1" lang="en-US" sz="18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results can be achieved without inputs/ resources of other organisations within public sector</a:t>
            </a:r>
            <a:endParaRPr b="1" lang="en-US" sz="20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CD and change is key objectiv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FF7388-9985-4DAE-9A53-407B6E84CBDC}"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7" name="PlaceHolder 1"/>
          <p:cNvSpPr>
            <a:spLocks noGrp="1"/>
          </p:cNvSpPr>
          <p:nvPr>
            <p:ph type="title"/>
          </p:nvPr>
        </p:nvSpPr>
        <p:spPr>
          <a:xfrm>
            <a:off x="250920" y="1196640"/>
            <a:ext cx="8353440" cy="662040"/>
          </a:xfrm>
          <a:prstGeom prst="rect">
            <a:avLst/>
          </a:prstGeom>
          <a:noFill/>
          <a:ln w="0">
            <a:noFill/>
          </a:ln>
        </p:spPr>
        <p:txBody>
          <a:bodyPr anchor="ctr">
            <a:noAutofit/>
          </a:bodyPr>
          <a:p>
            <a:pPr marL="9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signing PIAs: 5 key parameters</a:t>
            </a:r>
            <a:endParaRPr b="1" lang="en-US" sz="2800" spc="-1" strike="noStrike">
              <a:solidFill>
                <a:srgbClr val="0f5494"/>
              </a:solidFill>
              <a:latin typeface="Verdana"/>
            </a:endParaRPr>
          </a:p>
        </p:txBody>
      </p:sp>
      <p:sp>
        <p:nvSpPr>
          <p:cNvPr id="1608" name="PlaceHolder 2"/>
          <p:cNvSpPr>
            <a:spLocks noGrp="1"/>
          </p:cNvSpPr>
          <p:nvPr>
            <p:ph/>
          </p:nvPr>
        </p:nvSpPr>
        <p:spPr>
          <a:xfrm>
            <a:off x="179280" y="2060640"/>
            <a:ext cx="8569440" cy="4176720"/>
          </a:xfrm>
          <a:prstGeom prst="rect">
            <a:avLst/>
          </a:prstGeom>
          <a:noFill/>
          <a:ln w="0">
            <a:noFill/>
          </a:ln>
        </p:spPr>
        <p:txBody>
          <a:bodyPr anchor="t">
            <a:normAutofit/>
          </a:bodyPr>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1. Governance and accountability</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oversee and govern programme implementation? </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the programme be accountable to in the country system?</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Take care to avoid duplication</a:t>
            </a:r>
            <a:endParaRPr b="1" lang="en-US" sz="1800" spc="-1" strike="noStrike">
              <a:solidFill>
                <a:srgbClr val="0f5494"/>
              </a:solidFill>
              <a:latin typeface="Verdana"/>
            </a:endParaRPr>
          </a:p>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2. Management set-up</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will perform daily programme management functions?</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ith what authority over resource management functions?</a:t>
            </a:r>
            <a:endParaRPr b="1" lang="en-US" sz="18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A part-time or full time function</a:t>
            </a:r>
            <a:r>
              <a:rPr b="0" lang="en-GB" sz="1600" spc="-1" strike="noStrike">
                <a:solidFill>
                  <a:srgbClr val="0f5494"/>
                </a:solidFill>
                <a:latin typeface="Verdana"/>
              </a:rPr>
              <a:t>?</a:t>
            </a:r>
            <a:endParaRPr b="1" lang="en-US" sz="1600" spc="-1" strike="noStrike">
              <a:solidFill>
                <a:srgbClr val="0f5494"/>
              </a:solidFill>
              <a:latin typeface="Verdana"/>
            </a:endParaRPr>
          </a:p>
          <a:p>
            <a:pPr lvl="2" marL="1239840" indent="0">
              <a:lnSpc>
                <a:spcPct val="13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EA4587-B0F6-4883-947B-A5B6725D3436}"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10" name="PlaceHolder 1"/>
          <p:cNvSpPr>
            <a:spLocks noGrp="1"/>
          </p:cNvSpPr>
          <p:nvPr>
            <p:ph/>
          </p:nvPr>
        </p:nvSpPr>
        <p:spPr>
          <a:xfrm>
            <a:off x="395280" y="1628640"/>
            <a:ext cx="8748720" cy="5027760"/>
          </a:xfrm>
          <a:prstGeom prst="rect">
            <a:avLst/>
          </a:prstGeom>
          <a:noFill/>
          <a:ln w="0">
            <a:noFill/>
          </a:ln>
        </p:spPr>
        <p:txBody>
          <a:bodyPr anchor="t">
            <a:normAutofit/>
          </a:bodyPr>
          <a:p>
            <a:pPr marL="343080" indent="0">
              <a:lnSpc>
                <a:spcPct val="13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3. Logistical autonomy &amp; embeddedness</a:t>
            </a:r>
            <a:endParaRPr b="0" i="1" lang="en-US" sz="24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Does the programme require own vehicles, office equipment, ancillary staff, or can it share resources with others?</a:t>
            </a:r>
            <a:endParaRPr b="1" lang="en-US" sz="16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Legitimacy, sustainability, efficienc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4. Relations between TC experts, partners and EC</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If contracted by the EC (or another donor), who are the experts taking instructions from and to whom are they accountab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Trust, accountability and confidentialit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5. EC’s and other donors’ roles</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Should donors play a role at all in the PIA – and if so, which ro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Policy dialogue, negotiating results framework, M&amp;E</a:t>
            </a:r>
            <a:endParaRPr b="1" lang="en-US" sz="1600" spc="-1" strike="noStrike">
              <a:solidFill>
                <a:srgbClr val="0f5494"/>
              </a:solidFill>
              <a:latin typeface="Verdana"/>
            </a:endParaRPr>
          </a:p>
          <a:p>
            <a:pPr lvl="2" marL="1239840" indent="0" algn="r">
              <a:lnSpc>
                <a:spcPct val="14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f5494"/>
              </a:solidFill>
              <a:latin typeface="Verdana"/>
            </a:endParaRPr>
          </a:p>
          <a:p>
            <a:pPr lvl="2" marL="1239840" indent="0">
              <a:lnSpc>
                <a:spcPct val="14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f5494"/>
              </a:solidFill>
              <a:latin typeface="Verdana"/>
            </a:endParaRPr>
          </a:p>
          <a:p>
            <a:pPr marL="343080"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7:00:29Z</dcterms:created>
  <dc:creator>Jos Brand</dc:creator>
  <dc:description/>
  <dc:language>en-US</dc:language>
  <cp:lastModifiedBy>kar</cp:lastModifiedBy>
  <cp:lastPrinted>2014-03-03T13:51:12Z</cp:lastPrinted>
  <dcterms:modified xsi:type="dcterms:W3CDTF">2014-03-14T13:27:59Z</dcterms:modified>
  <cp:revision>313</cp:revision>
  <dc:subject/>
  <dc:title>PowerPoint Presentation</dc:title>
</cp:coreProperties>
</file>