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9ED6-60E9-4488-AA81-54A366697A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E38A-9D59-49E2-AEC9-743A0D3248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4D41-9FD3-4AA4-8239-C3E589C8C8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155F-C1A4-46FC-B3FE-E1A745DB25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A975-BB35-4850-B6C0-F6328D61EC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B367-6094-41DE-851A-1D8A481C03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7A31-A0C3-4636-8C48-A77948686F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991C-547F-45AA-ACBC-9A4FF74C2E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7B7F-6A99-446E-AEAC-F9D78E4C62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5CE9-F7B2-4F3B-BB7B-917CF71436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EE52-3096-42B5-816A-0B573D8CDA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4A16-85FA-4A41-8FA8-BB85160C89DA}"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1340-E7F0-4DA9-98D8-FA36F9DBE4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2958-194E-48C5-A3E0-BA0CE3CF38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DF2B-CAC2-459F-AC7F-427777F005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9850-E827-4279-B4FE-C6CDA0EB7F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66DF-68D6-4CD0-B8C8-9DACE2E308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64ED-539F-4A92-B07B-337C6CE124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244D-615A-466F-B92A-8D003AC8F0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9C14-CB9B-4DFE-89E2-B8CE9DC5DEF7}"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870F-9721-43FB-A7BC-2506C1B3DD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978A-284B-47BA-BC42-B43DC3584A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3303-1BB6-4CEB-8A1A-95274220BC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19C7-FF1E-44F3-8355-526B14899F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1978-87AB-40B7-9601-90C677B324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6FCC-AB19-41C7-B51F-46FD4FA36B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62E3-0274-45FD-ACEA-24F24EFF8E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4E8A-5289-4EDA-B15C-6ABCD6FD27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875D-8901-4934-AD47-8BBEA6DCA203}"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4F8C-E49E-48CA-B896-4F85742FD9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0617-805E-419F-8F5D-42C3171F8B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F69D-484E-405B-8591-4C735642F9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4996-9523-459B-8B26-6C70D83BBB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4FC8-FB54-42D2-BB89-1B439A8E3F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AB4B-F2FA-4067-9A7D-5CD4337F2D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F76E-A138-4CF6-96DA-7EB90B33EA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17C0-7D66-4304-81A7-CF539273A0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FD9D-2797-40E3-946C-C24F195A21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7B1F-B35D-4EB8-8171-F37EFB511A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AE9F-E2A5-41F2-96EA-CF705EA39C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114AC-AEF4-42CB-9703-1CE2FC28B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CBF89-39D9-4CE6-B26B-C92920D4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3EE29-B0E5-4755-A3AC-D0B7DCE5F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6B633-4E23-4717-ADFC-0FAEC5693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6A0A5-B1E1-4DC6-8DE0-37F27E7DF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DD66D-5B7A-4216-A07F-2E700313B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C1EFC-105C-4068-A0F5-9D2EBDEDE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537F0-8253-41A5-A206-ADD394B6A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0E611-6056-40F9-A9F7-40C97BD66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97DB8-B414-4D07-9E04-5C59F383A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01FC8-0FCE-4286-AB65-A1E2AEF69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93744-3378-4284-88C9-3119A752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B685-B96E-4BB4-BCDC-B77A94846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F904E-4ABF-4F51-A39D-7763C1E8A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0A115-A43C-4CDA-80A7-A90E88C96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9D027-A556-4FDF-95DE-E795749FD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1A419-F2FF-4493-A641-91CA3569A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C74D-3FCC-4DD6-825E-B25BDEEB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9980-C429-4134-82D5-5E2724C2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47FB-6C07-4ED9-94BC-D4DE671C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C57A-DC3E-4296-B079-5D17A26A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6AED-2E19-4E62-A5EB-24D98036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A89A-2E66-4A55-A131-A2DAECBF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2A51-1961-4620-BD71-EDCF509BC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08D6-AF25-4AA7-A42A-7F013326456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7A5E-3625-4137-B468-024DA77C7EE2}" type="datetime">
              <a:rPr b="0" lang="en-US" sz="1200" spc="-1" strike="noStrike">
                <a:solidFill>
                  <a:srgbClr val="898989"/>
                </a:solidFill>
                <a:latin typeface="Verdana"/>
                <a:ea typeface="ＭＳ Ｐゴシック"/>
              </a:rPr>
              <a:t>07/31/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964D-F6BA-4A42-80EC-7D5A3E77FBB8}"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0764-9BB8-4E53-8D30-4BC032C50292}"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9AA3-4D10-4C88-A796-CE82B7DBFDFE}"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