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F243-359A-4653-9F54-DE1EE5ECFB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1FD5-4AA1-4E70-A73E-9159976DB7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F357-DF6D-40C2-88BE-53CB916589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F46C-A8F3-4381-ABC8-29B475DE4F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E4C4-D60A-4523-A5D8-DF820387B0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22A9-09F6-471F-A957-65F2BE1079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340D-7A27-4473-A4B3-5C54CC947B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7AAB-4377-44BA-A355-02A4B7210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1283-6588-4508-B4C3-925D7C9CE7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0BBC-C455-414E-8526-495D50B7A0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AA7B-F300-4877-9642-DBFA4BEBF5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95AB-DABE-46DA-8632-8C9F31789CD9}"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32D-CAE7-41A9-B3DB-8EF99B4AB2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E321-5A11-47F4-A989-62ED0F21C5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9770-82AD-4F88-81FD-B059303CE6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B2DB-3EBE-4D03-A153-0D8A05462F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236E-DD9D-4D1D-B61D-AEE6CA64D0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AD05-2019-4E83-89CC-C1A1F222A8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AED0-06AA-4C81-823D-08D2C7DB98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13F8-CF68-4E77-8199-420D7AD4723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2D0B-DD21-4981-AFBA-D8EC359216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1DFF-C1A4-4992-8ACF-C143305617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AE62-F818-411D-80C4-C8036725EF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7EEC-54A9-4865-B600-F681B70BE4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1DFC-B5FF-4E12-9588-3094660B87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5906-FC51-4E65-8C68-F6B70534BA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7DFA-6502-4C0B-8F34-68825D52A6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8400-C5E9-4349-93EF-2DAD78DC6C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F23F-61D5-4E40-A4C9-9C869DABDEE1}"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0A86-6268-4268-B122-64BB72C2B5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D0D2-3672-4A38-804E-188CC4C55A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3183-A9E4-4CD0-B48D-C946C6A888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0D78-2C26-473E-BF56-F8C37590EE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A85E-8513-448F-BE70-C665B02A06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2932-AED2-4663-A246-EA9C151B0F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6B39-0D6C-4030-9A26-079312B960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9677-96F8-4309-8721-D45648B544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733B-6E72-4AE6-A9BE-D61357C36D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4798-ACE3-49A9-BD73-384B47EABA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DBC9-96DB-4129-BAB4-D876AD2C57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DB1B1-631E-418C-AD7B-1D95F45F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4D2A8-0FF9-461D-BBF1-C9F2816F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CCA6-6361-4C62-8BC5-7E697108D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FF59-17B9-4625-9EE3-A29A224C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51A71-BDC8-4F0A-9ED7-02970CC4A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8C077-BA62-47B5-B4EA-9DC356C76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588D9-F86B-48A1-8E18-9C2DB74C6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636A4-4AD1-4280-9D37-0B0BA83B6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C45F3-8283-4811-A994-839142342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3DF9-E0F3-4EF4-AEC0-DB173A801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72EB-F892-4FC4-8AD6-B1C602406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D7AE-8C57-46FB-A9AF-4292BC23C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638D5-ED3B-49ED-9A9B-80D893157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5CA62-1871-4A27-B87B-9F21D5A95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AB806-E803-4059-9CC1-6AE80B147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9C64C-C15D-4F0A-B389-E1E13E48F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57253-6BDA-4A0D-B0BC-9BD49F3E2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C871-6187-4E7B-9A22-4C7287F4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F010-4725-4B49-A073-D6811072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C5922-58EA-47CC-907B-C82FC9CEE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65AE3-83F8-41B0-86B9-7D2ABD86F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B60D-0C8A-4878-8F1D-B8352930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5C9CD-7444-4FCA-A625-E8A3EAE9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B804-3D2D-44A5-8BFC-094D90095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6E31-899A-49D2-8E79-CD4CE19715B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38A2-A55C-4B43-9581-5D1A6F5340D8}" type="datetime">
              <a:rPr b="0" lang="en-US" sz="1200" spc="-1" strike="noStrike">
                <a:solidFill>
                  <a:srgbClr val="898989"/>
                </a:solidFill>
                <a:latin typeface="Verdana"/>
                <a:ea typeface="ＭＳ Ｐゴシック"/>
              </a:rPr>
              <a:t>07/31/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9B0A-F8CA-4D0B-BB7E-75CC8A727BB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0892-A386-4A0A-899A-D5B28C4592DA}"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92C8-BB07-4841-ABB8-F18ADBEF6023}"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