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D1FAB-AA63-4244-B205-FC52D3C85F0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chool block grants have been introduced to off-set fee abolition for school operational (non-salary) budgets and school development pl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94171-C26F-4FEC-88B6-CED4F7652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45A5E-C506-44C4-8678-920410421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30419-A509-4923-9975-198957688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A7563-2191-4086-9D6E-2B5394C3F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1B7CF-6EB2-4EC9-B6CB-A3B76EBE5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4267F-3975-4D53-90B7-2215EB9D8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926D7-462C-42E3-811A-456ADD35C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82E8B-69F5-44FE-AAB5-B64474F39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C86F7-AFF1-4EFB-A63F-FDC781B46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8E900-26AF-4DD0-A152-456453BB9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7BD5F-62E2-49B4-9673-2A894CA7E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A1D43-FD09-42E2-891E-723141EFF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B9C5C-145C-44BF-8BAD-B64A41AF2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33B52-F2B5-4111-A5CA-94D6C48F3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42FC6-9030-4D1F-BBB1-90DE6DF94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D14C5-69E6-45EC-B406-8B7C6692F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10D08-4AA1-472D-876B-20B37847A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C9FD2-0B9C-4884-B5EF-12ACEA1B4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C5DF9-8082-4CB5-B0D5-9F05627B9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6E401-A99E-448E-8C03-4460C322B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3E580-41CA-4D74-8701-F5EADF5EA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D462F-F96F-4D7B-ACCC-8CA64BF71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2245E-C7D0-4B16-A75D-47625C719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22764-6792-40A8-A30C-B57132412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2DBAF-EBF8-46E6-8667-3EF02B2D2BC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A9A51-1A77-4964-B2F2-E234AC67F4A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Social Protection System, Lao PDR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5257440"/>
            <a:ext cx="72388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ocial Protection Seminar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Bangkok June 12-15, 2012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8751" t="14844" r="39376" b="69534"/>
          <a:stretch/>
        </p:blipFill>
        <p:spPr>
          <a:xfrm>
            <a:off x="5257800" y="228600"/>
            <a:ext cx="3168720" cy="76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66"/>
                </a:solidFill>
                <a:latin typeface="Arial"/>
              </a:rPr>
              <a:t>EU involves in social protection projects</a:t>
            </a:r>
            <a:endParaRPr b="0" lang="en-US" sz="3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Budget support oper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niversal Health coverage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ree MCH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chool Block Grants (Capitation Grant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ommunity Nutrition Project (Trust Fund/AA with WB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ditional Cash Transfer pilot program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Global Partnership for Education (GP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chool Block Grants and Community Gran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chool Meals program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rcRect l="8751" t="14844" r="39376" b="69534"/>
          <a:stretch/>
        </p:blipFill>
        <p:spPr>
          <a:xfrm>
            <a:off x="5486400" y="228600"/>
            <a:ext cx="3168720" cy="76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chool Block Grant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Goal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o help facilitate equitable access to basic education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Objectiv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o provide administrative funding to schools to finance their operating cost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o facilitate the school administration, learning and teaching activities by ensuring that teachers and students have adequate and sufficient instructional materia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o increase enrollment by reducing education costs for parent with a focus on gradually eradicating school fees (registration and instruction fee) for basic and post basic education in the future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o increase the completion rate by improving school conditions, learning and social/community participa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8751" t="14844" r="39376" b="69534"/>
          <a:stretch/>
        </p:blipFill>
        <p:spPr>
          <a:xfrm>
            <a:off x="5486400" y="304920"/>
            <a:ext cx="3168720" cy="76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tatus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urrent FY2011/2012, the Government allocated LAK 16 billion (appx. USD2 million) or LAK 20,000/student/yea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halleng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mited local capacity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ncertainty of the budgetary alloca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The block grant methodology implemented by MoES has induced a lot of perverse incentives or coping mechanisms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Risks associated with Block grants distribution to school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Way forward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obilize TA and capacity development support to the MoES and MoF, to assist in the delivery of SBGs to primary school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BGs 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chool development plans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   Quality Standard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rcRect l="8751" t="14844" r="39376" b="69534"/>
          <a:stretch/>
        </p:blipFill>
        <p:spPr>
          <a:xfrm>
            <a:off x="5486400" y="171360"/>
            <a:ext cx="3168720" cy="76356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2514600" y="4905360"/>
            <a:ext cx="463680" cy="123840"/>
          </a:xfrm>
          <a:prstGeom prst="leftRightArrow">
            <a:avLst>
              <a:gd name="adj1" fmla="val 50000"/>
              <a:gd name="adj2" fmla="val 74537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400800" y="4952880"/>
            <a:ext cx="463680" cy="123840"/>
          </a:xfrm>
          <a:prstGeom prst="leftRightArrow">
            <a:avLst>
              <a:gd name="adj1" fmla="val 50000"/>
              <a:gd name="adj2" fmla="val 74537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rcRect l="8751" t="14844" r="39376" b="69534"/>
          <a:stretch/>
        </p:blipFill>
        <p:spPr>
          <a:xfrm>
            <a:off x="5486400" y="304920"/>
            <a:ext cx="3168720" cy="76356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2971800" y="297180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ank yo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7T09:30:47Z</dcterms:created>
  <dc:creator>vongsch</dc:creator>
  <dc:description/>
  <dc:language>en-US</dc:language>
  <cp:lastModifiedBy>vongsch</cp:lastModifiedBy>
  <dcterms:modified xsi:type="dcterms:W3CDTF">2012-05-28T08:53:01Z</dcterms:modified>
  <cp:revision>9</cp:revision>
  <dc:subject/>
  <dc:title>Social Protection System, Lao PDR</dc:title>
</cp:coreProperties>
</file>