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7430-3ACF-4268-BE86-E4BFF44119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ool block grants have been introduced to off-set fee abolition for school operational (non-salary) budgets and school development pl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648C-735E-4CA7-A2DD-B4867A79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B597-94FB-4D55-B70A-D92FD6A8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6808-F259-4865-B5CC-8DD926556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6250-A3C8-49F4-A090-74B175577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2720-75DF-49D0-9F7C-3E2D0190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5FB0-B444-4ECD-BC22-67DBAD03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BF3D-E4CE-475C-ACE9-3F310529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2559-3AF2-4BC4-96E4-4B159ACB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3A04-D2F4-4579-8131-8A2A538A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3F5C-7498-42B9-B971-F60DE25C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44D8-9C11-49AF-88A5-D77520AC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DBE8-3157-4C26-9458-83BF3ED3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051F-6AAC-4237-9DBB-7B979240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FBF9-6EED-4F7C-9924-50530FDD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24AC-0866-49DE-8870-87A2AA81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4355-8DE4-444B-9BEB-BABBD860A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4A29-F808-47B3-81EE-DDD891CB2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7C30-27EE-44B5-BD86-35A645DB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7FDF-CB94-4D49-AEE5-5FEC2051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BDB0-D9DC-40FB-A07A-5018B383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4ADA-098F-424B-9598-7CC592BF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1A06-3155-4B65-B13F-82C14628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6138-790A-46A7-B350-0A07498A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09DD-310E-498F-9637-38E4A6B6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4229-6C76-48C0-86A6-ED59FED2E17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FCF4-17C6-43EF-925E-EDF4B8D892C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ocial Protection System, Lao PD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cial Protection Semina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angkok June 12-15, 20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8751" t="14844" r="39376" b="69534"/>
          <a:stretch/>
        </p:blipFill>
        <p:spPr>
          <a:xfrm>
            <a:off x="5257800" y="228600"/>
            <a:ext cx="3168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EU involves in social protection projects</a:t>
            </a: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udget support op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versal Health coverag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ee M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ool Block Grants (Capitation Gran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mmunity Nutrition Project (Trust Fund/AA with W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ditional Cash Transfer pilot program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lobal Partnership for Education (GP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ool Block Grants and Community Gra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ool Meals program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8751" t="14844" r="39376" b="69534"/>
          <a:stretch/>
        </p:blipFill>
        <p:spPr>
          <a:xfrm>
            <a:off x="5486400" y="228600"/>
            <a:ext cx="3168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hool Block Gran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oal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help facilitate equitable access to basic educati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provide administrative funding to schools to finance their operating cost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facilitate the school administration, learning and teaching activities by ensuring that teachers and students have adequate and sufficient instructional mate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increase enrollment by reducing education costs for parent with a focus on gradually eradicating school fees (registration and instruction fee) for basic and post basic education in the futur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increase the completion rate by improving school conditions, learning and social/community particip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8751" t="14844" r="39376" b="69534"/>
          <a:stretch/>
        </p:blipFill>
        <p:spPr>
          <a:xfrm>
            <a:off x="5486400" y="304920"/>
            <a:ext cx="3168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atus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urrent FY2011/2012, the Government allocated LAK 16 billion (appx. USD2 million) or LAK 20,000/student/y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hallen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mited local capac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certainty of the budgetary alloc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he block grant methodology implemented by MoES has induced a lot of perverse incentives or coping mechanism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isks associated with Block grants distribution to schoo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ay forwar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bilize TA and capacity development support to the MoES and MoF, to assist in the delivery of SBGs to primary schoo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BGs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hool development plan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Quality Standar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8751" t="14844" r="39376" b="69534"/>
          <a:stretch/>
        </p:blipFill>
        <p:spPr>
          <a:xfrm>
            <a:off x="5486400" y="171360"/>
            <a:ext cx="3168720" cy="763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14600" y="4905360"/>
            <a:ext cx="463680" cy="123840"/>
          </a:xfrm>
          <a:prstGeom prst="leftRightArrow">
            <a:avLst>
              <a:gd name="adj1" fmla="val 50000"/>
              <a:gd name="adj2" fmla="val 7453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4952880"/>
            <a:ext cx="463680" cy="123840"/>
          </a:xfrm>
          <a:prstGeom prst="leftRightArrow">
            <a:avLst>
              <a:gd name="adj1" fmla="val 50000"/>
              <a:gd name="adj2" fmla="val 7453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8751" t="14844" r="39376" b="69534"/>
          <a:stretch/>
        </p:blipFill>
        <p:spPr>
          <a:xfrm>
            <a:off x="5486400" y="304920"/>
            <a:ext cx="3168720" cy="763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971800" y="2971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09:30:47Z</dcterms:created>
  <dc:creator>vongsch</dc:creator>
  <dc:description/>
  <dc:language>en-US</dc:language>
  <cp:lastModifiedBy>vongsch</cp:lastModifiedBy>
  <dcterms:modified xsi:type="dcterms:W3CDTF">2012-05-28T08:53:01Z</dcterms:modified>
  <cp:revision>9</cp:revision>
  <dc:subject/>
  <dc:title>Social Protection System, Lao PDR</dc:title>
</cp:coreProperties>
</file>