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9358200"/>
            <a:ext cx="29113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C6EFBD-50CC-4A6A-91F4-3B8C8FD11E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141135-9DB8-4B4B-A5C9-FABF853C1B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B6A723-1AA1-4BF8-939A-D2D2BF4F24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FE4EBE-A27F-482D-B40A-99EAAF4CD6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985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088967-B50F-4B43-93A0-87DC93D46F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985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EC1B41-00CB-464D-A82D-CA92C8C1DA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2792F3-CCA8-4C70-ACCD-694C70D831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985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5DA-B4CE-4E31-955B-385E9B1A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266-3D3B-445A-AB47-415376A6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D11-85C9-42E2-BC73-93C3043B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800-486F-4973-959B-BC4D55A5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718D-2C79-4022-85BA-41B3F74D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B95D-8CE2-4D4F-A6B6-6FAB3193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5017-1BA8-4548-9F5D-8ED71BE1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2368-0876-45DF-B840-8573CCD3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7149-EC6B-4F61-99A6-31A30CFD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426F-13C6-41E8-9FBF-453BE6FD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D3D0-A553-4252-92B6-5C4801B7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D77A-2CD1-4C78-9127-0086C29A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7FFD-E086-4372-AC0B-A526F92B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2CDC-BBEC-4C17-A9F6-EA9BC65B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17E3-94FF-40D9-A43D-5E5DDC77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333D-212D-4DE8-8786-443725B4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FF15-1EF0-4E6E-9CE2-31B685A9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758-96A0-4212-B365-6B2A8021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667-05A1-4E0E-BD79-82478179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5ED-973C-4140-8933-DA165FC4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B61-382E-4D6B-8713-C4526E54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82E-6718-4BFC-B599-74CFF5C4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A47-796B-4904-AAD0-1A1D6A26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FDF-0F41-473D-B186-C1637A58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05E2-4F5B-4C2A-95EC-9A66CC9CFC70}" type="datetime">
              <a:rPr b="0" lang="en-US" sz="1000" spc="-1" strike="noStrike">
                <a:solidFill>
                  <a:srgbClr val="00a6c8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4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ACBE-DDB6-403A-BC29-47083C310BE9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" name="Picture 7" descr=""/>
          <p:cNvPicPr/>
          <p:nvPr/>
        </p:nvPicPr>
        <p:blipFill>
          <a:blip r:embed="rId2"/>
          <a:stretch/>
        </p:blipFill>
        <p:spPr>
          <a:xfrm>
            <a:off x="7643880" y="5564160"/>
            <a:ext cx="1000080" cy="11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067280" y="62654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EFC9-5B1B-4FD7-949C-09495C943C01}" type="datetime">
              <a:rPr b="0" lang="en-US" sz="1000" spc="-1" strike="noStrike">
                <a:solidFill>
                  <a:srgbClr val="103c72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684000" y="62654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382E-BE55-4BBB-BD9A-05D57B11D7D2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3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5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7643880" y="5564160"/>
            <a:ext cx="1000080" cy="1170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c8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5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07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The European Commission’s Technical Cooperation Reform</a:t>
            </a:r>
            <a:br>
              <a:rPr sz="3600"/>
            </a:br>
            <a:br>
              <a:rPr sz="36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From Paris principles to operational practice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74440" y="40240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Busan, 30th  November 2011</a:t>
            </a: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5360" y="436680"/>
            <a:ext cx="56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DG for Development and Cooperation - EuropeA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82c8"/>
                </a:solidFill>
                <a:latin typeface="Arial"/>
              </a:rPr>
              <a:t>Why a reform of Technical Cooperation ?</a:t>
            </a:r>
            <a:endParaRPr b="1" lang="en-US" sz="28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buClr>
                <a:srgbClr val="103c72"/>
              </a:buClr>
              <a:buFont typeface="Arial"/>
              <a:buAutoNum type="arabicPlain" startAt="200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103c72"/>
                </a:solidFill>
                <a:latin typeface="Arial"/>
              </a:rPr>
              <a:t>- Aid Effectiveness Agenda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Arial"/>
              </a:rPr>
              <a:t>Commitment of the European Commission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buClr>
                <a:srgbClr val="103c72"/>
              </a:buClr>
              <a:buFont typeface="Arial"/>
              <a:buAutoNum type="arabicPlain" startAt="200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Arial"/>
              </a:rPr>
              <a:t>- European Court of Auditors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Arial"/>
              </a:rPr>
              <a:t>Critical report on Technical Assistance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c8"/>
                </a:solidFill>
                <a:latin typeface="Arial"/>
              </a:rPr>
              <a:t>Where did we start from?</a:t>
            </a:r>
            <a:endParaRPr b="1" lang="en-US" sz="28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82c8"/>
                </a:solidFill>
                <a:latin typeface="Verdana"/>
              </a:rPr>
              <a:t>Extract from comments of Partner Governments in 2007-08</a:t>
            </a:r>
            <a:endParaRPr b="0" lang="en-US" sz="1600" spc="-1" strike="noStrike">
              <a:solidFill>
                <a:srgbClr val="103c72"/>
              </a:solidFill>
              <a:latin typeface="Arial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« Technical Assistants are, in many cases, primarily accountable to the EU Delegation in the country… »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« Technical Assistance often diverges from its essential purpose of Capacity Development and focuses on substitution… »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« EC procedures are not always conducive to EU intentions on aid effectiveness… »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82c8"/>
                </a:solidFill>
                <a:latin typeface="Arial"/>
              </a:rPr>
              <a:t>What was decided ?</a:t>
            </a:r>
            <a:endParaRPr b="1" lang="en-US" sz="28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14280" y="1438200"/>
            <a:ext cx="827712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15000"/>
              </a:lnSpc>
              <a:spcAft>
                <a:spcPts val="601"/>
              </a:spcAft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</a:rPr>
              <a:t>Improve the effectiveness of EU aid with respect to Capacity Development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18108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1" marL="736560" indent="254160">
              <a:lnSpc>
                <a:spcPct val="115000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</a:rPr>
              <a:t>Better quality of Technical Cooperation based on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1" marL="73656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</a:rPr>
              <a:t>Partner demand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1" marL="73656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1" marL="736560" indent="254160">
              <a:lnSpc>
                <a:spcPct val="115000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</a:rPr>
              <a:t>Substantial reduction of Parallel PIUs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82c8"/>
                </a:solidFill>
                <a:latin typeface="Arial"/>
              </a:rPr>
              <a:t>How to get there ? The change strategy</a:t>
            </a:r>
            <a:endParaRPr b="1" lang="en-US" sz="28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12668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115000"/>
              </a:lnSpc>
              <a:spcAft>
                <a:spcPts val="601"/>
              </a:spcAft>
              <a:buClr>
                <a:srgbClr val="0082c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Arial"/>
                <a:ea typeface="Arial"/>
              </a:rPr>
              <a:t>Change of practice :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Guidance : Quality package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Monitoring : Cycle of operations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Arial"/>
                <a:ea typeface="Arial"/>
              </a:rPr>
              <a:t>2) Change of mindset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Learning events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Website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Teaming “change agents”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Reach out to EU Member States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2200" y="2922480"/>
            <a:ext cx="7985160" cy="45972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b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“Translate ownership into operational principl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480" y="207720"/>
            <a:ext cx="85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Results : Example of « Capacity Development markers » for 1009 projects monitored in 2010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814920"/>
            <a:ext cx="8229600" cy="20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8% of projects are a matter of concern 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03c72"/>
              </a:solidFill>
              <a:latin typeface="Arial"/>
            </a:endParaRPr>
          </a:p>
        </p:txBody>
      </p:sp>
      <p:pic>
        <p:nvPicPr>
          <p:cNvPr id="124" name="Chart 5" descr=""/>
          <p:cNvPicPr/>
          <p:nvPr/>
        </p:nvPicPr>
        <p:blipFill>
          <a:blip r:embed="rId1"/>
          <a:stretch/>
        </p:blipFill>
        <p:spPr>
          <a:xfrm>
            <a:off x="289080" y="1677960"/>
            <a:ext cx="7302240" cy="3471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848120" y="1281240"/>
            <a:ext cx="2876760" cy="3905280"/>
          </a:xfrm>
          <a:prstGeom prst="ellipse">
            <a:avLst/>
          </a:prstGeom>
          <a:noFill/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17440" y="5648400"/>
            <a:ext cx="7290000" cy="82404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82c8"/>
                </a:solidFill>
                <a:latin typeface="Verdana"/>
              </a:rPr>
              <a:t>2 out of 3 programmes in line with TC/CD quality crite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82c8"/>
                </a:solidFill>
                <a:latin typeface="Verdana"/>
                <a:ea typeface="Arial"/>
              </a:rPr>
              <a:t>V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82c8"/>
                </a:solidFill>
                <a:latin typeface="Verdana"/>
                <a:ea typeface="Arial"/>
              </a:rPr>
              <a:t>1 out of 3 programmes successful as audited by CoA in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" y="2378160"/>
            <a:ext cx="2600280" cy="3143160"/>
          </a:xfrm>
          <a:prstGeom prst="ellipse">
            <a:avLst/>
          </a:prstGeom>
          <a:noFill/>
          <a:ln w="1908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57160" y="2827440"/>
            <a:ext cx="1854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8% of projects are a matter of conc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48000" y="1805040"/>
            <a:ext cx="2067120" cy="60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67% of projects have high gra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80" y="174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c8"/>
                </a:solidFill>
                <a:latin typeface="Arial"/>
              </a:rPr>
              <a:t>Results : Knowledge Sharing platform for Capacity Development: capacity4dev.eu</a:t>
            </a:r>
            <a:endParaRPr b="1" lang="en-US" sz="2800" spc="-1" strike="noStrike">
              <a:solidFill>
                <a:srgbClr val="0082c8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0161" t="0" r="12366" b="13944"/>
          <a:stretch/>
        </p:blipFill>
        <p:spPr>
          <a:xfrm>
            <a:off x="0" y="1430280"/>
            <a:ext cx="85932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82c8"/>
                </a:solidFill>
                <a:latin typeface="Arial"/>
              </a:rPr>
              <a:t>Challenges and the way forward..</a:t>
            </a:r>
            <a:endParaRPr b="1" lang="en-US" sz="28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1800" y="1438200"/>
            <a:ext cx="8172720" cy="33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Stand firm on Capacity !</a:t>
            </a:r>
            <a:endParaRPr b="0" lang="en-US" sz="2500" spc="-1" strike="noStrike">
              <a:solidFill>
                <a:srgbClr val="103c72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03c72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03c7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33400" y="2085840"/>
            <a:ext cx="53406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4:40:52Z</dcterms:created>
  <dc:creator>aidco-sd-tech2</dc:creator>
  <dc:description/>
  <dc:language>en-US</dc:language>
  <cp:lastModifiedBy>vandole</cp:lastModifiedBy>
  <dcterms:modified xsi:type="dcterms:W3CDTF">2012-01-03T09:32:12Z</dcterms:modified>
  <cp:revision>264</cp:revision>
  <dc:subject/>
  <dc:title>Slide 1</dc:title>
</cp:coreProperties>
</file>