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35820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A4463A-48DA-4F4F-A842-1BDDE8CED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8D42FD-1209-4F9F-93E8-6103081DF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8BE9A1-6E7F-450D-93C1-61B166E63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ED0B1-B68A-4075-BFAF-0F5A6102C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B9B839-E363-40D8-8723-F01951A6C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A23073-3989-4023-A97B-37B5A39D66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05200" y="9358200"/>
            <a:ext cx="2911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49B4D-367C-406B-8C94-0BF8E074A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1400" y="46796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C40-4564-41EB-A3B9-E8CB729C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8C-BA31-428E-B46A-99023D02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920-3E73-45FE-8DD7-3978C024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2DE-D618-4036-AEF3-52E4A809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07C-A352-41D3-BEAB-B526739D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C311-6B71-4DBC-99C6-F08985EE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AA2-137D-4AF6-96B2-924E34BD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118-47C0-4B4F-817E-D9AA57D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852A-B9CB-4C71-BA20-324992F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0131-5AF8-45B9-AC6F-28427F87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D64-EBEE-4197-915D-A6BB527C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E63-88C2-41FE-BD61-24FCDBD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5912-AEF9-40A2-A691-E420B4B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8329-9528-47B6-B9C7-B1FC9F1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D804-D980-48C2-8FF3-8169D1F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61BE-B0ED-4E08-B41F-ECADC413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AABC-D77D-4AA0-AE21-EB829233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402-C6BA-4922-B72E-6CE0A4B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9BB-A703-4E3D-A830-E05ECCAA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D4A-235A-445D-8302-1C2E2DF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AF6-B9A1-4397-AB07-C20621E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85A-4C90-4100-9148-8B61606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D46-D005-44B9-88C9-1AF5F69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37A-787B-4587-84B7-358D5AD2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BEB-0417-4B6B-9A6A-0D9AFE4313F2}" type="datetime">
              <a:rPr b="0" lang="en-US" sz="1000" spc="-1" strike="noStrike">
                <a:solidFill>
                  <a:srgbClr val="00a6c8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6c8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257-5D82-4636-8528-C49077499BA8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" name="Picture 7" descr=""/>
          <p:cNvPicPr/>
          <p:nvPr/>
        </p:nvPicPr>
        <p:blipFill>
          <a:blip r:embed="rId2"/>
          <a:stretch/>
        </p:blipFill>
        <p:spPr>
          <a:xfrm>
            <a:off x="7643880" y="5564160"/>
            <a:ext cx="1000080" cy="11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67280" y="626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D19A-DDBC-40A7-A37B-5AE68B35AB8D}" type="datetime">
              <a:rPr b="0" lang="en-US" sz="1000" spc="-1" strike="noStrike">
                <a:solidFill>
                  <a:srgbClr val="103c72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68400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03c72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380-C6FD-43A1-96EE-366990AAB020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3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7643880" y="5564160"/>
            <a:ext cx="1000080" cy="117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c8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  <a:p>
            <a:pPr lvl="1" marL="457200" indent="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2" marL="914400" indent="1440" algn="ctr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3" marL="1371600" algn="ctr">
              <a:lnSpc>
                <a:spcPts val="2798"/>
              </a:lnSpc>
              <a:buClr>
                <a:srgbClr val="103c72"/>
              </a:buClr>
              <a:buSzPct val="65000"/>
              <a:buFont typeface="Arial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4" marL="1828800" algn="ctr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5" name="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07" name="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008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The European Commission’s Technical Cooperation Reform</a:t>
            </a:r>
            <a:br>
              <a:rPr sz="3600"/>
            </a:br>
            <a:br>
              <a:rPr sz="36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From Paris principles to operational practice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74440" y="40240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Busan, 30th  November 2011</a:t>
            </a:r>
            <a:endParaRPr b="1" lang="en-US" sz="2000" spc="-1" strike="noStrike">
              <a:solidFill>
                <a:srgbClr val="0082c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5360" y="436680"/>
            <a:ext cx="56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DG for Development and Cooperation - EuropeA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Why a reform of Technical Cooperation 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Arial"/>
              <a:buAutoNum type="arabicPlain" startAt="20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  </a:t>
            </a: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- Aid Effectiveness Agenda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Commitment of the European Commission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Arial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- European Court of Auditor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103c72"/>
                </a:solidFill>
                <a:latin typeface="Arial"/>
              </a:rPr>
              <a:t>Critical report on Technical Assistanc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c8"/>
                </a:solidFill>
                <a:latin typeface="Arial"/>
              </a:rPr>
              <a:t>Where did we start from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82c8"/>
                </a:solidFill>
                <a:latin typeface="Verdana"/>
              </a:rPr>
              <a:t>Extract from comments of Partner Governments in 2007-08</a:t>
            </a:r>
            <a:endParaRPr b="0" lang="en-US" sz="16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ts are, in many cases, primarily accountable to the EU Delegation in the country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Technical Assistance often diverges from its essential purpose of Capacity Development and focuses on substitution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« EC procedures are not always conducive to EU intentions on aid effectiveness… »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What was decided ?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4280" y="1438200"/>
            <a:ext cx="82771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Improve the effectiveness of EU aid with respect to Capacity Development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18108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25416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Better quality of Technical Cooperation based on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Partner demand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254160">
              <a:lnSpc>
                <a:spcPct val="115000"/>
              </a:lnSpc>
              <a:spcAft>
                <a:spcPts val="601"/>
              </a:spcAft>
              <a:buClr>
                <a:srgbClr val="103c72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Arial"/>
              </a:rPr>
              <a:t>Substantial reduction of Parallel PIU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How to get there ? The change strategy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266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15000"/>
              </a:lnSpc>
              <a:spcAft>
                <a:spcPts val="601"/>
              </a:spcAft>
              <a:buClr>
                <a:srgbClr val="0082c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  <a:ea typeface="Arial"/>
              </a:rPr>
              <a:t>Change of practice :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Guidance : Quality packag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Monitoring : Cycle of operation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c8"/>
                </a:solidFill>
                <a:latin typeface="Arial"/>
                <a:ea typeface="Arial"/>
              </a:rPr>
              <a:t>2) Change of mindset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Learning event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Teaming “change agents”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marL="415800" indent="0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03c72"/>
                </a:solidFill>
                <a:latin typeface="Arial"/>
              </a:rPr>
              <a:t>Reach out to EU Member States</a:t>
            </a: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00" y="2922480"/>
            <a:ext cx="7985160" cy="4597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b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“Translate ownership into operational principl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480" y="20772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82c8"/>
                </a:solidFill>
                <a:latin typeface="Verdana"/>
              </a:rPr>
              <a:t>Results : Example of « Capacity Development markers » for 1009 projects monitored in 2010</a:t>
            </a:r>
            <a:endParaRPr b="1" lang="en-US" sz="24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1492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8% of projects are a matter of concern </a:t>
            </a:r>
            <a:r>
              <a:rPr b="0" lang="en-US" sz="2000" spc="-1" strike="noStrike">
                <a:solidFill>
                  <a:srgbClr val="103c72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03c72"/>
              </a:solidFill>
              <a:latin typeface="Arial"/>
            </a:endParaRPr>
          </a:p>
        </p:txBody>
      </p:sp>
      <p:pic>
        <p:nvPicPr>
          <p:cNvPr id="124" name="Chart 5" descr=""/>
          <p:cNvPicPr/>
          <p:nvPr/>
        </p:nvPicPr>
        <p:blipFill>
          <a:blip r:embed="rId1"/>
          <a:stretch/>
        </p:blipFill>
        <p:spPr>
          <a:xfrm>
            <a:off x="289080" y="1677960"/>
            <a:ext cx="7302240" cy="347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48120" y="1281240"/>
            <a:ext cx="2876760" cy="3905280"/>
          </a:xfrm>
          <a:prstGeom prst="ellipse">
            <a:avLst/>
          </a:prstGeom>
          <a:noFill/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7440" y="5648400"/>
            <a:ext cx="7290000" cy="82404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</a:rPr>
              <a:t>2 out of 3 programmes in line with TC/CD quality crite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  <a:ea typeface="Arial"/>
              </a:rPr>
              <a:t>V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82c8"/>
                </a:solidFill>
                <a:latin typeface="Verdana"/>
                <a:ea typeface="Arial"/>
              </a:rPr>
              <a:t>1 out of 3 programmes successful as audited by CoA in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" y="2378160"/>
            <a:ext cx="2600280" cy="3143160"/>
          </a:xfrm>
          <a:prstGeom prst="ellipse">
            <a:avLst/>
          </a:prstGeom>
          <a:noFill/>
          <a:ln w="1908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2827440"/>
            <a:ext cx="1854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8% of projects are a matter of conc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48000" y="1805040"/>
            <a:ext cx="20671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67% of projects have high 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80" y="174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c8"/>
                </a:solidFill>
                <a:latin typeface="Arial"/>
              </a:rPr>
              <a:t>Results : Knowledge Sharing platform for Capacity Development: capacity4dev.eu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10161" t="0" r="12366" b="13944"/>
          <a:stretch/>
        </p:blipFill>
        <p:spPr>
          <a:xfrm>
            <a:off x="0" y="1430280"/>
            <a:ext cx="8593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82c8"/>
                </a:solidFill>
                <a:latin typeface="Arial"/>
              </a:rPr>
              <a:t>Challenges and the way forward..</a:t>
            </a:r>
            <a:endParaRPr b="1" lang="en-US" sz="2800" spc="-1" strike="noStrike">
              <a:solidFill>
                <a:srgbClr val="0082c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1800" y="1438200"/>
            <a:ext cx="817272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Stand firm on Capacity !</a:t>
            </a: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03c72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33400" y="2085840"/>
            <a:ext cx="53406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4:40:52Z</dcterms:created>
  <dc:creator>aidco-sd-tech2</dc:creator>
  <dc:description/>
  <dc:language>en-US</dc:language>
  <cp:lastModifiedBy>vandole</cp:lastModifiedBy>
  <dcterms:modified xsi:type="dcterms:W3CDTF">2011-12-16T15:54:56Z</dcterms:modified>
  <cp:revision>264</cp:revision>
  <dc:subject/>
  <dc:title>Slide 1</dc:title>
</cp:coreProperties>
</file>