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2098-2DDF-452C-96E5-63A9DD980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45D2-9DDA-405F-A66A-381E4F745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C51A-AC55-41CE-B0C1-188238806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BB0-1C09-47FD-A0EB-F5EB8B180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1BB1-9B5F-4BFE-9A6B-27B65C31B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62A-D203-4F36-A399-5ECBA4E8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DDF-800F-4608-A688-B618ABD6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F1B-9954-4F98-B9D8-9ECBC299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1E2-DCCB-4806-A66F-19156EFA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537-4361-421C-9D69-D297A6A1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464-78B3-46FC-97A9-7A506AE1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74B-2700-4215-90F4-26D744CC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2572-D147-4B62-B7D7-91841F65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09B-ACD2-425D-8219-1DB825FF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855-2550-4D1B-8A22-0E18CAEB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6D9-E5AC-43BF-B845-4A37A3AA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EC7-5C57-4A59-A8FE-6FE503A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0078-40CF-4F54-B8CE-27FFC92C6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0" y="0"/>
            <a:ext cx="9144000" cy="382680"/>
            <a:chOff x="0" y="0"/>
            <a:chExt cx="9144000" cy="382680"/>
          </a:xfrm>
        </p:grpSpPr>
        <p:sp>
          <p:nvSpPr>
            <p:cNvPr id="6" name="Rectangle 15"/>
            <p:cNvSpPr/>
            <p:nvPr/>
          </p:nvSpPr>
          <p:spPr>
            <a:xfrm>
              <a:off x="0" y="0"/>
              <a:ext cx="9144000" cy="38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395280" y="0"/>
              <a:ext cx="705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HLF4</a:t>
              </a:r>
              <a:r>
                <a:rPr b="1" lang="en-US" sz="1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KNOWLEDGE AND INNOVATION SPACE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Picture 10" descr="hlfgraphic black.jpg"/>
            <p:cNvPicPr/>
            <p:nvPr/>
          </p:nvPicPr>
          <p:blipFill>
            <a:blip r:embed="rId2"/>
            <a:stretch/>
          </p:blipFill>
          <p:spPr>
            <a:xfrm>
              <a:off x="111240" y="19080"/>
              <a:ext cx="30456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5" descr="flag_EuropeAid_RGB150DPI_positive_EN"/>
          <p:cNvPicPr/>
          <p:nvPr/>
        </p:nvPicPr>
        <p:blipFill>
          <a:blip r:embed="rId3"/>
          <a:stretch/>
        </p:blipFill>
        <p:spPr>
          <a:xfrm>
            <a:off x="7885080" y="5638680"/>
            <a:ext cx="100656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887480" y="100008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60820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he European Commission Reform for More Effective Capacity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700360" y="623736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740720" y="623736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solidFill>
            <a:srgbClr val="0066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Backgroun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As part of its commitments to Aid Effectiveness, the European Commission in 2008 began reforming its approach to Technical Cooperation and reducing the use of parallel Project Implementation Units to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support Capacity Development more effe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Implementation of the </a:t>
            </a:r>
            <a:br>
              <a:rPr sz="2400"/>
            </a:br>
            <a:r>
              <a:rPr b="1" lang="en-GB" sz="2400" spc="-1" strike="noStrike">
                <a:solidFill>
                  <a:srgbClr val="0066cc"/>
                </a:solidFill>
                <a:latin typeface="Arial"/>
              </a:rPr>
              <a:t>Aid Effectiveness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79280" y="4508640"/>
            <a:ext cx="4032360" cy="1081080"/>
            <a:chOff x="179280" y="4508640"/>
            <a:chExt cx="4032360" cy="1081080"/>
          </a:xfrm>
        </p:grpSpPr>
        <p:sp>
          <p:nvSpPr>
            <p:cNvPr id="62" name="AutoShape 21"/>
            <p:cNvSpPr/>
            <p:nvPr/>
          </p:nvSpPr>
          <p:spPr>
            <a:xfrm>
              <a:off x="179280" y="4508640"/>
              <a:ext cx="4032360" cy="1081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Text Box 10"/>
            <p:cNvSpPr/>
            <p:nvPr/>
          </p:nvSpPr>
          <p:spPr>
            <a:xfrm>
              <a:off x="324000" y="4581360"/>
              <a:ext cx="360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66cc"/>
                  </a:solidFill>
                  <a:latin typeface="Arial"/>
                </a:rPr>
                <a:t>Provision of </a:t>
              </a:r>
              <a:r>
                <a:rPr b="1" lang="fr-BE" sz="1600" spc="-1" strike="noStrike" u="sng">
                  <a:solidFill>
                    <a:srgbClr val="0066cc"/>
                  </a:solidFill>
                  <a:uFillTx/>
                  <a:latin typeface="Arial"/>
                </a:rPr>
                <a:t>quality TC</a:t>
              </a:r>
              <a:r>
                <a:rPr b="1" lang="fr-BE" sz="1600" spc="-1" strike="noStrike">
                  <a:solidFill>
                    <a:srgbClr val="0066cc"/>
                  </a:solidFill>
                  <a:latin typeface="Arial"/>
                </a:rPr>
                <a:t> that supports country-led programmes focused on sustainable result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500720" y="4508640"/>
            <a:ext cx="4032000" cy="1081080"/>
            <a:chOff x="4500720" y="4508640"/>
            <a:chExt cx="4032000" cy="1081080"/>
          </a:xfrm>
        </p:grpSpPr>
        <p:sp>
          <p:nvSpPr>
            <p:cNvPr id="65" name="AutoShape 22"/>
            <p:cNvSpPr/>
            <p:nvPr/>
          </p:nvSpPr>
          <p:spPr>
            <a:xfrm>
              <a:off x="4500720" y="4508640"/>
              <a:ext cx="4032000" cy="1081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1"/>
            <p:cNvSpPr/>
            <p:nvPr/>
          </p:nvSpPr>
          <p:spPr>
            <a:xfrm>
              <a:off x="4572000" y="4581360"/>
              <a:ext cx="3887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66cc"/>
                  </a:solidFill>
                  <a:latin typeface="Arial"/>
                </a:rPr>
                <a:t>Provision of support through partner-owned Project Implementation Arrangements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H="1">
            <a:off x="2195280" y="4076640"/>
            <a:ext cx="2305080" cy="4320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4356000" y="4076640"/>
            <a:ext cx="2376720" cy="4320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0" y="333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29"/>
          <p:cNvGrpSpPr/>
          <p:nvPr/>
        </p:nvGrpSpPr>
        <p:grpSpPr>
          <a:xfrm>
            <a:off x="108000" y="3573360"/>
            <a:ext cx="8927640" cy="503280"/>
            <a:chOff x="108000" y="3573360"/>
            <a:chExt cx="8927640" cy="503280"/>
          </a:xfrm>
        </p:grpSpPr>
        <p:sp>
          <p:nvSpPr>
            <p:cNvPr id="72" name="AutoShape 27"/>
            <p:cNvSpPr/>
            <p:nvPr/>
          </p:nvSpPr>
          <p:spPr>
            <a:xfrm>
              <a:off x="108000" y="3573360"/>
              <a:ext cx="8927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259560" y="3645000"/>
              <a:ext cx="86994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66cc"/>
                  </a:solidFill>
                  <a:latin typeface="Arial"/>
                </a:rPr>
                <a:t>How is the EC improving effectiveness and sustainability of development assistance?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2"/>
          <p:cNvSpPr/>
          <p:nvPr/>
        </p:nvSpPr>
        <p:spPr>
          <a:xfrm>
            <a:off x="0" y="404640"/>
            <a:ext cx="3492360" cy="6453360"/>
          </a:xfrm>
          <a:prstGeom prst="rect">
            <a:avLst/>
          </a:prstGeom>
          <a:solidFill>
            <a:srgbClr val="3399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hange the mindset of EC development practitione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hange internal practi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order to incorporate the Paris Declaration and Accra Agenda for Action princip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upporting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apacity Development is the exit strateg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out of traditional aid dependenc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1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492000" y="380880"/>
            <a:ext cx="5830920" cy="647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Innovation</a:t>
            </a: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3635280" y="3933720"/>
            <a:ext cx="584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Setting up 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capacity4dev.eu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, a 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knowledge sharing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 platform promoting Capacity Develop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3564000" y="11970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Systematic mainstreaming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 of the Aid Effectiveness principles into the EC project cyc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1403280" y="3284640"/>
            <a:ext cx="647640" cy="792000"/>
          </a:xfrm>
          <a:prstGeom prst="downArrow">
            <a:avLst>
              <a:gd name="adj1" fmla="val 50000"/>
              <a:gd name="adj2" fmla="val 30573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1"/>
          <p:cNvGrpSpPr/>
          <p:nvPr/>
        </p:nvGrpSpPr>
        <p:grpSpPr>
          <a:xfrm>
            <a:off x="4500720" y="1844640"/>
            <a:ext cx="3024000" cy="2187720"/>
            <a:chOff x="4500720" y="1844640"/>
            <a:chExt cx="3024000" cy="2187720"/>
          </a:xfrm>
        </p:grpSpPr>
        <p:pic>
          <p:nvPicPr>
            <p:cNvPr id="80" name="Picture 18" descr="Picture3"/>
            <p:cNvPicPr/>
            <p:nvPr/>
          </p:nvPicPr>
          <p:blipFill>
            <a:blip r:embed="rId2"/>
            <a:stretch/>
          </p:blipFill>
          <p:spPr>
            <a:xfrm>
              <a:off x="4500720" y="1844640"/>
              <a:ext cx="30240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Line 19"/>
            <p:cNvSpPr/>
            <p:nvPr/>
          </p:nvSpPr>
          <p:spPr>
            <a:xfrm flipH="1" flipV="1">
              <a:off x="5003640" y="2923920"/>
              <a:ext cx="216000" cy="73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20"/>
            <p:cNvSpPr/>
            <p:nvPr/>
          </p:nvSpPr>
          <p:spPr>
            <a:xfrm flipH="1">
              <a:off x="5364000" y="3357720"/>
              <a:ext cx="144720" cy="14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3" name="Picture 24" descr="flag_EuropeAid_RGB150DPI_positive_EN"/>
          <p:cNvPicPr/>
          <p:nvPr/>
        </p:nvPicPr>
        <p:blipFill>
          <a:blip r:embed="rId3"/>
          <a:stretch/>
        </p:blipFill>
        <p:spPr>
          <a:xfrm>
            <a:off x="7885080" y="5638680"/>
            <a:ext cx="1006560" cy="1219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C4Dtopicpage3.jpg"/>
          <p:cNvPicPr/>
          <p:nvPr/>
        </p:nvPicPr>
        <p:blipFill>
          <a:blip r:embed="rId4"/>
          <a:stretch/>
        </p:blipFill>
        <p:spPr>
          <a:xfrm>
            <a:off x="4788000" y="4581360"/>
            <a:ext cx="2592360" cy="2130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9"/>
          <p:cNvSpPr/>
          <p:nvPr/>
        </p:nvSpPr>
        <p:spPr>
          <a:xfrm>
            <a:off x="3132000" y="404640"/>
            <a:ext cx="6012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6012000" cy="3672000"/>
          </a:xfrm>
          <a:prstGeom prst="rect">
            <a:avLst/>
          </a:prstGeom>
          <a:solidFill>
            <a:srgbClr val="3399ff">
              <a:alpha val="5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36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sults</a:t>
            </a:r>
            <a:br>
              <a:rPr sz="18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 programm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projects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nsatisfactory qualit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re being filtered out and revised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 out of 3 EC programmes were in line with TC/CD quality criteri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7% of EC programm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contributed, or have the potential to contribute, to Capacity Development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tive and regular exchange of informat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between EU staff and stakeholders is being promoted throug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apacity4dev.eu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0" y="4048200"/>
            <a:ext cx="914400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6600"/>
                </a:solidFill>
                <a:latin typeface="Arial"/>
                <a:ea typeface="Arial"/>
              </a:rPr>
              <a:t>Applicability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659640" y="2924280"/>
            <a:ext cx="205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21"/>
          <p:cNvGrpSpPr/>
          <p:nvPr/>
        </p:nvGrpSpPr>
        <p:grpSpPr>
          <a:xfrm>
            <a:off x="5978520" y="1197000"/>
            <a:ext cx="3165480" cy="2680920"/>
            <a:chOff x="5978520" y="1197000"/>
            <a:chExt cx="3165480" cy="2680920"/>
          </a:xfrm>
        </p:grpSpPr>
        <p:graphicFrame>
          <p:nvGraphicFramePr>
            <p:cNvPr id="91" name="Object 14"/>
            <p:cNvGraphicFramePr/>
            <p:nvPr/>
          </p:nvGraphicFramePr>
          <p:xfrm>
            <a:off x="5978520" y="1197000"/>
            <a:ext cx="3162240" cy="2125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78520" y="1197000"/>
                      <a:ext cx="3162240" cy="212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Text Box 16"/>
            <p:cNvSpPr/>
            <p:nvPr/>
          </p:nvSpPr>
          <p:spPr>
            <a:xfrm>
              <a:off x="6084720" y="3357720"/>
              <a:ext cx="305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Arial"/>
                </a:rPr>
                <a:t>EC programmes in line with TC/CD quality criteria</a:t>
              </a:r>
              <a:r>
                <a:rPr b="1" lang="en-GB" sz="14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Text Box 23"/>
          <p:cNvSpPr/>
          <p:nvPr/>
        </p:nvSpPr>
        <p:spPr>
          <a:xfrm>
            <a:off x="468360" y="4724280"/>
            <a:ext cx="835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The European Commission's reform is a telling and relevant example of how a major international donor has translated the Paris Declaration and Accra Agenda for Action principles 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ownership, results orien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reduction of parallel PIUs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into a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quality assurance system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5" descr="flag_EuropeAid_RGB150DPI_positive_EN"/>
          <p:cNvPicPr/>
          <p:nvPr/>
        </p:nvPicPr>
        <p:blipFill>
          <a:blip r:embed="rId4"/>
          <a:stretch/>
        </p:blipFill>
        <p:spPr>
          <a:xfrm>
            <a:off x="7885080" y="5638680"/>
            <a:ext cx="1006560" cy="1219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6:04:04Z</dcterms:created>
  <dc:creator>Audrey Gueudet</dc:creator>
  <dc:description/>
  <dc:language>en-US</dc:language>
  <cp:lastModifiedBy>mascala</cp:lastModifiedBy>
  <dcterms:modified xsi:type="dcterms:W3CDTF">2011-10-21T15:43:55Z</dcterms:modified>
  <cp:revision>49</cp:revision>
  <dc:subject/>
  <dc:title>The European Commission’s Reform for More Effective Capacity Development</dc:title>
</cp:coreProperties>
</file>