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45D3-77F7-4DDC-B5F6-D84AFEDB6EC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45D6-20FB-4622-8DBC-6D71E59AF2F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49C8-5CD0-41AF-A455-C82F5BBB10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9182-25BC-4728-B28A-8340372F39A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F87B-0085-418B-BFE4-5DC2337CD95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B38B-6B2A-4480-A78B-0231DBB791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9531-2047-441E-99AF-A1D88A7DAF1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93DE-BFF9-4518-AB4E-8B283041B7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52E05-F97D-4CAF-90E0-6A894A2B3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74D8-67C7-46A6-A8F2-7FCA0BF2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385F23A-27CC-48E4-A1BE-FCBAF9200DE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5F651E1-7D38-4A3C-A1D4-E235A08D08D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F44591-87FF-4C5D-8625-D7FC022BAD7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46EECB-9581-49AF-A80D-6E067BC84D4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430ED6-C73A-48C6-A185-CA9F8C53F5C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F7EB67-0777-4DDF-8A0F-7D62746D0BD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969CB0-3F1E-478A-9DC4-CB3589FA68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246B818-82F3-494B-BC29-6B5EEA811D0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708A483-12D4-4D64-AD1C-E0F2448112A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2C1DDF3-18F9-415F-A2BF-C7EEED32750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7CED4-3B16-4F72-BF17-6A0FF81FF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1212484-9F08-486A-B509-567DC4077C8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5C6FC21-E4A8-4E07-B976-28A41DD0C65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C7B79DC-9204-48E0-AD83-4076753B2BF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CCDE4C8-D6A4-4F84-9746-FCEAE817B06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7779E27-ECE9-49E5-AF7B-6084A6DA7A1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6E5A14-755D-4EB1-93B6-4AFE43576AC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C67111-44C5-4942-A64B-276F324A89C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B7CD21E-E944-425C-9BB3-AE754A41C2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02C29FF-AE6B-4FFC-8EF7-F059D5529C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91248E0-63C1-439C-BBEB-6DADC52AB5F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46916-C908-4E41-80B9-8724ABBF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2F0000B-DE32-406F-AD6B-A0BA76C0821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19D9B49-B5F8-4950-BF65-5B374527E9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1CDC771-AAC9-4CF8-BA46-4C7C4B9605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7950F6B-F049-4C66-8ECD-9FE261B807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A26F21A-4CF8-4DCD-BDCB-74C2B37562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2C60ABC-8352-44C3-A5A1-7F4A649E1F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4AE90BB-43CD-4637-8C04-C090AA30EA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44448F-C67D-4A7D-AA51-AB47F2D20C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9F55E21-1CAB-4FBC-82E7-4723A0BE49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EAA052-CD4D-4C14-B6D3-47D9FA728F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E19D760-8A38-45A0-9EE6-379619240B7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8D6063D-3372-4D25-B0F6-CC2D6C04C53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94C169C-4A83-4F77-B6E0-0D5526D9EA8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4210941-A829-4D4D-9728-3AC9883A23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E3DDAE-4F51-462D-B4C2-4FF2E030DA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BF027B0-5C33-4C00-A5B2-108F91D7D1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4A94646-8FAC-488D-B6AA-D9F795BD5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78AF300-60F0-4B89-8AF7-F6915E2AD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90B13BE-84EA-45D6-AA09-765468B267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4FC6F02-57AF-4147-8242-CA3FB2C070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5E8935C-D5A5-49D3-B19D-3C0F83E2B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D0EF75B-DA98-4567-A776-A9A38FF927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998D69E-1E01-4228-8927-F95735104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B6F14EA-889A-4D62-965D-57E3389FC5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9E2FC28-DB7B-44D8-AE5A-AAD958BBCB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D7BCBE3-C95F-4A51-9FEF-F816B3B160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5AC5D2-9869-489C-ADBB-7051257F05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504631-AF19-4411-84A7-8445354254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3F0B927-B641-42C7-A3A4-9361DAADFC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BFAEE13-274F-4AE0-92C5-4846F1FC2C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93C34F6-AB74-47EC-9C51-048B7CCA5D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8203BEA-9ECA-44C1-B58F-A35BDB0584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BAC7CA5-498E-418E-AC65-F99797A0DF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4D7B28C-AAF1-4EFC-8FAA-247C1E6549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2A16565-47C0-4F9B-8EB8-9A4B833BBF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A4669EF-0563-4A6F-BA6C-9FC7EDD464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459672C-2042-4C81-9A9C-4C469CCD77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84417B8-2333-40BC-A188-6E2EF73446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77C2676-FDB5-4327-A834-7432B43954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A7B2489-F37B-45B4-AC0B-0F0B8BF15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544EEB5-B502-4F38-9052-A3965BB93B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CB2BF9A-1D08-4451-9B88-888DAFC9E6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596A43D-0210-4295-9A7D-E070710614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B362DB-C4F2-4E34-BFCD-BF6202FB2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EB1263A-90D9-4791-9CA9-053683A40A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B4072BE-E596-4B36-9F5D-79AA6D9C80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62A66CD-1AB6-4235-8FE7-C09E24DD6F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187525D-DB3A-4EED-84C9-E164210501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7CBE1E3-9DDB-45A9-B582-A0D783552A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BB4AE78-BF61-4733-9D45-46429B3F62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E751180-7434-405A-A34A-8263D12E70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4FBCB94-8733-49A0-B1FA-1AACF35E73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AB7815A-4F71-42ED-8455-6F3BD993C6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A55AC98-A75A-4FD8-8E44-71D4215C32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A1FF539-9D64-44B1-91F1-2CEA9112FD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B18B0D4-46E4-4E4C-985B-AE7C48BB0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5AC0A0F-5903-453D-9242-98459AF71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DBC8BCD-60F4-42E3-B957-63DDFBB50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D3998FD-AAB9-40AF-A4B9-230C96743D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3E2D53B-032B-4DF7-8680-E9E377588B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7F63626-B7EA-44C2-856E-A448083138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4DC2ADE-5DC9-496B-B160-C6303B3EDB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72E416D-A9B9-48E4-845B-6BA35DA359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1830A87-9E94-4920-89C1-B376912760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F2DCC4C-E5EF-42C2-A1A9-46E8DD5D05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D16C1DE-3CBF-4AEE-9FC8-4F489E699A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38AC782-8A4E-432D-9B37-B725C2C062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F0D2D7B-213B-4D68-BF00-9A016E131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6F487A2-60D4-4CDA-9203-A7573EF2A2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654CEBA-F492-426C-B9C0-D2BEA10A43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02CAF4B-3F09-4C15-9D3C-4B2FE36EC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9543D6B-75A7-4E41-9E6A-74CEF04F57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4253A6B-3E77-48D6-86FE-AA9D6DD5A4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14B1AFF-DCAE-4A82-ACF5-E6F183065C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C5616B0-CF52-4591-BA44-53D0DC5E46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9BACE62-9A0F-4369-ABA3-499872ECD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775B6C4-A22C-4A04-926C-E00EE3239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D9F9623-3023-47DB-B5CE-9F7A85AD3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7AF5B2B-CC0E-4222-9661-D6756B6109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583B745-D39C-43DB-8C5C-647D1A9167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7991-5FD2-407A-B346-3A0F128D8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34AA59B-2EC5-4D13-82CA-87569DDEC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97D6674-38E7-4795-9660-95E1EDF17B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84A664C-6044-4FA7-9832-141DC82264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53BA5D9-0974-472E-9C5C-0E8A2D6E3E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4D73E24-8408-4D47-9E53-48A09E1CA8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57BB81D-36C8-41EE-8965-6F67F039CA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81B6F39-2406-4BD0-99F3-EB677160BF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0EDDE3D-B855-48FB-ABF2-92ABECD77C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DBF9CBF-04A8-455A-B0AC-DFC4ECDD82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5DD17C2-A15B-4A4A-95C2-B82B0DFC21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21981EB-0049-4556-ADF5-0FFFEF7A99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2D1B9B1-DC98-41E7-8B63-0701839503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8F26D68-924E-4542-995B-47F8DDBDE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EE8F9CB-2254-4ED5-A6AD-2B1848C238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7C85977-8CC0-4ADA-9E8B-D0ACF1BDC4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C60C5F6-ECA4-4E84-A90C-BDC4AB69F7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F7851B1-3A3A-4F9F-8051-4DF4DE7C67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D686DB0-7DBC-4FEF-A0DA-09E4B5BF0F5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551A814-686F-4225-8137-EA6F8FE1FF9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3F02D94-923A-4590-905C-1BBF73DEEC7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B18CB9F-FCFA-40E3-B131-11219958D6F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07DB33B-1A96-464F-BBF9-3191679D749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D6EC536-CC13-4AE1-92D7-F7C3F9DAE5D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3ACF95F-C871-4505-A55E-324638DF76F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4EB7EE0-96DE-433C-AEA2-BA34A17E462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9A53542-DF67-4DFC-8044-3201DCB0808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5ED692C-49B1-403F-B1B7-5BFCF46E15C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DFC81C5E-7077-49F2-AA16-D75792A669F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5E9BCA16-7D54-41F1-B761-8ADCB7CA7BC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69DBAD7-672C-49AB-90C6-714EEDC2169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A0AF87D-0335-4BDA-BC65-60FCA03CCC1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1F3D882-B3D5-4A2F-B024-A4C2E5ABC83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A2FD3FF-56C8-4B70-BF88-3EBD9ED44DB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C1FA60E2-61EB-4C2B-937E-6C16352F7C7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DE56A39-26CA-4BBF-B3E7-C2E8BE2565C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1E242C-6117-4BA0-B74E-5F904DD2E7B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BB20F07-0ED5-4807-B332-D0F1D4C3EB4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E932784-7289-4362-80B5-762CF22A2E5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D30EC11-8CDB-4EBB-976E-B960A48B44A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FE275AB1-324D-4F7F-A23F-7F442CE8963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1C34CFC-98FF-4553-9F70-81C2CB47AFBE}"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279E8-EF0E-4EC5-9375-B7535FBF7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A63CA-D764-4DEB-8B68-3CFBC9B00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5CE8E-5292-40A4-B211-8E0066D16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8BD4A-C104-46CA-B4AE-5AA9A0A2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36E16-1E16-4C83-8BBC-117BE318B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7C0C-EE20-4BF4-97C9-A8C3D590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75BDA-A4ED-4777-9B9D-8365AD0EE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F6711-A608-4DFC-B4D3-1C38A7AA4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6940C-B5F2-4F0E-92D9-548F43E16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27A2D-926C-4D45-B8B8-8EA4E1463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0B08B-3208-4F7F-9E68-7DB74F8EB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2561C-01E0-4604-8773-62A3EFBCF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B17C7-5A67-4F0C-9FEE-AC5BA9339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BE535F-2DA0-4463-B542-3BE111BA7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E4788-F273-4918-8976-CDED79748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DEBD1-503E-4E23-9917-1A590AFD8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4615C-169C-45C1-9101-804D27305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D21324-A81E-40B2-987F-DF0E905A1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3D6CA-14B8-44A5-9B40-2D1FEC817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299FC-44CB-4F99-A6D4-E5B3A3CE7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FE7DF-E098-4D0E-8EE3-7588D44BF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22B228-528E-44DD-B31C-EF889980D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DFB0D-0371-41E0-B7EF-3D6618997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54D95-AA97-43BF-B730-58D27D630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732224-0214-4794-B391-9F947EA5DB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6BDAFA-70A7-47D2-98D8-2D7D379C6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5044BD-3241-4A71-98F7-85BEA4C969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5900B-60A0-4354-B6F6-A86C1E84A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B7F32-89DD-4F51-BC16-7BA87F8DD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E2DD49-F85B-4409-8A89-B2949253A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4BD6B-7727-4CD5-8280-005DC312B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7E3E1-7878-465E-A035-16A3CA7F5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B6F10-E6A2-4335-BA12-39F5AFB2E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DAAB7-90C9-4359-BD61-C124205DD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90311-5E03-4B1A-AC54-2035E8BC9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3B781-4D8E-4E76-835E-EE97A523C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C1816-B84F-4FB6-BA96-B9EDF16A8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CA047A-40A9-4F79-8B02-273C1AD0B8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C9829-0185-4778-9576-71155FFF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F568A3-F624-496D-826C-84E29617B3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763BC-5428-41BF-9492-DFE0F6CB89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91996-78C4-4C32-BF4A-147BC6D74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65A40-97B5-4873-A6E4-AA3861612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78FA8B-F4B5-4B8B-81C1-B9374CE74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8DDCF-6A96-4A49-849B-05DA668E1D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C46F6-A1CA-4C12-81DB-E088A13C9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DE09A-4F6A-4D17-AD2F-13361BA14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17B16-DE39-4375-9654-61155A516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3AC4B-3420-43F2-A98B-1F7427BBA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3235-EB87-410F-849B-4D3042A63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5A5CC1-F204-43A9-A96C-162C89899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AFABD9-CFC3-44F7-92BC-37077E6D4F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68D000-3322-4E0D-8DA7-D66FD92C4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0A0491-DCF5-4852-A49A-32B39B119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5E1DA1-7891-4EF7-A7AC-89BCF4538E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D7C59-0CDA-4D72-9831-A2EB5A9BC7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3B298-343A-4C71-B5A7-A38E745AC4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4BBC0-BA88-43F7-B156-A9740EA9A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542A7-015D-4447-90AA-A01DFF714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BECB1-3F21-436D-92A6-CBEF65AD7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FE29-05EB-402B-AFC5-130BC1586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80234-0479-428A-8594-667474F72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12BD9-FEBE-44B1-8E07-02A603C2A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1B8BA6-F329-48A2-90EF-B379BC2D6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4FD31F-90F2-4898-A3A7-12DB8110AD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EF35A-680F-42E9-98FE-9EB613494A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82501E5-58D2-4A36-A0D3-452BF4F3D8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14367004-84EF-4364-AB50-7369B688AD3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FEB91591-0676-4C58-8999-E32D0B893C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7891DC64-EF4C-41C5-8974-94D1648458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F60DCD65-87A3-4A65-A151-F96C51397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0D18-2F3A-47F4-9ADA-0057E160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51D4CA22-787B-499E-B3D1-D4272A2D7F0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12109E0C-874A-44D3-A5BD-2505F946DA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D76D9D04-2AA3-4CAC-A5F3-D06FD4E7E2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6E725B10-1D58-4D8A-BC1F-D80CC66F0A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36B16B99-61F1-49FC-B68C-876A8C79F2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B980875D-024F-408F-A855-BFB7D0BB927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87972B20-B14D-41BC-AA27-4080EC1D2DB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0F5AC0F-1700-42FB-9316-5A57B1E939A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9E58AC6-EDDA-44CD-9CE3-CC384AD00F3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3EEA5BD-9EA4-47E1-AF60-4FC90CA34D76}"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C272-7B73-40F8-9205-7771CB946BD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CB52-62B0-4E43-B849-26A4CA6E3B3D}"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0274-5F48-4692-BB70-D4F19584EF3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7CF0-B6AA-46C0-BFA4-104C1ED51D49}"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06D2-54B0-4930-9708-D8ECE4442FA5}"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0685-3F9E-4766-845A-6B2647CD1F6E}"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D021-6F99-4CA0-A5D4-E7F8DEA1A7C9}"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9E53-218E-490F-9EF8-58DED97E7A58}"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1F80-24B8-4623-9B4A-985C1AA6C50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DD7F-B2E5-4CAE-9AB4-46B2CB74930D}"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44C3-E4FC-4012-9EF2-6F807179F72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9D37-4572-4281-BF7B-EFA769C0AFEA}"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2911-AF2B-4944-9034-5026BF9DB4A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2A51-C805-4DFE-923D-492E40DA2B82}"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ED87-0F23-44C4-92B6-3969A7911A6D}"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1D7F-AFF5-4D00-AE15-DB23FF2B8F05}"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7124-BDCD-4C09-968D-A0AC99C66D3E}"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372C-AA3C-4A7F-BB5D-96A8E5FAAC06}"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0D40-ABD6-45A4-9C13-8AD1D75FD2BC}"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5D8E-2337-4FCB-BF27-E021DE92F8E5}"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419A-F9C4-47F9-8677-476A50C369C1}"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7160-39D9-4321-8F34-00D705E3C315}"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0DFE-E8CF-409E-A62A-EF11055E8E96}" type="datetime">
              <a:rPr b="0" lang="fr-FR"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95FB-69B1-4ADD-9258-6E8B8EE58F22}"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43B4-CF85-49BD-82FF-85412A5E438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A9CB-D6AA-4B0E-9E3B-49D48B943066}"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8E74-FB13-42C8-927C-38A3BE005FAA}"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71EF-2CFE-49BF-8ED0-CDF22C322CDA}"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45C0-D02F-495E-8578-F53D125944EA}"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6BAB-1A90-4C74-B619-055FD3CF76ED}"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AF61-0ABE-4364-B9DC-6E6C594B591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B536-780A-4B1D-B92B-D71948AECF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4E3D-25B9-4469-B21D-8DC6C4620F2D}"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17C3-FF05-4229-B0E2-D2C01BFC697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CBDE-1DB9-47E0-A7FD-437B785E59A7}"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