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5157-86D1-4034-973C-021B8FB002A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S. Ibrahim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kire (2007) 'Agency and Empowerment: A Proposal for Internationally Comparable Indicators', Oxford Development Studies, 35: 4, 379 — 403 - A. K. Sen (1985) ‘Well-being, agency and freedom: the Dewey Lectures 1984’, The Journal of Philosophy, 82, pp. 169–221; and A. K. Sen (1989) ‘Development as capability expansion’, Journal of Development Planning, 19, pp. 41–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*J.A. Schumpeter, (1934), The Theory of Economic Development, Cambridge, MA, US: Harvard University Press; and G. B. Dagnino (2003) ‘Bridging the Strategy Gap:  Firm Strategy and Coevolution of  Capability Space and Opportunity Space’ 63° Academy of Management Annual Meeting Seattle, August 1-6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02E1-65F7-4295-A48F-DC6FDCB51573}" type="slidenum">
              <a:rPr b="0" lang="it-IT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3BA-4E9E-469F-9286-D14BC111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2F8-8D74-46BE-A3B8-C4EF7D5F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DF3-1838-4350-82F7-E66FC529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0C1-9485-49C0-A406-40405876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99DF-544F-4B3E-9002-F7601033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16EB-34BA-4497-9F4A-04594102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64B8-7477-49F9-B3F9-113C8B8A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D632-DD52-4549-B7E5-F984C000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D6FD-4C52-43C8-BB5E-E158BEAD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8AD4-93A8-4D35-B775-84320085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B1EE-9AD0-46FA-AB5C-02E480C5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FEF-0D42-4522-8AA8-8F808352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FD01-7717-4E98-AB19-16381807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3369-76C6-4EAF-855A-A5ACA1A5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5F11-3AD8-42F3-8344-5D542238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56EF-EA30-4B67-8E6D-9D36A77D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6FA2-4A91-41B3-9449-BC24F3CD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07D7-F51E-4E1C-85E4-80487105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619E-A85F-460A-9B81-525CB377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E7329-0442-4789-99BA-38F7F1B1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BEB6F-7A65-43EF-B0CA-78997760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E49D-E54F-4DCF-91AB-5FA34A18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DAE-E55B-4F7F-9E51-A61891E6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A3BB-9015-46F1-A369-FEDCCCDD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7511-0BC7-4F5A-A266-A912DB1C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CEB1-D7A8-46BB-803A-AAB351BE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39B54-B63D-4346-8183-035D85B7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C5D1-AB11-4462-B029-41FE0B7F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29877-8FA5-4D30-B418-EF9FEF95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7EA1-FE1D-40EC-9222-4ADE4A46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09C08-9C76-4FDC-AC1B-75813B2C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A9032-017B-4764-8693-823D84FA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2D612-61BC-459A-A556-E25FAE43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EBB-51F3-4D96-9605-1D218E45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BFBBA-1E04-4991-9084-C22AA062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216D6-1130-4045-8A1A-549FCE57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25CA-2D88-4F0A-B5C1-DDA993EC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017FA-B150-45CE-BF6F-F0449856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AFCAA-E99E-4DA7-94C9-FB706861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E1F68-848A-4C14-8345-6659C5BF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0D217-D747-4F01-A57F-3F948247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38333-E404-4EE3-9A10-B6BBACCE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2AB7-A48E-4DAE-B432-433C5409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9B27F-DE59-47E1-9CDA-BD083C53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683-E33C-494B-B87E-34E9ED6A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BEA32-37AC-45F0-8C51-31DD4FFA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7DC26-C63A-43F9-8485-50A2D8B4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55C8-0374-4FB0-800D-8D9CB98F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C3510-D799-4580-9628-03776B26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E8335-A60F-4D75-A331-9DA9E839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1E618-1D14-4FDC-B95A-DDAE3393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526F7-9FCE-48C9-BE89-22FB3820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32A8C-5CAA-4DF1-AB17-E3510CE0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FDB8D-9DFE-4C29-AA1B-273B2FD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FA54A-2292-43E8-80C8-52F65789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C90-71F0-4746-BCED-BB8C7BFE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3A6C7-D57F-4110-BFCB-AB9A289E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2DA-1B9F-4DD5-9288-4613D7DE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971-9D9C-4EC3-A052-9D3C7127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566-650C-49AE-B431-DFE7268C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05/07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1457-432C-464E-9D70-FE85867C62C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05/07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95F0-F447-4C34-A470-92657B05880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05/07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E585-D081-4A09-BA5B-7E84E6DA7827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05/07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305D-5C70-44D1-9811-8C8C17A33CA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05/07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B7C5-3003-40A1-AC91-0A151F20D7B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olo 1" descr=""/>
          <p:cNvPicPr/>
          <p:nvPr/>
        </p:nvPicPr>
        <p:blipFill>
          <a:blip r:embed="rId1"/>
          <a:stretch/>
        </p:blipFill>
        <p:spPr>
          <a:xfrm>
            <a:off x="676440" y="828720"/>
            <a:ext cx="7785000" cy="23479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84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7576e"/>
                </a:solidFill>
                <a:latin typeface="Arial"/>
              </a:rPr>
              <a:t>Enzo</a:t>
            </a:r>
            <a:r>
              <a:rPr b="1" lang="en-US" sz="1800" spc="-1" strike="noStrike">
                <a:solidFill>
                  <a:srgbClr val="57576e"/>
                </a:solidFill>
                <a:latin typeface="Arial"/>
              </a:rPr>
              <a:t> Caputo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576e"/>
                </a:solidFill>
                <a:latin typeface="Arial"/>
              </a:rPr>
              <a:t>economic analysis and policy – PhD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576e"/>
                </a:solidFill>
                <a:latin typeface="Arial"/>
              </a:rPr>
              <a:t>WORKSHOP TC/CD – Brussels 4-5 July 2011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8" name="Segnaposto data 3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07/2011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Segnaposto numero diapositiva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AD94-9968-4C68-97D4-079AE0A8A0EB}" type="slidenum">
              <a:rPr b="1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Sottotitolo 2"/>
          <p:cNvSpPr/>
          <p:nvPr/>
        </p:nvSpPr>
        <p:spPr>
          <a:xfrm>
            <a:off x="855720" y="476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Improving Capacity Development in Aid programmes: challenges and approachs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New focus on Capacity Development in the EC development approach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360" y="235872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SOME KEY REFERENCES TO TAKE INTO ACCOUNT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</a:t>
            </a: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Backbone strategy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 and the related refor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</a:t>
            </a: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EC sectoral evaluation on Technical Cooperation and Capacity Developme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Aft>
                <a:spcPts val="1800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large </a:t>
            </a: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thinking process on the aid effectiveness and in particular Budgetary Suppor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3" name="Segnaposto data 3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07/2011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Segnaposto numero diapositiva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42E4-5DB5-4174-97DC-6035991A69CD}" type="slidenum">
              <a:rPr b="1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Two key issues for a shared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approach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2358720"/>
            <a:ext cx="8229600" cy="4165560"/>
          </a:xfrm>
          <a:prstGeom prst="rect">
            <a:avLst/>
          </a:prstGeom>
          <a:solidFill>
            <a:srgbClr val="f3f2dc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Aft>
                <a:spcPts val="1800"/>
              </a:spcAft>
              <a:buClr>
                <a:srgbClr val="0070c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Which are the </a:t>
            </a:r>
            <a:r>
              <a:rPr b="0" lang="en-GB" sz="3200" spc="-1" strike="noStrike" u="sng">
                <a:solidFill>
                  <a:srgbClr val="0070c0"/>
                </a:solidFill>
                <a:uFillTx/>
                <a:latin typeface="Arial"/>
              </a:rPr>
              <a:t>enabling factors</a:t>
            </a: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 (namely external) of Capacity Development, and aid effectiveness [if we consider CD as an essential component of AE]? and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Aft>
                <a:spcPts val="1800"/>
              </a:spcAft>
              <a:buClr>
                <a:srgbClr val="0070c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Aft>
                <a:spcPts val="1800"/>
              </a:spcAft>
              <a:buClr>
                <a:srgbClr val="0070c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How do we </a:t>
            </a:r>
            <a:r>
              <a:rPr b="0" lang="en-GB" sz="3200" spc="-1" strike="noStrike" u="sng">
                <a:solidFill>
                  <a:srgbClr val="0070c0"/>
                </a:solidFill>
                <a:uFillTx/>
                <a:latin typeface="Arial"/>
              </a:rPr>
              <a:t>identify and assess CD outcomes</a:t>
            </a: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, per se and in relation with aid results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Aft>
                <a:spcPts val="1800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Segnaposto data 3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07/2011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Segnaposto numero diapositiva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9A5B-C1C1-41D6-A07C-CB230BAE7D81}" type="slidenum">
              <a:rPr b="1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2533c"/>
                </a:solidFill>
                <a:latin typeface="Arial"/>
              </a:rPr>
              <a:t>Issue 1 : the opportunity framework</a:t>
            </a:r>
            <a:br>
              <a:rPr sz="36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ternal capacities grow interacting with external opportunities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Aid quality policies and criteria have </a:t>
            </a: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emphasised internal capacity dynamics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 in systems and institutions and therefore have focused on improving ownership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</a:t>
            </a: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external opportunities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 with which internal dynamics interact are considered too far to be reached through ai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Indeed, internal capacities may only </a:t>
            </a: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adopt strategies that correspond to the opportunities and risks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 of the existing context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How, such opportunities and risks may be considered while </a:t>
            </a: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supporting and evaluating Capacity Development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Segnaposto data 3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07/2011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Segnaposto numero diapositiva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6A40-8A26-4EAC-969E-AF4AAD7CEF2F}" type="slidenum">
              <a:rPr b="1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iterature references on the opportunity framework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844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70c0"/>
                </a:solidFill>
                <a:latin typeface="Arial"/>
              </a:rPr>
              <a:t>The development </a:t>
            </a:r>
            <a:r>
              <a:rPr b="0" lang="en-GB" sz="2300" spc="-1" strike="noStrike" u="sng">
                <a:solidFill>
                  <a:srgbClr val="0070c0"/>
                </a:solidFill>
                <a:uFillTx/>
                <a:latin typeface="Arial"/>
              </a:rPr>
              <a:t>literature on CD is almost silent</a:t>
            </a:r>
            <a:r>
              <a:rPr b="0" lang="en-GB" sz="2300" spc="-1" strike="noStrike">
                <a:solidFill>
                  <a:srgbClr val="0070c0"/>
                </a:solidFill>
                <a:latin typeface="Arial"/>
              </a:rPr>
              <a:t> on the opportunity framework and the interactions between internal capacities and external opportunities.</a:t>
            </a:r>
            <a:endParaRPr b="0" lang="en-US" sz="23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70c0"/>
                </a:solidFill>
                <a:latin typeface="Arial"/>
              </a:rPr>
              <a:t>The </a:t>
            </a:r>
            <a:r>
              <a:rPr b="0" lang="en-GB" sz="2300" spc="-1" strike="noStrike" u="sng">
                <a:solidFill>
                  <a:srgbClr val="0070c0"/>
                </a:solidFill>
                <a:uFillTx/>
                <a:latin typeface="Arial"/>
              </a:rPr>
              <a:t>broader literature on development</a:t>
            </a:r>
            <a:r>
              <a:rPr b="0" lang="en-GB" sz="2300" spc="-1" strike="noStrike">
                <a:solidFill>
                  <a:srgbClr val="0070c0"/>
                </a:solidFill>
                <a:latin typeface="Arial"/>
              </a:rPr>
              <a:t>*, instead, has produced the concepts of empowerment, which is a strong synonymous of capacity (including capacity development), agency and opportunity framework.</a:t>
            </a:r>
            <a:endParaRPr b="0" lang="en-US" sz="23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70c0"/>
                </a:solidFill>
                <a:latin typeface="Arial"/>
              </a:rPr>
              <a:t>And the specific </a:t>
            </a:r>
            <a:r>
              <a:rPr b="0" lang="en-GB" sz="2300" spc="-1" strike="noStrike" u="sng">
                <a:solidFill>
                  <a:srgbClr val="0070c0"/>
                </a:solidFill>
                <a:uFillTx/>
                <a:latin typeface="Arial"/>
              </a:rPr>
              <a:t>literature on private enterprise and entrepreneurship</a:t>
            </a:r>
            <a:r>
              <a:rPr b="0" lang="en-GB" sz="2300" spc="-1" strike="noStrike">
                <a:solidFill>
                  <a:srgbClr val="0070c0"/>
                </a:solidFill>
                <a:latin typeface="Arial"/>
              </a:rPr>
              <a:t> development has produced a wide thinking on the interaction between “capacity space” and “opportunity space”**</a:t>
            </a:r>
            <a:endParaRPr b="0" lang="en-US" sz="23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75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Segnaposto data 4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07/2011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Segnaposto numero diapositiva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7A35-3ECE-450A-AAE0-97B1DF3E87E7}" type="slidenum">
              <a:rPr b="1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7" name="CasellaDiTesto 3"/>
          <p:cNvSpPr/>
          <p:nvPr/>
        </p:nvSpPr>
        <p:spPr>
          <a:xfrm>
            <a:off x="684360" y="6075360"/>
            <a:ext cx="792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*See: S. Ibrahim and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S. </a:t>
            </a: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Alkire (2007) and A. K. Sen (1985 and 1989)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**See: G. B. Dagnino (2003). The issue of the opportunities for entrepreneurs was first  raised by J.A. Schumpeter, (1934)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Arial"/>
              </a:rPr>
              <a:t>The Opportunity Framework as a mix of a country/ region historical momentum and its international partnerships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OF is </a:t>
            </a: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partly given and unchangeable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, as far as it is determined by the  historical momentum of the partner country/region. It needs to be well understood through an adequate political economy assessmen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Partly, the OF is affected by 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existing and/or future international partnerships between the country/region and the same countries (or groups of countries) which provide the aid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As far as such partnerships are able to provide </a:t>
            </a: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new development opportunities that fit the historical momentum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, the OF for Capacity Development is high and the objectives of CD support programmes may be ambitiou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Segnaposto data 3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07/2011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1" name="Segnaposto numero diapositiva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0535-71BF-4FDC-9FE7-E593B6D81115}" type="slidenum">
              <a:rPr b="1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Historical examples and new cases of partnerships that contributed and may contribute to the establishment of OFs highly conducive for CD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360" y="1844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The case of the </a:t>
            </a:r>
            <a:r>
              <a:rPr b="0" lang="en-GB" sz="2800" spc="-1" strike="noStrike" u="sng">
                <a:solidFill>
                  <a:srgbClr val="0070c0"/>
                </a:solidFill>
                <a:uFillTx/>
                <a:latin typeface="Arial"/>
              </a:rPr>
              <a:t>post 2</a:t>
            </a:r>
            <a:r>
              <a:rPr b="0" lang="en-GB" sz="2800" spc="-1" strike="noStrike" u="sng" baseline="30000">
                <a:solidFill>
                  <a:srgbClr val="0070c0"/>
                </a:solidFill>
                <a:uFillTx/>
                <a:latin typeface="Arial"/>
              </a:rPr>
              <a:t>nd</a:t>
            </a:r>
            <a:r>
              <a:rPr b="0" lang="en-GB" sz="2800" spc="-1" strike="noStrike" u="sng">
                <a:solidFill>
                  <a:srgbClr val="0070c0"/>
                </a:solidFill>
                <a:uFillTx/>
                <a:latin typeface="Arial"/>
              </a:rPr>
              <a:t> world war reconstruction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 and the US supported partnership (including the role of the World Bank)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The case of </a:t>
            </a:r>
            <a:r>
              <a:rPr b="0" lang="en-GB" sz="2800" spc="-1" strike="noStrike" u="sng">
                <a:solidFill>
                  <a:srgbClr val="0070c0"/>
                </a:solidFill>
                <a:uFillTx/>
                <a:latin typeface="Arial"/>
              </a:rPr>
              <a:t>EU enlargement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 (especially the first round of CECs candidates)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The recent cases of the </a:t>
            </a:r>
            <a:r>
              <a:rPr b="0" lang="en-GB" sz="2800" spc="-1" strike="noStrike" u="sng">
                <a:solidFill>
                  <a:srgbClr val="0070c0"/>
                </a:solidFill>
                <a:uFillTx/>
                <a:latin typeface="Arial"/>
              </a:rPr>
              <a:t>Euro-Med integration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 especially in Tunisia and Morocco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The </a:t>
            </a:r>
            <a:r>
              <a:rPr b="0" lang="en-GB" sz="2800" spc="-1" strike="noStrike" u="sng">
                <a:solidFill>
                  <a:srgbClr val="0070c0"/>
                </a:solidFill>
                <a:uFillTx/>
                <a:latin typeface="Arial"/>
              </a:rPr>
              <a:t>EPA process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 in the ACP countrie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The new </a:t>
            </a:r>
            <a:r>
              <a:rPr b="0" lang="en-GB" sz="2800" spc="-1" strike="noStrike" u="sng">
                <a:solidFill>
                  <a:srgbClr val="0070c0"/>
                </a:solidFill>
                <a:uFillTx/>
                <a:latin typeface="Arial"/>
              </a:rPr>
              <a:t>G8 commitment</a:t>
            </a:r>
            <a:r>
              <a:rPr b="0" lang="en-GB" sz="2800" spc="-1" strike="noStrike">
                <a:solidFill>
                  <a:srgbClr val="0070c0"/>
                </a:solidFill>
                <a:latin typeface="Arial"/>
              </a:rPr>
              <a:t> for the southern Mediterranean countries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Segnaposto data 3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07/2011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Segnaposto numero diapositiva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8D27-19E5-4EE1-B9D4-BE11E83C738F}" type="slidenum">
              <a:rPr b="1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The consideration of the OF in an evaluation of the EC budgetary support in Tunisia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he EU partnership in 1995 had established a framework of opportunities for Tunisia, based on a </a:t>
            </a: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strong integration in the EU market and a comprehensive association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 to the EU, through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Dismantling trade barriers;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Restructuring and upgrading the financial and industrial systems;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Increasing domestic market competition;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Modernising and opening the education and training system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Such opportunities </a:t>
            </a: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corresponded to the momentum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 of the country </a:t>
            </a: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(10 years of stabilisation, vocation to export, propension to international partnerships and innovation, need to expand the economy to tackle access of poor and youth)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provided the government with the necessary guarantees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70c0"/>
                </a:solidFill>
                <a:latin typeface="Arial"/>
              </a:rPr>
              <a:t>(access to large markets, standards and rules, know-how, technical and financial support) 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to embark in change </a:t>
            </a:r>
            <a:r>
              <a:rPr b="0" i="1" lang="en-GB" sz="2400" spc="-1" strike="noStrike" u="sng">
                <a:solidFill>
                  <a:srgbClr val="0070c0"/>
                </a:solidFill>
                <a:uFillTx/>
                <a:latin typeface="Arial"/>
              </a:rPr>
              <a:t>(risk reduction)</a:t>
            </a: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Segnaposto data 3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07/2011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Segnaposto numero diapositiva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A49D-478B-4BCC-9EA1-581CABFDF921}" type="slidenum">
              <a:rPr b="1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How the aid worked in Tunisia: CD support interacted with the OF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280" y="15998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10000"/>
              </a:lnSpc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70c0"/>
                </a:solidFill>
                <a:latin typeface="Arial"/>
              </a:rPr>
              <a:t>Aid was </a:t>
            </a:r>
            <a:r>
              <a:rPr b="0" lang="en-GB" sz="1700" spc="-1" strike="noStrike" u="sng">
                <a:solidFill>
                  <a:srgbClr val="0070c0"/>
                </a:solidFill>
                <a:uFillTx/>
                <a:latin typeface="Arial"/>
              </a:rPr>
              <a:t>deeply owned</a:t>
            </a:r>
            <a:r>
              <a:rPr b="0" lang="en-GB" sz="1700" spc="-1" strike="noStrike">
                <a:solidFill>
                  <a:srgbClr val="0070c0"/>
                </a:solidFill>
                <a:latin typeface="Arial"/>
              </a:rPr>
              <a:t>, because it was requested and negotiated  as a tool for the implementation of the opportunities established by the EU-Tunisia partnership.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70c0"/>
                </a:solidFill>
                <a:latin typeface="Arial"/>
              </a:rPr>
              <a:t>It was </a:t>
            </a:r>
            <a:r>
              <a:rPr b="0" lang="en-GB" sz="1700" spc="-1" strike="noStrike" u="sng">
                <a:solidFill>
                  <a:srgbClr val="0070c0"/>
                </a:solidFill>
                <a:uFillTx/>
                <a:latin typeface="Arial"/>
              </a:rPr>
              <a:t>highly effective</a:t>
            </a:r>
            <a:r>
              <a:rPr b="0" lang="en-GB" sz="1700" spc="-1" strike="noStrike">
                <a:solidFill>
                  <a:srgbClr val="0070c0"/>
                </a:solidFill>
                <a:latin typeface="Arial"/>
              </a:rPr>
              <a:t>, since it provided a practical dimension to and enhanced the credibility of the partnership.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70c0"/>
                </a:solidFill>
                <a:latin typeface="Arial"/>
              </a:rPr>
              <a:t>The “</a:t>
            </a:r>
            <a:r>
              <a:rPr b="0" lang="en-GB" sz="1700" spc="-1" strike="noStrike" u="sng">
                <a:solidFill>
                  <a:srgbClr val="0070c0"/>
                </a:solidFill>
                <a:uFillTx/>
                <a:latin typeface="Arial"/>
              </a:rPr>
              <a:t>revolution</a:t>
            </a:r>
            <a:r>
              <a:rPr b="0" lang="en-GB" sz="1700" spc="-1" strike="noStrike">
                <a:solidFill>
                  <a:srgbClr val="0070c0"/>
                </a:solidFill>
                <a:latin typeface="Arial"/>
              </a:rPr>
              <a:t>” in Tunisia is a consequence of the dramatic change of the Tunisian society in the last fifteen years, the international integration and modernisation (growth of a large middle class) that took place mostly thank to that partnership.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70c0"/>
                </a:solidFill>
                <a:latin typeface="Arial"/>
              </a:rPr>
              <a:t>Many say that aid to Tunisia should have included more distributional and governance-related objectives. This may be </a:t>
            </a:r>
            <a:r>
              <a:rPr b="0" lang="en-GB" sz="1700" spc="-1" strike="noStrike" u="sng">
                <a:solidFill>
                  <a:srgbClr val="0070c0"/>
                </a:solidFill>
                <a:uFillTx/>
                <a:latin typeface="Arial"/>
              </a:rPr>
              <a:t>a mistaken perspective, charging aid with a disproportioned responsibility</a:t>
            </a:r>
            <a:r>
              <a:rPr b="0" lang="en-GB" sz="1700" spc="-1" strike="noStrike">
                <a:solidFill>
                  <a:srgbClr val="0070c0"/>
                </a:solidFill>
                <a:latin typeface="Arial"/>
              </a:rPr>
              <a:t>. When aid included such objectives (e.g. Grain Market liberalisation and most Governance projects), it just failed.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Aft>
                <a:spcPts val="1199"/>
              </a:spcAft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70c0"/>
                </a:solidFill>
                <a:latin typeface="Arial"/>
              </a:rPr>
              <a:t>The problem is that </a:t>
            </a:r>
            <a:r>
              <a:rPr b="0" lang="en-GB" sz="1700" spc="-1" strike="noStrike" u="sng">
                <a:solidFill>
                  <a:srgbClr val="0070c0"/>
                </a:solidFill>
                <a:uFillTx/>
                <a:latin typeface="Arial"/>
              </a:rPr>
              <a:t>such objectives were weak in the partnership</a:t>
            </a:r>
            <a:r>
              <a:rPr b="0" lang="en-GB" sz="1700" spc="-1" strike="noStrike">
                <a:solidFill>
                  <a:srgbClr val="0070c0"/>
                </a:solidFill>
                <a:latin typeface="Arial"/>
              </a:rPr>
              <a:t>, for lack of economic guarantees (Grain Market and agricultural products) and, in the case of governance, for the compliance of many EU MS with the regime.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2" name="Segnaposto data 3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05/07/2011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3" name="Segnaposto numero diapositiva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873E-78DA-4177-AA23-21F06871D51A}" type="slidenum">
              <a:rPr b="1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9:19:57Z</dcterms:created>
  <dc:creator>enzocaputo</dc:creator>
  <dc:description/>
  <dc:language>en-US</dc:language>
  <cp:lastModifiedBy>riembpa</cp:lastModifiedBy>
  <dcterms:modified xsi:type="dcterms:W3CDTF">2011-11-18T07:17:50Z</dcterms:modified>
  <cp:revision>72</cp:revision>
  <dc:subject/>
  <dc:title>Presentazione standard di PowerPoint</dc:title>
</cp:coreProperties>
</file>