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175D-A3C8-47E9-BC10-420C5900B1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A069-0931-482E-AF53-2E60B3ADD6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48CD-BCBB-481F-8953-B07EEE8DF5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CAA0-90AC-4A9C-86A9-E867F3DDA3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en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anda non si materializ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anda non chi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clo del progetto i tem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921-6F98-4709-BC2F-896F4A03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F6D-2A58-42E3-BF36-30061F41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257-19B1-4400-A82F-0DBCF1C3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A8E-7CA9-4AE8-8A5E-4768EC40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C5AB-8BA0-49E6-BFA4-F03E7A85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92D6-0AE4-4EB8-BCBD-A230758B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7B5F-1AF3-4411-85EB-172245F9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FA45-C51E-4A18-A46C-071C4162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1012-E1E4-4EF1-A753-3D137782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8718-1015-4EB4-8C60-D1143848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DCDD-C7FD-45F3-8DA6-56C8F5E8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A17-C9C9-4F08-A7ED-EF2DC038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A8D6-FD58-444D-BFBD-6DC51D27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454E-9159-4ACB-8F24-7B1402D4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2B79-B1B4-4B97-A198-53C319D1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EA12-CECA-4475-8F01-C884738E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4531-DBF1-44AE-AF72-527B4445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220-140F-4B0D-950C-E5D1B055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4C2-4D17-4AE7-BDA3-8C2FBC55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4A6-A8D7-4483-90AD-5FFD9F60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7C0-CA73-4828-B03D-45821FDA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0A2-24A5-4071-A906-EC54426A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F05-ACDD-456D-9128-5166DE3C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E81-4F46-4870-A4A7-6180C165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4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9F88-2A83-4A95-8A85-E0A3A55CE2EB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50040" y="5373720"/>
            <a:ext cx="106704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067280" y="6265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684000" y="6265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9C51-7DD5-4EAE-A914-CFEEB4EFE24D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6248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Calibri"/>
              </a:rPr>
              <a:t>Implementing Aid Effectiveness</a:t>
            </a:r>
            <a:endParaRPr b="1" lang="en-US" sz="32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68360" y="1125360"/>
            <a:ext cx="79502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EU Operational Framework for Aid Effectiveness</a:t>
            </a: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Council Conclusions </a:t>
            </a:r>
            <a:r>
              <a:rPr b="0" lang="en-GB" sz="2400" spc="-1" strike="noStrike" u="sng">
                <a:solidFill>
                  <a:srgbClr val="103c72"/>
                </a:solidFill>
                <a:uFillTx/>
                <a:latin typeface="Calibri"/>
              </a:rPr>
              <a:t>for MS and the 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Calibri"/>
              </a:rPr>
              <a:t>Adopted on November 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762c"/>
                </a:solidFill>
                <a:latin typeface="Calibri"/>
              </a:rPr>
              <a:t>4 area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ts val="2798"/>
              </a:lnSpc>
              <a:buClr>
                <a:srgbClr val="3a762c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762c"/>
                </a:solidFill>
                <a:latin typeface="Calibri"/>
                <a:ea typeface="ＭＳ Ｐゴシック"/>
              </a:rPr>
              <a:t>Division of 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ts val="2798"/>
              </a:lnSpc>
              <a:buClr>
                <a:srgbClr val="3a762c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762c"/>
                </a:solidFill>
                <a:latin typeface="Calibri"/>
                <a:ea typeface="ＭＳ Ｐゴシック"/>
              </a:rPr>
              <a:t>Use of country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ts val="2798"/>
              </a:lnSpc>
              <a:buClr>
                <a:srgbClr val="3a762c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762c"/>
                </a:solidFill>
                <a:latin typeface="Calibri"/>
                <a:ea typeface="ＭＳ Ｐゴシック"/>
              </a:rPr>
              <a:t>Technical cooperation for enhanced Capacit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ts val="2798"/>
              </a:lnSpc>
              <a:buClr>
                <a:srgbClr val="3a762c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762c"/>
                </a:solidFill>
                <a:latin typeface="Calibri"/>
                <a:ea typeface="ＭＳ Ｐゴシック"/>
              </a:rPr>
              <a:t>Mutual accountability &amp; Transparency (December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cc0066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cc0066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cc0066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cc0066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cc0066"/>
                </a:solidFill>
                <a:latin typeface="Calibri"/>
              </a:rPr>
              <a:t>…</a:t>
            </a:r>
            <a:r>
              <a:rPr b="0" lang="en-GB" sz="2800" spc="-1" strike="noStrike">
                <a:solidFill>
                  <a:srgbClr val="cc0066"/>
                </a:solidFill>
                <a:latin typeface="Calibri"/>
              </a:rPr>
              <a:t>.. a process at </a:t>
            </a:r>
            <a:r>
              <a:rPr b="0" lang="en-GB" sz="2800" spc="-1" strike="noStrike" u="sng">
                <a:solidFill>
                  <a:srgbClr val="cc0066"/>
                </a:solidFill>
                <a:uFillTx/>
                <a:latin typeface="Calibri"/>
              </a:rPr>
              <a:t>EU</a:t>
            </a:r>
            <a:r>
              <a:rPr b="0" lang="en-GB" sz="2800" spc="-1" strike="noStrike">
                <a:solidFill>
                  <a:srgbClr val="cc0066"/>
                </a:solidFill>
                <a:latin typeface="Calibri"/>
              </a:rPr>
              <a:t>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6300720" y="1700280"/>
            <a:ext cx="187164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" y="333000"/>
            <a:ext cx="893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GB" sz="16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cc0066"/>
                </a:solidFill>
                <a:latin typeface="Calibri"/>
              </a:rPr>
              <a:t>Implementing the Operational Framework…… </a:t>
            </a:r>
            <a:br>
              <a:rPr sz="2800"/>
            </a:b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685800" y="2041560"/>
            <a:ext cx="77724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24000" y="1413000"/>
            <a:ext cx="820404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Chap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“</a:t>
            </a:r>
            <a:r>
              <a:rPr b="1" i="1" lang="en-GB" sz="2400" spc="-1" strike="noStrike">
                <a:solidFill>
                  <a:srgbClr val="103c72"/>
                </a:solidFill>
                <a:latin typeface="Calibri"/>
              </a:rPr>
              <a:t>Enhanced support to capacity development and improved TC</a:t>
            </a:r>
            <a:r>
              <a:rPr b="1" lang="en-GB" sz="2400" spc="-1" strike="noStrike">
                <a:solidFill>
                  <a:srgbClr val="103c72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60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Promote alignment, ownership use of local 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Avoid donor driven parallel P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Adapt TC to fragility con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50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Follow up an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3c72"/>
                </a:solidFill>
                <a:latin typeface="Calibri"/>
                <a:ea typeface="ＭＳ Ｐゴシック"/>
              </a:rPr>
              <a:t>	</a:t>
            </a:r>
            <a:r>
              <a:rPr b="1" lang="en-GB" sz="2800" spc="-1" strike="noStrike">
                <a:solidFill>
                  <a:srgbClr val="103c72"/>
                </a:solidFill>
                <a:latin typeface="Calibri"/>
                <a:ea typeface="ＭＳ Ｐゴシック"/>
              </a:rPr>
              <a:t>EC</a:t>
            </a:r>
            <a:r>
              <a:rPr b="1" lang="en-GB" sz="2400" spc="-1" strike="noStrike">
                <a:solidFill>
                  <a:srgbClr val="103c72"/>
                </a:solidFill>
                <a:latin typeface="Calibri"/>
                <a:ea typeface="ＭＳ Ｐゴシック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105000" cy="213048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5" descr=""/>
          <p:cNvPicPr/>
          <p:nvPr/>
        </p:nvPicPr>
        <p:blipFill>
          <a:blip r:embed="rId2"/>
          <a:stretch/>
        </p:blipFill>
        <p:spPr>
          <a:xfrm>
            <a:off x="7380360" y="512928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8"/>
          <p:cNvSpPr/>
          <p:nvPr/>
        </p:nvSpPr>
        <p:spPr>
          <a:xfrm>
            <a:off x="1979640" y="58770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8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9"/>
          <p:cNvSpPr txBox="1"/>
          <p:nvPr/>
        </p:nvSpPr>
        <p:spPr>
          <a:xfrm>
            <a:off x="3635280" y="5877000"/>
            <a:ext cx="3152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ackbone Strategy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786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………</a:t>
            </a: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and Member States?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5832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03c72"/>
                </a:solidFill>
                <a:latin typeface="Calibri"/>
              </a:rPr>
              <a:t>Monitoring of the OF is done via….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03c72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03c72"/>
                </a:solidFill>
                <a:latin typeface="Calibri"/>
              </a:rPr>
              <a:t>Monterrey report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03c72"/>
                </a:solidFill>
                <a:latin typeface="Calibri"/>
              </a:rPr>
              <a:t>Paris indicators progress report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66"/>
                </a:solidFill>
                <a:latin typeface="Calibri"/>
              </a:rPr>
              <a:t>This study aims at giving a general overview, an analytical view, some ideas to develop in the future…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03c72"/>
                </a:solidFill>
                <a:uFillTx/>
                <a:latin typeface="Calibri"/>
              </a:rPr>
              <a:t>EU added value: EC and Member States acting togeth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 algn="just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03c72"/>
                </a:solidFill>
                <a:latin typeface="Calibri"/>
              </a:rPr>
              <a:t>deepen implementation of actions defined in the Operational Framework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-268560" algn="just">
              <a:lnSpc>
                <a:spcPts val="2798"/>
              </a:lnSpc>
              <a:buClr>
                <a:srgbClr val="103c72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103c72"/>
                </a:solidFill>
                <a:latin typeface="Calibri"/>
              </a:rPr>
              <a:t>look for synergies where possibl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0" algn="just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1933920" indent="-214560">
              <a:lnSpc>
                <a:spcPct val="90000"/>
              </a:lnSpc>
              <a:buClr>
                <a:srgbClr val="103c72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3c72"/>
                </a:solidFill>
                <a:latin typeface="Calibri"/>
              </a:rPr>
              <a:t>a common approach…..?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0" algn="just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698400" indent="0" algn="just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 algn="just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12000" y="1600200"/>
            <a:ext cx="26748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47E6-9532-4D9B-90C3-4257D382E34F}" type="slidenum">
              <a:rPr b="0" lang="en-GB" sz="1000" spc="-1" strike="noStrike">
                <a:solidFill>
                  <a:srgbClr val="00a6c8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Printscreen"/>
          <p:cNvPicPr/>
          <p:nvPr/>
        </p:nvPicPr>
        <p:blipFill>
          <a:blip r:embed="rId1"/>
          <a:stretch/>
        </p:blipFill>
        <p:spPr>
          <a:xfrm>
            <a:off x="6084720" y="907920"/>
            <a:ext cx="2325960" cy="32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10:35:06Z</dcterms:created>
  <dc:creator>mascala</dc:creator>
  <dc:description/>
  <dc:language>en-US</dc:language>
  <cp:lastModifiedBy>Volker Hauck</cp:lastModifiedBy>
  <dcterms:modified xsi:type="dcterms:W3CDTF">2011-07-02T09:22:56Z</dcterms:modified>
  <cp:revision>12</cp:revision>
  <dc:subject/>
  <dc:title>Slide 1</dc:title>
</cp:coreProperties>
</file>