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26C5-0A02-4421-8F2D-64A86E861666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3F69-D05A-4D48-B64E-8B1BFE2FACAF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16E4-3994-49FF-9D32-D9EFEDCEABC6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85ED-7198-451D-9B7E-2B2B6E5777BC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29C9-5723-40C4-920F-D3FEA0B69307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BFE3-27DB-4A36-A6DA-C368DCA3C7F0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79A4-6A0B-4DE5-8B33-09D797B373F6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09A9-CB51-405B-AFD1-2FB08DC421C7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E512-DB55-45AA-8FCE-FD35C223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57FA-8178-411F-819B-4602E8DC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DFF6-FE36-494B-BBCD-A5867275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FFB-D428-4033-8AFA-8E65C86B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94C5-B250-4ADE-AE3B-845E39D2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00FC-FAA0-4CCD-BC55-B2F467CF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0863-1FA2-457C-9959-61DD75EC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F2F8-FFAD-49CA-A6DB-61E72371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55B6-8345-49CB-827A-B74CE6C7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AED2-07D1-4F82-92C3-AFBEF716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D740-FC85-4DDE-8CBD-BAD66FA7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E15-6A8C-4C91-A706-7F90B9C9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0A1D-F29A-4662-BB8B-C95584DC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A1A8-E1F8-4A83-A074-A061EE1D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2AD8-8B41-48C4-B8ED-D5880FF9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D0E4-9230-46B6-B490-291C2399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4CD3-7A47-4FD0-8C77-7B95A0BB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306-6924-463F-A84B-2E136BC5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483-A8A3-4F4B-9A57-7A681657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12AD-E172-4DE0-955C-B7F97C53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DC29-B507-4B48-8559-DD6A3AB6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60F-DB15-434C-A817-68A7B515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262-3F23-4FBE-96F8-468652CE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C29-EFE5-43BB-9A58-4DF32E71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CCDC-A44D-4AFD-8642-86C114356E8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34A7-670B-4599-B315-70B70B2577E3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02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Support to Capacity Development in Public Financial Management (PFM) </a:t>
            </a:r>
            <a:br>
              <a:rPr sz="2800"/>
            </a:b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arole  and Nico Pretoriu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d200"/>
                </a:solidFill>
                <a:latin typeface="Verdana"/>
              </a:rPr>
              <a:t>Approach to Guide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341360"/>
            <a:ext cx="799128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Guide focuses on how to support not just what to support – holistic perspective on issues that need to be addressed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Arial"/>
                <a:ea typeface="Arial"/>
              </a:rPr>
              <a:t>Know your country, your subject, yourself (your organis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Develop relationships that facilitate open and constructive discus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Be transparent and assess with an open mind. Focus on what is there, not just what is not ther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designing support, provide alternatives to the problem, not single standard solutions, think out of the box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mprove the flexibility of funding to accommodate the dynamic nature of capacity development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providing assistance ensure there is demand and then look at the various options involving government in selection/manage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Take longer term perspective on learning and seek to improve organisational lear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Know your goal/intended benefit at the outset, if not always the exact pa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marL="515880" indent="-5158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-5176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ts val="2798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Capacity Development – A Change Perspectiv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uman element of reforms/development/change strateg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hange challenges at different level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cietal (values &amp; beliefs e.g. public accountabilit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(changing roles e.g. audit independenc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(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dividual (Behaviour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clude “hard issues” and “soft issue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frameworks, technical reform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y-in, compliance, behavioural chang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naging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cus on rational processes and </a:t>
            </a:r>
            <a:r>
              <a:rPr b="1" lang="en-GB" sz="1800" spc="-1" strike="noStrike" u="sng">
                <a:solidFill>
                  <a:srgbClr val="103c72"/>
                </a:solidFill>
                <a:uFillTx/>
                <a:latin typeface="Verdana"/>
              </a:rPr>
              <a:t>emotional responses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to ensure sustainable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Why Change Efforts Fail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609480" y="2565360"/>
            <a:ext cx="82296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E90A-7D40-49C7-A814-BD57A0A03D7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492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2781360"/>
          <a:ext cx="7416720" cy="3095640"/>
        </p:xfrm>
        <a:graphic>
          <a:graphicData uri="http://schemas.openxmlformats.org/drawingml/2006/table">
            <a:tbl>
              <a:tblPr/>
              <a:tblGrid>
                <a:gridCol w="944280"/>
                <a:gridCol w="1216080"/>
                <a:gridCol w="1224000"/>
                <a:gridCol w="905040"/>
                <a:gridCol w="312732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lear Vis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rgenc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apacit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Likely Outcom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st start, then fizzle out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ottom of “In” tray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ockets of change, Fear due to lack of skill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lse starts, Ad Hoc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stainable chang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31" name="Footer Placeholder 8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Based on Kotter, J.P. (2000) Leading Change: Why Transformation Efforts Fail. Harvard Business Review no 423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539640" y="155736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39640" y="18446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untry Findings – Sustainability an Issue – Why is that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Getting Ready for Chan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king the Case for Change/the Vis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ing case in which logic is irrefutabl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est practice is not a good argu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ave clear criteria for success,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t manages expectations so everyone is clear on destin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vide insight not prescrip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drivers, not extern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ture P(p)olitical Wil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Leve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Level (Senior Management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sight  (Case Study: Using PEFA)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pic>
        <p:nvPicPr>
          <p:cNvPr id="137" name="Picture 1" descr="Drawing scores2"/>
          <p:cNvPicPr/>
          <p:nvPr/>
        </p:nvPicPr>
        <p:blipFill>
          <a:blip r:embed="rId1"/>
          <a:stretch/>
        </p:blipFill>
        <p:spPr>
          <a:xfrm>
            <a:off x="179280" y="765000"/>
            <a:ext cx="8126640" cy="40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50920" y="4724280"/>
          <a:ext cx="8064360" cy="1729080"/>
        </p:xfrm>
        <a:graphic>
          <a:graphicData uri="http://schemas.openxmlformats.org/drawingml/2006/table">
            <a:tbl>
              <a:tblPr/>
              <a:tblGrid>
                <a:gridCol w="784080"/>
                <a:gridCol w="1838520"/>
                <a:gridCol w="1287360"/>
                <a:gridCol w="1382760"/>
                <a:gridCol w="1252440"/>
                <a:gridCol w="1519200"/>
              </a:tblGrid>
              <a:tr h="863640"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Endin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of Fin. Statements to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signed off by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to Speaker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rutiny by PA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available to Publi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Jun 09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Oval 7"/>
          <p:cNvSpPr/>
          <p:nvPr/>
        </p:nvSpPr>
        <p:spPr>
          <a:xfrm>
            <a:off x="1763640" y="1916280"/>
            <a:ext cx="1511280" cy="1584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227640" y="2060640"/>
            <a:ext cx="1511280" cy="1582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6804000" y="4365720"/>
            <a:ext cx="1511280" cy="1584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2" name="Picture 3" descr="C:\Users\Karools\AppData\Local\Microsoft\Windows\Temporary Internet Files\Content.IE5\P59UQRSN\MC900441521[1].wmf"/>
          <p:cNvPicPr/>
          <p:nvPr/>
        </p:nvPicPr>
        <p:blipFill>
          <a:blip r:embed="rId2"/>
          <a:stretch/>
        </p:blipFill>
        <p:spPr>
          <a:xfrm>
            <a:off x="6804000" y="0"/>
            <a:ext cx="136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Beyond leadership and communic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igh level political will now, but ..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l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unit but still battling with how to tackle vested interes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esoth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consultants told us what we already knew – not what to do about it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How do you move to a stage where this is ‘how we do things around here (now)’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mportance of 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way we do thing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80 % princip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Values and eth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ulturally loaded concep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ost difficult to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hadow side of Culture (Percep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oyalty (“Don’t question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fessional (“High Power Distance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3955-2A6A-456E-A2E0-911EBFCC2D9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8" name="Picture 7" descr="Drawing Cultural Onion.jpg"/>
          <p:cNvPicPr/>
          <p:nvPr/>
        </p:nvPicPr>
        <p:blipFill>
          <a:blip r:embed="rId1"/>
          <a:stretch/>
        </p:blipFill>
        <p:spPr>
          <a:xfrm>
            <a:off x="5003640" y="1700280"/>
            <a:ext cx="36720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rganisational Change Strategy (6Ps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B378-32E9-4661-ADB5-6DCBD7796F3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Content Placeholder 3"/>
          <p:cNvSpPr/>
          <p:nvPr/>
        </p:nvSpPr>
        <p:spPr>
          <a:xfrm>
            <a:off x="457200" y="2174760"/>
            <a:ext cx="4040280" cy="4133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bbe0e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reason for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Making irrefutable case for change!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Implications if no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will things look like in futur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Vision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How will it be better than what we got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timelin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riorities and Sequenc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o  is involved in planning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Top-down, Consultation, Particip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Content Placeholder 5"/>
          <p:cNvSpPr/>
          <p:nvPr/>
        </p:nvSpPr>
        <p:spPr>
          <a:xfrm>
            <a:off x="4645080" y="2174760"/>
            <a:ext cx="4103640" cy="406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r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my role in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What is expected from me now, dur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nd after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ss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motional respons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nger, fear, cynicism, excitement, etc.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ersona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in it for m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m I a winner or loser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Rewards – financial, self-actualis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Effort – increased workload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Text Placeholder 2"/>
          <p:cNvSpPr/>
          <p:nvPr/>
        </p:nvSpPr>
        <p:spPr>
          <a:xfrm>
            <a:off x="468360" y="15573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Organisation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Text Placeholder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Individu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468360" y="1125360"/>
            <a:ext cx="82296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Calibri"/>
              </a:rPr>
              <a:t>Case Study </a:t>
            </a:r>
            <a:r>
              <a:rPr b="0" lang="en-GB" sz="2400" spc="-1" strike="noStrike">
                <a:solidFill>
                  <a:srgbClr val="103c72"/>
                </a:solidFill>
                <a:latin typeface="Calibri"/>
              </a:rPr>
              <a:t>(South African Civil Service Reforms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Design and Implementation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rivers (strategies) for Sustainable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lear strategies for achieving vi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ne organisation, one strateg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lignment (Development Strategy and 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must promote urg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lexible framework that encourages action and limits opportunity for passiv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tailed implemen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quires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ment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not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priate technical and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rial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apac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capacity to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hange proc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Monitoring and Evalu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267920"/>
            <a:ext cx="7859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mulate Criteria and KPI at Design St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ep it simple, Monitor change in behaviour not just systems and procedures and REA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Step Analysis (Inputs, Outputs, Impact, etc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316160" indent="-51444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ample: Open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2B74-F5B0-45FB-A27F-8E4900EBF692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640" y="3500280"/>
          <a:ext cx="7704360" cy="2789280"/>
        </p:xfrm>
        <a:graphic>
          <a:graphicData uri="http://schemas.openxmlformats.org/drawingml/2006/table">
            <a:tbl>
              <a:tblPr/>
              <a:tblGrid>
                <a:gridCol w="1527120"/>
                <a:gridCol w="1327320"/>
                <a:gridCol w="2560680"/>
                <a:gridCol w="2289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rocess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se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6740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veloping training Manual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ocument produced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supposed to be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actually used (or not)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Unit, Organisation,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31076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pecialist Training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hd graduat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person being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does organisation learn from that knowledg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Organisation, sector, society, individual, etc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cxnSp>
        <p:nvCxnSpPr>
          <p:cNvPr id="163" name="Straight Arrow Connector 10"/>
          <p:cNvCxnSpPr/>
          <p:nvPr/>
        </p:nvCxnSpPr>
        <p:spPr>
          <a:xfrm>
            <a:off x="1547640" y="3715920"/>
            <a:ext cx="50400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4" name="Straight Arrow Connector 11"/>
          <p:cNvCxnSpPr/>
          <p:nvPr/>
        </p:nvCxnSpPr>
        <p:spPr>
          <a:xfrm>
            <a:off x="2843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5" name="Straight Arrow Connector 12"/>
          <p:cNvCxnSpPr/>
          <p:nvPr/>
        </p:nvCxnSpPr>
        <p:spPr>
          <a:xfrm>
            <a:off x="4859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Development of practitioners guide to supporting capacity development in PFM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Five case study countries: Lesotho, Nepal, Mali, Morocco and Rwanda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Semi- structured interview proc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understanding/meaning of key terms, capacity development (CD), reform and PFM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ontent, form and duration of CD support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process of design, implementation and assessment;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and sustainability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Nepal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40" y="1484280"/>
            <a:ext cx="851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5122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d hoc interventions, predominantly based on technical training and supply driven assistance, government not seen as in driving sea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448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Need to train right person on right course for right reason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radual move to more coordinated and focussed support with some recognition of political situation, but not of how society/organisations operat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imited local ownership/management of technical assistance, complaints over micro management, concerns over ‘cut and paste’ approac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not assessed and sustainability constrained by a number of factors e.g. Frequent rotation of senior personnel, low status of financial personn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873720" indent="-5122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Lesoth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comprising of traditional technical ‘fixes’ but addressing issues of professionaliz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evel of ‘government’ ownership declined over time, all affected bodies not on board from the outse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t operational level, preferred technical assistance, those who had practical experience. At micro level, internal CD of organisation, which is emphasising ‘human element’ making progres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hange management support did not go beyond the ‘communication philosophy’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generally and of professionalization process 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f you train them they leave?”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Rwanda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supported by limited number of knowledgeable donors, high level of mutual trust and respec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Major transformation, but high level of political support with clear vision (even if not realistic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Joint selection and management of TA, monitoring done by counterparts/senior government officials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nitial attempts at professionalization failed, poor selection process, broader educational issues need to be addressed + high leak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– still highly questionable, shared vision ?, very small civil service, flat pay system, personal motivation issues not address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orocc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High level support by the King, but shared vision across all senior management still being sough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The Trésorerie Générale du Royaume (TGR) has sequenced its reform efforts taking account of capacity issues/scope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Focus on tools viewed as being to the detriment of a focus on enabling people to use those tools for the benefit of their organisation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overnment manage technical assistance, effective use of institutional twinning arrange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Need for donors to adopt flexible approach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ali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Lack of involvement of parliament and audit together with protracted discussions over methodology seen as reducing country ownership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WAEMU directives – so direction prescribed, but </a:t>
            </a: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equencing of reforms has not taken into account country context. Also concerns raised that </a:t>
            </a: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values, beliefs, ways of doing things not respected – e.g. audit model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refully formulated plans are addressing a number of institutional, organisational and individual capacity development issue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here is a change management strategy, the implementation of which is headed by a dedicated unit; however addressing the influence of vested interests and the need to take into account motivational issues remain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Understanding and meaning of key term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Variations exist between governments, between donors and between government and donors leading to some tension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9" name="Picture 5" descr="Drawing Cross talking.jpg"/>
          <p:cNvPicPr/>
          <p:nvPr/>
        </p:nvPicPr>
        <p:blipFill>
          <a:blip r:embed="rId1"/>
          <a:stretch/>
        </p:blipFill>
        <p:spPr>
          <a:xfrm>
            <a:off x="1187280" y="3068640"/>
            <a:ext cx="67694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till mainly support to new ‘technical’ tools and approaches (MTEF, IFMIS, TSA), conventional training/workshop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In general focus on traditional imports, not finding solutions to actual (and shared) problems, very limited innovation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Limited understanding (incorporation) of local context by donor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imescales still appear to fit donor programming requirement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pacity Development and change management link not clearly addressed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Recognition only of need for communication strategies and political will (leadership) but not the overall dynamics of change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Christoforos Korakas</cp:lastModifiedBy>
  <cp:lastPrinted>2011-06-27T14:49:09Z</cp:lastPrinted>
  <dcterms:modified xsi:type="dcterms:W3CDTF">2011-07-27T14:11:08Z</dcterms:modified>
  <cp:revision>90</cp:revision>
  <dc:subject/>
  <dc:title>Slide 1</dc:title>
</cp:coreProperties>
</file>