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5820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041859-CF18-4058-8788-E7D50A801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568A15-9ABF-4994-B5B3-2DB19F6AC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AECD28-E6C5-494D-9E7A-55B1512A0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2EE48-2D6B-41CD-BD7E-DABA68CA4D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C24B7-06B8-4171-AFD3-960100CAA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83A86A-1FD5-4455-A6B5-0B43B356D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ly Y/N questions allow a spectrum 0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D4261-248C-46E6-B7E3-DDE955A23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UNI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51F143-B047-4A67-9D8D-C612688AC7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CCAF90-13FE-407E-A110-633529D7E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420C76-D33C-40EC-8390-CA1226C2F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8B063-1EE7-4E18-A711-C3A83A2E6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6676AD-8A63-42AD-9860-47A6B6BF7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020EB4-58D5-459B-B83D-F6EF91AF79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2D1A8-CBF3-4377-A512-C93E7569EE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B23BEC-B2F2-40CA-9D95-387FDECE9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2080" y="73836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13B4D6-C01A-4212-ADAA-4B6A4A2F5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755BED-4A76-4248-9672-D2EEB15F92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85C12A-CB17-4270-BFBB-9E576FBBC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2DC-78D0-437F-B456-85B591BE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CCC-6F99-4F9E-9D7B-9A23C9F1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E1B-1F20-4C84-B5F2-58C6EF2D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51A-1858-4BD5-B905-FC110291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16C-8C87-4716-B83A-CE959976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FA1-5922-49CF-B9F5-BD7EABF0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E35-4C13-4848-8ED1-4DC84994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D17-BB6B-43C5-B957-219F78D2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46A-7DA1-43B6-81B3-3E011FD8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62A-E40D-417D-BA0C-4C1B8F84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068-9E36-408E-B8C7-848ED82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9CC-B4C2-4FE7-8B5D-043A8C61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2011-8C6D-4881-8ABF-FEDDF8DDCE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DC78-4809-4E4D-8D51-ACF52BC34ED0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48440" y="5645160"/>
            <a:ext cx="1000440" cy="11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C6FB-8E13-47A5-9D2D-ED69160F54B9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0720" y="114480"/>
            <a:ext cx="8962920" cy="40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82c8"/>
                </a:solidFill>
                <a:latin typeface="Verdana"/>
              </a:rPr>
              <a:t>DG for Development and Cooperation - Europeaid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82c8"/>
                </a:solidFill>
                <a:latin typeface="Verdana"/>
              </a:rPr>
              <a:t>Directorate B : Quality and Impact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82c8"/>
                </a:solidFill>
                <a:latin typeface="Verdana"/>
              </a:rPr>
              <a:t>Unit B1 : QUALITY OF DELIVERY SYSTE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82c8"/>
                </a:solidFill>
                <a:latin typeface="Verdana"/>
              </a:rPr>
              <a:t>Technical Cooperation Reform</a:t>
            </a:r>
            <a:br>
              <a:rPr sz="3600"/>
            </a:br>
            <a:r>
              <a:rPr b="1" lang="en-GB" sz="2700" spc="-1" strike="noStrike">
                <a:solidFill>
                  <a:srgbClr val="0082c8"/>
                </a:solidFill>
                <a:latin typeface="Verdana"/>
              </a:rPr>
              <a:t>What has been achieved ?</a:t>
            </a:r>
            <a:br>
              <a:rPr sz="2700"/>
            </a:br>
            <a:r>
              <a:rPr b="1" lang="en-GB" sz="2700" spc="-1" strike="noStrike">
                <a:solidFill>
                  <a:srgbClr val="0082c8"/>
                </a:solidFill>
                <a:latin typeface="Verdana"/>
              </a:rPr>
              <a:t>What story does the monitoring tell? 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9120" y="4608000"/>
            <a:ext cx="70102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103c72"/>
                </a:solidFill>
                <a:latin typeface="Verdana"/>
              </a:rPr>
              <a:t>Brussels, 4th  July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483D-E99F-497C-A201-AEC5829EB778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7440" y="0"/>
            <a:ext cx="86868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Comparison of CD performance TC / non-TC projects for the year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4487760"/>
            <a:ext cx="857088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397 TC projects (Technical assistance, etc.) that contribute to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585 non TC projects (NGOs, etc.), but do contribute to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Contribution of TC and « Non TC » projects to Capacity Development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hart 3" descr=""/>
          <p:cNvPicPr/>
          <p:nvPr/>
        </p:nvPicPr>
        <p:blipFill>
          <a:blip r:embed="rId1"/>
          <a:stretch/>
        </p:blipFill>
        <p:spPr>
          <a:xfrm>
            <a:off x="892080" y="763560"/>
            <a:ext cx="7369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60B5-3ADB-4205-A669-7BB856AB3424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8520" y="-246240"/>
            <a:ext cx="8229600" cy="10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Performance by qualit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9000" y="435600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3c72"/>
                </a:solidFill>
                <a:uFillTx/>
                <a:latin typeface="Arial"/>
              </a:rPr>
              <a:t>2 weak criteria 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1) Harmonisation/coordination  : Why ? Length of start-up phase + lack of flexi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2) Results orientation : Why ? Lack of internal monitoring and overambitious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3c72"/>
                </a:solidFill>
                <a:uFillTx/>
                <a:latin typeface="Arial"/>
              </a:rPr>
              <a:t>Fragile States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 : Context is more complicated (formal and informal power relationships) + capacity of formal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Chart 5" descr=""/>
          <p:cNvPicPr/>
          <p:nvPr/>
        </p:nvPicPr>
        <p:blipFill>
          <a:blip r:embed="rId1"/>
          <a:stretch/>
        </p:blipFill>
        <p:spPr>
          <a:xfrm>
            <a:off x="1309680" y="649440"/>
            <a:ext cx="6691320" cy="3714480"/>
          </a:xfrm>
          <a:prstGeom prst="rect">
            <a:avLst/>
          </a:prstGeom>
          <a:ln w="0">
            <a:noFill/>
          </a:ln>
        </p:spPr>
      </p:pic>
      <p:sp>
        <p:nvSpPr>
          <p:cNvPr id="125" name="Line 5"/>
          <p:cNvSpPr/>
          <p:nvPr/>
        </p:nvSpPr>
        <p:spPr>
          <a:xfrm flipV="1">
            <a:off x="5834160" y="1133280"/>
            <a:ext cx="0" cy="2761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6072120" y="1738080"/>
            <a:ext cx="0" cy="27612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76920" y="1033560"/>
            <a:ext cx="28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3300"/>
                </a:solidFill>
                <a:latin typeface="Arial"/>
              </a:rPr>
              <a:t>Fragile States (medium/high limi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027840" y="1612800"/>
            <a:ext cx="267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3300"/>
                </a:solidFill>
                <a:latin typeface="Arial"/>
              </a:rPr>
              <a:t>Fragile States (medium/high limit</a:t>
            </a: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1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F8D4-A3F1-4371-AF9A-8C7FD130DCFF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Compiled grades by implementing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9720" y="490968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Finding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NGOs (local and international): high s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Twinning: Low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International organisations: relatively low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hart 3" descr=""/>
          <p:cNvPicPr/>
          <p:nvPr/>
        </p:nvPicPr>
        <p:blipFill>
          <a:blip r:embed="rId1"/>
          <a:stretch/>
        </p:blipFill>
        <p:spPr>
          <a:xfrm>
            <a:off x="907920" y="782640"/>
            <a:ext cx="72424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748F-660D-4397-931E-567AAE63C7C2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746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omparison of performance between 129 ROM reports and EAMRs</a:t>
            </a: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82c8"/>
                </a:solidFill>
                <a:latin typeface="Verdana"/>
              </a:rPr>
              <a:t>EUD self assessment vs. extern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47066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03c72"/>
                </a:solidFill>
                <a:latin typeface="Arial"/>
              </a:rPr>
              <a:t>Finding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03c72"/>
                </a:solidFill>
                <a:latin typeface="Arial"/>
              </a:rPr>
              <a:t>Scoring given by EUDs are less extr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03c72"/>
                </a:solidFill>
                <a:latin typeface="Arial"/>
              </a:rPr>
              <a:t>Internal monitoring coherent with external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03c72"/>
                </a:solidFill>
                <a:latin typeface="Arial"/>
              </a:rPr>
              <a:t>Both should be purs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hart 3" descr=""/>
          <p:cNvPicPr/>
          <p:nvPr/>
        </p:nvPicPr>
        <p:blipFill>
          <a:blip r:embed="rId1"/>
          <a:stretch/>
        </p:blipFill>
        <p:spPr>
          <a:xfrm>
            <a:off x="977760" y="1160640"/>
            <a:ext cx="70027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B21-97A0-434D-AD06-D2D2208D2FFF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2c8"/>
                </a:solidFill>
                <a:latin typeface="Verdana"/>
              </a:rPr>
              <a:t>Technical Cooperation Reform: Procedure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8120" y="1197000"/>
            <a:ext cx="8191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Local expertise : Introduction of an alternative procedure to Framework contract (Negotiated Competitive proced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Remains too rare : Too complicated compared to FW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UCS and Substantial decentr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Only used in exceptional cases : the 5 pillars audit is deter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Contracting auth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In EDF, Authorising Officer is usually local, in other regions, EC remains Contracting Authority over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Progress is more in practices or strategic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General Budget Support bo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Parallel PIUs 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More attention is given to references of 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0B74-F326-495D-B48C-8AE773979BF5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2c8"/>
                </a:solidFill>
                <a:latin typeface="Verdana"/>
              </a:rPr>
              <a:t>Technical Cooperation Reform  implementation lessons (1/3)</a:t>
            </a:r>
            <a:r>
              <a:rPr b="1" lang="fr-BE" sz="3200" spc="-1" strike="noStrike">
                <a:solidFill>
                  <a:srgbClr val="0082c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960" y="977400"/>
            <a:ext cx="819144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03c72"/>
                </a:solidFill>
                <a:latin typeface="Arial"/>
              </a:rPr>
              <a:t>Widen the scope : CD support is more relevant than TC on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24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103c72"/>
                </a:solidFill>
                <a:latin typeface="Arial"/>
              </a:rPr>
              <a:t>Out of 1009 projects : 97% have the potential to contribute to C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24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103c72"/>
                </a:solidFill>
                <a:latin typeface="Arial"/>
              </a:rPr>
              <a:t>397 TC projects contribute to C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24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103c72"/>
                </a:solidFill>
                <a:latin typeface="Arial"/>
              </a:rPr>
              <a:t>585 non TC projects </a:t>
            </a:r>
            <a:r>
              <a:rPr b="0" lang="fr-BE" sz="2100" spc="-1" strike="noStrike" u="sng">
                <a:solidFill>
                  <a:srgbClr val="103c72"/>
                </a:solidFill>
                <a:uFillTx/>
                <a:latin typeface="Arial"/>
              </a:rPr>
              <a:t>that equally contribute to CD</a:t>
            </a:r>
            <a:r>
              <a:rPr b="0" lang="fr-BE" sz="2100" spc="-1" strike="noStrike">
                <a:solidFill>
                  <a:srgbClr val="103c72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Non TC projects can even have better mark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Reflexion on CD needs to be done before rushing into 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What is needed is a good support mix for CD (BS, NGO, TC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158E-65D2-459E-9AD6-DEC7560D0876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2c8"/>
                </a:solidFill>
                <a:latin typeface="Verdana"/>
              </a:rPr>
              <a:t>Technical Cooperation Reform  implementation lessons (2/3)</a:t>
            </a:r>
            <a:r>
              <a:rPr b="1" lang="fr-BE" sz="32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fr-BE" sz="3200" spc="-1" strike="noStrike">
                <a:solidFill>
                  <a:srgbClr val="0082c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8120" y="1197000"/>
            <a:ext cx="8191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103c72"/>
                </a:solidFill>
                <a:latin typeface="Arial"/>
              </a:rPr>
              <a:t>Proced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Procedures and practices need to be improved towards more adaptativ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A reflexion is needed regarding further improvement of procedures towards local expertise and lo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Certain forms of twinning have difficulties to adapt to « complex »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5C54-BF52-48C4-98FC-DCD6208769A9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82c8"/>
                </a:solidFill>
                <a:latin typeface="Verdana"/>
              </a:rPr>
              <a:t>Technical Cooperation Reform  implementation lessons (3/3)</a:t>
            </a:r>
            <a:r>
              <a:rPr b="1" lang="fr-BE" sz="3200" spc="-1" strike="noStrike">
                <a:solidFill>
                  <a:srgbClr val="0082c8"/>
                </a:solidFill>
                <a:latin typeface="Verdana"/>
              </a:rPr>
              <a:t>	</a:t>
            </a:r>
            <a:r>
              <a:rPr b="1" lang="fr-BE" sz="3200" spc="-1" strike="noStrike">
                <a:solidFill>
                  <a:srgbClr val="0082c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8120" y="1197000"/>
            <a:ext cx="8191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Quality contro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Continue a quality approach – quality and process is a promise of sustainable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Internal Quality control / internal monitoring is broadly reliable and needs to be purs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Feed-back loops need to be in place for low perfo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Division of Labour is not equal to improving CD effectiveness. Superimposing 2 donors systems, which can have a cost in terms of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Invest more in the context analysis in fragile states :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Clean th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6539-00DB-48A5-A225-0A761594EEC8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82c8"/>
                </a:solidFill>
                <a:latin typeface="Verdana"/>
              </a:rPr>
              <a:t>Capacity Development:</a:t>
            </a:r>
            <a:br>
              <a:rPr sz="3200"/>
            </a:br>
            <a:r>
              <a:rPr b="1" lang="fr-FR" sz="3200" spc="-1" strike="noStrike">
                <a:solidFill>
                  <a:srgbClr val="0082c8"/>
                </a:solidFill>
                <a:latin typeface="Verdana"/>
              </a:rPr>
              <a:t>Challenges</a:t>
            </a:r>
            <a:r>
              <a:rPr b="1" lang="fr-BE" sz="3200" spc="-1" strike="noStrike">
                <a:solidFill>
                  <a:srgbClr val="0082c8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8120" y="1197000"/>
            <a:ext cx="8191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03c72"/>
                </a:solidFill>
                <a:latin typeface="Arial"/>
              </a:rPr>
              <a:t>How can we be more effectiv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03c72"/>
                </a:solidFill>
                <a:latin typeface="Arial"/>
              </a:rPr>
              <a:t>How to evaluate CD outcom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03c72"/>
                </a:solidFill>
                <a:latin typeface="Arial"/>
              </a:rPr>
              <a:t>How can we maintain a CD approach while facing an increased pressure for measurable resul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103c72"/>
                </a:solidFill>
                <a:latin typeface="Arial"/>
              </a:rPr>
              <a:t>How can we be creativ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D343-C7DF-4106-B150-7DBDDD4D3908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What</a:t>
            </a:r>
            <a:r>
              <a:rPr b="1" lang="fr-BE" sz="28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is</a:t>
            </a:r>
            <a:r>
              <a:rPr b="1" lang="fr-BE" sz="28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Technical</a:t>
            </a:r>
            <a:r>
              <a:rPr b="1" lang="fr-BE" sz="28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Cooperation</a:t>
            </a:r>
            <a:r>
              <a:rPr b="1" lang="fr-BE" sz="2800" spc="-1" strike="noStrike">
                <a:solidFill>
                  <a:srgbClr val="3399ff"/>
                </a:solidFill>
                <a:latin typeface="Verdana"/>
              </a:rPr>
              <a:t> </a:t>
            </a: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1080" y="1181160"/>
            <a:ext cx="4884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Arial"/>
              </a:rPr>
              <a:t>Know-how provision in the form of short and long term personnel, training, twinning, and associated costs (programme estimates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1"/>
          <a:stretch/>
        </p:blipFill>
        <p:spPr>
          <a:xfrm>
            <a:off x="4905360" y="911160"/>
            <a:ext cx="1878120" cy="271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7359480" y="1779480"/>
            <a:ext cx="1420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Breakdow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of TC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Arial"/>
              </a:rPr>
              <a:t>in 20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7520" y="2773440"/>
            <a:ext cx="355608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Arial"/>
                <a:ea typeface="Arial"/>
              </a:rPr>
              <a:t>An input</a:t>
            </a:r>
            <a:r>
              <a:rPr b="0" lang="fr-BE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fr-BE" sz="2000" spc="-1" strike="noStrike">
                <a:solidFill>
                  <a:srgbClr val="333399"/>
                </a:solidFill>
                <a:latin typeface="Arial"/>
                <a:ea typeface="Arial"/>
              </a:rPr>
              <a:t>= 1,4 billon EUR signed in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Arial"/>
                <a:ea typeface="Arial"/>
              </a:rPr>
              <a:t>Uneasy to estimate with precis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3399"/>
                </a:solidFill>
                <a:latin typeface="Arial"/>
                <a:ea typeface="Arial"/>
              </a:rPr>
              <a:t>Technical cooperation by EC is on a lowering tr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3548160" y="3665520"/>
            <a:ext cx="43084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CFFD-0C22-407E-83F4-72704286C143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What is </a:t>
            </a:r>
            <a:r>
              <a:rPr b="1" lang="fr-FR" sz="2800" spc="-1" strike="noStrike">
                <a:solidFill>
                  <a:srgbClr val="0082c8"/>
                </a:solidFill>
                <a:latin typeface="Verdana"/>
              </a:rPr>
              <a:t>Capacity Development </a:t>
            </a: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6280" y="921960"/>
            <a:ext cx="8153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376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5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CD 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: the process by which one maintains, creates capac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Many ways of supporting C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103c7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160640" y="2833560"/>
            <a:ext cx="4330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26"/>
          <p:cNvGrpSpPr/>
          <p:nvPr/>
        </p:nvGrpSpPr>
        <p:grpSpPr>
          <a:xfrm>
            <a:off x="1633680" y="5003640"/>
            <a:ext cx="1028520" cy="567000"/>
            <a:chOff x="1633680" y="5003640"/>
            <a:chExt cx="1028520" cy="567000"/>
          </a:xfrm>
        </p:grpSpPr>
        <p:sp>
          <p:nvSpPr>
            <p:cNvPr id="64" name="Oval 127"/>
            <p:cNvSpPr/>
            <p:nvPr/>
          </p:nvSpPr>
          <p:spPr>
            <a:xfrm>
              <a:off x="1633680" y="5003640"/>
              <a:ext cx="1028520" cy="567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8"/>
            <p:cNvSpPr/>
            <p:nvPr/>
          </p:nvSpPr>
          <p:spPr>
            <a:xfrm>
              <a:off x="1747800" y="5230440"/>
              <a:ext cx="798120" cy="11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3366"/>
                  </a:solidFill>
                  <a:latin typeface="Arial"/>
                </a:rPr>
                <a:t>Policy</a:t>
              </a:r>
              <a:r>
                <a:rPr b="1" lang="fr-BE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BE" sz="900" spc="-1" strike="noStrike">
                  <a:solidFill>
                    <a:srgbClr val="003366"/>
                  </a:solidFill>
                  <a:latin typeface="Arial"/>
                </a:rPr>
                <a:t>Dialogu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129"/>
          <p:cNvSpPr/>
          <p:nvPr/>
        </p:nvSpPr>
        <p:spPr>
          <a:xfrm>
            <a:off x="2604960" y="4032360"/>
            <a:ext cx="1005120" cy="366480"/>
          </a:xfrm>
          <a:prstGeom prst="line">
            <a:avLst/>
          </a:prstGeom>
          <a:ln w="22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0"/>
          <p:cNvSpPr/>
          <p:nvPr/>
        </p:nvSpPr>
        <p:spPr>
          <a:xfrm flipV="1">
            <a:off x="2548080" y="4552920"/>
            <a:ext cx="1090440" cy="14400"/>
          </a:xfrm>
          <a:prstGeom prst="line">
            <a:avLst/>
          </a:prstGeom>
          <a:ln w="22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1"/>
          <p:cNvSpPr/>
          <p:nvPr/>
        </p:nvSpPr>
        <p:spPr>
          <a:xfrm flipV="1">
            <a:off x="2606760" y="4622400"/>
            <a:ext cx="1019160" cy="523800"/>
          </a:xfrm>
          <a:prstGeom prst="line">
            <a:avLst/>
          </a:prstGeom>
          <a:ln w="22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52"/>
          <p:cNvGrpSpPr/>
          <p:nvPr/>
        </p:nvGrpSpPr>
        <p:grpSpPr>
          <a:xfrm>
            <a:off x="1590840" y="3648240"/>
            <a:ext cx="1028520" cy="566640"/>
            <a:chOff x="1590840" y="3648240"/>
            <a:chExt cx="1028520" cy="566640"/>
          </a:xfrm>
        </p:grpSpPr>
        <p:sp>
          <p:nvSpPr>
            <p:cNvPr id="70" name="Oval 133"/>
            <p:cNvSpPr/>
            <p:nvPr/>
          </p:nvSpPr>
          <p:spPr>
            <a:xfrm>
              <a:off x="1590840" y="3648240"/>
              <a:ext cx="1028520" cy="56664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34"/>
            <p:cNvSpPr/>
            <p:nvPr/>
          </p:nvSpPr>
          <p:spPr>
            <a:xfrm>
              <a:off x="1890720" y="3774960"/>
              <a:ext cx="53604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3366"/>
                  </a:solidFill>
                  <a:latin typeface="Arial"/>
                </a:rPr>
                <a:t>Budget support, NGO..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35"/>
          <p:cNvGrpSpPr/>
          <p:nvPr/>
        </p:nvGrpSpPr>
        <p:grpSpPr>
          <a:xfrm>
            <a:off x="1547640" y="4325760"/>
            <a:ext cx="1028880" cy="567000"/>
            <a:chOff x="1547640" y="4325760"/>
            <a:chExt cx="1028880" cy="567000"/>
          </a:xfrm>
        </p:grpSpPr>
        <p:sp>
          <p:nvSpPr>
            <p:cNvPr id="73" name="Oval 136"/>
            <p:cNvSpPr/>
            <p:nvPr/>
          </p:nvSpPr>
          <p:spPr>
            <a:xfrm>
              <a:off x="1547640" y="4325760"/>
              <a:ext cx="1028880" cy="56700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37"/>
            <p:cNvSpPr/>
            <p:nvPr/>
          </p:nvSpPr>
          <p:spPr>
            <a:xfrm>
              <a:off x="1661760" y="4552560"/>
              <a:ext cx="798120" cy="11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900" spc="-1" strike="noStrike">
                  <a:solidFill>
                    <a:srgbClr val="003366"/>
                  </a:solidFill>
                  <a:latin typeface="Arial"/>
                </a:rPr>
                <a:t>TC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39"/>
          <p:cNvGrpSpPr/>
          <p:nvPr/>
        </p:nvGrpSpPr>
        <p:grpSpPr>
          <a:xfrm>
            <a:off x="6480000" y="4181400"/>
            <a:ext cx="1414800" cy="600120"/>
            <a:chOff x="6480000" y="4181400"/>
            <a:chExt cx="1414800" cy="600120"/>
          </a:xfrm>
        </p:grpSpPr>
        <p:sp>
          <p:nvSpPr>
            <p:cNvPr id="76" name="Oval 140"/>
            <p:cNvSpPr/>
            <p:nvPr/>
          </p:nvSpPr>
          <p:spPr>
            <a:xfrm>
              <a:off x="6480000" y="4181400"/>
              <a:ext cx="1414800" cy="60012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41"/>
            <p:cNvSpPr/>
            <p:nvPr/>
          </p:nvSpPr>
          <p:spPr>
            <a:xfrm>
              <a:off x="6636960" y="4421520"/>
              <a:ext cx="109764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3366"/>
                  </a:solidFill>
                  <a:latin typeface="Arial"/>
                </a:rPr>
                <a:t>Knowledge</a:t>
              </a:r>
              <a:r>
                <a:rPr b="1" lang="fr-BE" sz="900" spc="-1" strike="noStrike">
                  <a:solidFill>
                    <a:srgbClr val="003366"/>
                  </a:solidFill>
                  <a:latin typeface="Arial"/>
                </a:rPr>
                <a:t> Sharing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AutoShape 142"/>
          <p:cNvSpPr/>
          <p:nvPr/>
        </p:nvSpPr>
        <p:spPr>
          <a:xfrm rot="11316000">
            <a:off x="4857480" y="3825720"/>
            <a:ext cx="2479680" cy="1376640"/>
          </a:xfrm>
          <a:custGeom>
            <a:avLst/>
            <a:gdLst>
              <a:gd name="textAreaLeft" fmla="*/ 362880 w 2479680"/>
              <a:gd name="textAreaRight" fmla="*/ 2116800 w 2479680"/>
              <a:gd name="textAreaTop" fmla="*/ 201600 h 1376640"/>
              <a:gd name="textAreaBottom" fmla="*/ 1175040 h 1376640"/>
            </a:gdLst>
            <a:ahLst/>
            <a:rect l="textAreaLeft" t="textAreaTop" r="textAreaRight" b="textAreaBottom"/>
            <a:pathLst>
              <a:path w="21600" h="21600">
                <a:moveTo>
                  <a:pt x="17353" y="2215"/>
                </a:moveTo>
                <a:cubicBezTo>
                  <a:pt x="15471" y="778"/>
                  <a:pt x="13168" y="0"/>
                  <a:pt x="10800" y="0"/>
                </a:cubicBezTo>
                <a:cubicBezTo>
                  <a:pt x="5404" y="-1"/>
                  <a:pt x="837" y="3981"/>
                  <a:pt x="101" y="9326"/>
                </a:cubicBezTo>
                <a:cubicBezTo>
                  <a:pt x="837" y="3981"/>
                  <a:pt x="5404" y="-1"/>
                  <a:pt x="10800" y="0"/>
                </a:cubicBezTo>
                <a:cubicBezTo>
                  <a:pt x="13168" y="0"/>
                  <a:pt x="15471" y="778"/>
                  <a:pt x="17353" y="2215"/>
                </a:cubicBezTo>
                <a:lnTo>
                  <a:pt x="18991" y="69"/>
                </a:lnTo>
                <a:lnTo>
                  <a:pt x="19499" y="3853"/>
                </a:lnTo>
                <a:lnTo>
                  <a:pt x="15715" y="4361"/>
                </a:lnTo>
                <a:lnTo>
                  <a:pt x="17353" y="2215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3"/>
          <p:cNvSpPr/>
          <p:nvPr/>
        </p:nvSpPr>
        <p:spPr>
          <a:xfrm>
            <a:off x="4941720" y="3632040"/>
            <a:ext cx="2268720" cy="1192320"/>
          </a:xfrm>
          <a:custGeom>
            <a:avLst/>
            <a:gdLst>
              <a:gd name="textAreaLeft" fmla="*/ 331920 w 2268720"/>
              <a:gd name="textAreaRight" fmla="*/ 1936800 w 2268720"/>
              <a:gd name="textAreaTop" fmla="*/ 174600 h 1192320"/>
              <a:gd name="textAreaBottom" fmla="*/ 1017720 h 1192320"/>
            </a:gdLst>
            <a:ahLst/>
            <a:rect l="textAreaLeft" t="textAreaTop" r="textAreaRight" b="textAreaBottom"/>
            <a:pathLst>
              <a:path w="21600" h="21600">
                <a:moveTo>
                  <a:pt x="20860" y="6871"/>
                </a:moveTo>
                <a:cubicBezTo>
                  <a:pt x="19242" y="2727"/>
                  <a:pt x="15248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248" y="0"/>
                  <a:pt x="19242" y="2727"/>
                  <a:pt x="20860" y="6871"/>
                </a:cubicBezTo>
                <a:lnTo>
                  <a:pt x="23375" y="5889"/>
                </a:lnTo>
                <a:lnTo>
                  <a:pt x="21842" y="9386"/>
                </a:lnTo>
                <a:lnTo>
                  <a:pt x="18345" y="7853"/>
                </a:lnTo>
                <a:lnTo>
                  <a:pt x="20860" y="6871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4"/>
          <p:cNvSpPr/>
          <p:nvPr/>
        </p:nvSpPr>
        <p:spPr>
          <a:xfrm>
            <a:off x="3490920" y="417996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apacity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5"/>
          <p:cNvSpPr/>
          <p:nvPr/>
        </p:nvSpPr>
        <p:spPr>
          <a:xfrm flipV="1">
            <a:off x="6256440" y="1741320"/>
            <a:ext cx="476280" cy="4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6"/>
          <p:cNvSpPr/>
          <p:nvPr/>
        </p:nvSpPr>
        <p:spPr>
          <a:xfrm>
            <a:off x="6238800" y="2146320"/>
            <a:ext cx="555840" cy="35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7"/>
          <p:cNvSpPr/>
          <p:nvPr/>
        </p:nvSpPr>
        <p:spPr>
          <a:xfrm>
            <a:off x="6738840" y="1550880"/>
            <a:ext cx="26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to produce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8"/>
          <p:cNvSpPr/>
          <p:nvPr/>
        </p:nvSpPr>
        <p:spPr>
          <a:xfrm>
            <a:off x="6764400" y="2244600"/>
            <a:ext cx="26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to innovate, adapt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50"/>
          <p:cNvGrpSpPr/>
          <p:nvPr/>
        </p:nvGrpSpPr>
        <p:grpSpPr>
          <a:xfrm>
            <a:off x="455760" y="5756400"/>
            <a:ext cx="7318080" cy="903240"/>
            <a:chOff x="455760" y="5756400"/>
            <a:chExt cx="7318080" cy="903240"/>
          </a:xfrm>
        </p:grpSpPr>
        <p:sp>
          <p:nvSpPr>
            <p:cNvPr id="86" name="Rectangle 4"/>
            <p:cNvSpPr/>
            <p:nvPr/>
          </p:nvSpPr>
          <p:spPr>
            <a:xfrm>
              <a:off x="455760" y="5756400"/>
              <a:ext cx="7318080" cy="90324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49"/>
            <p:cNvSpPr/>
            <p:nvPr/>
          </p:nvSpPr>
          <p:spPr>
            <a:xfrm>
              <a:off x="507960" y="5820120"/>
              <a:ext cx="715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103c72"/>
                  </a:solidFill>
                  <a:latin typeface="Arial"/>
                </a:rPr>
                <a:t>If Capacity Development support is successful,  it creates an exit opportunity from the traditional aid relationsh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31"/>
          <p:cNvSpPr/>
          <p:nvPr/>
        </p:nvSpPr>
        <p:spPr>
          <a:xfrm>
            <a:off x="476280" y="1908000"/>
            <a:ext cx="589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•    </a:t>
            </a:r>
            <a:r>
              <a:rPr b="0" lang="en-GB" sz="2000" spc="-1" strike="noStrike">
                <a:solidFill>
                  <a:srgbClr val="103c72"/>
                </a:solidFill>
                <a:latin typeface="Arial"/>
              </a:rPr>
              <a:t>Capacity: Ability to manage affairs successfu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F73F-016F-4F3A-803D-665519696BBD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9600" y="343080"/>
            <a:ext cx="82868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Technical Cooperation Reform context: </a:t>
            </a:r>
            <a:br>
              <a:rPr sz="2800"/>
            </a:b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Comments from Partner Governments</a:t>
            </a:r>
            <a:br>
              <a:rPr sz="2800"/>
            </a:b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in 2007-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74280"/>
            <a:ext cx="870912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2999"/>
              </a:spcBef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Technical Assistants are, in many cases, primarily accountable to the EU Delegation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2999"/>
              </a:spcBef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Technical Assistance often diverges from its essential purpose of capacity development and focuses on substitution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2999"/>
              </a:spcBef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EC procedures are not always conducive to EC intentions on aid effectiveness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2999"/>
              </a:spcBef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Donor coordination : the government’s responsibility 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to coordinate the assistance is not yet fully appreciated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826-7002-4332-8B73-3D8C8F63B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c8"/>
                </a:solidFill>
                <a:latin typeface="Verdana"/>
              </a:rPr>
              <a:t>Capacity Development: </a:t>
            </a:r>
            <a:br>
              <a:rPr sz="2800"/>
            </a:br>
            <a:r>
              <a:rPr b="1" lang="en-US" sz="2800" spc="-1" strike="noStrike">
                <a:solidFill>
                  <a:srgbClr val="0082c8"/>
                </a:solidFill>
                <a:latin typeface="Verdana"/>
              </a:rPr>
              <a:t>EC’s Technical Cooperation Re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7640" y="1582560"/>
            <a:ext cx="841212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03c72"/>
                </a:solidFill>
                <a:latin typeface="Arial"/>
              </a:rPr>
              <a:t>Chronology : </a:t>
            </a:r>
            <a:r>
              <a:rPr b="1" lang="en-US" sz="21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2007 -  Court of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2008 – Principles of the Reform in place, 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2009 – Implementation modalities in pla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2010 – Practical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33360" y="3606840"/>
            <a:ext cx="844704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  <a:ea typeface="Arial"/>
              </a:rPr>
              <a:t>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  <a:ea typeface="Arial"/>
              </a:rPr>
              <a:t>Promotion, dissemination, courses, learning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  <a:ea typeface="Arial"/>
              </a:rPr>
              <a:t>Knowledge sha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  <a:ea typeface="Arial"/>
              </a:rPr>
              <a:t>Energy of individua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  <a:ea typeface="Arial"/>
              </a:rPr>
              <a:t>Visible commitment from the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  <a:ea typeface="Arial"/>
              </a:rPr>
              <a:t>Implementation : Systems and 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92120" y="3149640"/>
            <a:ext cx="279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03c72"/>
                </a:solidFill>
                <a:latin typeface="Arial"/>
              </a:rPr>
              <a:t>Content 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299B-D1AB-4314-A823-703D3D77FFEB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614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2c8"/>
                </a:solidFill>
                <a:latin typeface="Verdana"/>
              </a:rPr>
              <a:t>Capacity Development: capacity4dev.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480" y="786960"/>
            <a:ext cx="818172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Arial"/>
              </a:rPr>
              <a:t>Knowledge  =&gt;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Arial"/>
              </a:rPr>
              <a:t>C4D is promoting Capacity Development as a priority for our cooperation and is supporting capacity in DEVCO : “capacity of the delivery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1) Sharing good practices : Delegations openly reflect and share operational lessons from successfu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2) How to improve quality and impact ? Explaining tools  and passing messages to the fi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Arial"/>
              </a:rPr>
              <a:t>3) Secure collaborative spaces and connect HQ and Delegations, Delegations with Delegations, Member States, Partners, Consultant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103c72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141800" y="1103400"/>
            <a:ext cx="28400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6361-6C53-47DF-BE03-EF069604EF52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Technical Cooperation Reform </a:t>
            </a:r>
            <a:br>
              <a:rPr sz="2800"/>
            </a:b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methodological package and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6080" y="1386000"/>
            <a:ext cx="88279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03c72"/>
                </a:solidFill>
                <a:latin typeface="Arial"/>
              </a:rPr>
              <a:t>Methodology / 5 Technical Cooperation Quality criteria </a:t>
            </a: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Fits the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Results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Coordination and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Programme Implementation 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03c72"/>
                </a:solidFill>
                <a:latin typeface="Arial"/>
              </a:rPr>
              <a:t>Monitoring Systems:</a:t>
            </a:r>
            <a:r>
              <a:rPr b="0" lang="en-US" sz="2200" spc="-1" strike="noStrike">
                <a:solidFill>
                  <a:srgbClr val="103c72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New projects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Quality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Yearly self assessment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EA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External monitoring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Evaluation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Methodology under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802560" y="2276640"/>
            <a:ext cx="1304640" cy="10094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7"/>
          <p:cNvSpPr/>
          <p:nvPr/>
        </p:nvSpPr>
        <p:spPr>
          <a:xfrm>
            <a:off x="6053040" y="1814400"/>
            <a:ext cx="638280" cy="1770120"/>
          </a:xfrm>
          <a:custGeom>
            <a:avLst/>
            <a:gdLst>
              <a:gd name="textAreaLeft" fmla="*/ 0 w 638280"/>
              <a:gd name="textAreaRight" fmla="*/ 230400 w 638280"/>
              <a:gd name="textAreaTop" fmla="*/ 46080 h 1770120"/>
              <a:gd name="textAreaBottom" fmla="*/ 1724040 h 177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6936-285B-4098-BF54-C31DF241526A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2c8"/>
                </a:solidFill>
                <a:latin typeface="Verdana"/>
              </a:rPr>
              <a:t>Capacity Development:</a:t>
            </a: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 </a:t>
            </a:r>
            <a:br>
              <a:rPr sz="2800"/>
            </a:b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Technical Cooperation Re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480" y="1196640"/>
            <a:ext cx="8181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103c72"/>
                </a:solidFill>
                <a:latin typeface="Arial"/>
              </a:rPr>
              <a:t>Execution/Monitoring of the TC reform 2010</a:t>
            </a: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213 oQSG check lists (on 350 projec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102 Quality Grids (on 213 TC relevant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574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projects or contracts self-assessed (EAM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3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3c72"/>
                </a:solidFill>
                <a:latin typeface="Arial"/>
              </a:rPr>
              <a:t>1009 external monitoring reports (R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1) Over 50% of projects consistently use the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103c72"/>
                </a:solidFill>
                <a:latin typeface="Arial"/>
              </a:rPr>
              <a:t>2) Consistent results accross the system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247680" y="5024520"/>
            <a:ext cx="7588080" cy="1445040"/>
            <a:chOff x="247680" y="5024520"/>
            <a:chExt cx="7588080" cy="1445040"/>
          </a:xfrm>
        </p:grpSpPr>
        <p:sp>
          <p:nvSpPr>
            <p:cNvPr id="110" name="Rectangle 4"/>
            <p:cNvSpPr/>
            <p:nvPr/>
          </p:nvSpPr>
          <p:spPr>
            <a:xfrm>
              <a:off x="247680" y="5024520"/>
              <a:ext cx="7588080" cy="1378800"/>
            </a:xfrm>
            <a:prstGeom prst="rect">
              <a:avLst/>
            </a:pr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294120" y="5155920"/>
              <a:ext cx="7445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103c72"/>
                  </a:solidFill>
                  <a:latin typeface="Arial"/>
                </a:rPr>
                <a:t>2 out of 3 programmes in line with TC/CD quality criter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103c72"/>
                  </a:solidFill>
                  <a:latin typeface="Arial"/>
                  <a:ea typeface="Arial"/>
                </a:rPr>
                <a:t>Vs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103c72"/>
                  </a:solidFill>
                  <a:latin typeface="Arial"/>
                  <a:ea typeface="Arial"/>
                </a:rPr>
                <a:t>1 out 3 programmes successful as audited by CoA in 200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C340-D034-4B75-80B2-F58AE6E3AA71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Distribution of grades </a:t>
            </a:r>
            <a:br>
              <a:rPr sz="2800"/>
            </a:br>
            <a:r>
              <a:rPr b="1" lang="fr-BE" sz="2800" spc="-1" strike="noStrike">
                <a:solidFill>
                  <a:srgbClr val="0082c8"/>
                </a:solidFill>
                <a:latin typeface="Verdana"/>
              </a:rPr>
              <a:t>for 1009 External Monitor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280" y="5345280"/>
            <a:ext cx="82011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67% of projects have high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8% of projects are a matter of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hart 5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016840" cy="4071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7287480" y="528336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4:40:52Z</dcterms:created>
  <dc:creator>aidco-sd-tech2</dc:creator>
  <dc:description/>
  <dc:language>en-US</dc:language>
  <cp:lastModifiedBy>Audrey Gueudet</cp:lastModifiedBy>
  <dcterms:modified xsi:type="dcterms:W3CDTF">2011-07-06T13:14:21Z</dcterms:modified>
  <cp:revision>224</cp:revision>
  <dc:subject/>
  <dc:title>Slide 1</dc:title>
</cp:coreProperties>
</file>