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32E0-B313-4159-A4CC-0DE13625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A81E-C34C-44DA-B22A-68C3CC82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685-A3B6-43E2-85E4-248A3EE1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F669-CAFE-4105-AF27-07086AE5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63A4-1160-4946-A1C0-76828980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9C0C-22F0-4784-ACFF-9EF3CED7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B843-3118-4068-8A81-1BB428B0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2D09-D594-4E8C-BD67-C100A27C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780D-A787-4A74-BED4-15C46D72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9984-2DF4-47BC-9095-B15EF345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48D5-966C-49BF-BBAB-31C80C8D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E4C8-F40F-425F-9415-2A2BBC4E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B557-21BB-4E84-91CA-17CEAE343B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3CED-4538-43DA-BF83-32AE35629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eek 20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st Effects of a Lack of Spatial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5B74-2C9A-4DC1-AB6C-092AAB3DC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is new infrastructure financ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larger community pay (taxes on existing residents to provide services to new resident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residents of the new community p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Charges = entry fee for urba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iest when you have greenfield and organized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possible when there are multiple 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still possible for servicing in-si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5C02-90FE-4E29-A6A9-5965E2F6C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, Choices, and Trade-Off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charges make explicit the cost of providing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?  There is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another 10 or 20 years for someone else to pa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 and pay for services that you can enjoy now and that increases the value of the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BCF5-5C27-4E87-B111-6952FA199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ase of Wate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and sanitation is the most difficult and expensive infrastructure to pro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Co is one of the better utilities in Africa, but it doesn’t generate enough excess funds through existing tariffs to pay for major network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’t “pre-invest” in new development areas without up-front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3765-BC34-40FC-8EB0-4DA675642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funding for water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 government or local authority – to service a specific industrial or residential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side donors – to provide services to underserved areas, at concessional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al real estate developers?  Effectively paying development charge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ed communities?  Pooling or raising fund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FDD4-012B-4C3F-AE75-91F536EC3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9B6E-5E66-4036-B8E1-0EBBBA075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1D99-1FD8-4204-AA30-F6278092F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and Characteristics of Urban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shi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marketability and transf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ail financial sector / willingness to l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urba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characteristics of urb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E4E3-B076-40A7-A74A-9C3667231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essions of Mase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 to draw conclusions about Maseru and envi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limited planning; some haphazard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“leapfrog”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x of housing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road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15BF-9AE9-4FA7-BF95-17C65FDD7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ion of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: the addition of new res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aw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 cause and consequence of a lack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A33F-5C89-4E5D-B549-AE8723C28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ope of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:  roads and paths, water and sanitation, solid waste management, public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:  schools, health clinics, space for places of w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nities: parks, places for civic gathering, play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sion of (and financing of)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DAF6-402E-4F22-AFBB-5135020C3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 of Unplanned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and monetary costs for transportation and fo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safety and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unclear costs with respect to electricity and solid waste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service providers for later retrofit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ularly high for water and sanitation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2166-C1B5-4D70-92D7-C939BF952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incidental benefits of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(or lack of density) means that existing sanitation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effects of poor sanitation are relatively mi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ible mix in the quality of housing = neighborhoods are not limited to a single incom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866D-5D0F-4C66-A094-F57FDD218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ing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he value of serviced land vs. unserviced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competitive property market, this is the value that society places on thos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or may not be a good approximat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providing thos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seru, cost &gt;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the state of affairs (and wait…)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o reduce the costs of provid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3A14-11C8-4809-9933-2CC39E63C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for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ahead for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human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, enforceable land-use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ble and transparent way to convert land from non-urban to urban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transferable land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7997-FE6E-44A5-8803-B417EC13A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43:31Z</dcterms:created>
  <dc:creator>wb112884</dc:creator>
  <dc:description/>
  <dc:language>en-US</dc:language>
  <cp:lastModifiedBy>new</cp:lastModifiedBy>
  <dcterms:modified xsi:type="dcterms:W3CDTF">2011-04-05T09:09:27Z</dcterms:modified>
  <cp:revision>16</cp:revision>
  <dc:subject/>
  <dc:title>Slide 1</dc:title>
</cp:coreProperties>
</file>