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5FE26-3CB8-4229-BDF0-1AD0185646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5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6F59C-278D-4EE0-9D41-4DCDEEE817A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"/>
          <p:cNvSpPr/>
          <p:nvPr/>
        </p:nvSpPr>
        <p:spPr>
          <a:xfrm>
            <a:off x="3062160" y="522360"/>
            <a:ext cx="3797280" cy="261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27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5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6CEA7-CE81-4BAF-8F2B-8316F475725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"/>
          <p:cNvSpPr/>
          <p:nvPr/>
        </p:nvSpPr>
        <p:spPr>
          <a:xfrm>
            <a:off x="3062160" y="522360"/>
            <a:ext cx="3797280" cy="261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27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609C-4AEB-43A3-BCD6-E4C97BB3A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B931-9F4D-4DA5-BFC2-5DB92E421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6F43-0477-40DB-AC63-7DD248439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0E49-31EF-4264-89CB-979DDD03D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91E76-BBE1-48E8-8E9A-F8399C430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B4C4C-6CAD-4253-8B9F-901F3502F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54998-73BF-4B30-967A-0CCB7347F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552DC-30E4-43A9-B03A-624A17D8F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7DB59-3DED-4A47-B05E-1B3EC16C0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946CC-6B69-4B61-AA39-382CF7BDC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68631-F9BC-4887-8E59-5E2DBA0AA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167B-E83D-4A90-9C04-CD59C8ECC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A293F-0B9C-4FDF-A40F-7E887CB87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70891-55F6-4EF4-8F7D-6FF6BC47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2A539-6D3A-4C8C-8C7F-AE0271D8F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3AEDD-08AE-4255-8348-8F6542BC9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B7419-1163-4290-B0BD-57DA31009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95F3-78EC-416C-A341-B5945B785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C307-845A-4523-89A5-786D26935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B1E7-8915-40FF-B5D7-DF5823DE0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B322-26F9-417A-880C-8A310CCA5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A0BE-84AD-4516-BAF7-FAB936C3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AA05-5AB9-48B5-BDC2-A030FA28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42B6-95F2-49FB-8918-A2A851D0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60F21-1D01-443A-BE47-ED69F9BDEC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E92A1-4127-4F02-B65E-8CEE4B99BE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Lesotho Water Week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emin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52280" y="2057400"/>
            <a:ext cx="8763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llenges of urbanization for water and sanitation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hakoe Clu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eru,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pril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: E. M. Leso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77E34-3EBB-4953-9C13-E89FF065014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2"/>
          <p:cNvSpPr/>
          <p:nvPr/>
        </p:nvSpPr>
        <p:spPr>
          <a:xfrm>
            <a:off x="247680" y="1371600"/>
            <a:ext cx="1733400" cy="1202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YEAR 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T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,264,0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5283360" y="762120"/>
            <a:ext cx="99036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06,8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4210200" y="1143000"/>
            <a:ext cx="99036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93,25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3714840" y="1981080"/>
            <a:ext cx="99036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95,35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2724120" y="266688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613,67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1898640" y="342900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75,6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2394000" y="495288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52,2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3054240" y="586728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44,2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1733400" y="449568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82,8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247680" y="304920"/>
            <a:ext cx="3137040" cy="916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LOWLANDS WATER SCHEME TARGETTED POP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Black"/>
              </a:rPr>
              <a:t>HOW TO IMPLEMENT THE SECTOR BUDGET SUPPORT: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Financing Agreement N</a:t>
            </a:r>
            <a:r>
              <a:rPr b="1" lang="en-US" sz="3200" spc="-1" strike="noStrike" baseline="30000">
                <a:solidFill>
                  <a:srgbClr val="ff0000"/>
                </a:solidFill>
                <a:latin typeface="Calibri"/>
              </a:rPr>
              <a:t>0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2164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egal and regulation: EDF-ACP Cotonou Agreemen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inancial regulation of budge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rules of budge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Financing Agreement N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alibri"/>
              </a:rPr>
              <a:t>0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21644: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ector Budget Support  (SBS) and calendar:</a:t>
            </a:r>
            <a:br>
              <a:rPr sz="2800"/>
            </a:b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D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isbursement is foreseen for 1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alibri"/>
              </a:rPr>
              <a:t>st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¼ of FY following joint revie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52280" y="2590920"/>
          <a:ext cx="8839440" cy="4082760"/>
        </p:xfrm>
        <a:graphic>
          <a:graphicData uri="http://schemas.openxmlformats.org/drawingml/2006/table">
            <a:tbl>
              <a:tblPr/>
              <a:tblGrid>
                <a:gridCol w="2127240"/>
                <a:gridCol w="1473480"/>
                <a:gridCol w="1473120"/>
                <a:gridCol w="1228680"/>
                <a:gridCol w="1063440"/>
                <a:gridCol w="14734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mounts in M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11/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12/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13/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PO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xed tran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iable tran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S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 for monitoring and sector dialog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alu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program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457200" y="762120"/>
          <a:ext cx="8534520" cy="5410080"/>
        </p:xfrm>
        <a:graphic>
          <a:graphicData uri="http://schemas.openxmlformats.org/drawingml/2006/table">
            <a:tbl>
              <a:tblPr/>
              <a:tblGrid>
                <a:gridCol w="8534520"/>
              </a:tblGrid>
              <a:tr h="541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Rectangle 5"/>
          <p:cNvSpPr/>
          <p:nvPr/>
        </p:nvSpPr>
        <p:spPr>
          <a:xfrm>
            <a:off x="2286000" y="990720"/>
            <a:ext cx="4648320" cy="2895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PARTNER COUNRY’S CENTRAL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2514600" y="1981080"/>
            <a:ext cx="16002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Foreign Ex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Reserves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4800600" y="1905120"/>
            <a:ext cx="16765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reas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c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533520" y="1981080"/>
            <a:ext cx="13716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Exter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ssistance 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609480" y="4648320"/>
            <a:ext cx="3505320" cy="1218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Conditions for disbursem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General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Specific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2"/>
          <p:cNvSpPr/>
          <p:nvPr/>
        </p:nvSpPr>
        <p:spPr>
          <a:xfrm>
            <a:off x="1828800" y="51814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4952880" y="4648320"/>
            <a:ext cx="3581640" cy="1143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Budget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hrough partner country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Public Financial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wn Arrow 14"/>
          <p:cNvSpPr/>
          <p:nvPr/>
        </p:nvSpPr>
        <p:spPr>
          <a:xfrm>
            <a:off x="5715000" y="3352680"/>
            <a:ext cx="484200" cy="97812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Up Arrow 15"/>
          <p:cNvSpPr/>
          <p:nvPr/>
        </p:nvSpPr>
        <p:spPr>
          <a:xfrm>
            <a:off x="1752480" y="2971800"/>
            <a:ext cx="228600" cy="1523880"/>
          </a:xfrm>
          <a:prstGeom prst="upArrow">
            <a:avLst>
              <a:gd name="adj1" fmla="val 50000"/>
              <a:gd name="adj2" fmla="val 4999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6"/>
          <p:cNvSpPr/>
          <p:nvPr/>
        </p:nvSpPr>
        <p:spPr>
          <a:xfrm>
            <a:off x="7467480" y="1828800"/>
            <a:ext cx="13716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ax 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non 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reven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ight Arrow 12"/>
          <p:cNvSpPr/>
          <p:nvPr/>
        </p:nvSpPr>
        <p:spPr>
          <a:xfrm>
            <a:off x="1905120" y="2209680"/>
            <a:ext cx="685800" cy="48420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eft Arrow 17"/>
          <p:cNvSpPr/>
          <p:nvPr/>
        </p:nvSpPr>
        <p:spPr>
          <a:xfrm>
            <a:off x="6629400" y="2057400"/>
            <a:ext cx="762120" cy="484200"/>
          </a:xfrm>
          <a:prstGeom prst="leftArrow">
            <a:avLst>
              <a:gd name="adj1" fmla="val 50000"/>
              <a:gd name="adj2" fmla="val 500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ight Arrow 18"/>
          <p:cNvSpPr/>
          <p:nvPr/>
        </p:nvSpPr>
        <p:spPr>
          <a:xfrm>
            <a:off x="4191120" y="2209680"/>
            <a:ext cx="685800" cy="48420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traight Connector 25"/>
          <p:cNvSpPr/>
          <p:nvPr/>
        </p:nvSpPr>
        <p:spPr>
          <a:xfrm>
            <a:off x="2286000" y="1447920"/>
            <a:ext cx="46483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 Black"/>
              </a:rPr>
              <a:t>Thank</a:t>
            </a: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 You: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80880" y="28191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Comment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Comment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Question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5ACBC-D916-4048-A160-571F3EA94F0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75960"/>
            <a:ext cx="8496360" cy="3985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Foundations &amp; Building Blocks Being Put in Pl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0" y="5676840"/>
            <a:ext cx="9144000" cy="9439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MS Gothic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MS Gothic"/>
              </a:rPr>
              <a:t>Industrial Wastewater Management Policy, Water and Sanitation Policy, Water Act-2008, After-Care-Strategy, Interim Strategy for Water and Sanitation Sector, other laws establishing Government Agencies, et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228600" y="3124080"/>
            <a:ext cx="1143000" cy="377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LH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4419720" y="4572000"/>
            <a:ext cx="2127240" cy="9439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LOCAL GOVERNMENT AUTHOR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4419720" y="3276720"/>
            <a:ext cx="2127240" cy="9439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OTHER GOVERNMENT 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1676520" y="2133720"/>
            <a:ext cx="1828800" cy="660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LHWC (LESOTH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228600" y="3657600"/>
            <a:ext cx="1143000" cy="377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L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1676520" y="4343400"/>
            <a:ext cx="2616120" cy="12272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DONOR COMMUNITY: TECHNICAL ASSIST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1676520" y="3009960"/>
            <a:ext cx="2590560" cy="943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NGOs: (TRC, WORLD VISION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3733920" y="2133720"/>
            <a:ext cx="2057400" cy="66060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PRIVATE S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228600" y="4114800"/>
            <a:ext cx="1123920" cy="377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D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6819840" y="3733920"/>
            <a:ext cx="201924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WASC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MS Gothic"/>
              </a:rPr>
              <a:t>(WAS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Text Box 13" descr=""/>
          <p:cNvPicPr/>
          <p:nvPr/>
        </p:nvPicPr>
        <p:blipFill>
          <a:blip r:embed="rId1"/>
          <a:stretch/>
        </p:blipFill>
        <p:spPr>
          <a:xfrm>
            <a:off x="6808680" y="4522680"/>
            <a:ext cx="2043360" cy="1055880"/>
          </a:xfrm>
          <a:prstGeom prst="rect">
            <a:avLst/>
          </a:prstGeom>
          <a:ln w="0">
            <a:noFill/>
          </a:ln>
        </p:spPr>
      </p:pic>
      <p:pic>
        <p:nvPicPr>
          <p:cNvPr id="105" name="Text Box 14" descr=""/>
          <p:cNvPicPr/>
          <p:nvPr/>
        </p:nvPicPr>
        <p:blipFill>
          <a:blip r:embed="rId2"/>
          <a:stretch/>
        </p:blipFill>
        <p:spPr>
          <a:xfrm>
            <a:off x="5815080" y="2084400"/>
            <a:ext cx="3103560" cy="1116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"/>
          <p:cNvSpPr/>
          <p:nvPr/>
        </p:nvSpPr>
        <p:spPr>
          <a:xfrm>
            <a:off x="228600" y="2590920"/>
            <a:ext cx="114300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C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6"/>
          <p:cNvSpPr/>
          <p:nvPr/>
        </p:nvSpPr>
        <p:spPr>
          <a:xfrm>
            <a:off x="7162920" y="3276720"/>
            <a:ext cx="1676160" cy="377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LE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7"/>
          <p:cNvSpPr/>
          <p:nvPr/>
        </p:nvSpPr>
        <p:spPr>
          <a:xfrm>
            <a:off x="228600" y="2133720"/>
            <a:ext cx="1123920" cy="3772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MN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8"/>
          <p:cNvSpPr/>
          <p:nvPr/>
        </p:nvSpPr>
        <p:spPr>
          <a:xfrm>
            <a:off x="228600" y="5181480"/>
            <a:ext cx="1123920" cy="3772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LW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9"/>
          <p:cNvGrpSpPr/>
          <p:nvPr/>
        </p:nvGrpSpPr>
        <p:grpSpPr>
          <a:xfrm>
            <a:off x="100080" y="837720"/>
            <a:ext cx="8967600" cy="1255320"/>
            <a:chOff x="100080" y="837720"/>
            <a:chExt cx="8967600" cy="1255320"/>
          </a:xfrm>
        </p:grpSpPr>
        <p:sp>
          <p:nvSpPr>
            <p:cNvPr id="111" name="AutoShape 20"/>
            <p:cNvSpPr/>
            <p:nvPr/>
          </p:nvSpPr>
          <p:spPr>
            <a:xfrm rot="10800000">
              <a:off x="100080" y="837360"/>
              <a:ext cx="8967600" cy="1255320"/>
            </a:xfrm>
            <a:prstGeom prst="pie">
              <a:avLst/>
            </a:prstGeom>
            <a:blipFill rotWithShape="0">
              <a:blip r:embed="rId3">
                <a:alphaModFix amt="61000"/>
              </a:blip>
              <a:srcRect/>
              <a:tile tx="0" ty="0" sx="100000" sy="100000" algn="ctr"/>
            </a:blip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21"/>
            <p:cNvSpPr/>
            <p:nvPr/>
          </p:nvSpPr>
          <p:spPr>
            <a:xfrm>
              <a:off x="898200" y="1284120"/>
              <a:ext cx="7142040" cy="78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333399"/>
                  </a:solidFill>
                  <a:latin typeface="Arial"/>
                  <a:ea typeface="MS Gothic"/>
                </a:rPr>
                <a:t>IMPLEMENT SECTOR BUDGET SUPPORT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333399"/>
                  </a:solidFill>
                  <a:latin typeface="Arial"/>
                  <a:ea typeface="MS Gothic"/>
                </a:rPr>
                <a:t>Meet: Current and Future Needs (MDG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 Box 27"/>
          <p:cNvSpPr/>
          <p:nvPr/>
        </p:nvSpPr>
        <p:spPr>
          <a:xfrm>
            <a:off x="2666880" y="914400"/>
            <a:ext cx="3962520" cy="320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MS Gothic"/>
              </a:rPr>
              <a:t>NOW URGENTLY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8"/>
          <p:cNvSpPr/>
          <p:nvPr/>
        </p:nvSpPr>
        <p:spPr>
          <a:xfrm>
            <a:off x="228600" y="4648320"/>
            <a:ext cx="1123920" cy="377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DR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traight Connector 38"/>
          <p:cNvSpPr/>
          <p:nvPr/>
        </p:nvSpPr>
        <p:spPr>
          <a:xfrm>
            <a:off x="8915400" y="2133720"/>
            <a:ext cx="0" cy="35049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42"/>
          <p:cNvSpPr/>
          <p:nvPr/>
        </p:nvSpPr>
        <p:spPr>
          <a:xfrm flipH="1">
            <a:off x="150480" y="2057400"/>
            <a:ext cx="3240" cy="3581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250" autoRev="1" fill="hold"/>
                                        <p:tgtEl>
                                          <p:spTgt spid="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INFORMATION FLOW CH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Content Placeholder 3" descr=""/>
          <p:cNvPicPr/>
          <p:nvPr/>
        </p:nvPicPr>
        <p:blipFill>
          <a:blip r:embed="rId1"/>
          <a:stretch/>
        </p:blipFill>
        <p:spPr>
          <a:xfrm>
            <a:off x="728640" y="1816200"/>
            <a:ext cx="7686720" cy="40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hallenges Improving access to water suppl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676080" indent="-25992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ear rules for tariffs and connection fees allowing for free basic water to vulnerable households developed, tested and approved by the LEW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50 new public standpipes serving about 15,000 persons established for providing access to water in areas with low connection rates;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,000 new domestic connections installed serving about 30,000 pers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rastructure expansion:  connect i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ffor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hallenges Improving operating efficienci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ear policy and strategy for meter calibration and replacement developed and being implemented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fW reduced to an average of 27% overall by March 2012;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ergy consumption reduced by 20% from M9.3m/annum in 2008/09 to M7.44m/annum in the 2011/12 financial ye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SBS PROGRAMME IMPLEMENTA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52280" y="114300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ams: agen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SOTHO GOVERNMENT: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delegated (decentralized) authority by EU to G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FDP: sign financing agreement, donor coordination; GoL procurement procedures (assessment done by Pot for PFM); thresholds of contracts for: works, supplies, services, grant contracts, etc.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NR: implementation: water sector agencies, reporting (M&amp;E)  (supervision and execution, etc.)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operation with donor community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U: procurement ?, ensures agreement is signed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RELAND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IB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ORLD BANK and financiers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TC.,Other stakeholders: NGO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hallenges Improve production capacit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52280" y="990360"/>
            <a:ext cx="883944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tolong Project: for Maseru, TY, Roma and Morij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3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3-Towns Project: Maputsoe, TY, and Roma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rban and Peri-urban Project: rehabilitation of: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feteng Scootvlei WTP (to 500m3/day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feteng WTP (to 2,000m3/day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tha-Bothe boreholes (to 2,600m3/day); a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uthing WTP (to 1,500m3/da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koe-Thetsane: intake structure at Caledon River, 20ML WTP, transmission main, gravity mai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tal production capacity increased by 29.52ML/day by March 201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304920" y="1905120"/>
            <a:ext cx="85341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and sewerage network, and this will be achieved through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ocusing on the ongoing Maseru Wastewater Project, which includ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3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urbishment and upgrading of the Ratjomose WWT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truction of new WWTP at Agric Colleg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habilitation, infilling and extension of sewerage systems in the Ratjomose catchment are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truction of new sewerage systems in the Agric College catchment are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Challenges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urban sanitation servic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Challenges </a:t>
            </a:r>
            <a:r>
              <a:rPr b="1" lang="en-US" sz="3500" spc="-1" strike="noStrike">
                <a:solidFill>
                  <a:srgbClr val="ff0000"/>
                </a:solidFill>
                <a:latin typeface="Calibri"/>
              </a:rPr>
              <a:t>for Urban Sanitation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304920" y="914400"/>
            <a:ext cx="8534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and sewerage network, and this will be achieved through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ocusing on the ongoing Maseru Wastewater Project, which includ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3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truction of on-site disposal systems (VIPs) and conversion of existing VIP latrines into water borne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habilitation and expansion of sewerage networks and treatment plants in Maputsoe, TY and Roma (3-Towns Projec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7:37:15Z</dcterms:created>
  <dc:creator>Windows User</dc:creator>
  <dc:description/>
  <dc:language>en-US</dc:language>
  <cp:lastModifiedBy>new</cp:lastModifiedBy>
  <dcterms:modified xsi:type="dcterms:W3CDTF">2011-04-05T08:47:55Z</dcterms:modified>
  <cp:revision>388</cp:revision>
  <dc:subject/>
  <dc:title>Slide 1</dc:title>
</cp:coreProperties>
</file>