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A270-EFDB-41E3-BB50-1ADFFCEDBA1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0880" y="687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03200" y="4468320"/>
            <a:ext cx="613080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6D4-36B1-41C8-A05D-FEC85FA007A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8BD-DCF7-447E-82A9-720E6DD5875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0C0-D40E-404A-B03D-0CA745610E4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76B5-D46B-4AA9-ABE2-9283A157EF9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CBC8-436E-425D-B38F-455B25787EC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3536-3F2D-4966-9C4D-628D07617E0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218880" y="4704840"/>
            <a:ext cx="62960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072-743F-4FDD-8D87-98FB60592FB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7B7A-2760-4B6D-91CD-53F528513A1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B6DC-E5BA-4D8B-8897-E1058236FF8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o conclude</a:t>
            </a:r>
            <a:r>
              <a:rPr b="1" lang="en-GB" sz="1100" spc="-1" strike="noStrike">
                <a:solidFill>
                  <a:srgbClr val="000000"/>
                </a:solidFill>
                <a:latin typeface="Calibri"/>
              </a:rPr>
              <a:t>, what  key messages seem to emerge to guide the way forward to enhance TC for CD?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here is an ongoing process that picks up on the emerging common ground described in this presentation. DAC playing a critical catalytic ro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CD is now on the agenda on many critical playres. WP-EFF sees CD as a crucial cross cutting issue in all its clusters and calls for more results-oriented CD processes; UNDP  sees CD as the core of their mandates. Networks – various networks exploring the themes – even with limited resources (LenCD). Individual donors = GTZ claims to be a CD agency. Many donors supporting CD learning and behavioural changes. Southern efforts: CD Alliance  (southern attempt to develop leadership) , NEPA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Existing process from the AAA momentum offers great opportunity to help building up the consensu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TC as a low hanging fruit- lot has been said and written and strong consensus emerging. Offers opportunity to bring closure in terms of establishing way forwar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AB4E-D33C-4A2E-81AD-3AB4D47DC2A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CD4F-12AB-4B9C-A90E-238BEE776C0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ECDB-D440-4DF2-B6A2-AD6828CA407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9975-7B55-432A-A5B1-827DC7C2883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A90B-A5F9-4099-9F66-5F31C7B5F46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ECDD-9AC3-4EF2-800E-0C761A5422A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6771-D172-45CB-9CF5-30CE7189243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B12C-151A-4CAF-87F3-EB81A702D3A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06A7-4C22-4001-BCCC-CB8AC5EBFA1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6FF1-D991-4CB6-876D-0DA43B323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508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3B86-7F16-4AE4-9C58-3AE927F5A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477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F2A9-F2FB-417E-93F4-8D67C751E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72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508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72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0C2E-380E-41F3-A178-3BA48A132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1000"/>
            <a:ext cx="91216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BDC5-6962-4FB2-81CA-1CE895571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477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6508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477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9308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072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6508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9308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072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A57C-1C3A-412C-AD6F-FA36B7BD8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9F75-F9FD-44A9-8B64-70ACB9175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FD85-FB90-4409-8CDF-A6D3FF46F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1000"/>
            <a:ext cx="91216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EBA5-6678-4DFA-8CD3-F3E56353E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8F9B-5280-4092-8234-FF131AF66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477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3E2E-6050-4E47-BE94-350A40CEB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508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477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508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5FD2-BF2B-4D3F-968D-8541A23D3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r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0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0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9FB-666D-49B5-9038-3DD718ACB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3" descr="OECD_50K_150p"/>
          <p:cNvPicPr/>
          <p:nvPr/>
        </p:nvPicPr>
        <p:blipFill>
          <a:blip r:embed="rId3"/>
          <a:stretch/>
        </p:blipFill>
        <p:spPr>
          <a:xfrm>
            <a:off x="8472600" y="6232680"/>
            <a:ext cx="5778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3" descr="White_on_grey"/>
          <p:cNvPicPr/>
          <p:nvPr/>
        </p:nvPicPr>
        <p:blipFill>
          <a:blip r:embed="rId3"/>
          <a:stretch/>
        </p:blipFill>
        <p:spPr>
          <a:xfrm>
            <a:off x="7904160" y="5708520"/>
            <a:ext cx="108432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65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59040" y="1389240"/>
            <a:ext cx="638496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forming Technical Cooperation for Capacity Development –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ting it Right!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44720" y="3935520"/>
            <a:ext cx="539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ilvia GUIZZAR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Capacity Development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Development Cooperation Directorate, OECD/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June 29, 2010</a:t>
            </a:r>
            <a:br>
              <a:rPr sz="18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590920" y="557280"/>
            <a:ext cx="65530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C has not worked as expected... Why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6920" y="139716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upply-driven T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mited understanding and consideration of local con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ack of active engagement of country stakehol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hort-term perspectiv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ocus on narrow TC deliver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ubstituting rather than enhancing local capac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mited competition on TC providers’ sel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mited recognition of special challenges in fragile situ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to do about it?</a:t>
            </a:r>
            <a:br>
              <a:rPr sz="3200"/>
            </a:b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 terms of situating TC..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341360"/>
            <a:ext cx="9144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knowledge th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C is not a panacea for C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lying drive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CD must be taken into accou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entives, interests, dilemmas, resistance to chan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xtual/systemic factors and constraints (i.e. civil service ref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ssure to deliver short-term resul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and address local context and constraints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for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grated approac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eal with the complexity and all determinants of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shift are needed?</a:t>
            </a:r>
            <a:br>
              <a:rPr sz="32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n terms of enhancing TC effectivenes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74480" y="1582200"/>
            <a:ext cx="81277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and-driven 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stakeholders to play leading role in TC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el through country systems and procedures where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ke full advantage of local expertise, resources, South-South opportunities to complement traditional 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s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itor and evaluate TC performance results (accountability + lea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ordination and harmonization of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ecial Issue: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C in Fragile Situation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Some consideration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3320" y="1413000"/>
            <a:ext cx="835164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pecial challenges and complexity of fragile situ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tential harmful effects of TC in aid-dependent/fragile situ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rade offs and dilemmas to be openly recogni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C provision to be considered strategical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o overlo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ocus on state-building, but do not forget no-state actors (CSOs and private sector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daptability, flexibility, realism, and modes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hased approa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armonisation of TC support imper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Examples of on-going Reform Proc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440" y="1332000"/>
          <a:ext cx="8521920" cy="5394240"/>
        </p:xfrm>
        <a:graphic>
          <a:graphicData uri="http://schemas.openxmlformats.org/drawingml/2006/table">
            <a:tbl>
              <a:tblPr/>
              <a:tblGrid>
                <a:gridCol w="1351080"/>
                <a:gridCol w="3409920"/>
                <a:gridCol w="3760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4085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European Commission </a:t>
                      </a:r>
                      <a:br>
                        <a:rPr sz="1400"/>
                      </a:br>
                      <a:r>
                        <a:rPr b="1" i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ing Technical Cooperation More Effectiv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4085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br>
                        <a:rPr sz="1400"/>
                      </a:br>
                      <a:r>
                        <a:rPr b="1" i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ing Technical Assistanc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4085">
                        <a:alpha val="90000"/>
                      </a:srgbClr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ge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European Court of Auditors repo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 Peer Review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projects in fragile stat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rovide quality TC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rovide support through PI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Gradual move from direct implementation to indirect support for CD;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Demand-driven and country owned TA,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</a:tr>
              <a:tr h="103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estone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160" indent="-11916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ly 2008: Backbone Strategy (BB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h 2009:Guidelines and Toolki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9160" indent="-11916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2009: Political Commitment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ce 2004, stronger CD function within AusA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xt Step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0320" indent="-13032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ing at the country/operational level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organization within AusA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hance ownership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</a:tr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lleng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l capacity and incentiv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of EC member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plify EC procedures, use country procedures and process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7840" indent="-173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Still heavily reliance on T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7840" indent="-173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Limited understanding of 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7840" indent="-173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Working mainly in fragile situa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7840" indent="-173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Keeping the momentum within AusA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4085">
                        <a:alpha val="5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pecial issue of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Training for C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35160"/>
            <a:ext cx="9144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ing evidence of shortcomings in current approaches to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ynamic South-North international debate on reforming training and support alternative approaches to learning to enhance their effectiveness for 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merging consensus 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practic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C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&lt; learning &lt; capacit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chor support to learning within an integrated approach to C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programmes must be country-owned and demand-driv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for harmonization, co-ordination and joint effor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 quality of design of learning programm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 M&amp;E of and assure adequate follow up to learning programm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greater use of local resources/Southern providers of learning suppo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n Arrow 4"/>
          <p:cNvSpPr/>
          <p:nvPr/>
        </p:nvSpPr>
        <p:spPr>
          <a:xfrm>
            <a:off x="3933720" y="1563840"/>
            <a:ext cx="381240" cy="415800"/>
          </a:xfrm>
          <a:prstGeom prst="downArrow">
            <a:avLst>
              <a:gd name="adj1" fmla="val 50000"/>
              <a:gd name="adj2" fmla="val 49857"/>
            </a:avLst>
          </a:prstGeom>
          <a:solidFill>
            <a:srgbClr val="904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n Arrow 6"/>
          <p:cNvSpPr/>
          <p:nvPr/>
        </p:nvSpPr>
        <p:spPr>
          <a:xfrm>
            <a:off x="3946680" y="2660760"/>
            <a:ext cx="379080" cy="415800"/>
          </a:xfrm>
          <a:prstGeom prst="downArrow">
            <a:avLst>
              <a:gd name="adj1" fmla="val 50000"/>
              <a:gd name="adj2" fmla="val 50141"/>
            </a:avLst>
          </a:prstGeom>
          <a:solidFill>
            <a:srgbClr val="904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924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3. Conclusions and Way Forw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lusion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6120" y="1424160"/>
            <a:ext cx="836136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TC work better can have great impact on C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emerging consensus on directional changes/behavioural shifts need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donor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artner countr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country-led initiati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n-going TC reforms, advocate for mo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through evid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ore full potential of SSC and national/local expert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ay Forw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9080" y="14382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 picking up on emerging common gr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D on the agenda of many key players: DAC, WP-EFF, UNDP, networks, individual donors, Southern effor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 joint efforts - Need for better joined-up South-North common approach and solu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ing process from the AAA momentum (Bogota’, Seou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 as a low hanging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hat are we going to talk abou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000" y="1434960"/>
            <a:ext cx="82677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nderstanding the issue – limited effectiveness of TC to support C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TC has not worked so well? What should be d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clusi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1640" y="3884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. Understanding the issue: Limited effectiveness of TC to support C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pacity Development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ONT and C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840" y="1401840"/>
            <a:ext cx="812628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people, organizations, and society as a whole to manage their affairs successfu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TY DEVELOPM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y which people, organizations and society as a whole create, strengthen and maintain their capacity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acity Development as KEY for ow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ltimate goal of all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at are some of the key feat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Capacity Developmen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38564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ulti-dimensional concept: individuals, organisations, enabling environmen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Not only technical, but also social, political, governance-related determinant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Long-term perspective needed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ndogenous process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ntext specific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all for harmonisation, alignment of  donor support to C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ow have we supported CD so far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760" y="1414080"/>
            <a:ext cx="831672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What/When/Wh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rather tha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chnical Cooper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commo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al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80008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60-2009: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D 400 billi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nt in T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ECD estimates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= 1/5 total ODA in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C effectiveness has been under exam 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 the past....40+years (!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0840" y="1295280"/>
            <a:ext cx="8486640" cy="5562720"/>
          </a:xfrm>
          <a:prstGeom prst="rect">
            <a:avLst/>
          </a:prstGeom>
          <a:ln w="0">
            <a:noFill/>
          </a:ln>
        </p:spPr>
      </p:pic>
      <p:sp>
        <p:nvSpPr>
          <p:cNvPr id="103" name="Explosion 1 4"/>
          <p:cNvSpPr/>
          <p:nvPr/>
        </p:nvSpPr>
        <p:spPr>
          <a:xfrm>
            <a:off x="231840" y="1203480"/>
            <a:ext cx="2314440" cy="158580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Grande"/>
              </a:rPr>
              <a:t>Pearson Commission 196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xplosion 1 5"/>
          <p:cNvSpPr/>
          <p:nvPr/>
        </p:nvSpPr>
        <p:spPr>
          <a:xfrm>
            <a:off x="2568600" y="1295280"/>
            <a:ext cx="2685960" cy="230508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Lucida Grande"/>
              </a:rPr>
              <a:t>Evaluation of the effectiveness of TA Personnel</a:t>
            </a:r>
            <a:r>
              <a:rPr b="1" lang="en-GB" sz="1200" spc="-1" strike="noStrike">
                <a:solidFill>
                  <a:srgbClr val="000000"/>
                </a:solidFill>
                <a:latin typeface="Lucida Grande"/>
              </a:rPr>
              <a:t>, Nordic Donors 19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xplosion 1 8"/>
          <p:cNvSpPr/>
          <p:nvPr/>
        </p:nvSpPr>
        <p:spPr>
          <a:xfrm>
            <a:off x="2878200" y="3436920"/>
            <a:ext cx="2766960" cy="245268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Lucida Grande"/>
              </a:rPr>
              <a:t>An evaluation of DFID Funded technical Cooperatio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Grande"/>
              </a:rPr>
              <a:t>DFID 200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xplosion 1 10"/>
          <p:cNvSpPr/>
          <p:nvPr/>
        </p:nvSpPr>
        <p:spPr>
          <a:xfrm rot="21202800">
            <a:off x="285840" y="4632120"/>
            <a:ext cx="2814480" cy="222084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AID’s approach to TA – Getting Beyond “Good Enough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xplosion 1 11"/>
          <p:cNvSpPr/>
          <p:nvPr/>
        </p:nvSpPr>
        <p:spPr>
          <a:xfrm rot="20194800">
            <a:off x="5432400" y="1006200"/>
            <a:ext cx="2766960" cy="245268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Lucida Grande"/>
              </a:rPr>
              <a:t>Rethinking technical Cooperation, </a:t>
            </a:r>
            <a:r>
              <a:rPr b="1" lang="en-GB" sz="1200" spc="-1" strike="noStrike">
                <a:solidFill>
                  <a:srgbClr val="000000"/>
                </a:solidFill>
                <a:latin typeface="Lucida Grande"/>
              </a:rPr>
              <a:t>UNDP/Elliot Berg 19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xplosion 1 12"/>
          <p:cNvSpPr/>
          <p:nvPr/>
        </p:nvSpPr>
        <p:spPr>
          <a:xfrm rot="20692200">
            <a:off x="6397200" y="2820600"/>
            <a:ext cx="2766960" cy="245268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Lucida Grande"/>
              </a:rPr>
              <a:t>Joint Study on effective TC for C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Grande"/>
              </a:rPr>
              <a:t>JICA and other agencies, 20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xplosion 1 14"/>
          <p:cNvSpPr/>
          <p:nvPr/>
        </p:nvSpPr>
        <p:spPr>
          <a:xfrm rot="20276400">
            <a:off x="4747680" y="4560480"/>
            <a:ext cx="3062520" cy="268596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sing Training to Build Capacity for Development – An Evaluation of the World Bank’s Project-Based and WBI Training 200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479840" y="-1440"/>
            <a:ext cx="184320" cy="460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80" y="97920"/>
            <a:ext cx="720360" cy="26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755640"/>
                <a:tab algn="l" pos="97164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680" y="97920"/>
            <a:ext cx="720360" cy="261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9640"/>
                <a:tab algn="l" pos="755640"/>
                <a:tab algn="l" pos="97164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xplosion 1 18"/>
          <p:cNvSpPr/>
          <p:nvPr/>
        </p:nvSpPr>
        <p:spPr>
          <a:xfrm rot="20194800">
            <a:off x="301680" y="2520720"/>
            <a:ext cx="2766960" cy="2452680"/>
          </a:xfrm>
          <a:prstGeom prst="irregularSeal1">
            <a:avLst/>
          </a:prstGeom>
          <a:solidFill>
            <a:srgbClr val="904085">
              <a:alpha val="5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Lucida Grande"/>
              </a:rPr>
              <a:t>Joint Evaluation of Promising Approaches to 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Grande"/>
              </a:rPr>
              <a:t>ECDPM, 2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81000"/>
            <a:ext cx="91216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Quotations....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9520" y="144612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..Technical assistance often develops a life of its’ own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ittle related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 either donor or recipient countrie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national or global development objectiv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on commission,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sultants can be high cost and supply driv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and they are provided even where there is no partner ownership. Consultants often hav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ak impact on capacity development, because of a lack of appreciation of the underlying capacity problem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r an unrealistic expectation of the role that external advisory support can play in solving them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ID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provision of TA personnel has been the subject of significan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iticism in terms of cost and limited i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DPM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spcAft>
                <a:spcPts val="601"/>
              </a:spcAft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velopment agencies still tend to take the lead in the design, procurement, supervision and reporting of TA personn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The triangular relationship between development agency, country partner and TA personne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n easily undermine country ownership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king relationships and lines of accountability, and this needs to change”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DPM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32889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marL="3495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2. Why TC has not worked so wel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What should be do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95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0:00:55Z</dcterms:created>
  <dc:creator>DA</dc:creator>
  <dc:description/>
  <dc:language>en-US</dc:language>
  <cp:lastModifiedBy>Guizzardi_S</cp:lastModifiedBy>
  <dcterms:modified xsi:type="dcterms:W3CDTF">2011-03-09T14:01:31Z</dcterms:modified>
  <cp:revision>1023</cp:revision>
  <dc:subject/>
  <dc:title>PowerPoint Presentation</dc:title>
</cp:coreProperties>
</file>