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633E-39B5-4BFE-900D-8A8BE15A6A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Bruges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 2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socioeconomic challenges and priorities for VET policy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 5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strengthening links between VET and the LM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 3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economic cri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 6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addressing equity, social inclusion and active citize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 7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quality and attractiveness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and Th 9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 8 on 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enhancing creativity and 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351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3640" y="3875400"/>
            <a:ext cx="8351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364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332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7480" y="184464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0960" y="184464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640" y="387540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7480" y="387540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0960" y="387540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1844640"/>
            <a:ext cx="8351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35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364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3640" y="1844640"/>
            <a:ext cx="8351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332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3640" y="3875400"/>
            <a:ext cx="8351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351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640" y="3875400"/>
            <a:ext cx="8351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364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332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7480" y="184464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70960" y="184464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3640" y="387540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7480" y="387540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70960" y="3875400"/>
            <a:ext cx="26888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35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364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3320" y="387540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320" y="1844640"/>
            <a:ext cx="40755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3640" y="3875400"/>
            <a:ext cx="83516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3640" y="1844640"/>
            <a:ext cx="835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" name="Picture 3" descr="ETF MASTER LOGO.jpg"/>
          <p:cNvPicPr/>
          <p:nvPr/>
        </p:nvPicPr>
        <p:blipFill>
          <a:blip r:embed="rId2"/>
          <a:stretch/>
        </p:blipFill>
        <p:spPr>
          <a:xfrm>
            <a:off x="395280" y="333360"/>
            <a:ext cx="1368360" cy="5968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3419640" y="260280"/>
            <a:ext cx="540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-2520" y="122400"/>
            <a:ext cx="20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fr-BE" sz="1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i="1" lang="fr-BE" sz="1400" spc="-1" strike="noStrike">
                <a:solidFill>
                  <a:srgbClr val="000000"/>
                </a:solidFill>
                <a:latin typeface="Arial"/>
              </a:rPr>
              <a:t>Torino Process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ETF MASTER LOGO.jpg"/>
          <p:cNvPicPr/>
          <p:nvPr/>
        </p:nvPicPr>
        <p:blipFill>
          <a:blip r:embed="rId2"/>
          <a:stretch/>
        </p:blipFill>
        <p:spPr>
          <a:xfrm>
            <a:off x="179280" y="189000"/>
            <a:ext cx="2714760" cy="1187280"/>
          </a:xfrm>
          <a:prstGeom prst="rect">
            <a:avLst/>
          </a:prstGeom>
          <a:ln w="0">
            <a:noFill/>
          </a:ln>
        </p:spPr>
      </p:pic>
      <p:sp>
        <p:nvSpPr>
          <p:cNvPr id="41" name="Round Diagonal Corner Rectangle 6"/>
          <p:cNvSpPr/>
          <p:nvPr/>
        </p:nvSpPr>
        <p:spPr>
          <a:xfrm>
            <a:off x="611280" y="1557360"/>
            <a:ext cx="7858080" cy="4572000"/>
          </a:xfrm>
          <a:prstGeom prst="pie">
            <a:avLst/>
          </a:prstGeom>
          <a:solidFill>
            <a:srgbClr val="009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23640" y="1844640"/>
            <a:ext cx="83516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tf.europa.eu/Web.nsf/pages/Torino_Process_EN?OpenDocumen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1916280"/>
            <a:ext cx="705816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Arial"/>
              </a:rPr>
              <a:t>The “Torino Process”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33cccc"/>
                </a:solidFill>
                <a:latin typeface="Arial"/>
              </a:rPr>
              <a:t>A systematic, holistic, participatory approach to evidence-based policy making in 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3284640"/>
            <a:ext cx="79218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European Commission, Brussels, March 2011</a:t>
            </a:r>
            <a:r>
              <a:rPr b="0" lang="fr-B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979640" y="0"/>
            <a:ext cx="5905440" cy="13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3. Results </a:t>
            </a: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by building block 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(2/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b9cc"/>
                </a:solidFill>
                <a:latin typeface="Arial"/>
              </a:rPr>
              <a:t>External economic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 rot="20290200">
            <a:off x="8364600" y="477720"/>
            <a:ext cx="563400" cy="2588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 rot="13660200">
            <a:off x="8287920" y="820800"/>
            <a:ext cx="458640" cy="2937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 rot="825000">
            <a:off x="7596000" y="490680"/>
            <a:ext cx="577800" cy="2584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4"/>
          <p:cNvSpPr/>
          <p:nvPr/>
        </p:nvSpPr>
        <p:spPr>
          <a:xfrm rot="16200000">
            <a:off x="8040600" y="257040"/>
            <a:ext cx="458640" cy="3222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5"/>
          <p:cNvSpPr/>
          <p:nvPr/>
        </p:nvSpPr>
        <p:spPr>
          <a:xfrm rot="18919200">
            <a:off x="7738920" y="842760"/>
            <a:ext cx="557280" cy="2743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95280" y="1413000"/>
            <a:ext cx="4105440" cy="230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6699ff"/>
                </a:solidFill>
                <a:latin typeface="Arial"/>
              </a:rPr>
              <a:t>Analytical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GDP/Sector &gt; Employment/Sector &gt; VET provision/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Involvement of social partners in the present and future skills needs identific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‘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Relevance assurance’ mechanisms of skills per target groups (IVET, CVET, ALMP  training components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Espace réservé du contenu 4"/>
          <p:cNvSpPr/>
          <p:nvPr/>
        </p:nvSpPr>
        <p:spPr>
          <a:xfrm>
            <a:off x="4643280" y="1214280"/>
            <a:ext cx="4357800" cy="2516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Sources of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National economic/industry/PRS/growth strate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Int. economic data sources (IMF, UNDP/HDI, WEF Competitiveness repor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Employers surveys, WB/EBRD-BEEPS, WB Doing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Employability reports, HRD re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Tracer stud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3399"/>
                </a:solidFill>
                <a:latin typeface="Arial"/>
              </a:rPr>
              <a:t>But limited evid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ZoneTexte 5"/>
          <p:cNvSpPr/>
          <p:nvPr/>
        </p:nvSpPr>
        <p:spPr>
          <a:xfrm>
            <a:off x="395280" y="4437000"/>
            <a:ext cx="8353440" cy="1189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typ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395280" y="3786120"/>
            <a:ext cx="8605800" cy="313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Common challenge of </a:t>
            </a:r>
            <a:r>
              <a:rPr b="1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employt/employability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– esp. of youth, women (eg: ENP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Awareness on the need to shift from supply-driven to </a:t>
            </a:r>
            <a:r>
              <a:rPr b="1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demand-driven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VE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Role of </a:t>
            </a:r>
            <a:r>
              <a:rPr b="1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social partners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for increased relevance, quality and responsiveness recognized but not fully 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National qualifications systems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/frameworks opted for as a key reform expected to improve external efficiency (both eco and soc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Lack of data, information system, method, instruments to ensure </a:t>
            </a:r>
            <a:r>
              <a:rPr b="1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matching &gt; Skills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needs identification, anticipation and matching : a policy 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448000" y="246240"/>
            <a:ext cx="529272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3. Results by building block (3/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b9cc"/>
                </a:solidFill>
                <a:latin typeface="Arial"/>
              </a:rPr>
              <a:t>External social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 rot="20290200">
            <a:off x="8364600" y="477720"/>
            <a:ext cx="563400" cy="2588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 rot="13660200">
            <a:off x="8287920" y="820800"/>
            <a:ext cx="458640" cy="293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 rot="825000">
            <a:off x="7596000" y="490680"/>
            <a:ext cx="577800" cy="2584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 rot="16200000">
            <a:off x="8040600" y="257040"/>
            <a:ext cx="458640" cy="3222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 rot="18919200">
            <a:off x="7738920" y="842760"/>
            <a:ext cx="557280" cy="2743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95280" y="1143000"/>
            <a:ext cx="4105440" cy="221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6699ff"/>
                </a:solidFill>
                <a:latin typeface="Arial"/>
              </a:rPr>
              <a:t>Analytical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VET as a response to the social demand for education and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VET capacity to respond to groups with special needs and ensure equal training 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ce réservé du contenu 4"/>
          <p:cNvSpPr/>
          <p:nvPr/>
        </p:nvSpPr>
        <p:spPr>
          <a:xfrm>
            <a:off x="4643280" y="1285920"/>
            <a:ext cx="4100760" cy="200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Sources of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ystems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Gender gap report (WE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M&amp;E requirements of national action p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Dropout rates and other educ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Public employmt service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oneTexte 5"/>
          <p:cNvSpPr/>
          <p:nvPr/>
        </p:nvSpPr>
        <p:spPr>
          <a:xfrm>
            <a:off x="395280" y="4437000"/>
            <a:ext cx="8353440" cy="1189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typ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oneTexte 5"/>
          <p:cNvSpPr/>
          <p:nvPr/>
        </p:nvSpPr>
        <p:spPr>
          <a:xfrm>
            <a:off x="395280" y="3429000"/>
            <a:ext cx="8353440" cy="325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High demand for HE vs Low attractiveness of the VET system (absence of job prospects, of ET pathways in some count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Unequal access of women to labour mark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Reaching out strategies for specific, vulnerable groups exist but not mainstrea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Promising Developments in post-secondary and tertiary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Adult education (including CVET) still needs a proper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979640" y="246240"/>
            <a:ext cx="54007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3. Results by building block (4/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b9cc"/>
                </a:solidFill>
                <a:latin typeface="Arial"/>
              </a:rPr>
              <a:t>Internal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1"/>
          <p:cNvSpPr/>
          <p:nvPr/>
        </p:nvSpPr>
        <p:spPr>
          <a:xfrm rot="20290200">
            <a:off x="8364600" y="477720"/>
            <a:ext cx="563400" cy="2588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2"/>
          <p:cNvSpPr/>
          <p:nvPr/>
        </p:nvSpPr>
        <p:spPr>
          <a:xfrm rot="13660200">
            <a:off x="8287920" y="820800"/>
            <a:ext cx="458640" cy="2937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3"/>
          <p:cNvSpPr/>
          <p:nvPr/>
        </p:nvSpPr>
        <p:spPr>
          <a:xfrm rot="825000">
            <a:off x="7596000" y="490680"/>
            <a:ext cx="577800" cy="2584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4"/>
          <p:cNvSpPr/>
          <p:nvPr/>
        </p:nvSpPr>
        <p:spPr>
          <a:xfrm rot="16200000">
            <a:off x="8040600" y="257040"/>
            <a:ext cx="458640" cy="3222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5"/>
          <p:cNvSpPr/>
          <p:nvPr/>
        </p:nvSpPr>
        <p:spPr>
          <a:xfrm rot="18919200">
            <a:off x="7738920" y="842760"/>
            <a:ext cx="557280" cy="274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95280" y="1413000"/>
            <a:ext cx="4105440" cy="288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Analytical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Quality assurance and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Quality and pedagogical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  <a:ea typeface="Arial"/>
              </a:rPr>
              <a:t>Qualifications syste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8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  <a:ea typeface="Arial"/>
              </a:rPr>
              <a:t>Teaching profession state of the 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Arial"/>
              </a:rPr>
              <a:t>Financ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Espace réservé du contenu 4"/>
          <p:cNvSpPr/>
          <p:nvPr/>
        </p:nvSpPr>
        <p:spPr>
          <a:xfrm>
            <a:off x="4643280" y="1413000"/>
            <a:ext cx="4100760" cy="288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Sources of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Finance law, public expenditure review, public expenditure tracking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ZoneTexte 5"/>
          <p:cNvSpPr/>
          <p:nvPr/>
        </p:nvSpPr>
        <p:spPr>
          <a:xfrm>
            <a:off x="395280" y="4437000"/>
            <a:ext cx="8353440" cy="1189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typ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ZoneTexte 5"/>
          <p:cNvSpPr/>
          <p:nvPr/>
        </p:nvSpPr>
        <p:spPr>
          <a:xfrm>
            <a:off x="357120" y="4500720"/>
            <a:ext cx="8353440" cy="191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Quality usually remains to be addressed in a systematic, holistic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Financing of VET, especially CVET deserves shared efforts from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Interesting practices of decentralization of VET management (eg: ENP Ea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2124000" y="333360"/>
            <a:ext cx="568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3. Results by building block (5/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Innovation, entrepreneurship &amp; policy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1"/>
          <p:cNvSpPr/>
          <p:nvPr/>
        </p:nvSpPr>
        <p:spPr>
          <a:xfrm rot="20290200">
            <a:off x="8364600" y="477720"/>
            <a:ext cx="563400" cy="2588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2"/>
          <p:cNvSpPr/>
          <p:nvPr/>
        </p:nvSpPr>
        <p:spPr>
          <a:xfrm rot="13660200">
            <a:off x="8287920" y="820800"/>
            <a:ext cx="458640" cy="2937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3"/>
          <p:cNvSpPr/>
          <p:nvPr/>
        </p:nvSpPr>
        <p:spPr>
          <a:xfrm rot="825000">
            <a:off x="7596000" y="490680"/>
            <a:ext cx="577800" cy="2584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4"/>
          <p:cNvSpPr/>
          <p:nvPr/>
        </p:nvSpPr>
        <p:spPr>
          <a:xfrm rot="16200000">
            <a:off x="8040600" y="257040"/>
            <a:ext cx="458640" cy="3222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5"/>
          <p:cNvSpPr/>
          <p:nvPr/>
        </p:nvSpPr>
        <p:spPr>
          <a:xfrm rot="18919200">
            <a:off x="7738920" y="842760"/>
            <a:ext cx="557280" cy="2743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95280" y="1413000"/>
            <a:ext cx="4105440" cy="165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6699ff"/>
                </a:solidFill>
                <a:latin typeface="Arial"/>
              </a:rPr>
              <a:t>Analytical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Innovation potential of VET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Management of the policy cycle in general (leadership, donor pilots’ mainstreaming, policy design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space réservé du contenu 4"/>
          <p:cNvSpPr/>
          <p:nvPr/>
        </p:nvSpPr>
        <p:spPr>
          <a:xfrm>
            <a:off x="4643280" y="1413000"/>
            <a:ext cx="4100760" cy="165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Sources of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Arial"/>
              </a:rPr>
              <a:t>Small Business Act / Charter for enter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Arial"/>
              </a:rPr>
              <a:t>Entrepreneurial learning project policy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Arial"/>
              </a:rPr>
              <a:t>Curricula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ZoneTexte 5"/>
          <p:cNvSpPr/>
          <p:nvPr/>
        </p:nvSpPr>
        <p:spPr>
          <a:xfrm>
            <a:off x="395280" y="4437000"/>
            <a:ext cx="8353440" cy="1189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typ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ZoneTexte 5"/>
          <p:cNvSpPr/>
          <p:nvPr/>
        </p:nvSpPr>
        <p:spPr>
          <a:xfrm>
            <a:off x="395280" y="3124080"/>
            <a:ext cx="8353440" cy="362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- Main policy gaps and priorities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Innovation : a highly relative notion - Little consideration for the innovation potential, forward looking dimension of VET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Growing attention to entrepreneurial learning as part of key compet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Evidence based policy making : a new concept - Need to reinforce evidence collection, use and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Need to foster an evaluation and accountability 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Institutional capacity building around the policy cycle is a must in most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  <a:ea typeface="Arial"/>
              </a:rPr>
              <a:t>EU: a strong driver for chan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124000" y="333360"/>
            <a:ext cx="56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3. Sample results by region (1/3): ENP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55640" y="1197000"/>
            <a:ext cx="86425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837040" y="1916280"/>
            <a:ext cx="31986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Governance mechanisms to ensure accountability -Education and business cooperatio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CVET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Institutional capacity building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Repositioning of VET in relation to HE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haring European instruments (on QA, career guidance, EL…)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Regional dialogue on skills need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6000" y="1988640"/>
            <a:ext cx="280692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9920" indent="-259920"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Labour </a:t>
            </a: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emigration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brain drain 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within the region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-259920"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Academic drift 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in education at secondary and higher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-259920"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Pronounced </a:t>
            </a: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skill shortages 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vs </a:t>
            </a: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heterogenous enrolments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 in the various VET levels &amp; (HE) graduates employability issues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-259920"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Public expenditure 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on education and training still low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259920" indent="-259920"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3399"/>
                </a:solidFill>
                <a:latin typeface="Arial"/>
              </a:rPr>
              <a:t>CVET</a:t>
            </a: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 underdeveloped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468360" y="1197000"/>
            <a:ext cx="8351280" cy="503280"/>
            <a:chOff x="468360" y="1197000"/>
            <a:chExt cx="8351280" cy="503280"/>
          </a:xfrm>
        </p:grpSpPr>
        <p:sp>
          <p:nvSpPr>
            <p:cNvPr id="203" name="Pentagone 3"/>
            <p:cNvSpPr/>
            <p:nvPr/>
          </p:nvSpPr>
          <p:spPr>
            <a:xfrm>
              <a:off x="468360" y="1197000"/>
              <a:ext cx="1872720" cy="50328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69" y="0"/>
                  </a:lnTo>
                  <a:lnTo>
                    <a:pt x="21600" y="10800"/>
                  </a:lnTo>
                  <a:lnTo>
                    <a:pt x="1866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halle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Chevron 4"/>
            <p:cNvSpPr/>
            <p:nvPr/>
          </p:nvSpPr>
          <p:spPr>
            <a:xfrm>
              <a:off x="6156000" y="1197000"/>
              <a:ext cx="2663640" cy="49788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4" y="0"/>
                  </a:lnTo>
                  <a:lnTo>
                    <a:pt x="21600" y="10800"/>
                  </a:lnTo>
                  <a:lnTo>
                    <a:pt x="19564" y="21600"/>
                  </a:lnTo>
                  <a:lnTo>
                    <a:pt x="0" y="21600"/>
                  </a:lnTo>
                  <a:lnTo>
                    <a:pt x="2036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licy priorities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Chevron 4"/>
            <p:cNvSpPr/>
            <p:nvPr/>
          </p:nvSpPr>
          <p:spPr>
            <a:xfrm>
              <a:off x="2844000" y="1197000"/>
              <a:ext cx="2873880" cy="497880"/>
            </a:xfrm>
            <a:custGeom>
              <a:avLst/>
              <a:gdLst>
                <a:gd name="textAreaLeft" fmla="*/ 0 w 2873880"/>
                <a:gd name="textAreaRight" fmla="*/ 2874240 w 28738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13" y="0"/>
                  </a:lnTo>
                  <a:lnTo>
                    <a:pt x="21600" y="10800"/>
                  </a:lnTo>
                  <a:lnTo>
                    <a:pt x="19713" y="21600"/>
                  </a:lnTo>
                  <a:lnTo>
                    <a:pt x="0" y="21600"/>
                  </a:lnTo>
                  <a:lnTo>
                    <a:pt x="1887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licy achiev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Placeholder 3"/>
          <p:cNvSpPr/>
          <p:nvPr/>
        </p:nvSpPr>
        <p:spPr>
          <a:xfrm>
            <a:off x="2787480" y="2639880"/>
            <a:ext cx="30085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New visions for VET emer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3399"/>
                </a:solidFill>
                <a:latin typeface="Arial"/>
              </a:rPr>
              <a:t>Post secondary VET gaining importance (but decreasing vocational higher edu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124000" y="333360"/>
            <a:ext cx="56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3. Sample results by region (2/3) : ENP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755640" y="1197000"/>
            <a:ext cx="86425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837040" y="1916280"/>
            <a:ext cx="319860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Qualifica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ocial partnership for good governance and accountability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kills matching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MEs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Local developmen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HE graduates employability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Institutional capacity building for EBPM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6000" y="1988640"/>
            <a:ext cx="280692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25720" indent="-225720"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Demography – illiteracy, migrations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-225720"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MEs and informal sector- skills mismatch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-225720"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Unemployment rates – youth and wome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-225720"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Institutional fragmentatio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-225720"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Rigid education and training systems’ architecture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-225720"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Low attractiveness of VET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225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4" name="Group 1"/>
          <p:cNvGrpSpPr/>
          <p:nvPr/>
        </p:nvGrpSpPr>
        <p:grpSpPr>
          <a:xfrm>
            <a:off x="468360" y="1197000"/>
            <a:ext cx="8351280" cy="503280"/>
            <a:chOff x="468360" y="1197000"/>
            <a:chExt cx="8351280" cy="503280"/>
          </a:xfrm>
        </p:grpSpPr>
        <p:sp>
          <p:nvSpPr>
            <p:cNvPr id="215" name="Pentagone 3"/>
            <p:cNvSpPr/>
            <p:nvPr/>
          </p:nvSpPr>
          <p:spPr>
            <a:xfrm>
              <a:off x="468360" y="1197000"/>
              <a:ext cx="1872720" cy="50328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69" y="0"/>
                  </a:lnTo>
                  <a:lnTo>
                    <a:pt x="21600" y="10800"/>
                  </a:lnTo>
                  <a:lnTo>
                    <a:pt x="1866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halle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Chevron 4"/>
            <p:cNvSpPr/>
            <p:nvPr/>
          </p:nvSpPr>
          <p:spPr>
            <a:xfrm>
              <a:off x="6156000" y="1197000"/>
              <a:ext cx="2663640" cy="497880"/>
            </a:xfrm>
            <a:custGeom>
              <a:avLst/>
              <a:gdLst>
                <a:gd name="textAreaLeft" fmla="*/ 0 w 2663640"/>
                <a:gd name="textAreaRight" fmla="*/ 2664000 w 26636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4" y="0"/>
                  </a:lnTo>
                  <a:lnTo>
                    <a:pt x="21600" y="10800"/>
                  </a:lnTo>
                  <a:lnTo>
                    <a:pt x="19564" y="21600"/>
                  </a:lnTo>
                  <a:lnTo>
                    <a:pt x="0" y="21600"/>
                  </a:lnTo>
                  <a:lnTo>
                    <a:pt x="2036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licy priorities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Chevron 4"/>
            <p:cNvSpPr/>
            <p:nvPr/>
          </p:nvSpPr>
          <p:spPr>
            <a:xfrm>
              <a:off x="2844000" y="1197000"/>
              <a:ext cx="2873880" cy="497880"/>
            </a:xfrm>
            <a:custGeom>
              <a:avLst/>
              <a:gdLst>
                <a:gd name="textAreaLeft" fmla="*/ 0 w 2873880"/>
                <a:gd name="textAreaRight" fmla="*/ 2874240 w 287388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13" y="0"/>
                  </a:lnTo>
                  <a:lnTo>
                    <a:pt x="21600" y="10800"/>
                  </a:lnTo>
                  <a:lnTo>
                    <a:pt x="19713" y="21600"/>
                  </a:lnTo>
                  <a:lnTo>
                    <a:pt x="0" y="21600"/>
                  </a:lnTo>
                  <a:lnTo>
                    <a:pt x="1887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Policy achiev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Placeholder 3"/>
          <p:cNvSpPr/>
          <p:nvPr/>
        </p:nvSpPr>
        <p:spPr>
          <a:xfrm>
            <a:off x="2859120" y="1989000"/>
            <a:ext cx="30081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From supply driven to demand driven VE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Workbased learning/apprenticeship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National qualifications frame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Independent VET bo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Sectoral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124000" y="333360"/>
            <a:ext cx="5688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b9cc"/>
                </a:solidFill>
                <a:latin typeface="Arial"/>
              </a:rPr>
              <a:t>3. Sample results by region (3/3): D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5867280" y="1916280"/>
            <a:ext cx="11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5796000" y="278136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6360" y="1079640"/>
            <a:ext cx="86425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entagone 3"/>
          <p:cNvSpPr/>
          <p:nvPr/>
        </p:nvSpPr>
        <p:spPr>
          <a:xfrm>
            <a:off x="250920" y="1989000"/>
            <a:ext cx="1873080" cy="50328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69" y="0"/>
                </a:lnTo>
                <a:lnTo>
                  <a:pt x="21600" y="10800"/>
                </a:lnTo>
                <a:lnTo>
                  <a:pt x="186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hevron 4"/>
          <p:cNvSpPr/>
          <p:nvPr/>
        </p:nvSpPr>
        <p:spPr>
          <a:xfrm>
            <a:off x="6300720" y="1989000"/>
            <a:ext cx="2664000" cy="4986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4" y="0"/>
                </a:lnTo>
                <a:lnTo>
                  <a:pt x="21600" y="10800"/>
                </a:lnTo>
                <a:lnTo>
                  <a:pt x="19564" y="21600"/>
                </a:lnTo>
                <a:lnTo>
                  <a:pt x="0" y="21600"/>
                </a:lnTo>
                <a:lnTo>
                  <a:pt x="2036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licy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37040" y="2747880"/>
            <a:ext cx="28191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Multi-level, inclusive governance mod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Qualificati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Quality assuranc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VET data and statistic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4920" y="3009600"/>
            <a:ext cx="3008160" cy="33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* Transition to free market econom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* VET attractiveness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Chevron 4"/>
          <p:cNvSpPr/>
          <p:nvPr/>
        </p:nvSpPr>
        <p:spPr>
          <a:xfrm>
            <a:off x="2843280" y="1989000"/>
            <a:ext cx="2874960" cy="498600"/>
          </a:xfrm>
          <a:custGeom>
            <a:avLst/>
            <a:gdLst>
              <a:gd name="textAreaLeft" fmla="*/ 0 w 2874960"/>
              <a:gd name="textAreaRight" fmla="*/ 2874960 w 287496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13" y="0"/>
                </a:lnTo>
                <a:lnTo>
                  <a:pt x="21600" y="10800"/>
                </a:lnTo>
                <a:lnTo>
                  <a:pt x="19713" y="21600"/>
                </a:lnTo>
                <a:lnTo>
                  <a:pt x="0" y="21600"/>
                </a:lnTo>
                <a:lnTo>
                  <a:pt x="1887" y="108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licy 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Placeholder 3"/>
          <p:cNvSpPr/>
          <p:nvPr/>
        </p:nvSpPr>
        <p:spPr>
          <a:xfrm>
            <a:off x="2859120" y="3009960"/>
            <a:ext cx="300816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olitical momentum for VET (higher in policy agen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Qualifications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b9cc"/>
                </a:solidFill>
                <a:latin typeface="Arial"/>
              </a:rPr>
              <a:t>In terms of Content  : TOP 5 of priority policy are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55600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3.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643120" y="2492280"/>
            <a:ext cx="48578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ulti-level Governance, Social Partnerships and Education and Business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Qualification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ducation and training architecture &amp; Pathway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Matching LM skills need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d VET pro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dult learn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-C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21420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b9cc"/>
                </a:solidFill>
                <a:latin typeface="Arial"/>
              </a:rPr>
              <a:t>In terms of </a:t>
            </a:r>
            <a:r>
              <a:rPr b="1" lang="fr-BE" sz="2400" spc="-1" strike="noStrike">
                <a:solidFill>
                  <a:srgbClr val="00b9cc"/>
                </a:solidFill>
                <a:latin typeface="Arial"/>
              </a:rPr>
              <a:t>Process</a:t>
            </a:r>
            <a:r>
              <a:rPr b="0" lang="fr-BE" sz="2400" spc="-1" strike="noStrike">
                <a:solidFill>
                  <a:srgbClr val="00b9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99"/>
                </a:solidFill>
                <a:latin typeface="Arial"/>
              </a:rPr>
              <a:t>Political momentum and commitment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to assessment exercis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99"/>
                </a:solidFill>
                <a:latin typeface="Arial"/>
              </a:rPr>
              <a:t>Ownership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(leadership)– guided self assesst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New/reinforced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</a:rPr>
              <a:t>space for sector-wide and multi-stakeholder dialogue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in VE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Driver for greater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</a:rPr>
              <a:t>donor coordinatio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Enhanced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</a:rPr>
              <a:t>interest for EU VET framework                     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 ….BUT…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 algn="r">
              <a:spcBef>
                <a:spcPts val="1125"/>
              </a:spcBef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3399"/>
                </a:solidFill>
                <a:latin typeface="Arial"/>
              </a:rPr>
              <a:t>tension between ownership and objectivi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 algn="r">
              <a:spcBef>
                <a:spcPts val="1125"/>
              </a:spcBef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3399"/>
                </a:solidFill>
                <a:latin typeface="Arial"/>
              </a:rPr>
              <a:t>Inclusiveness of the appraoch to be broadene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 algn="r">
              <a:spcBef>
                <a:spcPts val="1125"/>
              </a:spcBef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3399"/>
                </a:solidFill>
                <a:latin typeface="Arial"/>
              </a:rPr>
              <a:t>Self assessment guidance to be further define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b9cc"/>
                </a:solidFill>
                <a:latin typeface="Arial"/>
              </a:rPr>
              <a:t>In terms of </a:t>
            </a:r>
            <a:r>
              <a:rPr b="1" lang="fr-BE" sz="2400" spc="-1" strike="noStrike">
                <a:solidFill>
                  <a:srgbClr val="00b9cc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00b9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Policy priorities identified, &amp; in line with EU E&amp;T 2020 strategic objectives … BUT…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3399"/>
                </a:solidFill>
                <a:latin typeface="Arial"/>
              </a:rPr>
              <a:t>Shortage of evidence </a:t>
            </a:r>
            <a:r>
              <a:rPr b="0" i="1" lang="fr-BE" sz="1800" spc="-1" strike="noStrike">
                <a:solidFill>
                  <a:srgbClr val="003399"/>
                </a:solidFill>
                <a:latin typeface="Arial"/>
              </a:rPr>
              <a:t>in most countries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3399"/>
                </a:solidFill>
                <a:latin typeface="Arial"/>
              </a:rPr>
              <a:t>(availability and/or use for policy making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55600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4. Achievements (1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13840" y="907920"/>
            <a:ext cx="8929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3399"/>
                </a:solidFill>
                <a:latin typeface="Arial"/>
              </a:rPr>
              <a:t>As Analyst, Facilitator, Mediator, Broker of policy debate, Catalyst…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979640" y="260280"/>
            <a:ext cx="7164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4. Achievements (2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b9cc"/>
                </a:solidFill>
                <a:latin typeface="Arial"/>
              </a:rPr>
              <a:t>Competitive advantage of ETF within the Torino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857160" y="1989000"/>
            <a:ext cx="785808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pecific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expertis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on VET and employment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untry intelligence and presence in 29 PC -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Compa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ong-term engagement –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trust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continuit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Recognition as a technical (public) partner -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Neutralit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non-commercial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nalytical support for identifying policy gaps and assistance needs – key step of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programm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cycle (SP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Capacity build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support for increasing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absorption capacity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for further EU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Networking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between PC and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 way for the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EU to shape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the global education and training </a:t>
            </a:r>
            <a:r>
              <a:rPr b="0" lang="en-GB" sz="2000" spc="-1" strike="noStrike" u="sng">
                <a:solidFill>
                  <a:srgbClr val="003399"/>
                </a:solidFill>
                <a:uFillTx/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00cc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71320" y="1600200"/>
            <a:ext cx="414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33cccc"/>
                </a:solidFill>
                <a:latin typeface="Arial"/>
              </a:rPr>
              <a:t>THE " TORINO PROCESS "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Methodology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(process and conten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Achievements 2010 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and next step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Picture 5" descr="photo mole"/>
          <p:cNvPicPr/>
          <p:nvPr/>
        </p:nvPicPr>
        <p:blipFill>
          <a:blip r:embed="rId1"/>
          <a:stretch/>
        </p:blipFill>
        <p:spPr>
          <a:xfrm>
            <a:off x="5435640" y="1628640"/>
            <a:ext cx="297504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65528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3399"/>
                </a:solidFill>
                <a:latin typeface="Arial"/>
              </a:rPr>
              <a:t>In 2011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ETF WP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based on the findings of the Torino Process (country and regional projec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Lessons learnt exercice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of the first round, involving Partner countries and ETF staff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Flagship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publ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Corporate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conference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10-11 May Tori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Refinement of the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methodology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based on the lessons lear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reparation and Launching of the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TRP 2012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Gradual institutional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capacity building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for evidence-based policy making (Torine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255600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4. </a:t>
            </a:r>
            <a:r>
              <a:rPr b="1" i="1" lang="fr-BE" sz="2000" spc="-1" strike="noStrike">
                <a:solidFill>
                  <a:srgbClr val="00b9cc"/>
                </a:solidFill>
                <a:latin typeface="Arial"/>
              </a:rPr>
              <a:t>Achievements</a:t>
            </a: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 </a:t>
            </a:r>
            <a:r>
              <a:rPr b="1" i="1" lang="fr-BE" sz="2000" spc="-1" strike="noStrike">
                <a:solidFill>
                  <a:srgbClr val="00b9cc"/>
                </a:solidFill>
                <a:latin typeface="Arial"/>
              </a:rPr>
              <a:t>and </a:t>
            </a: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next steps (3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471492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For further information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http://www.etf.europa.eu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1" name="Picture 5" descr="photo mole"/>
          <p:cNvPicPr/>
          <p:nvPr/>
        </p:nvPicPr>
        <p:blipFill>
          <a:blip r:embed="rId2"/>
          <a:stretch/>
        </p:blipFill>
        <p:spPr>
          <a:xfrm>
            <a:off x="4697280" y="0"/>
            <a:ext cx="44467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cc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cccc"/>
                </a:solidFill>
                <a:latin typeface="Arial"/>
              </a:rPr>
              <a:t>participatory analytical proces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of the whole VET system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part of the ETF Work Program 2010 and</a:t>
            </a:r>
            <a:r>
              <a:rPr b="0" i="1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Arial"/>
              </a:rPr>
              <a:t>inspired from the Copenhagen policy review proces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&amp; a participatory study on education and business cooper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cc"/>
                </a:solidFill>
                <a:latin typeface="Arial"/>
              </a:rPr>
              <a:t>WHAT FOR 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For 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tner Countries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to reinforce </a:t>
            </a:r>
            <a:r>
              <a:rPr b="1" lang="en-GB" sz="2000" spc="-1" strike="noStrike">
                <a:solidFill>
                  <a:srgbClr val="33cccc"/>
                </a:solidFill>
                <a:latin typeface="Arial"/>
              </a:rPr>
              <a:t>evidence-based policy making</a:t>
            </a:r>
            <a:r>
              <a:rPr b="1" lang="en-GB" sz="2000" spc="-1" strike="noStrike">
                <a:solidFill>
                  <a:srgbClr val="00b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For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ETF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to serve as a basis for plann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For ETF to support the delivery of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Community assista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cccc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ll key stakeholders of the VET system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policy makers from E&amp;T, Labour and employment, social partners, practitioners, researcher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b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OVERVIEW (1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4422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9cc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n ETF/EU partner countries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3 countries involved in the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ruges Review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(Croatia, Turkey, fyroMacedonia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3 countries involved in the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HRD Reviews for DG Employment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(Serbia, Montenegro, Albania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22 participating countries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No participation from Algeri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4880" y="1412640"/>
            <a:ext cx="45687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99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b9cc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every 2 years (2010, 2012…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3399"/>
                </a:solidFill>
                <a:latin typeface="Arial"/>
              </a:rPr>
              <a:t>Main steps in 2010-2011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b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OVERVIEW (2/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498920" y="2852640"/>
          <a:ext cx="4537080" cy="3683160"/>
        </p:xfrm>
        <a:graphic>
          <a:graphicData uri="http://schemas.openxmlformats.org/drawingml/2006/table">
            <a:tbl>
              <a:tblPr/>
              <a:tblGrid>
                <a:gridCol w="1252440"/>
                <a:gridCol w="3284640"/>
              </a:tblGrid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Jan-March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k resear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rch-M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formation and data collection – field missions and focus group meet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y-Ju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irst drafting of the country report(s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June-Oc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ational validation/discussion seminar on the report’s find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inal country report(s) avail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rch-April 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ross-country reports avail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May 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ternational conference on the Torino process resul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74872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9cc"/>
                </a:solidFill>
                <a:latin typeface="Arial"/>
              </a:rPr>
              <a:t>HOW? METHODOLOGY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1" marL="838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b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OVERVIEW (3/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Bulle ronde 4"/>
          <p:cNvSpPr/>
          <p:nvPr/>
        </p:nvSpPr>
        <p:spPr>
          <a:xfrm>
            <a:off x="1332000" y="1557360"/>
            <a:ext cx="7597800" cy="1797120"/>
          </a:xfrm>
          <a:prstGeom prst="wedgeEllipseCallout">
            <a:avLst>
              <a:gd name="adj1" fmla="val -67527"/>
              <a:gd name="adj2" fmla="val 89629"/>
            </a:avLst>
          </a:prstGeom>
          <a:solidFill>
            <a:srgbClr val="dddddd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PROCESS/APPROACH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: a tailor-made country-led, review proces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Broad participation/consultation of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(Guided) self-assessment in 7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Bulle ronde 5"/>
          <p:cNvSpPr/>
          <p:nvPr/>
        </p:nvSpPr>
        <p:spPr>
          <a:xfrm>
            <a:off x="1366920" y="4643280"/>
            <a:ext cx="7491240" cy="1928880"/>
          </a:xfrm>
          <a:prstGeom prst="wedgeEllipseCallout">
            <a:avLst>
              <a:gd name="adj1" fmla="val -67939"/>
              <a:gd name="adj2" fmla="val -77851"/>
            </a:avLst>
          </a:prstGeom>
          <a:solidFill>
            <a:srgbClr val="dddddd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CONTENT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: common analytical frame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Double dimen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- VET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systems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’ assess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Arial"/>
              </a:rPr>
              <a:t>- VET </a:t>
            </a:r>
            <a:r>
              <a:rPr b="1" lang="fr-FR" sz="1800" spc="-1" strike="noStrike">
                <a:solidFill>
                  <a:srgbClr val="003399"/>
                </a:solidFill>
                <a:latin typeface="Arial"/>
                <a:ea typeface="Arial"/>
              </a:rPr>
              <a:t>policy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  <a:ea typeface="Arial"/>
              </a:rPr>
              <a:t>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1680" y="928440"/>
            <a:ext cx="857232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No common policy agend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lnSpc>
                <a:spcPct val="7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Diversity of contexts &gt; diversity of approach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lnSpc>
                <a:spcPct val="70000"/>
              </a:lnSpc>
              <a:spcBef>
                <a:spcPts val="337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99"/>
                </a:solidFill>
                <a:latin typeface="Arial"/>
              </a:rPr>
              <a:t>Letter of invitation </a:t>
            </a:r>
            <a:r>
              <a:rPr b="0" lang="fr-FR" sz="1800" spc="-1" strike="noStrike">
                <a:solidFill>
                  <a:srgbClr val="003399"/>
                </a:solidFill>
                <a:latin typeface="Arial"/>
              </a:rPr>
              <a:t>of partner countries to participate with not always obvious added 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Setting up of a national </a:t>
            </a: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multi-ministerial, multi-stakeholder team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/task force (SP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Diversity of national institutional arrangements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&gt; diversity of work organisation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Evidence collection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, including </a:t>
            </a: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Discussion workshops 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to process information, or review analysi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Validation workshop 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to endorse the analysis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Donor meeting 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to discuss policy prioriti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&gt;&gt; Policy learning 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&gt;&gt; capacity building 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exercice for evidence based policy mak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 algn="r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&gt;&gt; </a:t>
            </a:r>
            <a:r>
              <a:rPr b="1" i="1" lang="fr-FR" sz="1800" spc="-1" strike="noStrike">
                <a:solidFill>
                  <a:srgbClr val="003399"/>
                </a:solidFill>
                <a:latin typeface="Arial"/>
              </a:rPr>
              <a:t>policy dialogue </a:t>
            </a:r>
            <a:r>
              <a:rPr b="0" i="1" lang="fr-FR" sz="1800" spc="-1" strike="noStrike">
                <a:solidFill>
                  <a:srgbClr val="003399"/>
                </a:solidFill>
                <a:latin typeface="Arial"/>
              </a:rPr>
              <a:t>guided by ETF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050920" y="260280"/>
            <a:ext cx="70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0b9cc"/>
                </a:solidFill>
                <a:latin typeface="Arial"/>
              </a:rPr>
              <a:t>2. Methodology (1/3): Approach with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lèche vers le bas 8"/>
          <p:cNvSpPr/>
          <p:nvPr/>
        </p:nvSpPr>
        <p:spPr>
          <a:xfrm>
            <a:off x="0" y="1928880"/>
            <a:ext cx="642960" cy="385740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ONTHS/ 1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5840" y="13158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9cc"/>
                </a:solidFill>
                <a:latin typeface="Arial"/>
              </a:rPr>
              <a:t>Analytical framework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vering the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whole VET system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(IVET, CVET, formal, informal, …)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3399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Organized in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5 building blocks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(closely linked to the themes of the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ruges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questionnaire) and </a:t>
            </a: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guiding questions</a:t>
            </a: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 for each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9cc"/>
                </a:solidFill>
                <a:latin typeface="Arial"/>
              </a:rPr>
              <a:t>Various types and sources of evidence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used   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(statistical data, indicators, good practices, qualitative assessment, national and international studie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A tool for identifying </a:t>
            </a:r>
            <a:r>
              <a:rPr b="1" lang="fr-BE" sz="2400" spc="-1" strike="noStrike">
                <a:solidFill>
                  <a:srgbClr val="00b9cc"/>
                </a:solidFill>
                <a:latin typeface="Arial"/>
              </a:rPr>
              <a:t>policy priorities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, for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 possible </a:t>
            </a:r>
            <a:r>
              <a:rPr b="1" lang="fr-BE" sz="2000" spc="-1" strike="noStrike">
                <a:solidFill>
                  <a:srgbClr val="33cccc"/>
                </a:solidFill>
                <a:latin typeface="Arial"/>
              </a:rPr>
              <a:t>support(s)</a:t>
            </a:r>
            <a:r>
              <a:rPr b="0" lang="fr-BE" sz="20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to be provided by ETF, EU or other don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357280" y="26028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b9cc"/>
                </a:solidFill>
                <a:latin typeface="Arial"/>
              </a:rPr>
              <a:t>2. METHODOLOGY (2/3):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e 13"/>
          <p:cNvGrpSpPr/>
          <p:nvPr/>
        </p:nvGrpSpPr>
        <p:grpSpPr>
          <a:xfrm>
            <a:off x="395280" y="3000240"/>
            <a:ext cx="8748720" cy="714600"/>
            <a:chOff x="395280" y="3000240"/>
            <a:chExt cx="8748720" cy="714600"/>
          </a:xfrm>
        </p:grpSpPr>
        <p:sp>
          <p:nvSpPr>
            <p:cNvPr id="106" name="Pentagone 3"/>
            <p:cNvSpPr/>
            <p:nvPr/>
          </p:nvSpPr>
          <p:spPr>
            <a:xfrm>
              <a:off x="395280" y="3000240"/>
              <a:ext cx="1873080" cy="714600"/>
            </a:xfrm>
            <a:custGeom>
              <a:avLst/>
              <a:gdLst>
                <a:gd name="textAreaLeft" fmla="*/ 0 w 1873080"/>
                <a:gd name="textAreaRight" fmla="*/ 1873440 w 18730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6" y="0"/>
                  </a:lnTo>
                  <a:lnTo>
                    <a:pt x="21600" y="10800"/>
                  </a:lnTo>
                  <a:lnTo>
                    <a:pt x="1744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Chevron 4"/>
            <p:cNvSpPr/>
            <p:nvPr/>
          </p:nvSpPr>
          <p:spPr>
            <a:xfrm>
              <a:off x="2124000" y="3000240"/>
              <a:ext cx="2448000" cy="71460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24" y="0"/>
                  </a:lnTo>
                  <a:lnTo>
                    <a:pt x="21600" y="10800"/>
                  </a:lnTo>
                  <a:lnTo>
                    <a:pt x="18424" y="21600"/>
                  </a:lnTo>
                  <a:lnTo>
                    <a:pt x="0" y="21600"/>
                  </a:lnTo>
                  <a:lnTo>
                    <a:pt x="3176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Chevron 5"/>
            <p:cNvSpPr/>
            <p:nvPr/>
          </p:nvSpPr>
          <p:spPr>
            <a:xfrm>
              <a:off x="6500880" y="3000240"/>
              <a:ext cx="2500200" cy="714600"/>
            </a:xfrm>
            <a:custGeom>
              <a:avLst/>
              <a:gdLst>
                <a:gd name="textAreaLeft" fmla="*/ 0 w 2500200"/>
                <a:gd name="textAreaRight" fmla="*/ 2500560 w 25002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14" y="0"/>
                  </a:lnTo>
                  <a:lnTo>
                    <a:pt x="21600" y="10800"/>
                  </a:lnTo>
                  <a:lnTo>
                    <a:pt x="18514" y="21600"/>
                  </a:lnTo>
                  <a:lnTo>
                    <a:pt x="0" y="21600"/>
                  </a:lnTo>
                  <a:lnTo>
                    <a:pt x="3086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4357800" y="3000240"/>
              <a:ext cx="2357280" cy="714600"/>
            </a:xfrm>
            <a:custGeom>
              <a:avLst/>
              <a:gdLst>
                <a:gd name="textAreaLeft" fmla="*/ 0 w 2357280"/>
                <a:gd name="textAreaRight" fmla="*/ 2357640 w 23572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27" y="0"/>
                  </a:lnTo>
                  <a:lnTo>
                    <a:pt x="21600" y="10800"/>
                  </a:lnTo>
                  <a:lnTo>
                    <a:pt x="18327" y="21600"/>
                  </a:lnTo>
                  <a:lnTo>
                    <a:pt x="0" y="21600"/>
                  </a:lnTo>
                  <a:lnTo>
                    <a:pt x="3273" y="108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468000" y="31431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Challe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2487600" y="3000240"/>
              <a:ext cx="18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VET</a:t>
              </a:r>
              <a:br>
                <a:rPr sz="1800"/>
              </a:b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policy meas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4643280" y="314316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Barriers to ch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6840720" y="300024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Actions</a:t>
              </a:r>
              <a:br>
                <a:rPr sz="1800"/>
              </a:br>
              <a:r>
                <a:rPr b="0" lang="en-GB" sz="1800" spc="-1" strike="noStrike">
                  <a:solidFill>
                    <a:srgbClr val="003399"/>
                  </a:solidFill>
                  <a:latin typeface="Arial"/>
                </a:rPr>
                <a:t>(to be) fores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22"/>
          <p:cNvGrpSpPr/>
          <p:nvPr/>
        </p:nvGrpSpPr>
        <p:grpSpPr>
          <a:xfrm>
            <a:off x="102240" y="390240"/>
            <a:ext cx="7540200" cy="6513480"/>
            <a:chOff x="102240" y="390240"/>
            <a:chExt cx="7540200" cy="6513480"/>
          </a:xfrm>
        </p:grpSpPr>
        <p:grpSp>
          <p:nvGrpSpPr>
            <p:cNvPr id="116" name="Group 14"/>
            <p:cNvGrpSpPr/>
            <p:nvPr/>
          </p:nvGrpSpPr>
          <p:grpSpPr>
            <a:xfrm>
              <a:off x="102240" y="1866960"/>
              <a:ext cx="3336840" cy="2292120"/>
              <a:chOff x="102240" y="1866960"/>
              <a:chExt cx="3336840" cy="2292120"/>
            </a:xfrm>
          </p:grpSpPr>
          <p:sp>
            <p:nvSpPr>
              <p:cNvPr id="117" name="Oval 15"/>
              <p:cNvSpPr/>
              <p:nvPr/>
            </p:nvSpPr>
            <p:spPr>
              <a:xfrm rot="825000">
                <a:off x="250560" y="2205000"/>
                <a:ext cx="3039840" cy="161604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16"/>
              <p:cNvSpPr/>
              <p:nvPr/>
            </p:nvSpPr>
            <p:spPr>
              <a:xfrm>
                <a:off x="539640" y="2637000"/>
                <a:ext cx="216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4d4d4d"/>
                    </a:solidFill>
                    <a:latin typeface="Verdana"/>
                  </a:rPr>
                  <a:t>Innovation</a:t>
                </a:r>
                <a:r>
                  <a:rPr b="0" lang="en-GB" sz="1800" spc="-1" strike="noStrike">
                    <a:solidFill>
                      <a:srgbClr val="4d4d4d"/>
                    </a:solidFill>
                    <a:latin typeface="Verdana"/>
                  </a:rPr>
                  <a:t> &amp; entrepreneursh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21"/>
            <p:cNvGrpSpPr/>
            <p:nvPr/>
          </p:nvGrpSpPr>
          <p:grpSpPr>
            <a:xfrm>
              <a:off x="826560" y="390240"/>
              <a:ext cx="6815880" cy="6513480"/>
              <a:chOff x="826560" y="390240"/>
              <a:chExt cx="6815880" cy="651348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4219920" y="1713600"/>
                <a:ext cx="3422520" cy="2630160"/>
                <a:chOff x="4219920" y="1713600"/>
                <a:chExt cx="3422520" cy="2630160"/>
              </a:xfrm>
            </p:grpSpPr>
            <p:sp>
              <p:nvSpPr>
                <p:cNvPr id="121" name="Oval 6"/>
                <p:cNvSpPr/>
                <p:nvPr/>
              </p:nvSpPr>
              <p:spPr>
                <a:xfrm rot="20290200">
                  <a:off x="4411080" y="2220840"/>
                  <a:ext cx="3039840" cy="161568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Text Box 7"/>
                <p:cNvSpPr/>
                <p:nvPr/>
              </p:nvSpPr>
              <p:spPr>
                <a:xfrm>
                  <a:off x="4843080" y="2652120"/>
                  <a:ext cx="2490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4d4d4d"/>
                      </a:solidFill>
                      <a:latin typeface="Verdana"/>
                    </a:rPr>
                    <a:t>External economic efficienc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8"/>
              <p:cNvGrpSpPr/>
              <p:nvPr/>
            </p:nvGrpSpPr>
            <p:grpSpPr>
              <a:xfrm>
                <a:off x="3525120" y="3599640"/>
                <a:ext cx="3196080" cy="3272040"/>
                <a:chOff x="3525120" y="3599640"/>
                <a:chExt cx="3196080" cy="3272040"/>
              </a:xfrm>
            </p:grpSpPr>
            <p:sp>
              <p:nvSpPr>
                <p:cNvPr id="124" name="Oval 9"/>
                <p:cNvSpPr/>
                <p:nvPr/>
              </p:nvSpPr>
              <p:spPr>
                <a:xfrm rot="13660200">
                  <a:off x="3690360" y="4379040"/>
                  <a:ext cx="2865240" cy="171324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10"/>
                <p:cNvSpPr/>
                <p:nvPr/>
              </p:nvSpPr>
              <p:spPr>
                <a:xfrm>
                  <a:off x="4266720" y="4811040"/>
                  <a:ext cx="18259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4d4d4d"/>
                      </a:solidFill>
                      <a:latin typeface="Verdana"/>
                    </a:rPr>
                    <a:t>External social efficienc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Group 11"/>
              <p:cNvGrpSpPr/>
              <p:nvPr/>
            </p:nvGrpSpPr>
            <p:grpSpPr>
              <a:xfrm>
                <a:off x="826560" y="3617640"/>
                <a:ext cx="3297600" cy="3286080"/>
                <a:chOff x="826560" y="3617640"/>
                <a:chExt cx="3297600" cy="3286080"/>
              </a:xfrm>
            </p:grpSpPr>
            <p:sp>
              <p:nvSpPr>
                <p:cNvPr id="127" name="Oval 12"/>
                <p:cNvSpPr/>
                <p:nvPr/>
              </p:nvSpPr>
              <p:spPr>
                <a:xfrm rot="18919200">
                  <a:off x="955080" y="4452480"/>
                  <a:ext cx="3039840" cy="161568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Text Box 13"/>
                <p:cNvSpPr/>
                <p:nvPr/>
              </p:nvSpPr>
              <p:spPr>
                <a:xfrm>
                  <a:off x="1547640" y="4849200"/>
                  <a:ext cx="1825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4d4d4d"/>
                      </a:solidFill>
                      <a:latin typeface="Verdana"/>
                    </a:rPr>
                    <a:t>Internal efficienc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17"/>
              <p:cNvGrpSpPr/>
              <p:nvPr/>
            </p:nvGrpSpPr>
            <p:grpSpPr>
              <a:xfrm>
                <a:off x="2958840" y="390240"/>
                <a:ext cx="1825560" cy="2865240"/>
                <a:chOff x="2958840" y="390240"/>
                <a:chExt cx="1825560" cy="2865240"/>
              </a:xfrm>
            </p:grpSpPr>
            <p:sp>
              <p:nvSpPr>
                <p:cNvPr id="130" name="Oval 18"/>
                <p:cNvSpPr/>
                <p:nvPr/>
              </p:nvSpPr>
              <p:spPr>
                <a:xfrm rot="16200000">
                  <a:off x="2464200" y="966960"/>
                  <a:ext cx="2865240" cy="1711440"/>
                </a:xfrm>
                <a:prstGeom prst="ellipse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Text Box 19"/>
                <p:cNvSpPr/>
                <p:nvPr/>
              </p:nvSpPr>
              <p:spPr>
                <a:xfrm>
                  <a:off x="2958840" y="1485720"/>
                  <a:ext cx="1825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4d4d4d"/>
                      </a:solidFill>
                      <a:latin typeface="Verdana"/>
                    </a:rPr>
                    <a:t>Vision</a:t>
                  </a:r>
                  <a:r>
                    <a:rPr b="0" lang="en-GB" sz="1800" spc="-1" strike="noStrike">
                      <a:solidFill>
                        <a:srgbClr val="4d4d4d"/>
                      </a:solidFill>
                      <a:latin typeface="Verdana"/>
                    </a:rPr>
                    <a:t> &amp; state of art in VE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" name="Text Box 14"/>
          <p:cNvSpPr/>
          <p:nvPr/>
        </p:nvSpPr>
        <p:spPr>
          <a:xfrm>
            <a:off x="5508720" y="189000"/>
            <a:ext cx="331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b9cc"/>
                </a:solidFill>
                <a:latin typeface="Arial"/>
              </a:rPr>
              <a:t>2. METHODOLOGY (3/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b9cc"/>
                </a:solidFill>
                <a:latin typeface="Arial"/>
              </a:rPr>
              <a:t>Analytical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3328200" y="325440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Tor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796000" y="285264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4"/>
          <p:cNvSpPr/>
          <p:nvPr/>
        </p:nvSpPr>
        <p:spPr>
          <a:xfrm rot="20290200">
            <a:off x="8364600" y="477720"/>
            <a:ext cx="563400" cy="2588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5"/>
          <p:cNvSpPr/>
          <p:nvPr/>
        </p:nvSpPr>
        <p:spPr>
          <a:xfrm rot="13660200">
            <a:off x="8287920" y="820800"/>
            <a:ext cx="458640" cy="29376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6"/>
          <p:cNvSpPr/>
          <p:nvPr/>
        </p:nvSpPr>
        <p:spPr>
          <a:xfrm rot="825000">
            <a:off x="7596000" y="490680"/>
            <a:ext cx="577800" cy="25848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"/>
          <p:cNvSpPr/>
          <p:nvPr/>
        </p:nvSpPr>
        <p:spPr>
          <a:xfrm rot="16200000">
            <a:off x="8040600" y="257040"/>
            <a:ext cx="458640" cy="3222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 rot="18919200">
            <a:off x="7738920" y="842760"/>
            <a:ext cx="557280" cy="2743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340000" y="-27000"/>
            <a:ext cx="5234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b9cc"/>
                </a:solidFill>
                <a:latin typeface="Arial"/>
              </a:rPr>
              <a:t>3. Results by building block (1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b9cc"/>
                </a:solidFill>
                <a:latin typeface="Arial"/>
              </a:rPr>
              <a:t>Vision &amp; state of art in V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95280" y="1125360"/>
            <a:ext cx="4105440" cy="288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6699ff"/>
                </a:solidFill>
                <a:latin typeface="Arial"/>
              </a:rPr>
              <a:t>Analytical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Expressed vision in national strateg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Consistency with economic and industry policies or social polic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Links with general and HE policies ? With the architecture of the education and training system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Links with resourcing budget alloc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Links with the institutional setting, accountability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Espace réservé du contenu 4"/>
          <p:cNvSpPr/>
          <p:nvPr/>
        </p:nvSpPr>
        <p:spPr>
          <a:xfrm>
            <a:off x="4643280" y="1844640"/>
            <a:ext cx="4100760" cy="20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Sources of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National strategy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National budgets, finance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Organi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3399"/>
                </a:solidFill>
                <a:latin typeface="Arial"/>
              </a:rPr>
              <a:t>Focus groups with social partners (EB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600" spc="-1" strike="noStrike">
                <a:solidFill>
                  <a:srgbClr val="003399"/>
                </a:solidFill>
                <a:latin typeface="Arial"/>
              </a:rPr>
              <a:t>But limited evi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250920" y="4076640"/>
            <a:ext cx="864216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ff"/>
                </a:solidFill>
                <a:latin typeface="Arial"/>
              </a:rPr>
              <a:t>Key messages and policy priorities - VISION</a:t>
            </a:r>
            <a:r>
              <a:rPr b="1" i="1" lang="fr-BE" sz="2400" spc="-1" strike="noStrike">
                <a:solidFill>
                  <a:srgbClr val="00b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PC visions make VET a key vehicle for economic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competitiveness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 and to a lesser extent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social cohesion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– not connected to sustainable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Vision hampered by a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narrow scope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for VET (too often IVET and formal),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institutional fragmentation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, rigid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E&amp;T architecture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in some contexts, centralized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governance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, uneven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budget allo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Need for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more direct articulation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with other eco, edu, social polic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Need for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multi-level and inclusive governance </a:t>
            </a:r>
            <a:r>
              <a:rPr b="0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supported by social partnership and institutional </a:t>
            </a:r>
            <a:r>
              <a:rPr b="1" lang="fr-BE" sz="1800" spc="-1" strike="noStrike">
                <a:solidFill>
                  <a:srgbClr val="003399"/>
                </a:solidFill>
                <a:latin typeface="Arial"/>
                <a:ea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56:59Z</dcterms:created>
  <dc:creator>Joanna Anstey</dc:creator>
  <dc:description/>
  <dc:language>en-US</dc:language>
  <cp:lastModifiedBy>zieglsu</cp:lastModifiedBy>
  <cp:lastPrinted>2011-03-15T14:28:19Z</cp:lastPrinted>
  <dcterms:modified xsi:type="dcterms:W3CDTF">2011-03-16T10:07:53Z</dcterms:modified>
  <cp:revision>226</cp:revision>
  <dc:subject/>
  <dc:title>Ti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W_CustomTitle">
    <vt:lpwstr>SWING Integrator Document</vt:lpwstr>
  </property>
  <property fmtid="{D5CDD505-2E9C-101B-9397-08002B2CF9AE}" pid="3" name="SW_DialogTitle">
    <vt:lpwstr>SWING Integrator for Notes and Office</vt:lpwstr>
  </property>
  <property fmtid="{D5CDD505-2E9C-101B-9397-08002B2CF9AE}" pid="4" name="SW_DocUNID">
    <vt:lpwstr>77A37FFEA8D07518C1256F660040E59F</vt:lpwstr>
  </property>
  <property fmtid="{D5CDD505-2E9C-101B-9397-08002B2CF9AE}" pid="5" name="SW_IntOfficeMacros">
    <vt:lpwstr>Enabled</vt:lpwstr>
  </property>
  <property fmtid="{D5CDD505-2E9C-101B-9397-08002B2CF9AE}" pid="6" name="SW_NewDocument">
    <vt:lpwstr/>
  </property>
  <property fmtid="{D5CDD505-2E9C-101B-9397-08002B2CF9AE}" pid="7" name="SW_PromptText">
    <vt:lpwstr>Do you want to save?</vt:lpwstr>
  </property>
  <property fmtid="{D5CDD505-2E9C-101B-9397-08002B2CF9AE}" pid="8" name="SW_SaveCloseOfficeText">
    <vt:lpwstr>Save and Close Office document</vt:lpwstr>
  </property>
  <property fmtid="{D5CDD505-2E9C-101B-9397-08002B2CF9AE}" pid="9" name="SW_SaveCloseText">
    <vt:lpwstr>Save and Close Notes document</vt:lpwstr>
  </property>
  <property fmtid="{D5CDD505-2E9C-101B-9397-08002B2CF9AE}" pid="10" name="SW_SaveText">
    <vt:lpwstr>Save to Notes</vt:lpwstr>
  </property>
</Properties>
</file>