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79DB4-73A1-4801-A52A-F7B83145E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4969-954D-4731-987A-CB7DC0F6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1D488-B48B-491B-9B4B-1B68E19C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736FA-BD74-4A5A-B859-80CB7A4A7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C6D9B6-4E0A-44C1-A2C3-6BE0DE0C7F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185CE-ED3C-4DC5-9CB6-E353698644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95F40-7AF3-4E97-A605-B6325A5490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1A742C-F5F2-481E-9686-C1FB176C71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1FA57-CBCB-44C7-8DCD-D5361AF68D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E7FC7-8ADF-4996-9054-62458516E4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E7EC6-A161-480F-A500-77AC6EFFED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DA4C-A77F-4C31-AB1A-07A3C4E04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75847-96BF-46F7-8483-30803A4E4D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ABA81-DCA8-452A-8250-4573B5CF6B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9D72B5-FA0B-4AEF-916D-D4F8EFB580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858F1D-D88E-4D31-925E-6C13BB2064E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598D46-289F-41C0-9D1D-9B2137F0AF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5DD5-4EFE-4A7D-8E35-6344E170F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DE2E1-48CB-421D-BA44-A253A2811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22218-5A7E-4ECE-846E-1CC904A6B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2B73-F994-4846-9BD6-28B5776B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9328-C4EB-459C-ACF8-35514A07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F551-81D5-4DAF-B6B1-CA5056564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0512-55AA-4F6E-A777-6692F1B18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BB750C32-C569-4F1F-9D51-626A91FAC3B2}" type="datetime11">
              <a:rPr b="0" lang="en-US" sz="1400" spc="-1" strike="noStrike">
                <a:solidFill>
                  <a:srgbClr val="ffffff"/>
                </a:solidFill>
                <a:latin typeface="Times New Roman"/>
              </a:rPr>
              <a:t>18:00:0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4955-6682-48BE-A160-A257CAAFBE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4A16-37B0-4089-B336-88213C9F96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2A1C085E-3140-4451-9641-4C35DFB98B91}" type="datetime11">
              <a:rPr b="0" lang="en-US" sz="1400" spc="-1" strike="noStrike">
                <a:solidFill>
                  <a:srgbClr val="ffffff"/>
                </a:solidFill>
                <a:latin typeface="Times New Roman"/>
              </a:rPr>
              <a:t>18:00:07</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1F42445-A33F-44B4-BD7B-44A61BF8AA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84262C0-C508-4E3F-A94B-888FE2497E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AB7B743-93BE-4CCD-866A-0811AE7F0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03793EE-3A50-4E89-95DD-FA91B3B026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64DEEACE-DB12-4BE0-8418-F658AB5F4F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3DB95CF-0B1E-4D26-883F-520FEDF55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E93591B-9A7B-4267-8EE3-D76179BA1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FFA323D-9063-429F-B94E-2DBCB90BD2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BA932170-D5CE-4B8D-831F-B6A76B39F4E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06F7C57-09FE-4ED8-BF24-DF5DC288D95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5989027-DCA0-46F8-9478-E179D2EB97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9FC3859-6307-4DB5-8D6B-27CD33D287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B2C81D8-5AF8-4C9B-A549-04DC424EC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3C0B4EB-FEB3-4AA8-80C3-3CD978D5E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FF43261-DE96-4063-A92B-365D9457B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620D5BA-7F01-4EB9-B9B8-ADE10635A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6EF325E-B5DA-4228-953E-D9F911395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