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42582-E524-461F-92F7-97DEB78E7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9293-C2FB-41AD-A69D-43156328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8ED0-A72A-4802-83F2-581B50136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DCCFF-9C3B-4CDD-9C9F-7D5F41B5F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DFDB25-5D6A-4A25-9C22-42D6765DB4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D6EE27-6940-4503-9325-74A2971A09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ACD24-2A8D-4EB2-9C33-53AAAA5277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40B01D-9649-4688-923F-2309E0D87E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002D63-C265-4FBE-925F-1BE4B8AFFA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DD49A-3AC6-4D62-BA8C-5D8703136B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AE3B4-2FC8-4C17-B006-3CBCDF1D58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6FE3-EDB2-4E85-9296-86DFD7D0D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B5482-4C8F-41A8-AAD0-2E0E1B95BD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EBF89-4F5C-4A18-B951-78062FD208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47CB0-EDB8-45ED-A550-442EA582A9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A6C99C-181D-4CBE-998E-E9E406D6EF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0F6352-650D-4073-9287-475E380947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152AF-28EE-4998-94A4-A07CF7EE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9E469-1001-4E51-92D6-3366A5264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302AE-D88F-4CB1-9167-1F200041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A84B-505D-43F9-9C6E-E7F6EBE2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51BA-1311-46D1-84EF-93CBF60D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449D-404B-4546-A057-935110D1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70FA-C635-4FAD-926F-667D474D2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51797F75-3B06-4FF6-BED2-E3ED46EFD742}" type="datetime11">
              <a:rPr b="0" lang="en-US" sz="1400" spc="-1" strike="noStrike">
                <a:solidFill>
                  <a:srgbClr val="ffffff"/>
                </a:solidFill>
                <a:latin typeface="Times New Roman"/>
              </a:rPr>
              <a:t>18:01:3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EDA9-5765-4FB4-9087-960C4B1877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69EB-36E6-4570-82AF-B3454F1BED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BE4FE1D4-B95A-4DE7-BB23-A645D6551E51}" type="datetime11">
              <a:rPr b="0" lang="en-US" sz="1400" spc="-1" strike="noStrike">
                <a:solidFill>
                  <a:srgbClr val="ffffff"/>
                </a:solidFill>
                <a:latin typeface="Times New Roman"/>
              </a:rPr>
              <a:t>18:01:34</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A07E0A-5F40-460B-8514-D572BF5C0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F47D3B-FFB8-4A29-8A3B-12CFEE9331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AC8412F-CEA3-4503-A828-E97BBF20BF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83C3492-96CB-410F-8EFE-24BD244AB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78F43084-8C5A-41D2-AE78-B378BA5FF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556BBB4-B463-4D67-8BC1-1A87F3280A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BEA6442-8D05-4B36-ABB5-1E05FB15B7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33BC330-4033-4DB9-AD42-499B7929C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ADB63E0E-D8C1-4604-AEE5-27E2C607F2AF}"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6E414AD-496B-4C81-8429-43735C962DE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A720FC4-59AA-4ABC-8017-0183048B2F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07F53A5-9C05-4473-BA39-7FEB3F827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94F47FA-3703-4470-9D05-83BC60EB0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3A6FD2C-1783-4DC6-BD91-1DCCE9616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E074BBC-A127-49A1-B06E-29B4500D2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F965CEC-60F2-483C-9835-99D00F56D3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B7347A6-1A65-4A2C-92F4-754FB9E135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