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4A08-A760-47C6-A9E0-B316DA2FBC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621-A129-4FA5-B06B-A2FA59E915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DE53-6D9E-4064-8669-4362D41ADCD1}" type="datetime">
              <a:rPr b="0" lang="en-US" sz="1200" spc="-1" strike="noStrike">
                <a:solidFill>
                  <a:srgbClr val="ffffff"/>
                </a:solidFill>
                <a:latin typeface="Verdana"/>
              </a:rPr>
              <a:t>07/29/26</a:t>
            </a:fld>
            <a:r>
              <a:rPr b="0" lang="en-US" sz="1200" spc="-1" strike="noStrike">
                <a:solidFill>
                  <a:srgbClr val="ffffff"/>
                </a:solidFill>
                <a:latin typeface="Verdana"/>
              </a:rPr>
              <a:t> </a:t>
            </a:r>
            <a:fld id="{74920A0E-2728-41E3-936A-18A94894F0E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F251-1973-4180-9067-BBB75A7D6D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D7EB-DA0D-4A0C-A010-652503017DC8}" type="datetime">
              <a:rPr b="0" lang="en-US" sz="1200" spc="-1" strike="noStrike">
                <a:solidFill>
                  <a:srgbClr val="ffffff"/>
                </a:solidFill>
                <a:latin typeface="Verdana"/>
              </a:rPr>
              <a:t>07/29/26</a:t>
            </a:fld>
            <a:r>
              <a:rPr b="0" lang="en-US" sz="1200" spc="-1" strike="noStrike">
                <a:solidFill>
                  <a:srgbClr val="ffffff"/>
                </a:solidFill>
                <a:latin typeface="Verdana"/>
              </a:rPr>
              <a:t> </a:t>
            </a:r>
            <a:fld id="{E519A410-86E6-471E-9BD0-569D4CCF2A9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BD48-EF10-4059-9192-02189DA8393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9601-F314-4B15-907E-3DC7C4890DD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F131-FB3D-4C79-9334-ACD37AF2C8AE}" type="datetime">
              <a:rPr b="0" lang="en-US" sz="1200" spc="-1" strike="noStrike">
                <a:solidFill>
                  <a:srgbClr val="ffffff"/>
                </a:solidFill>
                <a:latin typeface="Verdana"/>
              </a:rPr>
              <a:t>07/29/26</a:t>
            </a:fld>
            <a:r>
              <a:rPr b="0" lang="en-US" sz="1200" spc="-1" strike="noStrike">
                <a:solidFill>
                  <a:srgbClr val="ffffff"/>
                </a:solidFill>
                <a:latin typeface="Verdana"/>
              </a:rPr>
              <a:t> </a:t>
            </a:r>
            <a:fld id="{E2F27EB9-5084-4304-9F8F-2610E9FB55C4}"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7047-7B50-4CB9-B92A-E313751040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D6E7-6BC2-49DC-A657-3ABA255592C9}" type="datetime">
              <a:rPr b="0" lang="en-US" sz="1200" spc="-1" strike="noStrike">
                <a:solidFill>
                  <a:srgbClr val="ffffff"/>
                </a:solidFill>
                <a:latin typeface="Verdana"/>
              </a:rPr>
              <a:t>07/29/26</a:t>
            </a:fld>
            <a:r>
              <a:rPr b="0" lang="en-US" sz="1200" spc="-1" strike="noStrike">
                <a:solidFill>
                  <a:srgbClr val="ffffff"/>
                </a:solidFill>
                <a:latin typeface="Verdana"/>
              </a:rPr>
              <a:t> </a:t>
            </a:r>
            <a:fld id="{89E5C0CC-C263-4053-BD70-0FFCC97ABA5A}"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449A-B510-412C-8CEB-B3DFA30AC6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F296-63BA-4BFB-95EE-C8DF592326C0}" type="datetime">
              <a:rPr b="0" lang="en-US" sz="1200" spc="-1" strike="noStrike">
                <a:solidFill>
                  <a:srgbClr val="ffffff"/>
                </a:solidFill>
                <a:latin typeface="Verdana"/>
              </a:rPr>
              <a:t>07/29/26</a:t>
            </a:fld>
            <a:r>
              <a:rPr b="0" lang="en-US" sz="1200" spc="-1" strike="noStrike">
                <a:solidFill>
                  <a:srgbClr val="ffffff"/>
                </a:solidFill>
                <a:latin typeface="Verdana"/>
              </a:rPr>
              <a:t> </a:t>
            </a:r>
            <a:fld id="{2EE8DFDC-3C05-45FE-AD34-0E10C84F17C4}"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5D59-67FC-47B3-9C2B-652349EA7D4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2DA4-33FA-4AE3-B6A2-E46A95C398EC}" type="datetime">
              <a:rPr b="0" lang="en-US" sz="1200" spc="-1" strike="noStrike">
                <a:solidFill>
                  <a:srgbClr val="ffffff"/>
                </a:solidFill>
                <a:latin typeface="Verdana"/>
              </a:rPr>
              <a:t>07/29/26</a:t>
            </a:fld>
            <a:r>
              <a:rPr b="0" lang="en-US" sz="1200" spc="-1" strike="noStrike">
                <a:solidFill>
                  <a:srgbClr val="ffffff"/>
                </a:solidFill>
                <a:latin typeface="Verdana"/>
              </a:rPr>
              <a:t> </a:t>
            </a:r>
            <a:fld id="{57621F29-B363-4D4A-9E9F-E7022F6DFB1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4680-7ED3-4026-9A3A-4C5324ACDE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24D1-7C9D-46AC-ADFE-30ADE7F9FE50}" type="datetime">
              <a:rPr b="0" lang="en-US" sz="1200" spc="-1" strike="noStrike">
                <a:solidFill>
                  <a:srgbClr val="ffffff"/>
                </a:solidFill>
                <a:latin typeface="Verdana"/>
              </a:rPr>
              <a:t>07/29/26</a:t>
            </a:fld>
            <a:r>
              <a:rPr b="0" lang="en-US" sz="1200" spc="-1" strike="noStrike">
                <a:solidFill>
                  <a:srgbClr val="ffffff"/>
                </a:solidFill>
                <a:latin typeface="Verdana"/>
              </a:rPr>
              <a:t> </a:t>
            </a:r>
            <a:fld id="{25FBFBD1-9A5C-4E40-A510-8CCDB8CDBE9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9307-3E47-4C8A-B67E-AC2D5A95609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80AD-AEA0-4A9C-BB81-5D70749DD55F}" type="datetime">
              <a:rPr b="0" lang="en-US" sz="1200" spc="-1" strike="noStrike">
                <a:solidFill>
                  <a:srgbClr val="ffffff"/>
                </a:solidFill>
                <a:latin typeface="Verdana"/>
              </a:rPr>
              <a:t>07/29/26</a:t>
            </a:fld>
            <a:r>
              <a:rPr b="0" lang="en-US" sz="1200" spc="-1" strike="noStrike">
                <a:solidFill>
                  <a:srgbClr val="ffffff"/>
                </a:solidFill>
                <a:latin typeface="Verdana"/>
              </a:rPr>
              <a:t> </a:t>
            </a:r>
            <a:fld id="{7305B557-A595-404C-BC71-79B35AFF0AE9}"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FB4D-FF8D-4DB8-96CC-22208658F7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9A4C-6617-4E21-A23B-EC1FFB1375F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868E-76BC-472C-B87A-18332CCAAF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6504-6DCE-4A28-92B9-D2D860D1169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F402-B687-4793-BCFD-3460958C7C2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5233-C673-4A81-ADD7-A19AF74A6DB7}" type="datetime">
              <a:rPr b="0" lang="en-US" sz="1200" spc="-1" strike="noStrike">
                <a:solidFill>
                  <a:srgbClr val="ffffff"/>
                </a:solidFill>
                <a:latin typeface="Verdana"/>
              </a:rPr>
              <a:t>07/29/26</a:t>
            </a:fld>
            <a:r>
              <a:rPr b="0" lang="en-US" sz="1200" spc="-1" strike="noStrike">
                <a:solidFill>
                  <a:srgbClr val="ffffff"/>
                </a:solidFill>
                <a:latin typeface="Verdana"/>
              </a:rPr>
              <a:t> </a:t>
            </a:r>
            <a:fld id="{ABC1F2A8-3206-4FB5-A216-0238E3F3B3D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3F1C-C9F0-4001-BE79-394CCF5F672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327A-48A4-428C-BD54-BFD134D84AED}" type="datetime">
              <a:rPr b="0" lang="en-US" sz="1200" spc="-1" strike="noStrike">
                <a:solidFill>
                  <a:srgbClr val="ffffff"/>
                </a:solidFill>
                <a:latin typeface="Verdana"/>
              </a:rPr>
              <a:t>07/29/26</a:t>
            </a:fld>
            <a:r>
              <a:rPr b="0" lang="en-US" sz="1200" spc="-1" strike="noStrike">
                <a:solidFill>
                  <a:srgbClr val="ffffff"/>
                </a:solidFill>
                <a:latin typeface="Verdana"/>
              </a:rPr>
              <a:t> </a:t>
            </a:r>
            <a:fld id="{16421C9A-64AC-480E-B3A6-51BC5B2B9B59}"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8DCC-FC93-490C-B687-0A143CB047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140B-198B-4CA9-8F5D-F1F41F5EC3F2}" type="datetime">
              <a:rPr b="0" lang="en-US" sz="1200" spc="-1" strike="noStrike">
                <a:solidFill>
                  <a:srgbClr val="ffffff"/>
                </a:solidFill>
                <a:latin typeface="Verdana"/>
              </a:rPr>
              <a:t>07/29/26</a:t>
            </a:fld>
            <a:r>
              <a:rPr b="0" lang="en-US" sz="1200" spc="-1" strike="noStrike">
                <a:solidFill>
                  <a:srgbClr val="ffffff"/>
                </a:solidFill>
                <a:latin typeface="Verdana"/>
              </a:rPr>
              <a:t> </a:t>
            </a:r>
            <a:fld id="{BE48AEE1-3816-40C6-8271-5CEF993BB59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1151-303C-452F-8FF4-4F4DF7B16E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CC419-8F3B-4799-953B-74BE1FFE1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9474-2827-4765-A42E-49B69944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A628D-4DAF-4642-B7D3-5FC32ECDD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425A3-BE76-4681-AEA1-247A9E286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36B89-793F-4984-A146-4EE4D9A2B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35CE8-A962-42C0-AD1E-3EE29F1CF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508BE-08DD-4649-8A66-503906A8A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6CB46-0144-485D-AB81-C3ED88292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93F5C-823D-46E8-A3F8-B51D2593C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D0D57-1B8F-433D-9E6A-BBE1C1C6A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6DF84-22F1-4F59-9367-884488EE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84CF6-4EB8-448B-801E-872F08DC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26F88-3CA9-4986-A39E-69F73F112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AE1EC-D394-4A2D-800E-AA81F2331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C939D-6E7F-41D3-8F26-41EAED28C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89FA6-5BF1-400F-BD95-60814709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94F79-D059-4A59-BDE7-28C5F0F1C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5EC6-AF5D-417B-8E04-6B3415B28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B2DB-98E2-4B79-9A67-1C7214BFE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2F93-C169-4399-AB45-727491BD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457D-E5AF-4255-8662-75DE9DBA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33B3-980E-4201-8D5C-19DBEAF3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8E7C-E29F-450B-9A7E-E1DBDD37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C212-52D7-4BAC-B77B-9D1F8D875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058E-838A-4D70-8442-F1CA010B77D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5884-26E8-476B-B140-916CF3F93FB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6499-5E3E-43A2-880D-85CA5A8307C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