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5440-F8C9-4B9D-BAA4-A89B5CCE2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FE8B-D3DF-4E11-9F2B-2EEE3CC3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D814-14E5-4E58-9F2D-C9E0A9F76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2F10-D745-43CB-A107-1E4989330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29BC-9A5E-44E3-925C-7426A7EC4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70B0-F0F9-46D1-BBE2-A395090C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75A5-9C29-4510-AD20-45B4BD4C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2D9E-4D50-4F83-B6BC-F3824CD9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6456-ACBB-4379-BA09-3F75D4D6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CD59-EB0E-42D3-92E3-B5874736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4769-17C8-43AB-AC53-C3C603C0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6D1D-72D9-4DC2-BF93-6AEBB584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734B-7C4B-4D90-BB9D-166D7858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6238-3E5E-4D5D-AE45-3CA51756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7E8B-F943-41A7-9C09-EF5B66D4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F959-F7CF-4A39-A8B2-34669A78F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1A24-47F6-4979-B393-5C993E8E5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7C19-CBCD-4CFD-9172-6C25A543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E96C-A3B8-4672-8AA4-623897AA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5243-0E8A-4ABC-A642-89A06AEF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C885-8076-4D5F-A16D-060AE13A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2462-D002-4154-BD56-2C79C451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671E-993F-4A16-9720-B66A7A67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4B33-BB27-489F-8C0C-73D7580F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E7F7-4D17-4004-A40A-54F9A02737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28A7-114E-4D79-AA34-B9482AA34C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Nairobi Water and Sanitation, Workshop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2285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ector Budget Support: Lesotho Experi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Fairview Hotel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Nairobi, 18 - 21 October, 20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by: E. M. Les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VENTION BY SBS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cted results and activit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5540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on capacity addressin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ing 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rification of institutional responsib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ivery of water supply and sanitation service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urban and rural areas impro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dialogu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ctor Communica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r  improved services deliv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666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e among others importanc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Coordination Meet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Youth Water and Action Te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Water Partnershi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s le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si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3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s learned when introducing change and implementing re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7521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efully map-up direction you want to tak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all stakeholders involved in influencing decisions support reform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nfu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started reforms for good course go straigh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lly everybody aroun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cate effectivel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 the chang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open-up good opportunities for all stakeholde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background until 19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uring 1986-1995 the followings were do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epartment of Water Affairs was established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pleted Lesotho Highlands Water Project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stablished DRWS and SWAP for rural setting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bined Ministry of Lesotho Water Project with Ministry of Water, Energy, and Mining and formed Ministry of Natural Resourc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ector situation analysis for 1996-1998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sector fragmentation became obstacle for project apprais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nced Lesotho Highlands Water Phase-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ed After-Care-Strate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road for water sector 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Resources Management Policy – 1999 was endorsed by Cabi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y Wastewater Management Policy endor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Sector Improvement Program develop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lands Water Supply Unit was established in 200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cy, Planning, and Strategy Unit was established to advise formulation and develop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2003 Commissioner of Water recruited and tasked to driver the reform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binet endorsed Water and  Sanitation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or coordination, various missions were recei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essively develop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sector progra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was based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Polic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strateg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budget and medium-term expendi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der balanced Steering Committee (SC) establish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and Sanitation Policy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8600" y="19810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ter Sector endorsed feedback from stakeholder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C developed IWSS aiming a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ing Water and Sanitation Policy (WSP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uring funding for Water Sector developmen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tor also developing Financing Strategy for further implementation of IWS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lete IWSS by end of March 2010, and Cabinet endor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lement IWSS for financial years: 2010 to 2012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velop, complete, and endorse a Five year sector strategy by end of 2011 for period: 2012 to 2017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rocess (roadmap) for development of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nterim Water and Sanitation Sector Strategy (IWSS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ASELINE AND TARGET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SUES OF WATER SERVICE DELIVERY TO MEET MDGs</a:t>
            </a:r>
            <a:br>
              <a:rPr sz="32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of SBS is to address Policy statements: 2 and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52280" y="2995560"/>
            <a:ext cx="8763120" cy="378612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8947-D4A2-40E4-A76A-2FEEC864DD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21644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Policy Support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Budget Support and Technical Assistance – centralized manag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bursement (in Fixed tranche and Variable tranche) is foreseen for first quarter of Financial Year following joint revie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 Conditions for disbursement of each tranch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ic Conditions for tranche release of variable tranch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evaluation arrangements for variable tranch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≥100%, ≥50%, &lt;50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formance Indic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04920" y="685800"/>
            <a:ext cx="86104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indicators will be used to measure urban performa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access to water supp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rules for tariffs and connection fees allowing for free basic water to vulnerable households developed, tested and approved by the Regula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0 new public standpipes serving about 15,000 persons established for providing access to water in areas with low connection rates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,000 new domestic connections installed serving about 30,000 pers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operating effici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policy and strategy for meter calibration and replacement developed and being implement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fW reduced to an average of 27% overall by March 2012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ergy consumption reduced by 20% from M9.3m/annum in 2008/09 to M7.44m/annum in the 2011/12 financial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production capac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SA’s production capacity increased by 29.52ML/day by March 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lization of Institutional Arrange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9047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A is now a registered Water and Sewage Company (WASC) and shall be regulate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 has become multi-sector regulator.  Lesotho Electricity and Water  Authority (LEWA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sset management agency will be created during 2010/11 Financial Yea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ulk Water Authority will also be created during this Financial Year 2010/1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Windows User</cp:lastModifiedBy>
  <dcterms:modified xsi:type="dcterms:W3CDTF">2010-10-20T05:52:49Z</dcterms:modified>
  <cp:revision>378</cp:revision>
  <dc:subject/>
  <dc:title>Slide 1</dc:title>
</cp:coreProperties>
</file>