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D3A-A447-4218-836B-82E67D62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D9C5-CF83-4BA1-A365-43E8D944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C92-C25A-4412-9313-64BF119C1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5A9-6244-474D-B101-B21D2772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9D3-EC6B-4D27-B2D8-C8A0E919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00B5-11CE-49CE-BBFC-654D4742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D955-89B2-4C7D-BBBF-AC63379C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BCF-831D-455B-AB2C-F77C3030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2909_EFI_Powerpoint_back_base2b"/>
          <p:cNvPicPr/>
          <p:nvPr/>
        </p:nvPicPr>
        <p:blipFill>
          <a:blip r:embed="rId2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228600" y="2057400"/>
            <a:ext cx="837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a353"/>
                </a:solidFill>
                <a:latin typeface="Arial"/>
              </a:rPr>
              <a:t>FLEGT Action Plan and VPA process: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4468680"/>
            <a:ext cx="5181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11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Julia Falc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2909_EFI_Powerpoint_background2a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2909_EFI_Powerpoint_background2b"/>
          <p:cNvPicPr/>
          <p:nvPr/>
        </p:nvPicPr>
        <p:blipFill>
          <a:blip r:embed="rId1"/>
          <a:stretch/>
        </p:blipFill>
        <p:spPr>
          <a:xfrm>
            <a:off x="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deforestation rates still occur at alarming rate – 13 million hectares a year.  And illegal logging is one of the major drivers of deforestation. Deforestation is responsible for half of the emissions from developing countries and account for close to 20% of global emi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llegal logging means that across the world $15 billion of revenues are lost every year, money that should be spent on development, furthermore it is estimated that this depresses timber prices by 1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sts are key to life. For people, for biodiversity, for carbon and water storage.  1.2 billion people, a fifth of the world’s population, depend on forests for their liveliho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is one of the largest consumers of timber in the world: in 2007 imported equivalent of 180 million m3 of timber or a value of $40 billion. Though difficult to estimate, studies suggest that 20-40% of trade from tropical countries has been illegally harvest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8600" y="1600200"/>
            <a:ext cx="563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Key fig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7"/>
          <p:cNvSpPr/>
          <p:nvPr/>
        </p:nvSpPr>
        <p:spPr>
          <a:xfrm>
            <a:off x="250920" y="1484280"/>
            <a:ext cx="835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fight against illegal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50920" y="2133720"/>
            <a:ext cx="84470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GT stand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orce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na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55560" y="2781360"/>
            <a:ext cx="8482680" cy="916920"/>
            <a:chOff x="655560" y="2781360"/>
            <a:chExt cx="8482680" cy="916920"/>
          </a:xfrm>
        </p:grpSpPr>
        <p:sp>
          <p:nvSpPr>
            <p:cNvPr id="57" name=""/>
            <p:cNvSpPr/>
            <p:nvPr/>
          </p:nvSpPr>
          <p:spPr>
            <a:xfrm>
              <a:off x="655560" y="2781360"/>
              <a:ext cx="2160720" cy="647280"/>
            </a:xfrm>
            <a:prstGeom prst="ellipse">
              <a:avLst/>
            </a:prstGeom>
            <a:noFill/>
            <a:ln w="25560">
              <a:solidFill>
                <a:srgbClr val="36a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16280" y="3141360"/>
              <a:ext cx="2376360" cy="0"/>
            </a:xfrm>
            <a:prstGeom prst="line">
              <a:avLst/>
            </a:prstGeom>
            <a:ln w="25560">
              <a:solidFill>
                <a:srgbClr val="36a35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69320" y="2781360"/>
              <a:ext cx="386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all stakeholders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inforced by role in climate chan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3357720"/>
            <a:ext cx="8552880" cy="1074240"/>
            <a:chOff x="395280" y="3357720"/>
            <a:chExt cx="8552880" cy="1074240"/>
          </a:xfrm>
        </p:grpSpPr>
        <p:sp>
          <p:nvSpPr>
            <p:cNvPr id="61" name=""/>
            <p:cNvSpPr/>
            <p:nvPr/>
          </p:nvSpPr>
          <p:spPr>
            <a:xfrm>
              <a:off x="395280" y="3357720"/>
              <a:ext cx="3995640" cy="100800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27640" y="3860640"/>
              <a:ext cx="86508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67240" y="3789360"/>
              <a:ext cx="35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government agenci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ule of law, taxes, …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41400" y="4292640"/>
            <a:ext cx="8197920" cy="1492920"/>
            <a:chOff x="941400" y="4292640"/>
            <a:chExt cx="8197920" cy="1492920"/>
          </a:xfrm>
        </p:grpSpPr>
        <p:sp>
          <p:nvSpPr>
            <p:cNvPr id="65" name=""/>
            <p:cNvSpPr/>
            <p:nvPr/>
          </p:nvSpPr>
          <p:spPr>
            <a:xfrm>
              <a:off x="941400" y="4292640"/>
              <a:ext cx="277164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13040" y="4652640"/>
              <a:ext cx="1944720" cy="431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62080" y="4868640"/>
              <a:ext cx="347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civil socie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ision-making, human righ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genous people, corrup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42920" y="4797360"/>
            <a:ext cx="7050240" cy="1650600"/>
            <a:chOff x="1042920" y="4797360"/>
            <a:chExt cx="7050240" cy="1650600"/>
          </a:xfrm>
        </p:grpSpPr>
        <p:sp>
          <p:nvSpPr>
            <p:cNvPr id="69" name=""/>
            <p:cNvSpPr/>
            <p:nvPr/>
          </p:nvSpPr>
          <p:spPr>
            <a:xfrm>
              <a:off x="1042920" y="4797360"/>
              <a:ext cx="1439640" cy="647640"/>
            </a:xfrm>
            <a:prstGeom prst="ellipse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2560" y="5157720"/>
              <a:ext cx="865440" cy="6476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5805360"/>
              <a:ext cx="481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ters for private sector (access to market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fair competiti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0" y="1484280"/>
            <a:ext cx="89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a353"/>
                </a:solidFill>
                <a:latin typeface="Arial"/>
              </a:rPr>
              <a:t>THE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0" y="2708280"/>
            <a:ext cx="89647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FLEGT Action Plan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islation, MS &amp; EU policy, DevCooperation, Non gov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GT Regulation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untary Partnership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10 : Illegal Timber Regulation (due diligenc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illegal timber and timber products off the E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6a353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0" y="134136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909_EFI_Powerpoint_background2c"/>
          <p:cNvPicPr/>
          <p:nvPr/>
        </p:nvPicPr>
        <p:blipFill>
          <a:blip r:embed="rId1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1844640"/>
            <a:ext cx="89647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responsibilities (EU &amp; Timber produ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&amp;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&amp;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ission &amp;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untary: Strengthen partner country’s ownershi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860640"/>
            <a:ext cx="89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ercial Treaty but not a commercial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reates an opportunity for stakeholder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ustoms to block entry of non-licensed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ystem to verify legal compliance, confirmed though a li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ssociated transparency and communica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Finance : outside the agreement but import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0" y="3500280"/>
            <a:ext cx="8604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VPA : key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08000" y="148428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6a353"/>
                </a:solidFill>
                <a:latin typeface="Arial"/>
              </a:rPr>
              <a:t>Key elements of a V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2060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Definition: partners laws,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lity Assurance System: verifies compliance with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ing of verified legal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pendent Audit/ monitor of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has requirements set out in brief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alit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ased on existing leg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6a353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ed against establish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-stakeholder process </a:t>
            </a:r>
            <a:r>
              <a:rPr b="0" lang="en-GB" sz="2400" spc="-1" strike="noStrike">
                <a:solidFill>
                  <a:srgbClr val="36a353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redibility nationally &amp; internation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6a35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2909_EFI_Powerpoint_back_base2b"/>
          <p:cNvPicPr/>
          <p:nvPr/>
        </p:nvPicPr>
        <p:blipFill>
          <a:blip r:embed="rId1"/>
          <a:stretch/>
        </p:blipFill>
        <p:spPr>
          <a:xfrm>
            <a:off x="0" y="6138720"/>
            <a:ext cx="914544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1484280"/>
            <a:ext cx="8569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a353"/>
                </a:solidFill>
                <a:latin typeface="Arial"/>
              </a:rPr>
              <a:t>Steps in building Partnership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tablishes platform for stakeholder input throughou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igned to encourage substantive reform whe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2909_EFI_Powerpoint_background2c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438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8675640" y="476280"/>
            <a:ext cx="9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2360" y="1217520"/>
            <a:ext cx="8856720" cy="401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5920"/>
            <a:ext cx="28728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979560"/>
            <a:ext cx="2872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5920"/>
            <a:ext cx="3672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GT licenses (not y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o negot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, in-country consensus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P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331920"/>
            <a:ext cx="287280" cy="21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63560"/>
            <a:ext cx="287280" cy="21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547560"/>
            <a:ext cx="28728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71640" y="3573000"/>
            <a:ext cx="864000" cy="1658160"/>
            <a:chOff x="4571640" y="3573000"/>
            <a:chExt cx="864000" cy="16581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859280" y="4653000"/>
              <a:ext cx="57636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81240" y="498492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571640" y="3573000"/>
              <a:ext cx="3589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16000" y="3357720"/>
            <a:ext cx="1656360" cy="1901880"/>
            <a:chOff x="4716000" y="3357720"/>
            <a:chExt cx="1656360" cy="1901880"/>
          </a:xfrm>
        </p:grpSpPr>
        <p:grpSp>
          <p:nvGrpSpPr>
            <p:cNvPr id="102" name=""/>
            <p:cNvGrpSpPr/>
            <p:nvPr/>
          </p:nvGrpSpPr>
          <p:grpSpPr>
            <a:xfrm>
              <a:off x="5796000" y="4653000"/>
              <a:ext cx="576360" cy="606600"/>
              <a:chOff x="5796000" y="4653000"/>
              <a:chExt cx="57636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17240" y="501336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.A.R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96000" y="4653000"/>
                <a:ext cx="576360" cy="384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 flipH="1" flipV="1">
              <a:off x="4716000" y="3357720"/>
              <a:ext cx="1368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03640" y="2997360"/>
            <a:ext cx="2158200" cy="504360"/>
            <a:chOff x="6803640" y="2997360"/>
            <a:chExt cx="2158200" cy="504360"/>
          </a:xfrm>
        </p:grpSpPr>
        <p:grpSp>
          <p:nvGrpSpPr>
            <p:cNvPr id="107" name=""/>
            <p:cNvGrpSpPr/>
            <p:nvPr/>
          </p:nvGrpSpPr>
          <p:grpSpPr>
            <a:xfrm>
              <a:off x="8282880" y="2997360"/>
              <a:ext cx="678960" cy="504360"/>
              <a:chOff x="8282880" y="2997360"/>
              <a:chExt cx="678960" cy="504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282880" y="3255480"/>
                <a:ext cx="67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alay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44440" y="2997360"/>
                <a:ext cx="582840" cy="32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"/>
            <p:cNvSpPr/>
            <p:nvPr/>
          </p:nvSpPr>
          <p:spPr>
            <a:xfrm flipH="1">
              <a:off x="6803640" y="3141720"/>
              <a:ext cx="151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876720" y="3500280"/>
            <a:ext cx="2097720" cy="606600"/>
            <a:chOff x="6876720" y="3500280"/>
            <a:chExt cx="2097720" cy="606600"/>
          </a:xfrm>
        </p:grpSpPr>
        <p:grpSp>
          <p:nvGrpSpPr>
            <p:cNvPr id="112" name=""/>
            <p:cNvGrpSpPr/>
            <p:nvPr/>
          </p:nvGrpSpPr>
          <p:grpSpPr>
            <a:xfrm>
              <a:off x="8246520" y="3500280"/>
              <a:ext cx="727920" cy="606600"/>
              <a:chOff x="8246520" y="3500280"/>
              <a:chExt cx="727920" cy="606600"/>
            </a:xfrm>
          </p:grpSpPr>
          <p:sp>
            <p:nvSpPr>
              <p:cNvPr id="113" name=""/>
              <p:cNvSpPr/>
              <p:nvPr/>
            </p:nvSpPr>
            <p:spPr>
              <a:xfrm>
                <a:off x="8246520" y="386064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dones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16720" y="3500280"/>
                <a:ext cx="575640" cy="384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5" name=""/>
            <p:cNvSpPr/>
            <p:nvPr/>
          </p:nvSpPr>
          <p:spPr>
            <a:xfrm flipH="1" flipV="1">
              <a:off x="6876720" y="3645000"/>
              <a:ext cx="1439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278880" y="3357720"/>
            <a:ext cx="1221840" cy="1900080"/>
            <a:chOff x="3278880" y="3357720"/>
            <a:chExt cx="1221840" cy="1900080"/>
          </a:xfrm>
        </p:grpSpPr>
        <p:grpSp>
          <p:nvGrpSpPr>
            <p:cNvPr id="117" name=""/>
            <p:cNvGrpSpPr/>
            <p:nvPr/>
          </p:nvGrpSpPr>
          <p:grpSpPr>
            <a:xfrm>
              <a:off x="3278880" y="4653000"/>
              <a:ext cx="770400" cy="604800"/>
              <a:chOff x="3278880" y="4653000"/>
              <a:chExt cx="770400" cy="604800"/>
            </a:xfrm>
          </p:grpSpPr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21440" y="4653000"/>
                <a:ext cx="57600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78880" y="5011560"/>
                <a:ext cx="77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amero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635280" y="3357720"/>
              <a:ext cx="8654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39640" y="3357720"/>
            <a:ext cx="3600360" cy="1730520"/>
            <a:chOff x="539640" y="3357720"/>
            <a:chExt cx="3600360" cy="1730520"/>
          </a:xfrm>
        </p:grpSpPr>
        <p:grpSp>
          <p:nvGrpSpPr>
            <p:cNvPr id="122" name=""/>
            <p:cNvGrpSpPr/>
            <p:nvPr/>
          </p:nvGrpSpPr>
          <p:grpSpPr>
            <a:xfrm>
              <a:off x="539640" y="4510080"/>
              <a:ext cx="563760" cy="578160"/>
              <a:chOff x="539640" y="4510080"/>
              <a:chExt cx="563760" cy="578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9640" y="4510080"/>
                <a:ext cx="563760" cy="38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540720" y="4842000"/>
                <a:ext cx="56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han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1104480" y="3357720"/>
              <a:ext cx="30355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39640" y="3357360"/>
            <a:ext cx="3384360" cy="821160"/>
            <a:chOff x="539640" y="3357360"/>
            <a:chExt cx="3384360" cy="821160"/>
          </a:xfrm>
        </p:grpSpPr>
        <p:grpSp>
          <p:nvGrpSpPr>
            <p:cNvPr id="127" name=""/>
            <p:cNvGrpSpPr/>
            <p:nvPr/>
          </p:nvGrpSpPr>
          <p:grpSpPr>
            <a:xfrm>
              <a:off x="539640" y="3645000"/>
              <a:ext cx="564120" cy="533520"/>
              <a:chOff x="539640" y="3645000"/>
              <a:chExt cx="564120" cy="53352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160" y="3932280"/>
                <a:ext cx="55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iberi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9640" y="3645000"/>
                <a:ext cx="564120" cy="30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"/>
            <p:cNvSpPr/>
            <p:nvPr/>
          </p:nvSpPr>
          <p:spPr>
            <a:xfrm flipV="1">
              <a:off x="1103760" y="3357360"/>
              <a:ext cx="28202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08000" y="1195560"/>
            <a:ext cx="28728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564000" y="44280"/>
            <a:ext cx="540072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a353"/>
                </a:solidFill>
                <a:latin typeface="Arial"/>
              </a:rPr>
              <a:t>FLEGT VPA partn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a353"/>
                </a:solidFill>
                <a:latin typeface="Arial"/>
              </a:rPr>
              <a:t>November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40360" y="3573360"/>
            <a:ext cx="576000" cy="2305440"/>
            <a:chOff x="4140360" y="3573360"/>
            <a:chExt cx="576000" cy="2305440"/>
          </a:xfrm>
        </p:grpSpPr>
        <p:pic>
          <p:nvPicPr>
            <p:cNvPr id="134" name="" descr=""/>
            <p:cNvPicPr/>
            <p:nvPr/>
          </p:nvPicPr>
          <p:blipFill>
            <a:blip r:embed="rId9"/>
            <a:stretch/>
          </p:blipFill>
          <p:spPr>
            <a:xfrm>
              <a:off x="4140360" y="5291280"/>
              <a:ext cx="576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41080" y="56325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Gab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356000" y="3573360"/>
              <a:ext cx="7164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788000" y="3644640"/>
            <a:ext cx="1403280" cy="2262600"/>
            <a:chOff x="4788000" y="3644640"/>
            <a:chExt cx="1403280" cy="2262600"/>
          </a:xfrm>
        </p:grpSpPr>
        <p:pic>
          <p:nvPicPr>
            <p:cNvPr id="138" name="" descr=""/>
            <p:cNvPicPr/>
            <p:nvPr/>
          </p:nvPicPr>
          <p:blipFill>
            <a:blip r:embed="rId10"/>
            <a:stretch/>
          </p:blipFill>
          <p:spPr>
            <a:xfrm>
              <a:off x="5651640" y="5300640"/>
              <a:ext cx="53964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654160" y="566100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R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788000" y="3644640"/>
              <a:ext cx="10792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04000" y="2276640"/>
            <a:ext cx="2085120" cy="647640"/>
            <a:chOff x="6804000" y="2276640"/>
            <a:chExt cx="2085120" cy="647640"/>
          </a:xfrm>
        </p:grpSpPr>
        <p:pic>
          <p:nvPicPr>
            <p:cNvPr id="142" name="" descr=""/>
            <p:cNvPicPr/>
            <p:nvPr/>
          </p:nvPicPr>
          <p:blipFill>
            <a:blip r:embed="rId11"/>
            <a:stretch/>
          </p:blipFill>
          <p:spPr>
            <a:xfrm>
              <a:off x="8278920" y="2276640"/>
              <a:ext cx="5760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6804000" y="2492280"/>
              <a:ext cx="1440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6520" y="2637000"/>
              <a:ext cx="64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iet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lcoju</cp:lastModifiedBy>
  <dcterms:modified xsi:type="dcterms:W3CDTF">2011-01-07T19:44:34Z</dcterms:modified>
  <cp:revision>42</cp:revision>
  <dc:subject/>
  <dc:title>PowerPoint Presentation</dc:title>
</cp:coreProperties>
</file>