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2533c"/>
                </a:solidFill>
                <a:latin typeface="Cambria"/>
              </a:rPr>
              <a:t>Click to move the slide</a:t>
            </a: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1E06C-F7CD-4C93-80A5-AEE9DBF3842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0F031-BFCE-4F58-B33D-CFE105D552CE}" type="slidenum">
              <a:rPr b="0" lang="fr-FR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ADAB3-AF32-4887-9004-5A906AABE814}" type="slidenum">
              <a:rPr b="0" lang="fr-FR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A76A7-28FB-4743-BA87-95CC70FA588D}" type="slidenum">
              <a:rPr b="0" lang="fr-FR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89D0F-BC0F-4422-9E49-64F4974301C2}" type="slidenum">
              <a:rPr b="0" lang="fr-FR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FB53A-A971-46AD-BD79-6494B4B89D87}" type="slidenum">
              <a:rPr b="0" lang="fr-FR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6715F-3830-4E9C-BFF8-F909D4A07595}" type="slidenum">
              <a:rPr b="0" lang="fr-FR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BC993-2608-41DE-B8D0-F481895A558B}" type="slidenum">
              <a:rPr b="0" lang="fr-FR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6BBAB-453E-43EB-8741-E0CB78C50D1D}" type="slidenum">
              <a:rPr b="0" lang="fr-FR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A1BC8-F38B-4CD4-B961-6C619DD94999}" type="slidenum">
              <a:rPr b="0" lang="fr-FR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BFEF4-9B69-4CE9-ADA9-DA0918849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40C73-4C5B-4D76-91DF-76985C3BA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004A4-4F27-485E-9D59-5EE66960F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AAED8-D073-4782-AC4B-C934B49DD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8A8FA-8AC1-496E-9532-0B70AF056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01048-F5E2-4A54-B595-7080B1F29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5106D-8AD3-4114-9DB9-B379C6992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00DC4-58DA-4E57-B333-AD952A5A2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02B2D-E4E2-442D-979A-92C1E8CFB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88EF4-D0D2-4856-8EC9-BEC33100F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E6E23-F333-4CF3-B1C5-1752D015C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F1ECC-70A5-490F-BC34-E76B82A2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2533c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ad8f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7260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c5a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808d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d2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1C445-3BA7-4477-A0A5-CF369D0644D0}" type="slidenum">
              <a:rPr b="0" lang="fr-F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3f2dc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8C3B3-72A5-4BD0-BDF7-DD8A6A53ED64}" type="datetime">
              <a:rPr b="0" lang="fr-FR" sz="1200" spc="-1" strike="noStrike">
                <a:solidFill>
                  <a:srgbClr val="f3f2dc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0" y="1029600"/>
            <a:ext cx="14479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8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-360" y="54864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92934"/>
                </a:solidFill>
                <a:latin typeface="Calibri"/>
              </a:rPr>
              <a:t>Situation des réfugiés de la République centrafricaine (RCA) - Réponse Régionale et Défis </a:t>
            </a:r>
            <a:r>
              <a:rPr b="1" lang="en-US" sz="2800" spc="-1" strike="noStrike">
                <a:solidFill>
                  <a:srgbClr val="292934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292934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Calibri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8458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-360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92934"/>
                </a:solidFill>
                <a:latin typeface="Calibri"/>
              </a:rPr>
              <a:t>Statistiques des réfugiés dans la région</a:t>
            </a:r>
            <a:endParaRPr b="0" lang="en-US" sz="32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54" name="Slide Number Placeholder 2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366AB-7ACB-4AA3-A803-28179D51E9C4}" type="slidenum">
              <a:rPr b="0" lang="fr-FR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0" y="1295280"/>
            <a:ext cx="4756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92934"/>
                </a:solidFill>
                <a:latin typeface="Calibri"/>
                <a:ea typeface="Arial"/>
              </a:rPr>
              <a:t>Population de réfugiés</a:t>
            </a:r>
            <a:r>
              <a:rPr b="1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: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  <a:ea typeface="Arial"/>
              </a:rPr>
              <a:t>465,148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CAMEROUN</a:t>
            </a:r>
            <a:r>
              <a:rPr b="0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:                                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  <a:ea typeface="Arial"/>
              </a:rPr>
              <a:t>247.245 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TCHAD</a:t>
            </a:r>
            <a:r>
              <a:rPr b="0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:                                             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  <a:ea typeface="Arial"/>
              </a:rPr>
              <a:t>94.024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RDC</a:t>
            </a:r>
            <a:r>
              <a:rPr b="0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:                                                  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  <a:ea typeface="Arial"/>
              </a:rPr>
              <a:t>97.175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CONGO</a:t>
            </a:r>
            <a:r>
              <a:rPr b="0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:                                           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  <a:ea typeface="Arial"/>
              </a:rPr>
              <a:t>26.704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4572000" y="533520"/>
            <a:ext cx="3238560" cy="5841720"/>
          </a:xfrm>
          <a:prstGeom prst="rect">
            <a:avLst/>
          </a:prstGeom>
          <a:ln w="0">
            <a:noFill/>
          </a:ln>
        </p:spPr>
      </p:pic>
      <p:sp>
        <p:nvSpPr>
          <p:cNvPr id="57" name="Content Placeholder 2"/>
          <p:cNvSpPr/>
          <p:nvPr/>
        </p:nvSpPr>
        <p:spPr>
          <a:xfrm>
            <a:off x="76320" y="62485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4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292934"/>
                </a:solidFill>
                <a:latin typeface="Calibri"/>
                <a:ea typeface="Arial"/>
              </a:rPr>
              <a:t>* Au 1 Mai 2015</a:t>
            </a:r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  <a:p>
            <a:pPr marL="114480">
              <a:spcBef>
                <a:spcPts val="3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  <p:pic>
        <p:nvPicPr>
          <p:cNvPr id="58" name="Picture 10" descr=""/>
          <p:cNvPicPr/>
          <p:nvPr/>
        </p:nvPicPr>
        <p:blipFill>
          <a:blip r:embed="rId2"/>
          <a:stretch/>
        </p:blipFill>
        <p:spPr>
          <a:xfrm>
            <a:off x="0" y="609480"/>
            <a:ext cx="84582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292934"/>
                </a:solidFill>
                <a:latin typeface="Calibri"/>
              </a:rPr>
              <a:t>Stratégie et Réponse Régionale pour les Réfugiés </a:t>
            </a:r>
            <a:endParaRPr b="0" lang="en-US" sz="3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286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7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292934"/>
                </a:solidFill>
                <a:latin typeface="Calibri"/>
              </a:rPr>
              <a:t>Modèle de coordination des réfugiés </a:t>
            </a:r>
            <a:endParaRPr b="0" lang="en-US" sz="27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7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292934"/>
                </a:solidFill>
                <a:latin typeface="Calibri"/>
              </a:rPr>
              <a:t>Plan de Réponse Régionale pour les Réfugiés (PRRR)</a:t>
            </a:r>
            <a:endParaRPr b="0" lang="en-US" sz="27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7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292934"/>
                </a:solidFill>
                <a:latin typeface="Calibri"/>
              </a:rPr>
              <a:t>Politique, planification, consultations et partage d'informations avec les partenaires de mise en œuvre et de financement.</a:t>
            </a:r>
            <a:endParaRPr b="0" lang="en-US" sz="27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7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292934"/>
                </a:solidFill>
                <a:latin typeface="Calibri"/>
              </a:rPr>
              <a:t>Réponse aux besoins des communautés hôtes impacté par la présence des réfugiés</a:t>
            </a:r>
            <a:endParaRPr b="0" lang="en-US" sz="27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7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292934"/>
                </a:solidFill>
                <a:latin typeface="Calibri"/>
              </a:rPr>
              <a:t>Considération des questions transversales comme la protection, le genre et les préoccupations environnementales.</a:t>
            </a:r>
            <a:endParaRPr b="0" lang="en-US" sz="27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7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61" name="Slide Number Placeholder 2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058FF-CF1A-4D49-8789-659201810C31}" type="slidenum"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292934"/>
                </a:solidFill>
                <a:latin typeface="Calibri"/>
              </a:rPr>
              <a:t>Réalisations en </a:t>
            </a:r>
            <a:r>
              <a:rPr b="1" lang="fr-FR" sz="4000" spc="-1" strike="noStrike">
                <a:solidFill>
                  <a:srgbClr val="292934"/>
                </a:solidFill>
                <a:latin typeface="Calibri"/>
              </a:rPr>
              <a:t>Protection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28600" y="838080"/>
            <a:ext cx="81532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34"/>
              </a:solidFill>
              <a:latin typeface="Calibri"/>
            </a:endParaRPr>
          </a:p>
          <a:p>
            <a:pPr marL="11448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Identification et enregistrement de 462,015 réfugiés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11448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Relocalisation d’environ 195,000</a:t>
            </a:r>
            <a:r>
              <a:rPr b="1" lang="fr-CA" sz="2500" spc="-1" strike="noStrike">
                <a:solidFill>
                  <a:srgbClr val="292934"/>
                </a:solidFill>
                <a:latin typeface="Calibri"/>
              </a:rPr>
              <a:t> </a:t>
            </a: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réfugiés de la frontière vers 14 sites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11448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Délivrance de documentation à 80%</a:t>
            </a:r>
            <a:r>
              <a:rPr b="1" lang="fr-CA" sz="2500" spc="-1" strike="noStrike">
                <a:solidFill>
                  <a:srgbClr val="292934"/>
                </a:solidFill>
                <a:latin typeface="Calibri"/>
              </a:rPr>
              <a:t> </a:t>
            </a: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des réfugiés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11448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Établissement des aires de jeux pour les enfants dans les sites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11448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Réunifications familiales 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11448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Prévention et réponse aux cas de v</a:t>
            </a:r>
            <a:r>
              <a:rPr b="0" lang="fr-FR" sz="2500" spc="-1" strike="noStrike">
                <a:solidFill>
                  <a:srgbClr val="292934"/>
                </a:solidFill>
                <a:latin typeface="Calibri"/>
              </a:rPr>
              <a:t>iolence basée sur le genre</a:t>
            </a: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 (médicale, psychosociale et juridique)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11448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Identification et assistance aux personnes ayant des besoins spécifiques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11448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64" name="Slide Number Placeholder 2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00666-8844-4D1F-B800-68E54889DC9D}" type="slidenum"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292934"/>
                </a:solidFill>
                <a:latin typeface="Calibri"/>
              </a:rPr>
              <a:t>Réalisations opérationnelles</a:t>
            </a:r>
            <a:br>
              <a:rPr sz="4000"/>
            </a:br>
            <a:r>
              <a:rPr b="1" lang="fr-CA" sz="2400" spc="-1" strike="noStrike">
                <a:solidFill>
                  <a:srgbClr val="292934"/>
                </a:solidFill>
                <a:latin typeface="Calibri"/>
              </a:rPr>
              <a:t>avec les partenaires de mise en œuvre et opérationnels</a:t>
            </a:r>
            <a:endParaRPr b="0" lang="en-US" sz="24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28600" y="11426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Calibri"/>
              </a:rPr>
              <a:t>Aménagement de 14 sites et </a:t>
            </a:r>
            <a:r>
              <a:rPr b="0" lang="en-US" sz="2000" spc="-1" strike="noStrike">
                <a:solidFill>
                  <a:srgbClr val="292934"/>
                </a:solidFill>
                <a:latin typeface="Calibri"/>
              </a:rPr>
              <a:t>provision de 100% </a:t>
            </a:r>
            <a:r>
              <a:rPr b="0" lang="fr-FR" sz="2000" spc="-1" strike="noStrike">
                <a:solidFill>
                  <a:srgbClr val="292934"/>
                </a:solidFill>
                <a:latin typeface="Calibri"/>
              </a:rPr>
              <a:t>d'abris</a:t>
            </a:r>
            <a:r>
              <a:rPr b="0" lang="en-US" sz="2000" spc="-1" strike="noStrike">
                <a:solidFill>
                  <a:srgbClr val="292934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292934"/>
                </a:solidFill>
                <a:latin typeface="Calibri"/>
              </a:rPr>
              <a:t>d’urgences en Cameroun, Tchad, RDC et Congo</a:t>
            </a:r>
            <a:endParaRPr b="0" lang="en-US" sz="20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2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Calibri"/>
              </a:rPr>
              <a:t>Constructions des structures d'eau et d'assainissement (forages, latrines et douches) </a:t>
            </a:r>
            <a:endParaRPr b="0" lang="en-US" sz="20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2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Calibri"/>
              </a:rPr>
              <a:t>Assistance médicale et réponse aux cas de malnutrition </a:t>
            </a:r>
            <a:endParaRPr b="0" lang="en-US" sz="20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2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Calibri"/>
              </a:rPr>
              <a:t>Distribution mensuelle des vivres et non vivres pour environ 195,000 </a:t>
            </a:r>
            <a:r>
              <a:rPr b="0" lang="fr-FR" sz="2000" spc="-1" strike="noStrike">
                <a:solidFill>
                  <a:srgbClr val="292934"/>
                </a:solidFill>
                <a:latin typeface="Calibri"/>
              </a:rPr>
              <a:t>réfugiés</a:t>
            </a:r>
            <a:r>
              <a:rPr b="0" lang="fr-CA" sz="2000" spc="-1" strike="noStrike">
                <a:solidFill>
                  <a:srgbClr val="292934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2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Calibri"/>
              </a:rPr>
              <a:t>Construction des Espaces Temporaires d’Apprentissage et de Protection dans les sites et renforcement des capacités des écoles publiques</a:t>
            </a:r>
            <a:endParaRPr b="0" lang="en-US" sz="20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2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Calibri"/>
              </a:rPr>
              <a:t>Réhabilitation des infrastructures locales</a:t>
            </a:r>
            <a:r>
              <a:rPr b="0" lang="en-CA" sz="2000" spc="-1" strike="noStrike">
                <a:solidFill>
                  <a:srgbClr val="292934"/>
                </a:solidFill>
                <a:latin typeface="Calibri"/>
              </a:rPr>
              <a:t>/</a:t>
            </a:r>
            <a:r>
              <a:rPr b="0" lang="fr-CA" sz="2000" spc="-1" strike="noStrike">
                <a:solidFill>
                  <a:srgbClr val="292934"/>
                </a:solidFill>
                <a:latin typeface="Calibri"/>
              </a:rPr>
              <a:t>des services sociaux de base</a:t>
            </a:r>
            <a:endParaRPr b="0" lang="en-US" sz="20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2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Calibri"/>
              </a:rPr>
              <a:t>Établissements des comités pour la coexistence pacifique</a:t>
            </a:r>
            <a:endParaRPr b="0" lang="en-US" sz="20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67" name="Slide Number Placeholder 2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50B93-E7E3-4A63-96E8-3F3D72AC5011}" type="slidenum"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292934"/>
                </a:solidFill>
                <a:latin typeface="Calibri"/>
              </a:rPr>
              <a:t>Solutions durables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28240" y="99036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La majorité des réfugiés optent pour l’intégration locale </a:t>
            </a: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Les conditions posées pour leur retour : </a:t>
            </a: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buClr>
                <a:srgbClr val="ad8f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 </a:t>
            </a: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Le rétablissement de la sécurité en RCA</a:t>
            </a: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buClr>
                <a:srgbClr val="ad8f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 </a:t>
            </a: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Le désarmement des groupes armés, la répartition et    l’indemnisation de biens pillés par les groupes armés</a:t>
            </a: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buClr>
                <a:srgbClr val="ad8f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 </a:t>
            </a: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La poursuite des auteurs de crimes</a:t>
            </a: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buClr>
                <a:srgbClr val="ad8f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 </a:t>
            </a: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La non-discrimination des musulmans et leur reconnaissance àla citoyenneté </a:t>
            </a: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buClr>
                <a:srgbClr val="ad8f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 </a:t>
            </a: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La bonne gouvernance et la tenue des élections transparentes</a:t>
            </a: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buClr>
                <a:srgbClr val="ad8f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 </a:t>
            </a: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La cohabitation pacifique inter-religieuse et communautaire</a:t>
            </a: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70" name="Slide Number Placeholder 2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BA667-4207-430C-BD48-6A6FF7A43F32}" type="slidenum"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292934"/>
                </a:solidFill>
                <a:latin typeface="Calibri"/>
              </a:rPr>
              <a:t>Défis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52280" y="8377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La malnutrition chronique et l’insécurité alimentaire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Faible capacité des infrastructures publiques (écoles, sanitaires, santé, etc.) 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Insécurité pour les réfugiés à proximité des frontières et l'accès humanitaire limité 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Défis logistiques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Conflits entre les réfugiés et la communauté hôte liée au bois de chauffe, accès à l'eau et pâturage  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Identification et retour des ressortissants des pays tiers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Faible éducation des réfugiés au niveau secondaire et tertiaire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Manque chronique de fonds, qui remet en cause la fourniture de l’assistance humanitaire selon les standards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73" name="Slide Number Placeholder 2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4DA0B-A533-49AC-993E-9DDFF35427ED}" type="slidenum"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-152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292934"/>
                </a:solidFill>
                <a:latin typeface="Calibri"/>
              </a:rPr>
              <a:t>Niveau de financement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75" name="Slide Number Placeholder 2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0E433-4F56-4CCE-AB7D-64FB09D371AD}" type="slidenum"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5715000" y="17524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34"/>
                </a:solidFill>
                <a:latin typeface="Calibri"/>
                <a:ea typeface="Arial"/>
              </a:rPr>
              <a:t>13% Financé</a:t>
            </a: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77" name="TextBox 6"/>
          <p:cNvSpPr/>
          <p:nvPr/>
        </p:nvSpPr>
        <p:spPr>
          <a:xfrm>
            <a:off x="236520" y="762120"/>
            <a:ext cx="807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292934"/>
                </a:solidFill>
                <a:latin typeface="Calibri"/>
                <a:ea typeface="Arial"/>
              </a:rPr>
              <a:t>Fonds demandés pour la Réponse :</a:t>
            </a:r>
            <a:r>
              <a:rPr b="1" lang="en-US" sz="1400" spc="-1" strike="noStrike">
                <a:solidFill>
                  <a:srgbClr val="292934"/>
                </a:solidFill>
                <a:latin typeface="Calibri"/>
                <a:ea typeface="Arial"/>
              </a:rPr>
              <a:t> </a:t>
            </a:r>
            <a:r>
              <a:rPr b="1" lang="en-US" sz="1400" spc="-1" strike="noStrike">
                <a:solidFill>
                  <a:srgbClr val="c00000"/>
                </a:solidFill>
                <a:latin typeface="Calibri"/>
                <a:ea typeface="Arial"/>
              </a:rPr>
              <a:t>USD 240.710.733</a:t>
            </a:r>
            <a:endParaRPr b="0" lang="en-US" sz="1400" spc="-1" strike="noStrike">
              <a:solidFill>
                <a:srgbClr val="292934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292934"/>
                </a:solidFill>
                <a:latin typeface="Calibri"/>
                <a:ea typeface="Arial"/>
              </a:rPr>
              <a:t>Fonds reçus au 19 Mai : </a:t>
            </a:r>
            <a:r>
              <a:rPr b="1" lang="en-US" sz="1400" spc="-1" strike="noStrike">
                <a:solidFill>
                  <a:srgbClr val="c00000"/>
                </a:solidFill>
                <a:latin typeface="Calibri"/>
                <a:ea typeface="Arial"/>
              </a:rPr>
              <a:t>USD 31.464.278</a:t>
            </a:r>
            <a:endParaRPr b="0" lang="en-US" sz="1400" spc="-1" strike="noStrike">
              <a:solidFill>
                <a:srgbClr val="292934"/>
              </a:solidFill>
              <a:latin typeface="Calibri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58840" y="3962520"/>
          <a:ext cx="8076960" cy="24955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  <a:gridCol w="2019240"/>
                <a:gridCol w="2019240"/>
              </a:tblGrid>
              <a:tr h="63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esoins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çu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</a:t>
                      </a: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nancé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0000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Cameroun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c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71.937.916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c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6.046.433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c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8%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ce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RCA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51.415.889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18.620.463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36%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Tchad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46.646.888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1.443.649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3%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Congo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10.989.583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69.156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1%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RDC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57.036.389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937.584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3%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  <p:pic>
        <p:nvPicPr>
          <p:cNvPr id="79" name="Picture 29" descr=""/>
          <p:cNvPicPr/>
          <p:nvPr/>
        </p:nvPicPr>
        <p:blipFill>
          <a:blip r:embed="rId1"/>
          <a:stretch/>
        </p:blipFill>
        <p:spPr>
          <a:xfrm rot="5732400">
            <a:off x="2263320" y="1036440"/>
            <a:ext cx="4572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2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6CCDB-81DC-4515-BB0B-D6B5FAF66177}" type="slidenum">
              <a:rPr b="0" lang="fr-FR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1371600" y="380880"/>
            <a:ext cx="6005520" cy="59436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240" y="5364000"/>
            <a:ext cx="762012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ffffff"/>
                </a:solidFill>
                <a:latin typeface="Calibri"/>
              </a:rPr>
              <a:t>Merci</a:t>
            </a:r>
            <a:endParaRPr b="0" lang="en-US" sz="8000" spc="-1" strike="noStrike">
              <a:solidFill>
                <a:srgbClr val="d2533c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12:42:32Z</dcterms:created>
  <dc:creator>Martha Piper</dc:creator>
  <dc:description/>
  <dc:language>en-US</dc:language>
  <cp:lastModifiedBy>RIGOLLI Cristina (DEVCO)</cp:lastModifiedBy>
  <cp:lastPrinted>2015-05-21T11:59:53Z</cp:lastPrinted>
  <dcterms:modified xsi:type="dcterms:W3CDTF">2015-05-22T12:21:26Z</dcterms:modified>
  <cp:revision>257</cp:revision>
  <dc:subject/>
  <dc:title>PowerPoint Presentation</dc:title>
</cp:coreProperties>
</file>