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AB8-227B-4D06-9677-823123D1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420-2E37-4526-8710-203BABDC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1F4-8F5B-46A8-A512-32CC9E37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C42-6F43-4B7F-91FE-F40E4A0F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CD9D-D463-40D7-9B75-5AE84517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8D52-D880-486F-915D-81DF67B4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DA68-9630-423D-B6FA-3BFF6AA8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80A0-26B3-4793-96E3-DD6B8F4F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0153-405E-44CF-8121-4BE59588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B08F-B0FB-45FE-BA3D-4F2B191E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2A06-7BFE-483B-921A-9B5C0720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2DA-8AC9-455E-8444-9A97C9AA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B24D-D17D-4ED4-9CFA-2616B34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9318-4F3A-4925-9922-4A47C76E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BBEA-6FB6-4E38-A33B-9A560222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39C8-C2B4-4243-9BC8-FE942DF8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5F87-F72E-4F17-8426-945C8F23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C8C-AAB9-4FFF-9BD8-8F7FF8E3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ED9-E931-44C4-B61D-5E241761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40F-84D8-4421-969F-41E8CCEA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5A4-C6B9-489A-B5DF-9A878DF3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B31-D056-4CEB-8E82-6DFA1705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36F-FFAB-4245-8AB6-A8BD55BE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09E-D49F-444D-8987-A306C4FA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8E10-5C00-46D6-B144-DEF6102BDB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1FCE-A6AA-4CEC-9C26-665E7930900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534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Field visit to Banks Breweri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d624"/>
                </a:solidFill>
                <a:latin typeface="Verdana"/>
              </a:rPr>
              <a:t>See, learn, apply?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6520" y="5661000"/>
            <a:ext cx="8532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fffff"/>
                </a:solidFill>
                <a:latin typeface="Verdana"/>
              </a:rPr>
              <a:t>Jannik VAA, EU Delegation, Barbados and OE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U Energy and Water Seminar, 18-22 May 2015, Barbado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5ec1"/>
              </a:solidFill>
              <a:latin typeface="Verdana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80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Electrical KPI 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4 Kwh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8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23.3 kwh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Thermal energy KPI reduction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114Kg/Hl to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 32.8 Kg/h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:28.8 Kg/h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Results”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560" y="206028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Water consumption KPI from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Wildey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16 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1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9.6Hl/h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2015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: 8. 7hl/h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77336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xample of the “green economy” concept being embraced at private sector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E actions and undertakings save money and resources – good for business. Generates / secures job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spcAft>
                <a:spcPts val="1199"/>
              </a:spcAft>
              <a:buClr>
                <a:srgbClr val="2d2d8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Given the “right” framework (enabling environment) private sector can and wil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annik</cp:lastModifiedBy>
  <cp:lastPrinted>2015-02-23T13:54:39Z</cp:lastPrinted>
  <dcterms:modified xsi:type="dcterms:W3CDTF">2015-05-20T10:33:20Z</dcterms:modified>
  <cp:revision>241</cp:revision>
  <dc:subject/>
  <dc:title>Slide 1</dc:title>
</cp:coreProperties>
</file>