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A86C-217C-4D31-8E63-121F3C4B5F99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028C-AC9E-44B2-9385-AA7CE458B6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1627-D4D9-488A-9C4E-8D8F70FFAB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6A0C-95A9-456C-B338-74F5745355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EC69-C9C1-467B-BF07-1181252EC4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D291-D003-4C24-91BE-9CE1D2656C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28E6-1C34-4DC8-AC5E-ECB06BA712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Section 6.4 of UNDP-UNEP (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8AB8-7190-4719-A376-1057F46173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national level, a high-level formal or informal climate change coordinating structure can support the overall response – but should catalyse it rather than act as a substitute for action by other government ag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body with a coordination mandate and decision-making power over line ministries, in particular with regard to budget allo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Office of the President or Prime Minister, Ministry of Finance, Ministry of Planning or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1210-47F3-4BE7-9EA3-471BC7C70E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893F-7AF9-49A2-85A8-8B62C055FD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EDFE-9DBA-411F-A4AE-427B111E3F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5DAD-7E3D-48B3-B637-DDB69EEA15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D1A8-9F3A-483A-A016-5898805A74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FC63-6713-4A1B-B400-2EC043A792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F24D-DCB9-45F6-8E34-A54FF76D0A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14AA-D307-4ADA-A026-8001C8CCE4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CB4E-B897-4937-B0C7-91A045A42B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P (2011: 72) A NCSA i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untry-driv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ocally adap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nsultati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rocess that aim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review global environment issues that require priority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determine how capacity development could strengthen management of thes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epare a national action plan for capacity develop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national capacity self-assessments an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ulnerability and capacity assessment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see UNDP-UNEP (2010)  pp. 32-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BB0B-3DC5-4BAD-93AA-C9BD3EB22A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1949-4415-4934-8CE5-8E2EB8A246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See UNDP-UNEP (2009) page 7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7F35-3F15-4BC8-A577-ED1101D033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D55A-6E8A-410F-9B3D-708589F0E0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inks between the environment and sectoral performance have been addressed in Module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formance of th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ector tends to be underfunded: for example, in Lesotho (2012) the Department of Environment is under the Ministry of Tourism and Environment. The whole Ministry receives about 0.16% of the budget allocated to line ministries, and only a small fraction of that is for the Department of Environment, as the Ministr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 main tasks are oriented to promotion of tour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under the environment sector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get implemented because of lack of funding. If other sectors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assume responsibility for their environmental dimension, there are very limited options to address th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3A77-D7EB-4EF9-AE26-99A1EA2492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2587-B0A1-46E9-A3BF-049DDD8999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lal-Clayton &amp; Bass 2009: Outcomes of main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articipation and democratic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olicy and politic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lan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udge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stitutional and capacity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vestmen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ehaviour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Developmental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6722-E9B6-461B-BA57-304BE9234F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324D-45F8-4656-B082-65BF107A48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EF04-6CE3-4272-A0DB-1C03387688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C53D-F7F5-47C5-9FC2-8C9B0890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B19-1E49-47BB-AC9A-66D754AC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5D8-722E-403E-A300-B229BF71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C23F-D60A-459B-8A29-5EAEF4DA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E5AD-92E7-4CBF-AFFE-D1EDE498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391D-EC43-4B6E-8432-490B481A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52D8-AEBA-4FC9-B9FC-34A309AE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9388-FB83-4005-B4B7-379FA983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95C3-6292-4DA1-886A-B9A36AD6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7CFE-EC55-4762-8A97-21734AD2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C35F-D8FC-4C2A-817C-73B317AA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8B9-6EB7-4644-9583-31A8AAAC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9F6A-D70E-43EB-8049-B6B4CCD6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A312-F326-4080-8925-747EA836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D772-704D-4E0A-AE28-77363F19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109D-A46C-4501-AC32-9555D148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1E01-A1E8-4C62-BB3B-AAF022A2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A3C0-BA75-46CF-AAFD-9DACE57D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DE9-7702-4B2A-8154-D42EF7FB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2079-7684-4BD8-82D9-B8E7814E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021E-FBB4-49AA-87C4-3F8EAAAA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8FC-335F-4145-A1DD-7E79DE22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2D03-A741-4403-859E-1125C999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A9EA-9F3A-4617-A8AF-CE44C9FE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B317-D86F-49B4-B549-A70DC61DC5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8F8F-FAD8-4F9C-9CED-D4853F68A29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ndp.org/mainstream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nvironmental-mainstreaming.org/key-lit.html" TargetMode="External"/><Relationship Id="rId2" Type="http://schemas.openxmlformats.org/officeDocument/2006/relationships/hyperlink" Target="http://www.undp.org/climatechange/docs/English/UNDP_Adaptation_final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2924280"/>
            <a:ext cx="8640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2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and strengthening institutions and capaciti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8532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Strengthening institutions and capacit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D397-2A95-4155-8C2C-EA5CA6496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institutional requirements for effective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3419640" y="3243240"/>
            <a:ext cx="2304720" cy="67284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Effective 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Rounded Rectangular Callout 5"/>
          <p:cNvSpPr/>
          <p:nvPr/>
        </p:nvSpPr>
        <p:spPr>
          <a:xfrm>
            <a:off x="334800" y="1535040"/>
            <a:ext cx="1981440" cy="1371600"/>
          </a:xfrm>
          <a:prstGeom prst="wedgeRoundRectCallout">
            <a:avLst>
              <a:gd name="adj1" fmla="val 115361"/>
              <a:gd name="adj2" fmla="val 70152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ross-sectoral &amp; cross-level coordination, cooper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Rounded Rectangular Callout 6"/>
          <p:cNvSpPr/>
          <p:nvPr/>
        </p:nvSpPr>
        <p:spPr>
          <a:xfrm>
            <a:off x="3306600" y="1306440"/>
            <a:ext cx="1905120" cy="1067040"/>
          </a:xfrm>
          <a:prstGeom prst="wedgeRoundRectCallout">
            <a:avLst>
              <a:gd name="adj1" fmla="val 21203"/>
              <a:gd name="adj2" fmla="val 118236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werful champions at national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7"/>
          <p:cNvSpPr/>
          <p:nvPr/>
        </p:nvSpPr>
        <p:spPr>
          <a:xfrm>
            <a:off x="6659640" y="1916280"/>
            <a:ext cx="1981080" cy="2057400"/>
          </a:xfrm>
          <a:prstGeom prst="wedgeRoundRectCallout">
            <a:avLst>
              <a:gd name="adj1" fmla="val -98763"/>
              <a:gd name="adj2" fmla="val 18055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tegration of new thinking, new research in planning &amp; monitoring systems &amp; proces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8"/>
          <p:cNvSpPr/>
          <p:nvPr/>
        </p:nvSpPr>
        <p:spPr>
          <a:xfrm>
            <a:off x="487440" y="3821040"/>
            <a:ext cx="1981080" cy="152424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xperience sharing, dissemination of good practi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ular Callout 9"/>
          <p:cNvSpPr/>
          <p:nvPr/>
        </p:nvSpPr>
        <p:spPr>
          <a:xfrm>
            <a:off x="3002040" y="4888080"/>
            <a:ext cx="2057400" cy="1371600"/>
          </a:xfrm>
          <a:prstGeom prst="wedgeRoundRectCallout">
            <a:avLst>
              <a:gd name="adj1" fmla="val 18453"/>
              <a:gd name="adj2" fmla="val -12985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imely stakeholder participation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ular Callout 10"/>
          <p:cNvSpPr/>
          <p:nvPr/>
        </p:nvSpPr>
        <p:spPr>
          <a:xfrm>
            <a:off x="5973840" y="4811760"/>
            <a:ext cx="2057400" cy="1371600"/>
          </a:xfrm>
          <a:prstGeom prst="wedgeRoundRectCallout">
            <a:avLst>
              <a:gd name="adj1" fmla="val -85004"/>
              <a:gd name="adj2" fmla="val -120013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trengthening of capacities of stakeholders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ectangular Callout 11"/>
          <p:cNvSpPr/>
          <p:nvPr/>
        </p:nvSpPr>
        <p:spPr>
          <a:xfrm>
            <a:off x="5334120" y="1066680"/>
            <a:ext cx="3047760" cy="914400"/>
          </a:xfrm>
          <a:prstGeom prst="wedgeRectCallout">
            <a:avLst>
              <a:gd name="adj1" fmla="val -63527"/>
              <a:gd name="adj2" fmla="val 11472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e.g. office of prime minister, ministries of finance/budget/plann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A5E2-DEF9-4B6E-9442-15CF68803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052640"/>
          <a:ext cx="8750160" cy="532116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 government (incl. office of prime minister, line ministries, DRR authorities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adership, performance management framework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ies, standards &amp; regul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cation of budget resourc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idance &amp; capacity build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arlia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everage, advocacy (especially for budgeting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ational Statistics Offic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evelopment and monitoring of indicator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governmen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tion of national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tion with local-level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ate secto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for losses &amp; opportunities, risk mgm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ibution to sustainable investments &amp; vulnerability reduction through develop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ientific &amp; academic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-oriented research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for decision mak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 promotion agen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a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nvestments; climate-proofing of investments, bridging of development gap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 change adequately addressed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5961-70DB-441C-9BB4-8175D5BBE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79280" y="6362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052640"/>
          <a:ext cx="8750160" cy="259704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 Society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use of their expertis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lp reflect local rea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tion collection, 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tchdog ro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ach out to community leve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eneral public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rass-roots level knowled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tegrate voices of the poores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4"/>
          <p:cNvSpPr/>
          <p:nvPr/>
        </p:nvSpPr>
        <p:spPr>
          <a:xfrm>
            <a:off x="179280" y="6308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5D83-DAD0-4509-998F-797F9E8C7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f5494"/>
                </a:solidFill>
                <a:latin typeface="Verdana"/>
              </a:rPr>
              <a:t>Possible entry points for environmental mainstreaming in national development planning</a:t>
            </a:r>
            <a:endParaRPr b="1" lang="en-US" sz="2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8604360" y="6381720"/>
            <a:ext cx="5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802F-44F1-4204-855F-E5D8EDB70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2565360"/>
          <a:ext cx="8534160" cy="3814920"/>
        </p:xfrm>
        <a:graphic>
          <a:graphicData uri="http://schemas.openxmlformats.org/drawingml/2006/table">
            <a:tbl>
              <a:tblPr/>
              <a:tblGrid>
                <a:gridCol w="2286000"/>
                <a:gridCol w="62481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try Poin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government and cross-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strategy pap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development pla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DG-based national development strategy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 allocation process or review (e.g. medium-term expenditure framework, public expenditure review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strategies, plans and policies (e.g. agriculture sector plan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ector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blic expenditure review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-national author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entralisation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ct pla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ubnational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76" name="TextBox 4"/>
          <p:cNvSpPr/>
          <p:nvPr/>
        </p:nvSpPr>
        <p:spPr>
          <a:xfrm>
            <a:off x="457200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EP-UND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rinciples for institutionalising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4419720" y="43434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2B02-97CF-4655-A480-6B8838429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2565000"/>
            <a:ext cx="853416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ve coordination to a central body with a coordination mandate and decision-making power over line minis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climate change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ina: National Development &amp; Reform Commiss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Kenya: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environment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ierra Leone: EPA under the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lawi: Steering Committee on Natural Resourc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1710-0676-49E9-990E-FB8570305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2420640"/>
            <a:ext cx="8370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stablish/strengthen coordination mechanisms, with clear allocation of responsibilities and permanent arrang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climate change, Mexico: Inter-Ministerial Commission on Climate Change (CICC) with dedicated working group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uild on pre-existing intersectoral coordination mechanisms wherever possi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food security, DRR, sustainable land manage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75A9-4D8A-4DAE-8691-F0940353B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70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flexi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commitment to regular policy/strategy revisions and reassessment of available knowled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mainstream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and climate change mitigation/adap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in guidelines, procedures, systems, environmental screening for SEA and EIA, etc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698E-935D-44D9-A309-05E24A79F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92436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4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effective national–local coordination mechanisms, identifying the most suitable level at which to cooperate/coordina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Rwanda: annual performance contracts between various levels of government, with clear definition of goals, indicators and activit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trengthen institutions at the sub-national level, matching the transfer of competences with the transfer of resour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4F7D-40A3-4D85-8762-B6F4DA510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492280"/>
            <a:ext cx="8534160" cy="1873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3000"/>
          </a:bodyPr>
          <a:p>
            <a:pPr marL="318960" indent="-318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What is mainstreaming,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why mainstream environment and climate change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A582-8362-4E38-BB81-E7F0EBC4E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C5EB-261D-4F94-AC5F-7B5471574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7" name="Picture 4" descr="C:\Documents and Settings\Carlos Soria\My Documents\My Pictures\Alto Huallaga Tingo Maria Monzon Alto Bella julio 23, 2003\IM001873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439560" y="6396120"/>
            <a:ext cx="85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Source: Soria (2005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Local capacit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Tools and actions for supporting institutional and capacity strengthe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DD85-81D0-4993-8BB0-681C04BC9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eps in institutional and capacity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rength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AA2C-272C-4768-B41B-657646015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ounded Rectangle 12"/>
          <p:cNvSpPr/>
          <p:nvPr/>
        </p:nvSpPr>
        <p:spPr>
          <a:xfrm>
            <a:off x="609480" y="1684440"/>
            <a:ext cx="2519640" cy="10429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eed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Rounded Rectangle 13"/>
          <p:cNvSpPr/>
          <p:nvPr/>
        </p:nvSpPr>
        <p:spPr>
          <a:xfrm>
            <a:off x="609480" y="3962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Learning by do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Rounded Rectangle 14"/>
          <p:cNvSpPr/>
          <p:nvPr/>
        </p:nvSpPr>
        <p:spPr>
          <a:xfrm>
            <a:off x="609480" y="2819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Working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Rounded Rectangle 15"/>
          <p:cNvSpPr/>
          <p:nvPr/>
        </p:nvSpPr>
        <p:spPr>
          <a:xfrm>
            <a:off x="609480" y="5432400"/>
            <a:ext cx="2519640" cy="10447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instreaming as standard practic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ounded Rectangle 16"/>
          <p:cNvSpPr/>
          <p:nvPr/>
        </p:nvSpPr>
        <p:spPr>
          <a:xfrm>
            <a:off x="3576600" y="1684440"/>
            <a:ext cx="2651040" cy="10429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National capacity self-assess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Rounded Rectangle 17"/>
          <p:cNvSpPr/>
          <p:nvPr/>
        </p:nvSpPr>
        <p:spPr>
          <a:xfrm>
            <a:off x="3576600" y="2819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Inst</a:t>
            </a:r>
            <a:r>
              <a:rPr b="1" lang="ja-JP" sz="1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l arrangemen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Management framework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Work pla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Rounded Rectangle 18"/>
          <p:cNvSpPr/>
          <p:nvPr/>
        </p:nvSpPr>
        <p:spPr>
          <a:xfrm>
            <a:off x="3576600" y="3962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Training, exchange visits, on-the-job learning, lesson learning/dissemin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2" name="Straight Arrow Connector 20"/>
          <p:cNvCxnSpPr>
            <a:stCxn id="209" idx="1"/>
            <a:endCxn id="205" idx="3"/>
          </p:cNvCxnSpPr>
          <p:nvPr/>
        </p:nvCxnSpPr>
        <p:spPr>
          <a:xfrm flipH="1">
            <a:off x="3128400" y="220464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3" name="Straight Arrow Connector 21"/>
          <p:cNvCxnSpPr>
            <a:stCxn id="210" idx="1"/>
            <a:endCxn id="207" idx="3"/>
          </p:cNvCxnSpPr>
          <p:nvPr/>
        </p:nvCxnSpPr>
        <p:spPr>
          <a:xfrm flipH="1">
            <a:off x="3128400" y="3341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4" name="Straight Arrow Connector 22"/>
          <p:cNvCxnSpPr>
            <a:stCxn id="211" idx="1"/>
            <a:endCxn id="206" idx="3"/>
          </p:cNvCxnSpPr>
          <p:nvPr/>
        </p:nvCxnSpPr>
        <p:spPr>
          <a:xfrm flipH="1">
            <a:off x="3128400" y="4484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5" name="Straight Arrow Connector 27"/>
          <p:cNvCxnSpPr>
            <a:stCxn id="206" idx="2"/>
            <a:endCxn id="208" idx="0"/>
          </p:cNvCxnSpPr>
          <p:nvPr/>
        </p:nvCxnSpPr>
        <p:spPr>
          <a:xfrm flipH="1">
            <a:off x="1867680" y="5006880"/>
            <a:ext cx="2520" cy="4276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16" name="Elbow Connector 31"/>
          <p:cNvCxnSpPr>
            <a:stCxn id="208" idx="1"/>
            <a:endCxn id="205" idx="1"/>
          </p:cNvCxnSpPr>
          <p:nvPr/>
        </p:nvCxnSpPr>
        <p:spPr>
          <a:xfrm rot="10800000">
            <a:off x="608760" y="2204280"/>
            <a:ext cx="2520" cy="3750480"/>
          </a:xfrm>
          <a:prstGeom prst="bentConnector3">
            <a:avLst>
              <a:gd name="adj1" fmla="val 14383333"/>
            </a:avLst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217" name="Straight Connector 33"/>
          <p:cNvSpPr/>
          <p:nvPr/>
        </p:nvSpPr>
        <p:spPr>
          <a:xfrm>
            <a:off x="1870200" y="2727360"/>
            <a:ext cx="0" cy="9216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Straight Connector 35"/>
          <p:cNvSpPr/>
          <p:nvPr/>
        </p:nvSpPr>
        <p:spPr>
          <a:xfrm>
            <a:off x="1870200" y="3863880"/>
            <a:ext cx="0" cy="986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Rounded Rectangle 19"/>
          <p:cNvSpPr/>
          <p:nvPr/>
        </p:nvSpPr>
        <p:spPr>
          <a:xfrm>
            <a:off x="6588000" y="1687680"/>
            <a:ext cx="201636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Stakeholder analysi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20" name="Straight Arrow Connector 23"/>
          <p:cNvCxnSpPr>
            <a:stCxn id="219" idx="1"/>
          </p:cNvCxnSpPr>
          <p:nvPr/>
        </p:nvCxnSpPr>
        <p:spPr>
          <a:xfrm flipH="1" flipV="1">
            <a:off x="6165000" y="2204280"/>
            <a:ext cx="423000" cy="540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capacity development for whom, for what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491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apacity development (CD) should take plac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t three complementary level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abling environment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or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ystem level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(overall institutional leve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organisation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ndividu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AC5B-0387-40A1-9A3C-31D28FE4F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Cloud Callout 4"/>
          <p:cNvSpPr/>
          <p:nvPr/>
        </p:nvSpPr>
        <p:spPr>
          <a:xfrm>
            <a:off x="3924360" y="4076640"/>
            <a:ext cx="4876920" cy="1874880"/>
          </a:xfrm>
          <a:prstGeom prst="cloudCallout">
            <a:avLst>
              <a:gd name="adj1" fmla="val -29435"/>
              <a:gd name="adj2" fmla="val -75777"/>
            </a:avLst>
          </a:prstGeom>
          <a:solidFill>
            <a:srgbClr val="0f5494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Start by determining: 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Capacity development for what?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’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-&gt; Define specific objec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eeds assessment: stakeholders</a:t>
            </a:r>
            <a:r>
              <a:rPr b="1" lang="ja-JP" sz="30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D needs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708360" y="3243240"/>
            <a:ext cx="180036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takeholder capacity build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Rounded Rectangular Callout 5"/>
          <p:cNvSpPr/>
          <p:nvPr/>
        </p:nvSpPr>
        <p:spPr>
          <a:xfrm>
            <a:off x="471600" y="1752480"/>
            <a:ext cx="1600200" cy="1371600"/>
          </a:xfrm>
          <a:prstGeom prst="wedgeRoundRectCallout">
            <a:avLst>
              <a:gd name="adj1" fmla="val 153768"/>
              <a:gd name="adj2" fmla="val 7561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formation systems &amp; analytical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Rounded Rectangular Callout 6"/>
          <p:cNvSpPr/>
          <p:nvPr/>
        </p:nvSpPr>
        <p:spPr>
          <a:xfrm>
            <a:off x="3290760" y="1447920"/>
            <a:ext cx="1752840" cy="990360"/>
          </a:xfrm>
          <a:prstGeom prst="wedgeRoundRectCallout">
            <a:avLst>
              <a:gd name="adj1" fmla="val 22060"/>
              <a:gd name="adj2" fmla="val 131856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lanning &amp; prioritis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Rounded Rectangular Callout 7"/>
          <p:cNvSpPr/>
          <p:nvPr/>
        </p:nvSpPr>
        <p:spPr>
          <a:xfrm>
            <a:off x="6567480" y="2209680"/>
            <a:ext cx="1981080" cy="1371600"/>
          </a:xfrm>
          <a:prstGeom prst="wedgeRoundRectCallout">
            <a:avLst>
              <a:gd name="adj1" fmla="val -101791"/>
              <a:gd name="adj2" fmla="val 3991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articipatory engagement &amp; empowerment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ounded Rectangular Callout 8"/>
          <p:cNvSpPr/>
          <p:nvPr/>
        </p:nvSpPr>
        <p:spPr>
          <a:xfrm>
            <a:off x="395280" y="3962520"/>
            <a:ext cx="2133720" cy="106668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tical &amp; communic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Rounded Rectangular Callout 9"/>
          <p:cNvSpPr/>
          <p:nvPr/>
        </p:nvSpPr>
        <p:spPr>
          <a:xfrm>
            <a:off x="3200400" y="5105520"/>
            <a:ext cx="1905120" cy="1066680"/>
          </a:xfrm>
          <a:prstGeom prst="wedgeRoundRectCallout">
            <a:avLst>
              <a:gd name="adj1" fmla="val 19240"/>
              <a:gd name="adj2" fmla="val -13828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nitoring, evaluation &amp; learning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Rounded Rectangular Callout 10"/>
          <p:cNvSpPr/>
          <p:nvPr/>
        </p:nvSpPr>
        <p:spPr>
          <a:xfrm>
            <a:off x="6705720" y="4267080"/>
            <a:ext cx="1828800" cy="990720"/>
          </a:xfrm>
          <a:prstGeom prst="wedgeRoundRectCallout">
            <a:avLst>
              <a:gd name="adj1" fmla="val -116518"/>
              <a:gd name="adj2" fmla="val -97810"/>
              <a:gd name="adj3" fmla="val 16667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ecific technical skil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F47A-1453-4D0D-AFA0-A8D5B1E0E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4484520" y="657684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Dalal-Clayton &amp; Bass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Cloud Callout 12"/>
          <p:cNvSpPr/>
          <p:nvPr/>
        </p:nvSpPr>
        <p:spPr>
          <a:xfrm>
            <a:off x="395280" y="5410080"/>
            <a:ext cx="2286000" cy="1067040"/>
          </a:xfrm>
          <a:prstGeom prst="cloudCallout">
            <a:avLst>
              <a:gd name="adj1" fmla="val 56912"/>
              <a:gd name="adj2" fmla="val -11040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FUNCTIONAL CAPACITIES</a:t>
            </a: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’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Cloud Callout 13"/>
          <p:cNvSpPr/>
          <p:nvPr/>
        </p:nvSpPr>
        <p:spPr>
          <a:xfrm>
            <a:off x="5219640" y="5410080"/>
            <a:ext cx="2592360" cy="1067040"/>
          </a:xfrm>
          <a:prstGeom prst="cloudCallout">
            <a:avLst>
              <a:gd name="adj1" fmla="val 11166"/>
              <a:gd name="adj2" fmla="val -91194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TECHNICAL CAPACIT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national capacity self-assessme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206028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ased on existing or ad hoc institutional assessments, consider for all relevant organisation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vel of education &amp; awareness of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rganisations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mandates &amp; functions with regard to environment- and climate-related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fluence of climate risks on capacity to func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, financial, legal/regulatory capacities &amp; information systems in relation to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lanning, decision-making, budget allocation &amp; programming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llaboration &amp; coordination structures &amp;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ssessments for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250920" y="65502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AD1D-0856-4940-96D3-DCAEEBF52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etting up working mechanisms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or a mainstreaming initiati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4920" y="2492280"/>
            <a:ext cx="85345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fine institutional arrangements (political and technical) (e.g. steering and technical committe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et up a management framewor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dership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uman re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inancial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&amp;E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an operational work pla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B29C-AFF4-4D54-89EC-FE323CA5E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003640" y="655020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Learning-by-doing: multipl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approach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2060640"/>
            <a:ext cx="8748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rmal training on mainstreaming and on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pecific technical asp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xchange vis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n-the-job learning through national mainstreaming programmes, including: 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terdisciplinary tea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winning between organisa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emonstration proje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esson learning and dissemin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10BA-0423-4C5C-AEBE-733091C79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95280" y="6308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92c0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is a strong case for mainstreaming environment and climate change into all development plann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are entry points for mainstreaming environment and climate change at all stages of the policy cyc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stitutional and capacity strengthening (rooted in a good diagnosis of the strengths/weaknesses of existing structures and efforts to improve governance) is a key condition for successful mainstream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eeds assessment, the setting up of effective working mechanisms and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rning by doing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can support the mainstreaming proces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95DA-3F4F-4A6C-BEE2-BBD565346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5092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(2011) Practitioner</a:t>
            </a:r>
            <a:r>
              <a:rPr b="0" lang="ja-JP" sz="22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s Guide: Capacity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evelopment for Environmental Sustainability. United Nations Development Programme, New York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09) Mainstreaming Poverty-Environment Linkages into Development Planning: A Handbook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– Integrating environment into development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undp.org/mainstreaming/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93E0-A7E3-4624-82A4-903746061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Beyond 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nvironment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as a sector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2397240"/>
            <a:ext cx="838188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protection of natural resources is a sector in its own right, but its sustainability also depends on 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olic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erformance depends closely on the state of the environ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t does not suffice to address the environment exclusively as a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ther sector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 development paths need to take account of environmental sustainabilit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tends to be an underfunded secto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4FF0-0913-4AD9-B956-A9671D656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920" y="1851120"/>
            <a:ext cx="864072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alal-Clayton B. &amp; Bass S. (2009) The challenges of environmental mainstreaming: experience of integrating environment into development institutions and decisions. International Institute for Environment and Development, London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environmental-mainstreaming.org/key-lit.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chipper E.L., Paz Cigarán M. &amp; McKenzie Hedger M. (2008) Adaptation to Climate Change: The new challenge for development in the developing world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undp.org/climatechange/docs/English/UNDP_Adaptation_final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oria, C (2005) SEA and the NGO community in Latin America. Presentation made at the SEA and IDC Conference, Halong Bay, Vietnam, 24-28 January, 2005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7F7B-D1D0-4403-9B7D-D8942764B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What is mainstreaming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2133720"/>
            <a:ext cx="84582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: the prevailing or dominant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urse, current, tendency or way of think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ing</a:t>
            </a:r>
            <a:r>
              <a:rPr b="0" lang="en-GB" sz="2400" spc="-1" strike="noStrike">
                <a:solidFill>
                  <a:srgbClr val="00206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informed integration of a relevant value, theme or concern into the decisions of institutions that drive national, local and sectoral development policy, rules, plans, investment and acti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adapted from Dalal-Clayton &amp; Bass 2009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Institutional strengthening and change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</a:t>
            </a:r>
            <a:r>
              <a:rPr b="0" lang="en-GB" sz="2400" spc="-1" strike="noStrike">
                <a:solidFill>
                  <a:srgbClr val="005f7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capacity building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re at the heart of any mainstreaming eff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9B02-224B-4D5F-A267-0FFECF122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bjectives of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2205000"/>
            <a:ext cx="8458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ainstreaming is a long-term, iterativ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cess aimed a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ransforming idea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ven more importantly, transforming policies, resource allocations and practi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order t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mote desired developmental outcomes (with regard to gender, environment, climate change, governance, human rights, ...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d support integrated solutions to human proble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171E-F1B7-45DF-80D3-EA70488B5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olicy framework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131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ropean Consensus on Development (2005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plicitly recognises links between development and environment and highlights need for a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“strengthened approach to mainstreaming of cross-cutting issue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enda for Change (2011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development is not sustainable if it damages the environment, biodiversity and natural resources and increases the exposure/vulnerability to natural disaster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 Biodiversity Strategy to 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alls to “biodiversity-proof” EC development coope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 framework for mainstreaming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nvironment and climate chang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C44E-A5FA-414C-ABDF-93B3A175A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Entry points for mainstreaming in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he policy cyc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3DD8-0E63-4738-A55C-89DEBB98D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4" name="Picture 3" descr="_Pic3"/>
          <p:cNvPicPr/>
          <p:nvPr/>
        </p:nvPicPr>
        <p:blipFill>
          <a:blip r:embed="rId1"/>
          <a:stretch/>
        </p:blipFill>
        <p:spPr>
          <a:xfrm>
            <a:off x="1371600" y="1523880"/>
            <a:ext cx="5913360" cy="4705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3718080" y="3414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National development pla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422440" y="239076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genda sett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470560" y="3381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olicy mak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184560" y="5019840"/>
            <a:ext cx="217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mplementation &amp; monitor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Rounded Rectangular Callout 11"/>
          <p:cNvSpPr/>
          <p:nvPr/>
        </p:nvSpPr>
        <p:spPr>
          <a:xfrm>
            <a:off x="457200" y="1600200"/>
            <a:ext cx="1752480" cy="1066680"/>
          </a:xfrm>
          <a:prstGeom prst="wedgeRoundRectCallout">
            <a:avLst>
              <a:gd name="adj1" fmla="val 77625"/>
              <a:gd name="adj2" fmla="val 54203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inding the entry points &amp;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Rounded Rectangular Callout 12"/>
          <p:cNvSpPr/>
          <p:nvPr/>
        </p:nvSpPr>
        <p:spPr>
          <a:xfrm>
            <a:off x="6804000" y="2060640"/>
            <a:ext cx="1905120" cy="1143000"/>
          </a:xfrm>
          <a:prstGeom prst="wedgeRoundRectCallout">
            <a:avLst>
              <a:gd name="adj1" fmla="val -46481"/>
              <a:gd name="adj2" fmla="val 84250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instreaming into policy &amp;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ounded Rectangular Callout 13"/>
          <p:cNvSpPr/>
          <p:nvPr/>
        </p:nvSpPr>
        <p:spPr>
          <a:xfrm>
            <a:off x="250920" y="5257800"/>
            <a:ext cx="2187360" cy="990720"/>
          </a:xfrm>
          <a:prstGeom prst="wedgeRoundRectCallout">
            <a:avLst>
              <a:gd name="adj1" fmla="val 90509"/>
              <a:gd name="adj2" fmla="val -3349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2050920" y="6308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) Figure 3.2, p. 15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ounded Rectangle 3"/>
          <p:cNvSpPr/>
          <p:nvPr/>
        </p:nvSpPr>
        <p:spPr>
          <a:xfrm>
            <a:off x="611280" y="7632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inding the entry points and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Rounded Rectangle 4"/>
          <p:cNvSpPr/>
          <p:nvPr/>
        </p:nvSpPr>
        <p:spPr>
          <a:xfrm>
            <a:off x="3429000" y="76320"/>
            <a:ext cx="26668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ainstreaming into policy and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Rounded Rectangle 5"/>
          <p:cNvSpPr/>
          <p:nvPr/>
        </p:nvSpPr>
        <p:spPr>
          <a:xfrm>
            <a:off x="6400800" y="76320"/>
            <a:ext cx="25192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Rounded Rectangle 6"/>
          <p:cNvSpPr/>
          <p:nvPr/>
        </p:nvSpPr>
        <p:spPr>
          <a:xfrm>
            <a:off x="581040" y="1066680"/>
            <a:ext cx="2663640" cy="2514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Preliminary assessmen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the challenges and the scien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poverty-environment and CC–development linkag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government, institutional and political contex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Rounded Rectangle 7"/>
          <p:cNvSpPr/>
          <p:nvPr/>
        </p:nvSpPr>
        <p:spPr>
          <a:xfrm>
            <a:off x="609480" y="3657600"/>
            <a:ext cx="2667240" cy="1295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Raising awareness and building partnership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 consensus and commitment to resilient, low-carbon develop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Rounded Rectangle 8"/>
          <p:cNvSpPr/>
          <p:nvPr/>
        </p:nvSpPr>
        <p:spPr>
          <a:xfrm>
            <a:off x="612720" y="5029200"/>
            <a:ext cx="26640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eeds assess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Working mechanis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Rounded Rectangle 9"/>
          <p:cNvSpPr/>
          <p:nvPr/>
        </p:nvSpPr>
        <p:spPr>
          <a:xfrm>
            <a:off x="3429000" y="1066680"/>
            <a:ext cx="2743200" cy="27432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Collecting country-specific evidence and influencing policy process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Integrated ecosystem assessment; economic analysis…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(sub)national and sector policies, strategies, programm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uncertain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Rounded Rectangle 10"/>
          <p:cNvSpPr/>
          <p:nvPr/>
        </p:nvSpPr>
        <p:spPr>
          <a:xfrm>
            <a:off x="3429000" y="3962520"/>
            <a:ext cx="274320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Developing, costing, assessing and selecting policy measures, 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Rounded Rectangle 11"/>
          <p:cNvSpPr/>
          <p:nvPr/>
        </p:nvSpPr>
        <p:spPr>
          <a:xfrm>
            <a:off x="3429000" y="5029200"/>
            <a:ext cx="27432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Learning by do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Rounded Rectangle 12"/>
          <p:cNvSpPr/>
          <p:nvPr/>
        </p:nvSpPr>
        <p:spPr>
          <a:xfrm>
            <a:off x="6396120" y="1066680"/>
            <a:ext cx="2519280" cy="12193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Budgeting and financ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the budgetary proces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Rounded Rectangle 13"/>
          <p:cNvSpPr/>
          <p:nvPr/>
        </p:nvSpPr>
        <p:spPr>
          <a:xfrm>
            <a:off x="6400800" y="2352600"/>
            <a:ext cx="2519280" cy="1533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monitoring syste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Performance assessment framework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Indicators and data collec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Rounded Rectangle 14"/>
          <p:cNvSpPr/>
          <p:nvPr/>
        </p:nvSpPr>
        <p:spPr>
          <a:xfrm>
            <a:off x="6396120" y="4011480"/>
            <a:ext cx="2519280" cy="8654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upporting policy measur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, sector and sub-national level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Rounded Rectangle 15"/>
          <p:cNvSpPr/>
          <p:nvPr/>
        </p:nvSpPr>
        <p:spPr>
          <a:xfrm>
            <a:off x="6396120" y="5029200"/>
            <a:ext cx="251928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</a:t>
            </a:r>
            <a:br>
              <a:rPr sz="1500"/>
            </a:b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as standard practi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Rounded Rectangle 16"/>
          <p:cNvSpPr/>
          <p:nvPr/>
        </p:nvSpPr>
        <p:spPr>
          <a:xfrm>
            <a:off x="1332000" y="6121440"/>
            <a:ext cx="6769080" cy="4316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Engaging stakeholders and coordinating within the development community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Flowchart: Document 17"/>
          <p:cNvSpPr/>
          <p:nvPr/>
        </p:nvSpPr>
        <p:spPr>
          <a:xfrm>
            <a:off x="76320" y="1371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owchart: Document 18"/>
          <p:cNvSpPr/>
          <p:nvPr/>
        </p:nvSpPr>
        <p:spPr>
          <a:xfrm>
            <a:off x="2971800" y="323064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4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owchart: Document 19"/>
          <p:cNvSpPr/>
          <p:nvPr/>
        </p:nvSpPr>
        <p:spPr>
          <a:xfrm>
            <a:off x="108000" y="39625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Flowchart: Document 20"/>
          <p:cNvSpPr/>
          <p:nvPr/>
        </p:nvSpPr>
        <p:spPr>
          <a:xfrm>
            <a:off x="115920" y="5334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Flowchart: Document 22"/>
          <p:cNvSpPr/>
          <p:nvPr/>
        </p:nvSpPr>
        <p:spPr>
          <a:xfrm>
            <a:off x="3124080" y="2697120"/>
            <a:ext cx="698760" cy="37152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6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Flowchart: Document 23"/>
          <p:cNvSpPr/>
          <p:nvPr/>
        </p:nvSpPr>
        <p:spPr>
          <a:xfrm>
            <a:off x="3276720" y="3916440"/>
            <a:ext cx="69840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7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traight Connector 25"/>
          <p:cNvSpPr/>
          <p:nvPr/>
        </p:nvSpPr>
        <p:spPr>
          <a:xfrm>
            <a:off x="3276720" y="5524560"/>
            <a:ext cx="15228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traight Connector 29"/>
          <p:cNvSpPr/>
          <p:nvPr/>
        </p:nvSpPr>
        <p:spPr>
          <a:xfrm>
            <a:off x="6172200" y="5524560"/>
            <a:ext cx="22392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Flowchart: Document 32"/>
          <p:cNvSpPr/>
          <p:nvPr/>
        </p:nvSpPr>
        <p:spPr>
          <a:xfrm>
            <a:off x="6161040" y="1704960"/>
            <a:ext cx="696960" cy="3524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8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Flowchart: Document 33"/>
          <p:cNvSpPr/>
          <p:nvPr/>
        </p:nvSpPr>
        <p:spPr>
          <a:xfrm>
            <a:off x="6161040" y="246852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9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76320" y="6581880"/>
            <a:ext cx="859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Adapted from: UNDP-UNEP (2009) Figure 3.1, p. 15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Flowchart: Document 27"/>
          <p:cNvSpPr/>
          <p:nvPr/>
        </p:nvSpPr>
        <p:spPr>
          <a:xfrm>
            <a:off x="76320" y="1905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Flowchart: Document 30"/>
          <p:cNvSpPr/>
          <p:nvPr/>
        </p:nvSpPr>
        <p:spPr>
          <a:xfrm>
            <a:off x="3341520" y="5562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Flowchart: Document 31"/>
          <p:cNvSpPr/>
          <p:nvPr/>
        </p:nvSpPr>
        <p:spPr>
          <a:xfrm>
            <a:off x="6161040" y="5592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Flowchart: Document 31"/>
          <p:cNvSpPr/>
          <p:nvPr/>
        </p:nvSpPr>
        <p:spPr>
          <a:xfrm>
            <a:off x="120600" y="25909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Flowchart: Document 19"/>
          <p:cNvSpPr/>
          <p:nvPr/>
        </p:nvSpPr>
        <p:spPr>
          <a:xfrm>
            <a:off x="3200400" y="2133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10T17:46:19Z</dcterms:modified>
  <cp:revision>120</cp:revision>
  <dc:subject/>
  <dc:title>Slide 1</dc:title>
</cp:coreProperties>
</file>