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9DD8-A502-4943-A1C0-12AE8090F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8AAF-6A01-40A0-85CF-0D49B0457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6EE5-D0BD-4FA1-B4B7-F8A61630B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62F5-BCE1-452B-9A50-1901916F4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C0041-ADA3-4AFA-A5DD-1A3D72A17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71A18-072F-47E1-AA14-3EB76E09B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06FF5-7CE2-4996-A06B-68C573934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D7AAF-AE3E-4AB6-BB6D-16A89712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213ED-FCEF-40D3-B3E1-F6BD76EE1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7F763-3D89-438B-B528-8D4E7D836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C7407-77AC-49F8-B1D3-007A684D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E7AD-1461-468A-AE32-C858488DC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BEB64-3BA9-4FA2-8650-9D684DE1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AF126-5007-4295-9BAD-CF1C95F5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B194D-E556-4FEF-B823-E2C84B867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C457F-777F-4A99-97FA-DFEE52474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8D431-AAFC-424A-A82D-7DDCA47DD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5901-8E21-4946-9CAC-4E85E0EE8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AF9E-4FA1-4B63-B165-D8D5EBCF9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06EE-D6DA-46C8-ABE3-999DE48F3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1C8D-1FF5-44E2-85ED-59C682396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3C95-CEC7-44C6-919F-4C28A497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F1CC-BE7A-4492-B772-E454DF27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6781-2931-4D47-961F-2DD2D2EA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FE422-7E08-44C5-B28C-643B3EFF769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1597C-A954-49EA-A031-F5E53787A93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youtu.be/RJU_wrSVQoo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280" y="1341000"/>
            <a:ext cx="849636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ffd624"/>
                </a:solidFill>
                <a:latin typeface="Verdana"/>
              </a:rPr>
              <a:t>Module 9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11280" y="3789360"/>
            <a:ext cx="8532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Capacity development through knowledge sharing</a:t>
            </a:r>
            <a:endParaRPr b="0" i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1268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Knowledge sharing context in DEVCO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24000" y="2204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- Staff cuts, simplification exercice ongoing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- New Mission statement "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EuropeAid aims at being </a:t>
            </a: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a learning organisation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"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- Learning and Knowledge development strategy in the making of aid developmen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- Management increasingly present on the Knowledge Sharing platform capacity4dev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Communities of practice: Group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3" name="Picture 1" descr=""/>
          <p:cNvPicPr/>
          <p:nvPr/>
        </p:nvPicPr>
        <p:blipFill>
          <a:blip r:embed="rId1"/>
          <a:srcRect l="0" t="0" r="0" b="18877"/>
          <a:stretch/>
        </p:blipFill>
        <p:spPr>
          <a:xfrm>
            <a:off x="5170320" y="4027320"/>
            <a:ext cx="3071880" cy="2617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5148360" y="2230560"/>
            <a:ext cx="3095640" cy="1796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3"/>
          <a:stretch/>
        </p:blipFill>
        <p:spPr>
          <a:xfrm>
            <a:off x="179280" y="2600280"/>
            <a:ext cx="421668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Story telling: Voices &amp; View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2491920"/>
            <a:ext cx="8229600" cy="3529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" descr=""/>
          <p:cNvPicPr/>
          <p:nvPr/>
        </p:nvPicPr>
        <p:blipFill>
          <a:blip r:embed="rId2"/>
          <a:stretch/>
        </p:blipFill>
        <p:spPr>
          <a:xfrm>
            <a:off x="108000" y="2276640"/>
            <a:ext cx="2628720" cy="1957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" descr=""/>
          <p:cNvPicPr/>
          <p:nvPr/>
        </p:nvPicPr>
        <p:blipFill>
          <a:blip r:embed="rId3"/>
          <a:stretch/>
        </p:blipFill>
        <p:spPr>
          <a:xfrm>
            <a:off x="2760840" y="2276640"/>
            <a:ext cx="2104920" cy="2038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" descr=""/>
          <p:cNvPicPr/>
          <p:nvPr/>
        </p:nvPicPr>
        <p:blipFill>
          <a:blip r:embed="rId4"/>
          <a:srcRect l="0" t="8780" r="0" b="11291"/>
          <a:stretch/>
        </p:blipFill>
        <p:spPr>
          <a:xfrm>
            <a:off x="14400" y="4429080"/>
            <a:ext cx="4790880" cy="2428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5"/>
          <a:stretch/>
        </p:blipFill>
        <p:spPr>
          <a:xfrm>
            <a:off x="5435640" y="2502000"/>
            <a:ext cx="3120840" cy="1812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6"/>
          <a:stretch/>
        </p:blipFill>
        <p:spPr>
          <a:xfrm>
            <a:off x="4865760" y="4599000"/>
            <a:ext cx="40957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Knowledge sharing platform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04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2349360"/>
            <a:ext cx="69120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f5494"/>
                </a:solidFill>
                <a:latin typeface="Verdana"/>
              </a:rPr>
              <a:t>Personal Capacity : 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Learn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: Voices and views, Thematic groups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Make your work or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expertise visible :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profile / people section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Get support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from CoP / peers, find expertise in thematic groups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Online collaboration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tools in groups to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Build-up your Knowledge : group site / pages </a:t>
            </a:r>
            <a:endParaRPr b="1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Share updates, ideas and ask questions:  Blogs </a:t>
            </a:r>
            <a:endParaRPr b="1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Share your work, documents and files : Document library + Taxonomies / filters</a:t>
            </a:r>
            <a:endParaRPr b="1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Capitalise on your workshops : events pages</a:t>
            </a:r>
            <a:endParaRPr b="1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+ Task management, surveys etc</a:t>
            </a:r>
            <a:endParaRPr b="1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Coming up next =&gt; Projects :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Lessons Learned &amp; experiences shared from other projects (March 2014)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Our Organisation's Capacity: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249228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- To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retain knowledge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/ stop reinventing of the wheel: knowledge online - not on emails : The nightmare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- Increase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adaptability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to change and resilience: retain capacity despite people turn around, reorganisations, staff cut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- Cross learning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among thematics + among various parts of the institution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- Open our knowledge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to and learn from partners, ngos, private sector, governments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- Capitalise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on the huge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knowledge and expertise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that stems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from the implementation of thousands of projects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: today stays mostly with the consultants and NGOs implementing our programme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- Re-consolidate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the knowledge of hundreds of project / programme websites onto capacity4dev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- Offer an open consultation space : internal and external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Challenges ahead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227664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Just started: Redevelopment in 2014 to move to Drupal 7 : an opportunity to re-architecture the site and deliver better on key challenges: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Incentives: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build an conducive framework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Learning Portal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: scorm compliant, eLearning, catalogues, course list,   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tracking etc – Pilot for the new external LMS of the COM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Projects + links to corporate tools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(pull data from Financial, GIS, PM..)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Online work tools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(spreadsheets, doc based collaboration)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Mobile and Multilingual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Dig out value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: Improved recommendations tool (who recommends)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Usability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improvements across the board : look and feel and workflow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fr-FR" sz="1600" spc="-1" strike="noStrike">
                <a:solidFill>
                  <a:srgbClr val="0f5494"/>
                </a:solidFill>
                <a:latin typeface="Verdana"/>
              </a:rPr>
              <a:t>Low bandwidth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Widen Branding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: DEVCO </a:t>
            </a:r>
            <a:r>
              <a:rPr b="0" lang="en-GB" sz="1600" spc="-1" strike="noStrike">
                <a:solidFill>
                  <a:srgbClr val="0f5494"/>
                </a:solidFill>
                <a:latin typeface="Wingdings"/>
                <a:ea typeface="Wingdings"/>
              </a:rPr>
              <a:t>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EU ?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Questions 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1584360" y="3718080"/>
            <a:ext cx="597528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SANCHO HIDALGA Maria (DEVCO)</cp:lastModifiedBy>
  <cp:lastPrinted>2013-03-25T09:55:49Z</cp:lastPrinted>
  <dcterms:modified xsi:type="dcterms:W3CDTF">2014-03-17T09:49:32Z</dcterms:modified>
  <cp:revision>188</cp:revision>
  <dc:subject/>
  <dc:title>Slide 1</dc:title>
</cp:coreProperties>
</file>