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10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9" name="PlaceHolder 5"/>
          <p:cNvSpPr>
            <a:spLocks noGrp="1"/>
          </p:cNvSpPr>
          <p:nvPr>
            <p:ph type="ftr" idx="1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1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E2934-BF26-44BF-9AED-943EA5C6BE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4440" y="685800"/>
            <a:ext cx="4573800" cy="3429000"/>
          </a:xfrm>
          <a:prstGeom prst="rect">
            <a:avLst/>
          </a:prstGeom>
          <a:ln w="0">
            <a:noFill/>
          </a:ln>
        </p:spPr>
      </p:sp>
      <p:sp>
        <p:nvSpPr>
          <p:cNvPr id="1686"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4440" y="685800"/>
            <a:ext cx="4573800" cy="3429000"/>
          </a:xfrm>
          <a:prstGeom prst="rect">
            <a:avLst/>
          </a:prstGeom>
          <a:ln w="0">
            <a:noFill/>
          </a:ln>
        </p:spPr>
      </p:sp>
      <p:sp>
        <p:nvSpPr>
          <p:cNvPr id="1688"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4440" y="685800"/>
            <a:ext cx="4573800" cy="3429000"/>
          </a:xfrm>
          <a:prstGeom prst="rect">
            <a:avLst/>
          </a:prstGeom>
          <a:ln w="0">
            <a:noFill/>
          </a:ln>
        </p:spPr>
      </p:sp>
      <p:sp>
        <p:nvSpPr>
          <p:cNvPr id="1690" name="PlaceHolder 2"/>
          <p:cNvSpPr>
            <a:spLocks noGrp="1"/>
          </p:cNvSpPr>
          <p:nvPr>
            <p:ph type="body"/>
          </p:nvPr>
        </p:nvSpPr>
        <p:spPr>
          <a:xfrm>
            <a:off x="914400" y="4341960"/>
            <a:ext cx="50292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cc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BC407-21D5-4A8D-9BFC-B067D076E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7B0BA-6E11-45C1-A7DE-9FCCC8F0E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57A1E5-1848-4071-8D7C-5D7BF7EE5D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F76B73-87B3-4FE8-9DAB-00FBAF48B8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7F1115-DE67-4F6D-AB92-A269A3F22C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5A24B-9604-4162-8C69-F9D0F7A25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4FFFE-7CEF-424E-BA16-FF1A17661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E3977-F38E-435B-815C-AFF444C29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5684B-2026-41EA-B3CD-E1E8D10163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07FDAE-04E0-4C2D-9156-34AA06BC94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07BB07-490A-4BB2-A7B6-6B3AC367F8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7148D1-59F0-4BFE-8DA6-46511D62C3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6D3AA-A07B-4C25-8921-848A126F6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BA0190-18A4-4EF6-AAD8-8AD2A833A8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04FE41-B510-4440-A7E8-3AC8E0DFAD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DFAAB5-5D57-4BA8-93BE-A865CFDF23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DC5071-E66A-49DF-923C-F60731234E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CEACBA-F7DC-47FB-A4B7-EC40CA00D0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7B374B-B018-44CD-AC3B-08AD78E527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E573D2-DAED-4F15-93C8-77FAE76373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2E8C73-09AE-466F-922C-779AA11B14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90B776-FFA9-4CAE-998F-4DECFD3AAA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F735491-DEA8-485F-9D58-B1E3054DB3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86F8E-662D-4976-912A-40AEAAFCD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B2ACCE-ADA9-4278-BD4D-42A2440240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A0B1EE-03E5-486E-A526-D35FE10E71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5EF269-26B2-4E74-A339-743D76CB5D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7DB409-CBD2-4745-BB40-D8B1C31AB7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52655D-7001-4C57-89B7-1C097EE82A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ED05CB-165C-4EB2-83B9-D0D555CEC4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D01244-FFDC-4A44-90AB-87EAD29471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0B292C-582B-4EA6-9FB6-16E40B380B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B6B47C-A80D-498D-A14F-1043F58FCC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55D1DE-100E-4B91-8C34-33E5A42BF7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622CF-0483-40F5-B077-8D4CE3FA7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9EF6C2-E0D7-4C4A-882C-44299674E2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19C9E1-36A0-4699-82FA-9EF30A65EE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73B928A-B746-4DED-8444-1DCD2B83CA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4CB235-531A-4444-9F5F-E4578753CB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89D1CD-3CB7-41FD-8C4D-3863A1A9C6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CBDA2E-0261-41C2-B2B3-BBE2B1227A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254C4B-5742-4F55-9FCE-8673FD198C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42E7A9-7A21-49C9-ABA7-6A111748C2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20B28D-B007-48CF-A525-FDB6F93DD3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E09929-A136-4E87-941B-A6159F0FF9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D19D3-B68D-4945-BCBB-E8157D863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F3C6B4-F15C-469E-BFAC-697D3A90B9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CD8563-A24E-4469-A3C0-11B6D1F3FD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E55367-692E-4F19-A8C7-462E890C3C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0EEF6F-AC1D-4E33-A298-6BE22B0F52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4A5223-586D-490C-A49B-AE4864B3ED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1799C5B-1B9E-4C4C-89F8-6581BD0218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CD9F9D-0742-486C-BD1C-87D95FFA03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920778-5709-4C97-8F71-ED40D88284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BA0531-6015-43D4-8752-68C6ABEE14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28C974-9151-4914-A56F-BEC55832D2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08566-932D-49DD-AE93-FFDE38EA7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286DC2-64D0-4327-AFDF-EC4EB5BDB6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37D3EE-871F-41BE-8CF4-2C0DB18EAE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9A7064-5E8F-418F-A832-7CC7087687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68A0F7-AB43-4661-BE75-1229BD73CF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63887E-734D-4531-9F52-F5CD78A37A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D4CE7D4-EE39-4D12-A9BF-F080490AAF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FD141E0-3C60-4469-B027-1E48076C147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727593A-ECDD-460C-BE5D-52E06B2B7A6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CA4CFA-EC9F-41C7-B39F-396AB69F11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0EEBF7-A3BB-4D7A-BE44-265D179E3C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F5B20-D2E4-42D2-A017-A0DAE25F5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940E071-E57B-442F-84C7-5AFCAE7275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B101C8-4095-4468-A1B2-6FCBF10242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95742B-9727-49AF-B1CA-E1218C00FF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784F57-9499-463E-AC5D-ACD577DE7C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E59593-D6B6-446D-8C89-33A31B79FD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29FB15-B4D7-443D-A403-3D919EDF1D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1B1B1F-94BB-4484-95EE-8E6DFBBB80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0428070-F758-4D55-BD77-1DCEF36D48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4787456-2276-4AB4-80C9-82DA7D6FF9B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8BE176B-0802-43B7-B78D-9433A282EB6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00771-4758-4132-91B8-7D3668840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DF031D4-0945-47E0-A228-B3AD5D7273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9F75E8E-B18A-447E-8C0A-66948A581DA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8F4D556-EE89-45FD-B9C1-F2C17E438A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175D9B-704A-48C4-925A-DADECA6CD5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12F21E-11AC-41A8-870C-6409911FE48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F3B44D-034D-42B2-B51A-925762791A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FAC2F8-2111-4F44-911B-5F8ABA3F40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05691A-F8E0-4AB7-97B2-DCC58A2D21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E401C0-7B9A-42DF-9C24-80080269B8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B9BD481-1EDB-4E46-AC10-D0600F88CF1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25B1F-6700-47F6-BD07-1A7AB0355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1BA8251-8872-4594-8B95-57F3F52BBB2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250CA54-20C3-4169-A7E3-00D668037D5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FC64E68-382A-4C2B-9BA2-FDFF00037EC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F6CF2B-5B85-439E-8E56-045265691B2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0DE762-ED42-49DF-A556-D04CE57D1BC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0E726D6-65B1-43F2-B4F8-8C93425292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6A5287-BB7C-4FFD-8C17-E9025E8912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865807-9B8F-4FE2-82B3-A12682B7FF6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03B4D3-845A-464F-8DB5-EAC42B8765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C3D35D-16E1-4F8C-BEEE-EAA2F47415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799BA-812E-4058-AEF2-4CA0B2EBA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0A43245-9666-47AB-96C9-270B22A77B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9056B14-E4F0-47E2-BF4B-228512EA441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DC7059B-ED0B-4B99-8D34-3F1181C2F5B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83FF9D3-0134-45BC-9E6B-B679FE6E624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91D822-F9A5-4844-B951-C7643CD1BD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C1F0925-7FDE-44EE-AAF5-2F256F1E17D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126BA31-58E4-4DAE-A27E-E3E5E69C8B2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94D5374-FBB4-46B7-8F31-30191A157EF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4D2D6D4-26F3-44E6-BCBE-28219B297AA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DC96F86-0FE8-4A33-AB4A-4FE4AF2E0C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B3C1A-FBC7-4D54-B422-3B7894F56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6A3B9-354A-4086-A04B-D8E59AEDE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9A7D04-D563-4FE9-B6A9-A180890E9EE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8390B1-7E8B-4C78-B648-26E7B89830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1A3134-0C5E-4840-8381-BF91E1776D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1F6812E-763C-46C7-8194-D9455959F57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E689352-CB57-4364-AB64-F3704FA4D8C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5346E29-CFF8-49DB-AE53-07DB78B6037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C022235-AEC5-4A7F-92D8-662090A4F4F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584125D-9E7E-433D-88F4-237F15D268F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6BBFA3-859E-492D-831F-31ADEF10AC4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D8C7B71-F781-40A5-A78C-6EF00959DDB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3F653-73F5-46C2-BD71-3AF39E7E9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3F7B051-F191-4736-A07E-9AFAFAFD269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B92399-E7E5-4209-BC28-1EDF8FF6CEA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B31DB1A-A684-4A27-86F2-39CD7253EE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F265D7-6A36-4BF7-AF29-A3E4659EFF1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6D47056-7CE4-43C9-90C6-A6A7AD8C158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B66276F-BCF9-4706-A499-0F3E7A91668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A9C0AE6-4134-45AA-8707-994A8DAA786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74578E9-82E5-4633-851A-57BD07F6237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5282D8E-DED5-413A-B66C-22873668A9E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5934575-717E-42E0-81DB-7EFA488C563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DB02C-940E-4C91-9D71-60270C8B6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CA0D85-270D-4A77-82DB-7A7198E26FB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32BF8C2-90BB-41ED-A311-A7C46DA059F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B625F30-FBD5-4BF6-A42A-43FAA93C138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F6E2BA6-BDB6-4C58-B820-CB51D381E1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881049A-3CFB-4BF8-97F3-30FDE6D6DC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74D993C-0F85-4245-8467-1BB95A0B9EC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53D1A69-B6AF-4810-9B0E-3BC11CB3383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E976F7B-5E5F-4577-B5AF-A3E943EDD5E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E4D7C17-D25C-407A-B929-4CB3DEEC22E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DFF28E5-982F-4743-98DB-52648D7EC9F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13BBA-6862-49B7-9B70-F22B64F0B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DBF6995-C5FC-4045-BF4E-619E1F1D450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00EFB2B-762E-4164-B089-1ABA8B79B08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4255BFD-4FDC-4504-8FD9-0E43D2B04BA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0E8E9AB-F280-4394-B8B9-8879BCD90B3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62E5518-B55E-45D2-A47C-4DC2815EF30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4BBC4B4-77A0-457A-8AEE-1735385BB8F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782A767-8F93-49B7-9EE3-7920581515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F0B40B0-EB07-44AF-9CE9-AE55564F3F2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55FDD61-8533-47D0-9BA6-0351B98C06A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BB6464D-6316-44C3-9192-A4219D70A14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8A93C-7405-4B22-97E8-84BAEEC39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C762FD3-6DE0-49A9-AB17-ED74A98B384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6F767E8-7891-4F3A-8ED0-D9BDFB216D2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4FF15E7-7FB1-4B36-B824-1FB0B9CC568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DE2A4ED-3BE4-4D0B-B5ED-DA5D653EE33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D60B777-ACE3-468D-823D-59292D44830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F9DD738-5F9C-482B-9581-2A412981521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C94D1C4-32C1-4FEB-8006-4BA215D4D41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F77CA6-8991-4B30-B94C-9919288F91B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0A5F54-D6E3-4EF1-AD0A-37C4D08B2FA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19DD47-5D4C-4631-808D-FE6868E71DD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1DBB5B-B5B5-44D9-97A8-81013F1E83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01C69D8-14F8-4A72-91B5-98F3A527ABC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ACFB63D-EE2A-4E41-9A52-854FB445264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DE67AA2-5774-4AA8-A414-C0CBC5FBFC5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6384EB7-4412-43F3-A15D-CDC368D9995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654A15A-7DE9-492C-AC81-32CB1285ECB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AB793AC-7F3F-488F-9FB7-37D7A3D4836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8784E5A-DC38-4F91-A2ED-97ABBB60390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C7B33DE-3BE8-46A1-9539-EA1CAF04016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ECA6D3D-608A-496F-92DB-365C90E075C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63E3D92-634E-4106-BEEF-4E8BA2D35C6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AFE3A-FF89-4BA5-893F-7D8CAC8B5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7D538DF-3BA1-44A7-8F5C-EB85FD53C4B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3BA48E6-21C1-4ECD-9FA5-5705617A668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680D105-5E09-454B-A935-36034F658C4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5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208E6BD-0347-420C-8684-22FE56847F4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E3E533D-E24C-4C70-98FE-54A6BD5E405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7ABE56B-6288-425B-ADBF-ABC3A540F19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F44E9F1-C0B8-47D4-9251-9968660210D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F6F762A-564E-4288-B60A-1E0B08109EA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0262CC7-27FF-43A5-A64E-8FE8968873D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FF627EB-F959-4F97-A1F0-3152726FE6D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688022-239F-43D2-9BAD-3F7EE4703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D145616-2873-4D92-8C8F-7A926993700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8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4D00D91-4B9B-430B-9702-30D9EF6329B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A80D456-F5C3-4167-92FF-729C287278E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6092B48-1F72-414B-91A0-8B185705DEB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75503B4-7BE7-4105-BC56-2F496192C60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5037F47-501F-47F3-B9ED-FD427898AF6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A815F30-19A5-4100-BA2C-98007CDC438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2993A2A-048E-45EB-BF1D-2FEE4A6C1E5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9043BC6-5772-46E3-8D61-B4E24BEA929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5A661C6-8FEF-49B1-AAE6-A6D21771B15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CFCFF-51F3-4E1D-872E-A7E4E93FE0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2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7EDC4C2-B710-4177-ABFF-13176CAAB19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D7B82F0-73EE-4412-BB8E-17855958541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DBD1650-36B6-4810-95D5-2F68FC32ED3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715B976-E7F0-4B5B-8A52-96D13D77D50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5915565-7E3D-4DF6-AA97-7E6B5749060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E8F7175-56BE-49E8-A0B4-B59EE863FCB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EA8F3E1-B8BE-47DE-8456-8D4D1098CE1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CE10B56-2C85-47FE-A19F-1256BB2633F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8C07968-9A70-49C2-8931-B442EC78442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B83D494-9FE2-4C71-8B52-595F0C06C5E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45663-E780-4E5A-9A50-FA37CB774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E671B6E-B356-49CC-9EAC-4DA2A8FC8A1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B8CD8F5-3866-4DB9-8465-0299C1C61D6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0E44F24-3E63-4DF0-BF54-9EC394D0ABB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EE32775-59E5-45D6-A6BB-5890F3134EB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7048B36-7C3F-4470-A491-AB7B0A956FB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4C9D6E3-826C-4845-9A1E-F29D73D547F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BBF5336-4F51-4526-A4DD-7A21B05711A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54B5E56-D2AB-4E1C-B6A1-CA223FA715E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D84E34A-DE00-4BA1-81F6-392F2E89998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DED3128-54F0-4866-AD39-FE4B453B05C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EFCE2-DCAC-4068-9A91-5C2B8578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56C0F-2481-4A8A-B85E-908F97B38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9F6401E-3138-460D-B2BA-F24D6B0BC2C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A315822-78EF-4FFD-B4CB-9769493FE48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1A5491B-0190-43D7-8ACE-282DD27E791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22E2FDA-D9CA-440B-AD6E-4D45AB94044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07CA340-53A9-4999-A94F-13435DA3919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E11835E-262B-4B9B-9F17-2DEE5C76455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B9BA23E-2772-42D3-A778-9879CB9270BD}"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5B429B5-8881-4815-873A-CC49D47EC4A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25316CF-7B8D-44EF-8222-822D6F3423E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21B47AE-4899-454B-97E0-9B240BF28C4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5AA09-3C34-46C2-91B7-5B494E996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E949653-8F77-4C8F-8749-4A429CF9DD6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170EFB1-4C13-4BE3-8901-96B1EA21FAC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4C9682E-1357-4FBC-917D-12EF11031FC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135AC0A-E596-48FF-AD0E-EA3AA8CE11A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455DAC4-BF37-486B-8AEB-37B9BF01C67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10223D4-8AE7-4022-BB31-44AFE03D96B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029BFBB-FFA5-4317-A447-E37DA6A05AD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00B2796-26CA-4CA3-82D4-72DF853F502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71F2574-C7D0-47FD-B301-F16377F049D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BB279E8-05AC-457C-B5AE-048749C042D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5FC34-2213-4662-A3D7-8613C3DEF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5FF4F55-DD44-4668-BD77-152C3313E2B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B608D8A-0A3C-420B-9DE0-177DC55E794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07E2B1D-B427-455A-95C7-811FF3D4AD6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B403996-D05A-4D22-BD72-F5E77B910A7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E973812-14F8-4EF1-998E-3110DF7C68C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E201983-A3FF-4A6E-9A02-D1DB2640DDF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760F3DD-F8D8-4E67-B43D-1F7BA01AF56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86DD3B2-1DD7-42A3-AC72-F5695ED517E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E0F2010-578C-4BF1-94AE-8041E0180E5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13CC277-0990-4A63-9C81-490D1BA1CC5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850A1-1D0C-4CA7-B18F-6F9211A70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5217444-9281-4A77-AC7B-0A7F197F8FC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D390F92-FF67-45A8-AF16-3EB48DE87AA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1A8363B-3EC7-4539-B59E-F6D232346FE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B706EB0-1544-40FD-B755-5D457283265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B9827DF-BB92-4595-B677-3DEAF994EA5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890A78D-E66F-4AEE-BAF0-8D6F8F8E961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FE2D930-88C8-4528-97D0-2224DAF291D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CB2B03C-0A7F-4ABB-80CF-ECDF1BE8544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280AD0B-05C2-4950-9483-4691D89A263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6536EBC-09E3-4F7F-A74C-09A2762654D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0FC0B-3C5E-483B-BE3D-5F755E19C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1D6F08C-DF70-4CDA-A327-C379CC1F76C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9315933-5094-485F-9C21-CA5A17E4185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187658B-0ECE-47C1-80A3-62173357F4D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E0D60FA-F4D6-4DF3-93EB-15656A5E040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29114F9-BEC7-4F6A-AFA9-75BC9B559F1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07A3686-4213-43C8-8D49-D1749948867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0898F77-29E9-467A-BC00-A6053B8EE5C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BDE04A2-A4FB-41E7-959A-1A156A8F105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E723A7A-387C-494D-AAB8-113DE20F5AD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9DC0F8F-D748-4A1E-A05D-EE16BB8E57A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C0F972-0945-4A88-8FAB-5BA02FD71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13C8C05-704B-4C38-85A0-D00FA1B667D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E6AE11D-F55C-45F7-AD23-34059B3B143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43A9DB9-F4DA-4737-A9A2-6827624211F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B3404EA-7E02-4ED8-962B-4F5C130C03B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0B30C21-E929-4A5F-87C5-356B10F07DD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BA83239-1313-4A28-AC05-5933F79F241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6206BE4-9BFA-4164-B6CA-6D92DCAA8E9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B85FF0C-566A-4BA2-B7D3-9724A827C75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9DE56E0-BB8E-4744-ABD5-6EBCD9935C2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D76E011-2F59-4FF4-9A41-2DA011B50AB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4959C0-EE45-44A6-9EF4-FA8AE87134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0235F4E-016C-4E94-B810-6EEA47B3C0B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6046AB4-C088-447D-A17C-7921C8AA98A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345CBC1-1170-4543-9A8B-1657F76F998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3F35BEB-CB30-435C-B09C-4812A0DA02E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8BED0E6-5F27-4C74-9D62-FF9B3CFBBFC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69B78DA-6FEE-420E-9762-D4A47376B4D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37C5D10-A2FB-4719-A2E9-F3397966460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8A48E27-BBE5-4A79-8C49-AA232BEF29A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9A2CC7F-F116-4C0D-A646-01F807E3901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5880989-9A8A-4711-A579-BAB3A3F1791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951202-8207-4746-AB7F-EDA30DD49E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7140623-76FB-445B-9FF9-626C6CA9A68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5C9051D-6AE6-4616-AD39-A299FBA273A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14D1637-D1AC-4A54-B2F8-BD6F14B1B86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331AC07-A17C-4EE9-9087-63BDDD92180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7D1C58C-7DEA-47B7-8E19-02B4921BAFA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601F0D7-0A6C-4F40-83FB-7AE0DAD38E8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91E16D8-A8CA-4CB3-8037-5F6151E9A78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B86EA55-7E8F-42A8-8943-E5E4DC45FF2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89C96BE-2AF8-443E-9654-CF9E848F486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0392E75-AEC0-4A07-A830-A2DBEB55F1B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AAADC3-2416-4148-9705-4242A3552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6EE3647-97AE-4E49-994A-90CDBF7ECBB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2DF39AE-F5C2-400A-9D1F-4F15FE96538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69B3D84-13B4-490F-86F9-131D0A94E45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9C51545-B397-4D12-B346-71860A37602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73A0C53-8D7D-410C-A76B-59876AA68708}"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81248F1-6E97-4F38-A4F7-D6EF7C39223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21FADCB-F05C-46AC-BB95-24B06106049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C96F63B-245E-4785-947E-6F4E27AF6A81}"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EE7CF44-9158-4875-A215-E8112FE6DCB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FD7C8FF-6CFE-474E-A994-B53794F3263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02DFF-0E00-4139-923E-3088004ACE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36ED259-2604-4601-B7C4-D483D9D1990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66799AB-A8E5-4C54-AE55-9B1B0B25D95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3A8ECA8-3D1A-4388-8E52-0BCAED02768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C8A7779-9730-437D-9F07-ADF65E55A62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AD4E99C-BD84-4871-AA9C-6EF9C0E5008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83D8BAF-F988-4428-AF77-FB0155E40D7A}"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9B05292-3401-492F-9727-DD772974A6B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6FA1CC1-E6FE-4A3E-9B30-580A1903A4C1}"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6ED8F00-5300-47B8-9CBF-49777E48AB4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4FE46E4-8551-4D0E-B2E2-94313968446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9D908-850C-469A-9FDE-C40CC2389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203AA-168B-41E6-98C1-A617B96AB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1EDD1869-AE94-46CD-8D6B-D8FC939AD83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C25312A-353B-4B79-A773-235A4A54B3C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7F8E629-079B-4473-BC07-614989BFF43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A413F5F-A528-4497-BD7E-9821F3D995D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ED8140B-BF70-43C3-BDE2-B3184EE8102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0A90AC0-03B9-4131-B9A3-74A03E7BF86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3F20F70-26BE-40F1-A804-514CBF5B049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217F2970-029E-45C5-A2A7-42D1AD18875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0D60F82-99F6-4517-9C3B-DF28D7384B1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FAF0156-DEEA-45E4-9686-118BEC16F63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81232-C450-4CDD-8702-EBF8BA35D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7567EDE-8BDD-4244-8D4C-38E1C473C65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58DB7A5-2845-4FE4-9B54-69A346A3185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7606A66-7982-4A51-BB54-DEBBC29C5B3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E3537C6-2E57-41B1-8D7A-455862EF761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3BB8494-1E77-4BF0-AED5-ACADE6786EA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0E62340-5C7C-4F83-BE0C-BBD804346C3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2B8BFEB-AC32-40FA-8FC5-245D6A3700D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475485E-5EA6-45E2-A969-8BAF22AC597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965036F-3EE3-4315-A137-1719AB44BFE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EB70D0E-576D-4187-B079-0BF712298E8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63A9DE-610E-4FBC-B097-2DEB0124F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6D48FEF-7D24-4423-98C8-48110CAC4E2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BF18320-06F6-46E0-9FAB-136BD945A00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3D032FC-0555-4D75-BDD2-689FFA824CE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D5BC97F-6BB4-4775-953A-B31231AAE88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52D09B7-B8D8-4277-A5C1-23BDE30690C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33D2798-8F35-4DDD-8FA0-0AA927C9023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E7E0DFE-2133-45D5-ADDD-0DAFFD606C4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2AB50D8-9B72-4C86-B590-DC15E34B5F0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62BC490-B5E6-4587-B2C2-09E1503D7AE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03AC369-3380-41D3-BDF2-A74B2BD35D6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5710C-2E2A-4735-9302-D9F084EBF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DB13531-237C-4440-B01A-BF88F65C82F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C7571C8-314B-4506-81CF-49D078C5F46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27928635-55B5-4F82-A8AD-73633CFDB9C4}"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27D32-3089-424E-8CD5-AE78F1287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D66FA-56F9-4156-BA2E-2F3BD7158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344AA4-F1E0-4EFD-9BF0-D94F25B56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D0F0F5-07B8-4875-9D34-EF9F4F0A1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7DDAE-17C6-4F5E-8EBE-2DFB998DB8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774B94-3A55-4E12-8A2E-187D508128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2A0CC-7F25-4966-B01C-2EE2AAF92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384629-1A4F-4B52-B00C-88C0690B7F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65F0E-7C00-4802-859D-903BB6DA4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7F453A-670C-46C4-8A39-52F8E41C4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5966C7-8477-44B8-9174-0A3DEBD8CB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17AF24-1864-4386-B1D4-4644E61A8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5D3EE-9E65-4787-9362-6674E7F80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AC83D-12B4-4E2F-837B-F91527FB9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348904-A86D-4231-8AE7-B2082C385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F9985-A3F8-4A7E-8167-57BC60125B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440F4D-DC1B-44B2-9FDA-ED6ABB8CDE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C48E7-BCD1-407D-AEDE-CE02C6F93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506532-0630-4400-A61B-6DC4ABEB09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D96955-22E5-4785-880F-54F26DA82D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8C0A1-A4C0-4DC5-A8C3-7427A54841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E473DE-AAD1-4D61-9672-626007DD0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79BCC-F459-4974-A9A7-B7D2C1750E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2B0FE7-3B04-4041-A749-4EA3851663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2578A4-8C90-42D4-8C12-795491624C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3CAA5-5BD3-426E-95E2-B4038309B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80D1A-A99D-4DE6-962A-3507B0182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234EB5-1477-4558-9393-542AD5997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10A65-B0D6-4797-AA6C-E62CB2DE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93C226-898C-4769-AACA-FB47F4FD99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6DDCE7-A78A-4B43-AE36-6AAADF176F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E76CCF-B176-4B58-A3E1-92742B2257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3DF905-3804-4368-A9BB-3B0F4F0A97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21DF4F-FB75-4FD9-84E4-9953228D47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D072D0-52F6-43B3-8751-5C0805D24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ECD127-3317-416B-A5A7-21F9F9BCB0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16A4B0-D3C7-459B-B162-298E976ED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EDADCB-E14E-4D5D-AB9C-744E5E803F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2AA474-378C-4321-81DB-9780F2FD4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F1DB-9A22-4EC1-96E3-AA31D4FA4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DBE22-9E0C-4748-99F4-6DF06F8E7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4F128-CC8C-4279-912F-B155BA022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8798B-F244-4219-806F-2235308D40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4FFD5F-8C02-4CB1-8D62-08ED4B61FE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416579-0A56-43A0-9979-9F3DD779CD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3DA4D4-C8B8-4187-9FCB-822C797AB4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5AF230-CF92-45C4-9D98-E0DE18EA90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858BA4-6829-4514-9124-6225BD23E4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8FF6CA-2A5F-4DB6-9839-BB4B8AB462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122A6D-95AB-430F-8DE2-BEEAB45D96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0945E-416C-45C5-B7DC-3C1E9D4BA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96DE69-1CF0-4C40-89A0-95FAE27F01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623DB-7DB9-4D52-BD4C-8919C2FE4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CF9B5-FBFF-4339-BA98-EE9F960FD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1D6D2B-C17C-44A4-B9BE-30C5769ED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10C4FD-F46D-4E35-922B-049222EB49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4446AF-1B08-450E-B386-D1371FB58C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AF8E2B-B68B-4A52-B646-102BEA6422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71412C-B177-4C34-877C-DCC221ECB3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EFFCC-024E-494A-BCE4-CFB5AE9125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AF5B22-D8A3-441D-A423-AACE74122B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63C91-691D-47D3-9B21-37076FAB5CC8}"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E38B1-A103-4B66-9ED9-9C7EA7D282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BF447-C683-4846-B858-009FD96238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CE5F1-00BC-45FC-A906-392E12CB8B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C508C-193E-4D05-882C-959FC6338D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21D3B-EDB5-43E1-85CE-7A6D09AD5D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7" name="Picture 6" descr="LOGO CE-EN-quadri.eps"/>
          <p:cNvPicPr/>
          <p:nvPr/>
        </p:nvPicPr>
        <p:blipFill>
          <a:blip r:embed="rId2"/>
          <a:stretch/>
        </p:blipFill>
        <p:spPr>
          <a:xfrm>
            <a:off x="3957480" y="258840"/>
            <a:ext cx="1436760" cy="998640"/>
          </a:xfrm>
          <a:prstGeom prst="rect">
            <a:avLst/>
          </a:prstGeom>
          <a:ln w="0">
            <a:noFill/>
          </a:ln>
        </p:spPr>
      </p:pic>
      <p:sp>
        <p:nvSpPr>
          <p:cNvPr id="61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6A423-9A0D-4506-AB0A-D7E0C92E2868}"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99A5A-15EB-4536-A28F-0051066DC5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E2A6F-7090-46DF-BFE5-A056EEF20A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876B4-00AB-4F90-A23C-2A87C87918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84D55-C309-49D0-8925-032AFB6258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E6E0B-F2F4-46C7-BFC1-2BEBB5C13E46}"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BD2EA-99C4-4DC1-9F93-34EF458BE0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279AC-A087-438C-84D4-8DB64651C4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26" name="Picture 17" descr="LOGO CE_Vertical_EN_NEG_quadri_HR"/>
          <p:cNvPicPr/>
          <p:nvPr/>
        </p:nvPicPr>
        <p:blipFill>
          <a:blip r:embed="rId2"/>
          <a:stretch/>
        </p:blipFill>
        <p:spPr>
          <a:xfrm>
            <a:off x="3957480" y="258840"/>
            <a:ext cx="1436760" cy="1004760"/>
          </a:xfrm>
          <a:prstGeom prst="rect">
            <a:avLst/>
          </a:prstGeom>
          <a:ln w="0">
            <a:noFill/>
          </a:ln>
        </p:spPr>
      </p:pic>
      <p:sp>
        <p:nvSpPr>
          <p:cNvPr id="92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29"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3B68C-14E7-482D-BDB2-B39D7DF94D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70" name="Picture 17" descr="LOGO CE_Vertical_EN_NEG_quadri_HR"/>
          <p:cNvPicPr/>
          <p:nvPr/>
        </p:nvPicPr>
        <p:blipFill>
          <a:blip r:embed="rId2"/>
          <a:stretch/>
        </p:blipFill>
        <p:spPr>
          <a:xfrm>
            <a:off x="3957480" y="258840"/>
            <a:ext cx="1436760" cy="1004760"/>
          </a:xfrm>
          <a:prstGeom prst="rect">
            <a:avLst/>
          </a:prstGeom>
          <a:ln w="0">
            <a:noFill/>
          </a:ln>
        </p:spPr>
      </p:pic>
      <p:sp>
        <p:nvSpPr>
          <p:cNvPr id="97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7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73"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CDBCD-949E-496C-827E-E0325C743D5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1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1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17"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90505-C2E5-46D0-BAF2-0516992AD3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0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06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061"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2"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3"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76793-B3EA-4B89-AA40-404A1F0CB8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01" name="Picture 6" descr="LOGO CE-EN-quadri.eps"/>
          <p:cNvPicPr/>
          <p:nvPr/>
        </p:nvPicPr>
        <p:blipFill>
          <a:blip r:embed="rId2"/>
          <a:stretch/>
        </p:blipFill>
        <p:spPr>
          <a:xfrm>
            <a:off x="3957480" y="258840"/>
            <a:ext cx="1436760" cy="998640"/>
          </a:xfrm>
          <a:prstGeom prst="rect">
            <a:avLst/>
          </a:prstGeom>
          <a:ln w="0">
            <a:noFill/>
          </a:ln>
        </p:spPr>
      </p:pic>
      <p:sp>
        <p:nvSpPr>
          <p:cNvPr id="110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0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05"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6"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7"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CCD47-3F10-4C46-B86A-F6C97720131B}"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4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49"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0"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A35DF-F0F6-4725-9A3C-12EEF08116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9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19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19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32EC8-44B7-4B65-9445-6FA94628F78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3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3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C785E-CF92-4290-9140-3890A24F81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02BF2-F433-4946-8CC1-3546EFF66CF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81"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2"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3"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4FFE5-FACC-46AD-B60B-08C3627E91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2B9B4-A32A-47FB-BE71-37272E1FCB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1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9" name="PlaceHolder 3"/>
          <p:cNvSpPr>
            <a:spLocks noGrp="1"/>
          </p:cNvSpPr>
          <p:nvPr>
            <p:ph type="dt" idx="9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0" name="PlaceHolder 4"/>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1" name="PlaceHolder 5"/>
          <p:cNvSpPr>
            <a:spLocks noGrp="1"/>
          </p:cNvSpPr>
          <p:nvPr>
            <p:ph type="sldNum" idx="9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E4818-D052-4F64-85E4-E8A20D1295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13"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4"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5"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5CC12-C7D8-4BE6-ACDC-327647177D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4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457" name="PlaceHolder 3"/>
          <p:cNvSpPr>
            <a:spLocks noGrp="1"/>
          </p:cNvSpPr>
          <p:nvPr>
            <p:ph type="dt" idx="10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8" name="PlaceHolder 4"/>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9" name="PlaceHolder 5"/>
          <p:cNvSpPr>
            <a:spLocks noGrp="1"/>
          </p:cNvSpPr>
          <p:nvPr>
            <p:ph type="sldNum" idx="10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DDB38-7D96-46E7-AD05-736726E7ED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9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01"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2"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3"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70B07-CD29-49BE-AF12-E47B9C8DA2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5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5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5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216F0-7826-47AE-B934-9A7D77316A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33" name="Picture 6" descr="LOGO CE-EN-quadri.eps"/>
          <p:cNvPicPr/>
          <p:nvPr/>
        </p:nvPicPr>
        <p:blipFill>
          <a:blip r:embed="rId2"/>
          <a:stretch/>
        </p:blipFill>
        <p:spPr>
          <a:xfrm>
            <a:off x="3957480" y="258840"/>
            <a:ext cx="1436760" cy="998640"/>
          </a:xfrm>
          <a:prstGeom prst="rect">
            <a:avLst/>
          </a:prstGeom>
          <a:ln w="0">
            <a:noFill/>
          </a:ln>
        </p:spPr>
      </p:pic>
      <p:sp>
        <p:nvSpPr>
          <p:cNvPr id="13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81145-6031-4299-B0AF-8B523E6965B6}" type="slidenum">
              <a:rPr b="0" lang="en-GB"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8"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8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ECD06-B1AE-4DB8-A77A-AA0E8D1E3A4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2" name="Picture 17" descr="LOGO CE_Vertical_EN_NEG_quadri_HR"/>
          <p:cNvPicPr/>
          <p:nvPr/>
        </p:nvPicPr>
        <p:blipFill>
          <a:blip r:embed="rId2"/>
          <a:stretch/>
        </p:blipFill>
        <p:spPr>
          <a:xfrm>
            <a:off x="3957480" y="258840"/>
            <a:ext cx="1436760" cy="1004760"/>
          </a:xfrm>
          <a:prstGeom prst="rect">
            <a:avLst/>
          </a:prstGeom>
          <a:ln w="0">
            <a:noFill/>
          </a:ln>
        </p:spPr>
      </p:pic>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7BC52-0D33-48DC-8ABB-07754A3A39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FC2F0-862F-47AE-B990-38A3CE160D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0" name="Picture 17" descr="LOGO CE_Vertical_EN_NEG_quadri_HR"/>
          <p:cNvPicPr/>
          <p:nvPr/>
        </p:nvPicPr>
        <p:blipFill>
          <a:blip r:embed="rId2"/>
          <a:stretch/>
        </p:blipFill>
        <p:spPr>
          <a:xfrm>
            <a:off x="3957480" y="258840"/>
            <a:ext cx="1436760" cy="1004760"/>
          </a:xfrm>
          <a:prstGeom prst="rect">
            <a:avLst/>
          </a:prstGeom>
          <a:ln w="0">
            <a:noFill/>
          </a:ln>
        </p:spPr>
      </p:pic>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D8E1E-488E-43AC-9487-B1C0B5BF51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5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22048-D4BB-480E-A61F-E8F3672E59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3"/>
          <p:cNvSpPr/>
          <p:nvPr/>
        </p:nvSpPr>
        <p:spPr>
          <a:xfrm>
            <a:off x="417600" y="4508640"/>
            <a:ext cx="83646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Module 8:</a:t>
            </a:r>
            <a:r>
              <a:rPr b="1" lang="fr-BE" sz="3200" spc="-1" strike="noStrike">
                <a:solidFill>
                  <a:srgbClr val="ffffff"/>
                </a:solidFill>
                <a:latin typeface="Verdana"/>
              </a:rPr>
              <a:t>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Appropriate Programme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ffffff"/>
                </a:solidFill>
                <a:latin typeface="Verdana"/>
              </a:rPr>
              <a:t>Implementation Arrangements</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2" name="PlaceHolder 1"/>
          <p:cNvSpPr>
            <a:spLocks noGrp="1"/>
          </p:cNvSpPr>
          <p:nvPr>
            <p:ph type="title"/>
          </p:nvPr>
        </p:nvSpPr>
        <p:spPr>
          <a:xfrm>
            <a:off x="1402920" y="21654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d624"/>
                </a:solidFill>
                <a:latin typeface="Verdana"/>
              </a:rPr>
              <a:t>Supporting change through </a:t>
            </a:r>
            <a:br>
              <a:rPr sz="3200"/>
            </a:br>
            <a:r>
              <a:rPr b="1" lang="fr-BE" sz="3200" spc="-1" strike="noStrike">
                <a:solidFill>
                  <a:srgbClr val="ffd624"/>
                </a:solidFill>
                <a:latin typeface="Verdana"/>
              </a:rPr>
              <a:t>Capacity Development</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95280" y="112212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And what about TA?</a:t>
            </a:r>
            <a:endParaRPr b="1" lang="en-US" sz="2800" spc="-1" strike="noStrike">
              <a:solidFill>
                <a:srgbClr val="0f5494"/>
              </a:solidFill>
              <a:latin typeface="Verdana"/>
            </a:endParaRPr>
          </a:p>
        </p:txBody>
      </p:sp>
      <p:grpSp>
        <p:nvGrpSpPr>
          <p:cNvPr id="1612" name="Group 4"/>
          <p:cNvGrpSpPr/>
          <p:nvPr/>
        </p:nvGrpSpPr>
        <p:grpSpPr>
          <a:xfrm>
            <a:off x="1201680" y="1766880"/>
            <a:ext cx="7167600" cy="2773080"/>
            <a:chOff x="1201680" y="1766880"/>
            <a:chExt cx="7167600" cy="2773080"/>
          </a:xfrm>
        </p:grpSpPr>
        <p:sp>
          <p:nvSpPr>
            <p:cNvPr id="1613" name="Oval 6"/>
            <p:cNvSpPr/>
            <p:nvPr/>
          </p:nvSpPr>
          <p:spPr>
            <a:xfrm>
              <a:off x="1517760" y="3747240"/>
              <a:ext cx="953280" cy="79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SimSun"/>
                </a:rPr>
                <a:t>CD</a:t>
              </a:r>
              <a:r>
                <a:rPr b="1" lang="en-GB" sz="1400" spc="-1" strike="noStrike">
                  <a:solidFill>
                    <a:srgbClr val="000000"/>
                  </a:solidFill>
                  <a:latin typeface="Trebuchet MS"/>
                  <a:ea typeface="SimSun"/>
                </a:rPr>
                <a:t> </a:t>
              </a:r>
              <a:r>
                <a:rPr b="1" lang="en-GB" sz="1400" spc="-1" strike="noStrike">
                  <a:solidFill>
                    <a:srgbClr val="ff0000"/>
                  </a:solidFill>
                  <a:latin typeface="Trebuchet MS"/>
                  <a:ea typeface="SimSun"/>
                </a:rPr>
                <a:t>support</a:t>
              </a:r>
              <a:r>
                <a:rPr b="1" lang="da-DK" sz="1000" spc="-1" strike="noStrike">
                  <a:solidFill>
                    <a:srgbClr val="000000"/>
                  </a:solidFill>
                  <a:latin typeface="Trebuchet MS"/>
                  <a:ea typeface="SimSun"/>
                </a:rPr>
                <a:t> </a:t>
              </a:r>
              <a:endParaRPr b="0" lang="en-US" sz="1000" spc="-1" strike="noStrike">
                <a:solidFill>
                  <a:srgbClr val="000000"/>
                </a:solidFill>
                <a:latin typeface="Arial"/>
              </a:endParaRPr>
            </a:p>
          </p:txBody>
        </p:sp>
        <p:sp>
          <p:nvSpPr>
            <p:cNvPr id="1614" name="Oval 7"/>
            <p:cNvSpPr/>
            <p:nvPr/>
          </p:nvSpPr>
          <p:spPr>
            <a:xfrm>
              <a:off x="2385000" y="3052080"/>
              <a:ext cx="1326240" cy="1384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rebuchet MS"/>
                  <a:ea typeface="SimSun"/>
                </a:rPr>
                <a:t>  </a:t>
              </a:r>
              <a:r>
                <a:rPr b="1" lang="da-DK" sz="1200" spc="-1" strike="noStrike">
                  <a:solidFill>
                    <a:srgbClr val="ff0000"/>
                  </a:solidFill>
                  <a:latin typeface="Trebuchet MS"/>
                  <a:ea typeface="SimSun"/>
                </a:rPr>
                <a:t>CD </a:t>
              </a:r>
              <a:r>
                <a:rPr b="1" lang="en-GB" sz="1200" spc="-1" strike="noStrike">
                  <a:solidFill>
                    <a:srgbClr val="ff0000"/>
                  </a:solidFill>
                  <a:latin typeface="Trebuchet MS"/>
                  <a:ea typeface="SimSun"/>
                </a:rPr>
                <a:t>processes</a:t>
              </a:r>
              <a:r>
                <a:rPr b="1" lang="en-GB" sz="1000" spc="-1" strike="noStrike">
                  <a:solidFill>
                    <a:srgbClr val="ff0000"/>
                  </a:solidFill>
                  <a:latin typeface="Trebuchet MS"/>
                  <a:ea typeface="SimSun"/>
                </a:rPr>
                <a:t> </a:t>
              </a:r>
              <a:endParaRPr b="0" lang="en-US" sz="1000" spc="-1" strike="noStrike">
                <a:solidFill>
                  <a:srgbClr val="000000"/>
                </a:solidFill>
                <a:latin typeface="Arial"/>
              </a:endParaRPr>
            </a:p>
          </p:txBody>
        </p:sp>
        <p:sp>
          <p:nvSpPr>
            <p:cNvPr id="1615" name="Oval 8"/>
            <p:cNvSpPr/>
            <p:nvPr/>
          </p:nvSpPr>
          <p:spPr>
            <a:xfrm>
              <a:off x="1201680" y="2179440"/>
              <a:ext cx="1415160" cy="13680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SimSun"/>
                </a:rPr>
                <a:t> </a:t>
              </a:r>
              <a:r>
                <a:rPr b="1" lang="en-US" sz="1400" spc="-1" strike="noStrike">
                  <a:solidFill>
                    <a:srgbClr val="000000"/>
                  </a:solidFill>
                  <a:latin typeface="Trebuchet MS"/>
                  <a:ea typeface="SimSun"/>
                </a:rPr>
                <a:t>Recurrent inputs</a:t>
              </a:r>
              <a:endParaRPr b="0" lang="en-US" sz="1400" spc="-1" strike="noStrike">
                <a:solidFill>
                  <a:srgbClr val="000000"/>
                </a:solidFill>
                <a:latin typeface="Arial"/>
              </a:endParaRPr>
            </a:p>
          </p:txBody>
        </p:sp>
        <p:sp>
          <p:nvSpPr>
            <p:cNvPr id="1616" name="Oval 9"/>
            <p:cNvSpPr/>
            <p:nvPr/>
          </p:nvSpPr>
          <p:spPr>
            <a:xfrm>
              <a:off x="2616840" y="1766880"/>
              <a:ext cx="1766880" cy="1782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ea typeface="SimSun"/>
                </a:rPr>
                <a:t>Capacity</a:t>
              </a:r>
              <a:endParaRPr b="0" lang="en-US" sz="1800" spc="-1" strike="noStrike">
                <a:solidFill>
                  <a:srgbClr val="000000"/>
                </a:solidFill>
                <a:latin typeface="Arial"/>
              </a:endParaRPr>
            </a:p>
          </p:txBody>
        </p:sp>
        <p:sp>
          <p:nvSpPr>
            <p:cNvPr id="1617" name="Oval 10"/>
            <p:cNvSpPr/>
            <p:nvPr/>
          </p:nvSpPr>
          <p:spPr>
            <a:xfrm>
              <a:off x="4386600" y="1964520"/>
              <a:ext cx="132768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puts</a:t>
              </a:r>
              <a:endParaRPr b="0" lang="en-US" sz="1600" spc="-1" strike="noStrike">
                <a:solidFill>
                  <a:srgbClr val="000000"/>
                </a:solidFill>
                <a:latin typeface="Arial"/>
              </a:endParaRPr>
            </a:p>
          </p:txBody>
        </p:sp>
        <p:sp>
          <p:nvSpPr>
            <p:cNvPr id="1618" name="Oval 11"/>
            <p:cNvSpPr/>
            <p:nvPr/>
          </p:nvSpPr>
          <p:spPr>
            <a:xfrm>
              <a:off x="571464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SimSun"/>
                </a:rPr>
                <a:t>Outcomes</a:t>
              </a:r>
              <a:endParaRPr b="0" lang="en-US" sz="1600" spc="-1" strike="noStrike">
                <a:solidFill>
                  <a:srgbClr val="000000"/>
                </a:solidFill>
                <a:latin typeface="Arial"/>
              </a:endParaRPr>
            </a:p>
          </p:txBody>
        </p:sp>
        <p:sp>
          <p:nvSpPr>
            <p:cNvPr id="1619" name="Oval 12"/>
            <p:cNvSpPr/>
            <p:nvPr/>
          </p:nvSpPr>
          <p:spPr>
            <a:xfrm>
              <a:off x="7040160" y="1964520"/>
              <a:ext cx="1329120" cy="13852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ea typeface="SimSun"/>
                </a:rPr>
                <a:t>Wider</a:t>
              </a:r>
              <a:r>
                <a:rPr b="1" lang="da-DK" sz="1400" spc="-1" strike="noStrike">
                  <a:solidFill>
                    <a:srgbClr val="000000"/>
                  </a:solidFill>
                  <a:latin typeface="Trebuchet MS"/>
                  <a:ea typeface="SimSun"/>
                </a:rPr>
                <a:t> </a:t>
              </a:r>
              <a:r>
                <a:rPr b="1" lang="da-DK" sz="1600" spc="-1" strike="noStrike">
                  <a:solidFill>
                    <a:srgbClr val="000000"/>
                  </a:solidFill>
                  <a:latin typeface="Trebuchet MS"/>
                  <a:ea typeface="SimSun"/>
                </a:rPr>
                <a:t>impact</a:t>
              </a:r>
              <a:endParaRPr b="0" lang="en-US" sz="1600" spc="-1" strike="noStrike">
                <a:solidFill>
                  <a:srgbClr val="000000"/>
                </a:solidFill>
                <a:latin typeface="Arial"/>
              </a:endParaRPr>
            </a:p>
          </p:txBody>
        </p:sp>
        <p:sp>
          <p:nvSpPr>
            <p:cNvPr id="1620" name="Oval 13"/>
            <p:cNvSpPr/>
            <p:nvPr/>
          </p:nvSpPr>
          <p:spPr>
            <a:xfrm>
              <a:off x="1517760" y="2943360"/>
              <a:ext cx="883440" cy="792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SimSun"/>
                </a:rPr>
                <a:t>Internal resour-ces </a:t>
              </a:r>
              <a:endParaRPr b="0" lang="en-US" sz="1300" spc="-1" strike="noStrike">
                <a:solidFill>
                  <a:srgbClr val="000000"/>
                </a:solidFill>
                <a:latin typeface="Arial"/>
              </a:endParaRPr>
            </a:p>
          </p:txBody>
        </p:sp>
        <p:sp>
          <p:nvSpPr>
            <p:cNvPr id="1621" name="Line 14"/>
            <p:cNvSpPr/>
            <p:nvPr/>
          </p:nvSpPr>
          <p:spPr>
            <a:xfrm flipV="1">
              <a:off x="2321640" y="3747240"/>
              <a:ext cx="29736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2" name="Line 15"/>
            <p:cNvSpPr/>
            <p:nvPr/>
          </p:nvSpPr>
          <p:spPr>
            <a:xfrm flipV="1">
              <a:off x="3206880" y="2955960"/>
              <a:ext cx="29448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3" name="Line 16"/>
            <p:cNvSpPr/>
            <p:nvPr/>
          </p:nvSpPr>
          <p:spPr>
            <a:xfrm>
              <a:off x="2175120" y="3350880"/>
              <a:ext cx="442800" cy="1987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24" name="Line 17"/>
            <p:cNvSpPr/>
            <p:nvPr/>
          </p:nvSpPr>
          <p:spPr>
            <a:xfrm>
              <a:off x="2469960" y="2757240"/>
              <a:ext cx="44172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5" name="Line 18"/>
            <p:cNvSpPr/>
            <p:nvPr/>
          </p:nvSpPr>
          <p:spPr>
            <a:xfrm>
              <a:off x="6746040" y="2757240"/>
              <a:ext cx="44316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6" name="Line 19"/>
            <p:cNvSpPr/>
            <p:nvPr/>
          </p:nvSpPr>
          <p:spPr>
            <a:xfrm>
              <a:off x="541836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sp>
          <p:nvSpPr>
            <p:cNvPr id="1627" name="Line 20"/>
            <p:cNvSpPr/>
            <p:nvPr/>
          </p:nvSpPr>
          <p:spPr>
            <a:xfrm>
              <a:off x="4092840" y="2757240"/>
              <a:ext cx="442800" cy="1080"/>
            </a:xfrm>
            <a:prstGeom prst="line">
              <a:avLst/>
            </a:prstGeom>
            <a:ln w="82440">
              <a:solidFill>
                <a:srgbClr val="ff6600"/>
              </a:solidFill>
              <a:miter/>
              <a:tailEnd len="med" type="triangle" w="med"/>
            </a:ln>
          </p:spPr>
          <p:style>
            <a:lnRef idx="0"/>
            <a:fillRef idx="0"/>
            <a:effectRef idx="0"/>
            <a:fontRef idx="minor"/>
          </p:style>
          <p:txBody>
            <a:bodyPr lIns="0" rIns="0" tIns="-9720" bIns="-9720" anchor="t">
              <a:noAutofit/>
            </a:bodyPr>
            <a:p>
              <a:endParaRPr b="0" lang="en-US" sz="1800" spc="-1" strike="noStrike">
                <a:solidFill>
                  <a:srgbClr val="000000"/>
                </a:solidFill>
                <a:latin typeface="Arial"/>
              </a:endParaRPr>
            </a:p>
          </p:txBody>
        </p:sp>
      </p:grpSp>
      <p:grpSp>
        <p:nvGrpSpPr>
          <p:cNvPr id="1628" name="Group 4"/>
          <p:cNvGrpSpPr/>
          <p:nvPr/>
        </p:nvGrpSpPr>
        <p:grpSpPr>
          <a:xfrm>
            <a:off x="1201680" y="3863880"/>
            <a:ext cx="7385040" cy="3668760"/>
            <a:chOff x="1201680" y="3863880"/>
            <a:chExt cx="7385040" cy="3668760"/>
          </a:xfrm>
        </p:grpSpPr>
        <p:sp>
          <p:nvSpPr>
            <p:cNvPr id="1629" name="AutoShape 5"/>
            <p:cNvSpPr/>
            <p:nvPr/>
          </p:nvSpPr>
          <p:spPr>
            <a:xfrm>
              <a:off x="1201680" y="3863880"/>
              <a:ext cx="7385040" cy="366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6"/>
            <p:cNvSpPr/>
            <p:nvPr/>
          </p:nvSpPr>
          <p:spPr>
            <a:xfrm>
              <a:off x="4151880" y="5933880"/>
              <a:ext cx="872280" cy="7063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rebuchet MS"/>
                  <a:ea typeface="Times New Roman"/>
                </a:rPr>
                <a:t>TC support</a:t>
              </a:r>
              <a:r>
                <a:rPr b="1" lang="da-DK"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1" name="Oval 7"/>
            <p:cNvSpPr/>
            <p:nvPr/>
          </p:nvSpPr>
          <p:spPr>
            <a:xfrm>
              <a:off x="3865320" y="7038000"/>
              <a:ext cx="134280" cy="8784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f5494"/>
                  </a:solidFill>
                  <a:latin typeface="Trebuchet MS"/>
                  <a:ea typeface="Times New Roman"/>
                </a:rPr>
                <a:t>  </a:t>
              </a:r>
              <a:r>
                <a:rPr b="1" lang="en-GB" sz="1000" spc="-1" strike="noStrike">
                  <a:solidFill>
                    <a:srgbClr val="ff0000"/>
                  </a:solidFill>
                  <a:latin typeface="Trebuchet MS"/>
                  <a:ea typeface="Times New Roman"/>
                </a:rPr>
                <a:t> </a:t>
              </a:r>
              <a:endParaRPr b="0" lang="en-US" sz="1000" spc="-1" strike="noStrike">
                <a:solidFill>
                  <a:srgbClr val="000000"/>
                </a:solidFill>
                <a:latin typeface="Arial"/>
              </a:endParaRPr>
            </a:p>
          </p:txBody>
        </p:sp>
        <p:sp>
          <p:nvSpPr>
            <p:cNvPr id="1632" name="Oval 8"/>
            <p:cNvSpPr/>
            <p:nvPr/>
          </p:nvSpPr>
          <p:spPr>
            <a:xfrm>
              <a:off x="1326240" y="4921920"/>
              <a:ext cx="1596600" cy="14104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00000"/>
                </a:solidFill>
                <a:latin typeface="Arial"/>
              </a:endParaRPr>
            </a:p>
          </p:txBody>
        </p:sp>
        <p:sp>
          <p:nvSpPr>
            <p:cNvPr id="1633" name="Oval 9"/>
            <p:cNvSpPr/>
            <p:nvPr/>
          </p:nvSpPr>
          <p:spPr>
            <a:xfrm>
              <a:off x="2932920" y="4766040"/>
              <a:ext cx="1741320" cy="158868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00000"/>
                </a:solidFill>
                <a:latin typeface="Arial"/>
              </a:endParaRPr>
            </a:p>
          </p:txBody>
        </p:sp>
        <p:sp>
          <p:nvSpPr>
            <p:cNvPr id="1634" name="Oval 10"/>
            <p:cNvSpPr/>
            <p:nvPr/>
          </p:nvSpPr>
          <p:spPr>
            <a:xfrm>
              <a:off x="466524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00000"/>
                </a:solidFill>
                <a:latin typeface="Arial"/>
              </a:endParaRPr>
            </a:p>
          </p:txBody>
        </p:sp>
        <p:sp>
          <p:nvSpPr>
            <p:cNvPr id="1635" name="Oval 11"/>
            <p:cNvSpPr/>
            <p:nvPr/>
          </p:nvSpPr>
          <p:spPr>
            <a:xfrm>
              <a:off x="5971680" y="4921920"/>
              <a:ext cx="130752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00000"/>
                </a:solidFill>
                <a:latin typeface="Arial"/>
              </a:endParaRPr>
            </a:p>
          </p:txBody>
        </p:sp>
        <p:sp>
          <p:nvSpPr>
            <p:cNvPr id="1636" name="Oval 12"/>
            <p:cNvSpPr/>
            <p:nvPr/>
          </p:nvSpPr>
          <p:spPr>
            <a:xfrm>
              <a:off x="7278120" y="4921920"/>
              <a:ext cx="1308600" cy="123444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00000"/>
                </a:solidFill>
                <a:latin typeface="Arial"/>
              </a:endParaRPr>
            </a:p>
          </p:txBody>
        </p:sp>
        <p:sp>
          <p:nvSpPr>
            <p:cNvPr id="1637" name="Oval 13"/>
            <p:cNvSpPr/>
            <p:nvPr/>
          </p:nvSpPr>
          <p:spPr>
            <a:xfrm flipH="1">
              <a:off x="2709720" y="6259320"/>
              <a:ext cx="44640" cy="240480"/>
            </a:xfrm>
            <a:prstGeom prst="ellipse">
              <a:avLst/>
            </a:prstGeom>
            <a:noFill/>
            <a:ln w="0">
              <a:noFill/>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b6bcf"/>
                  </a:solidFill>
                  <a:latin typeface="Trebuchet MS"/>
                  <a:ea typeface="Times New Roman"/>
                </a:rPr>
                <a:t> </a:t>
              </a:r>
              <a:endParaRPr b="0" lang="en-US" sz="1300" spc="-1" strike="noStrike">
                <a:solidFill>
                  <a:srgbClr val="000000"/>
                </a:solidFill>
                <a:latin typeface="Arial"/>
              </a:endParaRPr>
            </a:p>
          </p:txBody>
        </p:sp>
        <p:sp>
          <p:nvSpPr>
            <p:cNvPr id="1638" name="Line 14"/>
            <p:cNvSpPr/>
            <p:nvPr/>
          </p:nvSpPr>
          <p:spPr>
            <a:xfrm flipV="1">
              <a:off x="4725000" y="5933520"/>
              <a:ext cx="290520" cy="17676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39" name="Line 15"/>
            <p:cNvSpPr/>
            <p:nvPr/>
          </p:nvSpPr>
          <p:spPr>
            <a:xfrm flipV="1">
              <a:off x="3503520" y="5803920"/>
              <a:ext cx="290160" cy="17604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0" name="Line 16"/>
            <p:cNvSpPr/>
            <p:nvPr/>
          </p:nvSpPr>
          <p:spPr>
            <a:xfrm>
              <a:off x="2487960" y="6157440"/>
              <a:ext cx="434880" cy="178200"/>
            </a:xfrm>
            <a:prstGeom prst="line">
              <a:avLst/>
            </a:prstGeom>
            <a:ln w="0">
              <a:noFill/>
            </a:ln>
          </p:spPr>
          <p:style>
            <a:lnRef idx="0"/>
            <a:fillRef idx="0"/>
            <a:effectRef idx="0"/>
            <a:fontRef idx="minor"/>
          </p:style>
          <p:txBody>
            <a:bodyPr lIns="0" rIns="0" tIns="10800" bIns="10800" anchor="t">
              <a:noAutofit/>
            </a:bodyPr>
            <a:p>
              <a:endParaRPr b="0" lang="en-US" sz="1800" spc="-1" strike="noStrike">
                <a:solidFill>
                  <a:srgbClr val="000000"/>
                </a:solidFill>
                <a:latin typeface="Arial"/>
              </a:endParaRPr>
            </a:p>
          </p:txBody>
        </p:sp>
        <p:sp>
          <p:nvSpPr>
            <p:cNvPr id="1641" name="Line 17"/>
            <p:cNvSpPr/>
            <p:nvPr/>
          </p:nvSpPr>
          <p:spPr>
            <a:xfrm>
              <a:off x="27781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2" name="Line 18"/>
            <p:cNvSpPr/>
            <p:nvPr/>
          </p:nvSpPr>
          <p:spPr>
            <a:xfrm>
              <a:off x="6987240" y="5628600"/>
              <a:ext cx="43596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3" name="Line 19"/>
            <p:cNvSpPr/>
            <p:nvPr/>
          </p:nvSpPr>
          <p:spPr>
            <a:xfrm>
              <a:off x="568116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sp>
          <p:nvSpPr>
            <p:cNvPr id="1644" name="Line 20"/>
            <p:cNvSpPr/>
            <p:nvPr/>
          </p:nvSpPr>
          <p:spPr>
            <a:xfrm>
              <a:off x="4374720" y="5628600"/>
              <a:ext cx="434880" cy="720"/>
            </a:xfrm>
            <a:prstGeom prst="line">
              <a:avLst/>
            </a:prstGeom>
            <a:ln w="82440">
              <a:solidFill>
                <a:srgbClr val="ff6600"/>
              </a:solidFill>
              <a:miter/>
              <a:tailEnd len="med" type="triangle" w="med"/>
            </a:ln>
          </p:spPr>
          <p:style>
            <a:lnRef idx="0"/>
            <a:fillRef idx="0"/>
            <a:effectRef idx="0"/>
            <a:fontRef idx="minor"/>
          </p:style>
          <p:txBody>
            <a:bodyPr lIns="0" rIns="0" tIns="-10080" bIns="-10080" anchor="t">
              <a:noAutofit/>
            </a:bodyPr>
            <a:p>
              <a:endParaRPr b="0" lang="en-US" sz="1800" spc="-1" strike="noStrike">
                <a:solidFill>
                  <a:srgbClr val="000000"/>
                </a:solidFill>
                <a:latin typeface="Arial"/>
              </a:endParaRPr>
            </a:p>
          </p:txBody>
        </p:sp>
      </p:grpSp>
      <p:sp>
        <p:nvSpPr>
          <p:cNvPr id="1645" name="TextBox 1"/>
          <p:cNvSpPr/>
          <p:nvPr/>
        </p:nvSpPr>
        <p:spPr>
          <a:xfrm>
            <a:off x="259560" y="2652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646" name="TextBox 42"/>
          <p:cNvSpPr/>
          <p:nvPr/>
        </p:nvSpPr>
        <p:spPr>
          <a:xfrm>
            <a:off x="259560" y="5425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0" y="1219320"/>
            <a:ext cx="8229600" cy="761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Balancing </a:t>
            </a:r>
            <a:r>
              <a:rPr b="1" i="1" lang="ja-JP" sz="2400" spc="-1" strike="noStrike">
                <a:solidFill>
                  <a:srgbClr val="0f5494"/>
                </a:solidFill>
                <a:latin typeface="Verdana"/>
              </a:rPr>
              <a:t>“</a:t>
            </a:r>
            <a:r>
              <a:rPr b="1" i="1" lang="en-GB" sz="2400" spc="-1" strike="noStrike">
                <a:solidFill>
                  <a:srgbClr val="0f5494"/>
                </a:solidFill>
                <a:latin typeface="Verdana"/>
              </a:rPr>
              <a:t>Doing</a:t>
            </a:r>
            <a:r>
              <a:rPr b="1" i="1" lang="ja-JP" sz="2400" spc="-1" strike="noStrike">
                <a:solidFill>
                  <a:srgbClr val="0f5494"/>
                </a:solidFill>
                <a:latin typeface="Verdana"/>
              </a:rPr>
              <a:t>”</a:t>
            </a:r>
            <a:r>
              <a:rPr b="1" i="1" lang="en-GB" sz="2400" spc="-1" strike="noStrike">
                <a:solidFill>
                  <a:srgbClr val="0f5494"/>
                </a:solidFill>
                <a:latin typeface="Verdana"/>
              </a:rPr>
              <a:t> and </a:t>
            </a:r>
            <a:r>
              <a:rPr b="1" i="1" lang="ja-JP" sz="2400" spc="-1" strike="noStrike">
                <a:solidFill>
                  <a:srgbClr val="0f5494"/>
                </a:solidFill>
                <a:latin typeface="Verdana"/>
              </a:rPr>
              <a:t>“</a:t>
            </a:r>
            <a:r>
              <a:rPr b="1" i="1" lang="en-GB" sz="2400" spc="-1" strike="noStrike">
                <a:solidFill>
                  <a:srgbClr val="0f5494"/>
                </a:solidFill>
                <a:latin typeface="Verdana"/>
              </a:rPr>
              <a:t>Facilitating</a:t>
            </a:r>
            <a:r>
              <a:rPr b="1" i="1" lang="ja-JP" sz="2400" spc="-1" strike="noStrike">
                <a:solidFill>
                  <a:srgbClr val="0f5494"/>
                </a:solidFill>
                <a:latin typeface="Verdana"/>
              </a:rPr>
              <a:t>”</a:t>
            </a:r>
            <a:endParaRPr b="1" lang="en-US" sz="2400" spc="-1" strike="noStrike">
              <a:solidFill>
                <a:srgbClr val="0f5494"/>
              </a:solidFill>
              <a:latin typeface="Verdana"/>
            </a:endParaRPr>
          </a:p>
        </p:txBody>
      </p:sp>
      <p:sp>
        <p:nvSpPr>
          <p:cNvPr id="1648" name="PlaceHolder 2"/>
          <p:cNvSpPr>
            <a:spLocks noGrp="1"/>
          </p:cNvSpPr>
          <p:nvPr>
            <p:ph/>
          </p:nvPr>
        </p:nvSpPr>
        <p:spPr>
          <a:xfrm>
            <a:off x="228600" y="1980720"/>
            <a:ext cx="868680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Combining service delivery and CD support may appear ideal ….. BUT</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	</a:t>
            </a:r>
            <a:r>
              <a:rPr b="0" i="1" lang="en-GB" sz="2000" spc="-1" strike="noStrike">
                <a:solidFill>
                  <a:srgbClr val="0f5494"/>
                </a:solidFill>
                <a:latin typeface="Verdana"/>
              </a:rPr>
              <a:t>The risk is that strong drivers (disbursement and visible short-term results which politicians on both sides) will overwhelm CD objectives unless there is a strong, articulated demand for it matching the demand for implementation. </a:t>
            </a:r>
            <a:endParaRPr b="0" i="1" lang="en-US" sz="2000" spc="-1" strike="noStrike">
              <a:solidFill>
                <a:srgbClr val="0f5494"/>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	</a:t>
            </a:r>
            <a:r>
              <a:rPr b="1" i="1" lang="en-GB" sz="2000" spc="-1" strike="noStrike">
                <a:solidFill>
                  <a:srgbClr val="0f5494"/>
                </a:solidFill>
                <a:latin typeface="Verdana"/>
              </a:rPr>
              <a:t>In situations where </a:t>
            </a:r>
            <a:r>
              <a:rPr b="1" i="1" lang="ja-JP" sz="2000" spc="-1" strike="noStrike">
                <a:solidFill>
                  <a:srgbClr val="0f5494"/>
                </a:solidFill>
                <a:latin typeface="Verdana"/>
              </a:rPr>
              <a:t>“</a:t>
            </a:r>
            <a:r>
              <a:rPr b="1" i="1" lang="en-GB" sz="2000" spc="-1" strike="noStrike">
                <a:solidFill>
                  <a:srgbClr val="0f5494"/>
                </a:solidFill>
                <a:latin typeface="Verdana"/>
              </a:rPr>
              <a:t>doing</a:t>
            </a:r>
            <a:r>
              <a:rPr b="1" i="1" lang="ja-JP" sz="2000" spc="-1" strike="noStrike">
                <a:solidFill>
                  <a:srgbClr val="0f5494"/>
                </a:solidFill>
                <a:latin typeface="Verdana"/>
              </a:rPr>
              <a:t>”</a:t>
            </a:r>
            <a:r>
              <a:rPr b="1" i="1" lang="en-GB" sz="2000" spc="-1" strike="noStrike">
                <a:solidFill>
                  <a:srgbClr val="0f5494"/>
                </a:solidFill>
                <a:latin typeface="Verdana"/>
              </a:rPr>
              <a:t> takes over, it may end up reducing existing capacity: </a:t>
            </a:r>
            <a:endParaRPr b="0" i="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e-motivating lower remunerated staff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dermining domestic systems and accountability</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oaching</a:t>
            </a:r>
            <a:endParaRPr b="1" lang="en-US" sz="2000" spc="-1" strike="noStrike">
              <a:solidFill>
                <a:srgbClr val="0f5494"/>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48">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48">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48">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8">
                                            <p:txEl>
                                              <p:pRg st="5" end="5"/>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8">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Text Box 2"/>
          <p:cNvSpPr/>
          <p:nvPr/>
        </p:nvSpPr>
        <p:spPr>
          <a:xfrm rot="16200000">
            <a:off x="-1495440" y="406620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ARTNER GROWTH</a:t>
            </a:r>
            <a:endParaRPr b="0" lang="en-US" sz="2000" spc="-1" strike="noStrike">
              <a:solidFill>
                <a:srgbClr val="000000"/>
              </a:solidFill>
              <a:latin typeface="Arial"/>
            </a:endParaRPr>
          </a:p>
        </p:txBody>
      </p:sp>
      <p:sp>
        <p:nvSpPr>
          <p:cNvPr id="1650" name="Text Box 3"/>
          <p:cNvSpPr/>
          <p:nvPr/>
        </p:nvSpPr>
        <p:spPr>
          <a:xfrm>
            <a:off x="2293920" y="6243480"/>
            <a:ext cx="493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ea typeface="ＭＳ Ｐゴシック"/>
              </a:rPr>
              <a:t>ATTENTION FOR PROGRAMME RESULTS</a:t>
            </a:r>
            <a:endParaRPr b="0" lang="en-US" sz="2000" spc="-1" strike="noStrike">
              <a:solidFill>
                <a:srgbClr val="000000"/>
              </a:solidFill>
              <a:latin typeface="Arial"/>
            </a:endParaRPr>
          </a:p>
        </p:txBody>
      </p:sp>
      <p:sp>
        <p:nvSpPr>
          <p:cNvPr id="1651" name="Line 4"/>
          <p:cNvSpPr/>
          <p:nvPr/>
        </p:nvSpPr>
        <p:spPr>
          <a:xfrm>
            <a:off x="1295280" y="2349360"/>
            <a:ext cx="0" cy="3816360"/>
          </a:xfrm>
          <a:prstGeom prst="line">
            <a:avLst/>
          </a:prstGeom>
          <a:ln w="76320">
            <a:solidFill>
              <a:srgbClr val="a6a6a6"/>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5"/>
          <p:cNvSpPr/>
          <p:nvPr/>
        </p:nvSpPr>
        <p:spPr>
          <a:xfrm>
            <a:off x="1279440" y="6165720"/>
            <a:ext cx="6934320" cy="0"/>
          </a:xfrm>
          <a:prstGeom prst="line">
            <a:avLst/>
          </a:prstGeom>
          <a:ln w="76320">
            <a:solidFill>
              <a:srgbClr val="a6a6a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Text Box 6"/>
          <p:cNvSpPr/>
          <p:nvPr/>
        </p:nvSpPr>
        <p:spPr>
          <a:xfrm>
            <a:off x="1905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unseler</a:t>
            </a:r>
            <a:endParaRPr b="0" lang="en-US" sz="2000" spc="-1" strike="noStrike">
              <a:solidFill>
                <a:srgbClr val="000000"/>
              </a:solidFill>
              <a:latin typeface="Arial"/>
            </a:endParaRPr>
          </a:p>
        </p:txBody>
      </p:sp>
      <p:sp>
        <p:nvSpPr>
          <p:cNvPr id="1654" name="Text Box 7"/>
          <p:cNvSpPr/>
          <p:nvPr/>
        </p:nvSpPr>
        <p:spPr>
          <a:xfrm>
            <a:off x="413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coach</a:t>
            </a:r>
            <a:endParaRPr b="0" lang="en-US" sz="2000" spc="-1" strike="noStrike">
              <a:solidFill>
                <a:srgbClr val="000000"/>
              </a:solidFill>
              <a:latin typeface="Arial"/>
            </a:endParaRPr>
          </a:p>
        </p:txBody>
      </p:sp>
      <p:sp>
        <p:nvSpPr>
          <p:cNvPr id="1655" name="Text Box 8"/>
          <p:cNvSpPr/>
          <p:nvPr/>
        </p:nvSpPr>
        <p:spPr>
          <a:xfrm>
            <a:off x="6477120" y="259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artner</a:t>
            </a:r>
            <a:endParaRPr b="0" lang="en-US" sz="2000" spc="-1" strike="noStrike">
              <a:solidFill>
                <a:srgbClr val="000000"/>
              </a:solidFill>
              <a:latin typeface="Arial"/>
            </a:endParaRPr>
          </a:p>
        </p:txBody>
      </p:sp>
      <p:sp>
        <p:nvSpPr>
          <p:cNvPr id="1656" name="Text Box 9"/>
          <p:cNvSpPr/>
          <p:nvPr/>
        </p:nvSpPr>
        <p:spPr>
          <a:xfrm>
            <a:off x="1752480" y="5313240"/>
            <a:ext cx="1959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philosopher</a:t>
            </a:r>
            <a:endParaRPr b="0" lang="en-US" sz="2000" spc="-1" strike="noStrike">
              <a:solidFill>
                <a:srgbClr val="000000"/>
              </a:solidFill>
              <a:latin typeface="Arial"/>
            </a:endParaRPr>
          </a:p>
        </p:txBody>
      </p:sp>
      <p:sp>
        <p:nvSpPr>
          <p:cNvPr id="1657" name="Text Box 10"/>
          <p:cNvSpPr/>
          <p:nvPr/>
        </p:nvSpPr>
        <p:spPr>
          <a:xfrm>
            <a:off x="198108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facilitator</a:t>
            </a:r>
            <a:endParaRPr b="0" lang="en-US" sz="2000" spc="-1" strike="noStrike">
              <a:solidFill>
                <a:srgbClr val="000000"/>
              </a:solidFill>
              <a:latin typeface="Arial"/>
            </a:endParaRPr>
          </a:p>
        </p:txBody>
      </p:sp>
      <p:sp>
        <p:nvSpPr>
          <p:cNvPr id="1658" name="Text Box 11"/>
          <p:cNvSpPr/>
          <p:nvPr/>
        </p:nvSpPr>
        <p:spPr>
          <a:xfrm>
            <a:off x="3851280" y="53132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chnical adviser</a:t>
            </a:r>
            <a:endParaRPr b="0" lang="en-US" sz="2000" spc="-1" strike="noStrike">
              <a:solidFill>
                <a:srgbClr val="000000"/>
              </a:solidFill>
              <a:latin typeface="Arial"/>
            </a:endParaRPr>
          </a:p>
        </p:txBody>
      </p:sp>
      <p:sp>
        <p:nvSpPr>
          <p:cNvPr id="1659" name="Text Box 12"/>
          <p:cNvSpPr/>
          <p:nvPr/>
        </p:nvSpPr>
        <p:spPr>
          <a:xfrm>
            <a:off x="4191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teacher</a:t>
            </a:r>
            <a:endParaRPr b="0" lang="en-US" sz="2000" spc="-1" strike="noStrike">
              <a:solidFill>
                <a:srgbClr val="000000"/>
              </a:solidFill>
              <a:latin typeface="Arial"/>
            </a:endParaRPr>
          </a:p>
        </p:txBody>
      </p:sp>
      <p:sp>
        <p:nvSpPr>
          <p:cNvPr id="1660" name="Text Box 13"/>
          <p:cNvSpPr/>
          <p:nvPr/>
        </p:nvSpPr>
        <p:spPr>
          <a:xfrm>
            <a:off x="6477120" y="40370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model</a:t>
            </a:r>
            <a:endParaRPr b="0" lang="en-US" sz="2000" spc="-1" strike="noStrike">
              <a:solidFill>
                <a:srgbClr val="000000"/>
              </a:solidFill>
              <a:latin typeface="Arial"/>
            </a:endParaRPr>
          </a:p>
        </p:txBody>
      </p:sp>
      <p:sp>
        <p:nvSpPr>
          <p:cNvPr id="1661" name="Text Box 14"/>
          <p:cNvSpPr/>
          <p:nvPr/>
        </p:nvSpPr>
        <p:spPr>
          <a:xfrm>
            <a:off x="6477120" y="5313240"/>
            <a:ext cx="1654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Arial"/>
              </a:rPr>
              <a:t>expert</a:t>
            </a:r>
            <a:endParaRPr b="0" lang="en-US" sz="2000" spc="-1" strike="noStrike">
              <a:solidFill>
                <a:srgbClr val="000000"/>
              </a:solidFill>
              <a:latin typeface="Arial"/>
            </a:endParaRPr>
          </a:p>
        </p:txBody>
      </p:sp>
      <p:sp>
        <p:nvSpPr>
          <p:cNvPr id="1662" name="Title 1"/>
          <p:cNvSpPr/>
          <p:nvPr/>
        </p:nvSpPr>
        <p:spPr>
          <a:xfrm>
            <a:off x="1814400" y="1484280"/>
            <a:ext cx="5781960" cy="936720"/>
          </a:xfrm>
          <a:prstGeom prst="rect">
            <a:avLst/>
          </a:prstGeom>
          <a:noFill/>
          <a:ln w="0">
            <a:noFill/>
          </a:ln>
        </p:spPr>
        <p:style>
          <a:lnRef idx="0"/>
          <a:fillRef idx="0"/>
          <a:effectRef idx="0"/>
          <a:fontRef idx="minor"/>
        </p:style>
        <p:txBody>
          <a:bodyPr lIns="90000" rIns="90000" tIns="46800" bIns="46800" anchor="t">
            <a:noAutofit/>
          </a:bodyPr>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gree on the TA’s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0" y="1142640"/>
            <a:ext cx="822960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Partner Management of TA</a:t>
            </a:r>
            <a:endParaRPr b="1" lang="en-US" sz="2400" spc="-1" strike="noStrike">
              <a:solidFill>
                <a:srgbClr val="0f5494"/>
              </a:solidFill>
              <a:latin typeface="Verdana"/>
            </a:endParaRPr>
          </a:p>
        </p:txBody>
      </p:sp>
      <p:sp>
        <p:nvSpPr>
          <p:cNvPr id="1664" name=""/>
          <p:cNvSpPr txBox="1"/>
          <p:nvPr/>
        </p:nvSpPr>
        <p:spPr>
          <a:xfrm>
            <a:off x="228240" y="2285640"/>
            <a:ext cx="8458200" cy="4267080"/>
          </a:xfrm>
          <a:prstGeom prst="rect">
            <a:avLst/>
          </a:prstGeom>
          <a:noFill/>
          <a:ln w="0">
            <a:noFill/>
          </a:ln>
        </p:spPr>
        <p:txBody>
          <a:bodyPr anchor="t">
            <a:normAutofit/>
          </a:bodyPr>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ORs developed with and approved by the partner agenc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ctive partner role in recruitment/procurement process even if not contracting: prepare thoroughly</a:t>
            </a:r>
            <a:endParaRPr b="1" lang="en-US" sz="2400" spc="-1" strike="noStrike">
              <a:solidFill>
                <a:srgbClr val="0f5494"/>
              </a:solidFill>
              <a:latin typeface="Verdana"/>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artner agency lead responsibility for / active engagement in supervision (giving instructions) and reporting</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4">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xEl>
                                              <p:pRg st="3" end="3"/>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360" y="1066680"/>
            <a:ext cx="404964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Balance the three-way relationship</a:t>
            </a:r>
            <a:endParaRPr b="1" lang="en-US" sz="2400" spc="-1" strike="noStrike">
              <a:solidFill>
                <a:srgbClr val="0f5494"/>
              </a:solidFill>
              <a:latin typeface="Verdana"/>
            </a:endParaRPr>
          </a:p>
        </p:txBody>
      </p:sp>
      <p:cxnSp>
        <p:nvCxnSpPr>
          <p:cNvPr id="1666" name="Straight Arrow Connector 4"/>
          <p:cNvCxnSpPr/>
          <p:nvPr/>
        </p:nvCxnSpPr>
        <p:spPr>
          <a:xfrm>
            <a:off x="4952880" y="4572000"/>
            <a:ext cx="915120" cy="915120"/>
          </a:xfrm>
          <a:prstGeom prst="straightConnector1">
            <a:avLst/>
          </a:prstGeom>
          <a:ln w="0">
            <a:noFill/>
          </a:ln>
        </p:spPr>
      </p:cxnSp>
      <p:sp>
        <p:nvSpPr>
          <p:cNvPr id="1667" name="Straight Connector 5"/>
          <p:cNvSpPr/>
          <p:nvPr/>
        </p:nvSpPr>
        <p:spPr>
          <a:xfrm>
            <a:off x="6058080" y="396540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8" name="Straight Arrow Connector 7"/>
          <p:cNvCxnSpPr/>
          <p:nvPr/>
        </p:nvCxnSpPr>
        <p:spPr>
          <a:xfrm flipV="1">
            <a:off x="6094800" y="3962160"/>
            <a:ext cx="2520" cy="2160"/>
          </a:xfrm>
          <a:prstGeom prst="straightConnector1">
            <a:avLst/>
          </a:prstGeom>
          <a:ln w="0">
            <a:noFill/>
          </a:ln>
        </p:spPr>
      </p:cxnSp>
      <p:sp>
        <p:nvSpPr>
          <p:cNvPr id="1669" name="Explosion 2 9"/>
          <p:cNvSpPr/>
          <p:nvPr/>
        </p:nvSpPr>
        <p:spPr>
          <a:xfrm>
            <a:off x="6835680" y="3906720"/>
            <a:ext cx="822600" cy="822600"/>
          </a:xfrm>
          <a:prstGeom prst="irregularSeal2">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Explosion 1 11"/>
          <p:cNvSpPr/>
          <p:nvPr/>
        </p:nvSpPr>
        <p:spPr>
          <a:xfrm>
            <a:off x="6516720" y="2949480"/>
            <a:ext cx="824040" cy="824040"/>
          </a:xfrm>
          <a:prstGeom prst="irregularSeal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Direct Access Storage 12"/>
          <p:cNvSpPr/>
          <p:nvPr/>
        </p:nvSpPr>
        <p:spPr>
          <a:xfrm>
            <a:off x="5845320" y="4125960"/>
            <a:ext cx="822240" cy="824040"/>
          </a:xfrm>
          <a:prstGeom prst="flowChartMagneticDrum">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Explosion 1 14"/>
          <p:cNvSpPr/>
          <p:nvPr/>
        </p:nvSpPr>
        <p:spPr>
          <a:xfrm>
            <a:off x="5415120" y="3416400"/>
            <a:ext cx="3379680" cy="3309840"/>
          </a:xfrm>
          <a:prstGeom prst="irregularSeal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ma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di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cilit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oller? Spy?</a:t>
            </a:r>
            <a:endParaRPr b="0" lang="en-US" sz="1600" spc="-1" strike="noStrike">
              <a:solidFill>
                <a:srgbClr val="000000"/>
              </a:solidFill>
              <a:latin typeface="Arial"/>
            </a:endParaRPr>
          </a:p>
        </p:txBody>
      </p:sp>
      <p:sp>
        <p:nvSpPr>
          <p:cNvPr id="1673" name="Rectangle 15"/>
          <p:cNvSpPr/>
          <p:nvPr/>
        </p:nvSpPr>
        <p:spPr>
          <a:xfrm>
            <a:off x="4611600" y="3976560"/>
            <a:ext cx="824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18"/>
          <p:cNvSpPr/>
          <p:nvPr/>
        </p:nvSpPr>
        <p:spPr>
          <a:xfrm>
            <a:off x="4724280" y="4184640"/>
            <a:ext cx="822600" cy="822240"/>
          </a:xfrm>
          <a:prstGeom prst="rect">
            <a:avLst/>
          </a:prstGeom>
          <a:solidFill>
            <a:srgbClr val="ff6600">
              <a:alpha val="42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a:t>
            </a:r>
            <a:endParaRPr b="0" lang="en-US" sz="2400" spc="-1" strike="noStrike">
              <a:solidFill>
                <a:srgbClr val="000000"/>
              </a:solidFill>
              <a:latin typeface="Arial"/>
            </a:endParaRPr>
          </a:p>
        </p:txBody>
      </p:sp>
      <p:sp>
        <p:nvSpPr>
          <p:cNvPr id="1675" name="Rectangle 22"/>
          <p:cNvSpPr/>
          <p:nvPr/>
        </p:nvSpPr>
        <p:spPr>
          <a:xfrm>
            <a:off x="609480" y="4191120"/>
            <a:ext cx="1665360" cy="822240"/>
          </a:xfrm>
          <a:prstGeom prst="rect">
            <a:avLst/>
          </a:prstGeom>
          <a:solidFill>
            <a:srgbClr val="ff6600">
              <a:alpha val="5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or</a:t>
            </a:r>
            <a:endParaRPr b="0" lang="en-US" sz="2400" spc="-1" strike="noStrike">
              <a:solidFill>
                <a:srgbClr val="000000"/>
              </a:solidFill>
              <a:latin typeface="Arial"/>
            </a:endParaRPr>
          </a:p>
        </p:txBody>
      </p:sp>
      <p:sp>
        <p:nvSpPr>
          <p:cNvPr id="1676" name="Oval 23"/>
          <p:cNvSpPr/>
          <p:nvPr/>
        </p:nvSpPr>
        <p:spPr>
          <a:xfrm>
            <a:off x="4530600" y="1212840"/>
            <a:ext cx="2384640" cy="1905120"/>
          </a:xfrm>
          <a:prstGeom prst="ellipse">
            <a:avLst/>
          </a:prstGeom>
          <a:solidFill>
            <a:srgbClr val="008000">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ustom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ciar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tn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kehold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r?</a:t>
            </a:r>
            <a:endParaRPr b="0" lang="en-US" sz="1600" spc="-1" strike="noStrike">
              <a:solidFill>
                <a:srgbClr val="000000"/>
              </a:solidFill>
              <a:latin typeface="Arial"/>
            </a:endParaRPr>
          </a:p>
        </p:txBody>
      </p:sp>
      <p:sp>
        <p:nvSpPr>
          <p:cNvPr id="1677" name="Rectangle 24"/>
          <p:cNvSpPr/>
          <p:nvPr/>
        </p:nvSpPr>
        <p:spPr>
          <a:xfrm>
            <a:off x="2895480" y="1941480"/>
            <a:ext cx="2057400" cy="822240"/>
          </a:xfrm>
          <a:prstGeom prst="rect">
            <a:avLst/>
          </a:prstGeom>
          <a:solidFill>
            <a:srgbClr val="ff6600">
              <a:alpha val="33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Organisations</a:t>
            </a:r>
            <a:endParaRPr b="0" lang="en-US" sz="2000" spc="-1" strike="noStrike">
              <a:solidFill>
                <a:srgbClr val="000000"/>
              </a:solidFill>
              <a:latin typeface="Arial"/>
            </a:endParaRPr>
          </a:p>
        </p:txBody>
      </p:sp>
      <p:sp>
        <p:nvSpPr>
          <p:cNvPr id="1678" name="Straight Connector 25"/>
          <p:cNvSpPr/>
          <p:nvPr/>
        </p:nvSpPr>
        <p:spPr>
          <a:xfrm>
            <a:off x="4543560" y="2871720"/>
            <a:ext cx="981000" cy="1241640"/>
          </a:xfrm>
          <a:prstGeom prst="line">
            <a:avLst/>
          </a:prstGeom>
          <a:ln cap="rnd" w="76320">
            <a:solidFill>
              <a:srgbClr val="bfbfb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Straight Connector 29"/>
          <p:cNvSpPr/>
          <p:nvPr/>
        </p:nvSpPr>
        <p:spPr>
          <a:xfrm>
            <a:off x="3454560" y="3808440"/>
            <a:ext cx="822240" cy="824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0" name="Straight Arrow Connector 31"/>
          <p:cNvCxnSpPr/>
          <p:nvPr/>
        </p:nvCxnSpPr>
        <p:spPr>
          <a:xfrm>
            <a:off x="2514240" y="4746600"/>
            <a:ext cx="1981800" cy="2160"/>
          </a:xfrm>
          <a:prstGeom prst="straightConnector1">
            <a:avLst/>
          </a:prstGeom>
          <a:ln cap="rnd" w="76320">
            <a:solidFill>
              <a:srgbClr val="bfbfbf"/>
            </a:solidFill>
            <a:miter/>
            <a:headEnd len="med" type="arrow" w="med"/>
            <a:tailEnd len="med" type="arrow" w="med"/>
          </a:ln>
        </p:spPr>
      </p:cxnSp>
      <p:sp>
        <p:nvSpPr>
          <p:cNvPr id="1681" name="Straight Connector 36"/>
          <p:cNvSpPr/>
          <p:nvPr/>
        </p:nvSpPr>
        <p:spPr>
          <a:xfrm>
            <a:off x="2371680" y="3117960"/>
            <a:ext cx="822240" cy="822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2" name="Straight Arrow Connector 38"/>
          <p:cNvCxnSpPr/>
          <p:nvPr/>
        </p:nvCxnSpPr>
        <p:spPr>
          <a:xfrm flipV="1">
            <a:off x="1442880" y="2617560"/>
            <a:ext cx="1254960" cy="1289520"/>
          </a:xfrm>
          <a:prstGeom prst="straightConnector1">
            <a:avLst/>
          </a:prstGeom>
          <a:ln cap="rnd" w="76320">
            <a:solidFill>
              <a:srgbClr val="bfbfbf"/>
            </a:solidFill>
            <a:miter/>
            <a:headEnd len="med" type="arrow" w="med"/>
            <a:tailEnd len="med" type="arrow" w="med"/>
          </a:ln>
        </p:spPr>
      </p:cxnSp>
      <p:sp>
        <p:nvSpPr>
          <p:cNvPr id="1683" name="Parallelogram 1"/>
          <p:cNvSpPr/>
          <p:nvPr/>
        </p:nvSpPr>
        <p:spPr>
          <a:xfrm>
            <a:off x="469800" y="5059440"/>
            <a:ext cx="2352600" cy="1338120"/>
          </a:xfrm>
          <a:prstGeom prst="parallelogram">
            <a:avLst>
              <a:gd name="adj" fmla="val 25005"/>
            </a:avLst>
          </a:prstGeom>
          <a:solidFill>
            <a:srgbClr val="d1d1f0"/>
          </a:solidFill>
          <a:ln w="0">
            <a:noFill/>
          </a:ln>
        </p:spPr>
        <p:style>
          <a:lnRef idx="0"/>
          <a:fillRef idx="0"/>
          <a:effectRef idx="0"/>
          <a:fontRef idx="minor"/>
        </p:style>
        <p:txBody>
          <a:bodyPr lIns="90000" rIns="90000" tIns="46800" bIns="46800" anchor="ctr">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Employ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Stakehold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Custom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Partner?</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Benefactor</a:t>
            </a:r>
            <a:r>
              <a:rPr b="0" lang="en-US" sz="1600" spc="-1" strike="noStrike">
                <a:solidFill>
                  <a:srgbClr val="0f5494"/>
                </a:solidFill>
                <a:latin typeface="Verdana"/>
                <a:ea typeface="ＭＳ Ｐゴシック"/>
              </a:rPr>
              <a:t>?</a:t>
            </a:r>
            <a:endParaRPr b="0" lang="en-US" sz="1600" spc="-1" strike="noStrike">
              <a:solidFill>
                <a:srgbClr val="000000"/>
              </a:solidFill>
              <a:latin typeface="Arial"/>
            </a:endParaRPr>
          </a:p>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84" name="Straight Arrow Connector 3"/>
          <p:cNvCxnSpPr/>
          <p:nvPr/>
        </p:nvCxnSpPr>
        <p:spPr>
          <a:xfrm>
            <a:off x="2697120" y="3416400"/>
            <a:ext cx="915120" cy="915120"/>
          </a:xfrm>
          <a:prstGeom prst="straightConnector1">
            <a:avLst/>
          </a:prstGeom>
          <a:ln w="0">
            <a:noFill/>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f5494"/>
                </a:solidFill>
                <a:latin typeface="Verdana"/>
              </a:rPr>
              <a:t>This Module</a:t>
            </a:r>
            <a:endParaRPr b="1" lang="en-US" sz="3000" spc="-1" strike="noStrike">
              <a:solidFill>
                <a:srgbClr val="0f5494"/>
              </a:solidFill>
              <a:latin typeface="Verdana"/>
            </a:endParaRPr>
          </a:p>
        </p:txBody>
      </p:sp>
      <p:sp>
        <p:nvSpPr>
          <p:cNvPr id="1594" name=""/>
          <p:cNvSpPr txBox="1"/>
          <p:nvPr/>
        </p:nvSpPr>
        <p:spPr>
          <a:xfrm>
            <a:off x="457200" y="2491920"/>
            <a:ext cx="8229600" cy="3529080"/>
          </a:xfrm>
          <a:prstGeom prst="rect">
            <a:avLst/>
          </a:prstGeom>
          <a:noFill/>
          <a:ln w="0">
            <a:noFill/>
          </a:ln>
        </p:spPr>
        <p:txBody>
          <a:bodyPr anchor="t">
            <a:normAutofit/>
          </a:bodyPr>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Explains why the design of programme implementation arrangements is important for capacity development</a:t>
            </a: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vides an overview of key considerations for designing effective implementation arrangements</a:t>
            </a: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5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f5494"/>
                </a:solidFill>
                <a:latin typeface="Verdana"/>
              </a:rPr>
              <a:t>CD Quality grid requirements: </a:t>
            </a:r>
            <a:br>
              <a:rPr sz="2700"/>
            </a:br>
            <a:r>
              <a:rPr b="1" lang="en-GB" sz="2700" spc="-1" strike="noStrike">
                <a:solidFill>
                  <a:srgbClr val="0f5494"/>
                </a:solidFill>
                <a:latin typeface="Verdana"/>
              </a:rPr>
              <a:t>5. Appropriate PIA</a:t>
            </a:r>
            <a:endParaRPr b="1" lang="en-US" sz="2700" spc="-1" strike="noStrike">
              <a:solidFill>
                <a:srgbClr val="0f5494"/>
              </a:solidFill>
              <a:latin typeface="Verdana"/>
            </a:endParaRPr>
          </a:p>
        </p:txBody>
      </p:sp>
      <p:sp>
        <p:nvSpPr>
          <p:cNvPr id="1596" name=""/>
          <p:cNvSpPr txBox="1"/>
          <p:nvPr/>
        </p:nvSpPr>
        <p:spPr>
          <a:xfrm>
            <a:off x="324000" y="2420640"/>
            <a:ext cx="8557920" cy="3887640"/>
          </a:xfrm>
          <a:prstGeom prst="rect">
            <a:avLst/>
          </a:prstGeom>
          <a:solidFill>
            <a:srgbClr val="9ed3d7"/>
          </a:solid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1</a:t>
            </a:r>
            <a:r>
              <a:rPr b="0" lang="en-US" sz="2000" spc="-1" strike="noStrike">
                <a:solidFill>
                  <a:srgbClr val="0f5494"/>
                </a:solidFill>
                <a:latin typeface="Verdana"/>
              </a:rPr>
              <a:t> Briefly describe the Project Implementation Arrangement. Will </a:t>
            </a:r>
            <a:r>
              <a:rPr b="0" lang="en-US" sz="2000" spc="-1" strike="noStrike">
                <a:solidFill>
                  <a:srgbClr val="ff0000"/>
                </a:solidFill>
                <a:latin typeface="Verdana"/>
              </a:rPr>
              <a:t>country partners lead and manage </a:t>
            </a:r>
            <a:r>
              <a:rPr b="0" lang="en-US" sz="2000" spc="-1" strike="noStrike">
                <a:solidFill>
                  <a:srgbClr val="0f5494"/>
                </a:solidFill>
                <a:latin typeface="Verdana"/>
              </a:rPr>
              <a:t>the programme? Is primary accountability of the programme appointed to domestic stakeholder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5.2 </a:t>
            </a:r>
            <a:r>
              <a:rPr b="0" lang="en-US" sz="2000" spc="-1" strike="noStrike">
                <a:solidFill>
                  <a:srgbClr val="0f5494"/>
                </a:solidFill>
                <a:latin typeface="Verdana"/>
              </a:rPr>
              <a:t>Will </a:t>
            </a:r>
            <a:r>
              <a:rPr b="0" lang="en-US" sz="2000" spc="-1" strike="noStrike">
                <a:solidFill>
                  <a:srgbClr val="ff0000"/>
                </a:solidFill>
                <a:latin typeface="Verdana"/>
              </a:rPr>
              <a:t>civil servants working in the programme </a:t>
            </a:r>
            <a:r>
              <a:rPr b="0" lang="en-US" sz="2000" spc="-1" strike="noStrike">
                <a:solidFill>
                  <a:srgbClr val="0f5494"/>
                </a:solidFill>
                <a:latin typeface="Verdana"/>
              </a:rPr>
              <a:t>receive topping-up (salary supplements, special allowances etc.) funded by the EU? Are they linked to clear performance targets? If these incentives are not following government regulations, which steps will be taken to align them, diminish any negative distortion and/or abandon the use of donor-funded topping-up?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t>
            </a:r>
            <a:r>
              <a:rPr b="1" lang="en-GB" sz="3000" spc="-1" strike="noStrike">
                <a:solidFill>
                  <a:srgbClr val="0f5494"/>
                </a:solidFill>
                <a:latin typeface="Verdana"/>
              </a:rPr>
              <a:t> </a:t>
            </a:r>
            <a:r>
              <a:rPr b="1" lang="en-GB" sz="3000" spc="-1" strike="noStrike">
                <a:solidFill>
                  <a:srgbClr val="0f5494"/>
                </a:solidFill>
                <a:latin typeface="Verdana"/>
              </a:rPr>
              <a:t>continued</a:t>
            </a:r>
            <a:endParaRPr b="1" lang="en-US" sz="3000" spc="-1" strike="noStrike">
              <a:solidFill>
                <a:srgbClr val="0f5494"/>
              </a:solidFill>
              <a:latin typeface="Verdana"/>
            </a:endParaRPr>
          </a:p>
        </p:txBody>
      </p:sp>
      <p:sp>
        <p:nvSpPr>
          <p:cNvPr id="1598" name=""/>
          <p:cNvSpPr txBox="1"/>
          <p:nvPr/>
        </p:nvSpPr>
        <p:spPr>
          <a:xfrm>
            <a:off x="457200" y="2491920"/>
            <a:ext cx="8229600" cy="3529080"/>
          </a:xfrm>
          <a:prstGeom prst="rect">
            <a:avLst/>
          </a:prstGeom>
          <a:solidFill>
            <a:srgbClr val="9ed3d7"/>
          </a:solid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3</a:t>
            </a:r>
            <a:r>
              <a:rPr b="0" lang="en-US" sz="2400" spc="-1" strike="noStrike">
                <a:solidFill>
                  <a:srgbClr val="0f5494"/>
                </a:solidFill>
                <a:latin typeface="Verdana"/>
              </a:rPr>
              <a:t>. Given the nature of the programme and of the expected results, explain its level of </a:t>
            </a:r>
            <a:r>
              <a:rPr b="0" lang="en-US" sz="2400" spc="-1" strike="noStrike">
                <a:solidFill>
                  <a:srgbClr val="ff0000"/>
                </a:solidFill>
                <a:latin typeface="Verdana"/>
              </a:rPr>
              <a:t>integration in the broader structure </a:t>
            </a:r>
            <a:r>
              <a:rPr b="0" lang="en-US" sz="2400" spc="-1" strike="noStrike">
                <a:solidFill>
                  <a:srgbClr val="0f5494"/>
                </a:solidFill>
                <a:latin typeface="Verdana"/>
              </a:rPr>
              <a:t>or its level of autonomy</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5.4</a:t>
            </a:r>
            <a:r>
              <a:rPr b="0" lang="en-US" sz="2400" spc="-1" strike="noStrike">
                <a:solidFill>
                  <a:srgbClr val="0f5494"/>
                </a:solidFill>
                <a:latin typeface="Verdana"/>
              </a:rPr>
              <a:t> Are the EU’s and/or other donors’ role in the governance of the programme limited to </a:t>
            </a:r>
            <a:r>
              <a:rPr b="0" lang="en-US" sz="2400" spc="-1" strike="noStrike">
                <a:solidFill>
                  <a:srgbClr val="ff0000"/>
                </a:solidFill>
                <a:latin typeface="Verdana"/>
              </a:rPr>
              <a:t>oversight functions</a:t>
            </a:r>
            <a:r>
              <a:rPr b="0" lang="en-US" sz="2400" spc="-1" strike="noStrike">
                <a:solidFill>
                  <a:srgbClr val="0f5494"/>
                </a:solidFill>
                <a:latin typeface="Verdana"/>
              </a:rPr>
              <a: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468360" y="981000"/>
            <a:ext cx="7786800" cy="1008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Orientation</a:t>
            </a:r>
            <a:endParaRPr b="1" lang="en-US" sz="3000" spc="-1" strike="noStrike">
              <a:solidFill>
                <a:srgbClr val="0f5494"/>
              </a:solidFill>
              <a:latin typeface="Verdana"/>
            </a:endParaRPr>
          </a:p>
        </p:txBody>
      </p:sp>
      <p:sp>
        <p:nvSpPr>
          <p:cNvPr id="1600" name="PlaceHolder 2"/>
          <p:cNvSpPr>
            <a:spLocks noGrp="1"/>
          </p:cNvSpPr>
          <p:nvPr>
            <p:ph/>
          </p:nvPr>
        </p:nvSpPr>
        <p:spPr>
          <a:xfrm>
            <a:off x="324000" y="1844280"/>
            <a:ext cx="8291520" cy="4032360"/>
          </a:xfrm>
          <a:prstGeom prst="rect">
            <a:avLst/>
          </a:prstGeom>
          <a:noFill/>
          <a:ln w="0">
            <a:noFill/>
          </a:ln>
        </p:spPr>
        <p:txBody>
          <a:bodyPr anchor="t">
            <a:normAutofit fontScale="94000"/>
          </a:bodyPr>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Avoid </a:t>
            </a:r>
            <a:r>
              <a:rPr b="0" i="1" lang="fr-BE" sz="2000" spc="-1" strike="noStrike">
                <a:solidFill>
                  <a:srgbClr val="ff0000"/>
                </a:solidFill>
                <a:latin typeface="Verdana"/>
              </a:rPr>
              <a:t>Parallel Project Implementation Units</a:t>
            </a:r>
            <a:r>
              <a:rPr b="0" i="1" lang="fr-BE" sz="2000" spc="-1" strike="noStrike">
                <a:solidFill>
                  <a:srgbClr val="0f5494"/>
                </a:solidFill>
                <a:latin typeface="Verdana"/>
              </a:rPr>
              <a:t>, unless perfectly justified, and desired by 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Primary accountability is to </a:t>
            </a:r>
            <a:r>
              <a:rPr b="0" i="1" lang="en-GB" sz="2000" spc="-1" strike="noStrike">
                <a:solidFill>
                  <a:srgbClr val="ff0000"/>
                </a:solidFill>
                <a:latin typeface="Verdana"/>
              </a:rPr>
              <a:t>domestic stakeholders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How well is the support integrated into the country </a:t>
            </a:r>
            <a:r>
              <a:rPr b="0" i="1" lang="en-GB" sz="2000" spc="-1" strike="noStrike">
                <a:solidFill>
                  <a:srgbClr val="ff0000"/>
                </a:solidFill>
                <a:latin typeface="Verdana"/>
              </a:rPr>
              <a:t>institutional set-up </a:t>
            </a:r>
            <a:r>
              <a:rPr b="0" i="1" lang="en-GB" sz="2000" spc="-1" strike="noStrike">
                <a:solidFill>
                  <a:srgbClr val="0f5494"/>
                </a:solidFill>
                <a:latin typeface="Verdana"/>
              </a:rPr>
              <a:t>?</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f5494"/>
                </a:solidFill>
                <a:latin typeface="Verdana"/>
              </a:rPr>
              <a:t>Can the implementation mechanisms be </a:t>
            </a:r>
            <a:r>
              <a:rPr b="0" i="1" lang="fr-BE" sz="2000" spc="-1" strike="noStrike">
                <a:solidFill>
                  <a:srgbClr val="ff0000"/>
                </a:solidFill>
                <a:latin typeface="Verdana"/>
              </a:rPr>
              <a:t>closer to country systems</a:t>
            </a:r>
            <a:r>
              <a:rPr b="0" i="1" lang="fr-BE" sz="2000" spc="-1" strike="noStrike">
                <a:solidFill>
                  <a:srgbClr val="0f5494"/>
                </a:solidFill>
                <a:latin typeface="Verdana"/>
              </a:rPr>
              <a:t> ? Procurement, accountability mechanisms (Budget, Parliament, Court of Auditors)</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Issue of salary </a:t>
            </a:r>
            <a:r>
              <a:rPr b="0" i="1" lang="en-GB" sz="2000" spc="-1" strike="noStrike">
                <a:solidFill>
                  <a:srgbClr val="ff0000"/>
                </a:solidFill>
                <a:latin typeface="Verdana"/>
              </a:rPr>
              <a:t>top-ups </a:t>
            </a:r>
            <a:r>
              <a:rPr b="0" i="1" lang="en-GB" sz="2000" spc="-1" strike="noStrike">
                <a:solidFill>
                  <a:srgbClr val="0f5494"/>
                </a:solidFill>
                <a:latin typeface="Verdana"/>
              </a:rPr>
              <a:t>and related incentives has been addressed</a:t>
            </a:r>
            <a:r>
              <a:rPr b="0" i="1" lang="en-GB" sz="2000" spc="-1" strike="noStrike">
                <a:solidFill>
                  <a:srgbClr val="0f5494"/>
                </a:solidFill>
                <a:latin typeface="Verdana"/>
              </a:rPr>
              <a:t>	</a:t>
            </a:r>
            <a:r>
              <a:rPr b="0" i="1" lang="en-GB" sz="2000" spc="-1" strike="noStrike">
                <a:solidFill>
                  <a:srgbClr val="0f5494"/>
                </a:solidFill>
                <a:latin typeface="Verdana"/>
              </a:rPr>
              <a:t>	</a:t>
            </a:r>
            <a:r>
              <a:rPr b="0" i="1" lang="en-GB" sz="2000" spc="-1" strike="noStrike">
                <a:solidFill>
                  <a:srgbClr val="0f5494"/>
                </a:solidFill>
                <a:latin typeface="Verdana"/>
              </a:rPr>
              <a:t>	</a:t>
            </a:r>
            <a:endParaRPr b="0" i="1" lang="en-US" sz="2000" spc="-1" strike="noStrike">
              <a:solidFill>
                <a:srgbClr val="0f5494"/>
              </a:solidFill>
              <a:latin typeface="Verdana"/>
            </a:endParaRPr>
          </a:p>
          <a:p>
            <a:pPr marL="322200" indent="-322200">
              <a:spcBef>
                <a:spcPts val="1199"/>
              </a:spcBef>
              <a:spcAft>
                <a:spcPts val="601"/>
              </a:spcAft>
              <a:buClr>
                <a:srgbClr val="7f7f7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U/donor role is limited to </a:t>
            </a:r>
            <a:r>
              <a:rPr b="0" i="1" lang="en-GB" sz="2000" spc="-1" strike="noStrike">
                <a:solidFill>
                  <a:srgbClr val="ff0000"/>
                </a:solidFill>
                <a:latin typeface="Verdana"/>
              </a:rPr>
              <a:t>oversight</a:t>
            </a:r>
            <a:r>
              <a:rPr b="0" i="1" lang="en-GB" sz="2000" spc="-1" strike="noStrike">
                <a:solidFill>
                  <a:srgbClr val="0f5494"/>
                </a:solidFill>
                <a:latin typeface="Verdana"/>
              </a:rPr>
              <a:t> </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394920" y="1283760"/>
            <a:ext cx="7777080" cy="4892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rPr>
              <a:t>Importance of proper arrangements</a:t>
            </a:r>
            <a:endParaRPr b="1" lang="en-US" sz="3200" spc="-1" strike="noStrike">
              <a:solidFill>
                <a:srgbClr val="0f5494"/>
              </a:solidFill>
              <a:latin typeface="Verdana"/>
            </a:endParaRPr>
          </a:p>
        </p:txBody>
      </p:sp>
      <p:sp>
        <p:nvSpPr>
          <p:cNvPr id="1602" name=""/>
          <p:cNvSpPr txBox="1"/>
          <p:nvPr/>
        </p:nvSpPr>
        <p:spPr>
          <a:xfrm>
            <a:off x="457200" y="2068560"/>
            <a:ext cx="8229600" cy="4192560"/>
          </a:xfrm>
          <a:prstGeom prst="rect">
            <a:avLst/>
          </a:prstGeom>
          <a:noFill/>
          <a:ln w="0">
            <a:noFill/>
          </a:ln>
        </p:spPr>
        <p:txBody>
          <a:bodyPr anchor="t">
            <a:normAutofit fontScale="93000"/>
          </a:bodyPr>
          <a:p>
            <a:pPr lvl="1" marL="690840" indent="-265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orly designed arrangements can undermine the integrity of a CD intervention</a:t>
            </a:r>
            <a:endParaRPr b="1" lang="en-US" sz="2000" spc="-1" strike="noStrike">
              <a:solidFill>
                <a:srgbClr val="0f5494"/>
              </a:solidFill>
              <a:latin typeface="Verdana"/>
            </a:endParaRPr>
          </a:p>
          <a:p>
            <a:pPr marL="318960" indent="-318960">
              <a:lnSpc>
                <a:spcPct val="80000"/>
              </a:lnSpc>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agmented management and governance</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Draw on scarce resources</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nsustainable and can create perverse incentives</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Well conceived PIAs can make an important contribution to sustainable capacity development</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ackle CD as a key design consideration</a:t>
            </a:r>
            <a:endParaRPr b="1" lang="en-US" sz="2000" spc="-1" strike="noStrike">
              <a:solidFill>
                <a:srgbClr val="0f5494"/>
              </a:solidFill>
              <a:latin typeface="Verdana"/>
            </a:endParaRPr>
          </a:p>
          <a:p>
            <a:pPr lvl="1" marL="690840" indent="-2656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f5494"/>
                </a:solidFill>
                <a:latin typeface="Verdana"/>
              </a:rPr>
              <a:t>Make ownership operational in day-to-day working relations</a:t>
            </a:r>
            <a:endParaRPr b="1" lang="en-US" sz="2000" spc="-1" strike="noStrike">
              <a:solidFill>
                <a:srgbClr val="0f5494"/>
              </a:solidFill>
              <a:latin typeface="Verdan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90840" indent="-265680">
              <a:lnSpc>
                <a:spcPct val="90000"/>
              </a:lnSpc>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02">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02">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02">
                                            <p:txEl>
                                              <p:pRg st="6" end="6"/>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02">
                                            <p:txEl>
                                              <p:pRg st="8" end="8"/>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2">
                                            <p:txEl>
                                              <p:pRg st="10" end="1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02">
                                            <p:txEl>
                                              <p:pRg st="12" end="1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0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24D03-40DB-4774-B05E-9E258B822251}"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4" name="PlaceHolder 1"/>
          <p:cNvSpPr>
            <a:spLocks noGrp="1"/>
          </p:cNvSpPr>
          <p:nvPr>
            <p:ph type="title"/>
          </p:nvPr>
        </p:nvSpPr>
        <p:spPr>
          <a:xfrm>
            <a:off x="611280" y="1302840"/>
            <a:ext cx="742608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IA characteristics</a:t>
            </a:r>
            <a:endParaRPr b="1" lang="en-US" sz="3000" spc="-1" strike="noStrike">
              <a:solidFill>
                <a:srgbClr val="0f5494"/>
              </a:solidFill>
              <a:latin typeface="Verdana"/>
            </a:endParaRPr>
          </a:p>
        </p:txBody>
      </p:sp>
      <p:sp>
        <p:nvSpPr>
          <p:cNvPr id="1605" name="PlaceHolder 2"/>
          <p:cNvSpPr>
            <a:spLocks noGrp="1"/>
          </p:cNvSpPr>
          <p:nvPr>
            <p:ph/>
          </p:nvPr>
        </p:nvSpPr>
        <p:spPr>
          <a:xfrm>
            <a:off x="539640" y="1773360"/>
            <a:ext cx="7726320" cy="4751280"/>
          </a:xfrm>
          <a:prstGeom prst="rect">
            <a:avLst/>
          </a:prstGeom>
          <a:noFill/>
          <a:ln w="0">
            <a:noFill/>
          </a:ln>
        </p:spPr>
        <p:txBody>
          <a:bodyPr anchor="t">
            <a:normAutofit/>
          </a:bodyPr>
          <a:p>
            <a:pPr marL="343080" indent="0">
              <a:lnSpc>
                <a:spcPct val="110000"/>
              </a:lnSpc>
              <a:spcBef>
                <a:spcPts val="224"/>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Partner-</a:t>
            </a:r>
            <a:r>
              <a:rPr b="1" i="1" lang="en-GB" sz="1800" spc="-1" strike="noStrike">
                <a:solidFill>
                  <a:srgbClr val="ff0000"/>
                </a:solidFill>
                <a:latin typeface="Verdana"/>
              </a:rPr>
              <a:t>owned</a:t>
            </a:r>
            <a:r>
              <a:rPr b="1" i="1" lang="en-GB" sz="1800" spc="-1" strike="noStrike">
                <a:solidFill>
                  <a:srgbClr val="0f5494"/>
                </a:solidFill>
                <a:latin typeface="Verdana"/>
              </a:rPr>
              <a:t> and partner </a:t>
            </a:r>
            <a:r>
              <a:rPr b="1" i="1" lang="en-GB" sz="1800" spc="-1" strike="noStrike">
                <a:solidFill>
                  <a:srgbClr val="ff0000"/>
                </a:solidFill>
                <a:latin typeface="Verdana"/>
              </a:rPr>
              <a:t>managed</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Verdana"/>
              </a:rPr>
              <a:t>Designed/ decided</a:t>
            </a:r>
            <a:r>
              <a:rPr b="1" i="1" lang="en-GB" sz="1800" spc="-1" strike="noStrike">
                <a:solidFill>
                  <a:srgbClr val="0f5494"/>
                </a:solidFill>
                <a:latin typeface="Verdana"/>
              </a:rPr>
              <a:t> by the partner with donor input</a:t>
            </a:r>
            <a:endParaRPr b="0" i="1" lang="en-US" sz="1800" spc="-1" strike="noStrike">
              <a:solidFill>
                <a:srgbClr val="0f5494"/>
              </a:solidFill>
              <a:latin typeface="Verdana"/>
            </a:endParaRPr>
          </a:p>
          <a:p>
            <a:pPr marL="343080" indent="0">
              <a:lnSpc>
                <a:spcPct val="110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110000"/>
              </a:lnSpc>
              <a:spcBef>
                <a:spcPts val="224"/>
              </a:spcBef>
              <a:spcAft>
                <a:spcPts val="451"/>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Embedded in the </a:t>
            </a:r>
            <a:r>
              <a:rPr b="1" i="1" lang="en-GB" sz="1800" spc="-1" strike="noStrike">
                <a:solidFill>
                  <a:srgbClr val="ff0000"/>
                </a:solidFill>
                <a:latin typeface="Verdana"/>
              </a:rPr>
              <a:t>local institutional context</a:t>
            </a: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0">
              <a:lnSpc>
                <a:spcPct val="11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Balancing programme autonomy vs. integration. Depends on type of result envisaged:</a:t>
            </a:r>
            <a:endParaRPr b="0" i="1" lang="en-US" sz="18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results can be achieved without inputs/ resources of other organisations within public sector</a:t>
            </a:r>
            <a:endParaRPr b="1" lang="en-US" sz="2000" spc="-1" strike="noStrike">
              <a:solidFill>
                <a:srgbClr val="0f5494"/>
              </a:solidFill>
              <a:latin typeface="Verdana"/>
            </a:endParaRPr>
          </a:p>
          <a:p>
            <a:pPr lvl="1" marL="743040" indent="-285840">
              <a:lnSpc>
                <a:spcPct val="110000"/>
              </a:lnSpc>
              <a:spcBef>
                <a:spcPts val="249"/>
              </a:spcBef>
              <a:spcAft>
                <a:spcPts val="499"/>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xtent to which CD and change is key objective</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34953-08DC-4F4E-8B03-CB1E4E8061CF}"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07" name="PlaceHolder 1"/>
          <p:cNvSpPr>
            <a:spLocks noGrp="1"/>
          </p:cNvSpPr>
          <p:nvPr>
            <p:ph type="title"/>
          </p:nvPr>
        </p:nvSpPr>
        <p:spPr>
          <a:xfrm>
            <a:off x="250920" y="1196640"/>
            <a:ext cx="8353440" cy="662040"/>
          </a:xfrm>
          <a:prstGeom prst="rect">
            <a:avLst/>
          </a:prstGeom>
          <a:noFill/>
          <a:ln w="0">
            <a:noFill/>
          </a:ln>
        </p:spPr>
        <p:txBody>
          <a:bodyPr anchor="ctr">
            <a:noAutofit/>
          </a:bodyPr>
          <a:p>
            <a:pPr marL="92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Designing PIAs: 5 key parameters</a:t>
            </a:r>
            <a:endParaRPr b="1" lang="en-US" sz="2800" spc="-1" strike="noStrike">
              <a:solidFill>
                <a:srgbClr val="0f5494"/>
              </a:solidFill>
              <a:latin typeface="Verdana"/>
            </a:endParaRPr>
          </a:p>
        </p:txBody>
      </p:sp>
      <p:sp>
        <p:nvSpPr>
          <p:cNvPr id="1608" name="PlaceHolder 2"/>
          <p:cNvSpPr>
            <a:spLocks noGrp="1"/>
          </p:cNvSpPr>
          <p:nvPr>
            <p:ph/>
          </p:nvPr>
        </p:nvSpPr>
        <p:spPr>
          <a:xfrm>
            <a:off x="179280" y="2060640"/>
            <a:ext cx="8569440" cy="4176720"/>
          </a:xfrm>
          <a:prstGeom prst="rect">
            <a:avLst/>
          </a:prstGeom>
          <a:noFill/>
          <a:ln w="0">
            <a:noFill/>
          </a:ln>
        </p:spPr>
        <p:txBody>
          <a:bodyPr anchor="t">
            <a:normAutofit/>
          </a:bodyPr>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1. Governance and accountability</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oversee and govern programme implementation? </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should the programme be accountable to in the country system?</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Take care to avoid duplication</a:t>
            </a:r>
            <a:endParaRPr b="1" lang="en-US" sz="1800" spc="-1" strike="noStrike">
              <a:solidFill>
                <a:srgbClr val="0f5494"/>
              </a:solidFill>
              <a:latin typeface="Verdana"/>
            </a:endParaRPr>
          </a:p>
          <a:p>
            <a:pPr marL="533520" indent="-533520">
              <a:lnSpc>
                <a:spcPct val="130000"/>
              </a:lnSpc>
              <a:spcBef>
                <a:spcPts val="601"/>
              </a:spcBef>
              <a:buClr>
                <a:srgbClr val="ffffff"/>
              </a:buClr>
              <a:buSzPct val="80000"/>
              <a:buFont typeface="Verdan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c00000"/>
                </a:solidFill>
                <a:latin typeface="Verdana"/>
              </a:rPr>
              <a:t>2. Management set-up</a:t>
            </a:r>
            <a:endParaRPr b="0" i="1" lang="en-US" sz="24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ho will perform daily programme management functions?</a:t>
            </a:r>
            <a:endParaRPr b="1" lang="en-US" sz="1800" spc="-1" strike="noStrike">
              <a:solidFill>
                <a:srgbClr val="0f5494"/>
              </a:solidFill>
              <a:latin typeface="Verdana"/>
            </a:endParaRPr>
          </a:p>
          <a:p>
            <a:pPr lvl="1" marL="838080" indent="-380880">
              <a:lnSpc>
                <a:spcPct val="130000"/>
              </a:lnSpc>
              <a:spcBef>
                <a:spcPts val="451"/>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With what authority over resource management functions?</a:t>
            </a:r>
            <a:endParaRPr b="1" lang="en-US" sz="18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f5494"/>
                </a:solidFill>
                <a:latin typeface="Verdana"/>
              </a:rPr>
              <a:t>A part-time or full time function</a:t>
            </a:r>
            <a:r>
              <a:rPr b="0" lang="en-GB" sz="1600" spc="-1" strike="noStrike">
                <a:solidFill>
                  <a:srgbClr val="0f5494"/>
                </a:solidFill>
                <a:latin typeface="Verdana"/>
              </a:rPr>
              <a:t>?</a:t>
            </a:r>
            <a:endParaRPr b="1" lang="en-US" sz="1600" spc="-1" strike="noStrike">
              <a:solidFill>
                <a:srgbClr val="0f5494"/>
              </a:solidFill>
              <a:latin typeface="Verdana"/>
            </a:endParaRPr>
          </a:p>
          <a:p>
            <a:pPr lvl="2" marL="1239840" indent="0">
              <a:lnSpc>
                <a:spcPct val="130000"/>
              </a:lnSpc>
              <a:spcBef>
                <a:spcPts val="4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BDC98-244A-4CBD-A5FC-03516B18FFC6}" type="slidenum">
              <a:rPr b="0" lang="en-GB" sz="1200" spc="-1" strike="noStrike">
                <a:solidFill>
                  <a:srgbClr val="898989"/>
                </a:solidFill>
                <a:latin typeface="Verdana"/>
              </a:rPr>
              <a:t>&lt;number&gt;</a:t>
            </a:fld>
            <a:endParaRPr b="0" lang="en-US" sz="1200" spc="-1" strike="noStrike">
              <a:solidFill>
                <a:srgbClr val="000000"/>
              </a:solidFill>
              <a:latin typeface="Arial"/>
            </a:endParaRPr>
          </a:p>
        </p:txBody>
      </p:sp>
      <p:sp>
        <p:nvSpPr>
          <p:cNvPr id="1610" name="PlaceHolder 1"/>
          <p:cNvSpPr>
            <a:spLocks noGrp="1"/>
          </p:cNvSpPr>
          <p:nvPr>
            <p:ph/>
          </p:nvPr>
        </p:nvSpPr>
        <p:spPr>
          <a:xfrm>
            <a:off x="395280" y="1628640"/>
            <a:ext cx="8748720" cy="5027760"/>
          </a:xfrm>
          <a:prstGeom prst="rect">
            <a:avLst/>
          </a:prstGeom>
          <a:noFill/>
          <a:ln w="0">
            <a:noFill/>
          </a:ln>
        </p:spPr>
        <p:txBody>
          <a:bodyPr anchor="t">
            <a:normAutofit/>
          </a:bodyPr>
          <a:p>
            <a:pPr marL="343080" indent="0">
              <a:lnSpc>
                <a:spcPct val="13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3. Logistical autonomy &amp; embeddedness</a:t>
            </a:r>
            <a:endParaRPr b="0" i="1" lang="en-US" sz="24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Does the programme require own vehicles, office equipment, ancillary staff, or can it share resources with others?</a:t>
            </a:r>
            <a:endParaRPr b="1" lang="en-US" sz="1600" spc="-1" strike="noStrike">
              <a:solidFill>
                <a:srgbClr val="0f5494"/>
              </a:solidFill>
              <a:latin typeface="Verdana"/>
            </a:endParaRPr>
          </a:p>
          <a:p>
            <a:pPr lvl="1" marL="838080" indent="-380880">
              <a:lnSpc>
                <a:spcPct val="13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Legitimacy, sustainability, efficienc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4. Relations between TC experts, partners and EC</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If contracted by the EC (or another donor), who are the experts taking instructions from and to whom are they accountab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Trust, accountability and confidentiality</a:t>
            </a:r>
            <a:endParaRPr b="1" lang="en-US" sz="1600" spc="-1" strike="noStrike">
              <a:solidFill>
                <a:srgbClr val="0f5494"/>
              </a:solidFill>
              <a:latin typeface="Verdana"/>
            </a:endParaRPr>
          </a:p>
          <a:p>
            <a:pPr marL="343080" indent="0">
              <a:lnSpc>
                <a:spcPct val="14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c00000"/>
                </a:solidFill>
                <a:latin typeface="Verdana"/>
              </a:rPr>
              <a:t>5. EC’s and other donors’ roles</a:t>
            </a:r>
            <a:endParaRPr b="0" i="1" lang="en-US" sz="24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Should donors play a role at all in the PIA – and if so, which role?</a:t>
            </a:r>
            <a:endParaRPr b="1" lang="en-US" sz="1600" spc="-1" strike="noStrike">
              <a:solidFill>
                <a:srgbClr val="0f5494"/>
              </a:solidFill>
              <a:latin typeface="Verdana"/>
            </a:endParaRPr>
          </a:p>
          <a:p>
            <a:pPr lvl="1" marL="838080" indent="-380880">
              <a:lnSpc>
                <a:spcPct val="140000"/>
              </a:lnSpc>
              <a:spcBef>
                <a:spcPts val="400"/>
              </a:spcBef>
              <a:buClr>
                <a:srgbClr val="009fba"/>
              </a:buClr>
              <a:buSzPct val="80000"/>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f5494"/>
                </a:solidFill>
                <a:latin typeface="Verdana"/>
              </a:rPr>
              <a:t>Policy dialogue, negotiating results framework, M&amp;E</a:t>
            </a:r>
            <a:endParaRPr b="1" lang="en-US" sz="1600" spc="-1" strike="noStrike">
              <a:solidFill>
                <a:srgbClr val="0f5494"/>
              </a:solidFill>
              <a:latin typeface="Verdana"/>
            </a:endParaRPr>
          </a:p>
          <a:p>
            <a:pPr lvl="2" marL="1239840" indent="0" algn="r">
              <a:lnSpc>
                <a:spcPct val="14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f5494"/>
              </a:solidFill>
              <a:latin typeface="Verdana"/>
            </a:endParaRPr>
          </a:p>
          <a:p>
            <a:pPr lvl="2" marL="1239840" indent="0">
              <a:lnSpc>
                <a:spcPct val="14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f5494"/>
              </a:solidFill>
              <a:latin typeface="Verdana"/>
            </a:endParaRPr>
          </a:p>
          <a:p>
            <a:pPr marL="343080"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8T17:00:29Z</dcterms:created>
  <dc:creator>Jos Brand</dc:creator>
  <dc:description/>
  <dc:language>en-US</dc:language>
  <cp:lastModifiedBy>kar</cp:lastModifiedBy>
  <cp:lastPrinted>2014-03-03T13:51:12Z</cp:lastPrinted>
  <dcterms:modified xsi:type="dcterms:W3CDTF">2014-03-14T13:27:59Z</dcterms:modified>
  <cp:revision>313</cp:revision>
  <dc:subject/>
  <dc:title>PowerPoint Presentation</dc:title>
</cp:coreProperties>
</file>