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393F-8436-448A-B8E0-7EFCCDF07AEE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1369-B8F5-4FA1-8589-41CB2B822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882-BC0A-4C3A-A324-C758E97E13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4AD-92DF-404B-9E6B-FC7DF8DC2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BE2-3C80-42A8-9DC1-91D0A557A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941-3F7F-4615-A1F0-798F27547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E9F4-95AC-43DB-9368-515ECB340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D6AF-E29A-453F-A2EA-E91547034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7095-97F8-4423-A584-2C3F87CBD6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B3D-C0B7-4798-917A-1079FA966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943-8FCF-4379-9FA4-C8B790A85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906-3E41-4961-B335-3CAADA520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31F-87EE-4DED-B78F-E48044E75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CCB-D5F8-4EDF-A6F7-41695536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552D-9676-4BF6-993C-5E21A6BE05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541-C081-4649-9B6C-9E713EF2C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3EF7-9708-4520-B1D3-1C868C58D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2A13-1E33-409A-BB14-69BFFB353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7F4-D2BA-4766-8E97-4C002680EA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1AF-B123-48D1-8C9E-FD48FF775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56FA-9232-4BB7-A2AA-C42A52252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DBD5-0E01-4C18-AF5D-0B52927BC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8D1-C505-4C3A-BB8C-2BDC4582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987-4C24-4DAE-AAFA-3228F5D5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A5C-CEF8-4923-9C9B-FFFBC7B9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5DC-B1D4-4092-9AD7-877F34F0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E11C-F98C-4CDB-8DD3-CACC841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CF19-1732-4BE2-87FF-E91DC309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749C-3CAD-4A13-AEF8-6C268B5C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8BB6-1F8F-4892-A529-2CC10E2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E34-3CE1-4376-830D-BF628A84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E646-4FDF-436D-89D1-946816E5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85C-CE10-41A8-871E-99F34E4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717-8128-4F16-BEE0-87698C8D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9E74-F0BF-4719-906E-747D1B86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DF99-9715-45D6-8CA7-15A0C3E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7CC3-7B54-4658-B808-BC7DDDE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756E-2157-4642-A046-2197B61A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051-9EE4-49A0-9973-EF351CF9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89153-18C7-434E-B2B7-195D7C5C09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9D00E-3301-4D52-A129-A50EEA1987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DFFCC-F09E-45A5-A197-F6097C58B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1C1BE-7AC0-4C16-B993-1A0D799949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38F92-6C07-4C58-836A-04617B8BF3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C2F-0479-4A73-9D3C-4318B24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5418C-5AB0-44D7-8E62-0EDB067FCF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8C91A-C44A-4B22-B869-89A6BB1AE6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EA575-A5D1-49E7-BCCA-7C6A60CFBF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DC43B-8BB8-4341-AC58-ACBA65B5C4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29582-9A9F-47B5-832C-A63ADB6B5B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4DEEA-6E5B-4EDE-9410-4C69102F63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4DC59-12D5-4B59-B658-3F9FF5C8D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4C0-1D96-4166-BE62-7A636D64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754-7F0E-439C-8F41-63A67087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0C4-66A4-498D-85A0-53C26B4E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EC6-4CEE-4C41-980F-7799490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6E2-D4C8-4272-A79D-BADCFD0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371-C1C1-4C31-A2E1-BBC2656E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D17A-284D-4F42-B286-D2D2D92694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108-1038-454B-AF7A-A4CF8D83EF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2268000" y="6248520"/>
            <a:ext cx="475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7524720" y="6248520"/>
            <a:ext cx="11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63C4-0D3C-4A51-93F9-E1DA69BF4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sourcecentre.pscbs.gov.rw/best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A8D5-B1A5-4FE0-826F-06463973CCD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14680" y="2357280"/>
            <a:ext cx="58291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Effective 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Capacity Development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From Theory to Practic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42960" y="4000320"/>
            <a:ext cx="720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2: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ncepts and Principle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1" name="Picture 5" descr="eu_flag 2"/>
          <p:cNvPicPr/>
          <p:nvPr/>
        </p:nvPicPr>
        <p:blipFill>
          <a:blip r:embed="rId1"/>
          <a:stretch/>
        </p:blipFill>
        <p:spPr>
          <a:xfrm>
            <a:off x="7308720" y="6021360"/>
            <a:ext cx="10018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         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132600" y="3352680"/>
            <a:ext cx="13888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2313000" y="2819520"/>
            <a:ext cx="2155680" cy="228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BLACK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BOX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621648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36846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914040"/>
            <a:ext cx="34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Capacity for what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Oval 10"/>
          <p:cNvSpPr/>
          <p:nvPr/>
        </p:nvSpPr>
        <p:spPr>
          <a:xfrm>
            <a:off x="3975120" y="2867040"/>
            <a:ext cx="2608200" cy="2363760"/>
          </a:xfrm>
          <a:prstGeom prst="ellipse">
            <a:avLst/>
          </a:prstGeom>
          <a:solidFill>
            <a:srgbClr val="ffb490">
              <a:alpha val="4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 for what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(output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1219320" y="1828800"/>
            <a:ext cx="4647960" cy="449568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54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5" name="Octagon 27"/>
          <p:cNvSpPr/>
          <p:nvPr/>
        </p:nvSpPr>
        <p:spPr>
          <a:xfrm>
            <a:off x="3733920" y="2362320"/>
            <a:ext cx="1600200" cy="1546200"/>
          </a:xfrm>
          <a:prstGeom prst="octagon">
            <a:avLst>
              <a:gd name="adj" fmla="val 29287"/>
            </a:avLst>
          </a:prstGeom>
          <a:solidFill>
            <a:srgbClr val="2d5ec1">
              <a:alpha val="24000"/>
            </a:srgbClr>
          </a:solidFill>
          <a:ln w="9360">
            <a:solidFill>
              <a:srgbClr val="3e6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rporate”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PFM, HR, M&amp;E etc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Octagon 30"/>
          <p:cNvSpPr/>
          <p:nvPr/>
        </p:nvSpPr>
        <p:spPr>
          <a:xfrm>
            <a:off x="1828800" y="2286000"/>
            <a:ext cx="1571760" cy="1523880"/>
          </a:xfrm>
          <a:prstGeom prst="octagon">
            <a:avLst>
              <a:gd name="adj" fmla="val 29287"/>
            </a:avLst>
          </a:prstGeom>
          <a:solidFill>
            <a:srgbClr val="2d5ec1">
              <a:alpha val="24000"/>
            </a:srgbClr>
          </a:solidFill>
          <a:ln w="9360">
            <a:solidFill>
              <a:srgbClr val="3e6f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ector-Specific</a:t>
            </a: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: nurses, teachers, enginee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Oval 34"/>
          <p:cNvSpPr/>
          <p:nvPr/>
        </p:nvSpPr>
        <p:spPr>
          <a:xfrm>
            <a:off x="1600200" y="4114800"/>
            <a:ext cx="1676520" cy="1600200"/>
          </a:xfrm>
          <a:prstGeom prst="ellipse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Policy &amp; Strateg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Analysis, planning, dialogue, leadership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Oval 35"/>
          <p:cNvSpPr/>
          <p:nvPr/>
        </p:nvSpPr>
        <p:spPr>
          <a:xfrm>
            <a:off x="3809880" y="4191120"/>
            <a:ext cx="1600200" cy="1600200"/>
          </a:xfrm>
          <a:prstGeom prst="ellipse">
            <a:avLst/>
          </a:prstGeom>
          <a:solidFill>
            <a:srgbClr val="ffff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mplementat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Logistics, business processes, communication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5791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8153280" y="3733920"/>
            <a:ext cx="990720" cy="99216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7238880" y="3733920"/>
            <a:ext cx="914400" cy="915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172200" y="3733920"/>
            <a:ext cx="1008000" cy="915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1143000" y="1600200"/>
            <a:ext cx="4952880" cy="480060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0" y="3581280"/>
            <a:ext cx="990720" cy="10670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685800" y="5029200"/>
            <a:ext cx="83808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Oval 6"/>
          <p:cNvSpPr/>
          <p:nvPr/>
        </p:nvSpPr>
        <p:spPr>
          <a:xfrm rot="20901600">
            <a:off x="293760" y="5851440"/>
            <a:ext cx="788760" cy="7272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0" y="4648320"/>
            <a:ext cx="76212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70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1" name="Oval 29"/>
          <p:cNvSpPr/>
          <p:nvPr/>
        </p:nvSpPr>
        <p:spPr>
          <a:xfrm rot="18405600">
            <a:off x="1641240" y="2443320"/>
            <a:ext cx="1427040" cy="211932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ADAPT &amp; SELF-RENEW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Oval 30"/>
          <p:cNvSpPr/>
          <p:nvPr/>
        </p:nvSpPr>
        <p:spPr>
          <a:xfrm rot="2895600">
            <a:off x="4059000" y="2280960"/>
            <a:ext cx="1511280" cy="210816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TECHNICAL &amp; LOGISTIC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Oval 31"/>
          <p:cNvSpPr/>
          <p:nvPr/>
        </p:nvSpPr>
        <p:spPr>
          <a:xfrm rot="2193000">
            <a:off x="2018880" y="3801600"/>
            <a:ext cx="1478160" cy="218592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BALANCE DIVERSITY &amp; COHERENC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Oval 32"/>
          <p:cNvSpPr/>
          <p:nvPr/>
        </p:nvSpPr>
        <p:spPr>
          <a:xfrm>
            <a:off x="2666880" y="1828800"/>
            <a:ext cx="1447920" cy="228600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COMMIT &amp; ENGAGE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Oval 33"/>
          <p:cNvSpPr/>
          <p:nvPr/>
        </p:nvSpPr>
        <p:spPr>
          <a:xfrm rot="18997200">
            <a:off x="3629160" y="3870000"/>
            <a:ext cx="1461960" cy="2268360"/>
          </a:xfrm>
          <a:prstGeom prst="ellipse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5494"/>
                </a:solidFill>
                <a:latin typeface="Verdana"/>
              </a:rPr>
              <a:t>CAPABILITY TO RELATE &amp; ATTRACT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1219320" y="1752480"/>
            <a:ext cx="4647960" cy="449604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TextBox 19"/>
          <p:cNvSpPr/>
          <p:nvPr/>
        </p:nvSpPr>
        <p:spPr>
          <a:xfrm>
            <a:off x="2302920" y="28954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LEADERSHIP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3850920" y="335268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LEGAL FRAMEWORK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21"/>
          <p:cNvSpPr/>
          <p:nvPr/>
        </p:nvSpPr>
        <p:spPr>
          <a:xfrm>
            <a:off x="2985480" y="205740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TRUCTU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2888640" y="43434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YSTEM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4694760" y="426708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TAFF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1758960" y="365760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RESOURC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3465000" y="533412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NFRASTRUCTUR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TextBox 26"/>
          <p:cNvSpPr/>
          <p:nvPr/>
        </p:nvSpPr>
        <p:spPr>
          <a:xfrm>
            <a:off x="2045520" y="495288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EQUIP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5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ounded Rectangle 1"/>
          <p:cNvSpPr/>
          <p:nvPr/>
        </p:nvSpPr>
        <p:spPr>
          <a:xfrm>
            <a:off x="0" y="1523880"/>
            <a:ext cx="914400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Oval 9"/>
          <p:cNvSpPr/>
          <p:nvPr/>
        </p:nvSpPr>
        <p:spPr>
          <a:xfrm>
            <a:off x="1219320" y="1752480"/>
            <a:ext cx="4647960" cy="449604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7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08" name="Oval 27"/>
          <p:cNvSpPr/>
          <p:nvPr/>
        </p:nvSpPr>
        <p:spPr>
          <a:xfrm>
            <a:off x="1523880" y="2133720"/>
            <a:ext cx="2057400" cy="3733560"/>
          </a:xfrm>
          <a:prstGeom prst="ellipse">
            <a:avLst/>
          </a:prstGeom>
          <a:solidFill>
            <a:srgbClr val="3e6fd2">
              <a:alpha val="36000"/>
            </a:srgbClr>
          </a:solidFill>
          <a:ln w="9360">
            <a:solidFill>
              <a:srgbClr val="3166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TANGIBL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skills, systems, structure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FUNCTION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managerial, logistical, technical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FORM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mandated functions &amp; role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3352680" y="2133720"/>
            <a:ext cx="2210040" cy="3809880"/>
          </a:xfrm>
          <a:prstGeom prst="ellipse">
            <a:avLst/>
          </a:prstGeom>
          <a:solidFill>
            <a:srgbClr val="3e6fd2">
              <a:alpha val="36000"/>
            </a:srgbClr>
          </a:solidFill>
          <a:ln w="9360">
            <a:solidFill>
              <a:srgbClr val="3166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NTANGIBL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loyalty, values, identity, leadershi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SOF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learning, relational skill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INFORM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(power, interests, network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229600" cy="9936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3809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Main Characteristic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ff6600">
              <a:alpha val="3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0080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ts much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more than individual training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…..though knowledge sharing can often be importa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eed to b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bundled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and looked at from perspective of individual, organisational and enabling enviro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bou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upporting change processe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…to lift organisational/ sector capacity to yield performance improvement and development resul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t needs to be treated as a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tegral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f organisational/ sector development plans, not as an isolated field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D is change, therefor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rinciples of change managem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pply; ownership, leadership and change readiness are critic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has been learned about capacity and its developmen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11280" y="250668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ndogenou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dimension, develop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artners can support, not lead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lies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knowledg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shar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fluenc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incentive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pportun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hange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process (+ change is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political: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nners and lose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volves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mplexity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ncertain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34" name="Picture 1" descr="Plus.PNG"/>
          <p:cNvPicPr/>
          <p:nvPr/>
        </p:nvPicPr>
        <p:blipFill>
          <a:blip r:embed="rId1"/>
          <a:stretch/>
        </p:blipFill>
        <p:spPr>
          <a:xfrm>
            <a:off x="8255160" y="2835360"/>
            <a:ext cx="583920" cy="584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Plus.PNG"/>
          <p:cNvPicPr/>
          <p:nvPr/>
        </p:nvPicPr>
        <p:blipFill>
          <a:blip r:embed="rId2"/>
          <a:stretch/>
        </p:blipFill>
        <p:spPr>
          <a:xfrm>
            <a:off x="8255160" y="4054320"/>
            <a:ext cx="583920" cy="582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Plus.PNG"/>
          <p:cNvPicPr/>
          <p:nvPr/>
        </p:nvPicPr>
        <p:blipFill>
          <a:blip r:embed="rId3"/>
          <a:stretch/>
        </p:blipFill>
        <p:spPr>
          <a:xfrm>
            <a:off x="8255160" y="5319720"/>
            <a:ext cx="583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53E4-BCA0-4CC0-9296-20C6AB8EBB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f5494"/>
                </a:solidFill>
                <a:latin typeface="Verdana"/>
              </a:rPr>
              <a:t>How Does Change Happen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28760" y="1999800"/>
            <a:ext cx="7672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mergen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evolve over time, dynamic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ransformative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– in a crisis or when a block to change has been overcom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nned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– purposeful interventions result in desired chang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e realities of chang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t is rarely linea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t is usually contested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d resist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t is most often increment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AutoShape 3"/>
          <p:cNvSpPr/>
          <p:nvPr/>
        </p:nvSpPr>
        <p:spPr>
          <a:xfrm>
            <a:off x="4859280" y="3860640"/>
            <a:ext cx="4056120" cy="2298960"/>
          </a:xfrm>
          <a:prstGeom prst="triangle">
            <a:avLst>
              <a:gd name="adj" fmla="val 50000"/>
            </a:avLst>
          </a:prstGeom>
          <a:solidFill>
            <a:srgbClr val="f37d84">
              <a:alpha val="48000"/>
            </a:srgbClr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6243840" y="3645000"/>
            <a:ext cx="1636200" cy="524880"/>
            <a:chOff x="6243840" y="3645000"/>
            <a:chExt cx="1636200" cy="524880"/>
          </a:xfrm>
        </p:grpSpPr>
        <p:sp>
          <p:nvSpPr>
            <p:cNvPr id="342" name="AutoShape 5"/>
            <p:cNvSpPr/>
            <p:nvPr/>
          </p:nvSpPr>
          <p:spPr>
            <a:xfrm>
              <a:off x="683424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3" name="Text Box 6"/>
            <p:cNvSpPr/>
            <p:nvPr/>
          </p:nvSpPr>
          <p:spPr>
            <a:xfrm>
              <a:off x="6243840" y="3645000"/>
              <a:ext cx="163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Transformative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4" name="AutoShape 7"/>
            <p:cNvSpPr/>
            <p:nvPr/>
          </p:nvSpPr>
          <p:spPr>
            <a:xfrm>
              <a:off x="6692760" y="3944520"/>
              <a:ext cx="69480" cy="225360"/>
            </a:xfrm>
            <a:prstGeom prst="downArrow">
              <a:avLst>
                <a:gd name="adj1" fmla="val 50000"/>
                <a:gd name="adj2" fmla="val 79406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5" name="AutoShape 8"/>
            <p:cNvSpPr/>
            <p:nvPr/>
          </p:nvSpPr>
          <p:spPr>
            <a:xfrm>
              <a:off x="654984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>
              <a:off x="697680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7" name="AutoShape 10"/>
            <p:cNvSpPr/>
            <p:nvPr/>
          </p:nvSpPr>
          <p:spPr>
            <a:xfrm>
              <a:off x="7154640" y="394452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48" name="Group 11"/>
          <p:cNvGrpSpPr/>
          <p:nvPr/>
        </p:nvGrpSpPr>
        <p:grpSpPr>
          <a:xfrm>
            <a:off x="5188680" y="4221000"/>
            <a:ext cx="930240" cy="1046520"/>
            <a:chOff x="5188680" y="4221000"/>
            <a:chExt cx="930240" cy="1046520"/>
          </a:xfrm>
        </p:grpSpPr>
        <p:sp>
          <p:nvSpPr>
            <p:cNvPr id="349" name="AutoShape 12"/>
            <p:cNvSpPr/>
            <p:nvPr/>
          </p:nvSpPr>
          <p:spPr>
            <a:xfrm rot="18900000">
              <a:off x="5978160" y="4507200"/>
              <a:ext cx="71640" cy="225360"/>
            </a:xfrm>
            <a:prstGeom prst="downArrow">
              <a:avLst>
                <a:gd name="adj1" fmla="val 50000"/>
                <a:gd name="adj2" fmla="val 794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 rot="18900000">
              <a:off x="5872320" y="4644360"/>
              <a:ext cx="71640" cy="223560"/>
            </a:xfrm>
            <a:prstGeom prst="downArrow">
              <a:avLst>
                <a:gd name="adj1" fmla="val 50000"/>
                <a:gd name="adj2" fmla="val 7948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 rot="18900000">
              <a:off x="5765760" y="4779720"/>
              <a:ext cx="71640" cy="225720"/>
            </a:xfrm>
            <a:prstGeom prst="downArrow">
              <a:avLst>
                <a:gd name="adj1" fmla="val 50000"/>
                <a:gd name="adj2" fmla="val 79586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 rot="18900000">
              <a:off x="5659200" y="4914000"/>
              <a:ext cx="71640" cy="225360"/>
            </a:xfrm>
            <a:prstGeom prst="downArrow">
              <a:avLst>
                <a:gd name="adj1" fmla="val 50000"/>
                <a:gd name="adj2" fmla="val 794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 rot="18900000">
              <a:off x="5553000" y="5049360"/>
              <a:ext cx="71640" cy="225360"/>
            </a:xfrm>
            <a:prstGeom prst="downArrow">
              <a:avLst>
                <a:gd name="adj1" fmla="val 50000"/>
                <a:gd name="adj2" fmla="val 79459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 rot="18720600">
              <a:off x="5155560" y="4520880"/>
              <a:ext cx="95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lanned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55" name="Group 18"/>
          <p:cNvGrpSpPr/>
          <p:nvPr/>
        </p:nvGrpSpPr>
        <p:grpSpPr>
          <a:xfrm>
            <a:off x="6486480" y="6021360"/>
            <a:ext cx="1118160" cy="514800"/>
            <a:chOff x="6486480" y="6021360"/>
            <a:chExt cx="1118160" cy="514800"/>
          </a:xfrm>
        </p:grpSpPr>
        <p:sp>
          <p:nvSpPr>
            <p:cNvPr id="356" name="AutoShape 19"/>
            <p:cNvSpPr/>
            <p:nvPr/>
          </p:nvSpPr>
          <p:spPr>
            <a:xfrm rot="10800000">
              <a:off x="672732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7" name="AutoShape 20"/>
            <p:cNvSpPr/>
            <p:nvPr/>
          </p:nvSpPr>
          <p:spPr>
            <a:xfrm rot="10800000">
              <a:off x="687060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8" name="AutoShape 21"/>
            <p:cNvSpPr/>
            <p:nvPr/>
          </p:nvSpPr>
          <p:spPr>
            <a:xfrm rot="10800000">
              <a:off x="701352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9" name="AutoShape 22"/>
            <p:cNvSpPr/>
            <p:nvPr/>
          </p:nvSpPr>
          <p:spPr>
            <a:xfrm rot="10800000">
              <a:off x="715428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0" name="AutoShape 23"/>
            <p:cNvSpPr/>
            <p:nvPr/>
          </p:nvSpPr>
          <p:spPr>
            <a:xfrm rot="10800000">
              <a:off x="7297560" y="6021360"/>
              <a:ext cx="70920" cy="225360"/>
            </a:xfrm>
            <a:prstGeom prst="downArrow">
              <a:avLst>
                <a:gd name="adj1" fmla="val 50000"/>
                <a:gd name="adj2" fmla="val 79442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6486480" y="6198840"/>
              <a:ext cx="111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Emergent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This Modu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iscusses: “What is Capacity Development?”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onsiders Capacity Development in EU cooper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ovides an overview of Definitions and Concep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Complexity</a:t>
            </a:r>
            <a:r>
              <a:rPr b="1" i="1" lang="en-GB" sz="4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and Capacity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905120"/>
          <a:ext cx="8229600" cy="4402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Far From Agreemen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omple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Anarchy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▲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omplicated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Complex</a:t>
                      </a: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lose to Agreement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Simple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Complicated</a:t>
                      </a: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d4b83"/>
                          </a:solidFill>
                          <a:latin typeface="Verdana"/>
                        </a:rPr>
                        <a:t>Complex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Close to Certainty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Arial"/>
                        </a:rPr>
                        <a:t>►►►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d4b83"/>
                          </a:solidFill>
                          <a:latin typeface="Verdana"/>
                          <a:ea typeface="SimSun"/>
                        </a:rPr>
                        <a:t>Far From Certainty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22E1-11B0-4DDE-BB9A-D4C97D9219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778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Action Field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00040" y="1752480"/>
          <a:ext cx="8032680" cy="4213440"/>
        </p:xfrm>
        <a:graphic>
          <a:graphicData uri="http://schemas.openxmlformats.org/drawingml/2006/table">
            <a:tbl>
              <a:tblPr/>
              <a:tblGrid>
                <a:gridCol w="1548000"/>
                <a:gridCol w="2162160"/>
                <a:gridCol w="2160360"/>
                <a:gridCol w="2162160"/>
              </a:tblGrid>
              <a:tr h="3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iliza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en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</a:tr>
              <a:tr h="1377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Development of adequate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kills, knowledge, competencies and attitud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pplication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of skills, knowledge, competencies in the workplace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duction of staff turnover, facilitation of skills and knowledge transfer within institution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27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anisa-tional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stablishment of efficient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structures, processes and procedur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Integration of structure, processes and procedures in the </a:t>
                      </a: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daily workflow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gular adaptation 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f structures, processes and procedure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365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tutional and policy environment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5ec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stablishment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 of adequate institutions, laws and regulation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Enforcemen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t of laws and regulations for good governance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Regular adaptation </a:t>
                      </a:r>
                      <a:r>
                        <a:rPr b="0" lang="en-GB" sz="14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f institutions, laws and regulation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367" name="TextBox 8"/>
          <p:cNvSpPr/>
          <p:nvPr/>
        </p:nvSpPr>
        <p:spPr>
          <a:xfrm>
            <a:off x="468360" y="6165720"/>
            <a:ext cx="60008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ource: Rwanda Public Sector Capacity Building Secretariat available at </a:t>
            </a:r>
            <a:r>
              <a:rPr b="0" lang="sk-SK" sz="1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resourcecentre.pscbs.gov.rw/best</a:t>
            </a:r>
            <a:r>
              <a:rPr b="0" lang="sk-SK" sz="1200" spc="-1" strike="noStrike">
                <a:solidFill>
                  <a:srgbClr val="0f5494"/>
                </a:solidFill>
                <a:latin typeface="Verdana"/>
              </a:rPr>
              <a:t> accessed 3.1.2012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What is </a:t>
            </a:r>
            <a:r>
              <a:rPr b="1" i="1" lang="en-US" sz="2800" spc="-1" strike="noStrike" u="sng">
                <a:solidFill>
                  <a:srgbClr val="0f5494"/>
                </a:solidFill>
                <a:uFillTx/>
                <a:latin typeface="Verdana"/>
              </a:rPr>
              <a:t>Support</a:t>
            </a: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 for Capacity Developmen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 modest but important role….that goes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beyond TA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Quality Criteria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– towards good design, effective engagement, regular review and lear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Ownership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- the local drive for change is most importa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0080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ff6600">
              <a:alpha val="26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DD53-5DCD-4C06-AA04-84E6C02738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Key Message: Donors can promote and accompany, but can’t “do” i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an provide access to resources, ideas, connections and opportuniti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UT no substitution for commitment, energy, motiv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8786-8274-4FD6-8DFB-2F99C7A3B5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o play this role requires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6960" y="2131560"/>
            <a:ext cx="8685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thorough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understanding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context,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hallenges and opportunities for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ideration of range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lternativ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rategies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entry poi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ing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open and explicit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discuss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pproaches/op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eing flexible and ready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dapt and lear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o changing needs, and opportunit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94" name="Picture 1" descr="Context.jpg"/>
          <p:cNvPicPr/>
          <p:nvPr/>
        </p:nvPicPr>
        <p:blipFill>
          <a:blip r:embed="rId1"/>
          <a:stretch/>
        </p:blipFill>
        <p:spPr>
          <a:xfrm>
            <a:off x="7272360" y="1143000"/>
            <a:ext cx="1687320" cy="1711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Alternatives.jpg"/>
          <p:cNvPicPr/>
          <p:nvPr/>
        </p:nvPicPr>
        <p:blipFill>
          <a:blip r:embed="rId2"/>
          <a:stretch/>
        </p:blipFill>
        <p:spPr>
          <a:xfrm>
            <a:off x="6915240" y="3132000"/>
            <a:ext cx="204444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iscussion.jpg"/>
          <p:cNvPicPr/>
          <p:nvPr/>
        </p:nvPicPr>
        <p:blipFill>
          <a:blip r:embed="rId3"/>
          <a:stretch/>
        </p:blipFill>
        <p:spPr>
          <a:xfrm>
            <a:off x="7442280" y="4537080"/>
            <a:ext cx="15174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Welcome.jpg"/>
          <p:cNvPicPr/>
          <p:nvPr/>
        </p:nvPicPr>
        <p:blipFill>
          <a:blip r:embed="rId1"/>
          <a:stretch/>
        </p:blipFill>
        <p:spPr>
          <a:xfrm>
            <a:off x="6491160" y="2482920"/>
            <a:ext cx="2644920" cy="17542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changing donor ro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49192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irst listen, listen again ….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you relevant to your partner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alogue, negotiate, influence, facilita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rok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0" name="Picture 3" descr="Ear.jpg"/>
          <p:cNvPicPr/>
          <p:nvPr/>
        </p:nvPicPr>
        <p:blipFill>
          <a:blip r:embed="rId2"/>
          <a:stretch/>
        </p:blipFill>
        <p:spPr>
          <a:xfrm>
            <a:off x="6932520" y="1822320"/>
            <a:ext cx="827280" cy="132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Negotiate.jpg"/>
          <p:cNvPicPr/>
          <p:nvPr/>
        </p:nvPicPr>
        <p:blipFill>
          <a:blip r:embed="rId3"/>
          <a:stretch/>
        </p:blipFill>
        <p:spPr>
          <a:xfrm>
            <a:off x="7346880" y="4237200"/>
            <a:ext cx="1339920" cy="1608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Broker.jpg"/>
          <p:cNvPicPr/>
          <p:nvPr/>
        </p:nvPicPr>
        <p:blipFill>
          <a:blip r:embed="rId4"/>
          <a:stretch/>
        </p:blipFill>
        <p:spPr>
          <a:xfrm>
            <a:off x="2236680" y="4799160"/>
            <a:ext cx="1679760" cy="11160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1167120" y="593244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……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o watch your languag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The big picture challen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05" name="Diagram 3" descr=""/>
          <p:cNvPicPr/>
          <p:nvPr/>
        </p:nvPicPr>
        <p:blipFill>
          <a:blip r:embed="rId1"/>
          <a:stretch/>
        </p:blipFill>
        <p:spPr>
          <a:xfrm>
            <a:off x="853920" y="2511360"/>
            <a:ext cx="73821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752120"/>
            <a:ext cx="853416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The CD Quality Criteria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Offers guidance on how on to apply good practice in supporting capacity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0821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409" name="Group 1"/>
          <p:cNvGrpSpPr/>
          <p:nvPr/>
        </p:nvGrpSpPr>
        <p:grpSpPr>
          <a:xfrm>
            <a:off x="1111320" y="1828800"/>
            <a:ext cx="7057800" cy="4713120"/>
            <a:chOff x="1111320" y="1828800"/>
            <a:chExt cx="7057800" cy="4713120"/>
          </a:xfrm>
        </p:grpSpPr>
        <p:grpSp>
          <p:nvGrpSpPr>
            <p:cNvPr id="410" name="Group 42"/>
            <p:cNvGrpSpPr/>
            <p:nvPr/>
          </p:nvGrpSpPr>
          <p:grpSpPr>
            <a:xfrm>
              <a:off x="3066480" y="2885040"/>
              <a:ext cx="3289680" cy="3295800"/>
              <a:chOff x="3066480" y="2885040"/>
              <a:chExt cx="3289680" cy="3295800"/>
            </a:xfrm>
          </p:grpSpPr>
          <p:grpSp>
            <p:nvGrpSpPr>
              <p:cNvPr id="411" name="Group 41"/>
              <p:cNvGrpSpPr/>
              <p:nvPr/>
            </p:nvGrpSpPr>
            <p:grpSpPr>
              <a:xfrm>
                <a:off x="3066480" y="2885040"/>
                <a:ext cx="3289680" cy="3295800"/>
                <a:chOff x="3066480" y="2885040"/>
                <a:chExt cx="3289680" cy="3295800"/>
              </a:xfrm>
            </p:grpSpPr>
            <p:sp>
              <p:nvSpPr>
                <p:cNvPr id="412" name="AutoShape 6"/>
                <p:cNvSpPr/>
                <p:nvPr/>
              </p:nvSpPr>
              <p:spPr>
                <a:xfrm rot="18850800">
                  <a:off x="3472560" y="3443040"/>
                  <a:ext cx="2477160" cy="2179800"/>
                </a:xfrm>
                <a:custGeom>
                  <a:avLst/>
                  <a:gdLst>
                    <a:gd name="textAreaLeft" fmla="*/ 619920 w 2477160"/>
                    <a:gd name="textAreaRight" fmla="*/ 1857240 w 2477160"/>
                    <a:gd name="textAreaTop" fmla="*/ 546120 h 2179800"/>
                    <a:gd name="textAreaBottom" fmla="*/ 1633680 h 217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5400"/>
                      </a:moveTo>
                      <a:lnTo>
                        <a:pt x="9450" y="5400"/>
                      </a:lnTo>
                      <a:lnTo>
                        <a:pt x="9450" y="2700"/>
                      </a:lnTo>
                      <a:lnTo>
                        <a:pt x="8100" y="2700"/>
                      </a:lnTo>
                      <a:lnTo>
                        <a:pt x="10800" y="0"/>
                      </a:lnTo>
                      <a:lnTo>
                        <a:pt x="13500" y="2700"/>
                      </a:lnTo>
                      <a:lnTo>
                        <a:pt x="12150" y="2700"/>
                      </a:lnTo>
                      <a:lnTo>
                        <a:pt x="12150" y="5400"/>
                      </a:lnTo>
                      <a:lnTo>
                        <a:pt x="16200" y="5400"/>
                      </a:lnTo>
                      <a:lnTo>
                        <a:pt x="16200" y="9450"/>
                      </a:lnTo>
                      <a:lnTo>
                        <a:pt x="18900" y="9450"/>
                      </a:lnTo>
                      <a:lnTo>
                        <a:pt x="18900" y="8100"/>
                      </a:lnTo>
                      <a:lnTo>
                        <a:pt x="21600" y="10800"/>
                      </a:lnTo>
                      <a:lnTo>
                        <a:pt x="18900" y="13500"/>
                      </a:lnTo>
                      <a:lnTo>
                        <a:pt x="18900" y="12150"/>
                      </a:lnTo>
                      <a:lnTo>
                        <a:pt x="16200" y="12150"/>
                      </a:lnTo>
                      <a:lnTo>
                        <a:pt x="16200" y="16200"/>
                      </a:lnTo>
                      <a:lnTo>
                        <a:pt x="12150" y="16200"/>
                      </a:lnTo>
                      <a:lnTo>
                        <a:pt x="12150" y="18900"/>
                      </a:lnTo>
                      <a:lnTo>
                        <a:pt x="13500" y="18900"/>
                      </a:lnTo>
                      <a:lnTo>
                        <a:pt x="10800" y="21600"/>
                      </a:lnTo>
                      <a:lnTo>
                        <a:pt x="8100" y="18900"/>
                      </a:lnTo>
                      <a:lnTo>
                        <a:pt x="9450" y="18900"/>
                      </a:lnTo>
                      <a:lnTo>
                        <a:pt x="9450" y="16200"/>
                      </a:lnTo>
                      <a:lnTo>
                        <a:pt x="5400" y="16200"/>
                      </a:lnTo>
                      <a:lnTo>
                        <a:pt x="5400" y="12150"/>
                      </a:lnTo>
                      <a:lnTo>
                        <a:pt x="2700" y="12150"/>
                      </a:lnTo>
                      <a:lnTo>
                        <a:pt x="2700" y="13500"/>
                      </a:lnTo>
                      <a:lnTo>
                        <a:pt x="0" y="10800"/>
                      </a:lnTo>
                      <a:lnTo>
                        <a:pt x="2700" y="8100"/>
                      </a:lnTo>
                      <a:lnTo>
                        <a:pt x="2700" y="9450"/>
                      </a:lnTo>
                      <a:lnTo>
                        <a:pt x="5400" y="9450"/>
                      </a:lnTo>
                      <a:lnTo>
                        <a:pt x="5400" y="540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413" name="AutoShape 6"/>
                <p:cNvSpPr/>
                <p:nvPr/>
              </p:nvSpPr>
              <p:spPr>
                <a:xfrm>
                  <a:off x="3555360" y="3435480"/>
                  <a:ext cx="2322000" cy="2196720"/>
                </a:xfrm>
                <a:custGeom>
                  <a:avLst/>
                  <a:gdLst>
                    <a:gd name="textAreaLeft" fmla="*/ 581040 w 2322000"/>
                    <a:gd name="textAreaRight" fmla="*/ 1740960 w 2322000"/>
                    <a:gd name="textAreaTop" fmla="*/ 549360 h 2196720"/>
                    <a:gd name="textAreaBottom" fmla="*/ 1647360 h 21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5400"/>
                      </a:moveTo>
                      <a:lnTo>
                        <a:pt x="9450" y="5400"/>
                      </a:lnTo>
                      <a:lnTo>
                        <a:pt x="9450" y="2700"/>
                      </a:lnTo>
                      <a:lnTo>
                        <a:pt x="8100" y="2700"/>
                      </a:lnTo>
                      <a:lnTo>
                        <a:pt x="10800" y="0"/>
                      </a:lnTo>
                      <a:lnTo>
                        <a:pt x="13500" y="2700"/>
                      </a:lnTo>
                      <a:lnTo>
                        <a:pt x="12150" y="2700"/>
                      </a:lnTo>
                      <a:lnTo>
                        <a:pt x="12150" y="5400"/>
                      </a:lnTo>
                      <a:lnTo>
                        <a:pt x="16200" y="5400"/>
                      </a:lnTo>
                      <a:lnTo>
                        <a:pt x="16200" y="9450"/>
                      </a:lnTo>
                      <a:lnTo>
                        <a:pt x="18900" y="9450"/>
                      </a:lnTo>
                      <a:lnTo>
                        <a:pt x="18900" y="8100"/>
                      </a:lnTo>
                      <a:lnTo>
                        <a:pt x="21600" y="10800"/>
                      </a:lnTo>
                      <a:lnTo>
                        <a:pt x="18900" y="13500"/>
                      </a:lnTo>
                      <a:lnTo>
                        <a:pt x="18900" y="12150"/>
                      </a:lnTo>
                      <a:lnTo>
                        <a:pt x="16200" y="12150"/>
                      </a:lnTo>
                      <a:lnTo>
                        <a:pt x="16200" y="16200"/>
                      </a:lnTo>
                      <a:lnTo>
                        <a:pt x="12150" y="16200"/>
                      </a:lnTo>
                      <a:lnTo>
                        <a:pt x="12150" y="18900"/>
                      </a:lnTo>
                      <a:lnTo>
                        <a:pt x="13500" y="18900"/>
                      </a:lnTo>
                      <a:lnTo>
                        <a:pt x="10800" y="21600"/>
                      </a:lnTo>
                      <a:lnTo>
                        <a:pt x="8100" y="18900"/>
                      </a:lnTo>
                      <a:lnTo>
                        <a:pt x="9450" y="18900"/>
                      </a:lnTo>
                      <a:lnTo>
                        <a:pt x="9450" y="16200"/>
                      </a:lnTo>
                      <a:lnTo>
                        <a:pt x="5400" y="16200"/>
                      </a:lnTo>
                      <a:lnTo>
                        <a:pt x="5400" y="12150"/>
                      </a:lnTo>
                      <a:lnTo>
                        <a:pt x="2700" y="12150"/>
                      </a:lnTo>
                      <a:lnTo>
                        <a:pt x="2700" y="13500"/>
                      </a:lnTo>
                      <a:lnTo>
                        <a:pt x="0" y="10800"/>
                      </a:lnTo>
                      <a:lnTo>
                        <a:pt x="2700" y="8100"/>
                      </a:lnTo>
                      <a:lnTo>
                        <a:pt x="2700" y="9450"/>
                      </a:lnTo>
                      <a:lnTo>
                        <a:pt x="5400" y="9450"/>
                      </a:lnTo>
                      <a:lnTo>
                        <a:pt x="5400" y="540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14" name="Oval 8"/>
              <p:cNvSpPr/>
              <p:nvPr/>
            </p:nvSpPr>
            <p:spPr>
              <a:xfrm>
                <a:off x="3954240" y="3720600"/>
                <a:ext cx="1551240" cy="1632960"/>
              </a:xfrm>
              <a:prstGeom prst="ellipse">
                <a:avLst/>
              </a:prstGeom>
              <a:solidFill>
                <a:srgbClr val="ebf5f5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Verdana"/>
                  </a:rPr>
                  <a:t>Quality EC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Verdana"/>
                  </a:rPr>
                  <a:t>Capacity 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cc0000"/>
                    </a:solidFill>
                    <a:latin typeface="Verdana"/>
                  </a:rPr>
                  <a:t>Development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15" name="AutoShape 10"/>
            <p:cNvSpPr/>
            <p:nvPr/>
          </p:nvSpPr>
          <p:spPr>
            <a:xfrm>
              <a:off x="5953680" y="2635920"/>
              <a:ext cx="2201760" cy="144504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2.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800000"/>
                  </a:solidFill>
                  <a:latin typeface="Verdana"/>
                </a:rPr>
                <a:t>Adequate demand, and ownership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6" name="AutoShape 12"/>
            <p:cNvSpPr/>
            <p:nvPr/>
          </p:nvSpPr>
          <p:spPr>
            <a:xfrm>
              <a:off x="3612960" y="1828800"/>
              <a:ext cx="1998720" cy="143820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1.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Fit to the context and existing capacity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7" name="AutoShape 13"/>
            <p:cNvSpPr/>
            <p:nvPr/>
          </p:nvSpPr>
          <p:spPr>
            <a:xfrm>
              <a:off x="1339560" y="4896720"/>
              <a:ext cx="1997280" cy="164520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4.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8" name="AutoShape 15"/>
            <p:cNvSpPr/>
            <p:nvPr/>
          </p:nvSpPr>
          <p:spPr>
            <a:xfrm>
              <a:off x="5621760" y="4971960"/>
              <a:ext cx="2547360" cy="149508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3. 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Clear link to results and outcomes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419" name="AutoShape 12"/>
            <p:cNvSpPr/>
            <p:nvPr/>
          </p:nvSpPr>
          <p:spPr>
            <a:xfrm>
              <a:off x="1111320" y="3022560"/>
              <a:ext cx="2225520" cy="1138680"/>
            </a:xfrm>
            <a:prstGeom prst="roundRect">
              <a:avLst>
                <a:gd name="adj" fmla="val 1113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5.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Appropriate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  <a:p>
              <a:pPr marL="182520" indent="-792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Verdana"/>
                </a:rPr>
                <a:t>PIAs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420" name="Rectangle 13"/>
          <p:cNvSpPr/>
          <p:nvPr/>
        </p:nvSpPr>
        <p:spPr>
          <a:xfrm>
            <a:off x="1257480" y="5487840"/>
            <a:ext cx="216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7920"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Harmonized suppor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Cross 3"/>
          <p:cNvSpPr/>
          <p:nvPr/>
        </p:nvSpPr>
        <p:spPr>
          <a:xfrm>
            <a:off x="3984480" y="1501920"/>
            <a:ext cx="914400" cy="91440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Capacity Development in EU Cooper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key driver of aid and development effectiveness: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aris to Busa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central theme shaping the way the EU provides development assistance, address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Agenda for Chang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feature of most if not all projects and programmes – much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more than TC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distinct area of work or a key cross-cutting theme?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Primary or complementary action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Support for Capacity Developmen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43000" y="1752120"/>
            <a:ext cx="8702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Quality criteria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ffer guidance on how to apply good practice for supporting capacity developmen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pplying quality criteria raises questions for the EU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What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expertise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does it require?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What scope to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adapt procedur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o realities on the ground?  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How to manage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trade-off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08000"/>
                </a:solidFill>
                <a:latin typeface="Verdana"/>
              </a:rPr>
              <a:t>-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investing in complex and long CD process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short-term expectations for quick concrete results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meeting disbursement target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973760" y="3645000"/>
            <a:ext cx="3419280" cy="1944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95280" y="1980720"/>
            <a:ext cx="82915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h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EC has developed tools for monitoring the quality of implementation, which provide the framework for good desig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 QSG (Quality Gr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 ROM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he annual EAM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2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AC evalu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e novelty of the EC approach lies in translating the Aid Effectiveness principles into quality criteria to be mainstreamed into the EC Project Cycle and be monitored regularl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b4377"/>
                </a:solidFill>
                <a:latin typeface="Verdana"/>
              </a:rPr>
              <a:t>How the QC are applied in PCM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FF0-8091-478D-9231-54483594E9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D844-5965-4E97-97D4-F2442ED71B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d4b83"/>
                </a:solidFill>
                <a:latin typeface="Verdana"/>
              </a:rPr>
              <a:t>Definition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Content Placeholder 2" descr=""/>
          <p:cNvPicPr/>
          <p:nvPr/>
        </p:nvPicPr>
        <p:blipFill>
          <a:blip r:embed="rId1"/>
          <a:stretch/>
        </p:blipFill>
        <p:spPr>
          <a:xfrm>
            <a:off x="493560" y="1828800"/>
            <a:ext cx="8442360" cy="4925880"/>
          </a:xfrm>
          <a:prstGeom prst="rect">
            <a:avLst/>
          </a:prstGeom>
          <a:ln w="0">
            <a:noFill/>
          </a:ln>
        </p:spPr>
      </p:pic>
      <p:sp>
        <p:nvSpPr>
          <p:cNvPr id="149" name="Explosion 2 4"/>
          <p:cNvSpPr/>
          <p:nvPr/>
        </p:nvSpPr>
        <p:spPr>
          <a:xfrm>
            <a:off x="2514600" y="2743200"/>
            <a:ext cx="914400" cy="30492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Explosion 2 5"/>
          <p:cNvSpPr/>
          <p:nvPr/>
        </p:nvSpPr>
        <p:spPr>
          <a:xfrm>
            <a:off x="3429000" y="2895480"/>
            <a:ext cx="457200" cy="15264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xplosion 2 6"/>
          <p:cNvSpPr/>
          <p:nvPr/>
        </p:nvSpPr>
        <p:spPr>
          <a:xfrm>
            <a:off x="2514600" y="274320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Cloud Callout 7"/>
          <p:cNvSpPr/>
          <p:nvPr/>
        </p:nvSpPr>
        <p:spPr>
          <a:xfrm>
            <a:off x="2438280" y="2819520"/>
            <a:ext cx="914400" cy="612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Cloud Callout 8"/>
          <p:cNvSpPr/>
          <p:nvPr/>
        </p:nvSpPr>
        <p:spPr>
          <a:xfrm>
            <a:off x="2666880" y="2743200"/>
            <a:ext cx="1371600" cy="5335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ff6600">
              <a:alpha val="3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914040"/>
            <a:ext cx="3414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Conceptual Mode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0080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008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hat is Capacit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What is Capacity?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apacity Level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Capacity For What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Elements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0148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Capacity Level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5" name="Content Placeholder 3" descr=""/>
          <p:cNvPicPr/>
          <p:nvPr/>
        </p:nvPicPr>
        <p:blipFill>
          <a:blip r:embed="rId1"/>
          <a:stretch/>
        </p:blipFill>
        <p:spPr>
          <a:xfrm>
            <a:off x="219240" y="2305080"/>
            <a:ext cx="8742240" cy="4211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3481920" y="21636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Lev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6790680" y="214308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Areas (examples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ounded Rectangle 1"/>
          <p:cNvSpPr/>
          <p:nvPr/>
        </p:nvSpPr>
        <p:spPr>
          <a:xfrm>
            <a:off x="0" y="1600200"/>
            <a:ext cx="9144000" cy="502920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SECTOR CAPACIT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8058240" y="3581280"/>
            <a:ext cx="1085760" cy="11448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7010280" y="3581280"/>
            <a:ext cx="106704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943600" y="3581280"/>
            <a:ext cx="1084320" cy="106848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219320" y="1752480"/>
            <a:ext cx="4647960" cy="4496040"/>
          </a:xfrm>
          <a:prstGeom prst="ellipse">
            <a:avLst/>
          </a:prstGeom>
          <a:solidFill>
            <a:srgbClr val="ff6600">
              <a:alpha val="3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0" y="3505320"/>
            <a:ext cx="1143000" cy="11430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762120" y="5105520"/>
            <a:ext cx="990360" cy="914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Oval 6"/>
          <p:cNvSpPr/>
          <p:nvPr/>
        </p:nvSpPr>
        <p:spPr>
          <a:xfrm rot="20901600">
            <a:off x="291600" y="5837400"/>
            <a:ext cx="938520" cy="72684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0" y="4648320"/>
            <a:ext cx="914400" cy="752400"/>
          </a:xfrm>
          <a:prstGeom prst="ellipse">
            <a:avLst/>
          </a:prstGeom>
          <a:solidFill>
            <a:srgbClr val="339966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8" name="Straight Arrow Connector 28"/>
          <p:cNvCxnSpPr/>
          <p:nvPr/>
        </p:nvCxnSpPr>
        <p:spPr>
          <a:xfrm>
            <a:off x="761760" y="1981080"/>
            <a:ext cx="610200" cy="534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9" name="Regular Pentagon 29"/>
          <p:cNvSpPr/>
          <p:nvPr/>
        </p:nvSpPr>
        <p:spPr>
          <a:xfrm>
            <a:off x="4495680" y="2971800"/>
            <a:ext cx="53352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Regular Pentagon 30"/>
          <p:cNvSpPr/>
          <p:nvPr/>
        </p:nvSpPr>
        <p:spPr>
          <a:xfrm>
            <a:off x="1905120" y="3048120"/>
            <a:ext cx="53316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Regular Pentagon 31"/>
          <p:cNvSpPr/>
          <p:nvPr/>
        </p:nvSpPr>
        <p:spPr>
          <a:xfrm>
            <a:off x="2514600" y="2057400"/>
            <a:ext cx="53352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Regular Pentagon 32"/>
          <p:cNvSpPr/>
          <p:nvPr/>
        </p:nvSpPr>
        <p:spPr>
          <a:xfrm>
            <a:off x="2514600" y="4495680"/>
            <a:ext cx="533520" cy="60984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Regular Pentagon 33"/>
          <p:cNvSpPr/>
          <p:nvPr/>
        </p:nvSpPr>
        <p:spPr>
          <a:xfrm>
            <a:off x="4495680" y="4343400"/>
            <a:ext cx="533520" cy="609480"/>
          </a:xfrm>
          <a:prstGeom prst="pentagon">
            <a:avLst/>
          </a:prstGeom>
          <a:solidFill>
            <a:srgbClr val="ff6600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Isosceles Triangle 34"/>
          <p:cNvSpPr/>
          <p:nvPr/>
        </p:nvSpPr>
        <p:spPr>
          <a:xfrm>
            <a:off x="4905360" y="3211560"/>
            <a:ext cx="824040" cy="8240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Isosceles Triangle 35"/>
          <p:cNvSpPr/>
          <p:nvPr/>
        </p:nvSpPr>
        <p:spPr>
          <a:xfrm>
            <a:off x="5715000" y="4038480"/>
            <a:ext cx="1060560" cy="9144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Isosceles Triangle 36"/>
          <p:cNvSpPr/>
          <p:nvPr/>
        </p:nvSpPr>
        <p:spPr>
          <a:xfrm>
            <a:off x="1752480" y="3886200"/>
            <a:ext cx="533520" cy="60948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Isosceles Triangle 37"/>
          <p:cNvSpPr/>
          <p:nvPr/>
        </p:nvSpPr>
        <p:spPr>
          <a:xfrm>
            <a:off x="3809880" y="2057400"/>
            <a:ext cx="533520" cy="60948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Isosceles Triangle 38"/>
          <p:cNvSpPr/>
          <p:nvPr/>
        </p:nvSpPr>
        <p:spPr>
          <a:xfrm>
            <a:off x="3733920" y="4952880"/>
            <a:ext cx="533160" cy="60984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Isosceles Triangle 39"/>
          <p:cNvSpPr/>
          <p:nvPr/>
        </p:nvSpPr>
        <p:spPr>
          <a:xfrm>
            <a:off x="2971800" y="3200400"/>
            <a:ext cx="533520" cy="609480"/>
          </a:xfrm>
          <a:prstGeom prst="triangle">
            <a:avLst>
              <a:gd name="adj" fmla="val 50000"/>
            </a:avLst>
          </a:prstGeom>
          <a:solidFill>
            <a:srgbClr val="2d5ec1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Rounded Rectangle 40"/>
          <p:cNvSpPr/>
          <p:nvPr/>
        </p:nvSpPr>
        <p:spPr>
          <a:xfrm>
            <a:off x="2057400" y="25909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41"/>
          <p:cNvSpPr/>
          <p:nvPr/>
        </p:nvSpPr>
        <p:spPr>
          <a:xfrm>
            <a:off x="3657600" y="4114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Rounded Rectangle 42"/>
          <p:cNvSpPr/>
          <p:nvPr/>
        </p:nvSpPr>
        <p:spPr>
          <a:xfrm>
            <a:off x="2438280" y="53341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Rounded Rectangle 43"/>
          <p:cNvSpPr/>
          <p:nvPr/>
        </p:nvSpPr>
        <p:spPr>
          <a:xfrm>
            <a:off x="3809880" y="31240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Organisations, Sectors, Networ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8:05:14Z</dcterms:created>
  <dc:creator>turneem</dc:creator>
  <dc:description/>
  <dc:language>en-US</dc:language>
  <cp:lastModifiedBy>DI PILLO Daniele (DEVCO)</cp:lastModifiedBy>
  <dcterms:modified xsi:type="dcterms:W3CDTF">2013-10-22T13:09:22Z</dcterms:modified>
  <cp:revision>198</cp:revision>
  <dc:subject/>
  <dc:title>Slide 1</dc:title>
</cp:coreProperties>
</file>