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666-07BB-4F08-B343-053A8B2608F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FFBD-1F5D-408B-9602-36A63DD25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2EE-1692-4944-BCB1-5D8A6411C47B}" type="slidenum">
              <a:rPr b="0" lang="en-GB" sz="1200" spc="-1" strike="noStrike">
                <a:solidFill>
                  <a:srgbClr val="0f5494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DA0-5FF4-478A-81BA-F446FE00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3FA8-76C4-485E-B812-5684C8E59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C2DB-36F5-40E7-8E55-8799885F9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79CD-5444-4BB4-BCE4-7065F4DE1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128-7868-42DD-BD49-9C3322693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582A-0A7F-4E5C-A1F8-AC056A498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4A7-1036-41B6-AEB4-CA0288E5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A5E-7747-4ACF-B370-A4D127CE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657-6EBD-4C68-857D-833618CD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094-920E-425E-A5D6-D74647CA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2F90-05DD-4807-B8F6-8996AA0B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E850-528E-4D59-A2D6-2520C6B1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BF13-3F94-4546-BA88-BF933540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71FD-A91D-4F2D-B00D-0049B12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801A-D56A-4883-A32C-8150089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CF1D-4782-41C2-B21A-24432356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3978-1E5F-43A6-8117-78BF77A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638-5516-44A3-8AC8-7F152B25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6ED7-5401-43C5-8418-BF7E5A2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BC14-9F4F-46FC-9F13-E7D77B65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F541-C8B3-4D4C-9887-F9352E08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4255-D664-4FD6-AC0E-D642BCCC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C6BB-2BD3-4D20-AB1F-EDF04F40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05A8-9ED9-431D-BB45-60507AF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AD1E9-8627-4023-8444-22051659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5B8A1-F8C9-4A62-A103-9606F3AE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99C54-FD4C-47B9-83F8-F715295D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8A75-3241-41F4-B35E-ED5C946D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B1B-2181-4C64-BA79-872EC0CB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6749-1C4E-4D2A-A81C-89E21B8B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D54BA-9C30-4532-A9FC-21FEA00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CA60-14A8-41E8-82C3-C307D61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C2F4-1C6A-4BF9-BDC1-74989A2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0EDA-1831-4953-801F-8938CB0A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4D8D-8C31-48BB-B58B-DAA6FBD6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D3B2-9DF2-4CFE-B01C-07E1132E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501-DFEF-418E-B544-D51AC8DC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1C4-3575-4779-9C3C-28D7E502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CAC-F4E2-4BFB-96A5-8CFA34A8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756-75D3-4913-A9D9-A0B0550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E23-0B47-4811-8C14-8EF95327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A61-1EE8-4E78-AEE3-72D2081F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1894-2A3B-4288-B6ED-A1A3557B3D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D8AF-BC83-4932-BF02-0988281CE7A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D3C3-868E-460C-A228-549418B9A981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BF46-7C75-40D0-B1BC-7F81F14D66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94D-9FE7-4793-A637-8629219F428B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14280" y="3428640"/>
            <a:ext cx="7088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dule 6: 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ear link to results and monitoring of capacity development 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1" name="Picture 5" descr="eu_flag 2"/>
          <p:cNvPicPr/>
          <p:nvPr/>
        </p:nvPicPr>
        <p:blipFill>
          <a:blip r:embed="rId1"/>
          <a:stretch/>
        </p:blipFill>
        <p:spPr>
          <a:xfrm>
            <a:off x="7308720" y="6021360"/>
            <a:ext cx="1001880" cy="666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403280" y="1700280"/>
            <a:ext cx="61722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Effective 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Capacity Development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From Theory to Practic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360" y="1363680"/>
            <a:ext cx="2774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essage 1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Be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realistic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about what can be achieved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veloping capacity is in most cases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harder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to achieve and support than envisag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D and support processes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ake longer time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an envisag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D support only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ffective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en aligned to partner’s reform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ink carefully about the change process required to achieve desired results; is it simple, complicated, complex (next modul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1" name="Picture 1" descr="Message.jpg"/>
          <p:cNvPicPr/>
          <p:nvPr/>
        </p:nvPicPr>
        <p:blipFill>
          <a:blip r:embed="rId1"/>
          <a:stretch/>
        </p:blipFill>
        <p:spPr>
          <a:xfrm>
            <a:off x="7705800" y="1095480"/>
            <a:ext cx="12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339920"/>
            <a:ext cx="32259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essage 2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0512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Avoid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over-specifying result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give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complexity/uncertainty of many CD process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 to be able to bargain and re-strategise along the way…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ing needs arise from lag between design &amp; implement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erfect knowledge when enter the proc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e clear on what you want to achieve, leave space to determine how you get there (programme estimates?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4" name="Picture 3" descr="Message.jpg"/>
          <p:cNvPicPr/>
          <p:nvPr/>
        </p:nvPicPr>
        <p:blipFill>
          <a:blip r:embed="rId1"/>
          <a:stretch/>
        </p:blipFill>
        <p:spPr>
          <a:xfrm>
            <a:off x="7705800" y="1095480"/>
            <a:ext cx="1293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E23E-FFD8-4908-AEB1-8E6D5179E01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Guiding questions for formulating 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capacity resul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2209680"/>
            <a:ext cx="85010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Who or wha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organisation, target group, sector, etc.) needs capacity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is the capacity needed – for what purpose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What type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f capacity is needed in order to achieve the purpose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xt and Capacity Assessment  (QC1)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= key sources of information in formulating capacity resul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Quality of dialogue and level of ownership (QC2)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d change readiness will influence what can be realistically achiev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27400" indent="-202680"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Remember…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s i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not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bout specifying outputs of external assistanc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e results chain firmly belongs to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ost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sector/ agenc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e role of external assistance comes later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1" descr="Lightning.jpg"/>
          <p:cNvPicPr/>
          <p:nvPr/>
        </p:nvPicPr>
        <p:blipFill>
          <a:blip r:embed="rId1"/>
          <a:stretch/>
        </p:blipFill>
        <p:spPr>
          <a:xfrm>
            <a:off x="7292880" y="995400"/>
            <a:ext cx="161460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Exercise:</a:t>
            </a: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3360" y="2381400"/>
            <a:ext cx="85042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ake the partner country CD results chain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what are the changes in capacity aimed for)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D outco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D output(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rganisational/Sector Capacity resul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D process resul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D inpu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en-GB" sz="2200" spc="-1" strike="noStrike">
                <a:solidFill>
                  <a:srgbClr val="0f5494"/>
                </a:solidFill>
                <a:latin typeface="Verdana"/>
              </a:rPr>
              <a:t>Part 2: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Monitoring Capacity Processes and Results</a:t>
            </a:r>
            <a:br>
              <a:rPr sz="2200"/>
            </a:b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05740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onitoring focuses primarily on the processes, organisation and outputs of capacity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valuation pays more attention on the CD results produced and their effect on outcomes and impac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&amp;E framework is the flip side of the results framework and should be developed AT THE SAME TI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SENTIAL: M&amp;E is the basis for lessons learning and the justification for changing project structure</a:t>
            </a:r>
            <a:r>
              <a:rPr b="0" i="1" lang="en-US" sz="20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28"/>
          <p:cNvSpPr/>
          <p:nvPr/>
        </p:nvSpPr>
        <p:spPr>
          <a:xfrm rot="21057000">
            <a:off x="474480" y="2541240"/>
            <a:ext cx="4740120" cy="3179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Oval 22"/>
          <p:cNvSpPr/>
          <p:nvPr/>
        </p:nvSpPr>
        <p:spPr>
          <a:xfrm rot="21057000">
            <a:off x="706320" y="1771560"/>
            <a:ext cx="7971120" cy="388296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25600" y="1170000"/>
            <a:ext cx="2876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M  and  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38" name="Group 29"/>
          <p:cNvGrpSpPr/>
          <p:nvPr/>
        </p:nvGrpSpPr>
        <p:grpSpPr>
          <a:xfrm>
            <a:off x="757080" y="2889360"/>
            <a:ext cx="7780320" cy="2925720"/>
            <a:chOff x="757080" y="2889360"/>
            <a:chExt cx="7780320" cy="2925720"/>
          </a:xfrm>
        </p:grpSpPr>
        <p:sp>
          <p:nvSpPr>
            <p:cNvPr id="239" name="Oval 6"/>
            <p:cNvSpPr/>
            <p:nvPr/>
          </p:nvSpPr>
          <p:spPr>
            <a:xfrm>
              <a:off x="1379520" y="4978440"/>
              <a:ext cx="934920" cy="836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CD support</a:t>
              </a:r>
              <a:r>
                <a:rPr b="1" lang="da-DK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2224080" y="4245120"/>
              <a:ext cx="1398600" cy="146196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 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CD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processes</a:t>
              </a:r>
              <a:r>
                <a:rPr b="1" lang="en-GB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757080" y="3097440"/>
              <a:ext cx="1711440" cy="16700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Recurrent in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2468520" y="2889360"/>
              <a:ext cx="1865160" cy="1881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Organisational/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Sector Capacity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4335120" y="3097440"/>
              <a:ext cx="1401840" cy="146196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Out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4" name="Oval 11"/>
            <p:cNvSpPr/>
            <p:nvPr/>
          </p:nvSpPr>
          <p:spPr>
            <a:xfrm>
              <a:off x="5735520" y="3097440"/>
              <a:ext cx="1400040" cy="146196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Outcome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5" name="Oval 12"/>
            <p:cNvSpPr/>
            <p:nvPr/>
          </p:nvSpPr>
          <p:spPr>
            <a:xfrm>
              <a:off x="7135560" y="3097440"/>
              <a:ext cx="1401840" cy="146196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Wider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mpact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6" name="Oval 13"/>
            <p:cNvSpPr/>
            <p:nvPr/>
          </p:nvSpPr>
          <p:spPr>
            <a:xfrm>
              <a:off x="1309680" y="4130640"/>
              <a:ext cx="931680" cy="8352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nternal resour-ces </a:t>
              </a:r>
              <a:endParaRPr b="0" lang="en-US" sz="13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 flipV="1">
              <a:off x="2157120" y="4978440"/>
              <a:ext cx="311400" cy="2095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 flipV="1">
              <a:off x="3090600" y="4141800"/>
              <a:ext cx="311400" cy="2095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2001600" y="4560840"/>
              <a:ext cx="466920" cy="21132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50" name="Line 17"/>
            <p:cNvSpPr/>
            <p:nvPr/>
          </p:nvSpPr>
          <p:spPr>
            <a:xfrm>
              <a:off x="2312640" y="3934080"/>
              <a:ext cx="466920" cy="144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360" bIns="-936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6824520" y="3934080"/>
              <a:ext cx="466560" cy="144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360" bIns="-936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5424480" y="3934080"/>
              <a:ext cx="465120" cy="144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360" bIns="-936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53" name="Line 20"/>
            <p:cNvSpPr/>
            <p:nvPr/>
          </p:nvSpPr>
          <p:spPr>
            <a:xfrm>
              <a:off x="4024080" y="3934080"/>
              <a:ext cx="466920" cy="144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9360" bIns="-936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54" name="Text Box 24"/>
          <p:cNvSpPr/>
          <p:nvPr/>
        </p:nvSpPr>
        <p:spPr>
          <a:xfrm>
            <a:off x="4573440" y="479736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Verdana"/>
              </a:rPr>
              <a:t>Primary focus of evaluation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2844720" y="4365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Primary focus of monitoring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-4680" y="0"/>
            <a:ext cx="46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Monitoring Changes in Capacity </a:t>
            </a:r>
            <a:br>
              <a:rPr sz="27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25909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urpose is to track changes in capacity over time both for learning and accountabil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n be done by looking at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organisational/ sect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utput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and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hanges in organisational/ secto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apac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0773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hanges in Organisational/ Sector 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Outpu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826920" y="1989000"/>
            <a:ext cx="7848720" cy="4307040"/>
            <a:chOff x="826920" y="1989000"/>
            <a:chExt cx="7848720" cy="4307040"/>
          </a:xfrm>
        </p:grpSpPr>
        <p:sp>
          <p:nvSpPr>
            <p:cNvPr id="262" name="AutoShape 5"/>
            <p:cNvSpPr/>
            <p:nvPr/>
          </p:nvSpPr>
          <p:spPr>
            <a:xfrm>
              <a:off x="826920" y="1989000"/>
              <a:ext cx="7848720" cy="43070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3" name="Oval 6"/>
            <p:cNvSpPr/>
            <p:nvPr/>
          </p:nvSpPr>
          <p:spPr>
            <a:xfrm>
              <a:off x="1576440" y="5096520"/>
              <a:ext cx="927000" cy="82908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TC support</a:t>
              </a:r>
              <a:r>
                <a:rPr b="1" lang="da-DK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>
              <a:off x="2413800" y="4368960"/>
              <a:ext cx="138672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 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CD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processes</a:t>
              </a:r>
              <a:r>
                <a:rPr b="1" lang="en-GB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5" name="Oval 8"/>
            <p:cNvSpPr/>
            <p:nvPr/>
          </p:nvSpPr>
          <p:spPr>
            <a:xfrm>
              <a:off x="959040" y="3231360"/>
              <a:ext cx="1696680" cy="1655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Recurrent in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6" name="Oval 9"/>
            <p:cNvSpPr/>
            <p:nvPr/>
          </p:nvSpPr>
          <p:spPr>
            <a:xfrm>
              <a:off x="2656080" y="3024720"/>
              <a:ext cx="1850400" cy="18648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  <a:ea typeface="Times New Roman"/>
                </a:rPr>
                <a:t>Capacity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67" name="Oval 10"/>
            <p:cNvGrpSpPr/>
            <p:nvPr/>
          </p:nvGrpSpPr>
          <p:grpSpPr>
            <a:xfrm>
              <a:off x="4346640" y="3144960"/>
              <a:ext cx="1602720" cy="1658160"/>
              <a:chOff x="4346640" y="3144960"/>
              <a:chExt cx="1602720" cy="1658160"/>
            </a:xfrm>
          </p:grpSpPr>
          <p:pic>
            <p:nvPicPr>
              <p:cNvPr id="268" name="Oval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6640" y="3144960"/>
                <a:ext cx="1602720" cy="16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4650840" y="3458880"/>
                <a:ext cx="982440" cy="10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rebuchet MS"/>
                    <a:ea typeface="Times New Roman"/>
                  </a:rPr>
                  <a:t>Outputs</a:t>
                </a:r>
                <a:endParaRPr b="0" lang="en-US" sz="2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70" name="Oval 11"/>
            <p:cNvSpPr/>
            <p:nvPr/>
          </p:nvSpPr>
          <p:spPr>
            <a:xfrm>
              <a:off x="5896080" y="3231360"/>
              <a:ext cx="138960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Outcome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1" name="Oval 12"/>
            <p:cNvSpPr/>
            <p:nvPr/>
          </p:nvSpPr>
          <p:spPr>
            <a:xfrm>
              <a:off x="7284600" y="3231360"/>
              <a:ext cx="139068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Wider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mpact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2" name="Oval 13"/>
            <p:cNvSpPr/>
            <p:nvPr/>
          </p:nvSpPr>
          <p:spPr>
            <a:xfrm>
              <a:off x="1506240" y="4255560"/>
              <a:ext cx="924480" cy="827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nternal resour-ces </a:t>
              </a:r>
              <a:endParaRPr b="0" lang="en-US" sz="13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209680" y="5257440"/>
              <a:ext cx="290160" cy="2574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>
              <a:off x="2971080" y="4473720"/>
              <a:ext cx="302040" cy="3268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 flipV="1">
              <a:off x="2209680" y="4647600"/>
              <a:ext cx="440640" cy="1854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 flipV="1">
              <a:off x="2285280" y="4038120"/>
              <a:ext cx="44496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 flipV="1">
              <a:off x="6857640" y="4038120"/>
              <a:ext cx="65124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5485320" y="4038120"/>
              <a:ext cx="48204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79" name="Line 20"/>
            <p:cNvSpPr/>
            <p:nvPr/>
          </p:nvSpPr>
          <p:spPr>
            <a:xfrm flipH="1" flipV="1">
              <a:off x="4114080" y="4038120"/>
              <a:ext cx="54180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80" name="Text Box 5"/>
          <p:cNvSpPr/>
          <p:nvPr/>
        </p:nvSpPr>
        <p:spPr>
          <a:xfrm flipH="1">
            <a:off x="-15840" y="27000"/>
            <a:ext cx="46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81" name="Right Brace 22" descr=""/>
          <p:cNvPicPr/>
          <p:nvPr/>
        </p:nvPicPr>
        <p:blipFill>
          <a:blip r:embed="rId2"/>
          <a:stretch/>
        </p:blipFill>
        <p:spPr>
          <a:xfrm>
            <a:off x="6016680" y="2243160"/>
            <a:ext cx="2536920" cy="1609560"/>
          </a:xfrm>
          <a:prstGeom prst="rect">
            <a:avLst/>
          </a:prstGeom>
          <a:ln w="0">
            <a:noFill/>
          </a:ln>
        </p:spPr>
      </p:pic>
      <p:pic>
        <p:nvPicPr>
          <p:cNvPr id="282" name="Right Brace 23" descr=""/>
          <p:cNvPicPr/>
          <p:nvPr/>
        </p:nvPicPr>
        <p:blipFill>
          <a:blip r:embed="rId3"/>
          <a:stretch/>
        </p:blipFill>
        <p:spPr>
          <a:xfrm>
            <a:off x="3425760" y="2279520"/>
            <a:ext cx="2206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Changes in organisational/ sector output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livery of products and services as foreseen in results framewor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 helpful proxy indicator but;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Capacity does not translate into performance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Outputs can improve for reasons other than capacity enh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24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cators include: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producer data: services, products,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client / customer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is module discus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666880"/>
            <a:ext cx="82296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to </a:t>
            </a: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define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capacity resul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to </a:t>
            </a: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monitor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capacity resul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1" descr="Evaluation 5.jpg"/>
          <p:cNvPicPr/>
          <p:nvPr/>
        </p:nvPicPr>
        <p:blipFill>
          <a:blip r:embed="rId1"/>
          <a:stretch/>
        </p:blipFill>
        <p:spPr>
          <a:xfrm>
            <a:off x="5173560" y="4273560"/>
            <a:ext cx="3970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0773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hanges in Organisational/ Sector 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826920" y="1989000"/>
            <a:ext cx="7848720" cy="4307040"/>
            <a:chOff x="826920" y="1989000"/>
            <a:chExt cx="7848720" cy="4307040"/>
          </a:xfrm>
        </p:grpSpPr>
        <p:sp>
          <p:nvSpPr>
            <p:cNvPr id="288" name="AutoShape 5"/>
            <p:cNvSpPr/>
            <p:nvPr/>
          </p:nvSpPr>
          <p:spPr>
            <a:xfrm>
              <a:off x="826920" y="1989000"/>
              <a:ext cx="7848720" cy="43070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89" name="Oval 6"/>
            <p:cNvSpPr/>
            <p:nvPr/>
          </p:nvSpPr>
          <p:spPr>
            <a:xfrm>
              <a:off x="1576440" y="5096520"/>
              <a:ext cx="927000" cy="82908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TC support</a:t>
              </a:r>
              <a:r>
                <a:rPr b="1" lang="da-DK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90" name="Oval 7"/>
            <p:cNvSpPr/>
            <p:nvPr/>
          </p:nvSpPr>
          <p:spPr>
            <a:xfrm>
              <a:off x="2413800" y="4368960"/>
              <a:ext cx="138672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 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CD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processes</a:t>
              </a:r>
              <a:r>
                <a:rPr b="1" lang="en-GB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91" name="Oval 8"/>
            <p:cNvSpPr/>
            <p:nvPr/>
          </p:nvSpPr>
          <p:spPr>
            <a:xfrm>
              <a:off x="959040" y="3231360"/>
              <a:ext cx="1696680" cy="1655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Recurrent in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292" name="Oval 9"/>
            <p:cNvGrpSpPr/>
            <p:nvPr/>
          </p:nvGrpSpPr>
          <p:grpSpPr>
            <a:xfrm>
              <a:off x="2547360" y="2913480"/>
              <a:ext cx="2066400" cy="2084760"/>
              <a:chOff x="2547360" y="2913480"/>
              <a:chExt cx="2066400" cy="2084760"/>
            </a:xfrm>
          </p:grpSpPr>
          <p:pic>
            <p:nvPicPr>
              <p:cNvPr id="293" name="Oval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547360" y="2913480"/>
                <a:ext cx="2066400" cy="208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2926440" y="3297600"/>
                <a:ext cx="1308600" cy="13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0000"/>
                    </a:solidFill>
                    <a:latin typeface="Trebuchet MS"/>
                    <a:ea typeface="Times New Roman"/>
                  </a:rPr>
                  <a:t>Capacity</a:t>
                </a:r>
                <a:endParaRPr b="0" lang="en-US" sz="2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95" name="Oval 10"/>
            <p:cNvSpPr/>
            <p:nvPr/>
          </p:nvSpPr>
          <p:spPr>
            <a:xfrm>
              <a:off x="4508280" y="3231360"/>
              <a:ext cx="138960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  <a:ea typeface="Times New Roman"/>
                </a:rPr>
                <a:t>Out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96" name="Oval 11"/>
            <p:cNvSpPr/>
            <p:nvPr/>
          </p:nvSpPr>
          <p:spPr>
            <a:xfrm>
              <a:off x="5896080" y="3231360"/>
              <a:ext cx="138960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Outcome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97" name="Oval 12"/>
            <p:cNvSpPr/>
            <p:nvPr/>
          </p:nvSpPr>
          <p:spPr>
            <a:xfrm>
              <a:off x="7284600" y="3231360"/>
              <a:ext cx="139068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Wider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mpact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1506240" y="4255560"/>
              <a:ext cx="924480" cy="827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nternal resour-ces </a:t>
              </a:r>
              <a:endParaRPr b="0" lang="en-US" sz="13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99" name="Line 14"/>
            <p:cNvSpPr/>
            <p:nvPr/>
          </p:nvSpPr>
          <p:spPr>
            <a:xfrm flipH="1">
              <a:off x="2132640" y="5181480"/>
              <a:ext cx="366840" cy="2574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 flipH="1">
              <a:off x="2895840" y="4473720"/>
              <a:ext cx="377280" cy="3268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 flipH="1" flipV="1">
              <a:off x="2132640" y="4495680"/>
              <a:ext cx="441000" cy="26244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 flipH="1" flipV="1">
              <a:off x="2209320" y="3962160"/>
              <a:ext cx="52164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 flipH="1">
              <a:off x="6933600" y="3962520"/>
              <a:ext cx="498960" cy="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10800" bIns="-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04" name="Line 19"/>
            <p:cNvSpPr/>
            <p:nvPr/>
          </p:nvSpPr>
          <p:spPr>
            <a:xfrm flipH="1" flipV="1">
              <a:off x="5485680" y="3962160"/>
              <a:ext cx="55872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05" name="Line 20"/>
            <p:cNvSpPr/>
            <p:nvPr/>
          </p:nvSpPr>
          <p:spPr>
            <a:xfrm flipH="1" flipV="1">
              <a:off x="4189680" y="4038120"/>
              <a:ext cx="46620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06" name="Text Box 5"/>
          <p:cNvSpPr/>
          <p:nvPr/>
        </p:nvSpPr>
        <p:spPr>
          <a:xfrm flipH="1">
            <a:off x="-15840" y="27000"/>
            <a:ext cx="46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07" name="Right Brace 22" descr=""/>
          <p:cNvPicPr/>
          <p:nvPr/>
        </p:nvPicPr>
        <p:blipFill>
          <a:blip r:embed="rId2"/>
          <a:stretch/>
        </p:blipFill>
        <p:spPr>
          <a:xfrm>
            <a:off x="6016680" y="2243160"/>
            <a:ext cx="2536920" cy="1609560"/>
          </a:xfrm>
          <a:prstGeom prst="rect">
            <a:avLst/>
          </a:prstGeom>
          <a:ln w="0">
            <a:noFill/>
          </a:ln>
        </p:spPr>
      </p:pic>
      <p:pic>
        <p:nvPicPr>
          <p:cNvPr id="308" name="Right Brace 23" descr=""/>
          <p:cNvPicPr/>
          <p:nvPr/>
        </p:nvPicPr>
        <p:blipFill>
          <a:blip r:embed="rId3"/>
          <a:stretch/>
        </p:blipFill>
        <p:spPr>
          <a:xfrm>
            <a:off x="3425760" y="2279520"/>
            <a:ext cx="2206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7529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Changes in organisational/ sector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21337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n be monitored in many ways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Conduct periodic (self) assessments against a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Conduct Assessments that are Peer-based or benchmarked against recognise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01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dicators need to be jointly selected and understood, not impose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oth quantitative and qualitative indicators required to capture both tangible and intangible elements of capac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nsider use of innovative methodologies such as MSC, outcome mapping, and appreciative enquir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Monitoring the Quality of the 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Change Proces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826920" y="1989000"/>
            <a:ext cx="7848720" cy="4307040"/>
            <a:chOff x="826920" y="1989000"/>
            <a:chExt cx="7848720" cy="4307040"/>
          </a:xfrm>
        </p:grpSpPr>
        <p:sp>
          <p:nvSpPr>
            <p:cNvPr id="314" name="AutoShape 5"/>
            <p:cNvSpPr/>
            <p:nvPr/>
          </p:nvSpPr>
          <p:spPr>
            <a:xfrm>
              <a:off x="826920" y="1989000"/>
              <a:ext cx="7848720" cy="43070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15" name="Oval 6"/>
            <p:cNvGrpSpPr/>
            <p:nvPr/>
          </p:nvGrpSpPr>
          <p:grpSpPr>
            <a:xfrm>
              <a:off x="1469160" y="4986720"/>
              <a:ext cx="1145520" cy="1048680"/>
              <a:chOff x="1469160" y="4986720"/>
              <a:chExt cx="1145520" cy="1048680"/>
            </a:xfrm>
          </p:grpSpPr>
          <p:pic>
            <p:nvPicPr>
              <p:cNvPr id="316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9160" y="4986720"/>
                <a:ext cx="1145520" cy="104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1712520" y="5218200"/>
                <a:ext cx="65556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rebuchet MS"/>
                    <a:ea typeface="Times New Roman"/>
                  </a:rPr>
                  <a:t>CD support</a:t>
                </a:r>
                <a:r>
                  <a:rPr b="1" lang="da-DK" sz="1000" spc="-1" strike="noStrike">
                    <a:solidFill>
                      <a:srgbClr val="000000"/>
                    </a:solidFill>
                    <a:latin typeface="Trebuchet MS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grpSp>
          <p:nvGrpSpPr>
            <p:cNvPr id="318" name="Oval 7"/>
            <p:cNvGrpSpPr/>
            <p:nvPr/>
          </p:nvGrpSpPr>
          <p:grpSpPr>
            <a:xfrm>
              <a:off x="2303640" y="4260600"/>
              <a:ext cx="1609200" cy="1670400"/>
              <a:chOff x="2303640" y="4260600"/>
              <a:chExt cx="1609200" cy="1670400"/>
            </a:xfrm>
          </p:grpSpPr>
          <p:pic>
            <p:nvPicPr>
              <p:cNvPr id="319" name="Oval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303640" y="4260600"/>
                <a:ext cx="1609200" cy="167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2616480" y="4581000"/>
                <a:ext cx="980640" cy="10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a-DK" sz="1000" spc="-1" strike="noStrike">
                    <a:solidFill>
                      <a:srgbClr val="0f5494"/>
                    </a:solidFill>
                    <a:latin typeface="Trebuchet MS"/>
                    <a:ea typeface="Times New Roman"/>
                  </a:rPr>
                  <a:t>  </a:t>
                </a:r>
                <a:r>
                  <a:rPr b="1" lang="da-DK" sz="1200" spc="-1" strike="noStrike">
                    <a:solidFill>
                      <a:srgbClr val="000000"/>
                    </a:solidFill>
                    <a:latin typeface="Trebuchet MS"/>
                    <a:ea typeface="Times New Roman"/>
                  </a:rPr>
                  <a:t>CD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Trebuchet MS"/>
                    <a:ea typeface="Times New Roman"/>
                  </a:rPr>
                  <a:t>processes</a:t>
                </a:r>
                <a:r>
                  <a:rPr b="1" lang="en-GB" sz="1000" spc="-1" strike="noStrike">
                    <a:solidFill>
                      <a:srgbClr val="0f5494"/>
                    </a:solidFill>
                    <a:latin typeface="Trebuchet MS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>
              <a:off x="959040" y="3231360"/>
              <a:ext cx="1696680" cy="1655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Recurrent in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2656080" y="3024720"/>
              <a:ext cx="1850400" cy="18648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  <a:ea typeface="Times New Roman"/>
                </a:rPr>
                <a:t>Capacity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4508280" y="3231360"/>
              <a:ext cx="138960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  <a:ea typeface="Times New Roman"/>
                </a:rPr>
                <a:t>Out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24" name="Oval 11"/>
            <p:cNvSpPr/>
            <p:nvPr/>
          </p:nvSpPr>
          <p:spPr>
            <a:xfrm>
              <a:off x="5896080" y="3231360"/>
              <a:ext cx="138960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Outcome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7284600" y="3231360"/>
              <a:ext cx="139068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Wider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mpact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26" name="Oval 13"/>
            <p:cNvGrpSpPr/>
            <p:nvPr/>
          </p:nvGrpSpPr>
          <p:grpSpPr>
            <a:xfrm>
              <a:off x="1395000" y="4145400"/>
              <a:ext cx="1145520" cy="1049040"/>
              <a:chOff x="1395000" y="4145400"/>
              <a:chExt cx="1145520" cy="1049040"/>
            </a:xfrm>
          </p:grpSpPr>
          <p:pic>
            <p:nvPicPr>
              <p:cNvPr id="327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1395000" y="4145400"/>
                <a:ext cx="1145520" cy="104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1640880" y="4377240"/>
                <a:ext cx="653400" cy="58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rebuchet MS"/>
                    <a:ea typeface="Times New Roman"/>
                  </a:rPr>
                  <a:t>Internal resour-ces </a:t>
                </a:r>
                <a:endParaRPr b="0" lang="en-US" sz="13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29" name="Line 14"/>
            <p:cNvSpPr/>
            <p:nvPr/>
          </p:nvSpPr>
          <p:spPr>
            <a:xfrm flipH="1">
              <a:off x="2284920" y="5257440"/>
              <a:ext cx="366840" cy="25740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30" name="Line 15"/>
            <p:cNvSpPr/>
            <p:nvPr/>
          </p:nvSpPr>
          <p:spPr>
            <a:xfrm flipH="1">
              <a:off x="3123720" y="4343040"/>
              <a:ext cx="301680" cy="3268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 flipH="1" flipV="1">
              <a:off x="2057400" y="4571640"/>
              <a:ext cx="517680" cy="26244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 flipV="1">
              <a:off x="2285280" y="4038120"/>
              <a:ext cx="44496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33" name="Line 18"/>
            <p:cNvSpPr/>
            <p:nvPr/>
          </p:nvSpPr>
          <p:spPr>
            <a:xfrm flipH="1" flipV="1">
              <a:off x="7009920" y="4038120"/>
              <a:ext cx="57492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34" name="Line 19"/>
            <p:cNvSpPr/>
            <p:nvPr/>
          </p:nvSpPr>
          <p:spPr>
            <a:xfrm flipH="1" flipV="1">
              <a:off x="5485680" y="4038120"/>
              <a:ext cx="55872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35" name="Line 20"/>
            <p:cNvSpPr/>
            <p:nvPr/>
          </p:nvSpPr>
          <p:spPr>
            <a:xfrm flipH="1" flipV="1">
              <a:off x="4190040" y="4038120"/>
              <a:ext cx="38952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36" name="Text Box 5"/>
          <p:cNvSpPr/>
          <p:nvPr/>
        </p:nvSpPr>
        <p:spPr>
          <a:xfrm flipH="1">
            <a:off x="-15840" y="27000"/>
            <a:ext cx="46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37" name="Right Brace 22" descr=""/>
          <p:cNvPicPr/>
          <p:nvPr/>
        </p:nvPicPr>
        <p:blipFill>
          <a:blip r:embed="rId4"/>
          <a:stretch/>
        </p:blipFill>
        <p:spPr>
          <a:xfrm>
            <a:off x="6016680" y="2243160"/>
            <a:ext cx="2536920" cy="1609560"/>
          </a:xfrm>
          <a:prstGeom prst="rect">
            <a:avLst/>
          </a:prstGeom>
          <a:ln w="0">
            <a:noFill/>
          </a:ln>
        </p:spPr>
      </p:pic>
      <p:pic>
        <p:nvPicPr>
          <p:cNvPr id="338" name="Right Brace 23" descr=""/>
          <p:cNvPicPr/>
          <p:nvPr/>
        </p:nvPicPr>
        <p:blipFill>
          <a:blip r:embed="rId5"/>
          <a:stretch/>
        </p:blipFill>
        <p:spPr>
          <a:xfrm>
            <a:off x="3425760" y="2279520"/>
            <a:ext cx="2206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9154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Monitoring the Change Process  </a:t>
            </a:r>
            <a:br>
              <a:rPr sz="27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1920" y="1752120"/>
            <a:ext cx="899172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uccess depends on joint effort so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utual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performance monitoring is importa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What the country partner has done in terms of leading the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Arial"/>
              </a:rPr>
              <a:t>What the external partner has done in terms of supporting the proces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201"/>
              </a:spcBef>
              <a:buClr>
                <a:srgbClr val="0f5494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an be applied at program level but also at level of individual expert, ac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 to also take account of changing contextual/ PEA factors during review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rrange as periodic performance dialogue using a structured forma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se of QC in EAMR and RO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6629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en-GB" sz="2700" spc="-1" strike="noStrike">
                <a:solidFill>
                  <a:srgbClr val="0f5494"/>
                </a:solidFill>
                <a:latin typeface="Verdana"/>
              </a:rPr>
              <a:t>Examples of lead questions</a:t>
            </a:r>
            <a:br>
              <a:rPr sz="2700"/>
            </a:b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33520" y="198072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f5494"/>
                </a:solidFill>
                <a:latin typeface="Verdana"/>
              </a:rPr>
              <a:t>How has the context changed during the course of implementation? (Risks and Assumptions)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Have enabling and constraining factors increased/ decreased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Has the program responded to a changing context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f5494"/>
                </a:solidFill>
                <a:latin typeface="Verdana"/>
              </a:rPr>
              <a:t>Have the right processes been used to achieve the desired changes in capacity?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s the external assistance appropriate and performing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s the partner change management appropriate and effective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f5494"/>
                </a:solidFill>
                <a:latin typeface="Verdana"/>
              </a:rPr>
              <a:t>Are results being achieved in terms of enhanced capacity and performance?</a:t>
            </a: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What evidence is there of improved capacity and performance 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What is aggregate effect of strengthening different components of capacity on overall capabilities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Has adequate time elapsed to confirm that change is occurring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What factors beyond program interventions are influencing results?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706-E80D-4FB3-9B5E-74864AF1183B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77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Who Does What - Monitoring rol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1523880"/>
          <a:ext cx="8915400" cy="5240520"/>
        </p:xfrm>
        <a:graphic>
          <a:graphicData uri="http://schemas.openxmlformats.org/drawingml/2006/table">
            <a:tbl>
              <a:tblPr/>
              <a:tblGrid>
                <a:gridCol w="1905120"/>
                <a:gridCol w="3416040"/>
                <a:gridCol w="3594240"/>
              </a:tblGrid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ho does what?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Monitoring of: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partner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7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he EC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03c72"/>
                          </a:solidFill>
                          <a:latin typeface="Verdana"/>
                        </a:rPr>
                        <a:t>Inputs &amp; processe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... periodic, systematic dialogue about mutual performance with TC personnel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...together with partner; periodic dialogue about summary of performance assessment; brokering of conflicts, adjustments of timeframes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03c72"/>
                          </a:solidFill>
                          <a:latin typeface="Verdana"/>
                        </a:rPr>
                        <a:t>Outputs &amp; outcom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...has main responsibility; can be government but also CS watchdogs, parliament etc. Serves learning, management and domestic accountability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...help ensure that results are monitored appropriately; that results of CD monitoring are fed back in adjustments to CD programmes or operations 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03c72"/>
                          </a:solidFill>
                          <a:latin typeface="Verdana"/>
                        </a:rPr>
                        <a:t>Outcomes &amp; impac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...has prime responsibility; government but also think-tanks, advocacy groups, universities; serves learning and domestic accountability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Verdana"/>
                        </a:rPr>
                        <a:t>...mainly to ‘monitor the monitoring by the partner’ with focus on the capacity of the domestic monitoring system (and support it)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5"/>
          <p:cNvSpPr/>
          <p:nvPr/>
        </p:nvSpPr>
        <p:spPr>
          <a:xfrm>
            <a:off x="-4680" y="0"/>
            <a:ext cx="156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c00000"/>
                </a:solidFill>
                <a:latin typeface="Verdana"/>
              </a:rPr>
              <a:t>CD Evaluation methodology (RAC)</a:t>
            </a:r>
            <a:br>
              <a:rPr sz="2600"/>
            </a:b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0" y="59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evaluation methodology has unpacked the concept of developed capacities according to a mix of hard and soft capabilitie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7345080" cy="42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itle 1"/>
          <p:cNvSpPr/>
          <p:nvPr/>
        </p:nvSpPr>
        <p:spPr>
          <a:xfrm>
            <a:off x="250920" y="1125360"/>
            <a:ext cx="8445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C Tools for monitoring CD processes</a:t>
            </a:r>
            <a:endParaRPr b="0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Content Placeholder 2"/>
          <p:cNvSpPr/>
          <p:nvPr/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e4649"/>
                </a:solidFill>
                <a:latin typeface="Verdana"/>
              </a:rPr>
              <a:t>CD Quality Assurance framework: monitor the process to achieve effective CD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The Quality Grid / oQSG2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	</a:t>
            </a: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	</a:t>
            </a: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(Peer review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The ROM</a:t>
            </a:r>
            <a:r>
              <a:rPr b="1" lang="en-GB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	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	</a:t>
            </a: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(External « monitoring»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The annual EAM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	</a:t>
            </a: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	</a:t>
            </a:r>
            <a:r>
              <a:rPr b="1" lang="fr-BE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(Self-assessment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xercise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938160" y="2816280"/>
            <a:ext cx="7124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Verdana"/>
              </a:rPr>
              <a:t>Formulate CD indicator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73"/>
                </a:solidFill>
                <a:latin typeface="Verdana"/>
              </a:rPr>
              <a:t>based on the results chain developed earlier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480" y="12139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f5494"/>
                </a:solidFill>
                <a:latin typeface="Verdana"/>
              </a:rPr>
              <a:t>CD Quality grid requirement: </a:t>
            </a:r>
            <a:br>
              <a:rPr sz="27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3. Clear link to results and expected outcom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2421000"/>
          <a:ext cx="8229600" cy="4270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708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.1 Are results and/or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outcomes defined beyond </a:t>
                      </a: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hat the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C</a:t>
                      </a: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will deliver? Please give examples of key targeted results at the level of enhanced capacity of organisation(s), if relevant outputs that the organisation(s) produce or at the level of outcomes.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.2 Have the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ountry partners' inputs</a:t>
                      </a: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, which are required to sustain the results of the programme, been identified and specified?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2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3.3 What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nnovative forms of TC </a:t>
                      </a: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upport have been considered, e.g. regional sources, staff exchanges or networking?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Why Is this Criteria Important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22093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Thinking about results is at the heart of good design and manage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apacity results are as important as other development results but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easily lost in the results chai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How to capture Capacity Results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hink in terms of th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SimSun"/>
              </a:rPr>
              <a:t>outputs (enhanced or modified) of the organization/system arising from CD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Think beyond what external support will achiev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…since has only limited bearing on outco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     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Line 18"/>
          <p:cNvSpPr/>
          <p:nvPr/>
        </p:nvSpPr>
        <p:spPr>
          <a:xfrm flipH="1">
            <a:off x="6933960" y="4114800"/>
            <a:ext cx="533160" cy="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10800" bIns="-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Line 18"/>
          <p:cNvSpPr/>
          <p:nvPr/>
        </p:nvSpPr>
        <p:spPr>
          <a:xfrm flipH="1">
            <a:off x="5715000" y="4114800"/>
            <a:ext cx="533520" cy="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10800" bIns="-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Line 18"/>
          <p:cNvSpPr/>
          <p:nvPr/>
        </p:nvSpPr>
        <p:spPr>
          <a:xfrm flipH="1">
            <a:off x="4343400" y="4114800"/>
            <a:ext cx="533520" cy="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10800" bIns="-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2209680" y="4038480"/>
            <a:ext cx="533520" cy="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10800" bIns="-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Line 18"/>
          <p:cNvSpPr/>
          <p:nvPr/>
        </p:nvSpPr>
        <p:spPr>
          <a:xfrm flipH="1">
            <a:off x="2895120" y="4572000"/>
            <a:ext cx="381240" cy="5335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1904760" y="5181480"/>
            <a:ext cx="533160" cy="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10800" bIns="-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Line 18"/>
          <p:cNvSpPr/>
          <p:nvPr/>
        </p:nvSpPr>
        <p:spPr>
          <a:xfrm flipH="1">
            <a:off x="2057400" y="5562720"/>
            <a:ext cx="5335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8" name="Picture 1" descr="MC900441946.jpeg"/>
          <p:cNvPicPr/>
          <p:nvPr/>
        </p:nvPicPr>
        <p:blipFill>
          <a:blip r:embed="rId1"/>
          <a:srcRect l="0" t="50002" r="25376" b="0"/>
          <a:stretch/>
        </p:blipFill>
        <p:spPr>
          <a:xfrm>
            <a:off x="676440" y="1909800"/>
            <a:ext cx="815328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ounded Rectangle 2"/>
          <p:cNvSpPr/>
          <p:nvPr/>
        </p:nvSpPr>
        <p:spPr>
          <a:xfrm>
            <a:off x="5257800" y="2514600"/>
            <a:ext cx="2936880" cy="822240"/>
          </a:xfrm>
          <a:prstGeom prst="roundRect">
            <a:avLst>
              <a:gd name="adj" fmla="val 16667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D DEVELOPMENT OBJ (IMPACT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Increased use of services 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5257800" y="3429000"/>
            <a:ext cx="2906640" cy="822240"/>
          </a:xfrm>
          <a:prstGeom prst="roundRect">
            <a:avLst>
              <a:gd name="adj" fmla="val 16667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D IMMEDIATE OBJ (OUTCOME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Performance improved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Rounded Rectangle 4"/>
          <p:cNvSpPr/>
          <p:nvPr/>
        </p:nvSpPr>
        <p:spPr>
          <a:xfrm>
            <a:off x="5257800" y="4343400"/>
            <a:ext cx="2895480" cy="822240"/>
          </a:xfrm>
          <a:prstGeom prst="roundRect">
            <a:avLst>
              <a:gd name="adj" fmla="val 16667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D OUTP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Capacity: Knowledge, systems, rules, behaviou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Rounded Rectangle 5"/>
          <p:cNvSpPr/>
          <p:nvPr/>
        </p:nvSpPr>
        <p:spPr>
          <a:xfrm>
            <a:off x="5181480" y="11430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D PROCES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Rounded Rectangle 6"/>
          <p:cNvSpPr/>
          <p:nvPr/>
        </p:nvSpPr>
        <p:spPr>
          <a:xfrm>
            <a:off x="5257800" y="5257800"/>
            <a:ext cx="2895480" cy="685800"/>
          </a:xfrm>
          <a:prstGeom prst="roundRect">
            <a:avLst>
              <a:gd name="adj" fmla="val 16667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D ACTIVITI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Courses, mentorship, advis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ed Rectangle 7"/>
          <p:cNvSpPr/>
          <p:nvPr/>
        </p:nvSpPr>
        <p:spPr>
          <a:xfrm>
            <a:off x="5257800" y="6019920"/>
            <a:ext cx="2895480" cy="669960"/>
          </a:xfrm>
          <a:prstGeom prst="roundRect">
            <a:avLst>
              <a:gd name="adj" fmla="val 16667"/>
            </a:avLst>
          </a:prstGeom>
          <a:solidFill>
            <a:srgbClr val="ff6600">
              <a:alpha val="39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D INP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TA, funds, training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8"/>
          <p:cNvSpPr/>
          <p:nvPr/>
        </p:nvSpPr>
        <p:spPr>
          <a:xfrm>
            <a:off x="990720" y="114300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008000">
              <a:alpha val="24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PARTNER ORGANISATION/ SECTO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Rounded Rectangle 9"/>
          <p:cNvSpPr/>
          <p:nvPr/>
        </p:nvSpPr>
        <p:spPr>
          <a:xfrm>
            <a:off x="990720" y="2590920"/>
            <a:ext cx="2743200" cy="822240"/>
          </a:xfrm>
          <a:prstGeom prst="roundRect">
            <a:avLst>
              <a:gd name="adj" fmla="val 16667"/>
            </a:avLst>
          </a:prstGeom>
          <a:solidFill>
            <a:srgbClr val="008000">
              <a:alpha val="24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OUTCOM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EG: Use of products and services by clients/ public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0"/>
          <p:cNvSpPr/>
          <p:nvPr/>
        </p:nvSpPr>
        <p:spPr>
          <a:xfrm>
            <a:off x="990720" y="182880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008000">
              <a:alpha val="24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MPAC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EG: Improved development result eg: better health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Rounded Rectangle 11"/>
          <p:cNvSpPr/>
          <p:nvPr/>
        </p:nvSpPr>
        <p:spPr>
          <a:xfrm>
            <a:off x="990720" y="3505320"/>
            <a:ext cx="2743200" cy="822240"/>
          </a:xfrm>
          <a:prstGeom prst="roundRect">
            <a:avLst>
              <a:gd name="adj" fmla="val 16667"/>
            </a:avLst>
          </a:prstGeom>
          <a:solidFill>
            <a:srgbClr val="008000">
              <a:alpha val="24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OUTP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EG: products and service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Rounded Rectangle 12"/>
          <p:cNvSpPr/>
          <p:nvPr/>
        </p:nvSpPr>
        <p:spPr>
          <a:xfrm>
            <a:off x="990720" y="4419720"/>
            <a:ext cx="2743200" cy="822240"/>
          </a:xfrm>
          <a:prstGeom prst="roundRect">
            <a:avLst>
              <a:gd name="adj" fmla="val 16667"/>
            </a:avLst>
          </a:prstGeom>
          <a:solidFill>
            <a:srgbClr val="008000">
              <a:alpha val="24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EG: PFM, leadership, logistics, technic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Rounded Rectangle 13"/>
          <p:cNvSpPr/>
          <p:nvPr/>
        </p:nvSpPr>
        <p:spPr>
          <a:xfrm>
            <a:off x="990720" y="53341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008000">
              <a:alpha val="24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NP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EG: Budget &amp; Staff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Left Arrow 14"/>
          <p:cNvSpPr/>
          <p:nvPr/>
        </p:nvSpPr>
        <p:spPr>
          <a:xfrm>
            <a:off x="3962520" y="2590920"/>
            <a:ext cx="1050840" cy="822240"/>
          </a:xfrm>
          <a:prstGeom prst="leftArrow">
            <a:avLst>
              <a:gd name="adj1" fmla="val 50000"/>
              <a:gd name="adj2" fmla="val 50008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Left Arrow 15"/>
          <p:cNvSpPr/>
          <p:nvPr/>
        </p:nvSpPr>
        <p:spPr>
          <a:xfrm>
            <a:off x="3962520" y="3505320"/>
            <a:ext cx="1050840" cy="822240"/>
          </a:xfrm>
          <a:prstGeom prst="leftArrow">
            <a:avLst>
              <a:gd name="adj1" fmla="val 50000"/>
              <a:gd name="adj2" fmla="val 50008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Left Arrow 16"/>
          <p:cNvSpPr/>
          <p:nvPr/>
        </p:nvSpPr>
        <p:spPr>
          <a:xfrm>
            <a:off x="3962520" y="4495680"/>
            <a:ext cx="1050840" cy="822600"/>
          </a:xfrm>
          <a:prstGeom prst="leftArrow">
            <a:avLst>
              <a:gd name="adj1" fmla="val 50000"/>
              <a:gd name="adj2" fmla="val 49987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Curved Right Arrow 18"/>
          <p:cNvSpPr/>
          <p:nvPr/>
        </p:nvSpPr>
        <p:spPr>
          <a:xfrm rot="10800000">
            <a:off x="8152920" y="4800240"/>
            <a:ext cx="822600" cy="669960"/>
          </a:xfrm>
          <a:custGeom>
            <a:avLst/>
            <a:gdLst>
              <a:gd name="textAreaLeft" fmla="*/ 110160 w 822600"/>
              <a:gd name="textAreaRight" fmla="*/ 712440 w 822600"/>
              <a:gd name="textAreaTop" fmla="*/ 104400 h 669960"/>
              <a:gd name="textAreaBottom" fmla="*/ 481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380630"/>
                <a:lnTo>
                  <a:pt x="17200" y="21458"/>
                </a:lnTo>
                <a:lnTo>
                  <a:pt x="21600" y="16200"/>
                </a:lnTo>
                <a:lnTo>
                  <a:pt x="17200" y="10658"/>
                </a:lnTo>
                <a:lnTo>
                  <a:pt x="17200" y="13358"/>
                </a:lnTo>
                <a:arcTo wR="21600" hR="6750" stAng="7419370" swAng="291464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Curved Right Arrow 19"/>
          <p:cNvSpPr/>
          <p:nvPr/>
        </p:nvSpPr>
        <p:spPr>
          <a:xfrm rot="10800000">
            <a:off x="8152920" y="3885840"/>
            <a:ext cx="822600" cy="669960"/>
          </a:xfrm>
          <a:custGeom>
            <a:avLst/>
            <a:gdLst>
              <a:gd name="textAreaLeft" fmla="*/ 110160 w 822600"/>
              <a:gd name="textAreaRight" fmla="*/ 712440 w 822600"/>
              <a:gd name="textAreaTop" fmla="*/ 104400 h 669960"/>
              <a:gd name="textAreaBottom" fmla="*/ 481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380630"/>
                <a:lnTo>
                  <a:pt x="17200" y="21458"/>
                </a:lnTo>
                <a:lnTo>
                  <a:pt x="21600" y="16200"/>
                </a:lnTo>
                <a:lnTo>
                  <a:pt x="17200" y="10658"/>
                </a:lnTo>
                <a:lnTo>
                  <a:pt x="17200" y="13358"/>
                </a:lnTo>
                <a:arcTo wR="21600" hR="6750" stAng="7419370" swAng="291464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Curved Right Arrow 20"/>
          <p:cNvSpPr/>
          <p:nvPr/>
        </p:nvSpPr>
        <p:spPr>
          <a:xfrm rot="10800000">
            <a:off x="8152920" y="2971440"/>
            <a:ext cx="822600" cy="669960"/>
          </a:xfrm>
          <a:custGeom>
            <a:avLst/>
            <a:gdLst>
              <a:gd name="textAreaLeft" fmla="*/ 110160 w 822600"/>
              <a:gd name="textAreaRight" fmla="*/ 712440 w 822600"/>
              <a:gd name="textAreaTop" fmla="*/ 104400 h 669960"/>
              <a:gd name="textAreaBottom" fmla="*/ 481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380630"/>
                <a:lnTo>
                  <a:pt x="17200" y="21458"/>
                </a:lnTo>
                <a:lnTo>
                  <a:pt x="21600" y="16200"/>
                </a:lnTo>
                <a:lnTo>
                  <a:pt x="17200" y="10658"/>
                </a:lnTo>
                <a:lnTo>
                  <a:pt x="17200" y="13358"/>
                </a:lnTo>
                <a:arcTo wR="21600" hR="6750" stAng="7419370" swAng="291464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Curved Right Arrow 22"/>
          <p:cNvSpPr/>
          <p:nvPr/>
        </p:nvSpPr>
        <p:spPr>
          <a:xfrm>
            <a:off x="8610480" y="61722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Curved Right Arrow 23"/>
          <p:cNvSpPr/>
          <p:nvPr/>
        </p:nvSpPr>
        <p:spPr>
          <a:xfrm rot="10800000">
            <a:off x="8152920" y="5714640"/>
            <a:ext cx="822600" cy="669960"/>
          </a:xfrm>
          <a:custGeom>
            <a:avLst/>
            <a:gdLst>
              <a:gd name="textAreaLeft" fmla="*/ 110160 w 822600"/>
              <a:gd name="textAreaRight" fmla="*/ 712440 w 822600"/>
              <a:gd name="textAreaTop" fmla="*/ 104400 h 669960"/>
              <a:gd name="textAreaBottom" fmla="*/ 481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380630"/>
                <a:lnTo>
                  <a:pt x="17200" y="21458"/>
                </a:lnTo>
                <a:lnTo>
                  <a:pt x="21600" y="16200"/>
                </a:lnTo>
                <a:lnTo>
                  <a:pt x="17200" y="10658"/>
                </a:lnTo>
                <a:lnTo>
                  <a:pt x="17200" y="13358"/>
                </a:lnTo>
                <a:arcTo wR="21600" hR="6750" stAng="7419370" swAng="291464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Curved Left Arrow 25"/>
          <p:cNvSpPr/>
          <p:nvPr/>
        </p:nvSpPr>
        <p:spPr>
          <a:xfrm rot="10800000">
            <a:off x="228240" y="3886200"/>
            <a:ext cx="731880" cy="838080"/>
          </a:xfrm>
          <a:custGeom>
            <a:avLst/>
            <a:gdLst>
              <a:gd name="textAreaLeft" fmla="*/ 97920 w 731880"/>
              <a:gd name="textAreaRight" fmla="*/ 633960 w 731880"/>
              <a:gd name="textAreaTop" fmla="*/ 140760 h 838080"/>
              <a:gd name="textAreaBottom" fmla="*/ 605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66" stAng="-5400000" swAng="5400000"/>
                <a:lnTo>
                  <a:pt x="21600" y="11979"/>
                </a:lnTo>
                <a:arcTo wR="21600" hR="7266" stAng="0" swAng="3149380"/>
                <a:lnTo>
                  <a:pt x="5400" y="21369"/>
                </a:lnTo>
                <a:lnTo>
                  <a:pt x="0" y="16888"/>
                </a:lnTo>
                <a:lnTo>
                  <a:pt x="5400" y="11944"/>
                </a:lnTo>
                <a:lnTo>
                  <a:pt x="5400" y="14300"/>
                </a:lnTo>
                <a:arcTo wR="21600" hR="7266" stAng="3149380" swAng="-2754642"/>
                <a:lnTo>
                  <a:pt x="20432" y="9622"/>
                </a:lnTo>
                <a:arcTo wR="21600" hR="7266" stAng="-394738" swAng="-5005262"/>
                <a:close/>
              </a:path>
              <a:path fill="darkenLess" w="21600" h="21600">
                <a:moveTo>
                  <a:pt x="0" y="0"/>
                </a:moveTo>
                <a:arcTo wR="21600" hR="7266" stAng="-5400000" swAng="5400000"/>
                <a:lnTo>
                  <a:pt x="21600" y="11979"/>
                </a:lnTo>
                <a:arcTo wR="21600" hR="7266" stAng="0" swAng="-394738"/>
                <a:lnTo>
                  <a:pt x="20432" y="9622"/>
                </a:lnTo>
                <a:arcTo wR="21600" hR="7266" stAng="-394738" swAng="-5005262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Curved Left Arrow 27"/>
          <p:cNvSpPr/>
          <p:nvPr/>
        </p:nvSpPr>
        <p:spPr>
          <a:xfrm rot="10800000">
            <a:off x="228240" y="4876920"/>
            <a:ext cx="731880" cy="838080"/>
          </a:xfrm>
          <a:custGeom>
            <a:avLst/>
            <a:gdLst>
              <a:gd name="textAreaLeft" fmla="*/ 97920 w 731880"/>
              <a:gd name="textAreaRight" fmla="*/ 633960 w 731880"/>
              <a:gd name="textAreaTop" fmla="*/ 140760 h 838080"/>
              <a:gd name="textAreaBottom" fmla="*/ 6058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66" stAng="-5400000" swAng="5400000"/>
                <a:lnTo>
                  <a:pt x="21600" y="11979"/>
                </a:lnTo>
                <a:arcTo wR="21600" hR="7266" stAng="0" swAng="3149380"/>
                <a:lnTo>
                  <a:pt x="5400" y="21369"/>
                </a:lnTo>
                <a:lnTo>
                  <a:pt x="0" y="16888"/>
                </a:lnTo>
                <a:lnTo>
                  <a:pt x="5400" y="11944"/>
                </a:lnTo>
                <a:lnTo>
                  <a:pt x="5400" y="14300"/>
                </a:lnTo>
                <a:arcTo wR="21600" hR="7266" stAng="3149380" swAng="-2754642"/>
                <a:lnTo>
                  <a:pt x="20432" y="9622"/>
                </a:lnTo>
                <a:arcTo wR="21600" hR="7266" stAng="-394738" swAng="-5005262"/>
                <a:close/>
              </a:path>
              <a:path fill="darkenLess" w="21600" h="21600">
                <a:moveTo>
                  <a:pt x="0" y="0"/>
                </a:moveTo>
                <a:arcTo wR="21600" hR="7266" stAng="-5400000" swAng="5400000"/>
                <a:lnTo>
                  <a:pt x="21600" y="11979"/>
                </a:lnTo>
                <a:arcTo wR="21600" hR="7266" stAng="0" swAng="-394738"/>
                <a:lnTo>
                  <a:pt x="20432" y="9622"/>
                </a:lnTo>
                <a:arcTo wR="21600" hR="7266" stAng="-394738" swAng="-5005262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Curved Left Arrow 28"/>
          <p:cNvSpPr/>
          <p:nvPr/>
        </p:nvSpPr>
        <p:spPr>
          <a:xfrm rot="10800000">
            <a:off x="228240" y="2895120"/>
            <a:ext cx="731880" cy="762120"/>
          </a:xfrm>
          <a:custGeom>
            <a:avLst/>
            <a:gdLst>
              <a:gd name="textAreaLeft" fmla="*/ 97920 w 731880"/>
              <a:gd name="textAreaRight" fmla="*/ 633960 w 731880"/>
              <a:gd name="textAreaTop" fmla="*/ 121680 h 762120"/>
              <a:gd name="textAreaBottom" fmla="*/ 5486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12" stAng="-5400000" swAng="5400000"/>
                <a:lnTo>
                  <a:pt x="21600" y="12096"/>
                </a:lnTo>
                <a:arcTo wR="21600" hR="6912" stAng="0" swAng="3066056"/>
                <a:lnTo>
                  <a:pt x="5400" y="21381"/>
                </a:lnTo>
                <a:lnTo>
                  <a:pt x="0" y="16416"/>
                </a:lnTo>
                <a:lnTo>
                  <a:pt x="5400" y="11013"/>
                </a:lnTo>
                <a:lnTo>
                  <a:pt x="5400" y="13605"/>
                </a:lnTo>
                <a:arcTo wR="21600" hR="6912" stAng="3066056" swAng="-2623513"/>
                <a:lnTo>
                  <a:pt x="20024" y="9504"/>
                </a:lnTo>
                <a:arcTo wR="21600" hR="6912" stAng="-442543" swAng="-4957457"/>
                <a:close/>
              </a:path>
              <a:path fill="darkenLess" w="21600" h="21600">
                <a:moveTo>
                  <a:pt x="0" y="0"/>
                </a:moveTo>
                <a:arcTo wR="21600" hR="6912" stAng="-5400000" swAng="5400000"/>
                <a:lnTo>
                  <a:pt x="21600" y="12096"/>
                </a:lnTo>
                <a:arcTo wR="21600" hR="6912" stAng="0" swAng="-442543"/>
                <a:lnTo>
                  <a:pt x="20024" y="9504"/>
                </a:lnTo>
                <a:arcTo wR="21600" hR="6912" stAng="-442543" swAng="-49574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Curved Left Arrow 29"/>
          <p:cNvSpPr/>
          <p:nvPr/>
        </p:nvSpPr>
        <p:spPr>
          <a:xfrm rot="10800000">
            <a:off x="228240" y="1980720"/>
            <a:ext cx="731880" cy="762120"/>
          </a:xfrm>
          <a:custGeom>
            <a:avLst/>
            <a:gdLst>
              <a:gd name="textAreaLeft" fmla="*/ 97920 w 731880"/>
              <a:gd name="textAreaRight" fmla="*/ 633960 w 731880"/>
              <a:gd name="textAreaTop" fmla="*/ 121680 h 762120"/>
              <a:gd name="textAreaBottom" fmla="*/ 5486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912" stAng="-5400000" swAng="5400000"/>
                <a:lnTo>
                  <a:pt x="21600" y="12096"/>
                </a:lnTo>
                <a:arcTo wR="21600" hR="6912" stAng="0" swAng="3066056"/>
                <a:lnTo>
                  <a:pt x="5400" y="21381"/>
                </a:lnTo>
                <a:lnTo>
                  <a:pt x="0" y="16416"/>
                </a:lnTo>
                <a:lnTo>
                  <a:pt x="5400" y="11013"/>
                </a:lnTo>
                <a:lnTo>
                  <a:pt x="5400" y="13605"/>
                </a:lnTo>
                <a:arcTo wR="21600" hR="6912" stAng="3066056" swAng="-2623513"/>
                <a:lnTo>
                  <a:pt x="20024" y="9504"/>
                </a:lnTo>
                <a:arcTo wR="21600" hR="6912" stAng="-442543" swAng="-4957457"/>
                <a:close/>
              </a:path>
              <a:path fill="darkenLess" w="21600" h="21600">
                <a:moveTo>
                  <a:pt x="0" y="0"/>
                </a:moveTo>
                <a:arcTo wR="21600" hR="6912" stAng="-5400000" swAng="5400000"/>
                <a:lnTo>
                  <a:pt x="21600" y="12096"/>
                </a:lnTo>
                <a:arcTo wR="21600" hR="6912" stAng="0" swAng="-442543"/>
                <a:lnTo>
                  <a:pt x="20024" y="9504"/>
                </a:lnTo>
                <a:arcTo wR="21600" hR="6912" stAng="-442543" swAng="-4957457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50148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Some Challeng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560" y="23619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asy to fall into trap of focusing on donor inputs and outputs, not organisation/ sector outpu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ifficulty to specify the performance and capacity changes that are sought, and to propose indicat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ory of change often un-developed/ incomplete. Assumption of simple linear causality, and underestimation of impact of different factors on results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ressure to deliver tangible products, less on facilitating processes, and building sustainable capacity for tomorrow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Specifying CD Resul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Link changes in capacity to proposed changes in performanc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Performanc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=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erformance change in organisational/ sector outputs (products and servic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apacity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=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nhanced or changed organisational / sector capac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Aim at a realistic balance betwee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mprovements in capacity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at can be achieved over the short to medium term and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evel of performance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at can be expected to accrue.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deally reflected in a corporate/ sector development pla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0773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Look for results beyond TC deliverabl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826920" y="1989000"/>
            <a:ext cx="7848720" cy="4307040"/>
            <a:chOff x="826920" y="1989000"/>
            <a:chExt cx="7848720" cy="4307040"/>
          </a:xfrm>
        </p:grpSpPr>
        <p:sp>
          <p:nvSpPr>
            <p:cNvPr id="200" name="AutoShape 5"/>
            <p:cNvSpPr/>
            <p:nvPr/>
          </p:nvSpPr>
          <p:spPr>
            <a:xfrm>
              <a:off x="826920" y="1989000"/>
              <a:ext cx="7848720" cy="43070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1" name="Oval 6"/>
            <p:cNvSpPr/>
            <p:nvPr/>
          </p:nvSpPr>
          <p:spPr>
            <a:xfrm>
              <a:off x="1576440" y="5096520"/>
              <a:ext cx="927000" cy="82908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CD support</a:t>
              </a:r>
              <a:r>
                <a:rPr b="1" lang="da-DK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2" name="Oval 7"/>
            <p:cNvSpPr/>
            <p:nvPr/>
          </p:nvSpPr>
          <p:spPr>
            <a:xfrm>
              <a:off x="2413800" y="4368960"/>
              <a:ext cx="138672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 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CD </a:t>
              </a:r>
              <a:r>
                <a:rPr b="1" lang="en-GB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processes</a:t>
              </a:r>
              <a:r>
                <a:rPr b="1" lang="en-GB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3" name="Oval 8"/>
            <p:cNvSpPr/>
            <p:nvPr/>
          </p:nvSpPr>
          <p:spPr>
            <a:xfrm>
              <a:off x="959040" y="3231360"/>
              <a:ext cx="1696680" cy="1655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5494"/>
                  </a:solidFill>
                  <a:latin typeface="Trebuchet MS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Recurrent in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4" name="Oval 9"/>
            <p:cNvSpPr/>
            <p:nvPr/>
          </p:nvSpPr>
          <p:spPr>
            <a:xfrm>
              <a:off x="2656080" y="3024720"/>
              <a:ext cx="1850400" cy="18648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  <a:ea typeface="Times New Roman"/>
                </a:rPr>
                <a:t>Capacity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5" name="Oval 10"/>
            <p:cNvSpPr/>
            <p:nvPr/>
          </p:nvSpPr>
          <p:spPr>
            <a:xfrm>
              <a:off x="4508280" y="3231360"/>
              <a:ext cx="138960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rebuchet MS"/>
                  <a:ea typeface="Times New Roman"/>
                </a:rPr>
                <a:t>Output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6" name="Oval 11"/>
            <p:cNvSpPr/>
            <p:nvPr/>
          </p:nvSpPr>
          <p:spPr>
            <a:xfrm>
              <a:off x="5896080" y="3231360"/>
              <a:ext cx="138960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Outcomes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7" name="Oval 12"/>
            <p:cNvSpPr/>
            <p:nvPr/>
          </p:nvSpPr>
          <p:spPr>
            <a:xfrm>
              <a:off x="7284600" y="3231360"/>
              <a:ext cx="1390680" cy="144900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Wider</a:t>
              </a:r>
              <a:r>
                <a:rPr b="1" lang="da-DK" sz="12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 </a:t>
              </a:r>
              <a:r>
                <a:rPr b="1" lang="da-DK" sz="14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mpact</a:t>
              </a:r>
              <a:endParaRPr b="0" lang="en-US" sz="14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8" name="Oval 13"/>
            <p:cNvSpPr/>
            <p:nvPr/>
          </p:nvSpPr>
          <p:spPr>
            <a:xfrm>
              <a:off x="1506240" y="4255560"/>
              <a:ext cx="924480" cy="827640"/>
            </a:xfrm>
            <a:prstGeom prst="ellipse">
              <a:avLst/>
            </a:prstGeom>
            <a:solidFill>
              <a:srgbClr val="339966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Internal resour-ces </a:t>
              </a:r>
              <a:endParaRPr b="0" lang="en-US" sz="13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 flipH="1">
              <a:off x="2209680" y="5105520"/>
              <a:ext cx="366480" cy="3333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 flipH="1">
              <a:off x="2895840" y="4473720"/>
              <a:ext cx="377280" cy="32688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 flipV="1">
              <a:off x="2057400" y="4571640"/>
              <a:ext cx="517680" cy="26244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 flipV="1">
              <a:off x="2285280" y="4038120"/>
              <a:ext cx="44496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H="1" flipV="1">
              <a:off x="7010280" y="4038120"/>
              <a:ext cx="49896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 flipH="1" flipV="1">
              <a:off x="5562000" y="3962160"/>
              <a:ext cx="48204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H="1" flipV="1">
              <a:off x="4266720" y="3962160"/>
              <a:ext cx="389520" cy="21960"/>
            </a:xfrm>
            <a:prstGeom prst="line">
              <a:avLst/>
            </a:prstGeom>
            <a:ln w="82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noAutofit/>
            </a:bodyPr>
            <a:p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16" name="Text Box 5"/>
          <p:cNvSpPr/>
          <p:nvPr/>
        </p:nvSpPr>
        <p:spPr>
          <a:xfrm flipH="1">
            <a:off x="-15840" y="27000"/>
            <a:ext cx="46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7" name="Right Brace 22" descr=""/>
          <p:cNvPicPr/>
          <p:nvPr/>
        </p:nvPicPr>
        <p:blipFill>
          <a:blip r:embed="rId1"/>
          <a:stretch/>
        </p:blipFill>
        <p:spPr>
          <a:xfrm>
            <a:off x="6016680" y="2243160"/>
            <a:ext cx="2536920" cy="1609560"/>
          </a:xfrm>
          <a:prstGeom prst="rect">
            <a:avLst/>
          </a:prstGeom>
          <a:ln w="0">
            <a:noFill/>
          </a:ln>
        </p:spPr>
      </p:pic>
      <p:pic>
        <p:nvPicPr>
          <p:cNvPr id="218" name="Right Brace 23" descr=""/>
          <p:cNvPicPr/>
          <p:nvPr/>
        </p:nvPicPr>
        <p:blipFill>
          <a:blip r:embed="rId2"/>
          <a:stretch/>
        </p:blipFill>
        <p:spPr>
          <a:xfrm>
            <a:off x="3425760" y="2279520"/>
            <a:ext cx="2206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4:44:29Z</dcterms:created>
  <dc:creator>turneem</dc:creator>
  <dc:description/>
  <dc:language>en-US</dc:language>
  <cp:lastModifiedBy>DI PILLO Daniele (DEVCO)</cp:lastModifiedBy>
  <dcterms:modified xsi:type="dcterms:W3CDTF">2013-10-22T13:13:40Z</dcterms:modified>
  <cp:revision>202</cp:revision>
  <dc:subject/>
  <dc:title>Slide 1</dc:title>
</cp:coreProperties>
</file>